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0457-27D5-4B42-9C09-BE8D8C2C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9ABB-195D-4A8B-85A4-CFC263FD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EBFF-390D-4107-A8A6-CF410988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EDA6-7344-4D1E-B20C-D5C3C913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1D2D6-8354-4C2B-818B-2A6337B7C6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A3AC2-06E2-49C6-BBAB-3EC1E9077C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EFED9-F94A-4900-9DC4-DF2FCB9AE8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BBEF1-75A3-467E-B172-E0AACD55BE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04F38-E0EA-4983-8ED4-36E0BA750C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E5BB60-AA4B-49A6-A77A-78A712EA4B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FAC34-B62F-4E28-99EB-7E7971FFD3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ED6D-19E3-4B47-9C95-3530A8A0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27C1B-0313-4B6F-98FB-10075CC69F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D8799-392A-48B0-825C-C0766FD95B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5CFE0-D348-4685-90E9-39453F5BD9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156DE-98B0-40CD-B880-80B909B59C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2861C-8DE0-43B1-89A7-F87FA4FC9F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B5C3-2C4E-4E2E-9191-D8FEAB7C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042B-F2EE-4934-8FE5-E1990773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8A70-C5B0-4EF3-8BCF-A90DC5DA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D5DF-35DD-429E-9C64-A57A4EBA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FBCA-702A-44E1-BE47-23CF0A94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2BC2-919A-47E6-8390-24F736BB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3079-1DCB-4D66-9DBE-2B81E092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B405-C4A6-4A46-8BBB-B1E03EBF804E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F18A-223F-4495-B841-42D564A112F8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Resolução de Problemas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(Parte V - Adiciona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87280" y="17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ngi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85808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AE1D-1E7B-4F3C-90DF-ABD98D5DBE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rcício: Problemas de Satisfação de Restr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1C8C-626A-4E46-9039-3945AAA042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va o problema criptoaritmético abaixo, utilizando retrocess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cktra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, verificação prévi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e as heurísticas de variável mais restritiva  e mais restring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 W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  T  W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 O U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4437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59280" y="4869000"/>
                <a:ext cx="3360960" cy="17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924360" y="3413160"/>
            <a:ext cx="518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ariáveis: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F, T, U, R, O, X1, X2, 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mínios: {0, 1, 2, 3, 4, 5, 6 7, 8, 9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stri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3A4-18A6-4451-A3F0-F2BC4E7D94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7804080" cy="3103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87280" y="17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Backtra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F688-DBB2-4573-8B2E-57EF5DBFD1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71640" y="189000"/>
            <a:ext cx="8172360" cy="6335280"/>
            <a:chOff x="971640" y="189000"/>
            <a:chExt cx="8172360" cy="6335280"/>
          </a:xfrm>
        </p:grpSpPr>
        <p:sp>
          <p:nvSpPr>
            <p:cNvPr id="117" name=""/>
            <p:cNvSpPr/>
            <p:nvPr/>
          </p:nvSpPr>
          <p:spPr>
            <a:xfrm>
              <a:off x="971640" y="189000"/>
              <a:ext cx="37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000000"/>
                  </a:solidFill>
                  <a:latin typeface="Verdana"/>
                </a:rPr>
                <a:t>Backtracki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187280" y="1077840"/>
              <a:ext cx="7956720" cy="5446440"/>
              <a:chOff x="1187280" y="1077840"/>
              <a:chExt cx="7956720" cy="5446440"/>
            </a:xfrm>
          </p:grpSpPr>
          <p:pic>
            <p:nvPicPr>
              <p:cNvPr id="11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077840"/>
                <a:ext cx="6029640" cy="3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00240" y="1438200"/>
                <a:ext cx="7943760" cy="5086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"/>
            <p:cNvSpPr/>
            <p:nvPr/>
          </p:nvSpPr>
          <p:spPr>
            <a:xfrm>
              <a:off x="7667640" y="620640"/>
              <a:ext cx="79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43280" y="1052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43280" y="1413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3280" y="1628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3280" y="1844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3280" y="2448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3280" y="2232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3280" y="2060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43280" y="2952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3280" y="3357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53BF-2E6B-4358-ABFC-E26B234CB5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162864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Forward che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7956720" cy="189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B1AF-CDA5-4786-9885-C4A538C243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7650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00000" y="1413000"/>
            <a:ext cx="8258400" cy="4860720"/>
            <a:chOff x="900000" y="1413000"/>
            <a:chExt cx="8258400" cy="486072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1042920" y="1413000"/>
              <a:ext cx="7915320" cy="31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900000" y="4797360"/>
              <a:ext cx="825840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148360" y="2952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48360" y="3141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48360" y="3384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8360" y="3573360"/>
              <a:ext cx="1584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4000" y="3645000"/>
              <a:ext cx="11527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F654-4711-4B3C-9FAF-BF0FCF3830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62064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1601" t="0" r="3801" b="52635"/>
          <a:stretch/>
        </p:blipFill>
        <p:spPr>
          <a:xfrm>
            <a:off x="971640" y="1989000"/>
            <a:ext cx="8064360" cy="37450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4932360" y="4149720"/>
            <a:ext cx="1584360" cy="1366920"/>
            <a:chOff x="4932360" y="4149720"/>
            <a:chExt cx="1584360" cy="1366920"/>
          </a:xfrm>
        </p:grpSpPr>
        <p:sp>
          <p:nvSpPr>
            <p:cNvPr id="148" name=""/>
            <p:cNvSpPr/>
            <p:nvPr/>
          </p:nvSpPr>
          <p:spPr>
            <a:xfrm>
              <a:off x="4932360" y="4149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32360" y="4338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32360" y="458136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32360" y="4770360"/>
              <a:ext cx="1584360" cy="74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48360" y="4842000"/>
              <a:ext cx="115236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5AB5-7BA7-4B00-B555-03F1DC90B0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549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116000" y="1844640"/>
            <a:ext cx="8028000" cy="4160880"/>
            <a:chOff x="1116000" y="1844640"/>
            <a:chExt cx="8028000" cy="41608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rcRect l="5828" t="47370" r="0" b="0"/>
            <a:stretch/>
          </p:blipFill>
          <p:spPr>
            <a:xfrm>
              <a:off x="1116000" y="1844640"/>
              <a:ext cx="8028000" cy="416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716360" y="2421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16360" y="278136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43AF-1E2A-4F34-A7B0-48820348A6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7-08-07T17:10:54Z</dcterms:modified>
  <cp:revision>533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