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5631-8F68-4D62-8979-8688A823A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D2CD-5397-4777-9538-138ABA96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BA1F-E20F-4468-8E32-E7A451D97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6D39-C4DF-4FCF-9C7B-97D491FA9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F0D6F-2EAA-4E7D-92E9-8925411A8E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19141-8ADE-40EC-BCBF-D800CBA43E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CDEF6-CAB9-46E4-BB7F-AE37406139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23501-5DFC-459E-9060-A7F5413B2A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02A82-FAA6-4FCC-A49D-C2B8823CB3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4793A-5615-4B3E-AC3D-D4A0415A15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2A40E-2297-484D-9524-1BE6F2D3C0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6DE9-5B61-4F22-AFDD-6018C628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E150D-867C-41F8-AB4F-B9EF8F4792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27DCD-0C2B-42C0-A423-EC191D0006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C206F-7664-47B7-A5C0-38AD9D6A11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8E7E0-7F35-4EAB-BE79-B8C2F88B11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21397-7894-4404-B8F5-D254AA200B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FC88-0409-4575-835F-D874FB53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E78E-FCC9-41F8-B82E-962AF0E2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1A9D-291B-41D7-BEC3-D1B8EBAB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3315-6EE3-47E1-B032-A373012C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E9CE-3A99-4DD5-B519-03ABA44A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A851-6DA5-4CE1-9802-CA118100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4D13-6419-447B-B6DB-42CF0036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-27000"/>
          <a:ext cx="90000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90000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A947-C638-4BD3-BBC9-3FC646482168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34920" y="6165720"/>
            <a:ext cx="720720" cy="620640"/>
            <a:chOff x="34920" y="6165720"/>
            <a:chExt cx="720720" cy="620640"/>
          </a:xfrm>
        </p:grpSpPr>
        <p:sp>
          <p:nvSpPr>
            <p:cNvPr id="9" name=""/>
            <p:cNvSpPr/>
            <p:nvPr/>
          </p:nvSpPr>
          <p:spPr>
            <a:xfrm>
              <a:off x="3492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2580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6948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832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 flipV="1">
              <a:off x="7020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-27000"/>
          <a:ext cx="235584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235584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9C5F-3ADB-4315-B389-CB9DBB903C05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692360" y="6337080"/>
            <a:ext cx="576000" cy="476640"/>
            <a:chOff x="1692360" y="6337080"/>
            <a:chExt cx="576000" cy="476640"/>
          </a:xfrm>
        </p:grpSpPr>
        <p:sp>
          <p:nvSpPr>
            <p:cNvPr id="58" name=""/>
            <p:cNvSpPr/>
            <p:nvPr/>
          </p:nvSpPr>
          <p:spPr>
            <a:xfrm>
              <a:off x="1692360" y="6718680"/>
              <a:ext cx="57600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24920" y="648828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1719360" y="633672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6720" y="6495480"/>
              <a:ext cx="31428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1720800" y="634428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700000" y="2179440"/>
            <a:ext cx="60483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Resolução de Problemas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(Parte V - Adicional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3083400" y="3307320"/>
            <a:ext cx="64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Figura: Capa do Livro Hamburger, H., Richards, D. </a:t>
            </a:r>
            <a:r>
              <a:rPr b="1" i="1" lang="pt-BR" sz="800" spc="-1" strike="noStrike">
                <a:solidFill>
                  <a:srgbClr val="000000"/>
                </a:solidFill>
                <a:latin typeface="Verdana"/>
              </a:rPr>
              <a:t>Logic and Language Models for Computer Science</a:t>
            </a: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, Prentice H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87280" y="17002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ngi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042920" y="2349360"/>
            <a:ext cx="7858080" cy="342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8A95-4DAD-4930-99F1-0CEFB2D144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rcício: Problemas de Satisfação de Restr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B009-20DA-4BCB-ABFC-8FC39EFCEA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15640" y="1773000"/>
            <a:ext cx="74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va o problema criptoaritmético abaixo, utilizando retrocesso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acktrack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, verificação prévia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e as heurísticas de variável mais restritiva  e mais restring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  W 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+  T  W 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 O U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1692360" y="4437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859280" y="4869000"/>
                <a:ext cx="3360960" cy="17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O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O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3924360" y="3413160"/>
            <a:ext cx="5184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ariáveis: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F, T, U, R, O, X1, X2, X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omínios: {0, 1, 2, 3, 4, 5, 6 7, 8, 9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striçõ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903B-B46E-4405-B947-4C04CF28B6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7804080" cy="31035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187280" y="17002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Backtrack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5E6D-C0E3-468A-845E-532D1B74AE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71640" y="189000"/>
            <a:ext cx="8172360" cy="6335280"/>
            <a:chOff x="971640" y="189000"/>
            <a:chExt cx="8172360" cy="6335280"/>
          </a:xfrm>
        </p:grpSpPr>
        <p:sp>
          <p:nvSpPr>
            <p:cNvPr id="117" name=""/>
            <p:cNvSpPr/>
            <p:nvPr/>
          </p:nvSpPr>
          <p:spPr>
            <a:xfrm>
              <a:off x="971640" y="189000"/>
              <a:ext cx="37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800" spc="-1" strike="noStrike">
                  <a:solidFill>
                    <a:srgbClr val="000000"/>
                  </a:solidFill>
                  <a:latin typeface="Verdana"/>
                </a:rPr>
                <a:t>Backtracking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187280" y="1077840"/>
              <a:ext cx="7956720" cy="5446440"/>
              <a:chOff x="1187280" y="1077840"/>
              <a:chExt cx="7956720" cy="5446440"/>
            </a:xfrm>
          </p:grpSpPr>
          <p:pic>
            <p:nvPicPr>
              <p:cNvPr id="11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87280" y="1077840"/>
                <a:ext cx="6029640" cy="34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00240" y="1438200"/>
                <a:ext cx="7943760" cy="5086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1" name=""/>
            <p:cNvSpPr/>
            <p:nvPr/>
          </p:nvSpPr>
          <p:spPr>
            <a:xfrm>
              <a:off x="7667640" y="620640"/>
              <a:ext cx="79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43280" y="1052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43280" y="1413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43280" y="1628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3280" y="1844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3280" y="2448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43280" y="2232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43280" y="2060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43280" y="2952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43280" y="3357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F54F-B11B-4273-9355-C5280B496A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58920" y="162864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Forward check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7956720" cy="189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E1B7-E752-40FC-B10A-1B6EC2C60B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42920" y="76500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ti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00000" y="1413000"/>
            <a:ext cx="8258400" cy="4860720"/>
            <a:chOff x="900000" y="1413000"/>
            <a:chExt cx="8258400" cy="486072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1042920" y="1413000"/>
              <a:ext cx="7915320" cy="31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900000" y="4797360"/>
              <a:ext cx="825840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148360" y="2952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48360" y="3141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48360" y="3384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48360" y="3573360"/>
              <a:ext cx="1584360" cy="10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4000" y="3645000"/>
              <a:ext cx="11527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847C-BD21-43D3-816C-CA9C4FE0BD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62064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ti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1601" t="0" r="3801" b="52635"/>
          <a:stretch/>
        </p:blipFill>
        <p:spPr>
          <a:xfrm>
            <a:off x="971640" y="1989000"/>
            <a:ext cx="8064360" cy="374508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4932360" y="4149720"/>
            <a:ext cx="1584360" cy="1366920"/>
            <a:chOff x="4932360" y="4149720"/>
            <a:chExt cx="1584360" cy="1366920"/>
          </a:xfrm>
        </p:grpSpPr>
        <p:sp>
          <p:nvSpPr>
            <p:cNvPr id="148" name=""/>
            <p:cNvSpPr/>
            <p:nvPr/>
          </p:nvSpPr>
          <p:spPr>
            <a:xfrm>
              <a:off x="4932360" y="4149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32360" y="4338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32360" y="458136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32360" y="4770360"/>
              <a:ext cx="1584360" cy="74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48360" y="4842000"/>
              <a:ext cx="1152360" cy="5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E712-290A-472A-A35F-C34DAE6313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549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ti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116000" y="1844640"/>
            <a:ext cx="8028000" cy="4160880"/>
            <a:chOff x="1116000" y="1844640"/>
            <a:chExt cx="8028000" cy="416088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rcRect l="5828" t="47370" r="0" b="0"/>
            <a:stretch/>
          </p:blipFill>
          <p:spPr>
            <a:xfrm>
              <a:off x="1116000" y="1844640"/>
              <a:ext cx="8028000" cy="416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716360" y="2421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16360" y="278136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D521-8172-407E-BCE5-C9882E1D21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7-08-07T17:10:54Z</dcterms:modified>
  <cp:revision>533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