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736B-53CF-471B-8F81-8F483B078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8005-716A-4340-AE3B-BC57E176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0D93-F0CA-4974-9245-D73584170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CF65-8F45-4BA3-B8FE-EFA1E7E1D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E5E87-351E-40E3-BFF1-804042F261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93AFC-B870-4926-A9EC-B6F73A79F8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B3411-C9D2-416F-9895-95350CADF3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D830B-B1B1-4C33-95FF-F4908C43D0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3EF5D-B690-42FE-8DC5-7079024561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DDF83-15D9-4987-9F67-AA68D76786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5EBD31-D341-4AFF-BC83-921367B922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2007-64A1-4CBE-9FCF-0F83203C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5783A-5D9C-4955-946C-7D2B45F0DF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2490D-1F59-47E9-8B6A-7636EFA9E1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D49C1-8C20-473C-A0A9-794E81E6D9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DE024-A69F-4F27-AC51-672D770FBF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8D6BD-7156-4F43-8DAF-7B4C341BB1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79DB-5C49-44BA-814A-DE49EBF8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454B-26AF-432A-BD5D-5BCB6068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943B-3095-4C0E-A065-27BB7A36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95A9-FDD7-4EDA-88AD-6729D514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F0B9-5149-47C2-A869-87603139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ADFB-6D4A-4621-A028-08F61ADD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0A75-5910-4BE0-839C-269F0A1E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-27000"/>
          <a:ext cx="90000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90000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1140-887B-4988-86FD-3DA7A9E4D1C3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34920" y="6165720"/>
            <a:ext cx="720720" cy="620640"/>
            <a:chOff x="34920" y="6165720"/>
            <a:chExt cx="720720" cy="620640"/>
          </a:xfrm>
        </p:grpSpPr>
        <p:sp>
          <p:nvSpPr>
            <p:cNvPr id="9" name=""/>
            <p:cNvSpPr/>
            <p:nvPr/>
          </p:nvSpPr>
          <p:spPr>
            <a:xfrm>
              <a:off x="3492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2580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6948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832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 flipV="1">
              <a:off x="7020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-27000"/>
          <a:ext cx="235584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235584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1B1B-36C5-496C-B961-B7CC3588654C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692360" y="6337080"/>
            <a:ext cx="576000" cy="476640"/>
            <a:chOff x="1692360" y="6337080"/>
            <a:chExt cx="576000" cy="476640"/>
          </a:xfrm>
        </p:grpSpPr>
        <p:sp>
          <p:nvSpPr>
            <p:cNvPr id="58" name=""/>
            <p:cNvSpPr/>
            <p:nvPr/>
          </p:nvSpPr>
          <p:spPr>
            <a:xfrm>
              <a:off x="1692360" y="6718680"/>
              <a:ext cx="57600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24920" y="648828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1719360" y="633672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6720" y="6495480"/>
              <a:ext cx="31428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1720800" y="634428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700000" y="2179440"/>
            <a:ext cx="60483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Resolução de Problemas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(Parte V - Adicional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3083400" y="3307320"/>
            <a:ext cx="64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Figura: Capa do Livro Hamburger, H., Richards, D. </a:t>
            </a:r>
            <a:r>
              <a:rPr b="1" i="1" lang="pt-BR" sz="800" spc="-1" strike="noStrike">
                <a:solidFill>
                  <a:srgbClr val="000000"/>
                </a:solidFill>
                <a:latin typeface="Verdana"/>
              </a:rPr>
              <a:t>Logic and Language Models for Computer Science</a:t>
            </a: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, Prentice H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87280" y="17002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ngi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042920" y="2349360"/>
            <a:ext cx="7858080" cy="342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6E2F-7434-4481-8286-C37FB0E1AD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rcício: Problemas de Satisfação de Restr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CD64-0F6A-4D80-AB4D-B71E171B64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15640" y="1773000"/>
            <a:ext cx="74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va o problema criptoaritmético abaixo, utilizando retrocesso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acktrack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, verificação prévia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e as heurísticas de variável mais restritiva  e mais restring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  W 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+  T  W 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 O U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1692360" y="4437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859280" y="4869000"/>
                <a:ext cx="3360960" cy="17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O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O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3924360" y="3413160"/>
            <a:ext cx="5184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ariáveis: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F, T, U, R, O, X1, X2, X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omínios: {0, 1, 2, 3, 4, 5, 6 7, 8, 9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striçõ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F914-D9AC-4397-ADF7-F1B3BEC713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7804080" cy="31035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187280" y="17002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Backtrack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DCE6-19F3-4310-9014-3326FF731E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71640" y="189000"/>
            <a:ext cx="8172360" cy="6335280"/>
            <a:chOff x="971640" y="189000"/>
            <a:chExt cx="8172360" cy="6335280"/>
          </a:xfrm>
        </p:grpSpPr>
        <p:sp>
          <p:nvSpPr>
            <p:cNvPr id="117" name=""/>
            <p:cNvSpPr/>
            <p:nvPr/>
          </p:nvSpPr>
          <p:spPr>
            <a:xfrm>
              <a:off x="971640" y="189000"/>
              <a:ext cx="37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800" spc="-1" strike="noStrike">
                  <a:solidFill>
                    <a:srgbClr val="000000"/>
                  </a:solidFill>
                  <a:latin typeface="Verdana"/>
                </a:rPr>
                <a:t>Backtracking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187280" y="1077840"/>
              <a:ext cx="7956720" cy="5446440"/>
              <a:chOff x="1187280" y="1077840"/>
              <a:chExt cx="7956720" cy="5446440"/>
            </a:xfrm>
          </p:grpSpPr>
          <p:pic>
            <p:nvPicPr>
              <p:cNvPr id="11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87280" y="1077840"/>
                <a:ext cx="6029640" cy="34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00240" y="1438200"/>
                <a:ext cx="7943760" cy="5086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1" name=""/>
            <p:cNvSpPr/>
            <p:nvPr/>
          </p:nvSpPr>
          <p:spPr>
            <a:xfrm>
              <a:off x="7667640" y="620640"/>
              <a:ext cx="79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43280" y="1052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43280" y="1413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43280" y="1628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3280" y="1844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3280" y="2448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43280" y="2232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43280" y="2060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43280" y="2952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43280" y="3357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850C-C7C1-42E9-A238-E4A59E719D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58920" y="162864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Forward check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7956720" cy="189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1A5F-40E3-4FCF-B1C5-7DC4160672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42920" y="76500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ti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00000" y="1413000"/>
            <a:ext cx="8258400" cy="4860720"/>
            <a:chOff x="900000" y="1413000"/>
            <a:chExt cx="8258400" cy="486072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1042920" y="1413000"/>
              <a:ext cx="7915320" cy="31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900000" y="4797360"/>
              <a:ext cx="825840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148360" y="2952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48360" y="3141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48360" y="3384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48360" y="3573360"/>
              <a:ext cx="1584360" cy="10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4000" y="3645000"/>
              <a:ext cx="11527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A238-22FF-446B-A8A0-D373BE352E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62064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ti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1601" t="0" r="3801" b="52635"/>
          <a:stretch/>
        </p:blipFill>
        <p:spPr>
          <a:xfrm>
            <a:off x="971640" y="1989000"/>
            <a:ext cx="8064360" cy="374508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4932360" y="4149720"/>
            <a:ext cx="1584360" cy="1366920"/>
            <a:chOff x="4932360" y="4149720"/>
            <a:chExt cx="1584360" cy="1366920"/>
          </a:xfrm>
        </p:grpSpPr>
        <p:sp>
          <p:nvSpPr>
            <p:cNvPr id="148" name=""/>
            <p:cNvSpPr/>
            <p:nvPr/>
          </p:nvSpPr>
          <p:spPr>
            <a:xfrm>
              <a:off x="4932360" y="4149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32360" y="4338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32360" y="458136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32360" y="4770360"/>
              <a:ext cx="1584360" cy="74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48360" y="4842000"/>
              <a:ext cx="1152360" cy="5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C30B-6ADF-4CC4-A36E-267DDB7451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549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ti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116000" y="1844640"/>
            <a:ext cx="8028000" cy="4160880"/>
            <a:chOff x="1116000" y="1844640"/>
            <a:chExt cx="8028000" cy="416088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rcRect l="5828" t="47370" r="0" b="0"/>
            <a:stretch/>
          </p:blipFill>
          <p:spPr>
            <a:xfrm>
              <a:off x="1116000" y="1844640"/>
              <a:ext cx="8028000" cy="416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716360" y="2421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16360" y="278136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0A45-D07E-4253-B6A7-6C13A90F77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7-08-07T17:10:54Z</dcterms:modified>
  <cp:revision>533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