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7B4-9FC7-44B3-B57A-F966D2AD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AA8-5879-463E-AB41-970A6D85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926-30B4-400C-81F1-7F09A788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A6A-5F48-4940-963A-B7DECFF1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1CF-7D16-4302-9967-AD7DE5FB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5B1-21ED-48A3-BDC6-1344CEBC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9A1-6F03-42FC-86A3-738E6D12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BBF-7536-46AB-9956-3E44735A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75D-BA61-4A7B-AC50-EFFEAA58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B04-4F14-4E4E-8548-BA4F60D2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045-BBF2-445D-BA69-5C4872AE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8B5-C10A-4A11-B7BD-7D1E86E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file:///Planejamento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32640"/>
            <a:ext cx="9144000" cy="23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a65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57828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A414-DC72-4626-9BA2-22A387643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7640"/>
            <a:ext cx="9144000" cy="439560"/>
          </a:xfrm>
          <a:prstGeom prst="rect">
            <a:avLst/>
          </a:prstGeom>
          <a:solidFill>
            <a:srgbClr val="f5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0"/>
            <a:ext cx="16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5a657"/>
                </a:solidFill>
                <a:latin typeface="Book Antiqu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com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[Hom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1143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fra-Estrutura Computacional para Comércio  Eletrô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0800" y="2668680"/>
            <a:ext cx="40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duardo Manuel de Freitas Jorge </a:t>
            </a:r>
            <a:r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emjorge@dsc.ufpb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724280"/>
            <a:ext cx="2133720" cy="12956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2b2b2"/>
                </a:solidFill>
                <a:latin typeface="Times New Roman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5a657"/>
                </a:solidFill>
                <a:latin typeface="Arial"/>
              </a:rPr>
              <a:t>Requisitos Não Funcionais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plicações de vendas eletrônicas têm uma ligação vital com os requisitos não funciona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municação utilizada para transações eletrônica deve ser independente da localização geográfic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sar das distâncias as transações devem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gur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ções financeir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ust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aceitáv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5a657"/>
                </a:solidFill>
                <a:latin typeface="Arial"/>
              </a:rPr>
              <a:t>Requisitos Não Funcionais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lvl="1" marL="36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ápido reflexo no faturamento das empresa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significa dinh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nto, a cada minuto que um site est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9800" indent="-111960" algn="just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a do a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59800" indent="-111960" algn="just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ixo desempenho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sponde à perda de milhões de dólares ou à insatisfação de vários clientes potenci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izam este tipo de aplicação como de missão crític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 empresas desejam que seus sistemas funcionem vinte e quatro horas por dia e nos sete dias da semana com alta performance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5a657"/>
                </a:solidFill>
                <a:latin typeface="Arial"/>
              </a:rPr>
              <a:t>Os Riscos e Dificuldades inerentes às aplicações de e-commerce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uma área ainda pouco explorada e re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ainda tem sérios problemas de largura de banda de comunicação que é disponibilizada para seus usu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licações de vendas eletrônicas que necessitam de alta performanc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s com os picos de demanda causados pelos acessos simultâneos de milhões de usuários na rede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 natal é constatado que muitos sites de comércio eletrônico têm em media um aumento em cem vez no número de visitas.”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obrecarga nos sistemas se não for gerenciada pode causa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ixa performance no acess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da do sistem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Infra-Estrutura para Comércio Eletrônico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elementos mais populares em ambientes Web, que compõem uma infra-estrutura para acesso á informações na We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ão os browsers (máquinas cliente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servidores HTTP (máquinas servidoras)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servidor Web, em aplicações de e-commerce, proces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o, imagem, vídeo e aplicaç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cessidade de conteúdo extraído  de banco de d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8480" indent="-14148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ão chamados de Web sites dinâmicos e usam interfaces CGI, API (ISAPI para o Internet Information Server , NSAPI para o Netscape Web Server) ou ASP para rodarem aplicaçõ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114800" y="5638680"/>
            <a:ext cx="4571640" cy="914400"/>
            <a:chOff x="4114800" y="5638680"/>
            <a:chExt cx="4571640" cy="914400"/>
          </a:xfrm>
        </p:grpSpPr>
        <p:sp>
          <p:nvSpPr>
            <p:cNvPr id="80" name=""/>
            <p:cNvSpPr/>
            <p:nvPr/>
          </p:nvSpPr>
          <p:spPr>
            <a:xfrm>
              <a:off x="5715000" y="5867280"/>
              <a:ext cx="106668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fra-estrutur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net 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430520" y="6019560"/>
              <a:ext cx="598680" cy="533160"/>
              <a:chOff x="4430520" y="6019560"/>
              <a:chExt cx="598680" cy="53316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454640" y="6353280"/>
                <a:ext cx="548280" cy="168480"/>
                <a:chOff x="4454640" y="6353280"/>
                <a:chExt cx="548280" cy="1684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54640" y="6353280"/>
                  <a:ext cx="548280" cy="168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759560" y="6382440"/>
                  <a:ext cx="189720" cy="770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30520" y="6445440"/>
                <a:ext cx="598680" cy="107280"/>
                <a:chOff x="4430520" y="6445440"/>
                <a:chExt cx="598680" cy="1072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430520" y="6445440"/>
                  <a:ext cx="598680" cy="107280"/>
                </a:xfrm>
                <a:custGeom>
                  <a:avLst/>
                  <a:gdLst/>
                  <a:ahLst/>
                  <a:rect l="l" t="t" r="r" b="b"/>
                  <a:pathLst>
                    <a:path w="905" h="162">
                      <a:moveTo>
                        <a:pt x="113" y="0"/>
                      </a:moveTo>
                      <a:lnTo>
                        <a:pt x="795" y="0"/>
                      </a:lnTo>
                      <a:lnTo>
                        <a:pt x="903" y="146"/>
                      </a:lnTo>
                      <a:lnTo>
                        <a:pt x="905" y="153"/>
                      </a:lnTo>
                      <a:lnTo>
                        <a:pt x="901" y="159"/>
                      </a:lnTo>
                      <a:lnTo>
                        <a:pt x="894" y="162"/>
                      </a:lnTo>
                      <a:lnTo>
                        <a:pt x="13" y="162"/>
                      </a:lnTo>
                      <a:lnTo>
                        <a:pt x="5" y="158"/>
                      </a:lnTo>
                      <a:lnTo>
                        <a:pt x="0" y="151"/>
                      </a:lnTo>
                      <a:lnTo>
                        <a:pt x="2" y="143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64000" y="6467760"/>
                  <a:ext cx="397440" cy="68040"/>
                </a:xfrm>
                <a:custGeom>
                  <a:avLst/>
                  <a:gdLst/>
                  <a:ahLst/>
                  <a:rect l="l" t="t" r="r" b="b"/>
                  <a:pathLst>
                    <a:path w="601" h="103">
                      <a:moveTo>
                        <a:pt x="81" y="0"/>
                      </a:moveTo>
                      <a:lnTo>
                        <a:pt x="573" y="0"/>
                      </a:lnTo>
                      <a:lnTo>
                        <a:pt x="601" y="103"/>
                      </a:lnTo>
                      <a:lnTo>
                        <a:pt x="0" y="103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74400" y="6467760"/>
                  <a:ext cx="120240" cy="68040"/>
                </a:xfrm>
                <a:custGeom>
                  <a:avLst/>
                  <a:gdLst/>
                  <a:ahLst/>
                  <a:rect l="l" t="t" r="r" b="b"/>
                  <a:pathLst>
                    <a:path w="182" h="103">
                      <a:moveTo>
                        <a:pt x="0" y="0"/>
                      </a:moveTo>
                      <a:lnTo>
                        <a:pt x="107" y="0"/>
                      </a:lnTo>
                      <a:lnTo>
                        <a:pt x="182" y="103"/>
                      </a:lnTo>
                      <a:lnTo>
                        <a:pt x="34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4530960" y="6019560"/>
                <a:ext cx="398160" cy="328320"/>
                <a:chOff x="4530960" y="6019560"/>
                <a:chExt cx="398160" cy="3283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4530960" y="6019560"/>
                  <a:ext cx="398160" cy="32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556520" y="6046560"/>
                  <a:ext cx="346680" cy="27792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853880" y="6046560"/>
                  <a:ext cx="47880" cy="277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865760" y="6061320"/>
                  <a:ext cx="23040" cy="1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867560" y="6181920"/>
                  <a:ext cx="17640" cy="16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867560" y="6232320"/>
                  <a:ext cx="17640" cy="1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867560" y="6280920"/>
                  <a:ext cx="17640" cy="16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" name=""/>
            <p:cNvGrpSpPr/>
            <p:nvPr/>
          </p:nvGrpSpPr>
          <p:grpSpPr>
            <a:xfrm>
              <a:off x="7467480" y="5715000"/>
              <a:ext cx="1218960" cy="753480"/>
              <a:chOff x="7467480" y="5715000"/>
              <a:chExt cx="1218960" cy="753480"/>
            </a:xfrm>
          </p:grpSpPr>
          <p:sp>
            <p:nvSpPr>
              <p:cNvPr id="98" name=""/>
              <p:cNvSpPr/>
              <p:nvPr/>
            </p:nvSpPr>
            <p:spPr>
              <a:xfrm>
                <a:off x="8182800" y="6195600"/>
                <a:ext cx="260280" cy="108720"/>
              </a:xfrm>
              <a:custGeom>
                <a:avLst/>
                <a:gdLst/>
                <a:ahLst/>
                <a:rect l="l" t="t" r="r" b="b"/>
                <a:pathLst>
                  <a:path w="248" h="117">
                    <a:moveTo>
                      <a:pt x="0" y="12"/>
                    </a:moveTo>
                    <a:lnTo>
                      <a:pt x="92" y="0"/>
                    </a:lnTo>
                    <a:lnTo>
                      <a:pt x="113" y="4"/>
                    </a:lnTo>
                    <a:lnTo>
                      <a:pt x="129" y="15"/>
                    </a:lnTo>
                    <a:lnTo>
                      <a:pt x="151" y="72"/>
                    </a:lnTo>
                    <a:lnTo>
                      <a:pt x="165" y="94"/>
                    </a:lnTo>
                    <a:lnTo>
                      <a:pt x="177" y="105"/>
                    </a:lnTo>
                    <a:lnTo>
                      <a:pt x="190" y="110"/>
                    </a:lnTo>
                    <a:lnTo>
                      <a:pt x="209" y="114"/>
                    </a:lnTo>
                    <a:lnTo>
                      <a:pt x="248" y="11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7467480" y="5950080"/>
                <a:ext cx="948600" cy="518400"/>
                <a:chOff x="7467480" y="5950080"/>
                <a:chExt cx="948600" cy="5184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7467480" y="6318000"/>
                  <a:ext cx="948600" cy="150480"/>
                  <a:chOff x="7467480" y="6318000"/>
                  <a:chExt cx="948600" cy="15048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7467480" y="6318000"/>
                    <a:ext cx="9486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04" h="162">
                        <a:moveTo>
                          <a:pt x="112" y="0"/>
                        </a:moveTo>
                        <a:lnTo>
                          <a:pt x="795" y="0"/>
                        </a:lnTo>
                        <a:lnTo>
                          <a:pt x="903" y="147"/>
                        </a:lnTo>
                        <a:lnTo>
                          <a:pt x="904" y="154"/>
                        </a:lnTo>
                        <a:lnTo>
                          <a:pt x="900" y="160"/>
                        </a:lnTo>
                        <a:lnTo>
                          <a:pt x="893" y="162"/>
                        </a:lnTo>
                        <a:lnTo>
                          <a:pt x="13" y="162"/>
                        </a:lnTo>
                        <a:lnTo>
                          <a:pt x="4" y="159"/>
                        </a:lnTo>
                        <a:lnTo>
                          <a:pt x="0" y="152"/>
                        </a:lnTo>
                        <a:lnTo>
                          <a:pt x="2" y="144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519680" y="6350400"/>
                    <a:ext cx="63072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4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4"/>
                        </a:lnTo>
                        <a:lnTo>
                          <a:pt x="0" y="104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8170560" y="6350400"/>
                    <a:ext cx="19080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4">
                        <a:moveTo>
                          <a:pt x="0" y="0"/>
                        </a:moveTo>
                        <a:lnTo>
                          <a:pt x="108" y="0"/>
                        </a:lnTo>
                        <a:lnTo>
                          <a:pt x="182" y="104"/>
                        </a:lnTo>
                        <a:lnTo>
                          <a:pt x="34" y="10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" name=""/>
                <p:cNvSpPr/>
                <p:nvPr/>
              </p:nvSpPr>
              <p:spPr>
                <a:xfrm>
                  <a:off x="7683480" y="5950080"/>
                  <a:ext cx="515520" cy="362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754760" y="6000120"/>
                  <a:ext cx="372600" cy="24912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082360" y="6272280"/>
                  <a:ext cx="47160" cy="2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8424360" y="5715000"/>
                <a:ext cx="262080" cy="71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492400" y="5779080"/>
                <a:ext cx="157320" cy="204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646840" y="5981760"/>
                <a:ext cx="8280" cy="45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509320" y="5834880"/>
                <a:ext cx="46080" cy="94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27320" y="5779080"/>
                <a:ext cx="11160" cy="20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18400" y="5817960"/>
                <a:ext cx="28440" cy="45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18400" y="5898960"/>
                <a:ext cx="27360" cy="45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029200" y="6172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6172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5715000"/>
              <a:ext cx="121896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160" y="5638680"/>
              <a:ext cx="121932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rvi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Arquitetura básica para e-commerce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119320" y="2895480"/>
            <a:ext cx="6565320" cy="3581280"/>
            <a:chOff x="2119320" y="2895480"/>
            <a:chExt cx="6565320" cy="3581280"/>
          </a:xfrm>
        </p:grpSpPr>
        <p:grpSp>
          <p:nvGrpSpPr>
            <p:cNvPr id="120" name=""/>
            <p:cNvGrpSpPr/>
            <p:nvPr/>
          </p:nvGrpSpPr>
          <p:grpSpPr>
            <a:xfrm>
              <a:off x="7148520" y="5181480"/>
              <a:ext cx="750600" cy="742680"/>
              <a:chOff x="7148520" y="5181480"/>
              <a:chExt cx="750600" cy="7426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7179120" y="5645880"/>
                <a:ext cx="687600" cy="234360"/>
                <a:chOff x="7179120" y="5645880"/>
                <a:chExt cx="687600" cy="2343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179120" y="5645880"/>
                  <a:ext cx="687600" cy="234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61440" y="5686200"/>
                  <a:ext cx="237960" cy="106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148520" y="5774400"/>
                <a:ext cx="750600" cy="149760"/>
                <a:chOff x="7148520" y="5774400"/>
                <a:chExt cx="750600" cy="1497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148520" y="5774400"/>
                  <a:ext cx="750600" cy="149760"/>
                </a:xfrm>
                <a:custGeom>
                  <a:avLst/>
                  <a:gdLst/>
                  <a:ahLst/>
                  <a:rect l="l" t="t" r="r" b="b"/>
                  <a:pathLst>
                    <a:path w="905" h="162">
                      <a:moveTo>
                        <a:pt x="113" y="0"/>
                      </a:moveTo>
                      <a:lnTo>
                        <a:pt x="795" y="0"/>
                      </a:lnTo>
                      <a:lnTo>
                        <a:pt x="903" y="146"/>
                      </a:lnTo>
                      <a:lnTo>
                        <a:pt x="905" y="153"/>
                      </a:lnTo>
                      <a:lnTo>
                        <a:pt x="901" y="159"/>
                      </a:lnTo>
                      <a:lnTo>
                        <a:pt x="894" y="162"/>
                      </a:lnTo>
                      <a:lnTo>
                        <a:pt x="13" y="162"/>
                      </a:lnTo>
                      <a:lnTo>
                        <a:pt x="5" y="158"/>
                      </a:lnTo>
                      <a:lnTo>
                        <a:pt x="0" y="151"/>
                      </a:lnTo>
                      <a:lnTo>
                        <a:pt x="2" y="143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190640" y="5805720"/>
                  <a:ext cx="498240" cy="95040"/>
                </a:xfrm>
                <a:custGeom>
                  <a:avLst/>
                  <a:gdLst/>
                  <a:ahLst/>
                  <a:rect l="l" t="t" r="r" b="b"/>
                  <a:pathLst>
                    <a:path w="601" h="103">
                      <a:moveTo>
                        <a:pt x="81" y="0"/>
                      </a:moveTo>
                      <a:lnTo>
                        <a:pt x="573" y="0"/>
                      </a:lnTo>
                      <a:lnTo>
                        <a:pt x="601" y="103"/>
                      </a:lnTo>
                      <a:lnTo>
                        <a:pt x="0" y="103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05080" y="5805720"/>
                  <a:ext cx="150840" cy="95040"/>
                </a:xfrm>
                <a:custGeom>
                  <a:avLst/>
                  <a:gdLst/>
                  <a:ahLst/>
                  <a:rect l="l" t="t" r="r" b="b"/>
                  <a:pathLst>
                    <a:path w="182" h="103">
                      <a:moveTo>
                        <a:pt x="0" y="0"/>
                      </a:moveTo>
                      <a:lnTo>
                        <a:pt x="107" y="0"/>
                      </a:lnTo>
                      <a:lnTo>
                        <a:pt x="182" y="103"/>
                      </a:lnTo>
                      <a:lnTo>
                        <a:pt x="34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274520" y="5181480"/>
                <a:ext cx="498960" cy="457200"/>
                <a:chOff x="7274520" y="5181480"/>
                <a:chExt cx="498960" cy="457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274520" y="5181480"/>
                  <a:ext cx="498960" cy="457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306560" y="5219280"/>
                  <a:ext cx="434160" cy="38700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679160" y="5219280"/>
                  <a:ext cx="60120" cy="387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93920" y="5239440"/>
                  <a:ext cx="28800" cy="24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696440" y="5407920"/>
                  <a:ext cx="22320" cy="2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96440" y="5478120"/>
                  <a:ext cx="22320" cy="2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696440" y="5545440"/>
                  <a:ext cx="22320" cy="2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5243400" y="3962160"/>
              <a:ext cx="838080" cy="263520"/>
              <a:chOff x="5243400" y="3962160"/>
              <a:chExt cx="838080" cy="263520"/>
            </a:xfrm>
          </p:grpSpPr>
          <p:sp>
            <p:nvSpPr>
              <p:cNvPr id="137" name=""/>
              <p:cNvSpPr/>
              <p:nvPr/>
            </p:nvSpPr>
            <p:spPr>
              <a:xfrm>
                <a:off x="5243400" y="3973320"/>
                <a:ext cx="838080" cy="252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45560" y="4148280"/>
                <a:ext cx="83340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740200" y="4165200"/>
                <a:ext cx="207720" cy="59040"/>
                <a:chOff x="5740200" y="4165200"/>
                <a:chExt cx="207720" cy="59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740200" y="4165200"/>
                  <a:ext cx="21600" cy="5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806080" y="4165200"/>
                  <a:ext cx="21960" cy="5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867280" y="4165200"/>
                  <a:ext cx="21600" cy="5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27400" y="4165200"/>
                  <a:ext cx="20520" cy="5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5351040" y="3962160"/>
                <a:ext cx="17280" cy="68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319720" y="4952880"/>
              <a:ext cx="6858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691320" y="3809880"/>
              <a:ext cx="1066680" cy="533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fra-estrutur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net 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453080" y="449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5780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624280" y="43430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719520" y="3962160"/>
              <a:ext cx="6858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flipH="1" flipV="1">
              <a:off x="4480920" y="449568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119320" y="3809880"/>
              <a:ext cx="750600" cy="742680"/>
              <a:chOff x="2119320" y="3809880"/>
              <a:chExt cx="750600" cy="74268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2149920" y="4274280"/>
                <a:ext cx="687600" cy="234360"/>
                <a:chOff x="2149920" y="4274280"/>
                <a:chExt cx="687600" cy="234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149920" y="4274280"/>
                  <a:ext cx="687600" cy="234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532240" y="4314600"/>
                  <a:ext cx="237960" cy="106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19320" y="4402800"/>
                <a:ext cx="750600" cy="149760"/>
                <a:chOff x="2119320" y="4402800"/>
                <a:chExt cx="750600" cy="149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119320" y="4402800"/>
                  <a:ext cx="750600" cy="149760"/>
                </a:xfrm>
                <a:custGeom>
                  <a:avLst/>
                  <a:gdLst/>
                  <a:ahLst/>
                  <a:rect l="l" t="t" r="r" b="b"/>
                  <a:pathLst>
                    <a:path w="905" h="162">
                      <a:moveTo>
                        <a:pt x="113" y="0"/>
                      </a:moveTo>
                      <a:lnTo>
                        <a:pt x="795" y="0"/>
                      </a:lnTo>
                      <a:lnTo>
                        <a:pt x="903" y="146"/>
                      </a:lnTo>
                      <a:lnTo>
                        <a:pt x="905" y="153"/>
                      </a:lnTo>
                      <a:lnTo>
                        <a:pt x="901" y="159"/>
                      </a:lnTo>
                      <a:lnTo>
                        <a:pt x="894" y="162"/>
                      </a:lnTo>
                      <a:lnTo>
                        <a:pt x="13" y="162"/>
                      </a:lnTo>
                      <a:lnTo>
                        <a:pt x="5" y="158"/>
                      </a:lnTo>
                      <a:lnTo>
                        <a:pt x="0" y="151"/>
                      </a:lnTo>
                      <a:lnTo>
                        <a:pt x="2" y="143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61440" y="4434120"/>
                  <a:ext cx="498240" cy="95040"/>
                </a:xfrm>
                <a:custGeom>
                  <a:avLst/>
                  <a:gdLst/>
                  <a:ahLst/>
                  <a:rect l="l" t="t" r="r" b="b"/>
                  <a:pathLst>
                    <a:path w="601" h="103">
                      <a:moveTo>
                        <a:pt x="81" y="0"/>
                      </a:moveTo>
                      <a:lnTo>
                        <a:pt x="573" y="0"/>
                      </a:lnTo>
                      <a:lnTo>
                        <a:pt x="601" y="103"/>
                      </a:lnTo>
                      <a:lnTo>
                        <a:pt x="0" y="103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675880" y="4434120"/>
                  <a:ext cx="150840" cy="95040"/>
                </a:xfrm>
                <a:custGeom>
                  <a:avLst/>
                  <a:gdLst/>
                  <a:ahLst/>
                  <a:rect l="l" t="t" r="r" b="b"/>
                  <a:pathLst>
                    <a:path w="182" h="103">
                      <a:moveTo>
                        <a:pt x="0" y="0"/>
                      </a:moveTo>
                      <a:lnTo>
                        <a:pt x="107" y="0"/>
                      </a:lnTo>
                      <a:lnTo>
                        <a:pt x="182" y="103"/>
                      </a:lnTo>
                      <a:lnTo>
                        <a:pt x="34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245320" y="3809880"/>
                <a:ext cx="498960" cy="457200"/>
                <a:chOff x="2245320" y="3809880"/>
                <a:chExt cx="498960" cy="4572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245320" y="3809880"/>
                  <a:ext cx="498960" cy="457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277360" y="3847680"/>
                  <a:ext cx="434160" cy="38700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649960" y="3847680"/>
                  <a:ext cx="60120" cy="387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664720" y="3867840"/>
                  <a:ext cx="28800" cy="24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67240" y="4036320"/>
                  <a:ext cx="22320" cy="2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667240" y="4106520"/>
                  <a:ext cx="22320" cy="2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667240" y="4173840"/>
                  <a:ext cx="22320" cy="2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719520" y="5486040"/>
              <a:ext cx="6858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flipH="1">
              <a:off x="2880720" y="4343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024080" y="502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22240" y="3633480"/>
              <a:ext cx="73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teado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88760" y="531000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08760" y="5157720"/>
              <a:ext cx="102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dor 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29000" y="4038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dor de Trans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05320" y="571464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dor de Banco de D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71600" y="289548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ção de Trabal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828800" y="1905120"/>
            <a:ext cx="73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 depender do uso da aplicação (quantidade de acesso, nível de tempo de resposta, etc)  e o quanto se quer de interação com os sistemas legados existentes nas organizações pode ser necessário adicionar mais elementos de hardware  e softwar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As partes que compõem a infra-estrutura para e-commerce (duas camadas)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4678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lvl="2" marL="696960" indent="-13932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de comunicação com 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13932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eador (dispositivo que redireciona trafico entre red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13932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amento e sistema operacional sobre o qual o software de firewall rodará (equipamento necessário para segurança que será detalhado mais adia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13932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áquina e o sistema operacional que processará o software de Web ( servidor HTTP) e Banco de  D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Arquitetura  em duas camadas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cliente/servidor tradi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eiras aplicaçõ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licações de menor porte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problema é que como o servidor Web e o banco de dados rodam na mesma máquina,  os recursos computacionais ficam esgotados mais rapid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29000" y="4038480"/>
            <a:ext cx="5638680" cy="2787480"/>
            <a:chOff x="3429000" y="4038480"/>
            <a:chExt cx="5638680" cy="2787480"/>
          </a:xfrm>
        </p:grpSpPr>
        <p:sp>
          <p:nvSpPr>
            <p:cNvPr id="183" name=""/>
            <p:cNvSpPr/>
            <p:nvPr/>
          </p:nvSpPr>
          <p:spPr>
            <a:xfrm>
              <a:off x="3809880" y="4586040"/>
              <a:ext cx="91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477120" y="6033960"/>
              <a:ext cx="1752480" cy="38088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2880" y="6186240"/>
              <a:ext cx="1524240" cy="6397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9600" y="5881680"/>
              <a:ext cx="365040" cy="36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1880" y="6019560"/>
              <a:ext cx="365400" cy="36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53280" y="527184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486400" y="5500080"/>
              <a:ext cx="274680" cy="275040"/>
              <a:chOff x="5486400" y="5500080"/>
              <a:chExt cx="274680" cy="275040"/>
            </a:xfrm>
          </p:grpSpPr>
          <p:sp>
            <p:nvSpPr>
              <p:cNvPr id="190" name=""/>
              <p:cNvSpPr/>
              <p:nvPr/>
            </p:nvSpPr>
            <p:spPr>
              <a:xfrm>
                <a:off x="5486400" y="5500440"/>
                <a:ext cx="274680" cy="27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5486400" y="5499720"/>
                <a:ext cx="274680" cy="274680"/>
              </a:xfrm>
              <a:prstGeom prst="line">
                <a:avLst/>
              </a:pr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86400" y="5500440"/>
                <a:ext cx="274680" cy="274680"/>
              </a:xfrm>
              <a:prstGeom prst="line">
                <a:avLst/>
              </a:pr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flipV="1">
              <a:off x="5638680" y="5805360"/>
              <a:ext cx="0" cy="38088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15000" y="4967280"/>
              <a:ext cx="0" cy="38088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4174920"/>
              <a:ext cx="4572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6600" y="403848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00600" y="4449600"/>
              <a:ext cx="3650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4120" y="4297320"/>
              <a:ext cx="10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ew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29400" y="4724280"/>
              <a:ext cx="0" cy="24300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029200" y="4723920"/>
              <a:ext cx="0" cy="24300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5348160"/>
              <a:ext cx="91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te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4967280"/>
              <a:ext cx="5181480" cy="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34520" y="6172200"/>
              <a:ext cx="365040" cy="36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77120" y="6185880"/>
              <a:ext cx="1904760" cy="2905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477120" y="6338520"/>
              <a:ext cx="2057400" cy="13788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Arquitetura  em n camadas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e que as aplicações sejam planejadas de forma que a carga de processamento possa ser distribuída entre vários servi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cal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ustez do (menor possibilidade do sistema ficar fora do 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981080" y="3429000"/>
            <a:ext cx="7086600" cy="3397320"/>
            <a:chOff x="1981080" y="3429000"/>
            <a:chExt cx="7086600" cy="3397320"/>
          </a:xfrm>
        </p:grpSpPr>
        <p:sp>
          <p:nvSpPr>
            <p:cNvPr id="209" name=""/>
            <p:cNvSpPr/>
            <p:nvPr/>
          </p:nvSpPr>
          <p:spPr>
            <a:xfrm>
              <a:off x="4800600" y="3657600"/>
              <a:ext cx="4572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5680" y="3886200"/>
              <a:ext cx="4572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4572000"/>
              <a:ext cx="91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477120" y="6033600"/>
              <a:ext cx="1752480" cy="38124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6186600"/>
              <a:ext cx="1524240" cy="6397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29600" y="5881680"/>
              <a:ext cx="365040" cy="36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1880" y="6019920"/>
              <a:ext cx="365400" cy="36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52722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486400" y="5500440"/>
              <a:ext cx="274680" cy="275040"/>
              <a:chOff x="5486400" y="5500440"/>
              <a:chExt cx="274680" cy="275040"/>
            </a:xfrm>
          </p:grpSpPr>
          <p:sp>
            <p:nvSpPr>
              <p:cNvPr id="218" name=""/>
              <p:cNvSpPr/>
              <p:nvPr/>
            </p:nvSpPr>
            <p:spPr>
              <a:xfrm>
                <a:off x="5486400" y="5500800"/>
                <a:ext cx="274680" cy="27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486400" y="5500080"/>
                <a:ext cx="274680" cy="274680"/>
              </a:xfrm>
              <a:prstGeom prst="line">
                <a:avLst/>
              </a:pr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86400" y="5500800"/>
                <a:ext cx="274680" cy="274680"/>
              </a:xfrm>
              <a:prstGeom prst="line">
                <a:avLst/>
              </a:pr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V="1">
              <a:off x="5638680" y="5805000"/>
              <a:ext cx="0" cy="38124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715000" y="4967280"/>
              <a:ext cx="0" cy="38088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91120" y="4114800"/>
              <a:ext cx="4572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96080" y="342900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 Servidores de Transações e de Banco de 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3200" y="4419720"/>
              <a:ext cx="3650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52680" y="4267080"/>
              <a:ext cx="106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ew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19720" y="4724280"/>
              <a:ext cx="0" cy="24300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895480" y="4723920"/>
              <a:ext cx="0" cy="24300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19920" y="5348160"/>
              <a:ext cx="91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te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4520" y="6172200"/>
              <a:ext cx="365040" cy="36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477120" y="6186240"/>
              <a:ext cx="1904760" cy="2905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477120" y="6338880"/>
              <a:ext cx="2057400" cy="13824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5029200"/>
              <a:ext cx="6705720" cy="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0280" y="3657600"/>
              <a:ext cx="4572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05720" y="3886200"/>
              <a:ext cx="4572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00800" y="4114800"/>
              <a:ext cx="4572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4724280"/>
              <a:ext cx="0" cy="24300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6400" y="3505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 Web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5a657"/>
                </a:solidFill>
                <a:latin typeface="Arial"/>
              </a:rPr>
              <a:t>A largura de  banda</a:t>
            </a:r>
            <a:r>
              <a:rPr b="1" lang="en-US" sz="3600" spc="-1" strike="noStrike">
                <a:solidFill>
                  <a:srgbClr val="f5a657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 ser levado em co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tipo de conteú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usuários relativos à aplicação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tipos de links mais comuns até pouco tempo atrás eram os de 64k e de 128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tos, onde a largura de banda aumente ou diminua conforme a demanda de tráf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Máquinas Clientes e seus componentes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quinas clientes são todos os sistemas computacionais que através de um software  conseguem interagir com a aplicação de e-comme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áquinas P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es magros (celulares, palmtop, et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processamento da aplicação ocorre nos servidores, ficando a cargo dos clientes somente a apresentação da infor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áquinas clientes podem ter uma baixo poder de processamento e pouca memória RAM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acesso às aplicações Web é feita através do software chamado de browsers (aplicativos para navegação na Interne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rão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5a657"/>
                </a:solidFill>
                <a:latin typeface="Arial"/>
              </a:rPr>
              <a:t>Tópicos abordados</a:t>
            </a: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20574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ção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ção da aplicação de Comércio Eletrônico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riscos e dificuldades no projeto de uma infra-estrutura adequada para Comercio Eletrônico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ra-Estrutura para Comercio Eletrô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Roteadores e os mecanismos para prover segurança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eadores são equipamentos usados para conectar a rede corporativa com a Web e 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gmentar as re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lancear e filtrar o tráfico de forma segura e gerenciáv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dem ter a função de atuar como um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irew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ewall é um mecanismo de segurança usado para proteger dados e programas da rede corporativa de usuários não autor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usuários, através da Internet, não devem acessar diretamente às máquinas servido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Segurança para Transações financeiras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47560" y="20570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árias empresas se reuniram para criar um padrão único, simples e seguro denominado d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T (Secure Eletronic Transaction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a, Mastercard, Microsoft, Netscape, IBM, et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rão SET faz uso de criptografia  de chave pública e secr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inaturas digita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gurança de pagamentos e pedid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icação de integridade de mensag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enticação das partes envolvidas na transaçã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SET, cada parte envolvida numa venda eletrônica somente tem acessa à informação necessária ao desempenho de seu papel na transação.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Segurança para Transações financeiras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47560" y="20570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utilizar o protocolo SET, todas as partes envolvidas numa transação (consumidor, comerciante e banco) precisam de uma prova de ident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do digita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ridade de certificação (CA – Certification Author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4511520"/>
            <a:ext cx="16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– Confirma trans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25920" y="423720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– Envia solicitação de pag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502920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– Envia certificado de comerci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5638680"/>
            <a:ext cx="1646280" cy="45720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68720" y="5060880"/>
            <a:ext cx="1646280" cy="57780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erci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3809880"/>
            <a:ext cx="1387440" cy="51912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971440" y="5486400"/>
            <a:ext cx="1143000" cy="1224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00400" y="5638320"/>
            <a:ext cx="1371600" cy="2286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6019920"/>
            <a:ext cx="300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– Envia pedido de compra e cetificado de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160520" y="4328640"/>
            <a:ext cx="639720" cy="73188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94040" y="4329000"/>
            <a:ext cx="641520" cy="73188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Servidores Web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47560" y="20570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perar páginas HTML gravadas num meio magnético e repassá-las para os clientes que fizeram as requisi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dor HTT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operacional de rede ( multitaref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o de comunicação TCP/IP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da solicitação de uma página dinâmica um processo ou uma “thread” são executados no sistema ope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sistema computacional deve possu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nde quantidade de memória primária (RA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a ou várias CPUs de alto desempenho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s magnéticos de alta performance e com tolerância à falhas ( discos SCSI, associado a algum tipo de mecanismo RA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Servidores Transações e de Banco de Dados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20570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dores de Transações têm o como sua funcionalidade principal o processamento de transações d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gras de negóc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tinentes às organizaçõe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dores de transações tradicionalmente vêem processando transações de negócios dos usuários corporativo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transações externas e internas são separadas devido ao sobrecarga das transações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cesso de interação do usuário final (cliente) com o servidor Web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 servidor de transação faz a validação e recuperação e atualização das informaçõ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as repassa para o servidor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Servidores Transações e de Banco de Dados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47560" y="20570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o servidor de transação que é responsável por fazer a interação com os sistemas legados (financeiro, estoque, et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52480" y="4038480"/>
            <a:ext cx="750960" cy="743040"/>
            <a:chOff x="1752480" y="4038480"/>
            <a:chExt cx="750960" cy="743040"/>
          </a:xfrm>
        </p:grpSpPr>
        <p:grpSp>
          <p:nvGrpSpPr>
            <p:cNvPr id="267" name=""/>
            <p:cNvGrpSpPr/>
            <p:nvPr/>
          </p:nvGrpSpPr>
          <p:grpSpPr>
            <a:xfrm>
              <a:off x="1783080" y="4503240"/>
              <a:ext cx="687960" cy="234720"/>
              <a:chOff x="1783080" y="4503240"/>
              <a:chExt cx="687960" cy="234720"/>
            </a:xfrm>
          </p:grpSpPr>
          <p:sp>
            <p:nvSpPr>
              <p:cNvPr id="268" name=""/>
              <p:cNvSpPr/>
              <p:nvPr/>
            </p:nvSpPr>
            <p:spPr>
              <a:xfrm>
                <a:off x="1783080" y="4503240"/>
                <a:ext cx="687960" cy="234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65400" y="4543920"/>
                <a:ext cx="237960" cy="10728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752480" y="4631760"/>
              <a:ext cx="750960" cy="149760"/>
              <a:chOff x="1752480" y="4631760"/>
              <a:chExt cx="750960" cy="149760"/>
            </a:xfrm>
          </p:grpSpPr>
          <p:sp>
            <p:nvSpPr>
              <p:cNvPr id="271" name=""/>
              <p:cNvSpPr/>
              <p:nvPr/>
            </p:nvSpPr>
            <p:spPr>
              <a:xfrm>
                <a:off x="1752480" y="4631760"/>
                <a:ext cx="750960" cy="149760"/>
              </a:xfrm>
              <a:custGeom>
                <a:avLst/>
                <a:gdLst/>
                <a:ahLst/>
                <a:rect l="l" t="t" r="r" b="b"/>
                <a:pathLst>
                  <a:path w="905" h="162">
                    <a:moveTo>
                      <a:pt x="113" y="0"/>
                    </a:moveTo>
                    <a:lnTo>
                      <a:pt x="795" y="0"/>
                    </a:lnTo>
                    <a:lnTo>
                      <a:pt x="903" y="146"/>
                    </a:lnTo>
                    <a:lnTo>
                      <a:pt x="905" y="153"/>
                    </a:lnTo>
                    <a:lnTo>
                      <a:pt x="901" y="159"/>
                    </a:lnTo>
                    <a:lnTo>
                      <a:pt x="894" y="162"/>
                    </a:lnTo>
                    <a:lnTo>
                      <a:pt x="13" y="162"/>
                    </a:lnTo>
                    <a:lnTo>
                      <a:pt x="5" y="158"/>
                    </a:lnTo>
                    <a:lnTo>
                      <a:pt x="0" y="151"/>
                    </a:lnTo>
                    <a:lnTo>
                      <a:pt x="2" y="143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600" y="4663080"/>
                <a:ext cx="498600" cy="95040"/>
              </a:xfrm>
              <a:custGeom>
                <a:avLst/>
                <a:gdLst/>
                <a:ahLst/>
                <a:rect l="l" t="t" r="r" b="b"/>
                <a:pathLst>
                  <a:path w="601" h="103">
                    <a:moveTo>
                      <a:pt x="81" y="0"/>
                    </a:moveTo>
                    <a:lnTo>
                      <a:pt x="573" y="0"/>
                    </a:lnTo>
                    <a:lnTo>
                      <a:pt x="601" y="103"/>
                    </a:lnTo>
                    <a:lnTo>
                      <a:pt x="0" y="10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09040" y="4663080"/>
                <a:ext cx="150840" cy="95040"/>
              </a:xfrm>
              <a:custGeom>
                <a:avLst/>
                <a:gdLst/>
                <a:ahLst/>
                <a:rect l="l" t="t" r="r" b="b"/>
                <a:pathLst>
                  <a:path w="182" h="103">
                    <a:moveTo>
                      <a:pt x="0" y="0"/>
                    </a:moveTo>
                    <a:lnTo>
                      <a:pt x="107" y="0"/>
                    </a:lnTo>
                    <a:lnTo>
                      <a:pt x="182" y="103"/>
                    </a:lnTo>
                    <a:lnTo>
                      <a:pt x="34" y="1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878480" y="4038480"/>
              <a:ext cx="499320" cy="457200"/>
              <a:chOff x="1878480" y="4038480"/>
              <a:chExt cx="499320" cy="457200"/>
            </a:xfrm>
          </p:grpSpPr>
          <p:sp>
            <p:nvSpPr>
              <p:cNvPr id="275" name=""/>
              <p:cNvSpPr/>
              <p:nvPr/>
            </p:nvSpPr>
            <p:spPr>
              <a:xfrm>
                <a:off x="1878480" y="4038480"/>
                <a:ext cx="4993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10520" y="4076280"/>
                <a:ext cx="434520" cy="38700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3480" y="4076280"/>
                <a:ext cx="60120" cy="38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98240" y="4096440"/>
                <a:ext cx="28800" cy="24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00760" y="4264920"/>
                <a:ext cx="2232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00760" y="4335120"/>
                <a:ext cx="2232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00760" y="4402440"/>
                <a:ext cx="2232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77080" y="37828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210200" y="3935520"/>
            <a:ext cx="685800" cy="9903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H="1">
            <a:off x="4971600" y="3859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191120" y="5535720"/>
            <a:ext cx="685800" cy="990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flipV="1">
            <a:off x="4514760" y="500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48280" y="347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do de 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23360" y="3352680"/>
            <a:ext cx="11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dor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3124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dor de Trans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00600" y="568800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dor de Banco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952520" y="424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52240" y="3911760"/>
            <a:ext cx="162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ação do Ped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952520" y="469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4400" y="436896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ções de Pag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34783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uário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609640" y="393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85960" y="35542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do de 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590560" y="4316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89920" y="3987720"/>
            <a:ext cx="162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ação do Ped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590560" y="4773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20720" y="444492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ções de Pag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Servidores Transações e de Banco de Dados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7560" y="20570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servidor de transação interage com o servidor de Banco de Dados para fazer a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ersistênc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informações inerentes às transações eletrônica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servidor de transações é responsável por grande parte do processamento das aplicações ficando a cargo do banco de dados somente o armazenamento das informaçõe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 opção é o uso de “stored procedures” e fazer parte do processamento no servidor de banco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Conclusão</a:t>
            </a: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4678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-15408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itas Empresas, atualmente, estão alcançado ótimos resultado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, também, existem muitos casos de insucesso, que são gerados, principalmente, pela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lta de planeja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 uma infra-estrutura adequad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de suma importância que os projetistas entendam bem todos o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quisitos  da aplicaç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ra projetar uma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ra-estrutura adequ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relevante, também, qu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tecipadame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 descubra os riscos e dificuldades pertinentes à aplicações de transações eletrônica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zir os riscos fazendo um acompanhamento d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ust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do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onogra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rante as fazes de desenvolvimento e implantação da infra-estru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a657"/>
                </a:solidFill>
                <a:latin typeface="Arial"/>
              </a:rPr>
              <a:t>Bibliografia</a:t>
            </a: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ARES &amp; LUIZ FERNANDO G., Redes de Computadores: das LANs, MANs e WANs às redes ATM, Rio de Janeiro, Campus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EW S. TANENBAUM, Redes de computadores; tradução [da 3. Ed. Original] Insight Serviços de Informática, Rio de Janeiro, Campus, 199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LTER M. PIMENTEL JR.., Aplicações Cliente/Servidor Em Múltiplas Camadas, Dissertação de Mestrado - São Luís,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OSÉ COELHO DE MELO, O Modelo Cliente/Servidor e suas Técnicas de Programação, Dissertação de Mestrado - São Luís – MA, 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NASCÉ, DANIEL A., Capacity plannig for Web performance: metrics, models, and methods, Prentice-Hall Inc., 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EPPER, CHARLES H, E-Commerce Strategies, Microsoft, Washington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ERS MAGAZINE, Ano 2- número 25  Setembro/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COMPUTING BRASIL, Ano 2-número 13 Março/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3520" y="20574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aioria das empresas, atualmente, está fazendo ou irá fazer comércio eletrônico baseado na infra-estrutura de comunicação da Interne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forte impacto nas relações comerciais entre clientes e fornecedo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ção de transações comer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maneira rápida e fácil (interface Web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esmente navegando pela red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as possibilidades de negócios  para as empresas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 o registro das transações eletrônicas será possível tamb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ar bancos de informações sobre hábitos de consumo, adequando, assim, os produtos e o processo de vendas aos consumi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3520" y="20574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mpresas devem estar bem preparadas tecnologicamente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licações consideradas de missão crítica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 erro grave seria um organização mergulhar em um empreendimento de comércio eletrônico sem considerar aspec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ai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fra-estrutura;</a:t>
            </a:r>
            <a:br>
              <a:rPr sz="1400"/>
            </a:b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to de uma Infra-Estrutura adequada para a aplicação de e-Comme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29400" y="5257800"/>
            <a:ext cx="160164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Definição da aplicação de Comercio Eletrônico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24382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 definir a infra-estrutura necessária para fazer comercio eletrônico é essencial, primeiramente, entender e especificar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objetivo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sitos funciona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das as funcionalidades que a aplicação deve possuir para realizar as transações eletrônicas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sitos Não funciona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vos à segurança, performance, robustez que esse tipo de aplicação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O objetivo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a possibilitar o processamento de transações que envolv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uários (clientes) e Empresas | business-to-consumer (B2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resas e Parceiros (fornecedores) | business-to-business (B2B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ção para a comercialização de bens e serviço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á utilizado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m ambiente eletrôn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que proporcione às par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s para se comunicarem e interagirem de forma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gu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Requisitos Funcionais para B2C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onibilização de catálogos de produtos ou serviç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catálogos trazem todas as especificações do prod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em  ou outra míd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ve descrição com as característic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ço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ção dos itens que o cliente deseja comprar (carrinho de compras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ilitar que o usuário selecione um conjunto de itens que deseja comprar de um catálo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esentação do valor total da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 assemelha ao carrinho de compras do supermercad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Requisitos Funcionais para B2C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239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tuar compra dos itens selecionado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cliente deve indicar a forma que deseja efetuar o pagamen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ilitar que o cliente possa acompanhar o processamento do pedi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4191120"/>
            <a:ext cx="838440" cy="53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2133720" cy="1028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144792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96080" y="4495680"/>
            <a:ext cx="325440" cy="97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29000" y="5105520"/>
            <a:ext cx="76212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5029200"/>
            <a:ext cx="68580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a657"/>
                </a:solidFill>
                <a:latin typeface="Arial"/>
              </a:rPr>
              <a:t>Requisitos Funcionais para B2B</a:t>
            </a:r>
            <a:br>
              <a:rPr sz="2400"/>
            </a:br>
            <a:endParaRPr b="1" lang="en-US" sz="24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processo de compra entre empresas é mais complexo do que o processo de vendas à consumidore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elaboração do pedido de compra, é necessário a determinação requisit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/pes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azo de Entreg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érios de Qualidad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referenciar produtos normalmente as empresas usam códigos ou descrições mais detalhadas nos seus catálogo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tos sob encomenda.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ões B2B têm um volume de usuários menor, ficando mais fácil de dimensionar o número de acessos ao site de e-comme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8T09:25:51Z</dcterms:created>
  <dc:creator>Lucia</dc:creator>
  <dc:description/>
  <dc:language>en-US</dc:language>
  <cp:lastModifiedBy>.</cp:lastModifiedBy>
  <cp:lastPrinted>1999-10-05T13:12:05Z</cp:lastPrinted>
  <dcterms:modified xsi:type="dcterms:W3CDTF">2001-07-14T05:16:40Z</dcterms:modified>
  <cp:revision>472</cp:revision>
  <dc:subject/>
  <dc:title>Seminário DS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Campina_Grande\Seminario_PostgreSQL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