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F8E-E567-4DEB-8CA4-D78A6DC9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411444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5C2-DF8D-4795-964F-B1D80B6C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7B5-D0D0-408E-B2DA-1986FC3D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4475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4475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41144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41144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41144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791-48FF-44A2-9D77-93317D13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7AF-2DBE-4851-B1B3-211304C1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5DD-489B-4725-AAC4-65945D25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BA2-CC30-444A-845B-91D1398F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CD8-E405-4621-B126-F2487E1F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004-EA77-429F-8431-DA44A460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F4F-F1AC-4B1F-826D-AD5197B6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FF3-56E0-409B-AB00-5E936550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411444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8AB9-4C8D-4D31-94BC-AB651540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32640"/>
            <a:ext cx="9144000" cy="23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a657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57828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C7E5-292A-4999-AE34-6FBBA7CAA0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7640"/>
            <a:ext cx="9144000" cy="439560"/>
          </a:xfrm>
          <a:prstGeom prst="rect">
            <a:avLst/>
          </a:prstGeom>
          <a:solidFill>
            <a:srgbClr val="f5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0"/>
            <a:ext cx="1600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pt-BR" sz="2400" spc="-1" strike="noStrike">
                <a:solidFill>
                  <a:srgbClr val="f5a657"/>
                </a:solidFill>
                <a:latin typeface="Book Antiqua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-com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odulo1.ppt" TargetMode="External"/><Relationship Id="rId2" Type="http://schemas.openxmlformats.org/officeDocument/2006/relationships/hyperlink" Target="file:///Modulo1.ppt" TargetMode="External"/><Relationship Id="rId3" Type="http://schemas.openxmlformats.org/officeDocument/2006/relationships/hyperlink" Target="file:///Modulo2.ppt" TargetMode="External"/><Relationship Id="rId4" Type="http://schemas.openxmlformats.org/officeDocument/2006/relationships/hyperlink" Target="file:///Modulo3.ppt" TargetMode="External"/><Relationship Id="rId5" Type="http://schemas.openxmlformats.org/officeDocument/2006/relationships/hyperlink" Target="file:///Modulo4.ppt" TargetMode="External"/><Relationship Id="rId6" Type="http://schemas.openxmlformats.org/officeDocument/2006/relationships/hyperlink" Target="file:///Modulo4.ppt" TargetMode="Externa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5a657"/>
                </a:solidFill>
                <a:latin typeface="Arial"/>
              </a:rPr>
              <a:t>Comércio Eletrônico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5a657"/>
                </a:solidFill>
                <a:latin typeface="Arial"/>
              </a:rPr>
              <a:t>Plano de A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95280" y="5714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uardo Jorge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partamento de Sistemas e Computação - UF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467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l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studo de Caso: Criativ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tação-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fra-Estrutura Computacional para Comércio  Eletrô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l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incipais Arquiteturas para aplicações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l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esenvolvimento de sistemas par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J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5T19:32:12Z</dcterms:created>
  <dc:creator>Hilmer Rodrigues Neri</dc:creator>
  <dc:description/>
  <dc:language>en-US</dc:language>
  <cp:lastModifiedBy>.</cp:lastModifiedBy>
  <dcterms:modified xsi:type="dcterms:W3CDTF">2001-07-14T05:00:15Z</dcterms:modified>
  <cp:revision>274</cp:revision>
  <dc:subject/>
  <dc:title>UNIVERSIDADE FEDERAL DA PARAÍBA CENTRO DE CIÊNCIA E TECNOLOGIA COPIN – Coordena  </dc:title>
</cp:coreProperties>
</file>