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F51-B603-4FFB-B053-C9672626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964-1FD5-4C79-9BC3-72ABF69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CD3-E981-4166-9BBC-2EC226CB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F22-714B-46B7-AE35-BF65E42E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A24-A3D3-46C3-B9EA-93F2CEB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26B-037B-49D1-BC41-C3C5D8F3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BD6-C3BA-4032-812E-F1EAD9D9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60D-D15F-4915-ABCF-8BF7C8C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A32-1491-4F7B-ADA2-8BC88E0D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1D1-8F73-4338-8A81-EC134754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54E-0300-472C-AE92-48801663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F45-0041-4197-B59F-CB12DD2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Planejamento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2640"/>
            <a:ext cx="9144000" cy="23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782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4FAC-5423-4EAF-8EF7-7D18D5FD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640"/>
            <a:ext cx="9144000" cy="439560"/>
          </a:xfrm>
          <a:prstGeom prst="rect">
            <a:avLst/>
          </a:prstGeom>
          <a:solidFill>
            <a:srgbClr val="f5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pt-BR" sz="2400" spc="-1" strike="noStrike">
                <a:solidFill>
                  <a:srgbClr val="f5a657"/>
                </a:solidFill>
                <a:latin typeface="Book Antiqua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-com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8240"/>
            <a:ext cx="9144000" cy="23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[Hom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envolvimento de sistemas para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0040" y="5257800"/>
            <a:ext cx="40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ardo Manuel de Freitas Jorge </a:t>
            </a:r>
            <a:r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emjorge@dsc.ufpb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Arquitetura do JRun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438280"/>
            <a:ext cx="14479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7432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I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57200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pp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7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5638680"/>
            <a:ext cx="14479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9436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2438280"/>
            <a:ext cx="5486400" cy="4038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666880"/>
            <a:ext cx="121932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onn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2666880"/>
            <a:ext cx="1066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666880"/>
            <a:ext cx="1447560" cy="32767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657600"/>
            <a:ext cx="10670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4038480"/>
            <a:ext cx="10670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SP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419720"/>
            <a:ext cx="10670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Stati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2743200"/>
            <a:ext cx="91440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ng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3581280"/>
            <a:ext cx="609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4038480"/>
            <a:ext cx="609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4495680"/>
            <a:ext cx="609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66" idx="3"/>
            <a:endCxn id="67" idx="3"/>
          </p:cNvCxnSpPr>
          <p:nvPr/>
        </p:nvCxnSpPr>
        <p:spPr>
          <a:xfrm>
            <a:off x="2514600" y="2857320"/>
            <a:ext cx="2160" cy="10674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endCxn id="70" idx="3"/>
          </p:cNvCxnSpPr>
          <p:nvPr/>
        </p:nvCxnSpPr>
        <p:spPr>
          <a:xfrm rot="5400000">
            <a:off x="1847160" y="4095360"/>
            <a:ext cx="1562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endCxn id="75" idx="1"/>
          </p:cNvCxnSpPr>
          <p:nvPr/>
        </p:nvCxnSpPr>
        <p:spPr>
          <a:xfrm flipV="1">
            <a:off x="2743200" y="3390480"/>
            <a:ext cx="915120" cy="496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2" idx="3"/>
            <a:endCxn id="74" idx="1"/>
          </p:cNvCxnSpPr>
          <p:nvPr/>
        </p:nvCxnSpPr>
        <p:spPr>
          <a:xfrm flipV="1">
            <a:off x="2514600" y="4419000"/>
            <a:ext cx="2210400" cy="1639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4" idx="3"/>
            <a:endCxn id="76" idx="1"/>
          </p:cNvCxnSpPr>
          <p:nvPr/>
        </p:nvCxnSpPr>
        <p:spPr>
          <a:xfrm flipV="1">
            <a:off x="5943240" y="4304880"/>
            <a:ext cx="30564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76" idx="3"/>
            <a:endCxn id="80" idx="1"/>
          </p:cNvCxnSpPr>
          <p:nvPr/>
        </p:nvCxnSpPr>
        <p:spPr>
          <a:xfrm>
            <a:off x="7695720" y="4304880"/>
            <a:ext cx="229320" cy="19116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4338000" y="20192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u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1680" y="20574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R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r serviços para 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plicações J2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Java Serv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áginas 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ebe as requisições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ginas web est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icações 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velet e J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Componentes da Arquitetura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mbientes operacionais suportados Windows, Unix e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 mínimos d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2 Mb de Memória RAM (64 Mb é recomend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 Mb de disco ( 50 Mb é recomend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D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alação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 de duas por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dmin Server 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fault server 8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NT escolher se quer instalar o JRun como um serviç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Instalaç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4267080"/>
            <a:ext cx="5867280" cy="228600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905120"/>
            <a:ext cx="5867640" cy="228600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Instalação Padr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28600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Conn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04812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Port 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286000"/>
            <a:ext cx="3045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2286000"/>
            <a:ext cx="6858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2209680"/>
            <a:ext cx="1447920" cy="9144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64832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Conn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41008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JRun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Port 8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648320"/>
            <a:ext cx="30492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648320"/>
            <a:ext cx="68580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4572000"/>
            <a:ext cx="1447560" cy="9144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574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un admi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6560" y="4267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un defaul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1" idx="3"/>
            <a:endCxn id="103" idx="1"/>
          </p:cNvCxnSpPr>
          <p:nvPr/>
        </p:nvCxnSpPr>
        <p:spPr>
          <a:xfrm flipV="1">
            <a:off x="4723920" y="266616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3" idx="3"/>
            <a:endCxn id="102" idx="1"/>
          </p:cNvCxnSpPr>
          <p:nvPr/>
        </p:nvCxnSpPr>
        <p:spPr>
          <a:xfrm>
            <a:off x="6400440" y="266652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6" idx="3"/>
            <a:endCxn id="108" idx="1"/>
          </p:cNvCxnSpPr>
          <p:nvPr/>
        </p:nvCxnSpPr>
        <p:spPr>
          <a:xfrm flipV="1">
            <a:off x="4419360" y="50284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>
            <a:stCxn id="108" idx="3"/>
            <a:endCxn id="107" idx="1"/>
          </p:cNvCxnSpPr>
          <p:nvPr/>
        </p:nvCxnSpPr>
        <p:spPr>
          <a:xfrm>
            <a:off x="6095520" y="502884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mitir “Browser” no dire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r páginas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danças de po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Configurações Básicas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Configuração </a:t>
            </a:r>
            <a:br>
              <a:rPr sz="2000"/>
            </a:b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Conectando com Servidor Web extern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1447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JRun Conn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581280"/>
            <a:ext cx="30492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3581280"/>
            <a:ext cx="6858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3505320"/>
            <a:ext cx="1447920" cy="9144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87680" y="25909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un defaul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 flipV="1">
            <a:off x="5257440" y="3962160"/>
            <a:ext cx="229320" cy="34344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21" idx="3"/>
            <a:endCxn id="120" idx="1"/>
          </p:cNvCxnSpPr>
          <p:nvPr/>
        </p:nvCxnSpPr>
        <p:spPr>
          <a:xfrm>
            <a:off x="6933960" y="3962520"/>
            <a:ext cx="229320" cy="343440"/>
          </a:xfrm>
          <a:prstGeom prst="bentConnector3">
            <a:avLst>
              <a:gd name="adj1" fmla="val 50000"/>
            </a:avLst>
          </a:prstGeom>
          <a:ln w="93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143000" y="35053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IS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9960" y="38862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114720"/>
            <a:ext cx="5867280" cy="228600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33000" y="1447560"/>
            <a:ext cx="4389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ndo uma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drão da Arquitetura Serv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Implantaç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2160" y="27432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124080"/>
            <a:ext cx="0" cy="3124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657600"/>
            <a:ext cx="838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84640" y="35193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88620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19112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49568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480060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57760" y="3976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267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32280" y="464832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(Jrun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838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9200" y="5500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tórios adicion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6248520"/>
            <a:ext cx="838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360" y="6019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Estudo de Caso de uma Implantaç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2160" y="27432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0" cy="3124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657600"/>
            <a:ext cx="838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4640" y="35193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388620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19112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49568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4800600"/>
            <a:ext cx="8384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7760" y="3976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267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32280" y="464832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(Jrun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715000"/>
            <a:ext cx="838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3760" y="54864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8098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Pacotes com Cla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e 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81120" y="4267080"/>
            <a:ext cx="2133720" cy="1526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5909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Interface (Servl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34120" y="3429000"/>
            <a:ext cx="304560" cy="53352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3341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Interface (J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09520" y="5562720"/>
            <a:ext cx="129564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ós a atualização &lt;RESTART&gt; o JRun server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gurar a saída do arquivo d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ravés de arquivo d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7/07 08:17:58 metrics (JRun) (jcp+we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eap=4303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sten=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le=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ued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usy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otal=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quests (count/total ms)=14/210 Delayed=0 TotalDelay=0 BytesIn=5231 BytesOut=8236 Sessions (active/in memory)=1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Gerenciamento de Conexões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5a657"/>
                </a:solidFill>
                <a:latin typeface="Arial"/>
              </a:rPr>
              <a:t>Bibliografia</a:t>
            </a: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AMMA E., HELM R., JOHNSON R., VLISSIDES, J.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sign Patterns Elements of Reusable Object-Oriented Software.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994 . Addisson-Wes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RAND M.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tterns in Java Volume I.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998. Wi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COBSON I. &amp; BOOCH G. &amp; RUMBAUGH J., The Unified Software Development Processs, Addison-Wesley,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RMAN C., Utilizando UML e padrões: Uma Introdução à Análise e ao Projeto Orientados a Objetos, Bookman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UVÉ J. P., Notas de Aula da Disciplina Métodos Avançados de Progra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JRun 3.0: Developing Applications with J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Tópicos abordados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isão global do desenvolvimento de sistemas par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amada d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amada de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amada de Persistên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udo de Um Servidor de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antação (“Deplo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enci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Projeto para aplicações Web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 de uma 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cesso unificado iterativo e incre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 Arquite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drões de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ste de unid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rra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nal Rose (U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ava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i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jetista ou programador de alto 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ada d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(Client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(Server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i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gram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rra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reamWea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ash (Aplica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ervlet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70866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mp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3432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ada de Apl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ava/RMI/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fi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alista de Sistemas com experiência em Orientação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rra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J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sual Caf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ada de Persist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dores Relacionais/ Objeto-Relacionais e Orientados a Ob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i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nalista com experiência em Banco de Dados (Transaçõ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rra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rbase (fr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5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Estudo de Um Servidor de Aplicação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04760" y="4343400"/>
            <a:ext cx="1904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09:25:51Z</dcterms:created>
  <dc:creator>Lucia</dc:creator>
  <dc:description/>
  <dc:language>en-US</dc:language>
  <cp:lastModifiedBy>.</cp:lastModifiedBy>
  <cp:lastPrinted>1999-10-05T13:12:05Z</cp:lastPrinted>
  <dcterms:modified xsi:type="dcterms:W3CDTF">2001-07-14T05:28:45Z</dcterms:modified>
  <cp:revision>573</cp:revision>
  <dc:subject/>
  <dc:title>Seminário DS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ampina_Grande\Seminario_PostgreSQ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