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5C1-E372-4657-A002-86AA15AE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14A-9E06-48CF-948D-C0A52CD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8DD-67AB-4D03-AB2D-03B6D507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626-7B29-464A-AF45-27CB25E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B05-EF69-482B-909A-EE85D1DF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1FC-4074-4A52-9358-E133743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7E0-FA0A-46EA-86C9-97A4619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488-4F28-4622-BC6D-C401EF4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9C1-52B7-411F-8451-D576226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33E-4F87-4BC1-B210-471C60A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BAB-0A37-4A7F-BA85-B8C6664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FAE-8E5B-45C4-9D10-3080629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Planejamento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2640"/>
            <a:ext cx="9144000" cy="23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782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80ED-04E1-4ACA-96E2-8A3E8D7F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640"/>
            <a:ext cx="9144000" cy="439560"/>
          </a:xfrm>
          <a:prstGeom prst="rect">
            <a:avLst/>
          </a:prstGeom>
          <a:solidFill>
            <a:srgbClr val="f5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pt-BR" sz="2400" spc="-1" strike="noStrike">
                <a:solidFill>
                  <a:srgbClr val="f5a657"/>
                </a:solidFill>
                <a:latin typeface="Book Antiqua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-com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8240"/>
            <a:ext cx="9144000" cy="23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[Hom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incipais Arquiteturas para aplicações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0040" y="5257800"/>
            <a:ext cx="40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ardo Manuel de Freitas Jorge </a:t>
            </a:r>
            <a:r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emjorge@dsc.ufpb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ferentemente de Banco de Dados as aplicações na Web não são orientadas à conex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 ser implementado mecanismos para garantir o estado da apl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mento no Cli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mpos ocultos nas páginas Web / Cookies.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mento no “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ateway”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mento do estado num só lo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-se aproveitar a característica “statefull” dos SGB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Problemas com o estado da aplicaç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olução adotada para arquitetura cliente/servidor não se adequa a arquitetura “Web-bas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tratar a abertura e encerramento da conexão com o SGB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utilizada na arquitetura cliente/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brir uma nova conexão para cada máquina conectad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Ideal para 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riar um “pool” de conexões compartilhad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artilhar as conexões entre as requisiç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nter as conexões abertas continu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imização de consultas repetidas sobre o SGB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dos em “cach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Problemas com o desempenho do SGBD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Alternativas para acesso à BD na Web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ent-S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plets, ActiveX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rver-S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ependente do “brows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GI, ISAPI, NSAPI, Serv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olução preferida 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Arquitetura “Client-Side” - Cliente Web Estendido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57400" y="2819520"/>
            <a:ext cx="6781680" cy="3352320"/>
            <a:chOff x="2057400" y="2819520"/>
            <a:chExt cx="6781680" cy="3352320"/>
          </a:xfrm>
        </p:grpSpPr>
        <p:sp>
          <p:nvSpPr>
            <p:cNvPr id="97" name=""/>
            <p:cNvSpPr/>
            <p:nvPr/>
          </p:nvSpPr>
          <p:spPr>
            <a:xfrm>
              <a:off x="2057400" y="2819520"/>
              <a:ext cx="6781680" cy="335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2286000" y="2986920"/>
            <a:ext cx="6411960" cy="299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986920"/>
                      <a:ext cx="6411960" cy="299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Client-Side” - Cliente Web Estendido (continuação)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- App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086280"/>
            <a:ext cx="70106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Client-Side” - Cliente Web Estendido (continuação)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0000"/>
          </a:bodyPr>
          <a:p>
            <a:pPr marL="34200" indent="-3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ácil desenvolvime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melhante ao desenvolvimento de sistemas cliente/serv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empenho muito dependente da carga/taxa de transmissão da r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É necessário transportar o código do servidor We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brecarrega o SGBD devido ao grande número de conexões simultâne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tabilidade não é boa porque exige uma extensão no cl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ende da funcionalidade do “brows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blemas com versões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blemas com segurança, pois expõem o Banco de Dados na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servidor de Banco de Dados fica exposto a tentativas de invas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código no “browser” pode fazer ações não desej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Programas Executáveis CGI “Common Gateway Interface”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81080" y="2895480"/>
            <a:ext cx="6934320" cy="2895480"/>
            <a:chOff x="1981080" y="2895480"/>
            <a:chExt cx="6934320" cy="2895480"/>
          </a:xfrm>
        </p:grpSpPr>
        <p:sp>
          <p:nvSpPr>
            <p:cNvPr id="107" name=""/>
            <p:cNvSpPr/>
            <p:nvPr/>
          </p:nvSpPr>
          <p:spPr>
            <a:xfrm>
              <a:off x="1981080" y="2895480"/>
              <a:ext cx="6934320" cy="28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2443320" y="3130200"/>
            <a:ext cx="6207840" cy="242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43320" y="3130200"/>
                      <a:ext cx="6207840" cy="24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Programas Executáveis CGI (continuação)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pic>
        <p:nvPicPr>
          <p:cNvPr id="111" name="cgi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66756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Programas Executáveis CGI (continuação)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0000"/>
          </a:bodyPr>
          <a:p>
            <a:pPr marL="34200" indent="-3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rrige todos os problemas da arquitetura “Cliente-Sid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tável entre servidores Web (desde que seja no mesmo S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grama CGI executa como processo indepen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ent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üenta poucos usu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urança limi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programa executável na máquina que está rodando o Servidor HTTP pode ser bastante ofen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ravamento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ções indesejáveis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Is Proprietárias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57400" y="2819520"/>
            <a:ext cx="6705720" cy="3428640"/>
            <a:chOff x="2057400" y="2819520"/>
            <a:chExt cx="6705720" cy="3428640"/>
          </a:xfrm>
        </p:grpSpPr>
        <p:sp>
          <p:nvSpPr>
            <p:cNvPr id="116" name=""/>
            <p:cNvSpPr/>
            <p:nvPr/>
          </p:nvSpPr>
          <p:spPr>
            <a:xfrm>
              <a:off x="2057400" y="2819520"/>
              <a:ext cx="6705720" cy="342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258280" y="3171240"/>
            <a:ext cx="6390000" cy="281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58280" y="3171240"/>
                      <a:ext cx="6390000" cy="28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1581120" y="1905120"/>
            <a:ext cx="73918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 ISAPI, NS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axe semelhante a CGI mas carregam uma DLL no servidor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Tópicos abordados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olução Arquitetural dos sistemas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antagens em utilizar Clientes “mag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quitetura básica d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e Banc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g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blemas a serem g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 arquiteturas para acesso à BD na Web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quitetura em 3 C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Is Proprietárias (continuação)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pic>
        <p:nvPicPr>
          <p:cNvPr id="121" name="isapi" descr=""/>
          <p:cNvPicPr/>
          <p:nvPr/>
        </p:nvPicPr>
        <p:blipFill>
          <a:blip r:embed="rId1"/>
          <a:stretch/>
        </p:blipFill>
        <p:spPr>
          <a:xfrm>
            <a:off x="2181240" y="2685960"/>
            <a:ext cx="627696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Is Proprietárias (continuação)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1000"/>
          </a:bodyPr>
          <a:p>
            <a:pPr marL="37440" indent="-37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rrige todos os problemas da arquitetura “Cliente-Sid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Ótimo desempenho (requisições são tratadas como um “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ad”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o mesmo processo do servidor Web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hread” separado para cada consu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ção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ito mais usuários concorr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portável entre servidores We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API para o - Internet Information Serve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SAPI para o - Netscape Web Serv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uca segurança e confiabilidade (aplicações podem derrubar o servidor Web por rodarem no mesmo process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licação SSI (Scripts Server-Side )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8600" y="1905120"/>
            <a:ext cx="351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 Soluções: ASP e 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3352680"/>
            <a:ext cx="6705720" cy="2590560"/>
            <a:chOff x="2209680" y="3352680"/>
            <a:chExt cx="6705720" cy="2590560"/>
          </a:xfrm>
        </p:grpSpPr>
        <p:sp>
          <p:nvSpPr>
            <p:cNvPr id="127" name=""/>
            <p:cNvSpPr/>
            <p:nvPr/>
          </p:nvSpPr>
          <p:spPr>
            <a:xfrm>
              <a:off x="2209680" y="3352680"/>
              <a:ext cx="6705720" cy="25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2336040" y="3530880"/>
            <a:ext cx="6482880" cy="223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6040" y="3530880"/>
                      <a:ext cx="6482880" cy="22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licação SSI (continuação)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"/>
          </a:bodyPr>
          <a:p>
            <a:pPr marL="27360" indent="-273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tive Server Page (A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cnologia Microso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ó funciona no I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cripts = VBScript ou J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onentes = Activ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esso a Banco de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" indent="-180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tiveX Data Object (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ava Server Page (J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ndo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" indent="-180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dependência de platafo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cripts = Java (não JavaScrip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ilação resulta em um 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onentes = JavaB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400" indent="-226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esso a Banco de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" indent="-1800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DBC (com ou sem uso de Be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5a657"/>
                </a:solidFill>
                <a:latin typeface="Arial"/>
              </a:rPr>
              <a:t>Sever-Side” - Aplicação SSI (continuação)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1000"/>
          </a:bodyPr>
          <a:p>
            <a:pPr marL="37440" indent="-37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nvolvimento relativamente fácil (não precisa de compilad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tenção fácil (basta atualizar a págin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ém as mesmas vantagens da Arquitetura AP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ite isolar HTML da programação de acesso ao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is tipos de técnicos (Programador de BD e Programador 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Desempenho pode ser ruim por que é interpret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eiro acesso compila a mistura de HTML e script na pá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portável entre servidores W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5a657"/>
                </a:solidFill>
                <a:latin typeface="Arial"/>
              </a:rPr>
              <a:t>Arquitetura Ideal 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f5a657"/>
                </a:solidFill>
                <a:latin typeface="Arial"/>
              </a:rPr>
              <a:t>“Escalável e que permita reutilizar código”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: combinar HTML com scripts e com a tecnologia de compon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Arquitetura em 3 Cam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quitetura 3-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ada 1: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ada 2: Servidor Web e de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ada 3: PC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aplicação roda no meio com Server-Side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separar camada 2 em duas camadas (Web + Aplic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3200" y="3884760"/>
            <a:ext cx="555300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olução Arquitetural d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590920"/>
            <a:ext cx="6248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5480" y="214776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ução arquitetural dos sistemas comput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2590920"/>
            <a:ext cx="0" cy="609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590920"/>
            <a:ext cx="0" cy="609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2590920"/>
            <a:ext cx="0" cy="609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352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140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1760" y="3352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2590920"/>
            <a:ext cx="0" cy="609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2760" y="3276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3320" y="41148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quitetura 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9080" y="48006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quitetura cliente-servidor 2-c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32800" y="609588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quitetura cliente-servidor n-camadas, Web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743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21337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800600"/>
            <a:ext cx="2971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7040" y="55008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quitetura cliente-servidor 3-c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486400"/>
            <a:ext cx="2971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743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6095880"/>
            <a:ext cx="41911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7360" y="2362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ntage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utilizar Clie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3880" y="213372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icações devem rodar em Clientes magros (celulares, palmtop, etc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s clientes podem ter um baixo poder de processamento e pouca memória 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nor C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Cliente Universal reduz custos de treinamento, manutenção e distribuição de vers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quitetura básica da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ervidor" descr=""/>
          <p:cNvPicPr/>
          <p:nvPr/>
        </p:nvPicPr>
        <p:blipFill>
          <a:blip r:embed="rId1"/>
          <a:stretch/>
        </p:blipFill>
        <p:spPr>
          <a:xfrm>
            <a:off x="1600200" y="2163600"/>
            <a:ext cx="716292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5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a657"/>
                </a:solidFill>
                <a:latin typeface="Arial"/>
              </a:rPr>
              <a:t>Web e Banco de Dado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Por que integrar a Web com Banco de Dados?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mitir que dados de SGBDs sejam dispostos na We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mecanismos tradicionais de acesso aos dados em arquivos não s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fic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fi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aláveis;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surgimento cada vez maior de aplicações de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poio à deci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aseados na Web, que utilizam dados extraídos dos SGB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Ambiente típico de integração </a:t>
            </a:r>
            <a:br>
              <a:rPr sz="2000"/>
            </a:b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resença de um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Gatewa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necessária para viabilizar o acesso ao SG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arquitetura da Web não oferece suporte direto a acesso a banco de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09680" y="4267080"/>
            <a:ext cx="6553440" cy="1828800"/>
            <a:chOff x="2209680" y="4267080"/>
            <a:chExt cx="6553440" cy="1828800"/>
          </a:xfrm>
        </p:grpSpPr>
        <p:sp>
          <p:nvSpPr>
            <p:cNvPr id="84" name=""/>
            <p:cNvSpPr/>
            <p:nvPr/>
          </p:nvSpPr>
          <p:spPr>
            <a:xfrm>
              <a:off x="2209680" y="4267080"/>
              <a:ext cx="655344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332080" y="4424040"/>
            <a:ext cx="6247080" cy="15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2080" y="4424040"/>
                      <a:ext cx="6247080" cy="15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olher a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inguagem de program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rquitetur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propri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tabi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empenh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alabi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gur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uten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rendizagem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empenho do amb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ande potencial de usuários concorren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lanceamento de Ca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a657"/>
                </a:solidFill>
                <a:latin typeface="Arial"/>
              </a:rPr>
              <a:t>Requisitos necessários para integração</a:t>
            </a:r>
            <a:endParaRPr b="1" lang="en-US" sz="2000" spc="-1" strike="noStrike">
              <a:solidFill>
                <a:srgbClr val="f5a65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09:25:51Z</dcterms:created>
  <dc:creator>Lucia</dc:creator>
  <dc:description/>
  <dc:language>en-US</dc:language>
  <cp:lastModifiedBy>.</cp:lastModifiedBy>
  <cp:lastPrinted>1999-10-05T13:12:05Z</cp:lastPrinted>
  <dcterms:modified xsi:type="dcterms:W3CDTF">2001-07-14T05:17:17Z</dcterms:modified>
  <cp:revision>532</cp:revision>
  <dc:subject/>
  <dc:title>Seminário DS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ampina_Grande\Seminario_PostgreSQ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