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9C6-0CB1-4462-B530-EE542230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411444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EF0-0BBA-4BA5-90C9-228B9D17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41144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41144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394-B9DB-415D-84CD-3D116B31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4475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4475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411444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411444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411444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EB6-72B6-4690-81A1-C1D357A8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AE00-0BC9-4DC3-92F2-7314FC12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F276-5DED-4ED1-AFEF-28F4CBA9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2DA-0C03-4FD8-8576-44881B61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F4C-D2F2-4770-B72E-054AA005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056-469B-4F22-B621-19003BA2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41144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E31-99FC-4C00-B565-70A7DABD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41144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B4F3-AC3F-4EB5-AA8F-D593A4FB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4475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411444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801E-4096-42A9-B187-DB997253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file:///Planejamento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632640"/>
            <a:ext cx="9144000" cy="23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[Home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a657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5a65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57828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DBE3-C2D2-478C-905E-D647507BDC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7640"/>
            <a:ext cx="9144000" cy="439560"/>
          </a:xfrm>
          <a:prstGeom prst="rect">
            <a:avLst/>
          </a:prstGeom>
          <a:solidFill>
            <a:srgbClr val="f5a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0"/>
            <a:ext cx="1600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pt-BR" sz="2400" spc="-1" strike="noStrike">
                <a:solidFill>
                  <a:srgbClr val="f5a657"/>
                </a:solidFill>
                <a:latin typeface="Book Antiqua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-comm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5a657"/>
                </a:solidFill>
                <a:latin typeface="Arial"/>
              </a:rPr>
              <a:t>Comércio Eletrônico II:</a:t>
            </a:r>
            <a:br>
              <a:rPr sz="3600"/>
            </a:br>
            <a:r>
              <a:rPr b="1" lang="pt-BR" sz="3600" spc="-1" strike="noStrike">
                <a:solidFill>
                  <a:srgbClr val="f5a657"/>
                </a:solidFill>
                <a:latin typeface="Arial"/>
              </a:rPr>
              <a:t>Estudo de Caso: </a:t>
            </a:r>
            <a:r>
              <a:rPr b="0" i="1" lang="en-US" sz="3600" spc="-1" strike="noStrike">
                <a:solidFill>
                  <a:srgbClr val="ff3300"/>
                </a:solidFill>
                <a:latin typeface="Arial Black"/>
              </a:rPr>
              <a:t>Criativa We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uardo Jorge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partamento de Sistemas e Computação - UF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600200"/>
            <a:ext cx="7467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periência com Software de Gest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utomação do processo de cotação de  pre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fra-estrutura de comunicação acessível (Intern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udo das tecnologias para desenvolvimento de sistemas par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pirito empreende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80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5a657"/>
                </a:solidFill>
                <a:latin typeface="Arial"/>
              </a:rPr>
              <a:t>Como Surgiu a Idé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600200"/>
            <a:ext cx="7467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madurecimento do Prod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lano de Negó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4572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5a657"/>
                </a:solidFill>
                <a:latin typeface="Arial"/>
              </a:rPr>
              <a:t>Curso de Empreendedor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600200"/>
            <a:ext cx="7467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mpresa de desenvolvimento de software para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amo do Negó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nda, aluguel e consultoria de sistemas na área de Gestão Empresa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co em B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teira de produtos com características de "workflow" que interligará empresas (Clientes e Fornec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rganizações situadas em Salvador 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572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5a657"/>
                </a:solidFill>
                <a:latin typeface="Arial"/>
              </a:rPr>
              <a:t>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600200"/>
            <a:ext cx="7467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ioneirismo no Norde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FPB (centro tecnológ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cerias em Salvador (software houses especializadas em sistemas na área de Gestão Empresa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geCo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PT* (estratégia de marketing Cotação + SG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4572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5a657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600200"/>
            <a:ext cx="7467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d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tação-ON (implantaç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icitação-ON (desenvolvi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j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onde esta seu blo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nLeil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domí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4572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5a657"/>
                </a:solidFill>
                <a:latin typeface="Arial"/>
              </a:rPr>
              <a:t>Principais Prod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1600200"/>
            <a:ext cx="7467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ercialização do Cotação-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gração com o S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lantação do Licitação-ON na UFP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envolvimento do G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ruturação da área de desenvolvimento em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4572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5a657"/>
                </a:solidFill>
                <a:latin typeface="Arial"/>
              </a:rPr>
              <a:t>Futu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5T19:32:12Z</dcterms:created>
  <dc:creator>Hilmer Rodrigues Neri</dc:creator>
  <dc:description/>
  <dc:language>en-US</dc:language>
  <cp:lastModifiedBy>.</cp:lastModifiedBy>
  <dcterms:modified xsi:type="dcterms:W3CDTF">2001-07-14T05:00:27Z</dcterms:modified>
  <cp:revision>273</cp:revision>
  <dc:subject/>
  <dc:title>UNIVERSIDADE FEDERAL DA PARAÍBA CENTRO DE CIÊNCIA E TECNOLOGIA COPIN – Coordena  </dc:title>
</cp:coreProperties>
</file>