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590-8256-4BBC-8FF1-D3DAE15B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A48-F2E1-438A-8EA4-A926093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1E9-3EED-442E-95D7-8BA10E2E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6DE-5B92-4689-9193-0DC61361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9E3-140A-4272-B1BF-BA987CE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23A-0A8A-4024-8B12-B9A1F3B1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FF1-62C4-4073-8D63-0ECDCAB7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D69-D22E-4B24-B2ED-1C53EC75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7B4-81DA-416F-AD53-FD1D5E65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9B3-16A9-46EF-A571-C33FC7B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1C6-CB43-4E77-BAD1-F25C71D2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DA3-A426-4CC1-A179-39351C2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3CA5-0793-485F-A17E-C9EB557837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676520"/>
            <a:ext cx="1371600" cy="1828800"/>
          </a:xfrm>
          <a:prstGeom prst="cube">
            <a:avLst>
              <a:gd name="adj" fmla="val 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quina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286000"/>
            <a:ext cx="762120" cy="1066680"/>
            <a:chOff x="380880" y="2286000"/>
            <a:chExt cx="762120" cy="1066680"/>
          </a:xfrm>
        </p:grpSpPr>
        <p:grpSp>
          <p:nvGrpSpPr>
            <p:cNvPr id="45" name=""/>
            <p:cNvGrpSpPr/>
            <p:nvPr/>
          </p:nvGrpSpPr>
          <p:grpSpPr>
            <a:xfrm>
              <a:off x="380880" y="2286000"/>
              <a:ext cx="762120" cy="1066680"/>
              <a:chOff x="380880" y="2286000"/>
              <a:chExt cx="762120" cy="1066680"/>
            </a:xfrm>
          </p:grpSpPr>
          <p:sp>
            <p:nvSpPr>
              <p:cNvPr id="46" name=""/>
              <p:cNvSpPr/>
              <p:nvPr/>
            </p:nvSpPr>
            <p:spPr>
              <a:xfrm>
                <a:off x="380880" y="2286000"/>
                <a:ext cx="7621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80880" y="2286000"/>
                <a:ext cx="762120" cy="228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80880" y="2590560"/>
              <a:ext cx="7621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Consultas Adho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133720" y="1600200"/>
            <a:ext cx="3276360" cy="2743200"/>
          </a:xfrm>
          <a:prstGeom prst="cube">
            <a:avLst>
              <a:gd name="adj" fmla="val 409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quina Servidor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2362320"/>
            <a:ext cx="762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2320"/>
            <a:ext cx="7621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75436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1337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13372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038480" y="2895480"/>
            <a:ext cx="914040" cy="761400"/>
            <a:chOff x="4038480" y="2895480"/>
            <a:chExt cx="914040" cy="761400"/>
          </a:xfrm>
        </p:grpSpPr>
        <p:sp>
          <p:nvSpPr>
            <p:cNvPr id="56" name=""/>
            <p:cNvSpPr/>
            <p:nvPr/>
          </p:nvSpPr>
          <p:spPr>
            <a:xfrm>
              <a:off x="4038480" y="3047400"/>
              <a:ext cx="914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liente Cotaç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38480" y="2895480"/>
              <a:ext cx="456840" cy="15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886200" y="2666880"/>
            <a:ext cx="1143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Servlet/J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5680" y="24382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3160" y="2743200"/>
            <a:ext cx="7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514600"/>
            <a:ext cx="2057400" cy="9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C.j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2286000"/>
            <a:ext cx="76212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0160" y="243828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JRUN Servic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541008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5257800"/>
            <a:ext cx="7621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040" y="39625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886200"/>
            <a:ext cx="152280" cy="30492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9680" y="38088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ojeto Arquite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3120" y="5486400"/>
            <a:ext cx="62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3333cc"/>
                </a:solidFill>
                <a:latin typeface="Times New Roman"/>
              </a:rPr>
              <a:t>SG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541008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5410080"/>
            <a:ext cx="7621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57913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Inter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1447920"/>
            <a:ext cx="2971800" cy="2133360"/>
          </a:xfrm>
          <a:prstGeom prst="cube">
            <a:avLst>
              <a:gd name="adj" fmla="val 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quina Servidor de Aplic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419720"/>
            <a:ext cx="3429000" cy="2133360"/>
          </a:xfrm>
          <a:prstGeom prst="cube">
            <a:avLst>
              <a:gd name="adj" fmla="val 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quina de Banco de D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3800" y="25146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17:59:21Z</dcterms:created>
  <dc:creator>Eduardo</dc:creator>
  <dc:description/>
  <dc:language>en-US</dc:language>
  <cp:lastModifiedBy>.</cp:lastModifiedBy>
  <dcterms:modified xsi:type="dcterms:W3CDTF">2001-07-14T04:49:06Z</dcterms:modified>
  <cp:revision>29</cp:revision>
  <dc:subject/>
  <dc:title>Slide sem título </dc:title>
</cp:coreProperties>
</file>