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740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68560" y="0"/>
            <a:ext cx="295776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pt-B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65160" y="687240"/>
            <a:ext cx="489600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09720" y="4589280"/>
            <a:ext cx="50068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178920"/>
            <a:ext cx="295740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pt-B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68560" y="9178920"/>
            <a:ext cx="295776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pt-B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521E6F4E-E28A-4F7F-8DCA-175B335BD98B}" type="slidenum"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68560" y="9178920"/>
            <a:ext cx="295776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F31F8BE4-BE2A-4EA9-BE17-EBC03F27DB5D}" type="slidenum"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9178920"/>
            <a:ext cx="295740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0"/>
            <a:ext cx="295740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68560" y="0"/>
            <a:ext cx="2957760" cy="45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FB1-F8B7-429A-BD0F-893F0B2B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251-50CD-42DA-85FA-35F8D8F6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E7A-DE10-4DF9-BC26-026D8F0F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794-1C00-45D8-8BB2-D10FF810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E75-1327-489D-B6AF-62EEA7CB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6AE6-A25B-4069-BC25-DB0D4F9D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B52-A8FC-4DD4-9B86-E40A4184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6B7-7F27-4CFA-ACDE-7C7339BE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00D-C64A-4CFE-AB08-ADAE29C1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378-A7D0-4059-B68E-8A625B26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BC3-D394-445F-B0AC-5FD5DFD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755-9A5B-4712-8BCA-93EFBD61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50A5-961D-405D-8EB3-843F82F3668A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56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8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009800" y="1495440"/>
            <a:ext cx="7124400" cy="282888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60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Orientação à Objetos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(Parte II)</a:t>
            </a:r>
            <a:r>
              <a:rPr b="1" lang="pt-BR" sz="60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62240" y="4921200"/>
            <a:ext cx="6419160" cy="1076400"/>
            <a:chOff x="1362240" y="4921200"/>
            <a:chExt cx="6419160" cy="1076400"/>
          </a:xfrm>
        </p:grpSpPr>
        <p:sp>
          <p:nvSpPr>
            <p:cNvPr id="60" name=""/>
            <p:cNvSpPr/>
            <p:nvPr/>
          </p:nvSpPr>
          <p:spPr>
            <a:xfrm>
              <a:off x="1380960" y="492120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Profs.:</a:t>
              </a: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62240" y="493092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Arial"/>
                </a:rPr>
                <a:t>Profs.: 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8EA-3144-4EBD-AC0D-210C0B85C4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11200" y="1779480"/>
            <a:ext cx="8229600" cy="4530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m C++, as </a:t>
            </a:r>
            <a:r>
              <a:rPr b="1" lang="pt-BR" sz="2800" spc="-1" strike="noStrike">
                <a:solidFill>
                  <a:srgbClr val="ff9900"/>
                </a:solidFill>
                <a:latin typeface="Arial"/>
              </a:rPr>
              <a:t>classe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permitem ao programador definir novos tipos de d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a classe é semelhante a uma estrutura, e é usada para permitir a criação de obje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s classes podem ser declaradas pelas palavras-chave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STRUCT, UNION 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a instância de estrutura ou união é dita uma variável; uma instância de classe é dita um objeto. Ou seja,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um objeto é uma variável do tipo class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s funções declaradas internamente à classe são chamadas de </a:t>
            </a: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funções-membr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podem operar em qualquer das variáveis definidas na clas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1800" y="1260360"/>
            <a:ext cx="401652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Penguin"/>
              </a:rPr>
              <a:t>Declaração de Class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BED-6D5C-427B-9502-AF7860FD4C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419040" y="1663560"/>
            <a:ext cx="8305920" cy="4077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Um programa que utiliza uma interface controladora de um motor elétrico provavelmente definiria a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classe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otor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s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atribut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desta classe seriam: temperatura, velocidade, tensão aplicada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tabLst>
                <a:tab algn="l" pos="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tes provavelmente seriam representados na classe por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tipo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como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float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u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long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s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funções-membr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desta classe seriam funções para alterar a velocidade, ler a temperatura, etc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53F-D101-4DBF-9F5D-FABEBBA61C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1327320"/>
            <a:ext cx="3657600" cy="514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1- Encapsul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590400" y="2057400"/>
            <a:ext cx="6172200" cy="4952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Definição de Classe :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lass &lt;Nome da classe&gt; 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Objetos ou Instânci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Métodos e Atribut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Visibilidad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Associação e Agregaç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427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"/>
              <a:tabLst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Construtores e Destruto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5120" y="2521080"/>
            <a:ext cx="5075280" cy="35938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77640" y="1665360"/>
            <a:ext cx="8445240" cy="466560"/>
          </a:xfrm>
          <a:prstGeom prst="rect">
            <a:avLst/>
          </a:prstGeom>
          <a:noFill/>
          <a:ln w="0">
            <a:noFill/>
          </a:ln>
          <a:effectLst>
            <a:outerShdw dist="28496" dir="1462552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cc66"/>
                </a:solidFill>
                <a:latin typeface="Arial"/>
              </a:rPr>
              <a:t>Forma geral de declaração de uma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</a:rPr>
              <a:t>classe</a:t>
            </a:r>
            <a:r>
              <a:rPr b="1" lang="pt-BR" sz="3000" spc="-1" strike="noStrike">
                <a:solidFill>
                  <a:srgbClr val="ffcc66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647640" y="2543040"/>
            <a:ext cx="510552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476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class </a:t>
            </a:r>
            <a:r>
              <a:rPr b="0" i="1" lang="pt-BR" sz="2400" spc="-1" strike="noStrike">
                <a:solidFill>
                  <a:srgbClr val="010199"/>
                </a:solidFill>
                <a:latin typeface="Arial Black"/>
              </a:rPr>
              <a:t>nome-da-classe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 {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476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10199"/>
                </a:solidFill>
                <a:latin typeface="Arial Black"/>
              </a:rPr>
              <a:t>dados e funções privada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476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public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476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10199"/>
                </a:solidFill>
                <a:latin typeface="Arial Black"/>
              </a:rPr>
              <a:t>dados e funções publica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476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} </a:t>
            </a:r>
            <a:r>
              <a:rPr b="0" i="1" lang="pt-BR" sz="2400" spc="-1" strike="noStrike">
                <a:solidFill>
                  <a:srgbClr val="010199"/>
                </a:solidFill>
                <a:latin typeface="Arial Black"/>
              </a:rPr>
              <a:t>lista de objetos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EEE-0AFB-4F60-8F82-A92E19BF37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324480" y="121932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"/>
              </a:rPr>
              <a:t>Atribut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1638360" y="324000"/>
            <a:ext cx="5981760" cy="723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Classe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69880" y="961920"/>
            <a:ext cx="5735520" cy="3642840"/>
            <a:chOff x="569880" y="961920"/>
            <a:chExt cx="5735520" cy="3642840"/>
          </a:xfrm>
        </p:grpSpPr>
        <p:grpSp>
          <p:nvGrpSpPr>
            <p:cNvPr id="133" name=""/>
            <p:cNvGrpSpPr/>
            <p:nvPr/>
          </p:nvGrpSpPr>
          <p:grpSpPr>
            <a:xfrm>
              <a:off x="569880" y="1225440"/>
              <a:ext cx="5011560" cy="3346200"/>
              <a:chOff x="569880" y="1225440"/>
              <a:chExt cx="5011560" cy="3346200"/>
            </a:xfrm>
          </p:grpSpPr>
          <p:sp>
            <p:nvSpPr>
              <p:cNvPr id="134" name=""/>
              <p:cNvSpPr/>
              <p:nvPr/>
            </p:nvSpPr>
            <p:spPr>
              <a:xfrm>
                <a:off x="569880" y="1225440"/>
                <a:ext cx="5011560" cy="3346200"/>
              </a:xfrm>
              <a:prstGeom prst="rect">
                <a:avLst/>
              </a:prstGeom>
              <a:gradFill rotWithShape="0">
                <a:gsLst>
                  <a:gs pos="0">
                    <a:srgbClr val="ffffdf"/>
                  </a:gs>
                  <a:gs pos="100000">
                    <a:srgbClr val="fff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0840" y="1847520"/>
                <a:ext cx="3333600" cy="10670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flipV="1">
              <a:off x="4171680" y="1562040"/>
              <a:ext cx="2133720" cy="876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1720" y="9619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1720" y="1525680"/>
              <a:ext cx="182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class fila 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42600" y="15256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58280" y="2090880"/>
              <a:ext cx="1677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int q[100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28680" y="20908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58280" y="2368440"/>
              <a:ext cx="228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int sloc, rloc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36720" y="23684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58640" y="26463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58640" y="2924280"/>
              <a:ext cx="106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public: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22080" y="29242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58640" y="3203640"/>
              <a:ext cx="243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void init(void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7200" y="32036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58280" y="3481560"/>
              <a:ext cx="2591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void qput(int i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39840" y="34815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58640" y="3759120"/>
              <a:ext cx="243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int qget (void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7200" y="37591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8280" y="403704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}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63200" y="40370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3520" y="436104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69880" y="5181480"/>
            <a:ext cx="2732040" cy="68580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214960"/>
            <a:ext cx="1733400" cy="584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14440" y="5065560"/>
            <a:ext cx="160992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495000" y="491004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1868400" y="519912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2309400" y="548784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2768400" y="56307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1050840" y="577368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1852200" y="59151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2882520" y="605952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2997000" y="620244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2882520" y="63435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96800" y="66517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723960" y="5315040"/>
            <a:ext cx="32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la a, b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286160" y="483876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Cria duas variáveis com os membros definidos.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6D4-28E4-41EB-BEDB-3280A67200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340080" y="5111640"/>
            <a:ext cx="4705200" cy="14605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829880"/>
            <a:ext cx="8229600" cy="3108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ntes de usar realmente uma classe, todos os seus membros têm de ser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a declaração de fila usamos protótipos para definir as funções-memb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Quando se codifica a função membro, deve-se indicar a qual class esta função pertence. Para isso usa-se o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operador ::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chamado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operador de escopo de resoluç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3402000" y="5083200"/>
            <a:ext cx="443232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55680" indent="-176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void fila::qput (int i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55680" indent="-176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55680" indent="-176400" algn="just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55680" indent="-1764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361800" y="1127160"/>
            <a:ext cx="554040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Penguin"/>
              </a:rPr>
              <a:t>Declaração de Funções-membr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18E-2339-4FA7-B43F-85F182365A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43080" y="1003320"/>
            <a:ext cx="8356320" cy="952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 algn="just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Um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objeto</a:t>
            </a: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 ou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instância</a:t>
            </a: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 de uma classe é a criação de uma “variável” ou objeto da classe.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1581120" y="5724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Objetos ou Instânci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355680" y="21528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12840" indent="-3128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Instância Estática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93440" indent="-2444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hamada de método ou atribut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42440" indent="-39096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&lt;objeto&gt;.&lt;nome do método&gt;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355680" y="3657600"/>
            <a:ext cx="7772400" cy="2717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430920" indent="-4309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Instância Dinâmica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874440" indent="-2692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bjetos criados em tempo de execu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74440" indent="-2692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evem ser destruídos após o us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74440" indent="-2692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perador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 e 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74440" indent="-26928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hamada de método ou atribut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21200" indent="-26496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SzPct val="7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&lt;objeto&gt; -&gt; &lt;nome do método&gt;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23B-034F-4544-B3E3-3DDDDB2531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913120" y="4368960"/>
            <a:ext cx="2782800" cy="14983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ara chamar uma função membro de uma parte do programa que não faz parte da </a:t>
            </a:r>
            <a:r>
              <a:rPr b="1" i="1" lang="pt-BR" sz="2800" spc="-1" strike="noStrike">
                <a:solidFill>
                  <a:srgbClr val="ffcc66"/>
                </a:solidFill>
                <a:latin typeface="Arial"/>
              </a:rPr>
              <a:t>clas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devemos usar o nome do objeto e o operador po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o exemplo a declaração chama a função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init(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para o objeto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</a:rPr>
              <a:t>a </a:t>
            </a:r>
            <a:br>
              <a:rPr sz="2400"/>
            </a:b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ila a, b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.init()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0B7-53ED-4A19-8F42-54FC2CFE64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324480" y="1943280"/>
            <a:ext cx="22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"/>
              </a:rPr>
              <a:t>Inicializa os membr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1638360" y="324000"/>
            <a:ext cx="5981760" cy="723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Classe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398520" y="1797120"/>
            <a:ext cx="3259080" cy="36892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152800"/>
            <a:ext cx="2590560" cy="1199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448080" y="2437920"/>
            <a:ext cx="2762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622080" y="168588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3617640" y="26733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1339560" y="295128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23880" y="43610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876240" y="3652920"/>
            <a:ext cx="2171880" cy="147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28840" y="4132440"/>
            <a:ext cx="246708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1852200" y="59151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2882520" y="605952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2997000" y="620244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2882520" y="63435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496800" y="66517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209680"/>
            <a:ext cx="2229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.sloc=0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.sloc=0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1009800" y="3905280"/>
            <a:ext cx="247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.qput(2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.qput(2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6058080" y="3809880"/>
            <a:ext cx="26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"/>
              </a:rPr>
              <a:t>Armazenar valores na fil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800-CB61-40DE-9128-10F18FDC95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74840" y="1015920"/>
            <a:ext cx="6935760" cy="530856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895320" y="0"/>
            <a:ext cx="74296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Classe e Obje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62040" y="1130400"/>
            <a:ext cx="6670800" cy="503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C04-84C5-4EB7-A83D-E0EA32815F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7680" y="571680"/>
            <a:ext cx="8591400" cy="5810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"/>
          <p:cNvSpPr/>
          <p:nvPr/>
        </p:nvSpPr>
        <p:spPr>
          <a:xfrm>
            <a:off x="808200" y="579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11040" y="831960"/>
          <a:ext cx="8388360" cy="5302080"/>
        </p:xfrm>
        <a:graphic>
          <a:graphicData uri="http://schemas.openxmlformats.org/drawingml/2006/table">
            <a:tbl>
              <a:tblPr/>
              <a:tblGrid>
                <a:gridCol w="1984320"/>
                <a:gridCol w="6404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do que é encontrado no mundo real. É uma denominação dada a uma abstração, segundo suas similaridades e diferenç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ção de objetos similares em suas funções e operaçõe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classe e Subcl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objetos pertencem a classes de objetos, estas podem incluir subconjuntos chamados de subclasse, sendo a classe maior a superclasse. (Ex.: Sistemas e programas; Extrato bancário e débito/crédito 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ção e Generaliz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objetos de classes únicas sem subclasses são os primeiros, já em segundo lugar vêm as diversas superclasses. (Letras/Números ocidentais e grafia escrita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uma característica do objeto (Extensão de nome de arquivo; Salário mínimo; Banco de dados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ânc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o atributo definido no momento (TAB001.TXT ; 130,00 ; João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g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o envio de um atributo a um objeto que resulta na alteração de seu comportament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808200" y="56833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"/>
          <p:cNvSpPr/>
          <p:nvPr/>
        </p:nvSpPr>
        <p:spPr>
          <a:xfrm>
            <a:off x="95400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2A2-D86C-4CB9-90D8-4A0880004C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74840" y="768240"/>
            <a:ext cx="6935760" cy="55562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3040" y="930240"/>
            <a:ext cx="8119800" cy="5245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95320" y="0"/>
            <a:ext cx="74296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Classe e Obje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BEC-7083-4163-AE22-226DC03B7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74840" y="787320"/>
            <a:ext cx="8250120" cy="553716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3320" y="911160"/>
            <a:ext cx="8086680" cy="5224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95320" y="0"/>
            <a:ext cx="74296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Classe e Obje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5753160" y="2305080"/>
            <a:ext cx="2666880" cy="2838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é uma variável (instância) do tipo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Fil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OBJETO, porque a classe Fila descreve uma estrutura que o caracteriza e métodos que o manipulam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1962000" y="1714680"/>
            <a:ext cx="3695760" cy="9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403-D724-4957-8103-783A71F61E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739880" y="1066680"/>
            <a:ext cx="4876920" cy="50929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1581120" y="5724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Objetos ou Instânci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1892160" y="1120680"/>
            <a:ext cx="47214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void main(void){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double l=0,t=1,r=1,b=0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map NovoMapa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NovoMapa.zoom(l,t,r,b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 Black"/>
              </a:rPr>
              <a:t>ifmap *Arquivo = new ifmap(“mapa1”);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delete m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Arquivo-&gt;read(new map)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5695920" y="1600200"/>
            <a:ext cx="1378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370"/>
              <a:gd name="adj5" fmla="val 59375"/>
              <a:gd name="adj6" fmla="val -115666"/>
            </a:avLst>
          </a:prstGeom>
          <a:solidFill>
            <a:srgbClr val="ffffcc"/>
          </a:solidFill>
          <a:ln w="22320">
            <a:solidFill>
              <a:srgbClr val="cc3300"/>
            </a:solidFill>
            <a:miter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Instância Estática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6064200" y="2482920"/>
            <a:ext cx="1378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8273"/>
              <a:gd name="adj5" fmla="val 113541"/>
              <a:gd name="adj6" fmla="val -163134"/>
            </a:avLst>
          </a:prstGeom>
          <a:solidFill>
            <a:srgbClr val="ffffcc"/>
          </a:solidFill>
          <a:ln w="22320">
            <a:solidFill>
              <a:srgbClr val="cc3300"/>
            </a:solidFill>
            <a:miter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Instância Dinâmica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190440" y="2082960"/>
            <a:ext cx="1378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1245"/>
              <a:gd name="adj5" fmla="val 84375"/>
              <a:gd name="adj6" fmla="val 233638"/>
            </a:avLst>
          </a:prstGeom>
          <a:solidFill>
            <a:srgbClr val="ffffcc"/>
          </a:solidFill>
          <a:ln w="22320">
            <a:solidFill>
              <a:srgbClr val="cc3300"/>
            </a:solidFill>
            <a:miter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Chamada de Método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4908600" y="3460680"/>
            <a:ext cx="13780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6291"/>
              <a:gd name="adj5" fmla="val 72916"/>
              <a:gd name="adj6" fmla="val -120277"/>
            </a:avLst>
          </a:prstGeom>
          <a:solidFill>
            <a:srgbClr val="ffffcc"/>
          </a:solidFill>
          <a:ln w="22320">
            <a:solidFill>
              <a:srgbClr val="cc3300"/>
            </a:solidFill>
            <a:miter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Eliminação do “Lixo”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177840" y="4394160"/>
            <a:ext cx="1378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2833"/>
              <a:gd name="adj5" fmla="val 116666"/>
              <a:gd name="adj6" fmla="val 206453"/>
            </a:avLst>
          </a:prstGeom>
          <a:solidFill>
            <a:srgbClr val="ffffcc"/>
          </a:solidFill>
          <a:ln w="22320">
            <a:solidFill>
              <a:srgbClr val="cc3300"/>
            </a:solidFill>
            <a:miter/>
          </a:ln>
          <a:effectLst>
            <a:outerShdw dist="2556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Chamada de Método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5765760" y="5587920"/>
            <a:ext cx="2413080" cy="647640"/>
          </a:xfrm>
          <a:prstGeom prst="wedgeRectCallout">
            <a:avLst>
              <a:gd name="adj1" fmla="val -71120"/>
              <a:gd name="adj2" fmla="val -97550"/>
            </a:avLst>
          </a:prstGeom>
          <a:solidFill>
            <a:srgbClr val="ffffcc"/>
          </a:solidFill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10199"/>
                </a:solidFill>
                <a:latin typeface="Arial"/>
              </a:rPr>
              <a:t>A própria função deve cuidar do “Lixo”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AE0-CB09-46F3-810A-F636E0A813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03440" y="1073160"/>
            <a:ext cx="7812000" cy="51944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1581120" y="5724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Métod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14240" y="1168560"/>
            <a:ext cx="8182080" cy="5033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876240" y="5543640"/>
            <a:ext cx="2533680" cy="590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5200560" y="5048280"/>
            <a:ext cx="2286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métod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504960" y="5429160"/>
            <a:ext cx="1638360" cy="34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2E8-1664-4631-BE28-697E3B3BAB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50800" y="2463840"/>
            <a:ext cx="5011920" cy="325116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04720" y="1004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Exemplo de mensagem, utilizando a </a:t>
            </a:r>
            <a:r>
              <a:rPr b="1" i="1" lang="pt-BR" sz="3200" spc="-1" strike="noStrike">
                <a:solidFill>
                  <a:srgbClr val="ffcc00"/>
                </a:solidFill>
                <a:latin typeface="Arial"/>
              </a:rPr>
              <a:t>classe fila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ila fila_atu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nsagem ao objet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ila_atual.get(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81120" y="5724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Mensagem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792-3627-4B5B-B946-7D04243FB8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44440" y="1324080"/>
            <a:ext cx="8640720" cy="5106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Privados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Sã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defaul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Só podem ser acessados pelos métodos da class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U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étodos que não serão chamados fora d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Sintax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ivate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193680" y="15876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Visibilidade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067-9ED1-4FA6-9099-17C14B1040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4440" y="1324080"/>
            <a:ext cx="8640720" cy="4685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Públicos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Nã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evem ser usados para atribut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Podem ser chamados em qualquer parte do program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U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étodos que serão chamados fora d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Sintax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193680" y="15876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Visibilidade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DFD-CBF5-4E86-B226-F5D2E9A167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44440" y="1324080"/>
            <a:ext cx="8640720" cy="5176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Protegidos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 algn="just">
              <a:lnSpc>
                <a:spcPct val="100000"/>
              </a:lnSpc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Só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podem ser vistos pela própria classe ou heranç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Podem ser chamados em qualquer parte do program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U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lasses que possuirão herança, contudo      desenvolvidas pelo mesmo grup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257480" indent="-5446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Sintax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886040" indent="-449280" algn="just">
              <a:lnSpc>
                <a:spcPct val="115000"/>
              </a:lnSpc>
              <a:buClr>
                <a:srgbClr val="ffffcc"/>
              </a:buClr>
              <a:buSzPct val="85000"/>
              <a:buFont typeface="Wingdings" charset="2"/>
              <a:buChar char=""/>
              <a:tabLst>
                <a:tab algn="l" pos="215892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cted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193680" y="15876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Visibilidade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53F-2758-4FB8-B82F-BB2C443ED5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74840" y="2025720"/>
            <a:ext cx="5011560" cy="38224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1028880" y="3714840"/>
            <a:ext cx="19429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1638360" y="324000"/>
            <a:ext cx="5981760" cy="723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Visibilidade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rcRect l="0" t="0" r="52511" b="0"/>
          <a:stretch/>
        </p:blipFill>
        <p:spPr>
          <a:xfrm>
            <a:off x="641520" y="1743120"/>
            <a:ext cx="4979880" cy="430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FC8-5DA3-4208-A7E5-4108CE153C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68280" y="3720960"/>
            <a:ext cx="4965840" cy="29084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139680" y="606600"/>
            <a:ext cx="9004320" cy="344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Construtor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étodo chamado na criação do objet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hamado automaticamen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Geralmente usado para inicializar variáveis/ alocar memóri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státicas: Chamado na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clara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inâmicas: Chamadas pel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3" name=""/>
          <p:cNvSpPr/>
          <p:nvPr/>
        </p:nvSpPr>
        <p:spPr>
          <a:xfrm>
            <a:off x="819000" y="3754440"/>
            <a:ext cx="3736800" cy="28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class &lt;nome&gt;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public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&lt;nome&gt;(parâmetro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&lt;nome&gt;::&lt;nome&gt;(parâmetros)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206280" y="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Construtores e Destrutore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703-2B75-4138-9A8F-B950E5C655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676520"/>
            <a:ext cx="8667720" cy="3752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"/>
          <p:cNvSpPr/>
          <p:nvPr/>
        </p:nvSpPr>
        <p:spPr>
          <a:xfrm>
            <a:off x="808200" y="5796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49200" y="1822320"/>
          <a:ext cx="8407440" cy="3475080"/>
        </p:xfrm>
        <a:graphic>
          <a:graphicData uri="http://schemas.openxmlformats.org/drawingml/2006/table">
            <a:tbl>
              <a:tblPr/>
              <a:tblGrid>
                <a:gridCol w="2089080"/>
                <a:gridCol w="631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a evolução, através de uma função, de um objeto em outr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anç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o atributo ou instância comunicada entre superclasses e subclasses, que são transmitidas automaticamente. (Parâmetros de uma função, conjunto dos números-primo, tempo de gestação em mamíferos 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morfis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a resposta de diferentes objetos a mesma mensagem.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psul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 o atributo exclusivo de alguns objetos. ( Impressora default para os departamentos administrativos; Limite de crédito para novos clientes ; desconto promocional para idosos, variáveis internas de uma função 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808200" y="56833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"/>
          <p:cNvSpPr/>
          <p:nvPr/>
        </p:nvSpPr>
        <p:spPr>
          <a:xfrm>
            <a:off x="973080" y="24768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B0F-6C13-4F51-BF83-5B18EB531C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003320" y="3645000"/>
            <a:ext cx="4889520" cy="26924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"/>
          <p:cNvSpPr/>
          <p:nvPr/>
        </p:nvSpPr>
        <p:spPr>
          <a:xfrm>
            <a:off x="101520" y="733320"/>
            <a:ext cx="9004320" cy="3075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Destrutor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Último método chamado antes da destruição do objet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hamado automaticamen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Geralmente usado para liberar memória/ fechar arquiv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státicas: Chamado n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im de um escop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inâmicas: Chamadas pel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1420560" y="3711600"/>
            <a:ext cx="388332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class &lt;nome&gt;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public: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~&lt;nome&gt;(parâmetro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&lt;nome&gt;::~&lt;nome&gt;(parâmetros)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181080" y="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Construtores e Destrutores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5391000"/>
            <a:ext cx="45720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548-93D0-4A14-A996-90B630A26C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28800" y="0"/>
            <a:ext cx="57340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Penguin"/>
              </a:rPr>
              <a:t>Exemplo de Construtores e Destruto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98400" y="654120"/>
            <a:ext cx="7804080" cy="5975280"/>
            <a:chOff x="698400" y="654120"/>
            <a:chExt cx="7804080" cy="5975280"/>
          </a:xfrm>
        </p:grpSpPr>
        <p:sp>
          <p:nvSpPr>
            <p:cNvPr id="252" name=""/>
            <p:cNvSpPr/>
            <p:nvPr/>
          </p:nvSpPr>
          <p:spPr>
            <a:xfrm>
              <a:off x="698400" y="654120"/>
              <a:ext cx="7804080" cy="5975280"/>
            </a:xfrm>
            <a:prstGeom prst="rect">
              <a:avLst/>
            </a:prstGeom>
            <a:gradFill rotWithShape="0">
              <a:gsLst>
                <a:gs pos="0">
                  <a:srgbClr val="ffffdf"/>
                </a:gs>
                <a:gs pos="100000">
                  <a:srgbClr val="ffffd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4057560"/>
              <a:ext cx="4076640" cy="343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6240" y="5429160"/>
              <a:ext cx="4076640" cy="343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858600" y="685800"/>
              <a:ext cx="7406280" cy="5936400"/>
              <a:chOff x="858600" y="685800"/>
              <a:chExt cx="7406280" cy="5936400"/>
            </a:xfrm>
          </p:grpSpPr>
          <p:sp>
            <p:nvSpPr>
              <p:cNvPr id="256" name=""/>
              <p:cNvSpPr/>
              <p:nvPr/>
            </p:nvSpPr>
            <p:spPr>
              <a:xfrm>
                <a:off x="886680" y="685800"/>
                <a:ext cx="21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Programa de exe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124080" y="685800"/>
                <a:ext cx="3902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mplo para ilustrar conceitos de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36640" y="685800"/>
                <a:ext cx="97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classe,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142120" y="6858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937440" y="91296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303200" y="912960"/>
                <a:ext cx="854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objetos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82680" y="9129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304360" y="912960"/>
                <a:ext cx="244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e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03440" y="912960"/>
                <a:ext cx="4024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apresentando construtor/destrutor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52800" y="9129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58600" y="1141560"/>
                <a:ext cx="5609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Original do livro TURBO C++  SCHILDT pg 371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52800" y="11415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87040" y="1368360"/>
                <a:ext cx="2561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#include &lt;iostream.h&gt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47800" y="13683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87760" y="1596960"/>
                <a:ext cx="3048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criacao da classe fil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44600" y="15969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941040" y="18241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76000" y="1824120"/>
                <a:ext cx="12200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class fil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4520" y="18241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941040" y="20527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31800" y="20527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57080" y="20527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41040" y="22795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476720" y="2279520"/>
                <a:ext cx="170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int q[10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66280" y="227952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0]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43200" y="22795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41040" y="25066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22080" y="2506680"/>
                <a:ext cx="732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52160" y="2506680"/>
                <a:ext cx="1829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int sloc, rloc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0000" y="25066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41040" y="27352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0640" y="2735280"/>
                <a:ext cx="854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public: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401560" y="27352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41040" y="2962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531800" y="2962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11760" y="2962440"/>
                <a:ext cx="134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fila(void)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95240" y="2962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03480" y="2962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78400" y="2962440"/>
                <a:ext cx="1585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construtor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14960" y="2962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41040" y="31910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31800" y="31910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09600" y="3191040"/>
                <a:ext cx="1463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~fila(void)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19080" y="31910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903480" y="31910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44920" y="3191040"/>
                <a:ext cx="1463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destrutor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991120" y="31910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941040" y="34178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31800" y="34178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75400" y="3417840"/>
                <a:ext cx="2073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void qput(int i)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40080" y="34178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41040" y="3646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531800" y="3646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04560" y="3646440"/>
                <a:ext cx="1829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int qget(void)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92400" y="364644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41040" y="38736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9640" y="3873600"/>
                <a:ext cx="244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80920" y="38736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88480" y="4100400"/>
                <a:ext cx="37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esta eh a funcao construtor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65240" y="41004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11880" y="4329000"/>
                <a:ext cx="2073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fila::fila (void)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52440" y="43290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941040" y="45561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64880" y="45561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86680" y="4784760"/>
                <a:ext cx="21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rloc = sloc = 0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76280" y="47847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88480" y="5011560"/>
                <a:ext cx="3414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cout &lt;&lt; "fila inicializad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17920" y="50115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\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37800" y="501156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n"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14720" y="50115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41040" y="52387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64880" y="52387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85600" y="5467320"/>
                <a:ext cx="1585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// esta eh a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500920" y="5467320"/>
                <a:ext cx="2073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funcao destrutor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65240" y="54673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09720" y="5694480"/>
                <a:ext cx="21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fila::~fila (void)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76280" y="56944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41040" y="59230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64880" y="59230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87760" y="6149880"/>
                <a:ext cx="3048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cout &lt;&lt; "fila destruida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44600" y="61498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\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6640" y="614988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n";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41400" y="61498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41040" y="63784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64880" y="63784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8C1-739C-401F-BEB3-6E3887A4C4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98400" y="654120"/>
            <a:ext cx="7804080" cy="59752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0"/>
            <a:ext cx="57340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Penguin"/>
              </a:rPr>
              <a:t>Exemplo de Construtores e Destruto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049400" y="873000"/>
            <a:ext cx="8353440" cy="539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AAA-93D5-41AB-A4DA-0239C87018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98400" y="958680"/>
            <a:ext cx="6966000" cy="506124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0"/>
            <a:ext cx="57340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Penguin"/>
              </a:rPr>
              <a:t>Exemplo de Construtores e Destruto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57240" y="1112760"/>
            <a:ext cx="8605800" cy="476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6FD-E7E9-4FDC-B3F1-29DD019E34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68280" y="2324160"/>
            <a:ext cx="4718160" cy="309888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8" name=""/>
          <p:cNvSpPr/>
          <p:nvPr/>
        </p:nvSpPr>
        <p:spPr>
          <a:xfrm>
            <a:off x="530280" y="2387520"/>
            <a:ext cx="4638600" cy="27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class data{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t-BR" sz="2400" spc="-1" strike="noStrike">
                <a:solidFill>
                  <a:srgbClr val="b02a00"/>
                </a:solidFill>
                <a:latin typeface="Arial Black"/>
              </a:rPr>
              <a:t>class sigmatrix **d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int   data_number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data(int matrix_number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502240" y="1882800"/>
          <a:ext cx="241956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2240" y="1882800"/>
                    <a:ext cx="2419560" cy="463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189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81080" y="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Associação e Agregação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101520" y="733320"/>
            <a:ext cx="9004320" cy="1246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Associ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corre quando uma classe é parte de outras cla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E51-A90B-4938-9C07-849657DBE6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1225440" y="2540160"/>
          <a:ext cx="6380280" cy="28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2540160"/>
                    <a:ext cx="6380280" cy="281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8496" dir="17774481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181080" y="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Associação e Agregação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6" name=""/>
          <p:cNvSpPr/>
          <p:nvPr/>
        </p:nvSpPr>
        <p:spPr>
          <a:xfrm>
            <a:off x="101520" y="733320"/>
            <a:ext cx="9004320" cy="1612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Agreg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corre quando uma classe contém parte de outr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F18-4A6A-4D73-89A5-E960673D13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81080" y="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Herança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8" name=""/>
          <p:cNvSpPr/>
          <p:nvPr/>
        </p:nvSpPr>
        <p:spPr>
          <a:xfrm>
            <a:off x="101520" y="733320"/>
            <a:ext cx="9004320" cy="391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</a:rPr>
              <a:t>Declar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 algn="just">
              <a:lnSpc>
                <a:spcPct val="100000"/>
              </a:lnSpc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class &lt;Nome da classe&gt;:[public]&lt;classe pai&gt;{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1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Visibilidade de métod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1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Área protegid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1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Construtores e destruto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1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Herança múltipl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902120" y="2127240"/>
          <a:ext cx="397512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2120" y="2127240"/>
                    <a:ext cx="39751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189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1C6-BBEE-4AC5-B559-40CDCE6AB2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55760" y="1244520"/>
            <a:ext cx="5830920" cy="513720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-304920" y="1398240"/>
            <a:ext cx="6477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Mamifero:public Anim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 querMama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mífero( ):Animal( )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~Mamífero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amar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Respirar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Elefante:public Mamifer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lefante( ):Mamífero( )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~Elefante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void LevantarTromba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ndar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1481040"/>
            <a:ext cx="2336760" cy="3935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3"/>
                </a:solidFill>
                <a:latin typeface="Arial"/>
              </a:rPr>
              <a:t>A principal vantagem da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HERANÇA</a:t>
            </a:r>
            <a:r>
              <a:rPr b="1" lang="pt-BR" sz="2000" spc="-1" strike="noStrike">
                <a:solidFill>
                  <a:srgbClr val="ffffe3"/>
                </a:solidFill>
                <a:latin typeface="Arial"/>
              </a:rPr>
              <a:t> em linguagens OO está no reaproveitamento de código que ela proporciona, pela declaração de classes herdeiras mais específicas ao problema.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1581120" y="5724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Herança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D6D-D7B7-427D-A29D-CB9DDE3C77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779400" y="1663560"/>
            <a:ext cx="6688080" cy="46231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34880" y="1817280"/>
            <a:ext cx="718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ass Antropoide:public Mamifer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tropoide( ):Mamifero( ) {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~Antropoide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Andar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Procriar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ass Homem: public Antropoid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mem( ):Antropoide( ) {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~Homem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oid Fala(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19000" y="228600"/>
            <a:ext cx="68961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Herança (cont.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5CA-4D46-45F5-9222-351CEC0D3D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93680" y="15876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Herança - </a:t>
            </a:r>
            <a:r>
              <a:rPr b="1" lang="pt-BR" sz="4200" spc="-1" strike="noStrike">
                <a:solidFill>
                  <a:srgbClr val="ffcc00"/>
                </a:solidFill>
                <a:latin typeface="Penguin"/>
              </a:rPr>
              <a:t>Visibilidade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" y="1041480"/>
            <a:ext cx="8640720" cy="5292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ã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há visibilidade da classe pa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s métodos da classe pai s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ivados </a:t>
            </a:r>
            <a:r>
              <a:rPr b="1" lang="pt-BR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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e pod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chamar um dos métodos desta clas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lass &lt;Nome da classe&gt;:&lt;classe pai&gt;{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Visibilida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penas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 dos métod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Os métodos da classe pai ser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úblico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lass &lt;Nome da classe&gt;: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public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&lt;classe pai&gt;{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23E-B9EF-46BD-AE17-60EA8C67498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60520" y="2822400"/>
            <a:ext cx="77724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Gerar programas que sejam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legíveis e de fácil compreens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reutilizáve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de fácil manutenç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obtidos de forma produtiv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"/>
          <p:cNvSpPr/>
          <p:nvPr/>
        </p:nvSpPr>
        <p:spPr>
          <a:xfrm>
            <a:off x="396720" y="1682640"/>
            <a:ext cx="874728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449280" indent="-4492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Objetivo da programação OO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de50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"/>
          <p:cNvSpPr/>
          <p:nvPr/>
        </p:nvSpPr>
        <p:spPr>
          <a:xfrm>
            <a:off x="973080" y="3794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6E5-BBD0-454C-8B83-24098D04BD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93680" y="158760"/>
            <a:ext cx="8756640" cy="6476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Herança - </a:t>
            </a:r>
            <a:r>
              <a:rPr b="1" lang="pt-BR" sz="4200" spc="-1" strike="noStrike">
                <a:solidFill>
                  <a:srgbClr val="ffcc00"/>
                </a:solidFill>
                <a:latin typeface="Penguin"/>
              </a:rPr>
              <a:t>Área Protegida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1" name=""/>
          <p:cNvSpPr/>
          <p:nvPr/>
        </p:nvSpPr>
        <p:spPr>
          <a:xfrm>
            <a:off x="301680" y="1079640"/>
            <a:ext cx="8640720" cy="2952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44600" indent="-444600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Atributo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tegid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4600" indent="-444600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Arial"/>
              </a:rPr>
              <a:t>Só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podem ser vistos pela própria classe ou heranç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so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- Classes que possuirão herança, contudo      desenvolvidas  pelo mesmo grup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9640" indent="-455760" algn="just">
              <a:lnSpc>
                <a:spcPct val="100000"/>
              </a:lnSpc>
              <a:buClr>
                <a:srgbClr val="ffff99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intaxe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otected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A8F-C7D6-4D34-9AE5-45E9CDBE215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73080" y="1231920"/>
          <a:ext cx="455148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231920"/>
                    <a:ext cx="4551480" cy="4317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189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800600" y="1066680"/>
          <a:ext cx="4184640" cy="518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066680"/>
                    <a:ext cx="418464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189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V="1">
            <a:off x="4711680" y="1168200"/>
            <a:ext cx="0" cy="5181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7" name=""/>
          <p:cNvSpPr/>
          <p:nvPr/>
        </p:nvSpPr>
        <p:spPr>
          <a:xfrm>
            <a:off x="5219640" y="1460520"/>
            <a:ext cx="3200400" cy="4724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562360" y="1295280"/>
            <a:ext cx="2717640" cy="4889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"/>
          <p:cNvSpPr/>
          <p:nvPr/>
        </p:nvSpPr>
        <p:spPr>
          <a:xfrm>
            <a:off x="4478400" y="4459320"/>
            <a:ext cx="1619280" cy="660240"/>
          </a:xfrm>
          <a:prstGeom prst="borderCallout2">
            <a:avLst>
              <a:gd name="adj1" fmla="val 18750"/>
              <a:gd name="adj2" fmla="val -8333"/>
              <a:gd name="adj3" fmla="val 17305"/>
              <a:gd name="adj4" fmla="val 110587"/>
              <a:gd name="adj5" fmla="val 171152"/>
              <a:gd name="adj6" fmla="val 116472"/>
            </a:avLst>
          </a:prstGeom>
          <a:solidFill>
            <a:srgbClr val="ffffcc"/>
          </a:solidFill>
          <a:ln w="22320">
            <a:solidFill>
              <a:srgbClr val="ff33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b02a00"/>
                </a:solidFill>
                <a:latin typeface="Arial"/>
              </a:rPr>
              <a:t>Duplicação da classe pai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0" name=""/>
          <p:cNvSpPr/>
          <p:nvPr/>
        </p:nvSpPr>
        <p:spPr>
          <a:xfrm>
            <a:off x="181080" y="76320"/>
            <a:ext cx="8756640" cy="7999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Herança - </a:t>
            </a:r>
            <a:r>
              <a:rPr b="1" lang="pt-BR" sz="4200" spc="-1" strike="noStrike">
                <a:solidFill>
                  <a:srgbClr val="ffcc00"/>
                </a:solidFill>
                <a:latin typeface="Penguin"/>
              </a:rPr>
              <a:t>Herança Múltipla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C86-B9F2-4B9A-A7EC-881A5C8A7DE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713880" y="4026960"/>
            <a:ext cx="7542360" cy="2830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622440" indent="-6224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Vantage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22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346040" indent="-53316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Generalização de algorit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46040" indent="-53316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eu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46040" indent="-53316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xpansib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7360" y="228600"/>
            <a:ext cx="8756640" cy="673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200" spc="-1" strike="noStrike">
                <a:solidFill>
                  <a:srgbClr val="ffff00"/>
                </a:solidFill>
                <a:latin typeface="Penguin"/>
              </a:rPr>
              <a:t>Polimorfismo</a:t>
            </a:r>
            <a:endParaRPr b="0" lang="en-US" sz="4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3" name=""/>
          <p:cNvSpPr/>
          <p:nvPr/>
        </p:nvSpPr>
        <p:spPr>
          <a:xfrm>
            <a:off x="552600" y="1295280"/>
            <a:ext cx="8076960" cy="2530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o C++ o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OLIMORFISM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é implementado pelo uso de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sobrecarga de funçõe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m C++, duas ou mais funções podem compartilhar o mesmo nome, contanto que as suas declarações de parâmetros sejam diferentes.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0B8-D2A9-483F-A89B-9AD95250C2D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512640" y="1244520"/>
            <a:ext cx="8231400" cy="40705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390680" y="4438440"/>
            <a:ext cx="34272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5626080"/>
            <a:ext cx="405756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ee602"/>
                </a:solidFill>
                <a:latin typeface="Arial"/>
              </a:rPr>
              <a:t>Sobrecarga de operador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7" name=""/>
          <p:cNvSpPr/>
          <p:nvPr/>
        </p:nvSpPr>
        <p:spPr>
          <a:xfrm>
            <a:off x="1504800" y="247680"/>
            <a:ext cx="598176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Polimorfismo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23960" y="1433520"/>
            <a:ext cx="8120160" cy="374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9EF-2825-4107-A068-58CCF917661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93560" y="996840"/>
            <a:ext cx="7069320" cy="5346720"/>
          </a:xfrm>
          <a:prstGeom prst="rect">
            <a:avLst/>
          </a:prstGeom>
          <a:gradFill rotWithShape="0">
            <a:gsLst>
              <a:gs pos="0">
                <a:srgbClr val="ffffdf"/>
              </a:gs>
              <a:gs pos="100000">
                <a:srgbClr val="ffff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0" name=""/>
          <p:cNvSpPr/>
          <p:nvPr/>
        </p:nvSpPr>
        <p:spPr>
          <a:xfrm>
            <a:off x="476280" y="57240"/>
            <a:ext cx="8153280" cy="723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xemplo de Polimorfismo (cont.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19280" y="105732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33520" y="876240"/>
            <a:ext cx="3371760" cy="62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685960"/>
            <a:ext cx="424800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5467320" y="2444760"/>
            <a:ext cx="367668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ee602"/>
                </a:solidFill>
                <a:latin typeface="Arial"/>
              </a:rPr>
              <a:t>Sobrecarga de funçõ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4095360" y="1371600"/>
            <a:ext cx="1523880" cy="1123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819680" y="2838600"/>
            <a:ext cx="799920" cy="171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EEA-F711-455F-BB86-E99BC225045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66680" y="2538360"/>
            <a:ext cx="5905800" cy="387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lgumas mais familiare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bject Pascal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Outras menos familiare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SmallTal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iff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"/>
          <p:cNvSpPr/>
          <p:nvPr/>
        </p:nvSpPr>
        <p:spPr>
          <a:xfrm>
            <a:off x="973080" y="3794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Penguin"/>
              </a:rPr>
              <a:t>Introdução à Programação Orientada a Objet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1730520"/>
            <a:ext cx="844236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443880" indent="-4438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Linguagens de Programação Orientadas a Objet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456-A2ED-4932-A512-F3DB21F8DA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82400" y="2184480"/>
            <a:ext cx="8289720" cy="4330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odas as palavras-chaves de C são também palavras-chaves de C++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xemplos de Palavras-chaves adiciona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Class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overload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public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de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Três importantes facilidades que C++ incorpora a 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Sobrecarga de fun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Sobrecarga de ope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9040" y="1374840"/>
            <a:ext cx="401652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Conceitos Básic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17A-59A2-4BB3-8505-11A11636BB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82400" y="2184480"/>
            <a:ext cx="8289720" cy="4330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sassociar o tipo de dado da oper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Ex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040" y="1374840"/>
            <a:ext cx="464508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Abstração de Dad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3352680"/>
            <a:ext cx="3981600" cy="3183840"/>
            <a:chOff x="380880" y="3352680"/>
            <a:chExt cx="3981600" cy="3183840"/>
          </a:xfrm>
        </p:grpSpPr>
        <p:sp>
          <p:nvSpPr>
            <p:cNvPr id="85" name=""/>
            <p:cNvSpPr/>
            <p:nvPr/>
          </p:nvSpPr>
          <p:spPr>
            <a:xfrm>
              <a:off x="380880" y="3943440"/>
              <a:ext cx="3981600" cy="2133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9800" y="4038480"/>
              <a:ext cx="78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int?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57680" y="4019400"/>
              <a:ext cx="123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loat?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7160" y="4629240"/>
              <a:ext cx="1086120" cy="99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05040" y="4610160"/>
              <a:ext cx="1085760" cy="990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0400" y="556272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pushint(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10000" y="558180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pusfloat(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57440" y="607680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cc00"/>
                  </a:solidFill>
                  <a:latin typeface="Arial"/>
                </a:rPr>
                <a:t>push(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24160" y="3943440"/>
              <a:ext cx="8380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467000" y="3981600"/>
              <a:ext cx="87624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62320" y="33526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762440" y="3924360"/>
            <a:ext cx="398160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5391000" y="401940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40006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loat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5238720" y="4610160"/>
            <a:ext cx="1085760" cy="990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591080"/>
            <a:ext cx="1085760" cy="990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55436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pint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6991200" y="5562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pfloat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6039000" y="60580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op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392436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847840" y="3962520"/>
            <a:ext cx="8766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6743880" y="333360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B79-1C68-4050-B054-41AD7F90E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82400" y="2184480"/>
            <a:ext cx="8289720" cy="4330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esassociar o tipo de dado da operaç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Ex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9040" y="1374840"/>
            <a:ext cx="464508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Penguin"/>
              </a:rPr>
              <a:t>Abstração de Dad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52680"/>
            <a:ext cx="80391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lex_a = complex_b   +   complex_c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5600880" y="3219480"/>
            <a:ext cx="475920" cy="819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628560" y="41148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O compilador usaria automaticamente uma operação definida anteriormente para adição de números complex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257800" y="3886200"/>
            <a:ext cx="380880" cy="324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66760" y="5481720"/>
            <a:ext cx="8496360" cy="113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Obs.: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Todas as linguagens de computador suportam quantidades limitadas de abstração de dados. Ex.: uso do mesmo sinal de adição para 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ints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ou</a:t>
            </a:r>
            <a:r>
              <a:rPr b="1" lang="pt-BR" sz="2000" spc="-1" strike="noStrike">
                <a:solidFill>
                  <a:srgbClr val="ff3300"/>
                </a:solidFill>
                <a:latin typeface="Arial"/>
              </a:rPr>
              <a:t> floats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B3F-8569-45E2-8F72-8BF02A9A5F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11200" y="1989000"/>
            <a:ext cx="8229600" cy="45309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Fornecem uma maneira de unir em uma única unidade variáveis e funções que operam com e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Tornar variáveis que guardam uma pilha e rotinas que manipulam a pilha num único objeto permite que elas sejam vista como um mecanismo de pilh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É possível definir funções e variáveis conhecidas e acessíveis de fora desse objeto e quais são priv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317600"/>
            <a:ext cx="3139920" cy="71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enguin"/>
              </a:rPr>
              <a:t>Objeto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8600"/>
            <a:ext cx="8566200" cy="1162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Programação Orientada a Objetos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r>
              <a:rPr b="1" lang="pt-BR" sz="4400" spc="-1" strike="noStrike" baseline="20000">
                <a:solidFill>
                  <a:srgbClr val="ffcc00"/>
                </a:solidFill>
                <a:latin typeface="Penguin"/>
              </a:rPr>
              <a:t>++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523-C701-4C48-9CB9-C676E273E7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Particular</cp:lastModifiedBy>
  <cp:lastPrinted>2002-02-17T19:14:27Z</cp:lastPrinted>
  <dcterms:modified xsi:type="dcterms:W3CDTF">2003-10-20T11:11:42Z</dcterms:modified>
  <cp:revision>451</cp:revision>
  <dc:subject/>
  <dc:title>Reconhecimento de voz</dc:title>
</cp:coreProperties>
</file>