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B479-66C0-436D-9A75-D977B5DF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8BB7-7DB8-48A8-8C01-8B217387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F5B0-A802-48C7-9C84-94D30F891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272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516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028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272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516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0A1D-E14A-4C55-9968-FF8FBD68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4029-3154-4391-B001-06E9F5CD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7EC5-17FD-461E-980A-C560324B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BBD1-2CC7-41F0-A48B-17F7BA6C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037A-A05D-4A92-8C56-DA2B9CB2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2ED1-59D9-4684-8383-ABFA76A5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CF70-854F-4A4B-B013-DC90684D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5E76-F226-4E9E-94FC-2243F8B9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183A-1BA4-4DBA-AF42-6F18DEC7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FC35-4347-41EA-8998-8581CD27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15F1-41F1-42A5-8511-D5C071ED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D122-CC5E-4CC6-8A0D-71D4D0D2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C201-B14F-49CF-9881-A7399ED2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272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516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3028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272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516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9FA1-12C5-4F5A-8395-CFA40AD0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9B25-4F13-496A-B045-44D3E643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5616-0268-4E24-B1FC-2C9BC4BB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1BF2-4A11-417B-B795-1838ABD7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8560-F4BA-433C-9BB4-20DFA00A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291D-F6AA-4968-9AA3-7A419731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43D6-529A-4C79-AE06-C3C80437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C2F5-05C5-449A-BFF0-B05E8968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3981600"/>
            <a:ext cx="3400560" cy="2863800"/>
          </a:xfrm>
          <a:custGeom>
            <a:avLst/>
            <a:gdLst/>
            <a:ahLst/>
            <a:rect l="l" t="t" r="r" b="b"/>
            <a:pathLst>
              <a:path w="2135" h="1804">
                <a:moveTo>
                  <a:pt x="329" y="66"/>
                </a:moveTo>
                <a:lnTo>
                  <a:pt x="161" y="30"/>
                </a:lnTo>
                <a:lnTo>
                  <a:pt x="0" y="0"/>
                </a:lnTo>
                <a:lnTo>
                  <a:pt x="0" y="12"/>
                </a:lnTo>
                <a:lnTo>
                  <a:pt x="161" y="42"/>
                </a:lnTo>
                <a:lnTo>
                  <a:pt x="323" y="78"/>
                </a:lnTo>
                <a:lnTo>
                  <a:pt x="556" y="150"/>
                </a:lnTo>
                <a:lnTo>
                  <a:pt x="777" y="245"/>
                </a:lnTo>
                <a:lnTo>
                  <a:pt x="993" y="365"/>
                </a:lnTo>
                <a:lnTo>
                  <a:pt x="1196" y="503"/>
                </a:lnTo>
                <a:lnTo>
                  <a:pt x="1381" y="653"/>
                </a:lnTo>
                <a:lnTo>
                  <a:pt x="1555" y="827"/>
                </a:lnTo>
                <a:lnTo>
                  <a:pt x="1710" y="1019"/>
                </a:lnTo>
                <a:lnTo>
                  <a:pt x="1854" y="1229"/>
                </a:lnTo>
                <a:lnTo>
                  <a:pt x="1937" y="1366"/>
                </a:lnTo>
                <a:lnTo>
                  <a:pt x="2009" y="1510"/>
                </a:lnTo>
                <a:lnTo>
                  <a:pt x="2069" y="1654"/>
                </a:lnTo>
                <a:lnTo>
                  <a:pt x="2123" y="1804"/>
                </a:lnTo>
                <a:lnTo>
                  <a:pt x="2135" y="1804"/>
                </a:lnTo>
                <a:lnTo>
                  <a:pt x="2081" y="1654"/>
                </a:lnTo>
                <a:lnTo>
                  <a:pt x="2021" y="1510"/>
                </a:lnTo>
                <a:lnTo>
                  <a:pt x="1949" y="1366"/>
                </a:lnTo>
                <a:lnTo>
                  <a:pt x="1866" y="1223"/>
                </a:lnTo>
                <a:lnTo>
                  <a:pt x="1722" y="1013"/>
                </a:lnTo>
                <a:lnTo>
                  <a:pt x="1561" y="821"/>
                </a:lnTo>
                <a:lnTo>
                  <a:pt x="1387" y="647"/>
                </a:lnTo>
                <a:lnTo>
                  <a:pt x="1202" y="491"/>
                </a:lnTo>
                <a:lnTo>
                  <a:pt x="999" y="353"/>
                </a:lnTo>
                <a:lnTo>
                  <a:pt x="783" y="239"/>
                </a:lnTo>
                <a:lnTo>
                  <a:pt x="562" y="138"/>
                </a:lnTo>
                <a:lnTo>
                  <a:pt x="329" y="66"/>
                </a:lnTo>
                <a:lnTo>
                  <a:pt x="329" y="6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cc9900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0" y="4341960"/>
            <a:ext cx="2770200" cy="2503440"/>
          </a:xfrm>
          <a:custGeom>
            <a:avLst/>
            <a:gdLst/>
            <a:ahLst/>
            <a:rect l="l" t="t" r="r" b="b"/>
            <a:pathLst>
              <a:path w="1745" h="1577">
                <a:moveTo>
                  <a:pt x="1640" y="1377"/>
                </a:moveTo>
                <a:lnTo>
                  <a:pt x="1692" y="1479"/>
                </a:lnTo>
                <a:lnTo>
                  <a:pt x="1732" y="1577"/>
                </a:lnTo>
                <a:lnTo>
                  <a:pt x="1745" y="1577"/>
                </a:lnTo>
                <a:lnTo>
                  <a:pt x="1703" y="1469"/>
                </a:lnTo>
                <a:lnTo>
                  <a:pt x="1649" y="1367"/>
                </a:lnTo>
                <a:lnTo>
                  <a:pt x="1535" y="1157"/>
                </a:lnTo>
                <a:lnTo>
                  <a:pt x="1395" y="951"/>
                </a:lnTo>
                <a:lnTo>
                  <a:pt x="1236" y="756"/>
                </a:lnTo>
                <a:lnTo>
                  <a:pt x="1061" y="582"/>
                </a:lnTo>
                <a:lnTo>
                  <a:pt x="876" y="426"/>
                </a:lnTo>
                <a:lnTo>
                  <a:pt x="672" y="294"/>
                </a:lnTo>
                <a:lnTo>
                  <a:pt x="455" y="174"/>
                </a:lnTo>
                <a:lnTo>
                  <a:pt x="234" y="78"/>
                </a:lnTo>
                <a:lnTo>
                  <a:pt x="0" y="0"/>
                </a:lnTo>
                <a:lnTo>
                  <a:pt x="0" y="12"/>
                </a:lnTo>
                <a:lnTo>
                  <a:pt x="222" y="89"/>
                </a:lnTo>
                <a:lnTo>
                  <a:pt x="446" y="185"/>
                </a:lnTo>
                <a:lnTo>
                  <a:pt x="662" y="305"/>
                </a:lnTo>
                <a:lnTo>
                  <a:pt x="866" y="437"/>
                </a:lnTo>
                <a:lnTo>
                  <a:pt x="1052" y="593"/>
                </a:lnTo>
                <a:lnTo>
                  <a:pt x="1226" y="767"/>
                </a:lnTo>
                <a:lnTo>
                  <a:pt x="1385" y="960"/>
                </a:lnTo>
                <a:lnTo>
                  <a:pt x="1526" y="1167"/>
                </a:lnTo>
                <a:lnTo>
                  <a:pt x="1640" y="1377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fffcc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0" y="4038480"/>
            <a:ext cx="2770200" cy="2806920"/>
          </a:xfrm>
          <a:custGeom>
            <a:avLst/>
            <a:gdLst/>
            <a:ahLst/>
            <a:rect l="l" t="t" r="r" b="b"/>
            <a:pathLst>
              <a:path w="1745" h="1768">
                <a:moveTo>
                  <a:pt x="0" y="0"/>
                </a:moveTo>
                <a:lnTo>
                  <a:pt x="0" y="12"/>
                </a:lnTo>
                <a:lnTo>
                  <a:pt x="210" y="88"/>
                </a:lnTo>
                <a:lnTo>
                  <a:pt x="426" y="190"/>
                </a:lnTo>
                <a:lnTo>
                  <a:pt x="630" y="304"/>
                </a:lnTo>
                <a:lnTo>
                  <a:pt x="818" y="442"/>
                </a:lnTo>
                <a:lnTo>
                  <a:pt x="998" y="592"/>
                </a:lnTo>
                <a:lnTo>
                  <a:pt x="1164" y="766"/>
                </a:lnTo>
                <a:lnTo>
                  <a:pt x="1310" y="942"/>
                </a:lnTo>
                <a:lnTo>
                  <a:pt x="1454" y="1146"/>
                </a:lnTo>
                <a:lnTo>
                  <a:pt x="1536" y="1298"/>
                </a:lnTo>
                <a:lnTo>
                  <a:pt x="1614" y="1456"/>
                </a:lnTo>
                <a:lnTo>
                  <a:pt x="1682" y="1616"/>
                </a:lnTo>
                <a:lnTo>
                  <a:pt x="1733" y="1768"/>
                </a:lnTo>
                <a:lnTo>
                  <a:pt x="1745" y="1768"/>
                </a:lnTo>
                <a:lnTo>
                  <a:pt x="1691" y="1606"/>
                </a:lnTo>
                <a:lnTo>
                  <a:pt x="1623" y="1445"/>
                </a:lnTo>
                <a:lnTo>
                  <a:pt x="1547" y="1288"/>
                </a:lnTo>
                <a:lnTo>
                  <a:pt x="1463" y="1136"/>
                </a:lnTo>
                <a:lnTo>
                  <a:pt x="1320" y="932"/>
                </a:lnTo>
                <a:lnTo>
                  <a:pt x="1173" y="755"/>
                </a:lnTo>
                <a:lnTo>
                  <a:pt x="1008" y="581"/>
                </a:lnTo>
                <a:lnTo>
                  <a:pt x="827" y="431"/>
                </a:lnTo>
                <a:lnTo>
                  <a:pt x="642" y="293"/>
                </a:lnTo>
                <a:lnTo>
                  <a:pt x="437" y="179"/>
                </a:lnTo>
                <a:lnTo>
                  <a:pt x="222" y="7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de503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"/>
          <p:cNvSpPr/>
          <p:nvPr/>
        </p:nvSpPr>
        <p:spPr>
          <a:xfrm>
            <a:off x="1711440" y="5305320"/>
            <a:ext cx="136440" cy="1368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cc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2438280" y="6165720"/>
            <a:ext cx="146160" cy="14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de503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"/>
          <p:cNvSpPr/>
          <p:nvPr/>
        </p:nvSpPr>
        <p:spPr>
          <a:xfrm>
            <a:off x="1123920" y="4554360"/>
            <a:ext cx="192240" cy="192240"/>
          </a:xfrm>
          <a:prstGeom prst="ellipse">
            <a:avLst/>
          </a:prstGeom>
          <a:blipFill rotWithShape="0">
            <a:blip r:embed="rId2">
              <a:alphaModFix amt="5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482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5768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000" spc="-1" strike="noStrike">
                <a:solidFill>
                  <a:srgbClr val="ffffff"/>
                </a:solidFill>
                <a:latin typeface="Arial"/>
              </a:rPr>
              <a:t>DSC/CCT/UFCG – Técnicas de Programação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795720" y="63482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800" spc="-1" strike="noStrike">
                <a:solidFill>
                  <a:srgbClr val="ffffff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4573-49AF-4FF9-9049-2DCE7A3A1EFC}" type="slidenum">
              <a:rPr b="1" lang="pt-BR" sz="2800" spc="-1" strike="noStrike">
                <a:solidFill>
                  <a:srgbClr val="ffffff"/>
                </a:solidFill>
                <a:latin typeface="Pengui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"/>
          <p:cNvSpPr/>
          <p:nvPr/>
        </p:nvSpPr>
        <p:spPr>
          <a:xfrm>
            <a:off x="1862280" y="4713120"/>
            <a:ext cx="191880" cy="192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cc9900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9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0E78-9DCD-41B8-9E32-714886718477}" type="slidenum">
              <a:rPr b="0" lang="pt-B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692280" y="257040"/>
            <a:ext cx="7804080" cy="1067040"/>
            <a:chOff x="692280" y="257040"/>
            <a:chExt cx="7804080" cy="1067040"/>
          </a:xfrm>
        </p:grpSpPr>
        <p:sp>
          <p:nvSpPr>
            <p:cNvPr id="97" name=""/>
            <p:cNvSpPr/>
            <p:nvPr/>
          </p:nvSpPr>
          <p:spPr>
            <a:xfrm>
              <a:off x="723960" y="257040"/>
              <a:ext cx="7772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5400" spc="-1" strike="noStrike">
                  <a:solidFill>
                    <a:srgbClr val="000000"/>
                  </a:solidFill>
                  <a:latin typeface="Penguin"/>
                </a:rPr>
                <a:t>Técnicas de Programação</a:t>
              </a:r>
              <a:endParaRPr b="0" lang="en-US" sz="5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2280" y="282600"/>
              <a:ext cx="7772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5400" spc="-1" strike="noStrike">
                  <a:solidFill>
                    <a:srgbClr val="ffff99"/>
                  </a:solidFill>
                  <a:latin typeface="Penguin"/>
                </a:rPr>
                <a:t>Técnicas de Programação</a:t>
              </a:r>
              <a:endParaRPr b="0" lang="en-US" sz="5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714240" y="1495440"/>
            <a:ext cx="7715520" cy="200016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1"/>
                </a:solidFill>
                <a:latin typeface="Penguin"/>
              </a:rPr>
              <a:t>Linguagem </a:t>
            </a:r>
            <a:r>
              <a:rPr b="1" lang="pt-BR" sz="6000" spc="-1" strike="noStrike">
                <a:solidFill>
                  <a:srgbClr val="ff9900"/>
                </a:solidFill>
                <a:latin typeface="Penguin"/>
              </a:rPr>
              <a:t>C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1"/>
                </a:solidFill>
                <a:latin typeface="Penguin"/>
              </a:rPr>
              <a:t>Estruturas de Dados II</a:t>
            </a:r>
            <a:r>
              <a:rPr b="1" lang="pt-BR" sz="6000" spc="-1" strike="noStrike">
                <a:solidFill>
                  <a:srgbClr val="ffff01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362240" y="4921200"/>
            <a:ext cx="6419160" cy="1076400"/>
            <a:chOff x="1362240" y="4921200"/>
            <a:chExt cx="6419160" cy="1076400"/>
          </a:xfrm>
        </p:grpSpPr>
        <p:sp>
          <p:nvSpPr>
            <p:cNvPr id="101" name=""/>
            <p:cNvSpPr/>
            <p:nvPr/>
          </p:nvSpPr>
          <p:spPr>
            <a:xfrm>
              <a:off x="1380960" y="4921200"/>
              <a:ext cx="64004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600" spc="-1" strike="noStrike">
                  <a:solidFill>
                    <a:srgbClr val="000000"/>
                  </a:solidFill>
                  <a:latin typeface="Arial"/>
                </a:rPr>
                <a:t>Profs.:</a:t>
              </a:r>
              <a:r>
                <a:rPr b="1" lang="pt-BR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Joseana Macêdo Fechine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José Eustáquio Rangel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62240" y="4930920"/>
              <a:ext cx="64004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600" spc="-1" strike="noStrike">
                  <a:solidFill>
                    <a:srgbClr val="ffffff"/>
                  </a:solidFill>
                  <a:latin typeface="Arial"/>
                </a:rPr>
                <a:t>Profs.: </a:t>
              </a:r>
              <a:r>
                <a:rPr b="1" i="1" lang="pt-BR" sz="2600" spc="-1" strike="noStrike">
                  <a:solidFill>
                    <a:srgbClr val="ffffcc"/>
                  </a:solidFill>
                  <a:latin typeface="Arial"/>
                </a:rPr>
                <a:t>Joseana Macêdo Fechine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1" i="1" lang="pt-BR" sz="2600" spc="-1" strike="noStrike">
                  <a:solidFill>
                    <a:srgbClr val="ffffcc"/>
                  </a:solidFill>
                  <a:latin typeface="Arial"/>
                </a:rPr>
                <a:t>José Eustáquio Rangel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CC1C-579F-4ACF-9A60-ECBABE41E9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0" name=""/>
          <p:cNvSpPr/>
          <p:nvPr/>
        </p:nvSpPr>
        <p:spPr>
          <a:xfrm>
            <a:off x="3529080" y="874800"/>
            <a:ext cx="208764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Árvore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169920" y="1508040"/>
            <a:ext cx="4124160" cy="824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29560" indent="-52956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Notação: </a:t>
            </a:r>
            <a:r>
              <a:rPr b="1" lang="pt-PT" sz="4000" spc="-1" strike="noStrike">
                <a:solidFill>
                  <a:srgbClr val="ffffff"/>
                </a:solidFill>
                <a:latin typeface="Arial"/>
              </a:rPr>
              <a:t>Tv</a:t>
            </a:r>
            <a:r>
              <a:rPr b="0" lang="pt-BR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7240" y="2420640"/>
            <a:ext cx="8229600" cy="1028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0720" indent="-45072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"/>
              <a:tabLst>
                <a:tab algn="l" pos="188748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Se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é um nó de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então a notação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v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indica a subárvore de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com raiz em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440000" y="3430440"/>
            <a:ext cx="6263640" cy="3038760"/>
            <a:chOff x="1440000" y="3430440"/>
            <a:chExt cx="6263640" cy="3038760"/>
          </a:xfrm>
        </p:grpSpPr>
        <p:sp>
          <p:nvSpPr>
            <p:cNvPr id="164" name=""/>
            <p:cNvSpPr/>
            <p:nvPr/>
          </p:nvSpPr>
          <p:spPr>
            <a:xfrm flipH="1">
              <a:off x="3091680" y="3925800"/>
              <a:ext cx="1152360" cy="927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52400" y="5187960"/>
              <a:ext cx="1020240" cy="819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4962240" y="5187960"/>
              <a:ext cx="1020240" cy="819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40120" y="3927600"/>
              <a:ext cx="1152000" cy="925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98520" y="5187960"/>
              <a:ext cx="1020240" cy="819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97480" y="5187960"/>
              <a:ext cx="1020240" cy="819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0000" y="5859360"/>
              <a:ext cx="47412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25560" dir="162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9080" y="5859360"/>
              <a:ext cx="47412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25560" dir="162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87480" y="4610160"/>
              <a:ext cx="47412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25560" dir="162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46200" y="3430440"/>
              <a:ext cx="47448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25560" dir="162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ffffff"/>
                  </a:solidFill>
                  <a:latin typeface="Arial Black"/>
                </a:rPr>
                <a:t>d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06560" y="5859360"/>
              <a:ext cx="47448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25560" dir="162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ffffff"/>
                  </a:solidFill>
                  <a:latin typeface="Arial Black"/>
                </a:rPr>
                <a:t>e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05080" y="4610160"/>
              <a:ext cx="47448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25560" dir="162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ffffff"/>
                  </a:solidFill>
                  <a:latin typeface="Arial Black"/>
                </a:rPr>
                <a:t>f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29160" y="5859360"/>
              <a:ext cx="47448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25560" dir="162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ffffff"/>
                  </a:solidFill>
                  <a:latin typeface="Arial Black"/>
                </a:rPr>
                <a:t>g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F2E6-1698-4FFD-8BCE-92650CEFC3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8" name=""/>
          <p:cNvSpPr/>
          <p:nvPr/>
        </p:nvSpPr>
        <p:spPr>
          <a:xfrm>
            <a:off x="3529080" y="852480"/>
            <a:ext cx="208764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Árvore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9" name=""/>
          <p:cNvSpPr/>
          <p:nvPr/>
        </p:nvSpPr>
        <p:spPr>
          <a:xfrm>
            <a:off x="169920" y="1508040"/>
            <a:ext cx="8974080" cy="585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449280" indent="-4492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Árvore Transversal - Ordem de Acess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00200" y="2089080"/>
            <a:ext cx="8229600" cy="1028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0000"/>
          </a:bodyPr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"/>
              <a:tabLst>
                <a:tab algn="l" pos="1887480"/>
                <a:tab algn="l" pos="2244600"/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Ordenada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 Black"/>
              </a:rPr>
              <a:t>a b c d e f 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"/>
              <a:tabLst>
                <a:tab algn="l" pos="1887480"/>
                <a:tab algn="l" pos="2244600"/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Pré-ordenada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 Black"/>
              </a:rPr>
              <a:t>d b a c f e 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"/>
              <a:tabLst>
                <a:tab algn="l" pos="1887480"/>
                <a:tab algn="l" pos="2244600"/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Pós-ordenada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 Black"/>
              </a:rPr>
              <a:t>a c b e g f 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440000" y="3541680"/>
            <a:ext cx="6263640" cy="3038400"/>
            <a:chOff x="1440000" y="3541680"/>
            <a:chExt cx="6263640" cy="3038400"/>
          </a:xfrm>
        </p:grpSpPr>
        <p:sp>
          <p:nvSpPr>
            <p:cNvPr id="182" name=""/>
            <p:cNvSpPr/>
            <p:nvPr/>
          </p:nvSpPr>
          <p:spPr>
            <a:xfrm flipH="1">
              <a:off x="3091680" y="4036680"/>
              <a:ext cx="1152360" cy="926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1652400" y="5298840"/>
              <a:ext cx="1020240" cy="818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4962240" y="5298840"/>
              <a:ext cx="1020240" cy="818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40120" y="4038480"/>
              <a:ext cx="1152000" cy="924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8520" y="5298840"/>
              <a:ext cx="1020240" cy="818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97480" y="5298840"/>
              <a:ext cx="1020240" cy="818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40000" y="5970240"/>
              <a:ext cx="47412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25560" dir="162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59080" y="5970240"/>
              <a:ext cx="47412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25560" dir="162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787480" y="4721040"/>
              <a:ext cx="47412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25560" dir="162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46200" y="3541680"/>
              <a:ext cx="47448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25560" dir="162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ffffff"/>
                  </a:solidFill>
                  <a:latin typeface="Arial Black"/>
                </a:rPr>
                <a:t>d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06560" y="5970240"/>
              <a:ext cx="47448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25560" dir="162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ffffff"/>
                  </a:solidFill>
                  <a:latin typeface="Arial Black"/>
                </a:rPr>
                <a:t>e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05080" y="4721040"/>
              <a:ext cx="47448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25560" dir="162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ffffff"/>
                  </a:solidFill>
                  <a:latin typeface="Arial Black"/>
                </a:rPr>
                <a:t>f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29160" y="5970240"/>
              <a:ext cx="47448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25560" dir="162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ffffff"/>
                  </a:solidFill>
                  <a:latin typeface="Arial Black"/>
                </a:rPr>
                <a:t>g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3E5A-EB36-4D50-9199-2F29016416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1320" y="1874520"/>
            <a:ext cx="8613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Forma ordenada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: visita-se a subárvore da esquerda, a raiz e, em seguida, a subárvore da direi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Forma préordenada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: visita-se a raiz, a subárvore da esquerda e, em seguida, a subárvore da direi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Forma pós-ordenada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:  visita-se a subárvore da esquerda, a subárvore da direita e, depois, a raiz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7" name=""/>
          <p:cNvSpPr/>
          <p:nvPr/>
        </p:nvSpPr>
        <p:spPr>
          <a:xfrm>
            <a:off x="241200" y="1023840"/>
            <a:ext cx="8659800" cy="4352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de503"/>
                </a:solidFill>
                <a:latin typeface="Penguin"/>
              </a:rPr>
              <a:t>Árvore Transversal - Ordem de Acess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01C7-77C7-4EB1-81D1-59724EF9D0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3529080" y="797040"/>
            <a:ext cx="208764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Árvore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169920" y="1285920"/>
            <a:ext cx="4124160" cy="824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29560" indent="-52956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Definição</a:t>
            </a:r>
            <a:r>
              <a:rPr b="0" lang="pt-BR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7240" y="2163600"/>
            <a:ext cx="8229600" cy="4275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0720" indent="-450720" algn="just">
              <a:lnSpc>
                <a:spcPct val="90000"/>
              </a:lnSpc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188748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Uma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árvore T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é um conjunto finito de elementos denominados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nós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(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vértices 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ou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folhas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), tais qu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720" indent="0" algn="just">
              <a:lnSpc>
                <a:spcPct val="90000"/>
              </a:lnSpc>
              <a:buNone/>
              <a:tabLst>
                <a:tab algn="l" pos="188748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450720" indent="0" algn="just">
              <a:lnSpc>
                <a:spcPct val="90000"/>
              </a:lnSpc>
              <a:buNone/>
              <a:tabLst>
                <a:tab algn="l" pos="188748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1000080" indent="-369720" algn="just">
              <a:lnSpc>
                <a:spcPct val="90000"/>
              </a:lnSpc>
              <a:buClr>
                <a:srgbClr val="ffffcc"/>
              </a:buClr>
              <a:buSzPct val="80000"/>
              <a:buFont typeface="Wingdings" charset="2"/>
              <a:buChar char=""/>
              <a:tabLst>
                <a:tab algn="l" pos="188748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Se</a:t>
            </a: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 T = 0 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a árvore é dita</a:t>
            </a: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 vazia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00080" indent="0" algn="just">
              <a:lnSpc>
                <a:spcPct val="90000"/>
              </a:lnSpc>
              <a:buNone/>
              <a:tabLst>
                <a:tab algn="l" pos="188748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00080" indent="-369720" algn="just">
              <a:lnSpc>
                <a:spcPct val="90000"/>
              </a:lnSpc>
              <a:buClr>
                <a:srgbClr val="ffffcc"/>
              </a:buClr>
              <a:buSzPct val="80000"/>
              <a:buFont typeface="Wingdings" charset="2"/>
              <a:buChar char=""/>
              <a:tabLst>
                <a:tab algn="l" pos="188748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Há um nó especial</a:t>
            </a: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 r, 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denominado</a:t>
            </a: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 raiz 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de</a:t>
            </a: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 T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00080" indent="0" algn="just">
              <a:lnSpc>
                <a:spcPct val="90000"/>
              </a:lnSpc>
              <a:buNone/>
              <a:tabLst>
                <a:tab algn="l" pos="188748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00080" indent="-369720" algn="just">
              <a:lnSpc>
                <a:spcPct val="90000"/>
              </a:lnSpc>
              <a:buClr>
                <a:srgbClr val="ffffcc"/>
              </a:buClr>
              <a:buSzPct val="80000"/>
              <a:buFont typeface="Wingdings" charset="2"/>
              <a:buChar char=""/>
              <a:tabLst>
                <a:tab algn="l" pos="188748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Os demais nós constituem um único conjunto vazio ou são divididos</a:t>
            </a: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em</a:t>
            </a: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 m        (m </a:t>
            </a:r>
            <a:r>
              <a:rPr b="1" lang="pt-BR" sz="26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 1) conjuntos distintos não vazios (subárvores 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de</a:t>
            </a: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 r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)</a:t>
            </a: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6CC8-8BEF-432B-BF27-0A76F88A3A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2608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"/>
          <p:cNvSpPr/>
          <p:nvPr/>
        </p:nvSpPr>
        <p:spPr>
          <a:xfrm>
            <a:off x="396720" y="1187280"/>
            <a:ext cx="8747280" cy="824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4960" indent="-5349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de503"/>
                </a:solidFill>
                <a:latin typeface="Penguin"/>
              </a:rPr>
              <a:t>Terminologia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909720" y="1747800"/>
            <a:ext cx="7954920" cy="4149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1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Times New Roman"/>
              </a:rPr>
              <a:t>Nó pai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– nó ao qual um nó está ligado (diretamente).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266760" indent="-266760" algn="just">
              <a:lnSpc>
                <a:spcPct val="11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Times New Roman"/>
              </a:rPr>
              <a:t>Nó filho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– cada um dos nós derivados de um nó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266760" indent="-266760" algn="just">
              <a:lnSpc>
                <a:spcPct val="11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Times New Roman"/>
              </a:rPr>
              <a:t>Nó ancestral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– os nós acima de um dado nó, em direção a raiz.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266760" indent="-266760" algn="just">
              <a:lnSpc>
                <a:spcPct val="11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Times New Roman"/>
              </a:rPr>
              <a:t>Nó descendente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– todos os nós abaixo de um dado nó.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266760" indent="-266760" algn="just">
              <a:lnSpc>
                <a:spcPct val="11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Times New Roman"/>
              </a:rPr>
              <a:t>Nós irmãos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– nós com o mesmo pai.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266760" indent="-266760" algn="just">
              <a:lnSpc>
                <a:spcPct val="11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Times New Roman"/>
              </a:rPr>
              <a:t>Grau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– número de sub-árvores de um nó.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266760" indent="-266760" algn="just">
              <a:lnSpc>
                <a:spcPct val="11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Times New Roman"/>
              </a:rPr>
              <a:t>Nó terminal (folha)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– nó sem filho ou com grau zero.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266760" indent="-266760" algn="just">
              <a:lnSpc>
                <a:spcPct val="11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Times New Roman"/>
              </a:rPr>
              <a:t>Nível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– número de arcos entre um nó e a raiz.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266760" indent="-266760" algn="just">
              <a:lnSpc>
                <a:spcPct val="11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Times New Roman"/>
              </a:rPr>
              <a:t>Altura da árvore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– nível mais alto (profundidade).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266760" indent="-266760" algn="just">
              <a:lnSpc>
                <a:spcPct val="11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Times New Roman"/>
              </a:rPr>
              <a:t>Floresta</a:t>
            </a:r>
            <a:r>
              <a:rPr b="1" lang="pt-BR" sz="22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– conjunto de árvores disjuntas.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"/>
          <p:cNvSpPr/>
          <p:nvPr/>
        </p:nvSpPr>
        <p:spPr>
          <a:xfrm>
            <a:off x="3529080" y="797040"/>
            <a:ext cx="208764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Árvore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0565-5238-4F42-9787-4FF0475974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14040" y="2268360"/>
            <a:ext cx="8039160" cy="2980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66"/>
              </a:buClr>
              <a:buSzPct val="95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Relação de hierarquia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(</a:t>
            </a:r>
            <a:r>
              <a:rPr b="1" i="1" lang="pt-B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composição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Organogr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Diretó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eças de um conju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xpressão aritmé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Armazenamento de dados com acesso rápido (árvore binária de pesqui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6720" y="1601640"/>
            <a:ext cx="8747280" cy="595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4960" indent="-53496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de503"/>
                </a:solidFill>
                <a:latin typeface="Penguin"/>
              </a:rPr>
              <a:t>Aplicações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"/>
          <p:cNvSpPr/>
          <p:nvPr/>
        </p:nvSpPr>
        <p:spPr>
          <a:xfrm>
            <a:off x="3529080" y="797040"/>
            <a:ext cx="208764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Árvore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3635-1481-4D09-A683-0ACFA182ED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96720" y="1601640"/>
            <a:ext cx="8747280" cy="824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486720" indent="-48672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de503"/>
                </a:solidFill>
                <a:latin typeface="Penguin"/>
              </a:rPr>
              <a:t>Exemplo de Aplicação: Árvore de Jogo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392120" y="2495520"/>
            <a:ext cx="6472080" cy="3790800"/>
            <a:chOff x="1392120" y="2495520"/>
            <a:chExt cx="6472080" cy="3790800"/>
          </a:xfrm>
        </p:grpSpPr>
        <p:sp>
          <p:nvSpPr>
            <p:cNvPr id="118" name=""/>
            <p:cNvSpPr/>
            <p:nvPr/>
          </p:nvSpPr>
          <p:spPr>
            <a:xfrm>
              <a:off x="1392120" y="2495520"/>
              <a:ext cx="6472080" cy="3790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1"/>
            <a:srcRect l="13370" t="0" r="13607" b="0"/>
            <a:stretch/>
          </p:blipFill>
          <p:spPr>
            <a:xfrm>
              <a:off x="1688760" y="2679480"/>
              <a:ext cx="5880240" cy="342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"/>
          <p:cNvSpPr/>
          <p:nvPr/>
        </p:nvSpPr>
        <p:spPr>
          <a:xfrm>
            <a:off x="3529080" y="797040"/>
            <a:ext cx="208764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Árvore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160B-874C-4D2E-B45C-E66ECDB358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48920" y="2084400"/>
            <a:ext cx="8196120" cy="4324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1" marL="950760" indent="-498240" algn="just">
              <a:buClr>
                <a:srgbClr val="ffff66"/>
              </a:buClr>
              <a:buSzPct val="85000"/>
              <a:buFont typeface="Wingdings" charset="2"/>
              <a:buChar char="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Conjunto finito de elementos denominados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pt-BR" sz="2800" spc="-1" strike="noStrike">
                <a:solidFill>
                  <a:srgbClr val="ffffcc"/>
                </a:solidFill>
                <a:latin typeface="Arial"/>
              </a:rPr>
              <a:t>nós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ou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pt-BR" sz="2800" spc="-1" strike="noStrike">
                <a:solidFill>
                  <a:srgbClr val="ffffcc"/>
                </a:solidFill>
                <a:latin typeface="Arial"/>
              </a:rPr>
              <a:t>vértices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, tal que:</a:t>
            </a:r>
            <a:r>
              <a:rPr b="1" lang="pt-BR" sz="3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buNone/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88240" indent="-424440" algn="just">
              <a:buClr>
                <a:srgbClr val="ffffcc"/>
              </a:buClr>
              <a:buSzPct val="80000"/>
              <a:buFont typeface="Wingdings" charset="2"/>
              <a:buChar char="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T = 0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, a árvore é dita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vazia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; o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buNone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488240" indent="-424440" algn="just">
              <a:buClr>
                <a:srgbClr val="ffffcc"/>
              </a:buClr>
              <a:buSzPct val="80000"/>
              <a:buFont typeface="Wingdings" charset="2"/>
              <a:buChar char="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existe um nó especial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raiz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de T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buNone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488240" indent="-424440" algn="just">
              <a:buClr>
                <a:srgbClr val="ffffcc"/>
              </a:buClr>
              <a:buSzPct val="80000"/>
              <a:buFont typeface="Wingdings" charset="2"/>
              <a:buChar char="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os nós restantes podem ser divididos em dois subconjuntos disjuntos,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Tre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e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Trd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(sub-árvores esquerda e direita de 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r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, respectivamente), as quais, por sua vez, também são árvores binári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6720" y="1400040"/>
            <a:ext cx="8747280" cy="538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4960" indent="-53496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de503"/>
                </a:solidFill>
                <a:latin typeface="Penguin"/>
              </a:rPr>
              <a:t>Árvore Binária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>
            <a:off x="973080" y="1080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3529080" y="817560"/>
            <a:ext cx="208764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Árvore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EF83-0045-43E6-A9F9-E797557BE4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96720" y="1601640"/>
            <a:ext cx="8747280" cy="824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4960" indent="-53496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de503"/>
                </a:solidFill>
                <a:latin typeface="Penguin"/>
              </a:rPr>
              <a:t>Árvore Binária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>
            <a:off x="3529080" y="874800"/>
            <a:ext cx="208764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Árvore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9" name=""/>
          <p:cNvSpPr/>
          <p:nvPr/>
        </p:nvSpPr>
        <p:spPr>
          <a:xfrm>
            <a:off x="1170000" y="3075120"/>
            <a:ext cx="1714320" cy="610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sub-árvore esquerda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608200" y="2428920"/>
            <a:ext cx="5189760" cy="3532680"/>
            <a:chOff x="2608200" y="2428920"/>
            <a:chExt cx="5189760" cy="3532680"/>
          </a:xfrm>
        </p:grpSpPr>
        <p:sp>
          <p:nvSpPr>
            <p:cNvPr id="131" name=""/>
            <p:cNvSpPr/>
            <p:nvPr/>
          </p:nvSpPr>
          <p:spPr>
            <a:xfrm>
              <a:off x="2608200" y="3332160"/>
              <a:ext cx="1095480" cy="961920"/>
            </a:xfrm>
            <a:prstGeom prst="ellipse">
              <a:avLst/>
            </a:prstGeom>
            <a:solidFill>
              <a:srgbClr val="dbf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81600" y="3486240"/>
              <a:ext cx="2771640" cy="2200320"/>
            </a:xfrm>
            <a:prstGeom prst="ellipse">
              <a:avLst/>
            </a:prstGeom>
            <a:solidFill>
              <a:srgbClr val="dbf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38800" y="2886120"/>
              <a:ext cx="828360" cy="81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51560" y="3998880"/>
              <a:ext cx="600120" cy="80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663800" y="4035600"/>
              <a:ext cx="5713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47640" y="2890800"/>
              <a:ext cx="723960" cy="73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71880" y="2428920"/>
              <a:ext cx="539640" cy="539640"/>
            </a:xfrm>
            <a:prstGeom prst="ellipse">
              <a:avLst/>
            </a:prstGeom>
            <a:solidFill>
              <a:srgbClr val="cc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18120" y="4694400"/>
              <a:ext cx="540000" cy="539640"/>
            </a:xfrm>
            <a:prstGeom prst="ellipse">
              <a:avLst/>
            </a:prstGeom>
            <a:solidFill>
              <a:srgbClr val="cc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 Black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26040" y="4664160"/>
              <a:ext cx="539640" cy="539640"/>
            </a:xfrm>
            <a:prstGeom prst="ellipse">
              <a:avLst/>
            </a:prstGeom>
            <a:solidFill>
              <a:srgbClr val="cc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 Black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29280" y="3576600"/>
              <a:ext cx="539640" cy="539640"/>
            </a:xfrm>
            <a:prstGeom prst="ellipse">
              <a:avLst/>
            </a:prstGeom>
            <a:solidFill>
              <a:srgbClr val="cc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79640" y="3556080"/>
              <a:ext cx="540000" cy="539640"/>
            </a:xfrm>
            <a:prstGeom prst="ellipse">
              <a:avLst/>
            </a:prstGeom>
            <a:solidFill>
              <a:srgbClr val="cc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 Black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3228840" y="4123800"/>
              <a:ext cx="1038240" cy="15051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265640" y="5103720"/>
              <a:ext cx="1790640" cy="53352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284720" y="5198760"/>
              <a:ext cx="133200" cy="43812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600440" y="2676600"/>
              <a:ext cx="79056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05480" y="2514600"/>
              <a:ext cx="571320" cy="3052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00"/>
                  </a:solidFill>
                  <a:latin typeface="Arial"/>
                </a:rPr>
                <a:t>raiz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03680" y="5656320"/>
              <a:ext cx="990720" cy="3052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00"/>
                  </a:solidFill>
                  <a:latin typeface="Arial"/>
                </a:rPr>
                <a:t>folhas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83280" y="3330720"/>
              <a:ext cx="1714680" cy="61020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00"/>
                  </a:solidFill>
                  <a:latin typeface="Arial"/>
                </a:rPr>
                <a:t>sub-árvore direita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2E1C-0956-4308-87E8-C9F6AA8E8B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47760" y="2019240"/>
            <a:ext cx="8229600" cy="68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Redes de comunicação de d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6400" y="1509840"/>
            <a:ext cx="8109000" cy="585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422280" indent="-4222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de503"/>
                </a:solidFill>
                <a:latin typeface="Penguin"/>
              </a:rPr>
              <a:t>Exemplo de Aplicação de Árvore Binári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258920" y="2573280"/>
            <a:ext cx="6516720" cy="3706560"/>
            <a:chOff x="1258920" y="2573280"/>
            <a:chExt cx="6516720" cy="3706560"/>
          </a:xfrm>
        </p:grpSpPr>
        <p:sp>
          <p:nvSpPr>
            <p:cNvPr id="152" name=""/>
            <p:cNvSpPr/>
            <p:nvPr/>
          </p:nvSpPr>
          <p:spPr>
            <a:xfrm>
              <a:off x="1258920" y="2671560"/>
              <a:ext cx="6516720" cy="3608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1460520" y="2573280"/>
              <a:ext cx="5973840" cy="361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5" name=""/>
          <p:cNvSpPr/>
          <p:nvPr/>
        </p:nvSpPr>
        <p:spPr>
          <a:xfrm>
            <a:off x="3529080" y="797040"/>
            <a:ext cx="208764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Árvore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9E0C-47CE-4767-A966-682BD13B50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47760" y="1720440"/>
            <a:ext cx="8229600" cy="453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spcBef>
                <a:spcPts val="700"/>
              </a:spcBef>
              <a:buClr>
                <a:srgbClr val="ffff66"/>
              </a:buClr>
              <a:buSzPct val="95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Operações associadas ao TAD árvore binária padrã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076400" indent="-449280" algn="just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Definir uma árvore vaz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6400" indent="-449280" algn="just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riar um nó rai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6400" indent="-449280" algn="just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Verificar se árvore vazia ou n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6400" indent="-449280" algn="just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riar um filho à direita de um dado n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6400" indent="-449280" algn="just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riar um filho à esquerda de um dado n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6400" indent="-449280" algn="just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Verificar qual o nível de um dado n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6400" indent="-449280" algn="just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Retornar o pai de um dado n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3529080" y="874800"/>
            <a:ext cx="208764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Árvore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A7C6-9F16-43BE-B335-E8A4943099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06:02Z</dcterms:created>
  <dc:creator>Alexandre Magno Andrade Maciel</dc:creator>
  <dc:description/>
  <dc:language>en-US</dc:language>
  <cp:lastModifiedBy>Particular</cp:lastModifiedBy>
  <cp:lastPrinted>2002-02-17T19:14:27Z</cp:lastPrinted>
  <dcterms:modified xsi:type="dcterms:W3CDTF">2004-11-16T15:44:03Z</dcterms:modified>
  <cp:revision>298</cp:revision>
  <dc:subject/>
  <dc:title>Reconhecimento de voz</dc:title>
</cp:coreProperties>
</file>