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58DF-B99A-4D54-BFAC-B5D31950D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9BD3-C97B-44B2-A6CF-FAF13262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58A8-6920-4441-972F-BF83523E4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272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516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028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272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516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69AF-14E7-4247-8255-99A560F71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4050-CC94-4933-B91B-5C6EE0779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5232-4466-4E1D-BFD3-5612F973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F1D0-9366-4406-AFE3-D73B52BD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6D35-0C03-4BB2-A6D1-BE4365C7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47DF-6C5E-45CD-99FC-9877AE1B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5801-93B1-4DB0-9BD0-CDEA016C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7368-E09C-4AB0-A83A-F1164331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18FE-9DB7-4FC2-98FE-278CCABF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6BE9-A3FA-4D7A-BEB9-8FF42EE2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196D-9970-47B2-9480-BCFC9E40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52DE-FE8A-4846-8C78-1A1ACD54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D4F5-E774-4318-9CFB-542ED637F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272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516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3028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272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9516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BD2D2-85CF-4215-BC11-63925EC82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AF00-03A2-415B-8345-851CF737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5258-7D4F-414E-A9BA-BB803148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AA19-24CA-4BC0-B125-A1F64822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A0B3-018E-4781-A975-8FF98B4E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53A9-02D9-46AB-A8CC-FE9CB0EF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8A63-BD63-418C-8369-41F0244E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C1D2-2C11-4CFD-BEA0-E3B38AF4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3981600"/>
            <a:ext cx="3400560" cy="2863800"/>
          </a:xfrm>
          <a:custGeom>
            <a:avLst/>
            <a:gdLst/>
            <a:ahLst/>
            <a:rect l="l" t="t" r="r" b="b"/>
            <a:pathLst>
              <a:path w="2135" h="1804">
                <a:moveTo>
                  <a:pt x="329" y="66"/>
                </a:moveTo>
                <a:lnTo>
                  <a:pt x="161" y="30"/>
                </a:lnTo>
                <a:lnTo>
                  <a:pt x="0" y="0"/>
                </a:lnTo>
                <a:lnTo>
                  <a:pt x="0" y="12"/>
                </a:lnTo>
                <a:lnTo>
                  <a:pt x="161" y="42"/>
                </a:lnTo>
                <a:lnTo>
                  <a:pt x="323" y="78"/>
                </a:lnTo>
                <a:lnTo>
                  <a:pt x="556" y="150"/>
                </a:lnTo>
                <a:lnTo>
                  <a:pt x="777" y="245"/>
                </a:lnTo>
                <a:lnTo>
                  <a:pt x="993" y="365"/>
                </a:lnTo>
                <a:lnTo>
                  <a:pt x="1196" y="503"/>
                </a:lnTo>
                <a:lnTo>
                  <a:pt x="1381" y="653"/>
                </a:lnTo>
                <a:lnTo>
                  <a:pt x="1555" y="827"/>
                </a:lnTo>
                <a:lnTo>
                  <a:pt x="1710" y="1019"/>
                </a:lnTo>
                <a:lnTo>
                  <a:pt x="1854" y="1229"/>
                </a:lnTo>
                <a:lnTo>
                  <a:pt x="1937" y="1366"/>
                </a:lnTo>
                <a:lnTo>
                  <a:pt x="2009" y="1510"/>
                </a:lnTo>
                <a:lnTo>
                  <a:pt x="2069" y="1654"/>
                </a:lnTo>
                <a:lnTo>
                  <a:pt x="2123" y="1804"/>
                </a:lnTo>
                <a:lnTo>
                  <a:pt x="2135" y="1804"/>
                </a:lnTo>
                <a:lnTo>
                  <a:pt x="2081" y="1654"/>
                </a:lnTo>
                <a:lnTo>
                  <a:pt x="2021" y="1510"/>
                </a:lnTo>
                <a:lnTo>
                  <a:pt x="1949" y="1366"/>
                </a:lnTo>
                <a:lnTo>
                  <a:pt x="1866" y="1223"/>
                </a:lnTo>
                <a:lnTo>
                  <a:pt x="1722" y="1013"/>
                </a:lnTo>
                <a:lnTo>
                  <a:pt x="1561" y="821"/>
                </a:lnTo>
                <a:lnTo>
                  <a:pt x="1387" y="647"/>
                </a:lnTo>
                <a:lnTo>
                  <a:pt x="1202" y="491"/>
                </a:lnTo>
                <a:lnTo>
                  <a:pt x="999" y="353"/>
                </a:lnTo>
                <a:lnTo>
                  <a:pt x="783" y="239"/>
                </a:lnTo>
                <a:lnTo>
                  <a:pt x="562" y="138"/>
                </a:lnTo>
                <a:lnTo>
                  <a:pt x="329" y="66"/>
                </a:lnTo>
                <a:lnTo>
                  <a:pt x="329" y="6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cc9900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0" y="4341960"/>
            <a:ext cx="2770200" cy="2503440"/>
          </a:xfrm>
          <a:custGeom>
            <a:avLst/>
            <a:gdLst/>
            <a:ahLst/>
            <a:rect l="l" t="t" r="r" b="b"/>
            <a:pathLst>
              <a:path w="1745" h="1577">
                <a:moveTo>
                  <a:pt x="1640" y="1377"/>
                </a:moveTo>
                <a:lnTo>
                  <a:pt x="1692" y="1479"/>
                </a:lnTo>
                <a:lnTo>
                  <a:pt x="1732" y="1577"/>
                </a:lnTo>
                <a:lnTo>
                  <a:pt x="1745" y="1577"/>
                </a:lnTo>
                <a:lnTo>
                  <a:pt x="1703" y="1469"/>
                </a:lnTo>
                <a:lnTo>
                  <a:pt x="1649" y="1367"/>
                </a:lnTo>
                <a:lnTo>
                  <a:pt x="1535" y="1157"/>
                </a:lnTo>
                <a:lnTo>
                  <a:pt x="1395" y="951"/>
                </a:lnTo>
                <a:lnTo>
                  <a:pt x="1236" y="756"/>
                </a:lnTo>
                <a:lnTo>
                  <a:pt x="1061" y="582"/>
                </a:lnTo>
                <a:lnTo>
                  <a:pt x="876" y="426"/>
                </a:lnTo>
                <a:lnTo>
                  <a:pt x="672" y="294"/>
                </a:lnTo>
                <a:lnTo>
                  <a:pt x="455" y="174"/>
                </a:lnTo>
                <a:lnTo>
                  <a:pt x="234" y="78"/>
                </a:lnTo>
                <a:lnTo>
                  <a:pt x="0" y="0"/>
                </a:lnTo>
                <a:lnTo>
                  <a:pt x="0" y="12"/>
                </a:lnTo>
                <a:lnTo>
                  <a:pt x="222" y="89"/>
                </a:lnTo>
                <a:lnTo>
                  <a:pt x="446" y="185"/>
                </a:lnTo>
                <a:lnTo>
                  <a:pt x="662" y="305"/>
                </a:lnTo>
                <a:lnTo>
                  <a:pt x="866" y="437"/>
                </a:lnTo>
                <a:lnTo>
                  <a:pt x="1052" y="593"/>
                </a:lnTo>
                <a:lnTo>
                  <a:pt x="1226" y="767"/>
                </a:lnTo>
                <a:lnTo>
                  <a:pt x="1385" y="960"/>
                </a:lnTo>
                <a:lnTo>
                  <a:pt x="1526" y="1167"/>
                </a:lnTo>
                <a:lnTo>
                  <a:pt x="1640" y="1377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fffcc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"/>
          <p:cNvSpPr/>
          <p:nvPr/>
        </p:nvSpPr>
        <p:spPr>
          <a:xfrm>
            <a:off x="0" y="4038480"/>
            <a:ext cx="2770200" cy="2806920"/>
          </a:xfrm>
          <a:custGeom>
            <a:avLst/>
            <a:gdLst/>
            <a:ahLst/>
            <a:rect l="l" t="t" r="r" b="b"/>
            <a:pathLst>
              <a:path w="1745" h="1768">
                <a:moveTo>
                  <a:pt x="0" y="0"/>
                </a:moveTo>
                <a:lnTo>
                  <a:pt x="0" y="12"/>
                </a:lnTo>
                <a:lnTo>
                  <a:pt x="210" y="88"/>
                </a:lnTo>
                <a:lnTo>
                  <a:pt x="426" y="190"/>
                </a:lnTo>
                <a:lnTo>
                  <a:pt x="630" y="304"/>
                </a:lnTo>
                <a:lnTo>
                  <a:pt x="818" y="442"/>
                </a:lnTo>
                <a:lnTo>
                  <a:pt x="998" y="592"/>
                </a:lnTo>
                <a:lnTo>
                  <a:pt x="1164" y="766"/>
                </a:lnTo>
                <a:lnTo>
                  <a:pt x="1310" y="942"/>
                </a:lnTo>
                <a:lnTo>
                  <a:pt x="1454" y="1146"/>
                </a:lnTo>
                <a:lnTo>
                  <a:pt x="1536" y="1298"/>
                </a:lnTo>
                <a:lnTo>
                  <a:pt x="1614" y="1456"/>
                </a:lnTo>
                <a:lnTo>
                  <a:pt x="1682" y="1616"/>
                </a:lnTo>
                <a:lnTo>
                  <a:pt x="1733" y="1768"/>
                </a:lnTo>
                <a:lnTo>
                  <a:pt x="1745" y="1768"/>
                </a:lnTo>
                <a:lnTo>
                  <a:pt x="1691" y="1606"/>
                </a:lnTo>
                <a:lnTo>
                  <a:pt x="1623" y="1445"/>
                </a:lnTo>
                <a:lnTo>
                  <a:pt x="1547" y="1288"/>
                </a:lnTo>
                <a:lnTo>
                  <a:pt x="1463" y="1136"/>
                </a:lnTo>
                <a:lnTo>
                  <a:pt x="1320" y="932"/>
                </a:lnTo>
                <a:lnTo>
                  <a:pt x="1173" y="755"/>
                </a:lnTo>
                <a:lnTo>
                  <a:pt x="1008" y="581"/>
                </a:lnTo>
                <a:lnTo>
                  <a:pt x="827" y="431"/>
                </a:lnTo>
                <a:lnTo>
                  <a:pt x="642" y="293"/>
                </a:lnTo>
                <a:lnTo>
                  <a:pt x="437" y="179"/>
                </a:lnTo>
                <a:lnTo>
                  <a:pt x="222" y="7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de503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"/>
          <p:cNvSpPr/>
          <p:nvPr/>
        </p:nvSpPr>
        <p:spPr>
          <a:xfrm>
            <a:off x="1711440" y="5305320"/>
            <a:ext cx="136440" cy="1368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cc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"/>
          <p:cNvSpPr/>
          <p:nvPr/>
        </p:nvSpPr>
        <p:spPr>
          <a:xfrm>
            <a:off x="2438280" y="6165720"/>
            <a:ext cx="146160" cy="146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de503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"/>
          <p:cNvSpPr/>
          <p:nvPr/>
        </p:nvSpPr>
        <p:spPr>
          <a:xfrm>
            <a:off x="1123920" y="4554360"/>
            <a:ext cx="192240" cy="192240"/>
          </a:xfrm>
          <a:prstGeom prst="ellipse">
            <a:avLst/>
          </a:prstGeom>
          <a:blipFill rotWithShape="0">
            <a:blip r:embed="rId2">
              <a:alphaModFix amt="5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4824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5768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000" spc="-1" strike="noStrike">
                <a:solidFill>
                  <a:srgbClr val="ffffff"/>
                </a:solidFill>
                <a:latin typeface="Arial"/>
              </a:rPr>
              <a:t>DSC/CCT/UFCG – Técnicas de Programação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795720" y="634824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2800" spc="-1" strike="noStrike">
                <a:solidFill>
                  <a:srgbClr val="ffffff"/>
                </a:solidFill>
                <a:latin typeface="Pengui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4023-3DB4-4749-B447-7011A2CD91E0}" type="slidenum">
              <a:rPr b="1" lang="pt-BR" sz="2800" spc="-1" strike="noStrike">
                <a:solidFill>
                  <a:srgbClr val="ffffff"/>
                </a:solidFill>
                <a:latin typeface="Pengui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"/>
          <p:cNvSpPr/>
          <p:nvPr/>
        </p:nvSpPr>
        <p:spPr>
          <a:xfrm>
            <a:off x="1862280" y="4713120"/>
            <a:ext cx="191880" cy="192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cc9900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9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15F2-A50E-4F81-BD59-54E2F45D4CA1}" type="slidenum">
              <a:rPr b="0" lang="pt-B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692280" y="257040"/>
            <a:ext cx="7804080" cy="1067040"/>
            <a:chOff x="692280" y="257040"/>
            <a:chExt cx="7804080" cy="1067040"/>
          </a:xfrm>
        </p:grpSpPr>
        <p:sp>
          <p:nvSpPr>
            <p:cNvPr id="97" name=""/>
            <p:cNvSpPr/>
            <p:nvPr/>
          </p:nvSpPr>
          <p:spPr>
            <a:xfrm>
              <a:off x="723960" y="257040"/>
              <a:ext cx="7772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000000"/>
                  </a:solidFill>
                  <a:latin typeface="Penguin"/>
                </a:rPr>
                <a:t>Técnicas de Programação</a:t>
              </a:r>
              <a:endParaRPr b="0" lang="en-US" sz="4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2280" y="282600"/>
              <a:ext cx="7772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99"/>
                  </a:solidFill>
                  <a:latin typeface="Penguin"/>
                </a:rPr>
                <a:t>Técnicas de Programação</a:t>
              </a:r>
              <a:endParaRPr b="0" lang="en-US" sz="4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057400" y="4473720"/>
            <a:ext cx="5029200" cy="939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90720" indent="-99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ofs.: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Joseana Macêdo Fechin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990720" indent="-99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José Eustáquio Rang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"/>
          <p:cNvSpPr/>
          <p:nvPr/>
        </p:nvSpPr>
        <p:spPr>
          <a:xfrm>
            <a:off x="1009800" y="1751040"/>
            <a:ext cx="7124400" cy="200016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01"/>
                </a:solidFill>
                <a:latin typeface="Penguin"/>
              </a:rPr>
              <a:t>Linguagem </a:t>
            </a:r>
            <a:r>
              <a:rPr b="1" lang="pt-BR" sz="5400" spc="-1" strike="noStrike">
                <a:solidFill>
                  <a:srgbClr val="ff9900"/>
                </a:solidFill>
                <a:latin typeface="Penguin"/>
              </a:rPr>
              <a:t>C</a:t>
            </a:r>
            <a:endParaRPr b="0" lang="en-US" sz="5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01"/>
                </a:solidFill>
                <a:latin typeface="Penguin"/>
              </a:rPr>
              <a:t>Ordenação e Busca</a:t>
            </a:r>
            <a:r>
              <a:rPr b="1" lang="pt-BR" sz="5400" spc="-1" strike="noStrike">
                <a:solidFill>
                  <a:srgbClr val="ffff01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1"/>
                </a:solidFill>
                <a:latin typeface="Tahoma"/>
              </a:rPr>
              <a:t>(Informações adicionais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0763-B80F-4386-A13C-24CBF4ED72B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87520" y="1855800"/>
            <a:ext cx="8007120" cy="4269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Utiliza a abordagem “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dividir e conquistar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Primeiro verifica o elemento central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Se o elemento é maior que a chave, ele testa o elemento central da primeira metade; caso contrário, ele testa o elemento central da segunda metade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Esse procedimento é repetido até que o elemento seja encontrado ou que não haja mais elementos a testar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"/>
          <p:cNvSpPr/>
          <p:nvPr/>
        </p:nvSpPr>
        <p:spPr>
          <a:xfrm>
            <a:off x="254160" y="733320"/>
            <a:ext cx="8434080" cy="1109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36400" indent="-5364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Busca Binária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152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Busc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C01B-B691-4C93-B92F-99E30B8A54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87520" y="1749600"/>
            <a:ext cx="8007120" cy="4665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Encontrar o número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4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na matriz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1 2 3 4 5 6 7 8 9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Teste do elemento central (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5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),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5&gt;4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Busca: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12345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Teste do elemento central (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3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),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3&lt;4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Busca: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45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Nesse momento o elemento é encontrad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5" name=""/>
          <p:cNvSpPr/>
          <p:nvPr/>
        </p:nvSpPr>
        <p:spPr>
          <a:xfrm>
            <a:off x="272880" y="895320"/>
            <a:ext cx="8434440" cy="11095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36400" indent="-5364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Exemplo: Busca Binária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157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Busc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DD2C-0878-41F4-954C-729F371C07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87520" y="2035080"/>
            <a:ext cx="8007120" cy="3969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Número de comparações no pior caso: </a:t>
            </a:r>
            <a:r>
              <a:rPr b="1" i="1" lang="pt-BR" sz="2400" spc="-1" strike="noStrike">
                <a:solidFill>
                  <a:srgbClr val="ffcc00"/>
                </a:solidFill>
                <a:latin typeface="Arial"/>
              </a:rPr>
              <a:t>log</a:t>
            </a:r>
            <a:r>
              <a:rPr b="1" i="1" lang="pt-BR" sz="24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r>
              <a:rPr b="1" i="1" lang="pt-BR" sz="2400" spc="-1" strike="noStrike">
                <a:solidFill>
                  <a:srgbClr val="ffcc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Para o caso médio o número de comparações é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um pouco menor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Número de comparações no melhor caso: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0" name=""/>
          <p:cNvSpPr/>
          <p:nvPr/>
        </p:nvSpPr>
        <p:spPr>
          <a:xfrm>
            <a:off x="254160" y="733320"/>
            <a:ext cx="8434080" cy="1109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36400" indent="-5364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Busca Binária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162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Busc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BA98-73FC-48EB-9859-AC68E6D851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87520" y="2001960"/>
            <a:ext cx="8007120" cy="20224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Implementar os algoritmos de Busca Seqüencial e Busca Binária em uma matriz de caracteres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"/>
          <p:cNvSpPr/>
          <p:nvPr/>
        </p:nvSpPr>
        <p:spPr>
          <a:xfrm>
            <a:off x="379440" y="1128600"/>
            <a:ext cx="8434440" cy="1109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36400" indent="-5364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00"/>
                </a:solidFill>
                <a:latin typeface="Penguin"/>
              </a:rPr>
              <a:t>Exercíci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167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Busc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40DD-B95F-40F0-988A-A531612259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1880" y="1854360"/>
            <a:ext cx="8007480" cy="37227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marL="353880" indent="-353880" algn="just"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Ordenação de </a:t>
            </a:r>
            <a:r>
              <a:rPr b="1" i="1" lang="pt-BR" sz="2800" spc="-1" strike="noStrike">
                <a:solidFill>
                  <a:srgbClr val="ffcc00"/>
                </a:solidFill>
                <a:latin typeface="Arial"/>
              </a:rPr>
              <a:t>Strings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53880" indent="-353880" algn="just"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53880" indent="-35388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Maneira fácil – criação de uma matriz de ponteiros e caracteres para as 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strings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, possibilitando uma indexação fácil, e mantendo a base do algoritmo </a:t>
            </a:r>
            <a:r>
              <a:rPr b="1" i="1" lang="pt-BR" sz="2400" spc="-1" strike="noStrike">
                <a:solidFill>
                  <a:srgbClr val="ffcc00"/>
                </a:solidFill>
                <a:latin typeface="Arial"/>
              </a:rPr>
              <a:t>Quicksort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inalterada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53880" indent="-35388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2" name=""/>
          <p:cNvSpPr/>
          <p:nvPr/>
        </p:nvSpPr>
        <p:spPr>
          <a:xfrm>
            <a:off x="254160" y="733320"/>
            <a:ext cx="8434080" cy="1109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36400" indent="-5364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Ordenando outras estruturas de dado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104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ão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6D15-35EF-4C83-AE2C-0AA67FAE24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45960" y="0"/>
            <a:ext cx="7635960" cy="5824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cc00"/>
                </a:solidFill>
                <a:latin typeface="Penguin"/>
              </a:rPr>
              <a:t>Ordenação de Seqüência de Caracter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"/>
          <p:cNvSpPr/>
          <p:nvPr/>
        </p:nvSpPr>
        <p:spPr>
          <a:xfrm>
            <a:off x="480960" y="1731960"/>
            <a:ext cx="8229600" cy="45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"/>
          <p:cNvSpPr/>
          <p:nvPr/>
        </p:nvSpPr>
        <p:spPr>
          <a:xfrm>
            <a:off x="482760" y="1928880"/>
            <a:ext cx="812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3465360" y="665280"/>
            <a:ext cx="4491360" cy="57211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0" name=""/>
          <p:cNvSpPr/>
          <p:nvPr/>
        </p:nvSpPr>
        <p:spPr>
          <a:xfrm>
            <a:off x="7743600" y="432288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"/>
          <p:cNvSpPr/>
          <p:nvPr/>
        </p:nvSpPr>
        <p:spPr>
          <a:xfrm>
            <a:off x="3603600" y="787320"/>
            <a:ext cx="554040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/* Programa - Ordenação de Strings */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#include &lt;string.h&gt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#include &lt;stdio.h&gt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#include &lt;stdlib.h&gt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#include &lt;conio.h&gt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#define N 5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#define TAM 10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Courier New"/>
              </a:rPr>
              <a:t>void quick_string(char item[][TAM], int count)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Courier New"/>
              </a:rPr>
              <a:t>void qs_string(char item[][TAM], int left, int right)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void main(void)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int i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char s[N][TAM]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clrscr()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for(i=0;i&lt;N;i++)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printf("digite a string[%d]:",i+1)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gets(s[i])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Courier New"/>
              </a:rPr>
              <a:t>quick_string(s, N)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printf("\nStrings ordenadas:")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for(i=0;i&lt;N;i++)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printf("\n%s", s[i])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getche()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"/>
          <p:cNvSpPr/>
          <p:nvPr/>
        </p:nvSpPr>
        <p:spPr>
          <a:xfrm>
            <a:off x="574560" y="2368440"/>
            <a:ext cx="229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Descreva o que faz o programa ao lado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1A33-4D1F-4837-8E57-1DC32A3A99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45960" y="0"/>
            <a:ext cx="7635960" cy="5824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cc00"/>
                </a:solidFill>
                <a:latin typeface="Penguin"/>
              </a:rPr>
              <a:t>Ordenação de Seqüência de Caracter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"/>
          <p:cNvSpPr/>
          <p:nvPr/>
        </p:nvSpPr>
        <p:spPr>
          <a:xfrm>
            <a:off x="480960" y="1731960"/>
            <a:ext cx="8229600" cy="45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"/>
          <p:cNvSpPr/>
          <p:nvPr/>
        </p:nvSpPr>
        <p:spPr>
          <a:xfrm>
            <a:off x="482760" y="1928880"/>
            <a:ext cx="812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"/>
          <p:cNvSpPr/>
          <p:nvPr/>
        </p:nvSpPr>
        <p:spPr>
          <a:xfrm>
            <a:off x="3465360" y="682560"/>
            <a:ext cx="5048280" cy="59007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"/>
          <p:cNvSpPr/>
          <p:nvPr/>
        </p:nvSpPr>
        <p:spPr>
          <a:xfrm>
            <a:off x="7743600" y="432288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8" name=""/>
          <p:cNvSpPr/>
          <p:nvPr/>
        </p:nvSpPr>
        <p:spPr>
          <a:xfrm>
            <a:off x="3603600" y="717480"/>
            <a:ext cx="480528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/* Uma quicksort para strings */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void quick_string(char item[][TAM], int count)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qs_string(item, 0, count-1)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void qs_string(char item[][TAM], int left, int right)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register int i, j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char *x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char temp[10]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i=left; j=right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x=item[(left+right)/2]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do {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while(strcmp(item[i],x)&lt;0 &amp;&amp; i&lt;right) i++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while(strcmp(item[j],x)&gt;0 &amp;&amp; j&gt;left) j--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if(i&lt;=j) {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strcpy(temp,item[i])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strcpy(item[i],item[j])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strcpy(item[j],temp)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i++; j--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}while(i&lt;=j)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if(left&lt;j) qs_string(item, left, j)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if(i&lt;right) qs_string(item, i, right)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574560" y="1616040"/>
            <a:ext cx="229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Descreva o que faz a função ao lado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747880" y="4141800"/>
            <a:ext cx="1735200" cy="287280"/>
          </a:xfrm>
          <a:prstGeom prst="line">
            <a:avLst/>
          </a:prstGeom>
          <a:ln w="936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3502080"/>
            <a:ext cx="2565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strcmp(s1,s2) - retorna 0 se s1=s2, número negativo se s1&lt;s2 e um número positivo se s1&gt;s2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022480" y="4778280"/>
            <a:ext cx="2398680" cy="766800"/>
          </a:xfrm>
          <a:prstGeom prst="line">
            <a:avLst/>
          </a:prstGeom>
          <a:ln w="936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"/>
          <p:cNvSpPr/>
          <p:nvPr/>
        </p:nvSpPr>
        <p:spPr>
          <a:xfrm>
            <a:off x="369720" y="5519880"/>
            <a:ext cx="256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strcpy(s1,s2) – copia s2 em s1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CBAF-9436-4402-BB10-3189933C59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1880" y="1854360"/>
            <a:ext cx="8007480" cy="2810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marL="353880" indent="-353880" algn="just"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Tipos de arquivos em disco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533520" algn="just"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de acesso seqüencia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533520" algn="just"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de acesso randômico (aleatório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53880" indent="-353880" algn="just"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5" name=""/>
          <p:cNvSpPr/>
          <p:nvPr/>
        </p:nvSpPr>
        <p:spPr>
          <a:xfrm>
            <a:off x="254160" y="733320"/>
            <a:ext cx="8434080" cy="1109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36400" indent="-5364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Ordenação de Arquivos em Disc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127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ão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BA69-9B23-4DB9-A3D8-F99D20FE3F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61880" y="1854360"/>
            <a:ext cx="8007480" cy="4094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 Narrow"/>
            </a:endParaRPr>
          </a:p>
          <a:p>
            <a:pPr lvl="1" marL="53352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Se o arquivo em disco é pequeno o bastante, ele deve ser lido na memória, desta forma as rotinas de ordenação de vetores apresentadas anteriormente podem ordenar esses arquivos mais eficientemente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3352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3352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No entanto, muitos arquivos em disco são muito grandes para serem ordenados facilmente na memória e requerem técnicas especiais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"/>
          <p:cNvSpPr/>
          <p:nvPr/>
        </p:nvSpPr>
        <p:spPr>
          <a:xfrm>
            <a:off x="254160" y="733320"/>
            <a:ext cx="8434080" cy="1109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36400" indent="-5364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Ordenação de Arquivos em Disc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132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ão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FF6D-C1C6-4B07-85B1-71FB2A11F0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79520" y="1496880"/>
            <a:ext cx="8007120" cy="5022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Vantagens (acesso aleatório – seqüencial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São de fácil manutenção. Pode-se atualizar informações sem a necessidade de copiar toda a lista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Podem ser tratados como um grande vetor (matriz) no disco. O que simplifica bastante a ordenação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Obs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.: Tratar um arquivo de acesso aleatório como uma matriz significa que você pode usar a base da </a:t>
            </a:r>
            <a:r>
              <a:rPr b="1" i="1" lang="pt-BR" sz="2000" spc="-1" strike="noStrike">
                <a:solidFill>
                  <a:srgbClr val="ffffcc"/>
                </a:solidFill>
                <a:latin typeface="Arial"/>
              </a:rPr>
              <a:t>quicksort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 com poucas modificações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5" name=""/>
          <p:cNvSpPr/>
          <p:nvPr/>
        </p:nvSpPr>
        <p:spPr>
          <a:xfrm>
            <a:off x="254160" y="733320"/>
            <a:ext cx="8434080" cy="1109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36400" indent="-5364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Ordenação de Arquivos em Disc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137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ão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2423-BA14-491F-A0C7-E0467A65EE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33520" y="1623960"/>
            <a:ext cx="8007120" cy="4624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Encontrar informações em uma matriz desordenada requer uma pesquisa seqüencial, começando no primeiro elemento e parando quando o elemento procurado ou o final da matriz é encontrado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Esse método deve ser usado em dados desordenados, mas também podem ser aplicados a dados ordenados. Se os dados foram ordenados, pode-se usar uma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pesquisa binária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, o que ajuda a localizar o dado mais rapidamente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0" name=""/>
          <p:cNvSpPr/>
          <p:nvPr/>
        </p:nvSpPr>
        <p:spPr>
          <a:xfrm>
            <a:off x="254160" y="733320"/>
            <a:ext cx="8434080" cy="1109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36400" indent="-5364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Métodos de Busca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142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Busc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7F24-24C8-4C09-82DA-93902BB94D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87520" y="1803240"/>
            <a:ext cx="8007120" cy="4109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Fácil de ser codificada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Testa em média </a:t>
            </a:r>
            <a:r>
              <a:rPr b="1" i="1" lang="pt-BR" sz="2400" spc="-1" strike="noStrike">
                <a:solidFill>
                  <a:srgbClr val="ffcc00"/>
                </a:solidFill>
                <a:latin typeface="Arial"/>
              </a:rPr>
              <a:t>1/2 n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elementos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Melhor caso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: testa um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único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elemento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Pior caso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: testa </a:t>
            </a:r>
            <a:r>
              <a:rPr b="1" i="1" lang="pt-BR" sz="2400" spc="-1" strike="noStrike">
                <a:solidFill>
                  <a:srgbClr val="ffcc00"/>
                </a:solidFill>
                <a:latin typeface="Arial"/>
              </a:rPr>
              <a:t>n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elementos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"/>
          <p:cNvSpPr/>
          <p:nvPr/>
        </p:nvSpPr>
        <p:spPr>
          <a:xfrm>
            <a:off x="254160" y="733320"/>
            <a:ext cx="8434080" cy="1109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36400" indent="-5364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Busca Seqüencial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147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Busc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22CF-4647-4D15-93D9-46FAEA0AD6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06:02Z</dcterms:created>
  <dc:creator>Joseana/Eustáquio</dc:creator>
  <dc:description/>
  <dc:language>en-US</dc:language>
  <cp:lastModifiedBy>Particular</cp:lastModifiedBy>
  <cp:lastPrinted>2002-02-17T19:14:27Z</cp:lastPrinted>
  <dcterms:modified xsi:type="dcterms:W3CDTF">2003-10-16T16:51:39Z</dcterms:modified>
  <cp:revision>416</cp:revision>
  <dc:subject/>
  <dc:title>Técnicas de Programação</dc:title>
</cp:coreProperties>
</file>