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808-9C34-453F-A783-7D049F14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7D9-D772-46CB-88C9-1B8B4AB5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AE9-85A1-4F78-8AC6-AF0A3025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9C3-858C-4B47-867C-321099D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368A-F5C9-4F66-938A-2D32CD6D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93F5-E8AD-4C2F-9223-16129DE7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40C7-2A28-47A8-AF29-5075ED3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AC4F-A2D0-4353-BB84-626EA80A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5D58-C2A9-4C36-8B1B-D844074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9E48-62FC-4423-A092-40503A3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7233-3657-4B35-B906-BD97C9F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39D-254D-44D6-BA8F-9AD8381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967C-7CE6-4A09-9B5D-55BDFB68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572-9FE9-4C67-A4A4-FB7E140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5B0A-615B-49E5-8A98-846BF71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BCA1-1125-4013-B637-DD806DE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5B4-C8FB-4127-843E-95F606B1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9A9-06DF-4AE0-A13A-76DDA48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C35-705E-4FF0-ACA0-DA0F4A5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10D-FC8E-47BA-B471-192BE29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707-3DB7-457A-B525-E9101B9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356-6F76-4AD4-ADAA-751741E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891-6369-4BB1-ACE9-08008F9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6D2-1AAF-4FA2-A708-C893165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AD0-E49D-4272-B336-AB736C1DC060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A1DF-FBF6-4909-AAE8-C4C9E6806DE1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009800" y="17510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54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Ordenação</a:t>
            </a:r>
            <a:r>
              <a:rPr b="1" lang="pt-BR" sz="54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594-12EC-4FFB-AC6A-E63E75C06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1028880"/>
            <a:ext cx="2766960" cy="1093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Oscila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00080" y="0"/>
            <a:ext cx="7174080" cy="577440"/>
            <a:chOff x="1000080" y="0"/>
            <a:chExt cx="7174080" cy="577440"/>
          </a:xfrm>
        </p:grpSpPr>
        <p:sp>
          <p:nvSpPr>
            <p:cNvPr id="218" name=""/>
            <p:cNvSpPr/>
            <p:nvPr/>
          </p:nvSpPr>
          <p:spPr>
            <a:xfrm>
              <a:off x="10270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000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976480" y="692280"/>
            <a:ext cx="5889240" cy="5816520"/>
            <a:chOff x="2976480" y="692280"/>
            <a:chExt cx="5889240" cy="5816520"/>
          </a:xfrm>
        </p:grpSpPr>
        <p:sp>
          <p:nvSpPr>
            <p:cNvPr id="221" name=""/>
            <p:cNvSpPr/>
            <p:nvPr/>
          </p:nvSpPr>
          <p:spPr>
            <a:xfrm>
              <a:off x="2976480" y="692280"/>
              <a:ext cx="5700960" cy="581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99960" y="757080"/>
              <a:ext cx="27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/* A ordenação oscilante.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9240" y="7570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*/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03800" y="7142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65840" y="95868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2200" y="1160640"/>
              <a:ext cx="362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void shaker(char *item, int count)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1760" y="11160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2960" y="136044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68880" y="13604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14720" y="1562040"/>
              <a:ext cx="19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register int a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1400" y="15620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15080" y="1763640"/>
              <a:ext cx="17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nt exchange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8000" y="17636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15800" y="1965240"/>
              <a:ext cx="106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char t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6360" y="19209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2960" y="216684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7720" y="216684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do 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1800" y="21225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54680" y="236700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23760" y="236700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 = 0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7800" y="23241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54680" y="256860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3760" y="256860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for(a=count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88000" y="2568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1160" y="25686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; a&gt;0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9880" y="25686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96440" y="25686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a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440" y="2568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8360" y="25257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120" y="27702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55680" y="27702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f(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9880" y="27702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7560" y="277020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&gt;item[a]) 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08360" y="27255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2080" y="297180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61600" y="29718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=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1400" y="29718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5360" y="29718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95760" y="2927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2080" y="317196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6640" y="31719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8000" y="31719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61080" y="317196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=item[a]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03800" y="31291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42080" y="337356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54040" y="33735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]=t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6320" y="33735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87080" y="35751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=1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49520" y="35323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45720" y="377676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46600" y="37767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52600" y="37321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49640" y="3978360"/>
              <a:ext cx="74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67840" y="39783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1840" y="39783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9760" y="39337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13280" y="4178160"/>
              <a:ext cx="27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for(a=1; a&lt;count; ++a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720" y="41781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08920" y="41781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06840" y="41353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54680" y="437976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2560" y="437976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f(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400" y="43797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56960" y="437976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&gt;item[a]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2280" y="43369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49640" y="45813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6680" y="45813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=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8280" y="45813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2960" y="45813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320" y="4538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49640" y="47829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61720" y="47829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4880" y="47829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0120" y="47829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=item[a]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98800" y="47386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49640" y="498492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1640" y="498492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]=t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85920" y="49402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9640" y="518472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25360" y="518472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=1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87800" y="51418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54680" y="538632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73800" y="53863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69920" y="53434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2960" y="558792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68880" y="55879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66800" y="55436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65840" y="57895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0840" y="5789520"/>
              <a:ext cx="565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while(exchange); /*ordena até que não existam mais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44600" y="598968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rocas*/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74840" y="59468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2960" y="619128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65280" y="61484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52360" y="2509920"/>
            <a:ext cx="278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ificação na Ordenação Bolha – inversão da direção da leitura da matriz entre passos subseqüente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FB1-FD9F-4361-8A22-56D6A91D4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1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65120" y="2139840"/>
            <a:ext cx="7999560" cy="340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leção do elemento de menor valor e troca pelo primeiro element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os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 restantes, determinação do elemento de menor chave e troca pelo segundo elemento e assim sucessivamente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trocas continuam até os dois últimos elemento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82680" y="1166760"/>
            <a:ext cx="611028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20C-40A5-4E12-B1E9-3A653433E0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2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92280" y="1041480"/>
            <a:ext cx="614808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184400" y="2138400"/>
            <a:ext cx="5437080" cy="3106440"/>
            <a:chOff x="1184400" y="2138400"/>
            <a:chExt cx="5437080" cy="3106440"/>
          </a:xfrm>
        </p:grpSpPr>
        <p:sp>
          <p:nvSpPr>
            <p:cNvPr id="325" name=""/>
            <p:cNvSpPr/>
            <p:nvPr/>
          </p:nvSpPr>
          <p:spPr>
            <a:xfrm>
              <a:off x="1184400" y="21384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1760" y="2274840"/>
              <a:ext cx="5200560" cy="26845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1B6-62EB-4A3B-BB23-5353CA3196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2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06440" y="671400"/>
            <a:ext cx="7170840" cy="44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 Simp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60480" y="1376280"/>
            <a:ext cx="7056360" cy="5189760"/>
            <a:chOff x="960480" y="1376280"/>
            <a:chExt cx="7056360" cy="5189760"/>
          </a:xfrm>
        </p:grpSpPr>
        <p:sp>
          <p:nvSpPr>
            <p:cNvPr id="332" name=""/>
            <p:cNvSpPr/>
            <p:nvPr/>
          </p:nvSpPr>
          <p:spPr>
            <a:xfrm>
              <a:off x="960480" y="1376280"/>
              <a:ext cx="4476600" cy="5189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104840" y="1442880"/>
              <a:ext cx="6912000" cy="510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6BC-A7B7-4887-A3C2-FE335068B2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3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846000" y="1946160"/>
            <a:ext cx="8078760" cy="4167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y - constante de </a:t>
            </a:r>
            <a:r>
              <a:rPr b="1" i="1" lang="pt-BR" sz="2000" spc="-1" strike="noStrike">
                <a:solidFill>
                  <a:srgbClr val="ffff99"/>
                </a:solidFill>
                <a:latin typeface="Arial"/>
              </a:rPr>
              <a:t>Euler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 (y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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0,577216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+ 3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357120" y="1227240"/>
            <a:ext cx="7170840" cy="44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 Simp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7FA-D987-4EB5-9838-677D943531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7040" y="1036800"/>
            <a:ext cx="59137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4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406440" y="1712880"/>
            <a:ext cx="8262720" cy="4934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ais rápido dentre os outros métodos considerados básicos (Bolha e Seleção Direta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dos 2 primeiros membros da matriz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erção do 3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°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membro na sua posição ordenada com relação aos 2 primeiros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erção 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°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na lista dos 3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sseguimento até a ordenação de todos os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9C0-7D68-4A3D-8720-F268A98E45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4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28640" y="1176480"/>
            <a:ext cx="559296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08160" y="2151000"/>
            <a:ext cx="5437080" cy="3106440"/>
            <a:chOff x="1208160" y="2151000"/>
            <a:chExt cx="5437080" cy="3106440"/>
          </a:xfrm>
        </p:grpSpPr>
        <p:sp>
          <p:nvSpPr>
            <p:cNvPr id="353" name=""/>
            <p:cNvSpPr/>
            <p:nvPr/>
          </p:nvSpPr>
          <p:spPr>
            <a:xfrm>
              <a:off x="1208160" y="21510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25520" y="2287440"/>
              <a:ext cx="5200560" cy="26845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9EE-7A87-402D-81E0-03473CCCDC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5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133640" y="1836720"/>
            <a:ext cx="10085400" cy="3970080"/>
            <a:chOff x="1133640" y="1836720"/>
            <a:chExt cx="10085400" cy="3970080"/>
          </a:xfrm>
        </p:grpSpPr>
        <p:sp>
          <p:nvSpPr>
            <p:cNvPr id="359" name=""/>
            <p:cNvSpPr/>
            <p:nvPr/>
          </p:nvSpPr>
          <p:spPr>
            <a:xfrm>
              <a:off x="1133640" y="1836720"/>
              <a:ext cx="5937120" cy="397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1324080" y="2101680"/>
              <a:ext cx="9894960" cy="35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2CA-E453-44DD-B62C-B2AF99DA33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349200" y="2097000"/>
            <a:ext cx="8412120" cy="351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pt-BR" sz="2400" spc="-1" strike="noStrike">
                <a:solidFill>
                  <a:srgbClr val="ffcc99"/>
                </a:solidFill>
                <a:latin typeface="Arial"/>
              </a:rPr>
              <a:t>lista em ordem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 -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ora de ordem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n ) -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(n –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9n -10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3n - 4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63520" y="246240"/>
            <a:ext cx="7174080" cy="577440"/>
            <a:chOff x="1163520" y="246240"/>
            <a:chExt cx="7174080" cy="577440"/>
          </a:xfrm>
        </p:grpSpPr>
        <p:sp>
          <p:nvSpPr>
            <p:cNvPr id="366" name=""/>
            <p:cNvSpPr/>
            <p:nvPr/>
          </p:nvSpPr>
          <p:spPr>
            <a:xfrm>
              <a:off x="1190520" y="246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3520" y="261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43040" y="1235160"/>
            <a:ext cx="559260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B53-0187-40C3-9B8C-A13BD4939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754200" y="1793880"/>
            <a:ext cx="7995960" cy="442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Vantagen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comporta naturalmente (menor carga de trabalho quando a matriz já está ordenada e o máximo quando a matriz está ordenada no senti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inver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rearranja elementos de mesma chave (uma lista ordenada por duas chaves permanece ordenada para ambas as chaves após a ordenação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85680" y="247680"/>
            <a:ext cx="7174080" cy="577440"/>
            <a:chOff x="985680" y="247680"/>
            <a:chExt cx="7174080" cy="577440"/>
          </a:xfrm>
        </p:grpSpPr>
        <p:sp>
          <p:nvSpPr>
            <p:cNvPr id="373" name=""/>
            <p:cNvSpPr/>
            <p:nvPr/>
          </p:nvSpPr>
          <p:spPr>
            <a:xfrm>
              <a:off x="1012680" y="247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5680" y="26316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801800" y="1001880"/>
            <a:ext cx="559260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066-33AB-4E5C-BDE2-FC7A356BA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14520" y="1155600"/>
            <a:ext cx="7949880" cy="515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ranjo de séries de informações similares numa ordem </a:t>
            </a:r>
            <a:r>
              <a:rPr b="1" lang="pt-BR" sz="2400" spc="-1" strike="noStrike">
                <a:solidFill>
                  <a:srgbClr val="ffcc99"/>
                </a:solidFill>
                <a:latin typeface="Arial"/>
              </a:rPr>
              <a:t>cresc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decresc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pecificamente, dada uma lista ordenada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, entã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L1 &lt;= L2 &lt;= ... Ln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tegorias gerais de algoritmos de ordena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3160" indent="-539640" algn="just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99"/>
                </a:solidFill>
                <a:latin typeface="Arial"/>
              </a:rPr>
              <a:t>algoritmos que ordenam matriz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na memória e em arquivos de acesso aleatório em disco);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1073160" indent="-53964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66"/>
                </a:solidFill>
                <a:latin typeface="Arial"/>
              </a:rPr>
              <a:t>algoritmos que ordenam arquivos seqüenciai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em disco ou fita)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CFF-72EE-47BA-85A4-EF34AF5F6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90680" y="121716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Ordenações Melh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algoritmos vistos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olha, Seleção e Inser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tinham um grave defeito – tempo de processamento da ordem d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n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– ordenações lentas para um grande número de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outras formas de ordenação. Exemplos: Ordenações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Shell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normalmente é considerada a melhor rotina de ordenaçã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47680"/>
            <a:ext cx="7174080" cy="577440"/>
            <a:chOff x="985680" y="247680"/>
            <a:chExt cx="7174080" cy="577440"/>
          </a:xfrm>
        </p:grpSpPr>
        <p:sp>
          <p:nvSpPr>
            <p:cNvPr id="378" name=""/>
            <p:cNvSpPr/>
            <p:nvPr/>
          </p:nvSpPr>
          <p:spPr>
            <a:xfrm>
              <a:off x="1012680" y="247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26316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1C3-F04F-4247-ADF1-DE8F9A8070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8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898560" y="2314440"/>
            <a:ext cx="7470720" cy="2071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 de operação freqüentemente descrito como o empilhamento de conchas do mar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riva-se da ordenação por inserção e baseia-se na redução dos incr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581040" y="122220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A60-CB86-4B7A-BBE6-B425778ED3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8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01720" y="1906560"/>
            <a:ext cx="7761240" cy="432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icialmente o vetor é considerado composto de vários segmentos onde cada um reúne os elementos que estão a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distância 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um do outr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da segmento é, então, ordenad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pois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reduz-se 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 o processo se repete para segmentos onde o intervalo entre os elementos é men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 assim sucessivamente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té d =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que é o valor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brigatór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para o intervalo na última pass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619200" y="988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179-4BDA-4EEB-BD13-EBB0DE7C4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893880" y="1806480"/>
            <a:ext cx="7564320" cy="410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xemplo: seqüência para 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elementos que estão a três posições afastados um do outro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elementos que estão duas posições afastados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inalmente, todos os elementos adjacentes 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303-B049-42A5-B974-93A5CDF3B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182600" y="0"/>
            <a:ext cx="7174080" cy="577440"/>
            <a:chOff x="1182600" y="0"/>
            <a:chExt cx="7174080" cy="577440"/>
          </a:xfrm>
        </p:grpSpPr>
        <p:sp>
          <p:nvSpPr>
            <p:cNvPr id="396" name=""/>
            <p:cNvSpPr/>
            <p:nvPr/>
          </p:nvSpPr>
          <p:spPr>
            <a:xfrm>
              <a:off x="120960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260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50800" y="779400"/>
            <a:ext cx="559296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515960" y="2351160"/>
            <a:ext cx="5972400" cy="3914640"/>
            <a:chOff x="1515960" y="2351160"/>
            <a:chExt cx="5972400" cy="391464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1515960" y="2351160"/>
              <a:ext cx="5972400" cy="391464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401" name=""/>
            <p:cNvSpPr/>
            <p:nvPr/>
          </p:nvSpPr>
          <p:spPr>
            <a:xfrm>
              <a:off x="5370480" y="4753080"/>
              <a:ext cx="133020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3160" y="47052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        d</a:t>
              </a: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98400" y="1671480"/>
            <a:ext cx="777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xemplo: ordenação do vet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fdacb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D5A-6E68-4839-A18E-DC5FEDCDD4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42960" y="1488960"/>
            <a:ext cx="7485120" cy="407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0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81040" y="77148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773680"/>
            <a:ext cx="914400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Obs.: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seqüência recomendada para  incrementos decrescentes: 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9, 5, 3, 2, 1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. A seqüência exata para os incrementos pode mudar. Única regra – último incremento=1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66800" y="1676520"/>
            <a:ext cx="8335800" cy="359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A3F-F07F-4C46-8618-0BD8913F70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1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47560" y="1390680"/>
            <a:ext cx="8151840" cy="5054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rsões um pouco diferentes da ordenaç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hel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mpregam elementos especiais de matriz - sentinelas, que não fazem parte da matriz a ser orden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ntinelas guardam valores especiais de terminação, que indicam o menor e o maior elemento possíve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verificações dos limites são desnecessárias. O uso de sentinelas requer um conhecimento específico dos dados, o que limita a generalização da função ordenaçã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 de execução é proporcional 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715-0446-4C65-9C99-BDBCBBAE29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1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1"/>
          <a:srcRect l="0" t="0" r="60209" b="9655"/>
          <a:stretch/>
        </p:blipFill>
        <p:spPr>
          <a:xfrm>
            <a:off x="479520" y="2317680"/>
            <a:ext cx="6292800" cy="3090960"/>
          </a:xfrm>
          <a:prstGeom prst="rect">
            <a:avLst/>
          </a:prstGeom>
          <a:ln w="25560">
            <a:solidFill>
              <a:srgbClr val="001f3e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6959520" y="2584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Sh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6975360" y="3881520"/>
            <a:ext cx="21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ões anteri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052880" y="3059280"/>
            <a:ext cx="2906640" cy="544320"/>
          </a:xfrm>
          <a:prstGeom prst="line">
            <a:avLst/>
          </a:prstGeom>
          <a:ln w="255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2885760" y="3819600"/>
            <a:ext cx="4049640" cy="490320"/>
          </a:xfrm>
          <a:prstGeom prst="line">
            <a:avLst/>
          </a:prstGeom>
          <a:ln w="255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DE9-30BE-4C2E-B01D-1362AC31D2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2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47880" y="1517760"/>
            <a:ext cx="7740360" cy="4688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uperior às demais ordenações (considerada o melhor algoritmo de ordenação de propósito geral atualmente disponíve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Baseia-se no método de ordenação por trocas e na idéia de parti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eleção de um valor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parado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e partição da matriz em duas seções, com todos os elementos maiores ou iguais ao valor da partição de um lado e os menores do outr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 processo é repetido para cada seção restante até que a matriz esteja orden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855720"/>
            <a:ext cx="559296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C78-CCAF-4733-8F49-2604B05FB6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44400" y="3440160"/>
            <a:ext cx="7139160" cy="145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1746360"/>
            <a:ext cx="7999200" cy="4893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méto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fosse utilizado na matriz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edacb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, usando o val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d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a partição, o primeiro passo de rearranjo da matriz seria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Inicial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  <a:ea typeface="Courier New"/>
              </a:rPr>
              <a:t> 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b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Passo 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   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O processo é repetido para cada seção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bc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 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def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O processo é recursiv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196920" y="853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3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24C-1F5F-4656-B17F-50701EF7F7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81120" y="2906640"/>
            <a:ext cx="3203640" cy="2466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roc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leçã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nserçã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741320" y="1241280"/>
            <a:ext cx="5559480" cy="1159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étodos Gerais para a</a:t>
            </a:r>
            <a:br>
              <a:rPr sz="4000"/>
            </a:b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de Matriz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A03-7C75-4454-BF0A-0082194A5C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47560" y="1906560"/>
            <a:ext cx="7999560" cy="4136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 valor central pode ser escolhido aleatoriamente ou selecionado através da média de um pequeno conjunto de valores retirado da matriz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denação ótim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– deve ser selecionado um valor que esteja precisamente no centro da faixa de valores (</a:t>
            </a:r>
            <a:r>
              <a:rPr b="1" lang="pt-BR" sz="2400" spc="-1" strike="noStrike" u="sng">
                <a:solidFill>
                  <a:srgbClr val="ffffcc"/>
                </a:solidFill>
                <a:uFillTx/>
                <a:latin typeface="Arial"/>
              </a:rPr>
              <a:t>tarefa difícil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ior cas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- o valor escolhido está em uma extremidade e, mesmo nesse caso, o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seleciona o elemento central da matriz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>
            <a:off x="196920" y="853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3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737-4B1E-4CF3-8E62-CB83CE5705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322800" y="231840"/>
            <a:ext cx="5510160" cy="632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611360"/>
            <a:ext cx="2862360" cy="1074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rcRect l="0" t="0" r="27904" b="0"/>
          <a:stretch/>
        </p:blipFill>
        <p:spPr>
          <a:xfrm>
            <a:off x="3613320" y="328680"/>
            <a:ext cx="4824360" cy="61768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873600" y="3603600"/>
            <a:ext cx="2760480" cy="322200"/>
          </a:xfrm>
          <a:prstGeom prst="ellipse">
            <a:avLst/>
          </a:prstGeom>
          <a:noFill/>
          <a:ln w="9360">
            <a:solidFill>
              <a:srgbClr val="fc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CC5-418E-4CF9-8F1B-97E39BBABF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>
            <a:off x="399960" y="2523960"/>
            <a:ext cx="8412120" cy="16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médio de comparações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lo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médio de trocas (aproximadamente): 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lo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4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31920" y="147960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757-7B93-44D2-99C3-2941AF9BA8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1163520" y="246240"/>
            <a:ext cx="7174080" cy="577440"/>
            <a:chOff x="1163520" y="246240"/>
            <a:chExt cx="7174080" cy="577440"/>
          </a:xfrm>
        </p:grpSpPr>
        <p:sp>
          <p:nvSpPr>
            <p:cNvPr id="453" name=""/>
            <p:cNvSpPr/>
            <p:nvPr/>
          </p:nvSpPr>
          <p:spPr>
            <a:xfrm>
              <a:off x="1190520" y="246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3520" y="261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ormas Melhores de Ordenação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09760" y="1568520"/>
            <a:ext cx="614808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scolha de uma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758880" y="2392200"/>
            <a:ext cx="7548480" cy="247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icksort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é a melhor ordenação em virtude de sua velocidade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Quando listas muito pequenas de dados devem ser ordenadas (menos qu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, o tempo extra das chamadas recursivas da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pode não compensar. Sugestã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denação bolh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01F-568A-498B-900E-53CC4DB324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30360" y="322200"/>
            <a:ext cx="614844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scolha de uma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471600" y="1317600"/>
            <a:ext cx="8321400" cy="505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uito embora a maioria dos compiladores forneça a funçã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mo parte da biblioteca padrão, é importante lembrar qu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ocê não pode aplicar uma função generalizada co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a todas as situaçõe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elo fato de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er parametrizada para operar em uma variedade de dados, ela roda mais lentamente que uma ordenação semelhante que opera sobre apenas um tipo de dad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bora o algorit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usado por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seja muito eficiente no caso geral, ele pode não ser a melhor ordenação para situações especiai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B52-3F65-425C-8581-2B70AEA3B0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60240" y="2463840"/>
            <a:ext cx="8007480" cy="298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locidade de ordenação das informações no melhor caso, no caso médio e no pior cas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portamento do algoritmo (natural ou não natura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pacidade de rearranjo de elementos com </a:t>
            </a:r>
            <a:r>
              <a:rPr b="1" lang="pt-BR" sz="2400" spc="-1" strike="noStrike" u="sng">
                <a:solidFill>
                  <a:srgbClr val="ffffcc"/>
                </a:solidFill>
                <a:uFillTx/>
                <a:latin typeface="Arial"/>
              </a:rPr>
              <a:t>chav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igua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25440" y="1109520"/>
            <a:ext cx="843444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Critérios Gerais para a Avaliação de um algoritmo de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866-2FCA-4CA1-8B76-D55865059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1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74560" y="1609560"/>
            <a:ext cx="8035920" cy="451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 mais conhecido (e mais difamado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mples, porém é uma das piores formas de orden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por trocas (repetidas comparações e, se necessário, troca de elementos adjacentes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s são como </a:t>
            </a:r>
            <a:r>
              <a:rPr b="1" lang="pt-BR" sz="2400" spc="-1" strike="noStrike" u="sng">
                <a:solidFill>
                  <a:srgbClr val="ffcc66"/>
                </a:solidFill>
                <a:uFillTx/>
                <a:latin typeface="Arial"/>
              </a:rPr>
              <a:t>bolh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ncípio d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bble 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troca de valores entre posições consecutivas, fazendo com que os valores mais altos ( ou mais baixos ) "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orbulhe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" para o final do arranjo (daí o nom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bble 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66840" y="784080"/>
            <a:ext cx="8273880" cy="457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Bolha (</a:t>
            </a:r>
            <a:r>
              <a:rPr b="1" i="1" lang="pt-PT" sz="4000" spc="-1" strike="noStrike">
                <a:solidFill>
                  <a:srgbClr val="ffffcc"/>
                </a:solidFill>
                <a:latin typeface="Penguin"/>
              </a:rPr>
              <a:t>Bubble Sort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2B9-294E-4B6C-ADC2-F64ADBAFAF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27120" y="1047600"/>
            <a:ext cx="79279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Bolh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84240" y="0"/>
            <a:ext cx="7174080" cy="577440"/>
            <a:chOff x="984240" y="0"/>
            <a:chExt cx="7174080" cy="577440"/>
          </a:xfrm>
        </p:grpSpPr>
        <p:sp>
          <p:nvSpPr>
            <p:cNvPr id="123" name=""/>
            <p:cNvSpPr/>
            <p:nvPr/>
          </p:nvSpPr>
          <p:spPr>
            <a:xfrm>
              <a:off x="101124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424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7640" y="1855800"/>
            <a:ext cx="5437080" cy="3106440"/>
            <a:chOff x="917640" y="1855800"/>
            <a:chExt cx="5437080" cy="3106440"/>
          </a:xfrm>
        </p:grpSpPr>
        <p:sp>
          <p:nvSpPr>
            <p:cNvPr id="127" name=""/>
            <p:cNvSpPr/>
            <p:nvPr/>
          </p:nvSpPr>
          <p:spPr>
            <a:xfrm>
              <a:off x="917640" y="18558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35000" y="1992240"/>
              <a:ext cx="5200560" cy="28695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8F9-3D65-46CF-9E37-62BA7EF38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61960" y="80172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Bolha (mais simples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2000" y="1670040"/>
            <a:ext cx="6983280" cy="4770360"/>
            <a:chOff x="1062000" y="1670040"/>
            <a:chExt cx="6983280" cy="4770360"/>
          </a:xfrm>
        </p:grpSpPr>
        <p:sp>
          <p:nvSpPr>
            <p:cNvPr id="136" name=""/>
            <p:cNvSpPr/>
            <p:nvPr/>
          </p:nvSpPr>
          <p:spPr>
            <a:xfrm>
              <a:off x="1062000" y="1670040"/>
              <a:ext cx="6983280" cy="4770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41640" y="189072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/* A ordenação Bolha */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34640" y="18907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45240" y="21607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4520" y="243216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void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4321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2720" y="243216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(char *item, int count)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7520" y="23734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45240" y="270180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5000" y="264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44880" y="297180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83720" y="2971800"/>
              <a:ext cx="2751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register int a, b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89200" y="291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4880" y="324180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84080" y="3241800"/>
              <a:ext cx="2462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register char t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3640" y="318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4880" y="351324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83000" y="351324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for(a=1; a&lt;count; ++a)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8160" y="345456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4520" y="378288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560" y="3782880"/>
              <a:ext cx="1738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for(b=count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5680" y="378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0760" y="378288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;b&gt;=a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23600" y="378288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18440" y="378288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b)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60160" y="378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09920" y="372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43800" y="405288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64520" y="405288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f(item[b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7040" y="405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—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32840" y="4052880"/>
              <a:ext cx="2027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]&gt;item[b]) 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98880" y="399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6640" y="399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4740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904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716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880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54680" y="4322880"/>
              <a:ext cx="362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/* troca os elementos */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2880" y="432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3440" y="4594320"/>
              <a:ext cx="188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15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091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49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1800" y="4594320"/>
              <a:ext cx="1158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t=item[b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224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984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6000" y="459432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]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73360" y="45356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43080" y="4863960"/>
              <a:ext cx="217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920" y="48639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01800" y="48639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tem[b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7040" y="48639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—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3200" y="486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]=item[b]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57520" y="480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3080" y="5133960"/>
              <a:ext cx="217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3480" y="513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tem[b]=t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78160" y="507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3800" y="540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5960" y="540396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3320" y="534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4520" y="567540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7000" y="567540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2920" y="56167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45240" y="594504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2840" y="594504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F23-36BE-4D06-A103-1B388940EC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4160" y="97776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703440" y="1909800"/>
            <a:ext cx="7083360" cy="435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480960" y="1965240"/>
            <a:ext cx="82296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96840" y="2174760"/>
            <a:ext cx="8437680" cy="377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5DC-8A5F-42FD-A5C4-7B935E391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655560" y="2198520"/>
            <a:ext cx="8078760" cy="32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pt-BR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pt-B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330120" y="1384200"/>
            <a:ext cx="79279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Bolh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84240" y="0"/>
            <a:ext cx="7174080" cy="577440"/>
            <a:chOff x="984240" y="0"/>
            <a:chExt cx="7174080" cy="577440"/>
          </a:xfrm>
        </p:grpSpPr>
        <p:sp>
          <p:nvSpPr>
            <p:cNvPr id="214" name=""/>
            <p:cNvSpPr/>
            <p:nvPr/>
          </p:nvSpPr>
          <p:spPr>
            <a:xfrm>
              <a:off x="101124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8424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866-9F6F-4320-822F-DBDFF1E545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3-10-16T16:54:01Z</dcterms:modified>
  <cp:revision>410</cp:revision>
  <dc:subject/>
  <dc:title>Técnicas de Programação</dc:title>
</cp:coreProperties>
</file>