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74E94-06F2-461E-845B-18BC5DAFB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15E06-6A39-4FBC-A44D-6412026A9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9CFFC-1ABD-4934-85F4-DBE5D179A4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B93C6-64A5-4773-A77A-E812A2BA6C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E25CC9-C549-4DE8-AD87-0930C6F96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EC978-E18D-4880-B794-509B32AB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671F15-3487-4A17-97E7-C41EB19F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2FDCF-E8DD-4144-B01E-8F492AAFB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14B25-57BE-4A31-A94D-93BE2D2C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0591B-D384-421B-9170-329FB1E41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EEE23-19FD-41F3-8197-E888D8B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1E086-73F7-4A37-BD22-96126437BE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A11B63-F2B7-4C9E-95DD-BC02991A7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D05BB4-AE1F-452B-957B-0BB45CEA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4AE406-B67E-48A5-9C6C-19B172B4A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50F8C-9C53-4512-9C72-A25E8A20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B212E-598C-4F34-86A6-5FBB5428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DCB4-E9E2-4424-8B95-A41D0A9A5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D890B-1125-485B-A9A0-D38965C71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A5B28-E51E-4699-BB5B-D223B14B8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B4617-6145-4D0E-8A47-CD2887BFCA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98850-B9B5-44E7-A6D7-01F5F9210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0ED23-8261-4D18-8E13-C92C09D3D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0D88-FC9A-49D3-9E67-667EE2680F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1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62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7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69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77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83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5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6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0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4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5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6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8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99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200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202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519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629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751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 type="sldNum" idx="1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C4BB-D423-46F1-9EA4-AD5125191609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0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791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951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952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4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57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958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959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4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5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6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73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4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5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6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7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8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79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0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1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3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4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5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6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7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89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990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991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992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308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309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418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419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D53B7-C098-40DE-8D57-4428B7F66464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"/>
          <p:cNvSpPr/>
          <p:nvPr/>
        </p:nvSpPr>
        <p:spPr>
          <a:xfrm>
            <a:off x="1574640" y="4140360"/>
            <a:ext cx="5992920" cy="1535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2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600" spc="-1" strike="noStrike">
                <a:solidFill>
                  <a:srgbClr val="eaeaea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0" lang="en-US" sz="1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7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2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1243080" y="2427120"/>
            <a:ext cx="6659640" cy="72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Estruturas em C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"/>
          <p:cNvSpPr/>
          <p:nvPr/>
        </p:nvSpPr>
        <p:spPr>
          <a:xfrm>
            <a:off x="463680" y="2055960"/>
            <a:ext cx="8196120" cy="410976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1" name=""/>
          <p:cNvSpPr/>
          <p:nvPr/>
        </p:nvSpPr>
        <p:spPr>
          <a:xfrm>
            <a:off x="592200" y="2077920"/>
            <a:ext cx="8083440" cy="40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register int 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um nome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ets(info_adr.nome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uma rua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gets(info_adr.rua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o CEP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canf("%lu",&amp;info_adr.ce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O nome, a rua e o CEP digitados foram %s, %s e %lu\n\n", info_adr.nome, info_adr.rua, info_adr.ce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2" name=""/>
          <p:cNvSpPr/>
          <p:nvPr/>
        </p:nvSpPr>
        <p:spPr>
          <a:xfrm>
            <a:off x="231840" y="938160"/>
            <a:ext cx="8553240" cy="6094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just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</a:t>
            </a:r>
            <a:r>
              <a:rPr b="1" lang="pt-PT" sz="2800" spc="-1" strike="noStrike">
                <a:solidFill>
                  <a:srgbClr val="ffcc00"/>
                </a:solidFill>
                <a:latin typeface="Penguin"/>
              </a:rPr>
              <a:t> </a:t>
            </a: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Substitua o trecho equivalente de código do programa anterior pelo apresentado abaixo e informe o que faz o programa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33" name=""/>
          <p:cNvSpPr/>
          <p:nvPr/>
        </p:nvSpPr>
        <p:spPr>
          <a:xfrm>
            <a:off x="973080" y="8892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317B8-1F6F-4D8F-AE0D-4AFC249AB5F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/>
          </p:nvPr>
        </p:nvSpPr>
        <p:spPr>
          <a:xfrm>
            <a:off x="444240" y="4766760"/>
            <a:ext cx="8396280" cy="133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omuns em planilhas de cálculo tipo 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tu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 nas quais se armazena uma grande quantidade de dados encadead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5" name=""/>
          <p:cNvSpPr/>
          <p:nvPr/>
        </p:nvSpPr>
        <p:spPr>
          <a:xfrm>
            <a:off x="442800" y="716040"/>
            <a:ext cx="546732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Matrizes de Estruturas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36" name=""/>
          <p:cNvGrpSpPr/>
          <p:nvPr/>
        </p:nvGrpSpPr>
        <p:grpSpPr>
          <a:xfrm>
            <a:off x="550800" y="1422360"/>
            <a:ext cx="7362720" cy="3343320"/>
            <a:chOff x="550800" y="1422360"/>
            <a:chExt cx="7362720" cy="3343320"/>
          </a:xfrm>
        </p:grpSpPr>
        <p:sp>
          <p:nvSpPr>
            <p:cNvPr id="1637" name=""/>
            <p:cNvSpPr/>
            <p:nvPr/>
          </p:nvSpPr>
          <p:spPr>
            <a:xfrm>
              <a:off x="806400" y="1422360"/>
              <a:ext cx="7107120" cy="31575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50800" y="1434960"/>
              <a:ext cx="7362720" cy="333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ffcc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endereco info_adr[100]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cria 100 conjuntos de variáveis que sao organizadas como definido na estrutura endereco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ntf("%lu", info_adr[2].cep); 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imprime na tela o cep da estrutura 3 da matriz de 100 estruturas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39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2E820-4FEC-441E-98D2-96F6CE679D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0" name=""/>
          <p:cNvGrpSpPr/>
          <p:nvPr/>
        </p:nvGrpSpPr>
        <p:grpSpPr>
          <a:xfrm>
            <a:off x="217440" y="0"/>
            <a:ext cx="4832280" cy="6561000"/>
            <a:chOff x="217440" y="0"/>
            <a:chExt cx="4832280" cy="6561000"/>
          </a:xfrm>
        </p:grpSpPr>
        <p:sp>
          <p:nvSpPr>
            <p:cNvPr id="1641" name=""/>
            <p:cNvSpPr/>
            <p:nvPr/>
          </p:nvSpPr>
          <p:spPr>
            <a:xfrm>
              <a:off x="217440" y="0"/>
              <a:ext cx="4832280" cy="6561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44520" y="155520"/>
              <a:ext cx="4492440" cy="640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#include &lt;std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#include &lt;con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#define TMAX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void main(void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struct 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nome[3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rua[4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cidade[2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estado[3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har cep[30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}info_adr[TMAX]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register int t, i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clrscr(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for(i=0;i&lt;TMAX;i++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printf("Digite o nome[%d]\n",i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gets(info_adr[i].nome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printf("Digite uma rua[%d]\n",i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gets(info_adr[i].rua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printf("Digite o CEP[%d]\n",i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gets(info_adr[i].cep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43" name=""/>
          <p:cNvSpPr/>
          <p:nvPr/>
        </p:nvSpPr>
        <p:spPr>
          <a:xfrm>
            <a:off x="5394240" y="404640"/>
            <a:ext cx="3365640" cy="56232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4" name=""/>
          <p:cNvSpPr/>
          <p:nvPr/>
        </p:nvSpPr>
        <p:spPr>
          <a:xfrm>
            <a:off x="5248440" y="995400"/>
            <a:ext cx="3662280" cy="18018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O que faz o programa ao lad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45" name=""/>
          <p:cNvGrpSpPr/>
          <p:nvPr/>
        </p:nvGrpSpPr>
        <p:grpSpPr>
          <a:xfrm>
            <a:off x="206280" y="3036960"/>
            <a:ext cx="8599320" cy="1587960"/>
            <a:chOff x="206280" y="3036960"/>
            <a:chExt cx="8599320" cy="1587960"/>
          </a:xfrm>
        </p:grpSpPr>
        <p:sp>
          <p:nvSpPr>
            <p:cNvPr id="1646" name=""/>
            <p:cNvSpPr/>
            <p:nvPr/>
          </p:nvSpPr>
          <p:spPr>
            <a:xfrm>
              <a:off x="206280" y="3036960"/>
              <a:ext cx="8578800" cy="14302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6920" y="3159360"/>
              <a:ext cx="8518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for(i=0;i&lt;TMAX;i++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printf("O nome[%d], a rua[%d] e o CEP[%d] digitados foram %s, %s e %s\n", i, i, i, info_adr[i].nome, info_adr[i].rua, info_adr[i].cep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000" spc="-1" strike="noStrike">
                  <a:solidFill>
                    <a:srgbClr val="000000"/>
                  </a:solidFill>
                  <a:latin typeface="Arial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A62BA-8E8B-4063-AC35-AC85E7878B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244440" y="2932200"/>
            <a:ext cx="8578800" cy="2325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9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0" name=""/>
          <p:cNvSpPr/>
          <p:nvPr/>
        </p:nvSpPr>
        <p:spPr>
          <a:xfrm>
            <a:off x="1467000" y="981000"/>
            <a:ext cx="62118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cc00"/>
                </a:solidFill>
                <a:latin typeface="Penguin"/>
              </a:rPr>
              <a:t>Apontadores e Estrutur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1" name=""/>
          <p:cNvSpPr/>
          <p:nvPr/>
        </p:nvSpPr>
        <p:spPr>
          <a:xfrm>
            <a:off x="457200" y="1743120"/>
            <a:ext cx="8229600" cy="974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ombinação destes 2 tipos </a:t>
            </a:r>
            <a:r>
              <a:rPr b="1" lang="en-US" sz="26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simples e geralmente sem problemas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2" name=""/>
          <p:cNvSpPr/>
          <p:nvPr/>
        </p:nvSpPr>
        <p:spPr>
          <a:xfrm>
            <a:off x="307800" y="3041640"/>
            <a:ext cx="8472600" cy="21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struct coord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{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    float x, y, z;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} ponto;   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// declara a variavel ponto do tipo struct coord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struct coord *aponto;  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// apontador para uma variavel qualquer do tipo</a:t>
            </a:r>
            <a:r>
              <a:rPr b="1" i="1" lang="en-US" sz="1800" spc="-1" strike="noStrike">
                <a:solidFill>
                  <a:srgbClr val="003366"/>
                </a:solidFill>
                <a:latin typeface="Arial Black"/>
              </a:rPr>
              <a:t>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struct coord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 Black"/>
              </a:rPr>
              <a:t>aponto = &amp;ponto;   </a:t>
            </a:r>
            <a:r>
              <a:rPr b="1" i="1" lang="en-US" sz="1800" spc="-1" strike="noStrike">
                <a:solidFill>
                  <a:srgbClr val="003366"/>
                </a:solidFill>
                <a:latin typeface="Arial"/>
              </a:rPr>
              <a:t>// aponto aponta para a variável pont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36196-C9A7-43B2-803A-868060B84E2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4" name=""/>
          <p:cNvSpPr/>
          <p:nvPr/>
        </p:nvSpPr>
        <p:spPr>
          <a:xfrm>
            <a:off x="1467000" y="981000"/>
            <a:ext cx="62118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cc00"/>
                </a:solidFill>
                <a:latin typeface="Penguin"/>
              </a:rPr>
              <a:t>Apontadores e Estrutur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55" name=""/>
          <p:cNvSpPr/>
          <p:nvPr/>
        </p:nvSpPr>
        <p:spPr>
          <a:xfrm>
            <a:off x="457200" y="1743120"/>
            <a:ext cx="8229600" cy="974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100000"/>
              </a:lnSpc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Operador </a:t>
            </a:r>
            <a:r>
              <a:rPr b="1" lang="en-US" sz="2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cc"/>
                </a:solidFill>
                <a:latin typeface="Wingdings"/>
                <a:ea typeface="Wingdings"/>
              </a:rPr>
              <a:t></a:t>
            </a: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acesso direto a membros de uma estrutura via apontador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56" name=""/>
          <p:cNvGrpSpPr/>
          <p:nvPr/>
        </p:nvGrpSpPr>
        <p:grpSpPr>
          <a:xfrm>
            <a:off x="2216160" y="3056040"/>
            <a:ext cx="5116680" cy="1220760"/>
            <a:chOff x="2216160" y="3056040"/>
            <a:chExt cx="5116680" cy="1220760"/>
          </a:xfrm>
        </p:grpSpPr>
        <p:sp>
          <p:nvSpPr>
            <p:cNvPr id="1657" name=""/>
            <p:cNvSpPr/>
            <p:nvPr/>
          </p:nvSpPr>
          <p:spPr>
            <a:xfrm>
              <a:off x="2216160" y="3056040"/>
              <a:ext cx="5073480" cy="12207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308320" y="3193920"/>
              <a:ext cx="5024520" cy="83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Black"/>
                </a:rPr>
                <a:t>aponto -&gt; x = 1.0;  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Black"/>
                </a:rPr>
                <a:t>aponto -&gt; y = -3.1; 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47784-1CCC-4A1C-9CA8-041C3C74352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9" name=""/>
          <p:cNvGrpSpPr/>
          <p:nvPr/>
        </p:nvGrpSpPr>
        <p:grpSpPr>
          <a:xfrm>
            <a:off x="2122560" y="533520"/>
            <a:ext cx="6804000" cy="5970600"/>
            <a:chOff x="2122560" y="533520"/>
            <a:chExt cx="6804000" cy="5970600"/>
          </a:xfrm>
        </p:grpSpPr>
        <p:sp>
          <p:nvSpPr>
            <p:cNvPr id="1660" name=""/>
            <p:cNvSpPr/>
            <p:nvPr/>
          </p:nvSpPr>
          <p:spPr>
            <a:xfrm>
              <a:off x="2122560" y="533520"/>
              <a:ext cx="6804000" cy="5970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308320" y="641520"/>
              <a:ext cx="6583320" cy="57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/* TESTE DE ESTRUTURA */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#include &lt;conio.h&gt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#include &lt;stdio.h&gt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#include &lt;stdlib.h&gt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#include &lt;ctype.h&gt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typedef struct {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char  RA[10]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    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nome[40]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loat nota[4]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} Dados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Dados aluno[7]=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{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081", “Luana", 8.8, 8.5, 7.8, 7.6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077", “Miguel", 7.8, 7.3, 7.2, 7.1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083", “Diego", 6.9, 6.8, 6.1, 6.3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343", “Gustavo", 5.9, 5.8, 5.4, 5.2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213016", “Lorena", 7.7, 7.6, 7.2, 7.1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0123050", “Raissa", 8.8, 8.5, 8.3, 8.2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"29923068", “Italo", 6.7, 6.4, 6.1, 6.0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}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2111400" y="954000"/>
            <a:ext cx="6804000" cy="5978880"/>
            <a:chOff x="2111400" y="954000"/>
            <a:chExt cx="6804000" cy="5978880"/>
          </a:xfrm>
        </p:grpSpPr>
        <p:sp>
          <p:nvSpPr>
            <p:cNvPr id="1663" name=""/>
            <p:cNvSpPr/>
            <p:nvPr/>
          </p:nvSpPr>
          <p:spPr>
            <a:xfrm>
              <a:off x="2111400" y="954000"/>
              <a:ext cx="6804000" cy="59040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240280" y="1136520"/>
              <a:ext cx="6583320" cy="57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void main()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{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int i,j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loat soma[4]={0,0,0,0}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 ("\n Notas individuais, medias de cada aluno, de exercicios e geral\n"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 ("\n #\tRA\t       Nome               Nota1 Nota2 Nota3 Nota4 Media"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or(i=0; i&lt;=6;i=i+1)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{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("\n %d   %-10s   %-20s     %.1f   %.1f   %.1f   %.1f   %.1f"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i, aluno[i].RA, aluno[i].nome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aluno[i].nota[0], aluno[i].nota[1], aluno[i].nota[2], aluno[i].nota[3],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(aluno[i].nota[0]+aluno[i].nota[1]+aluno[i].nota[2]+aluno[i].nota[3])/4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}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65" name=""/>
          <p:cNvSpPr/>
          <p:nvPr/>
        </p:nvSpPr>
        <p:spPr>
          <a:xfrm>
            <a:off x="152280" y="728640"/>
            <a:ext cx="2019600" cy="563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61800" indent="-36180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fcc00"/>
                </a:solidFill>
                <a:latin typeface="Penguin"/>
              </a:rPr>
              <a:t>Exemplo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66" name=""/>
          <p:cNvGrpSpPr/>
          <p:nvPr/>
        </p:nvGrpSpPr>
        <p:grpSpPr>
          <a:xfrm>
            <a:off x="142920" y="2664000"/>
            <a:ext cx="8784720" cy="3313080"/>
            <a:chOff x="142920" y="2664000"/>
            <a:chExt cx="8784720" cy="3313080"/>
          </a:xfrm>
        </p:grpSpPr>
        <p:sp>
          <p:nvSpPr>
            <p:cNvPr id="1667" name=""/>
            <p:cNvSpPr/>
            <p:nvPr/>
          </p:nvSpPr>
          <p:spPr>
            <a:xfrm>
              <a:off x="142920" y="2664000"/>
              <a:ext cx="8784720" cy="33130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309600" y="2774160"/>
              <a:ext cx="8498880" cy="294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or(j=0;j&lt;=3; j=j+1)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for(i=0;i&lt;=6; i=i+1)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	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 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soma[j]=soma[j]+ aluno[i].nota[j]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("\n\n\t Medias por exercicio:        %.1f   %.1f   %.1f   %.1f   %.1f", soma[0]/7,soma[1]/7,soma[2]/7,soma[3]/7,(soma[0]+soma[1]+soma[2]+soma[3])/28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("\n"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printf("\n Fim. Digite qqr tecla.");getch(); printf(" Feche a janela");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700" spc="-1" strike="noStrike">
                  <a:solidFill>
                    <a:srgbClr val="000000"/>
                  </a:solidFill>
                  <a:latin typeface="Arial Black"/>
                </a:rPr>
                <a:t>}</a:t>
              </a:r>
              <a:endParaRPr b="0" lang="en-US" sz="17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69" name=""/>
          <p:cNvSpPr/>
          <p:nvPr/>
        </p:nvSpPr>
        <p:spPr>
          <a:xfrm>
            <a:off x="1860480" y="-4752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798A-4D0D-44AB-8F43-D9CC5565848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6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0" name=""/>
          <p:cNvGrpSpPr/>
          <p:nvPr/>
        </p:nvGrpSpPr>
        <p:grpSpPr>
          <a:xfrm>
            <a:off x="1028880" y="2043000"/>
            <a:ext cx="6308640" cy="4129560"/>
            <a:chOff x="1028880" y="2043000"/>
            <a:chExt cx="6308640" cy="4129560"/>
          </a:xfrm>
        </p:grpSpPr>
        <p:sp>
          <p:nvSpPr>
            <p:cNvPr id="1671" name=""/>
            <p:cNvSpPr/>
            <p:nvPr/>
          </p:nvSpPr>
          <p:spPr>
            <a:xfrm>
              <a:off x="1028880" y="2043000"/>
              <a:ext cx="6308640" cy="3966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199160" y="2114640"/>
              <a:ext cx="6105600" cy="405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#include &lt;conio.h&g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struct relogio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nt horas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nt minutos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nt segundos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oid display(struct relogio *t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oid update(struct relogio *t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oid delay(void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73" name=""/>
          <p:cNvSpPr/>
          <p:nvPr/>
        </p:nvSpPr>
        <p:spPr>
          <a:xfrm>
            <a:off x="1860480" y="6660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4" name=""/>
          <p:cNvSpPr/>
          <p:nvPr/>
        </p:nvSpPr>
        <p:spPr>
          <a:xfrm>
            <a:off x="743040" y="690480"/>
            <a:ext cx="6272280" cy="10400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80880" indent="-380880" algn="just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cc00"/>
                </a:solidFill>
                <a:latin typeface="Penguin"/>
              </a:rPr>
              <a:t>Exemplo: </a:t>
            </a:r>
            <a:r>
              <a:rPr b="1" lang="pt-PT" sz="2400" spc="-1" strike="noStrike">
                <a:solidFill>
                  <a:srgbClr val="ffff99"/>
                </a:solidFill>
                <a:latin typeface="Arial"/>
              </a:rPr>
              <a:t>O que faz o programa ?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17F8E-53F1-43C9-A834-109D2CF3554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"/>
          <p:cNvSpPr/>
          <p:nvPr/>
        </p:nvSpPr>
        <p:spPr>
          <a:xfrm>
            <a:off x="1860480" y="6660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76" name=""/>
          <p:cNvGrpSpPr/>
          <p:nvPr/>
        </p:nvGrpSpPr>
        <p:grpSpPr>
          <a:xfrm>
            <a:off x="1120680" y="1452600"/>
            <a:ext cx="4518000" cy="4835520"/>
            <a:chOff x="1120680" y="1452600"/>
            <a:chExt cx="4518000" cy="4835520"/>
          </a:xfrm>
        </p:grpSpPr>
        <p:sp>
          <p:nvSpPr>
            <p:cNvPr id="1677" name=""/>
            <p:cNvSpPr/>
            <p:nvPr/>
          </p:nvSpPr>
          <p:spPr>
            <a:xfrm>
              <a:off x="1120680" y="1452600"/>
              <a:ext cx="4518000" cy="48355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243800" y="1538640"/>
              <a:ext cx="4371480" cy="46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void main(void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struct relogio tempo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nt i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clrscr(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empo.hora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empo.minuto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empo.segundo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for(;;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update(&amp;tempo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display(&amp;tempo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D3F83-C5A8-4542-8F49-A21D62A370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9" name=""/>
          <p:cNvGrpSpPr/>
          <p:nvPr/>
        </p:nvGrpSpPr>
        <p:grpSpPr>
          <a:xfrm>
            <a:off x="1085760" y="1490760"/>
            <a:ext cx="6423120" cy="4500360"/>
            <a:chOff x="1085760" y="1490760"/>
            <a:chExt cx="6423120" cy="4500360"/>
          </a:xfrm>
        </p:grpSpPr>
        <p:sp>
          <p:nvSpPr>
            <p:cNvPr id="1680" name=""/>
            <p:cNvSpPr/>
            <p:nvPr/>
          </p:nvSpPr>
          <p:spPr>
            <a:xfrm>
              <a:off x="1085760" y="1490760"/>
              <a:ext cx="6423120" cy="4500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259280" y="1572120"/>
              <a:ext cx="6216480" cy="43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urier New"/>
                </a:rPr>
                <a:t>void update(struct relogio *t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segundos++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f(t-&gt;segundos==60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segundo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minutos++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f(t-&gt;minutos==60)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minutos=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t-&gt;horas++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if(t-&gt;horas==24) t-&gt;horas = 0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delay(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82" name=""/>
          <p:cNvSpPr/>
          <p:nvPr/>
        </p:nvSpPr>
        <p:spPr>
          <a:xfrm>
            <a:off x="1860480" y="6660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6136-5CF9-4486-A76E-ABA228A51B8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3" name=""/>
          <p:cNvGrpSpPr/>
          <p:nvPr/>
        </p:nvGrpSpPr>
        <p:grpSpPr>
          <a:xfrm>
            <a:off x="590400" y="1757520"/>
            <a:ext cx="7223040" cy="3966840"/>
            <a:chOff x="590400" y="1757520"/>
            <a:chExt cx="7223040" cy="3966840"/>
          </a:xfrm>
        </p:grpSpPr>
        <p:sp>
          <p:nvSpPr>
            <p:cNvPr id="1684" name=""/>
            <p:cNvSpPr/>
            <p:nvPr/>
          </p:nvSpPr>
          <p:spPr>
            <a:xfrm>
              <a:off x="590400" y="1757520"/>
              <a:ext cx="7223040" cy="39668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7320" y="1829160"/>
              <a:ext cx="6989040" cy="37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urier New"/>
                </a:rPr>
                <a:t>void display(struct relogio *t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printf("%02d:", t-&gt;horas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printf("%02d:", t-&gt;minutos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printf("%02d\n", t-&gt;segundos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ff"/>
                  </a:solidFill>
                  <a:latin typeface="Courier New"/>
                </a:rPr>
                <a:t>void delay(void)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long int t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for(t=1;t&lt;50000;++t);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1860480" y="66600"/>
            <a:ext cx="5680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4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C09D-55A2-4435-B2AD-58B6E444E74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/>
          </p:nvPr>
        </p:nvSpPr>
        <p:spPr>
          <a:xfrm>
            <a:off x="361800" y="1176120"/>
            <a:ext cx="8412480" cy="4198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437040" indent="-437040" algn="just">
              <a:lnSpc>
                <a:spcPct val="105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cc00"/>
                </a:solidFill>
                <a:latin typeface="Penguin"/>
                <a:ea typeface="Times New Roman"/>
              </a:rPr>
              <a:t>Estrutura em C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37040" indent="0" algn="just">
              <a:lnSpc>
                <a:spcPct val="10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1048320" indent="-437040" algn="just">
              <a:lnSpc>
                <a:spcPct val="105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oleção de variáveis referenciada sob  um 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me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(integração de informações afins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37040" indent="0" algn="just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48320" indent="-437040" algn="just">
              <a:lnSpc>
                <a:spcPct val="105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claração  de estrutura –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riação de variáveis de  estruturas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(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lementos da estrutur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). 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7B55D-31E1-4DF5-A7B7-0F22B10524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973080" y="77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7" name=""/>
          <p:cNvSpPr/>
          <p:nvPr/>
        </p:nvSpPr>
        <p:spPr>
          <a:xfrm>
            <a:off x="254160" y="75708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</a:t>
            </a:r>
            <a:r>
              <a:rPr b="1" lang="pt-PT" sz="4800" spc="-1" strike="noStrike">
                <a:solidFill>
                  <a:srgbClr val="ffcc00"/>
                </a:solidFill>
                <a:latin typeface="Pengui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8" name=""/>
          <p:cNvSpPr/>
          <p:nvPr/>
        </p:nvSpPr>
        <p:spPr>
          <a:xfrm>
            <a:off x="808200" y="3890880"/>
            <a:ext cx="7920000" cy="5684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Nome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dereco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- etiqueta da estrutura</a:t>
            </a:r>
            <a:r>
              <a:rPr b="1" lang="pt-BR" sz="2800" spc="-1" strike="noStrike">
                <a:solidFill>
                  <a:srgbClr val="ffffcc"/>
                </a:solidFill>
                <a:latin typeface="Verdana"/>
                <a:ea typeface="Times New Roman"/>
              </a:rPr>
              <a:t>  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89" name=""/>
          <p:cNvGrpSpPr/>
          <p:nvPr/>
        </p:nvGrpSpPr>
        <p:grpSpPr>
          <a:xfrm>
            <a:off x="3265560" y="898560"/>
            <a:ext cx="4167000" cy="2979720"/>
            <a:chOff x="3265560" y="898560"/>
            <a:chExt cx="4167000" cy="2979720"/>
          </a:xfrm>
        </p:grpSpPr>
        <p:sp>
          <p:nvSpPr>
            <p:cNvPr id="1590" name=""/>
            <p:cNvSpPr/>
            <p:nvPr/>
          </p:nvSpPr>
          <p:spPr>
            <a:xfrm>
              <a:off x="3265560" y="898560"/>
              <a:ext cx="4167000" cy="297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365640" y="950760"/>
              <a:ext cx="393696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endereco 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nome[3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rua[4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cidade[2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estado[3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signed long int ce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592" name=""/>
          <p:cNvSpPr/>
          <p:nvPr/>
        </p:nvSpPr>
        <p:spPr>
          <a:xfrm>
            <a:off x="797040" y="5199120"/>
            <a:ext cx="8018280" cy="1230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Declaração da variável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fo_ad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como do tipo estrutura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ndereco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(alocação da memória neste ponto)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1216080" y="4481640"/>
            <a:ext cx="4187880" cy="522000"/>
            <a:chOff x="1216080" y="4481640"/>
            <a:chExt cx="4187880" cy="522000"/>
          </a:xfrm>
        </p:grpSpPr>
        <p:sp>
          <p:nvSpPr>
            <p:cNvPr id="1594" name=""/>
            <p:cNvSpPr/>
            <p:nvPr/>
          </p:nvSpPr>
          <p:spPr>
            <a:xfrm>
              <a:off x="1216080" y="4483080"/>
              <a:ext cx="4187880" cy="5205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276560" y="4481640"/>
              <a:ext cx="4024440" cy="44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endereco  info_adr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CFD8C-8168-4C1A-B7C8-4B96F6DD24B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"/>
          <p:cNvSpPr/>
          <p:nvPr/>
        </p:nvSpPr>
        <p:spPr>
          <a:xfrm>
            <a:off x="254160" y="100800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Exemplo: 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7" name=""/>
          <p:cNvSpPr/>
          <p:nvPr/>
        </p:nvSpPr>
        <p:spPr>
          <a:xfrm>
            <a:off x="973080" y="77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598" name=""/>
          <p:cNvGrpSpPr/>
          <p:nvPr/>
        </p:nvGrpSpPr>
        <p:grpSpPr>
          <a:xfrm>
            <a:off x="2933640" y="1017720"/>
            <a:ext cx="4167000" cy="2979720"/>
            <a:chOff x="2933640" y="1017720"/>
            <a:chExt cx="4167000" cy="2979720"/>
          </a:xfrm>
        </p:grpSpPr>
        <p:sp>
          <p:nvSpPr>
            <p:cNvPr id="1599" name=""/>
            <p:cNvSpPr/>
            <p:nvPr/>
          </p:nvSpPr>
          <p:spPr>
            <a:xfrm>
              <a:off x="2933640" y="1017720"/>
              <a:ext cx="4167000" cy="297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033720" y="1069920"/>
              <a:ext cx="393696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endereco 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nome[3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rua[4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cidade[2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estado[3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signed long int ce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info_adr, binfo, cinfo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1601" name="PlaceHolder 1"/>
          <p:cNvSpPr>
            <a:spLocks noGrp="1"/>
          </p:cNvSpPr>
          <p:nvPr>
            <p:ph/>
          </p:nvPr>
        </p:nvSpPr>
        <p:spPr>
          <a:xfrm>
            <a:off x="423720" y="4363560"/>
            <a:ext cx="8296560" cy="1978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Alocação da memória na declaração da estrutura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finição de um tipo de estrutura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ndereco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e declaração de variáveis daquele ti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80C14-FBCD-4A5E-80F9-A23687C7CE3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/>
          </p:nvPr>
        </p:nvSpPr>
        <p:spPr>
          <a:xfrm>
            <a:off x="324000" y="4221000"/>
            <a:ext cx="8496000" cy="2013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Supressão da etiqueta quando há apenas uma variável de um determinado tipo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claração de uma variável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info_adr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como definida  pela  estrutura  que  a precede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3" name=""/>
          <p:cNvSpPr/>
          <p:nvPr/>
        </p:nvSpPr>
        <p:spPr>
          <a:xfrm>
            <a:off x="973080" y="1000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4" name=""/>
          <p:cNvSpPr/>
          <p:nvPr/>
        </p:nvSpPr>
        <p:spPr>
          <a:xfrm>
            <a:off x="254160" y="103032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05" name=""/>
          <p:cNvGrpSpPr/>
          <p:nvPr/>
        </p:nvGrpSpPr>
        <p:grpSpPr>
          <a:xfrm>
            <a:off x="2933640" y="1039680"/>
            <a:ext cx="4167000" cy="2979720"/>
            <a:chOff x="2933640" y="1039680"/>
            <a:chExt cx="4167000" cy="2979720"/>
          </a:xfrm>
        </p:grpSpPr>
        <p:sp>
          <p:nvSpPr>
            <p:cNvPr id="1606" name=""/>
            <p:cNvSpPr/>
            <p:nvPr/>
          </p:nvSpPr>
          <p:spPr>
            <a:xfrm>
              <a:off x="2933640" y="1039680"/>
              <a:ext cx="4167000" cy="29797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033720" y="1091880"/>
              <a:ext cx="3936960" cy="27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5000"/>
            </a:bodyPr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nome[3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rua[4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cidade[20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har estado[3]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unsigned long int cep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info_adr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25800" indent="-32580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A24A-1F35-45A4-93F4-D1BEAFBD68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9" name=""/>
          <p:cNvSpPr/>
          <p:nvPr/>
        </p:nvSpPr>
        <p:spPr>
          <a:xfrm>
            <a:off x="442800" y="716040"/>
            <a:ext cx="398304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Forma Geral: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0" name=""/>
          <p:cNvSpPr/>
          <p:nvPr/>
        </p:nvSpPr>
        <p:spPr>
          <a:xfrm>
            <a:off x="406440" y="4911840"/>
            <a:ext cx="8329680" cy="1379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0720" indent="-45072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Possibilidade de omissão d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nome do tipo da estrutur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etiquet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) ou das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 variáveis da estrutur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, mas não de ambo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11" name=""/>
          <p:cNvGrpSpPr/>
          <p:nvPr/>
        </p:nvGrpSpPr>
        <p:grpSpPr>
          <a:xfrm>
            <a:off x="530280" y="1647720"/>
            <a:ext cx="5783040" cy="2997360"/>
            <a:chOff x="530280" y="1647720"/>
            <a:chExt cx="5783040" cy="2997360"/>
          </a:xfrm>
        </p:grpSpPr>
        <p:sp>
          <p:nvSpPr>
            <p:cNvPr id="1612" name=""/>
            <p:cNvSpPr/>
            <p:nvPr/>
          </p:nvSpPr>
          <p:spPr>
            <a:xfrm>
              <a:off x="530280" y="1647720"/>
              <a:ext cx="5783040" cy="299736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01640" y="1716120"/>
              <a:ext cx="5586480" cy="28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truct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nome_do_tipo_da_estrutura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 {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po nome_de_elemento_1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po nome_de_elemento_2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po nome_de_elemento_3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3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ipo nome_de_elemento_N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}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variáveis_estrutura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4BF7A-6DC4-43F9-A82C-DA7BB4450C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/>
          </p:nvPr>
        </p:nvSpPr>
        <p:spPr>
          <a:xfrm>
            <a:off x="911160" y="1573200"/>
            <a:ext cx="8028000" cy="9828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Referência dos membros da estrutu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95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me_da_variável_estrutura</a:t>
            </a:r>
            <a:r>
              <a:rPr b="1" i="1" lang="pt-BR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me_do_ele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5" name=""/>
          <p:cNvSpPr/>
          <p:nvPr/>
        </p:nvSpPr>
        <p:spPr>
          <a:xfrm>
            <a:off x="973080" y="111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6" name=""/>
          <p:cNvSpPr/>
          <p:nvPr/>
        </p:nvSpPr>
        <p:spPr>
          <a:xfrm>
            <a:off x="1052640" y="2597040"/>
            <a:ext cx="2687400" cy="57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Exemplo:</a:t>
            </a:r>
            <a:r>
              <a:rPr b="1" lang="pt-PT" sz="4800" spc="-1" strike="noStrike">
                <a:solidFill>
                  <a:srgbClr val="ffcc00"/>
                </a:solidFill>
                <a:latin typeface="Pengui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7" name=""/>
          <p:cNvSpPr/>
          <p:nvPr/>
        </p:nvSpPr>
        <p:spPr>
          <a:xfrm>
            <a:off x="442800" y="826920"/>
            <a:ext cx="3983040" cy="5763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Operador </a:t>
            </a:r>
            <a:r>
              <a:rPr b="1" lang="pt-PT" sz="6000" spc="-1" strike="noStrike">
                <a:solidFill>
                  <a:srgbClr val="ffffff"/>
                </a:solidFill>
                <a:latin typeface="Penguin"/>
              </a:rPr>
              <a:t>.</a:t>
            </a: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: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618" name=""/>
          <p:cNvGrpSpPr/>
          <p:nvPr/>
        </p:nvGrpSpPr>
        <p:grpSpPr>
          <a:xfrm>
            <a:off x="237960" y="3348000"/>
            <a:ext cx="8666280" cy="2696760"/>
            <a:chOff x="237960" y="3348000"/>
            <a:chExt cx="8666280" cy="2696760"/>
          </a:xfrm>
        </p:grpSpPr>
        <p:sp>
          <p:nvSpPr>
            <p:cNvPr id="1619" name=""/>
            <p:cNvSpPr/>
            <p:nvPr/>
          </p:nvSpPr>
          <p:spPr>
            <a:xfrm>
              <a:off x="237960" y="3348000"/>
              <a:ext cx="8666280" cy="252864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87360" y="3427200"/>
              <a:ext cx="8388360" cy="261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nfo_adr.cep=91720260;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atribui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ntf("%lu", info_adr.cep);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imprime cep na tela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ntf("%s",info_adr.nome);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 imprime nome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or(t=0;info_adr.nome[t];++t)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	</a:t>
              </a:r>
              <a:r>
                <a:rPr b="1" i="1" lang="pt-BR" sz="24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utchar(info_adr.nome[t]); </a:t>
              </a:r>
              <a:r>
                <a:rPr b="1" i="1" lang="pt-BR" sz="2400" spc="-1" strike="noStrike">
                  <a:solidFill>
                    <a:srgbClr val="010199"/>
                  </a:solidFill>
                  <a:latin typeface="Arial"/>
                  <a:ea typeface="Times New Roman"/>
                </a:rPr>
                <a:t>/*apresenta caractere por caractere */</a:t>
              </a: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  <a:p>
              <a:pPr marL="355680" indent="-355680" algn="just">
                <a:lnSpc>
                  <a:spcPct val="9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B8CCA-A941-4CD5-831E-42B59B5BA9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>
            <a:off x="239760" y="833400"/>
            <a:ext cx="5722920" cy="56530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2" name=""/>
          <p:cNvSpPr/>
          <p:nvPr/>
        </p:nvSpPr>
        <p:spPr>
          <a:xfrm>
            <a:off x="6296040" y="1531800"/>
            <a:ext cx="2544840" cy="189720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O que faz o programa ao lad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3" name=""/>
          <p:cNvSpPr/>
          <p:nvPr/>
        </p:nvSpPr>
        <p:spPr>
          <a:xfrm>
            <a:off x="328680" y="739800"/>
            <a:ext cx="554040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oid main(void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truct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ar nome[30]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ar rua[40]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ar cidade[20]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ar estado[3]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unsigned long int cep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info_adr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register int t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um nome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canf("%s",info_adr.nome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Digite o CEP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canf("%lu",&amp;info_adr.ce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4" name=""/>
          <p:cNvSpPr/>
          <p:nvPr/>
        </p:nvSpPr>
        <p:spPr>
          <a:xfrm>
            <a:off x="1363680" y="0"/>
            <a:ext cx="6418080" cy="623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5" name=""/>
          <p:cNvSpPr/>
          <p:nvPr/>
        </p:nvSpPr>
        <p:spPr>
          <a:xfrm>
            <a:off x="6116760" y="6067440"/>
            <a:ext cx="865080" cy="345960"/>
          </a:xfrm>
          <a:custGeom>
            <a:avLst/>
            <a:gdLst>
              <a:gd name="textAreaLeft" fmla="*/ 0 w 865080"/>
              <a:gd name="textAreaRight" fmla="*/ 865440 w 865080"/>
              <a:gd name="textAreaTop" fmla="*/ 0 h 345960"/>
              <a:gd name="textAreaBottom" fmla="*/ 346320 h 34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301"/>
          </a:solidFill>
          <a:ln w="0">
            <a:noFill/>
          </a:ln>
          <a:effectLst>
            <a:outerShdw dist="40186" dir="1729635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DBA50-59C1-4734-BC06-209C3BC3DE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"/>
          <p:cNvSpPr/>
          <p:nvPr/>
        </p:nvSpPr>
        <p:spPr>
          <a:xfrm>
            <a:off x="182520" y="1023840"/>
            <a:ext cx="5722920" cy="23526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7" name=""/>
          <p:cNvSpPr/>
          <p:nvPr/>
        </p:nvSpPr>
        <p:spPr>
          <a:xfrm>
            <a:off x="6357960" y="1022400"/>
            <a:ext cx="2544840" cy="18968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542880" indent="-5428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Exemplo: </a:t>
            </a:r>
            <a:r>
              <a:rPr b="1" lang="pt-PT" sz="2800" spc="-1" strike="noStrike">
                <a:solidFill>
                  <a:srgbClr val="ffff99"/>
                </a:solidFill>
                <a:latin typeface="Arial"/>
              </a:rPr>
              <a:t>O que faz o programa ao lado?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8" name=""/>
          <p:cNvSpPr/>
          <p:nvPr/>
        </p:nvSpPr>
        <p:spPr>
          <a:xfrm>
            <a:off x="279360" y="1062000"/>
            <a:ext cx="55404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O nome e CEP digitados foram %s e %lu\n\n", info_adr.nome, info_adr.ce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or(t=0;info_adr.nome[t];++t)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utchar(info_adr.nome[t]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9" name=""/>
          <p:cNvSpPr/>
          <p:nvPr/>
        </p:nvSpPr>
        <p:spPr>
          <a:xfrm>
            <a:off x="1328760" y="187200"/>
            <a:ext cx="6232680" cy="5986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em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84CCB-618C-4C65-AAAA-EA99B7CB2C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 M. Fechine/José Eustáquio R. de Queiroz</dc:creator>
  <dc:description/>
  <dc:language>en-US</dc:language>
  <cp:lastModifiedBy>Joseana Macedo Fechine</cp:lastModifiedBy>
  <cp:lastPrinted>2002-02-17T19:14:27Z</cp:lastPrinted>
  <dcterms:modified xsi:type="dcterms:W3CDTF">2005-05-24T18:50:15Z</dcterms:modified>
  <cp:revision>294</cp:revision>
  <dc:subject/>
  <dc:title>Técnicas de Programação</dc:title>
</cp:coreProperties>
</file>