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7A0-4FBB-4E4F-9FCA-7262E0D9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ECC-2993-4419-953D-AB3EA374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E45-B91C-46C1-8241-19B55DE7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177-B0EB-436D-A106-B9682867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7DF-E54F-405D-A126-86EEDBC5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4762-A14B-4C7A-8C89-E4D770C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16DC-74CB-4587-804C-91F721E3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AC6A-8F0B-44B8-9E1F-944AA758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3C44-7A97-4CCA-A105-1D536B1E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7023-F73A-4700-AE3F-18ED4B26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7433-9A37-4ECF-9464-200002A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12C-D199-4698-9B5D-92703DAA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2D8-3E38-4D4E-BDF9-39DCA9F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1B39-C060-4006-983F-E1B3090A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816-F048-406A-884A-153F62F3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6B7-D75F-441E-A1B8-82AC8D69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CD4B-BE80-43E2-BFD7-D1EF1089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4C3-70B7-4C3B-91AA-3196EB7F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D19-AC08-4C44-9031-11B4BA28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EF5-18C9-4201-8657-A73928D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C45-7AFF-45FC-9ACB-5BC866EC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039-91B5-4351-995B-9B211F2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E84-00C5-402F-A521-B5DAF90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9CB-AF54-44BA-80F4-68175149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F76-D733-4B6B-A2D7-CA7117095294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D88-1B81-46EB-9D1E-A36CF85E492C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11320" y="2295360"/>
            <a:ext cx="7137360" cy="2025720"/>
            <a:chOff x="1111320" y="2295360"/>
            <a:chExt cx="7137360" cy="2025720"/>
          </a:xfrm>
        </p:grpSpPr>
        <p:sp>
          <p:nvSpPr>
            <p:cNvPr id="101" name=""/>
            <p:cNvSpPr/>
            <p:nvPr/>
          </p:nvSpPr>
          <p:spPr>
            <a:xfrm>
              <a:off x="1124280" y="2295360"/>
              <a:ext cx="712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1320" y="2320920"/>
              <a:ext cx="7124760" cy="20001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400" spc="-1" strike="noStrike">
                  <a:solidFill>
                    <a:srgbClr val="ffff00"/>
                  </a:solidFill>
                  <a:latin typeface="Penguin"/>
                </a:rPr>
                <a:t>Funções </a:t>
              </a:r>
              <a:r>
                <a:rPr b="1" lang="pt-BR" sz="4400" spc="-1" strike="noStrike">
                  <a:solidFill>
                    <a:srgbClr val="ffff00"/>
                  </a:solidFill>
                  <a:latin typeface="Penguin"/>
                </a:rPr>
                <a:t>– Linguagem C</a:t>
              </a:r>
              <a:r>
                <a:rPr b="1" lang="pt-BR" sz="5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r>
                <a:rPr b="1" lang="pt-BR" sz="54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(Adicional - rand)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845-C36A-415A-AC18-88FF1639FA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920" y="712800"/>
            <a:ext cx="22143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1244520"/>
            <a:ext cx="8169120" cy="5313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343160"/>
            <a:ext cx="814860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tim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math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define uniform(a,b)  ((double)rand()*((b)-(a))/RAND_MAX+(a)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v1,v2,rsq,fac,normal1,normal2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rand(time(0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ile(1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1 = uniform(-1,1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ntf(“v1=%f\n”,v1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20840" y="41400"/>
            <a:ext cx="7173360" cy="577440"/>
            <a:chOff x="1320840" y="41400"/>
            <a:chExt cx="7173360" cy="577440"/>
          </a:xfrm>
        </p:grpSpPr>
        <p:sp>
          <p:nvSpPr>
            <p:cNvPr id="161" name=""/>
            <p:cNvSpPr/>
            <p:nvPr/>
          </p:nvSpPr>
          <p:spPr>
            <a:xfrm>
              <a:off x="1347480" y="4140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0840" y="568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A02-EFA7-4A4F-9E23-5CC28A38E9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04640" y="284040"/>
            <a:ext cx="22147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7800" y="777960"/>
            <a:ext cx="8104320" cy="6156360"/>
            <a:chOff x="307800" y="777960"/>
            <a:chExt cx="8104320" cy="6156360"/>
          </a:xfrm>
        </p:grpSpPr>
        <p:sp>
          <p:nvSpPr>
            <p:cNvPr id="165" name=""/>
            <p:cNvSpPr/>
            <p:nvPr/>
          </p:nvSpPr>
          <p:spPr>
            <a:xfrm>
              <a:off x="307800" y="777960"/>
              <a:ext cx="8104320" cy="6156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880" y="914400"/>
              <a:ext cx="7691400" cy="58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stdlib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time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math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std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define uniform(a,b)  ((double)rand()*((b)-(a))/RAND_MAX+(a)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in(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ouble v,exponential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rand(time(0)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while( 1 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o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 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 = uniform(0,1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}while( v == 0 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xponential = -log(v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rintf("%f\n",exponential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320840" y="41400"/>
            <a:ext cx="7173360" cy="577440"/>
            <a:chOff x="1320840" y="41400"/>
            <a:chExt cx="7173360" cy="577440"/>
          </a:xfrm>
        </p:grpSpPr>
        <p:sp>
          <p:nvSpPr>
            <p:cNvPr id="168" name=""/>
            <p:cNvSpPr/>
            <p:nvPr/>
          </p:nvSpPr>
          <p:spPr>
            <a:xfrm>
              <a:off x="1347480" y="4140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0840" y="568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3F8-2491-4C2C-B990-2E4486958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3520" y="1579680"/>
            <a:ext cx="6625800" cy="2147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ração de números aleatóri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rmalmen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istribuí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ponencialmen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istribuíd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05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118-0078-481C-BA2D-AD58D3DEC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11240" y="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" y="889200"/>
            <a:ext cx="8766000" cy="461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unçã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a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funçã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omputa uma seqüência de inteiros pseudo-aleatórios na faix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_MAX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 que é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RAND_MAX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_MA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 uma constante simbólica definida  no arquivo-cabeçalho &lt;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dli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or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_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e ser menor do que   3276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valor máximo de um inteiro de dois bytes (Padrã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S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562720"/>
            <a:ext cx="85150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and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produzir números verdadeiramente aleatórios, todos os números entre 0 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AND_MAX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terão a mesma probabilidade de serem escolhidos cada vez qu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and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for chamada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11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7ED-D022-4670-8481-7804A92C88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14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3051000" y="804960"/>
            <a:ext cx="5268960" cy="5729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295800" y="3446640"/>
            <a:ext cx="52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924200"/>
            <a:ext cx="209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rograma para gerar números aleatórios entre 0 e 99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936720"/>
            <a:ext cx="52196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 (i=0;i&lt;N;i++) num[i] = (rand()%10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552600" y="3772080"/>
            <a:ext cx="2190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Problema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úmeros pseudo-aleatóri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D92-073C-47F5-8FC8-787B807C9D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23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24000" y="1069920"/>
            <a:ext cx="4356000" cy="6447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cc00"/>
                </a:solidFill>
                <a:latin typeface="Arial"/>
              </a:rPr>
              <a:t>Função</a:t>
            </a:r>
            <a:r>
              <a:rPr b="1" lang="pt-PT" sz="28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i="1" lang="pt-PT" sz="32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933480" y="2251080"/>
            <a:ext cx="7480440" cy="45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a função utiliza um número inteiro para ser uma semente da função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rand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009800" y="4003560"/>
            <a:ext cx="7480080" cy="454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bjetivo da semente: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zir uma seqüência de números aleatórios diferentes em cada execução do program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E11-99C3-4420-B48E-883B7508D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29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s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2860560" y="1357200"/>
            <a:ext cx="5783400" cy="463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3014640" y="1341360"/>
            <a:ext cx="5614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unsigned see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f(“Forneca o valor da semente\n”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canf(“%u”,&amp;seed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rand(seed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rand()%10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81C-5977-4BBA-AFFB-9DA8564CD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35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s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355920" y="1547640"/>
            <a:ext cx="5288040" cy="4249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1646280"/>
            <a:ext cx="50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nclude &lt;tim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rand()%10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361800" y="2000160"/>
            <a:ext cx="295308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Outra Solução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Uso do relóg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Randomizar” sem a necessidade de fornecer uma semente a cada vez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11B-65E4-4698-B0E2-A70C29D7FE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42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om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3070080" y="1185840"/>
            <a:ext cx="5592960" cy="4402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3295800" y="1532160"/>
            <a:ext cx="5252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ndomize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random(100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238560"/>
            <a:ext cx="180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Valor inicial aleatóri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2552760" y="2705040"/>
            <a:ext cx="857160" cy="1219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361800" y="2114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Outra Solução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DE4-6C14-423F-BFC9-3FBEF4F841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51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s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355920" y="1547640"/>
            <a:ext cx="5288040" cy="4249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700440" y="1646280"/>
            <a:ext cx="50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nclude &lt;tim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1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1+rand()%6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781360"/>
            <a:ext cx="21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 que faz o programa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02F-9784-431C-AA79-268DD9A6B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Joseana Macedo Fechine</cp:lastModifiedBy>
  <cp:lastPrinted>2002-02-17T19:14:27Z</cp:lastPrinted>
  <dcterms:modified xsi:type="dcterms:W3CDTF">2005-05-02T14:59:19Z</dcterms:modified>
  <cp:revision>332</cp:revision>
  <dc:subject/>
  <dc:title>Reconhecimento de voz</dc:title>
</cp:coreProperties>
</file>