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CB8-9E51-453A-874A-9BA1B2F3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202-3721-4B45-B773-D59F06F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92E-E6A8-4125-9F62-2B2191AA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D8F-ECC3-4628-8656-CF30AD50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D50-EA47-40D4-BC83-1FE1DB29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D0FC-85F7-4B35-89F1-33A584E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F566-2E59-46B2-B453-84BC40A6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A1F-2701-4DA7-B314-0154CB3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00C-B65B-4E92-9FD5-D138CBD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FCE3-9A5C-4D7C-8BB4-EBC3E924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A24-C8BE-4170-B061-5D68243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7C3-A67C-4A0F-9F24-6F2B08D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70D0-4013-492C-AA04-DE7685A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5491-69A8-4586-A1F2-0B3AF6E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3A5-D74E-44FB-9FC9-C8CBAE9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ED8-B3F1-4C26-978E-CFAC47E2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BE7-9A7E-4A49-B8F4-C09DBBA6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8DF-5A35-4879-BE48-A908B8F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A0F-6CAF-46FD-99B0-E2D4A52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F84-B122-4C18-BC11-150997E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71E-73D7-4E04-A9E7-B82AE915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E9D-F6AC-4A9E-AA03-4F48944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A63-D6A2-4106-A755-A6FC464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DBD-5FA2-43FE-A969-4EDA1C3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404-87A7-4A0F-9B11-D9431F6E4B97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292E-D7D9-4BE0-B4BD-E2DF75D4FE59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96840" y="2371680"/>
            <a:ext cx="7137360" cy="2025720"/>
            <a:chOff x="996840" y="2371680"/>
            <a:chExt cx="7137360" cy="2025720"/>
          </a:xfrm>
        </p:grpSpPr>
        <p:sp>
          <p:nvSpPr>
            <p:cNvPr id="100" name=""/>
            <p:cNvSpPr/>
            <p:nvPr/>
          </p:nvSpPr>
          <p:spPr>
            <a:xfrm>
              <a:off x="1009800" y="237168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6840" y="239724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de Entrada e Saída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 (Parte II)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3E6-3AA1-4B21-B219-500A8F961F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05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41280" y="992160"/>
            <a:ext cx="4794480" cy="5592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1454040" y="1064160"/>
            <a:ext cx="43531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define N 4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 j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oat R[N], temp, Req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LE *fp1, *fp2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((fp1=fopen("arq1.dat","r"))==NULL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ts("Nao posso abrir o arquivo!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t(1);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((fp2=fopen("arq2.dat","w"))==NULL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ts("Nao posso criar o arquivo!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t(1);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52F-5BF1-412B-8070-A6AFBB2663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11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25600" y="1198440"/>
            <a:ext cx="8091360" cy="4695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" y="1408320"/>
            <a:ext cx="418932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mp=0.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=0.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(j=0; j&lt;N; j++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scanf(fp1,"%f", &amp;R[j]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mp+=1/R[j]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printf(fp2,"R[%d]=%.1f\n", j,R[j]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=1/temp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printf(fp2,"Req=%.1f", Req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lose(fp1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lose(fp2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5073480" y="2284560"/>
            <a:ext cx="293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idere que “arq1.dat” contém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5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4986360" y="2225520"/>
            <a:ext cx="2778120" cy="22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5B6-D2CB-47EE-84EE-5DEAE1DF9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19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600" y="938160"/>
            <a:ext cx="8091360" cy="5919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620640" y="1054440"/>
            <a:ext cx="8124840" cy="58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*fp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 ch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dent, consumo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p=fopen("consumo.dat","w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ca a identificação (numero) do aparelho (0 para sa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r)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ident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(ident) 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ça o consumo em kWh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consumo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printf(fp,"aparelho - %d consumo - %d\n",ident,consumo);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ca a identificação do aparelho (0 para sa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r)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ident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lose(fp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“Dados inseridos”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9B8-BD29-4C65-A8C2-B8266A4D80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60240" y="1681200"/>
            <a:ext cx="7823520" cy="1425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54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abore um programa em Linguagem C que determina o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usto mensal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(30 dias), para um dado valor do kWh, e a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tensidade de corrente elétrica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que atravessa um determinado aparelho elétrico. Para a resolução devem ser satisfeitas as seguintes condiçõ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 valor da ddp, da potência, do custo do KWh e o tempo de uso diário (em horas) devem ser fornecidos através de um arqu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s resultados devem ser armazenados em um segundo arquivo e apresentados com duas casas decim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4800" y="85104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85680" y="42840"/>
            <a:ext cx="7174080" cy="577440"/>
            <a:chOff x="985680" y="42840"/>
            <a:chExt cx="7174080" cy="577440"/>
          </a:xfrm>
        </p:grpSpPr>
        <p:sp>
          <p:nvSpPr>
            <p:cNvPr id="126" name=""/>
            <p:cNvSpPr/>
            <p:nvPr/>
          </p:nvSpPr>
          <p:spPr>
            <a:xfrm>
              <a:off x="1012680" y="428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5680" y="583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43E-D843-4C2D-9436-E589689DC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10-08T13:11:16Z</dcterms:modified>
  <cp:revision>293</cp:revision>
  <dc:subject/>
  <dc:title>Reconhecimento de voz</dc:title>
</cp:coreProperties>
</file>