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13B-B884-485A-8C78-0718B703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61C-9089-4897-A02C-8BE60D7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53E-B7AF-4468-A3C4-481FB4C3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B7D-9297-4419-8BA6-8139B97A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07CA-62E6-4E66-BB34-C0D0F1D0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169D-3DBE-4A7E-AA79-BA765B8B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7BD-F3B5-4626-886F-704C93D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79A-AA91-4BB5-A419-CB117D9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96B-C2D8-494E-86A0-EC5ACECD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1DCB-4A84-473C-BA45-C84788F5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7860-34AA-4DE4-9C0F-971563F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8E9-F913-49C5-9D40-31CB9E8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F435-12E8-4990-8679-215BCE4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CA3C-E1B6-4716-AF3C-3E9CB90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1A7-C32C-4AEE-9B48-C1B7807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669-4AE3-4DA7-9B3F-D2F3DBB3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7CF-7DD4-4FD2-A5AE-FB997870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806-5DFC-4819-83C4-653473C8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D14-C71D-4071-95BC-FBB4FBA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207-6DCF-4F28-93C8-74C00B7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E74-5A3A-400E-9C7C-2E76632F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94B-3984-41BB-BCE6-BC0D0A4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AC9-CBA4-4BD5-93E7-05B2C8C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67F-D3CC-49F5-B96E-44A4A2B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F6AF-6608-4B11-B042-5F46C8C60348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AA9-2D08-4454-8CAC-98D14C6EE2BC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96840" y="2371680"/>
            <a:ext cx="7137360" cy="2025720"/>
            <a:chOff x="996840" y="2371680"/>
            <a:chExt cx="7137360" cy="2025720"/>
          </a:xfrm>
        </p:grpSpPr>
        <p:sp>
          <p:nvSpPr>
            <p:cNvPr id="100" name=""/>
            <p:cNvSpPr/>
            <p:nvPr/>
          </p:nvSpPr>
          <p:spPr>
            <a:xfrm>
              <a:off x="1009800" y="237168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6840" y="239724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de Entrada e Saída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694-9998-4DE2-8F61-853FC6A84E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11760" y="901800"/>
            <a:ext cx="4663800" cy="5389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62120" y="2830320"/>
            <a:ext cx="2768400" cy="7664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ESPECIFICAÇÃO DE FORM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059360" y="1039680"/>
          <a:ext cx="4365360" cy="5199120"/>
        </p:xfrm>
        <a:graphic>
          <a:graphicData uri="http://schemas.openxmlformats.org/drawingml/2006/table">
            <a:tbl>
              <a:tblPr/>
              <a:tblGrid>
                <a:gridCol w="1271520"/>
                <a:gridCol w="3093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enguin"/>
                          <a:ea typeface="Times New Roman"/>
                        </a:rPr>
                        <a:t>Forma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enguin"/>
                          <a:ea typeface="Times New Roman"/>
                        </a:rPr>
                        <a:t>Descri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 dec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l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 decimal lon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ção oct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adecim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 se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 único caract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ção científ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nto flutua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r entre %e e %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ereço de memó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"/>
                          <a:ea typeface="Times New Roman"/>
                        </a:rPr>
                        <a:t>%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essão de um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03200" y="88596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print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75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543-5C42-45D7-9F0C-6AF088998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340200" y="53042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453960" y="72072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print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1040" y="1536840"/>
            <a:ext cx="8427960" cy="4843440"/>
            <a:chOff x="311040" y="1536840"/>
            <a:chExt cx="8427960" cy="4843440"/>
          </a:xfrm>
        </p:grpSpPr>
        <p:sp>
          <p:nvSpPr>
            <p:cNvPr id="180" name=""/>
            <p:cNvSpPr/>
            <p:nvPr/>
          </p:nvSpPr>
          <p:spPr>
            <a:xfrm>
              <a:off x="311040" y="1536840"/>
              <a:ext cx="8427960" cy="4843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70120" y="4883040"/>
              <a:ext cx="41497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amanho total em caracteres do valor a escrever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precisão (número de algarismos decimais).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40" y="4883040"/>
              <a:ext cx="405108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icador na forma 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num1.num2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70120" y="3268800"/>
              <a:ext cx="414972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manho em caracteres do valor a escrever (se o valor para ser escrito ocupar mais caracteres do que o especificado, não é truncado)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040" y="3268800"/>
              <a:ext cx="405108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valor inteir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0120" y="2568600"/>
              <a:ext cx="4149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valor a escrever contém sempre um sinal (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040" y="2568600"/>
              <a:ext cx="4051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sinal mais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0120" y="2144880"/>
              <a:ext cx="41497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z uma justificação à esquerda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2144880"/>
              <a:ext cx="4051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99"/>
                  </a:solidFill>
                  <a:latin typeface="Arial"/>
                  <a:ea typeface="Arial"/>
                </a:rPr>
                <a:t>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sinal menos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70120" y="1627200"/>
              <a:ext cx="4149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Significad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40" y="1627200"/>
              <a:ext cx="4051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Indicadores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040" y="1627200"/>
              <a:ext cx="8200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040" y="214488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40" y="256860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040" y="326880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040" y="4883040"/>
              <a:ext cx="82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040" y="6269040"/>
              <a:ext cx="8200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70120" y="1627200"/>
              <a:ext cx="0" cy="46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040" y="1627200"/>
              <a:ext cx="0" cy="4641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19840" y="1627200"/>
              <a:ext cx="0" cy="4641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20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F97-68A1-4B1C-B5C7-FB218FF412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4238640" y="1166760"/>
            <a:ext cx="3886200" cy="3862440"/>
            <a:chOff x="4238640" y="1166760"/>
            <a:chExt cx="3886200" cy="3862440"/>
          </a:xfrm>
        </p:grpSpPr>
        <p:sp>
          <p:nvSpPr>
            <p:cNvPr id="204" name=""/>
            <p:cNvSpPr/>
            <p:nvPr/>
          </p:nvSpPr>
          <p:spPr>
            <a:xfrm>
              <a:off x="4238640" y="1166760"/>
              <a:ext cx="3886200" cy="3862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365720" y="1297080"/>
              <a:ext cx="3619440" cy="3590640"/>
              <a:chOff x="4365720" y="1297080"/>
              <a:chExt cx="3619440" cy="3590640"/>
            </a:xfrm>
          </p:grpSpPr>
          <p:sp>
            <p:nvSpPr>
              <p:cNvPr id="206" name=""/>
              <p:cNvSpPr/>
              <p:nvPr/>
            </p:nvSpPr>
            <p:spPr>
              <a:xfrm>
                <a:off x="6023160" y="4308480"/>
                <a:ext cx="196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uble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65720" y="4308480"/>
                <a:ext cx="16574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lf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23160" y="3727440"/>
                <a:ext cx="19620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loa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65720" y="3727440"/>
                <a:ext cx="16574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f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3160" y="3149640"/>
                <a:ext cx="196200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nsigned 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65720" y="3149640"/>
                <a:ext cx="165744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u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23160" y="2570040"/>
                <a:ext cx="196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ong 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5720" y="2570040"/>
                <a:ext cx="1657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ld 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23160" y="1989000"/>
                <a:ext cx="19620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5720" y="1989000"/>
                <a:ext cx="16574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99"/>
                    </a:solidFill>
                    <a:latin typeface="Arial"/>
                    <a:ea typeface="Times New Roman"/>
                  </a:rPr>
                  <a:t>%d</a:t>
                </a:r>
                <a:endParaRPr b="0" lang="en-US" sz="2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23160" y="1297080"/>
                <a:ext cx="196200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Penguin"/>
                    <a:ea typeface="Times New Roman"/>
                  </a:rPr>
                  <a:t>Tipo</a:t>
                </a:r>
                <a:endParaRPr b="0" lang="en-US" sz="2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65720" y="1297080"/>
                <a:ext cx="165744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Penguin"/>
                    <a:ea typeface="Times New Roman"/>
                  </a:rPr>
                  <a:t>Formato</a:t>
                </a:r>
                <a:endParaRPr b="0" lang="en-US" sz="2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65720" y="129708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5720" y="488772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6572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8516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65720" y="198900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23160" y="1297080"/>
                <a:ext cx="0" cy="3590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65720" y="25700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65720" y="31496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65720" y="372744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5720" y="4308480"/>
                <a:ext cx="361944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762120" y="2830680"/>
            <a:ext cx="2768400" cy="766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ESPECIFICAÇÃO DE FORMA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03200" y="885960"/>
            <a:ext cx="240840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scanf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23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1BA-1A65-4BCF-AE71-FEFC09A478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803240" y="1644480"/>
            <a:ext cx="5535720" cy="4708440"/>
            <a:chOff x="1803240" y="1644480"/>
            <a:chExt cx="5535720" cy="4708440"/>
          </a:xfrm>
        </p:grpSpPr>
        <p:sp>
          <p:nvSpPr>
            <p:cNvPr id="234" name=""/>
            <p:cNvSpPr/>
            <p:nvPr/>
          </p:nvSpPr>
          <p:spPr>
            <a:xfrm>
              <a:off x="1803240" y="1644480"/>
              <a:ext cx="5535720" cy="4708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7400" y="4628880"/>
              <a:ext cx="35211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Barr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31840" y="4628880"/>
              <a:ext cx="15555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 \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7400" y="5141880"/>
              <a:ext cx="35211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Tabulacão vertical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1840" y="5141880"/>
              <a:ext cx="1555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v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87400" y="5654520"/>
              <a:ext cx="35211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inal sonor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1840" y="5654520"/>
              <a:ext cx="1555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7400" y="4093920"/>
              <a:ext cx="35211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sp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31840" y="4093920"/>
              <a:ext cx="1555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“ 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7400" y="3538440"/>
              <a:ext cx="35211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Retrocesso (BACKSPACE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31840" y="3538440"/>
              <a:ext cx="15555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b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7400" y="2944800"/>
              <a:ext cx="3521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Tabulação (TAB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1840" y="2944800"/>
              <a:ext cx="1555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t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7400" y="2425680"/>
              <a:ext cx="3521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31840" y="2425680"/>
              <a:ext cx="1555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r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7400" y="1820880"/>
              <a:ext cx="3521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ova linh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1840" y="1820880"/>
              <a:ext cx="15555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10199"/>
                  </a:solidFill>
                  <a:latin typeface="Arial Black"/>
                </a:rPr>
                <a:t>\n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7400" y="1820880"/>
              <a:ext cx="0" cy="28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023920" y="1820880"/>
              <a:ext cx="5084640" cy="4346280"/>
              <a:chOff x="2023920" y="1820880"/>
              <a:chExt cx="5084640" cy="4346280"/>
            </a:xfrm>
          </p:grpSpPr>
          <p:sp>
            <p:nvSpPr>
              <p:cNvPr id="253" name=""/>
              <p:cNvSpPr/>
              <p:nvPr/>
            </p:nvSpPr>
            <p:spPr>
              <a:xfrm>
                <a:off x="2023920" y="1820880"/>
                <a:ext cx="5084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23920" y="242568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023920" y="294480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23920" y="353844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23920" y="409392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23920" y="4628880"/>
                <a:ext cx="50846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23920" y="6167160"/>
                <a:ext cx="5084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23920" y="5654520"/>
                <a:ext cx="508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23920" y="5141880"/>
                <a:ext cx="50846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01924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9240" y="1820880"/>
              <a:ext cx="0" cy="2808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9240" y="5141880"/>
              <a:ext cx="0" cy="102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740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87400" y="5141880"/>
              <a:ext cx="0" cy="10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08560" y="4628880"/>
              <a:ext cx="0" cy="513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08560" y="1820880"/>
              <a:ext cx="0" cy="2808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08560" y="5141880"/>
              <a:ext cx="0" cy="102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300400" y="957240"/>
            <a:ext cx="4543200" cy="598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Caracteres de Contro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85680" y="169920"/>
            <a:ext cx="7174080" cy="577440"/>
            <a:chOff x="985680" y="169920"/>
            <a:chExt cx="7174080" cy="577440"/>
          </a:xfrm>
        </p:grpSpPr>
        <p:sp>
          <p:nvSpPr>
            <p:cNvPr id="272" name=""/>
            <p:cNvSpPr/>
            <p:nvPr/>
          </p:nvSpPr>
          <p:spPr>
            <a:xfrm>
              <a:off x="1012680" y="16992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85680" y="18540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015-D40D-49AE-BB55-5E33ACE7B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3178080" y="1214280"/>
            <a:ext cx="5357880" cy="5124240"/>
            <a:chOff x="3178080" y="1214280"/>
            <a:chExt cx="5357880" cy="5124240"/>
          </a:xfrm>
        </p:grpSpPr>
        <p:sp>
          <p:nvSpPr>
            <p:cNvPr id="275" name=""/>
            <p:cNvSpPr/>
            <p:nvPr/>
          </p:nvSpPr>
          <p:spPr>
            <a:xfrm>
              <a:off x="3178080" y="1214280"/>
              <a:ext cx="5351400" cy="5124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00560" y="1382400"/>
              <a:ext cx="5135400" cy="46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&lt;std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"012345678901234567890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("%-7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7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-5.2f\n",123.23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5.2f\n",3.324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10s\n","Alô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-10s\n","Alô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"%5.7s\n","123456789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278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65120" y="116856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CD2-2F6C-41AA-B1FB-CCF1F3DFC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373040" y="1741680"/>
            <a:ext cx="6946920" cy="4570200"/>
            <a:chOff x="1373040" y="1741680"/>
            <a:chExt cx="6946920" cy="4570200"/>
          </a:xfrm>
        </p:grpSpPr>
        <p:sp>
          <p:nvSpPr>
            <p:cNvPr id="282" name=""/>
            <p:cNvSpPr/>
            <p:nvPr/>
          </p:nvSpPr>
          <p:spPr>
            <a:xfrm>
              <a:off x="1373040" y="1773360"/>
              <a:ext cx="6850080" cy="4538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8720" y="1741680"/>
              <a:ext cx="68612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str[8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"Digite abcdefghijklmnopqrstuvwxyz: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f("%20s",str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str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canf("%20s",str); /* o programa não parará nesta chamada a scanf() porqu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(str); /* ainda haverá caracteres nã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nsferidos no buffer de entrada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285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08200" y="114300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A1E-03C6-4A46-9691-A94181050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50720" y="1114560"/>
            <a:ext cx="7853400" cy="5478480"/>
            <a:chOff x="450720" y="1114560"/>
            <a:chExt cx="7853400" cy="5478480"/>
          </a:xfrm>
        </p:grpSpPr>
        <p:sp>
          <p:nvSpPr>
            <p:cNvPr id="289" name=""/>
            <p:cNvSpPr/>
            <p:nvPr/>
          </p:nvSpPr>
          <p:spPr>
            <a:xfrm>
              <a:off x="450720" y="1114560"/>
              <a:ext cx="7853400" cy="5478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60320" y="1192320"/>
              <a:ext cx="5629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Descriçã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680" y="1192320"/>
              <a:ext cx="200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Funçã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0320" y="57452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posiciona o localizador no inicio do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680" y="57452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rewind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60320" y="537840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Escreve um bloco de dado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680" y="537840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f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write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0320" y="391176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Igual ao 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scanf()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 do console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3680" y="391176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scan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60320" y="42782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torna verdadeiro se encontrou fi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680" y="42782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eo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60320" y="464508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Retorna verdadeiro se ocorreu err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680" y="464508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error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60320" y="501192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Lê um bloco de dado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680" y="501192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read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60320" y="354492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Igual ao 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printf()</a:t>
              </a: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 do console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3680" y="354492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printf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60320" y="281160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Lê um caracter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de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3680" y="281160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getc()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, fget(c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60320" y="317844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Posiciona o arquivo em  um byte específic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680" y="317844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seek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60320" y="207828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Fecha um STREAM (arquivo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3680" y="207828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f</a:t>
              </a: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close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60320" y="244476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Escreve um caracter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em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680" y="244476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putc()</a:t>
              </a:r>
              <a:r>
                <a:rPr b="1" lang="pt-BR" sz="1800" spc="-1" strike="noStrike">
                  <a:solidFill>
                    <a:srgbClr val="010199"/>
                  </a:solidFill>
                  <a:latin typeface="Arial"/>
                </a:rPr>
                <a:t>, fput(c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60320" y="1711440"/>
              <a:ext cx="562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bre um STREAM (arquivo)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3680" y="1711440"/>
              <a:ext cx="200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fopen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60320" y="6112080"/>
              <a:ext cx="5629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00000"/>
                  </a:solidFill>
                  <a:latin typeface="Arial"/>
                </a:rPr>
                <a:t>Apaga um arquiv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680" y="6112080"/>
              <a:ext cx="2006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010199"/>
                  </a:solidFill>
                  <a:latin typeface="Arial"/>
                </a:rPr>
                <a:t>remove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60320" y="1192320"/>
              <a:ext cx="0" cy="528624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3680" y="20782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3680" y="281160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3680" y="244476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3680" y="354492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3680" y="31784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680" y="391176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3680" y="537840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3680" y="501192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3680" y="46450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3680" y="42782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3680" y="57452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3680" y="611208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3680" y="1711440"/>
              <a:ext cx="7635960" cy="0"/>
            </a:xfrm>
            <a:prstGeom prst="line">
              <a:avLst/>
            </a:prstGeom>
            <a:ln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3680" y="1192320"/>
              <a:ext cx="7635960" cy="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3680" y="1192320"/>
              <a:ext cx="0" cy="528624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9640" y="1192320"/>
              <a:ext cx="0" cy="528624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3680" y="6478560"/>
              <a:ext cx="7635960" cy="0"/>
            </a:xfrm>
            <a:prstGeom prst="line">
              <a:avLst/>
            </a:prstGeom>
            <a:ln cap="sq" w="38160">
              <a:solidFill>
                <a:srgbClr val="001f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37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33240" y="576360"/>
            <a:ext cx="676944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/S ANSI – Stream/Arquiv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A4D-1BD6-4885-9294-A6BF351F4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1103400"/>
            <a:ext cx="8302680" cy="54021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42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87280" y="565200"/>
            <a:ext cx="6769440" cy="552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/S ANSI – Stream/Arquiv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677-E946-4C14-AE3E-D8E5D939B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17520" y="1442880"/>
            <a:ext cx="8445600" cy="5024520"/>
            <a:chOff x="317520" y="1442880"/>
            <a:chExt cx="8445600" cy="5024520"/>
          </a:xfrm>
        </p:grpSpPr>
        <p:sp>
          <p:nvSpPr>
            <p:cNvPr id="346" name=""/>
            <p:cNvSpPr/>
            <p:nvPr/>
          </p:nvSpPr>
          <p:spPr>
            <a:xfrm>
              <a:off x="317520" y="1442880"/>
              <a:ext cx="8445600" cy="502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44960" y="573732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rescenta dados binários no fim do arquivo, como n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6160" y="573732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44960" y="509760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binário para escrita, como n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6160" y="509760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44960" y="44578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binário para leitura. Igual ao modo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terior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160" y="44578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44960" y="3268800"/>
              <a:ext cx="73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. Os dados serão adicionados no fim do arquivo (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ppend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, se ele já existir, ou um novo arquivo será criado, no caso de arquivo não existente anteriorment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6160" y="3268800"/>
              <a:ext cx="9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44960" y="26290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. Se o arquivo não existir, ele será criado. Se já existir, o conteúdo anterior será destruído.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6160" y="26290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44960" y="1989000"/>
              <a:ext cx="7300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leitura. O arquivo deve existir antes de ser abert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160" y="1989000"/>
              <a:ext cx="928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44960" y="1533600"/>
              <a:ext cx="7300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marL="339480" indent="-33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enguin"/>
                  <a:ea typeface="Arial"/>
                </a:rPr>
                <a:t>Significad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6160" y="1533600"/>
              <a:ext cx="928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enguin"/>
                  <a:ea typeface="Times New Roman"/>
                </a:rPr>
                <a:t>Mod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6160" y="15336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160" y="63770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61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457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160" y="19890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44960" y="1533600"/>
              <a:ext cx="0" cy="484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160" y="26290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160" y="32688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160" y="44578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6160" y="50976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160" y="573732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08160" y="762120"/>
            <a:ext cx="8527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de503"/>
                </a:solidFill>
                <a:latin typeface="Arial"/>
              </a:rPr>
              <a:t>fopen()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ffcc00"/>
                </a:solidFill>
                <a:latin typeface="Arial"/>
              </a:rPr>
              <a:t>FILE *fopen(const char *filename, const char *mode);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374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10B-7F4B-4799-AF9C-431159283A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407880" y="1459080"/>
            <a:ext cx="8420040" cy="4841640"/>
            <a:chOff x="407880" y="1459080"/>
            <a:chExt cx="8420040" cy="4841640"/>
          </a:xfrm>
        </p:grpSpPr>
        <p:sp>
          <p:nvSpPr>
            <p:cNvPr id="377" name=""/>
            <p:cNvSpPr/>
            <p:nvPr/>
          </p:nvSpPr>
          <p:spPr>
            <a:xfrm>
              <a:off x="407880" y="1459080"/>
              <a:ext cx="8420040" cy="4841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20560" y="555948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rescenta dados ou cria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1760" y="555948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0560" y="491976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1760" y="491976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0560" y="428004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binário para leitura e escrita. O mesmo que </a:t>
              </a: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"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cima, só que o arquivo é binári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1760" y="428004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b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20560" y="3090960"/>
              <a:ext cx="73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gravação e leitura. Os dados serão adicionados no fim do arquivo se ele já existir, ou um novo arquivo será criado, no caso de arquivo não existente anteriorment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1760" y="3090960"/>
              <a:ext cx="9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a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20560" y="2176560"/>
              <a:ext cx="7300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ia um arquivo texto para leitura e gravação. Se o arquivo existir, o conteúdo anterior será destruído. Se não existir, será criad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1760" y="2176560"/>
              <a:ext cx="928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w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20560" y="1536840"/>
              <a:ext cx="730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re um arquivo texto para leitura e gravação. O arquivo deve existir e pode ser modificado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760" y="1536840"/>
              <a:ext cx="92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"r+"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1760" y="15368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760" y="21765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760" y="30909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760" y="42800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1760" y="49197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60" y="555948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1760" y="619920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17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05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21360" y="1536840"/>
              <a:ext cx="0" cy="4662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8160" y="787320"/>
            <a:ext cx="8527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de503"/>
                </a:solidFill>
                <a:latin typeface="Arial"/>
              </a:rPr>
              <a:t>fopen()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ffcc00"/>
                </a:solidFill>
                <a:latin typeface="Arial"/>
              </a:rPr>
              <a:t>FILE *fopen(const char *filename, const char *mode);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98640" y="0"/>
            <a:ext cx="7173360" cy="577440"/>
            <a:chOff x="998640" y="0"/>
            <a:chExt cx="7173360" cy="577440"/>
          </a:xfrm>
        </p:grpSpPr>
        <p:sp>
          <p:nvSpPr>
            <p:cNvPr id="402" name=""/>
            <p:cNvSpPr/>
            <p:nvPr/>
          </p:nvSpPr>
          <p:spPr>
            <a:xfrm>
              <a:off x="1025280" y="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8640" y="154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80C-40B6-4A98-974D-FD1F9CEA47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30360" y="746280"/>
            <a:ext cx="777240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Funções que realizam E/S em conso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30280" y="1719360"/>
            <a:ext cx="8037360" cy="4562280"/>
            <a:chOff x="530280" y="1719360"/>
            <a:chExt cx="8037360" cy="4562280"/>
          </a:xfrm>
        </p:grpSpPr>
        <p:grpSp>
          <p:nvGrpSpPr>
            <p:cNvPr id="108" name=""/>
            <p:cNvGrpSpPr/>
            <p:nvPr/>
          </p:nvGrpSpPr>
          <p:grpSpPr>
            <a:xfrm>
              <a:off x="530280" y="1719360"/>
              <a:ext cx="8037360" cy="4562280"/>
              <a:chOff x="530280" y="1719360"/>
              <a:chExt cx="8037360" cy="4562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30280" y="1719360"/>
                <a:ext cx="8010360" cy="45529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aphicFrame>
            <p:nvGraphicFramePr>
              <p:cNvPr id="110" name=""/>
              <p:cNvGraphicFramePr/>
              <p:nvPr/>
            </p:nvGraphicFramePr>
            <p:xfrm>
              <a:off x="719280" y="1874880"/>
              <a:ext cx="7848360" cy="440676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19280" y="1874880"/>
                        <a:ext cx="7848360" cy="440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716040" y="1879560"/>
                <a:ext cx="0" cy="413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95320" y="1971720"/>
              <a:ext cx="13431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1989000"/>
              <a:ext cx="18097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PER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750-E566-47A0-9901-1E0D3DC8F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03200" y="746280"/>
            <a:ext cx="2230560" cy="642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pt-BR" sz="3600" spc="-1" strike="noStrike">
                <a:solidFill>
                  <a:srgbClr val="fde503"/>
                </a:solidFill>
                <a:latin typeface="Arial"/>
              </a:rPr>
              <a:t>fopen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85680" y="0"/>
            <a:ext cx="7174080" cy="577440"/>
            <a:chOff x="985680" y="0"/>
            <a:chExt cx="7174080" cy="577440"/>
          </a:xfrm>
        </p:grpSpPr>
        <p:sp>
          <p:nvSpPr>
            <p:cNvPr id="406" name=""/>
            <p:cNvSpPr/>
            <p:nvPr/>
          </p:nvSpPr>
          <p:spPr>
            <a:xfrm>
              <a:off x="10126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56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147680" y="1657440"/>
            <a:ext cx="6848280" cy="4959360"/>
            <a:chOff x="1147680" y="1657440"/>
            <a:chExt cx="6848280" cy="4959360"/>
          </a:xfrm>
        </p:grpSpPr>
        <p:sp>
          <p:nvSpPr>
            <p:cNvPr id="409" name=""/>
            <p:cNvSpPr/>
            <p:nvPr/>
          </p:nvSpPr>
          <p:spPr>
            <a:xfrm>
              <a:off x="1147680" y="1657440"/>
              <a:ext cx="6848280" cy="495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48840" y="1754280"/>
              <a:ext cx="6681960" cy="44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ILE  *f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p = fopen ("test", "w"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Forma usual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ILE *fp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f ((fp=fopen("teste", "w")) == NULL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uts(“Não posso abrir o arquivo\n"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exit(1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72B-E6FF-40AF-A023-695609B40E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257480" y="1604880"/>
            <a:ext cx="6972120" cy="4646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603360" y="963720"/>
            <a:ext cx="252396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414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82520" y="1604880"/>
            <a:ext cx="7138800" cy="4646520"/>
            <a:chOff x="1082520" y="1604880"/>
            <a:chExt cx="7138800" cy="4646520"/>
          </a:xfrm>
        </p:grpSpPr>
        <p:sp>
          <p:nvSpPr>
            <p:cNvPr id="417" name=""/>
            <p:cNvSpPr/>
            <p:nvPr/>
          </p:nvSpPr>
          <p:spPr>
            <a:xfrm>
              <a:off x="1256400" y="1604880"/>
              <a:ext cx="6964920" cy="464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2520" y="1706400"/>
              <a:ext cx="7055280" cy="45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&lt;std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#include &lt;conio.h&gt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void main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ILE *f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texto[ ] = {“A prova está próxima”}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p = fopen(“lembrete.txt”,”w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printf(fp,”%s”,texto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close(fp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etch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046-B4B2-40AB-B6B3-37FB23304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66640" y="444600"/>
            <a:ext cx="2524320" cy="542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21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50720" y="1073160"/>
            <a:ext cx="7844040" cy="5475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549360" y="1098720"/>
            <a:ext cx="7570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 *fp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 string[100]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p = fopen("arquivo.txt","w");   /* Arquivo ASCII, para escrita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f(!fp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intf( "Erro na aber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intf("Entre com a string a ser gravada no arquivo: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ts(string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(i=0; string[i]; i++) putc(string[i], fp); /* Grava a string, caractere a caractere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BDC-B255-476B-B0F7-2468B514E1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66640" y="58428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27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0720" y="1093680"/>
            <a:ext cx="8371080" cy="5454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"/>
          <p:cNvSpPr/>
          <p:nvPr/>
        </p:nvSpPr>
        <p:spPr>
          <a:xfrm>
            <a:off x="482760" y="1022040"/>
            <a:ext cx="8661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oat pi = 3.1415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oat pilido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((pf = fopen("arquivo.bin", "wb")) == NULL) /* Abre arquivo binári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scrita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(fwrite(&amp;pi, sizeof(float), 1,pf) != 1) /* Escreve a variável pi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"Erro na escrita do arquivo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close(pf); /* Fecha o arquivo 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2DA-C988-4018-942A-3433AE28A6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54040" y="49536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33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44520" y="1050840"/>
            <a:ext cx="8197920" cy="5432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482760" y="1110240"/>
            <a:ext cx="866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loat pilido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((pf = fopen("arquivo.bin", “rb")) == NULL) /* Abre arquivo binário par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itura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(fread(&amp;pilido, sizeof(float), 1,pf) != 1) /* Le em pilido o valor da variá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mazenada anteriormente *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Erro na leitura do arquivo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ntf("\nO valor de PI, lido do arquivo e': %f", pilido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close(pf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295-5D78-4E1D-A904-F31CAA1F81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39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44520" y="1050840"/>
            <a:ext cx="8048520" cy="5432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460440" y="1128240"/>
            <a:ext cx="8134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define N 10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num, numpar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(pf = fopen(“saida.dat", "wb")) == NULL) /* Abre arquivo binário para escrita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(num=0;num&lt;=N;num++)  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umpar = 2*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fwrite(&amp;numpar, sizeof(int),1,pf) != 1) /* Escreve a variável numpar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escrit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close(pf); /* Fecha o arquivo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303-DFC5-423F-BCC4-94B3C81F4E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445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44520" y="1009800"/>
            <a:ext cx="8091360" cy="550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538200" y="1023840"/>
            <a:ext cx="7924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#define N 10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*pf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 numpar, 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(pf = fopen(“saida.dat", “rb")) == NULL) /* Abre arquivo binário para leitura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aber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(num=0;num&lt;=N;num++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(fread(&amp;numpar, sizeof(int),1,pf) != 1) /* Le em numpar o valor da variá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mazenada anteriormente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Erro na leitura do arquivo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intf("\nnumpar, lido do arquivo= %d", numpar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close(pf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2B9-A689-4615-B397-DA2F5091D1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093320" y="1473120"/>
            <a:ext cx="7823160" cy="1425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Repita os dois últimos exemplos, substituindo as funções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write</a:t>
            </a:r>
            <a:r>
              <a:rPr b="1" i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read</a:t>
            </a:r>
            <a:r>
              <a:rPr b="1" i="1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or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printf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scanf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, respect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4800" y="85104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85680" y="42840"/>
            <a:ext cx="7174080" cy="577440"/>
            <a:chOff x="985680" y="42840"/>
            <a:chExt cx="7174080" cy="577440"/>
          </a:xfrm>
        </p:grpSpPr>
        <p:sp>
          <p:nvSpPr>
            <p:cNvPr id="452" name=""/>
            <p:cNvSpPr/>
            <p:nvPr/>
          </p:nvSpPr>
          <p:spPr>
            <a:xfrm>
              <a:off x="1012680" y="428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85680" y="583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9C5-FB9B-4C85-A166-389EFDE8FF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63520" y="84240"/>
            <a:ext cx="7174080" cy="577440"/>
            <a:chOff x="1163520" y="84240"/>
            <a:chExt cx="7174080" cy="577440"/>
          </a:xfrm>
        </p:grpSpPr>
        <p:sp>
          <p:nvSpPr>
            <p:cNvPr id="116" name=""/>
            <p:cNvSpPr/>
            <p:nvPr/>
          </p:nvSpPr>
          <p:spPr>
            <a:xfrm>
              <a:off x="1190520" y="84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3520" y="99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9040" y="99216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3200" y="1846440"/>
            <a:ext cx="8364600" cy="3689280"/>
            <a:chOff x="403200" y="1846440"/>
            <a:chExt cx="8364600" cy="3689280"/>
          </a:xfrm>
        </p:grpSpPr>
        <p:sp>
          <p:nvSpPr>
            <p:cNvPr id="120" name=""/>
            <p:cNvSpPr/>
            <p:nvPr/>
          </p:nvSpPr>
          <p:spPr>
            <a:xfrm>
              <a:off x="403200" y="1846440"/>
              <a:ext cx="8364600" cy="3689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280" y="1951200"/>
              <a:ext cx="822960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main 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ch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 ( “\nDigite um caractere\n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 = getchar( 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 ( “\n Todos sabem que você digitou %c”, ch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AE3-0E07-436A-9049-4725CAA8D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41640" y="2065320"/>
            <a:ext cx="7683120" cy="3202200"/>
            <a:chOff x="341640" y="2065320"/>
            <a:chExt cx="7683120" cy="3202200"/>
          </a:xfrm>
        </p:grpSpPr>
        <p:sp>
          <p:nvSpPr>
            <p:cNvPr id="123" name=""/>
            <p:cNvSpPr/>
            <p:nvPr/>
          </p:nvSpPr>
          <p:spPr>
            <a:xfrm>
              <a:off x="534960" y="2065320"/>
              <a:ext cx="7489800" cy="3105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1640" y="2294280"/>
              <a:ext cx="7014240" cy="29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72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 ( 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ch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 = getch( 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 \ nSomente agora saberemos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que você digitou %c”, ch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43160" y="63360"/>
            <a:ext cx="7173360" cy="577800"/>
            <a:chOff x="1343160" y="63360"/>
            <a:chExt cx="7173360" cy="577800"/>
          </a:xfrm>
        </p:grpSpPr>
        <p:sp>
          <p:nvSpPr>
            <p:cNvPr id="126" name=""/>
            <p:cNvSpPr/>
            <p:nvPr/>
          </p:nvSpPr>
          <p:spPr>
            <a:xfrm>
              <a:off x="1369800" y="63360"/>
              <a:ext cx="7146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43160" y="78840"/>
              <a:ext cx="7146720" cy="56232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4840" y="104760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8B3-1376-4829-B453-549B3BE44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522440" y="81000"/>
            <a:ext cx="7173360" cy="577440"/>
            <a:chOff x="1522440" y="81000"/>
            <a:chExt cx="7173360" cy="577440"/>
          </a:xfrm>
        </p:grpSpPr>
        <p:sp>
          <p:nvSpPr>
            <p:cNvPr id="130" name=""/>
            <p:cNvSpPr/>
            <p:nvPr/>
          </p:nvSpPr>
          <p:spPr>
            <a:xfrm>
              <a:off x="1549080" y="810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440" y="964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63680" y="10652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2040" y="1954080"/>
            <a:ext cx="6596280" cy="4159440"/>
            <a:chOff x="392040" y="1954080"/>
            <a:chExt cx="6596280" cy="4159440"/>
          </a:xfrm>
        </p:grpSpPr>
        <p:sp>
          <p:nvSpPr>
            <p:cNvPr id="134" name=""/>
            <p:cNvSpPr/>
            <p:nvPr/>
          </p:nvSpPr>
          <p:spPr>
            <a:xfrm>
              <a:off x="392040" y="1954080"/>
              <a:ext cx="6596280" cy="4159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8640" y="2278080"/>
              <a:ext cx="638496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nt main()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char buffer[1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”\nEntre com o seu nome: "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gets(buffer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printf(”\nO nome é: %s\n", buffer)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return 0;</a:t>
              </a:r>
              <a:br>
                <a:rPr sz="2400"/>
              </a:b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0DA-87FA-47A2-ABD8-94F89DDD7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76440" y="2090880"/>
            <a:ext cx="5973480" cy="3511440"/>
            <a:chOff x="676440" y="2090880"/>
            <a:chExt cx="5973480" cy="3511440"/>
          </a:xfrm>
        </p:grpSpPr>
        <p:sp>
          <p:nvSpPr>
            <p:cNvPr id="137" name=""/>
            <p:cNvSpPr/>
            <p:nvPr/>
          </p:nvSpPr>
          <p:spPr>
            <a:xfrm>
              <a:off x="676440" y="2090880"/>
              <a:ext cx="5973480" cy="3511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8480" y="2167200"/>
              <a:ext cx="5797440" cy="32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in ( 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har  nome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tf (“\nDigite seu nome: ”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ets (&amp;nome[0]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 (“Bom dia ”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ts (nome)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8560" y="1077840"/>
            <a:ext cx="25243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41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1BC-9991-4742-BEFE-BFE41B1F3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680" y="3962520"/>
            <a:ext cx="3427200" cy="236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506520" y="4168800"/>
            <a:ext cx="3152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tra = getchar(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tchar(letra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while(letra != ´\n´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1077840"/>
            <a:ext cx="5213520" cy="6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>
              <a:lnSpc>
                <a:spcPct val="100000"/>
              </a:lnSpc>
              <a:buClr>
                <a:srgbClr val="fde503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fde503"/>
                </a:solidFill>
                <a:latin typeface="Arial"/>
              </a:rPr>
              <a:t>getchar()</a:t>
            </a:r>
            <a:r>
              <a:rPr b="1" lang="pt-PT" sz="36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1" i="1" lang="pt-PT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pt-PT" sz="3600" spc="-1" strike="noStrike">
                <a:solidFill>
                  <a:srgbClr val="fde503"/>
                </a:solidFill>
                <a:latin typeface="Arial"/>
              </a:rPr>
              <a:t>putchar(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47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017960" y="3944880"/>
            <a:ext cx="4751280" cy="1665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4210200" y="4175640"/>
            <a:ext cx="4389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tchar(letra = getchar()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8200" indent="-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le(letra != ´\n´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20760" y="1701720"/>
            <a:ext cx="6477120" cy="608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Não são </a:t>
            </a:r>
            <a:r>
              <a:rPr b="1" i="1" lang="pt-PT" sz="3000" spc="-1" strike="noStrike">
                <a:solidFill>
                  <a:srgbClr val="ffff99"/>
                </a:solidFill>
                <a:latin typeface="Arial"/>
              </a:rPr>
              <a:t>funções</a:t>
            </a: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, são </a:t>
            </a:r>
            <a:r>
              <a:rPr b="1" i="1" lang="pt-PT" sz="3000" spc="-1" strike="noStrike">
                <a:solidFill>
                  <a:srgbClr val="ffffff"/>
                </a:solidFill>
                <a:latin typeface="Arial"/>
              </a:rPr>
              <a:t>macro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1224000" y="2320920"/>
            <a:ext cx="7686720" cy="1316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27120" indent="-627120" algn="just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Alguns compiladores não permitem</a:t>
            </a:r>
            <a:br>
              <a:rPr sz="3000"/>
            </a:br>
            <a:r>
              <a:rPr b="1" lang="pt-PT" sz="3000" spc="-1" strike="noStrike">
                <a:solidFill>
                  <a:srgbClr val="ffff00"/>
                </a:solidFill>
                <a:latin typeface="Arial"/>
              </a:rPr>
              <a:t>a inserção de espaços entre os nomes das macros e os parêntese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6BD-9CF2-4C85-8B8D-BE70F11D7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310440" y="565200"/>
            <a:ext cx="2528640" cy="1192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8200" indent="-53820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acro</a:t>
            </a:r>
            <a:br>
              <a:rPr sz="4000"/>
            </a:b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toupper(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85680" y="-4680"/>
            <a:ext cx="7174080" cy="577440"/>
            <a:chOff x="985680" y="-4680"/>
            <a:chExt cx="7174080" cy="577440"/>
          </a:xfrm>
        </p:grpSpPr>
        <p:sp>
          <p:nvSpPr>
            <p:cNvPr id="155" name=""/>
            <p:cNvSpPr/>
            <p:nvPr/>
          </p:nvSpPr>
          <p:spPr>
            <a:xfrm>
              <a:off x="1012680" y="-4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5680" y="1080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68160" y="811080"/>
            <a:ext cx="4751640" cy="5672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719280" y="15019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674640" y="1546200"/>
            <a:ext cx="62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133640"/>
            <a:ext cx="459396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typ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letra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Quer continuar? (S/N):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etra=getche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etra=toupper(letra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 while ((letra != 'S') &amp;&amp; (letra != 'N'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f (letra == 'S'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OK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Por que nao?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1F1-4F48-49CD-9253-EF374E27F7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07960" y="1938240"/>
            <a:ext cx="7978680" cy="2227320"/>
            <a:chOff x="507960" y="1938240"/>
            <a:chExt cx="7978680" cy="2227320"/>
          </a:xfrm>
        </p:grpSpPr>
        <p:sp>
          <p:nvSpPr>
            <p:cNvPr id="162" name=""/>
            <p:cNvSpPr/>
            <p:nvPr/>
          </p:nvSpPr>
          <p:spPr>
            <a:xfrm>
              <a:off x="507960" y="1938240"/>
              <a:ext cx="7978680" cy="222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528480" y="2044800"/>
            <a:ext cx="7896240" cy="2006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8480" y="2044800"/>
                      <a:ext cx="7896240" cy="20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1257120" y="2209680"/>
              <a:ext cx="13334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28560" y="1077840"/>
            <a:ext cx="417528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/S via conso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85680" y="81000"/>
            <a:ext cx="7174080" cy="577440"/>
            <a:chOff x="985680" y="81000"/>
            <a:chExt cx="7174080" cy="577440"/>
          </a:xfrm>
        </p:grpSpPr>
        <p:sp>
          <p:nvSpPr>
            <p:cNvPr id="168" name=""/>
            <p:cNvSpPr/>
            <p:nvPr/>
          </p:nvSpPr>
          <p:spPr>
            <a:xfrm>
              <a:off x="1012680" y="810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5680" y="96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D5C-14AF-4469-BEE7-A3A5E320A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 M. Fechine/Eustáquio Rangel</dc:creator>
  <dc:description/>
  <dc:language>en-US</dc:language>
  <cp:lastModifiedBy>Particular</cp:lastModifiedBy>
  <cp:lastPrinted>2002-02-17T19:14:27Z</cp:lastPrinted>
  <dcterms:modified xsi:type="dcterms:W3CDTF">2004-09-14T18:26:15Z</dcterms:modified>
  <cp:revision>288</cp:revision>
  <dc:subject/>
  <dc:title>Técnicas de Programação</dc:title>
</cp:coreProperties>
</file>