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69B2-3FEB-410B-AEAB-937CD387E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A499-F8D1-469D-9C11-B5FBC88E4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64C0-61BD-41E7-843E-ECCFAF7DC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1696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17400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25992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1696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17400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33B6-980F-43B8-98DC-93902B020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126684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0203-ABB7-4EF2-9B9C-B744A084A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321696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174000" y="160020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25992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321696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6174000" y="4097880"/>
            <a:ext cx="28159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88DF-8EB1-4C65-B899-D8E868B10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B7EF-2647-48F9-9F06-85D17BFD8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998F-32B8-42AF-85EB-15F393C94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126684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7004-39AD-4641-ADD9-F33488DC2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0985-CE10-413D-9E86-DCDB61F23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41200" y="409788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7140-D1A3-4097-8031-7F740ED4F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992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41200" y="1600200"/>
            <a:ext cx="42674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59920" y="4097880"/>
            <a:ext cx="87454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08DD-EC25-4F7C-AA2B-802AF0979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FE4-A5EE-4193-92C5-C29094966838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1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7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2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3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4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2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6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914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2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3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18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0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4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3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0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0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157464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0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0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0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pt-BR" sz="20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2158920" y="2077920"/>
            <a:ext cx="476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Conceitos Avançados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2122560" y="2936880"/>
            <a:ext cx="489888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Linguagem C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8203680" y="0"/>
            <a:ext cx="940320" cy="939960"/>
            <a:chOff x="8203680" y="0"/>
            <a:chExt cx="940320" cy="939960"/>
          </a:xfrm>
        </p:grpSpPr>
        <p:sp>
          <p:nvSpPr>
            <p:cNvPr id="1745" name=""/>
            <p:cNvSpPr/>
            <p:nvPr/>
          </p:nvSpPr>
          <p:spPr>
            <a:xfrm>
              <a:off x="8381520" y="0"/>
              <a:ext cx="58464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12840" y="186840"/>
              <a:ext cx="52164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426160" y="200520"/>
              <a:ext cx="49536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459640" y="4320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459640" y="266400"/>
              <a:ext cx="42876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8463600" y="522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>
              <a:off x="8589960" y="522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2" name=""/>
            <p:cNvSpPr txBox="1"/>
            <p:nvPr/>
          </p:nvSpPr>
          <p:spPr>
            <a:xfrm>
              <a:off x="8690400" y="522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3" name=""/>
            <p:cNvSpPr txBox="1"/>
            <p:nvPr/>
          </p:nvSpPr>
          <p:spPr>
            <a:xfrm>
              <a:off x="8805240" y="522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944200" y="5968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8203320" y="5918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258400" y="7106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944200" y="717480"/>
              <a:ext cx="14364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259480" y="716400"/>
              <a:ext cx="82728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 rot="1771800">
              <a:off x="8339040" y="7819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0" name=""/>
            <p:cNvSpPr txBox="1"/>
            <p:nvPr/>
          </p:nvSpPr>
          <p:spPr>
            <a:xfrm rot="1336200">
              <a:off x="8369640" y="8006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 rot="1336200">
              <a:off x="8407440" y="8154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 rot="1068600">
              <a:off x="8442360" y="8287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3" name=""/>
            <p:cNvSpPr txBox="1"/>
            <p:nvPr/>
          </p:nvSpPr>
          <p:spPr>
            <a:xfrm rot="898200">
              <a:off x="8475840" y="8380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4" name=""/>
            <p:cNvSpPr txBox="1"/>
            <p:nvPr/>
          </p:nvSpPr>
          <p:spPr>
            <a:xfrm rot="526200">
              <a:off x="8523360" y="8481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 rot="235200">
              <a:off x="8566560" y="8550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6" name=""/>
            <p:cNvSpPr txBox="1"/>
            <p:nvPr/>
          </p:nvSpPr>
          <p:spPr>
            <a:xfrm>
              <a:off x="8622000" y="8575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7" name=""/>
            <p:cNvSpPr txBox="1"/>
            <p:nvPr/>
          </p:nvSpPr>
          <p:spPr>
            <a:xfrm>
              <a:off x="8663040" y="8578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>
              <a:off x="8679960" y="8578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 rot="21364200">
              <a:off x="8727840" y="8528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 rot="21095400">
              <a:off x="8759160" y="8506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 rot="20857800">
              <a:off x="8796960" y="8434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2" name=""/>
            <p:cNvSpPr txBox="1"/>
            <p:nvPr/>
          </p:nvSpPr>
          <p:spPr>
            <a:xfrm rot="20720400">
              <a:off x="8848080" y="8326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 rot="20418000">
              <a:off x="8880480" y="8247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4" name=""/>
            <p:cNvSpPr txBox="1"/>
            <p:nvPr/>
          </p:nvSpPr>
          <p:spPr>
            <a:xfrm rot="20344200">
              <a:off x="8916840" y="8121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5" name=""/>
            <p:cNvSpPr txBox="1"/>
            <p:nvPr/>
          </p:nvSpPr>
          <p:spPr>
            <a:xfrm rot="20044200">
              <a:off x="8957160" y="8017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76" name=""/>
            <p:cNvSpPr txBox="1"/>
            <p:nvPr/>
          </p:nvSpPr>
          <p:spPr>
            <a:xfrm rot="20054400">
              <a:off x="8970480" y="7887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D958-49CE-4BF5-B6D4-A272B51A60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3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84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84280" y="1930320"/>
            <a:ext cx="5110920" cy="495000"/>
            <a:chOff x="584280" y="1930320"/>
            <a:chExt cx="5110920" cy="495000"/>
          </a:xfrm>
        </p:grpSpPr>
        <p:sp>
          <p:nvSpPr>
            <p:cNvPr id="1887" name=""/>
            <p:cNvSpPr/>
            <p:nvPr/>
          </p:nvSpPr>
          <p:spPr>
            <a:xfrm>
              <a:off x="614160" y="1930320"/>
              <a:ext cx="50810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84280" y="1949400"/>
              <a:ext cx="5081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419760" indent="-41976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66"/>
                  </a:solidFill>
                  <a:latin typeface="Penguin"/>
                </a:rPr>
                <a:t>Localização das funçõe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442800" y="3100320"/>
            <a:ext cx="8245440" cy="2104920"/>
            <a:chOff x="442800" y="3100320"/>
            <a:chExt cx="8245440" cy="2104920"/>
          </a:xfrm>
        </p:grpSpPr>
        <p:sp>
          <p:nvSpPr>
            <p:cNvPr id="1890" name=""/>
            <p:cNvSpPr/>
            <p:nvPr/>
          </p:nvSpPr>
          <p:spPr>
            <a:xfrm>
              <a:off x="458640" y="310032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Antes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ou </a:t>
              </a: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depois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do programa principal.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34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No mesmo arquiv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do programa principal ou em </a:t>
              </a:r>
              <a:r>
                <a:rPr b="1" lang="pt-BR" sz="2800" spc="-1" strike="noStrike">
                  <a:solidFill>
                    <a:srgbClr val="ffcc66"/>
                  </a:solidFill>
                  <a:latin typeface="Penguin"/>
                </a:rPr>
                <a:t>arquivo separad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.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2800" y="311292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93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B85D-1313-4291-89D9-3535BADBE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246480" y="3481560"/>
            <a:ext cx="462420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9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0" y="1719360"/>
            <a:ext cx="7818840" cy="495000"/>
            <a:chOff x="0" y="1719360"/>
            <a:chExt cx="7818840" cy="495000"/>
          </a:xfrm>
        </p:grpSpPr>
        <p:sp>
          <p:nvSpPr>
            <p:cNvPr id="1900" name=""/>
            <p:cNvSpPr/>
            <p:nvPr/>
          </p:nvSpPr>
          <p:spPr>
            <a:xfrm>
              <a:off x="45720" y="1719360"/>
              <a:ext cx="7773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0" y="1738440"/>
              <a:ext cx="7773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 marL="301320" indent="-3013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antes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 do programa principal (no mesmo arquivo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42800" y="2784600"/>
            <a:ext cx="8245440" cy="2104920"/>
            <a:chOff x="442800" y="2784600"/>
            <a:chExt cx="8245440" cy="2104920"/>
          </a:xfrm>
        </p:grpSpPr>
        <p:sp>
          <p:nvSpPr>
            <p:cNvPr id="1903" name=""/>
            <p:cNvSpPr/>
            <p:nvPr/>
          </p:nvSpPr>
          <p:spPr>
            <a:xfrm>
              <a:off x="458640" y="27846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Nenhuma outra instrução é necessári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2800" y="27972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06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3416400" y="3679920"/>
            <a:ext cx="453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 nomef(...){ // definição da função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    [</a:t>
            </a:r>
            <a:r>
              <a:rPr b="1" i="1" lang="pt-BR" sz="1800" spc="-1" strike="noStrike">
                <a:solidFill>
                  <a:srgbClr val="010199"/>
                </a:solidFill>
                <a:latin typeface="Arial"/>
              </a:rPr>
              <a:t>corpo de função</a:t>
            </a: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]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}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var = nomef(...) // chamada da função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...</a:t>
            </a:r>
            <a:br>
              <a:rPr sz="1800"/>
            </a:br>
            <a:r>
              <a:rPr b="1" lang="pt-BR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CEFC-A5B1-498D-B817-96F0F2351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639960" y="3622680"/>
            <a:ext cx="4465800" cy="28479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0" y="1719360"/>
            <a:ext cx="7818840" cy="495000"/>
            <a:chOff x="0" y="1719360"/>
            <a:chExt cx="7818840" cy="495000"/>
          </a:xfrm>
        </p:grpSpPr>
        <p:sp>
          <p:nvSpPr>
            <p:cNvPr id="1914" name=""/>
            <p:cNvSpPr/>
            <p:nvPr/>
          </p:nvSpPr>
          <p:spPr>
            <a:xfrm>
              <a:off x="45720" y="1719360"/>
              <a:ext cx="7773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0" y="1738440"/>
              <a:ext cx="7773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 marL="301320" indent="-3013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depois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 do programa principal (no mesmo arquivo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42800" y="2732040"/>
            <a:ext cx="8245440" cy="2104920"/>
            <a:chOff x="442800" y="2732040"/>
            <a:chExt cx="8245440" cy="2104920"/>
          </a:xfrm>
        </p:grpSpPr>
        <p:sp>
          <p:nvSpPr>
            <p:cNvPr id="1917" name=""/>
            <p:cNvSpPr/>
            <p:nvPr/>
          </p:nvSpPr>
          <p:spPr>
            <a:xfrm>
              <a:off x="458640" y="273204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ve ser incluído um protótipo da função chamada.</a:t>
              </a: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42800" y="274464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20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22" name=""/>
          <p:cNvSpPr/>
          <p:nvPr/>
        </p:nvSpPr>
        <p:spPr>
          <a:xfrm>
            <a:off x="3664800" y="3780360"/>
            <a:ext cx="443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nomef(...); // protótipo d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var = nomef(...) // chamada 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ip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nomef(...){ // definição d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  [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corpo de função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]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F2E8-DDF8-4B96-B5EA-A76F2587C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605040" y="4151160"/>
            <a:ext cx="4465800" cy="2092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2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0" y="1738440"/>
            <a:ext cx="8703360" cy="475920"/>
            <a:chOff x="0" y="1738440"/>
            <a:chExt cx="8703360" cy="475920"/>
          </a:xfrm>
        </p:grpSpPr>
        <p:sp>
          <p:nvSpPr>
            <p:cNvPr id="1928" name=""/>
            <p:cNvSpPr/>
            <p:nvPr/>
          </p:nvSpPr>
          <p:spPr>
            <a:xfrm>
              <a:off x="50760" y="1738440"/>
              <a:ext cx="865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0" y="1756440"/>
              <a:ext cx="8652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457200" indent="-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	</a:t>
              </a:r>
              <a:r>
                <a:rPr b="1" lang="pt-BR" sz="2800" spc="-1" strike="noStrike">
                  <a:solidFill>
                    <a:srgbClr val="ffcc66"/>
                  </a:solidFill>
                  <a:latin typeface="Arial"/>
                </a:rPr>
                <a:t>Corpo da função escrito em </a:t>
              </a:r>
              <a:r>
                <a:rPr b="1" i="1" lang="pt-BR" sz="2800" spc="-1" strike="noStrike">
                  <a:solidFill>
                    <a:srgbClr val="ffcc66"/>
                  </a:solidFill>
                  <a:latin typeface="Arial"/>
                </a:rPr>
                <a:t>arquivo separado</a:t>
              </a:r>
              <a:r>
                <a:rPr b="0" lang="pt-BR" sz="28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442800" y="2521080"/>
            <a:ext cx="8245440" cy="2104920"/>
            <a:chOff x="442800" y="2521080"/>
            <a:chExt cx="8245440" cy="2104920"/>
          </a:xfrm>
        </p:grpSpPr>
        <p:sp>
          <p:nvSpPr>
            <p:cNvPr id="1931" name=""/>
            <p:cNvSpPr/>
            <p:nvPr/>
          </p:nvSpPr>
          <p:spPr>
            <a:xfrm>
              <a:off x="458640" y="252108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ve ser incluído um arquivo no conjunto de arquivos de compilação do programa principal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A inclusão é feita com a diretiva #include.</a:t>
              </a: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Sintaxe geral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2800" y="253368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934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780720" y="4334040"/>
            <a:ext cx="425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#include "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path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" // inclusão da funçã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void main(){ // programa principal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...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var = nomef(...) // chamada a função</a:t>
            </a:r>
            <a:br>
              <a:rPr sz="1800"/>
            </a:b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   …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74BD-8844-4456-8C4A-E1C8676A21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3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3505320" y="763560"/>
            <a:ext cx="2131560" cy="445680"/>
            <a:chOff x="3505320" y="763560"/>
            <a:chExt cx="2131560" cy="445680"/>
          </a:xfrm>
        </p:grpSpPr>
        <p:sp>
          <p:nvSpPr>
            <p:cNvPr id="1941" name=""/>
            <p:cNvSpPr/>
            <p:nvPr/>
          </p:nvSpPr>
          <p:spPr>
            <a:xfrm>
              <a:off x="3527280" y="76356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05320" y="7747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317520" y="1809720"/>
            <a:ext cx="5705280" cy="523440"/>
            <a:chOff x="317520" y="1809720"/>
            <a:chExt cx="5705280" cy="523440"/>
          </a:xfrm>
        </p:grpSpPr>
        <p:sp>
          <p:nvSpPr>
            <p:cNvPr id="1944" name=""/>
            <p:cNvSpPr/>
            <p:nvPr/>
          </p:nvSpPr>
          <p:spPr>
            <a:xfrm>
              <a:off x="328680" y="1809720"/>
              <a:ext cx="5694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3880" indent="-6238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17520" y="1831680"/>
              <a:ext cx="5694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579960" indent="-579960">
                <a:lnSpc>
                  <a:spcPct val="9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Arquivos-Cabeçalh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901800" y="2738520"/>
            <a:ext cx="8010360" cy="516960"/>
            <a:chOff x="901800" y="2738520"/>
            <a:chExt cx="8010360" cy="516960"/>
          </a:xfrm>
        </p:grpSpPr>
        <p:sp>
          <p:nvSpPr>
            <p:cNvPr id="1947" name=""/>
            <p:cNvSpPr/>
            <p:nvPr/>
          </p:nvSpPr>
          <p:spPr>
            <a:xfrm>
              <a:off x="920520" y="2738520"/>
              <a:ext cx="7991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rminam em .h (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901800" y="2754000"/>
              <a:ext cx="7991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T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rminam em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.h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(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header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901800" y="3695760"/>
            <a:ext cx="7497720" cy="495360"/>
            <a:chOff x="901800" y="3695760"/>
            <a:chExt cx="7497720" cy="495360"/>
          </a:xfrm>
        </p:grpSpPr>
        <p:sp>
          <p:nvSpPr>
            <p:cNvPr id="1950" name=""/>
            <p:cNvSpPr/>
            <p:nvPr/>
          </p:nvSpPr>
          <p:spPr>
            <a:xfrm>
              <a:off x="920520" y="3695760"/>
              <a:ext cx="74790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Só contêm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otótipos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de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901800" y="3711600"/>
              <a:ext cx="74786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Só contêm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cc00"/>
                  </a:solidFill>
                  <a:latin typeface="Arial"/>
                </a:rPr>
                <a:t>protótipos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901800" y="4665600"/>
            <a:ext cx="8005680" cy="847800"/>
            <a:chOff x="901800" y="4665600"/>
            <a:chExt cx="8005680" cy="847800"/>
          </a:xfrm>
        </p:grpSpPr>
        <p:sp>
          <p:nvSpPr>
            <p:cNvPr id="1953" name=""/>
            <p:cNvSpPr/>
            <p:nvPr/>
          </p:nvSpPr>
          <p:spPr>
            <a:xfrm>
              <a:off x="915840" y="4665600"/>
              <a:ext cx="79916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O compilador lê estes protótipos e, baseado nas informações lá contidas, gera o código corret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01800" y="4676760"/>
              <a:ext cx="799128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O compilador lê estes protótipos e, baseado nas informações lá contidas, gera o código correto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2B36-0F6E-45F4-99AC-64744C14FD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5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3505320" y="763560"/>
            <a:ext cx="2131560" cy="445680"/>
            <a:chOff x="3505320" y="763560"/>
            <a:chExt cx="2131560" cy="445680"/>
          </a:xfrm>
        </p:grpSpPr>
        <p:sp>
          <p:nvSpPr>
            <p:cNvPr id="1959" name=""/>
            <p:cNvSpPr/>
            <p:nvPr/>
          </p:nvSpPr>
          <p:spPr>
            <a:xfrm>
              <a:off x="3527280" y="76356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505320" y="7747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17520" y="1771560"/>
            <a:ext cx="5705280" cy="523440"/>
            <a:chOff x="317520" y="1771560"/>
            <a:chExt cx="5705280" cy="523440"/>
          </a:xfrm>
        </p:grpSpPr>
        <p:sp>
          <p:nvSpPr>
            <p:cNvPr id="1962" name=""/>
            <p:cNvSpPr/>
            <p:nvPr/>
          </p:nvSpPr>
          <p:spPr>
            <a:xfrm>
              <a:off x="328680" y="1771560"/>
              <a:ext cx="5694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23880" indent="-6238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17520" y="1793520"/>
              <a:ext cx="5694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579960" indent="-579960">
                <a:lnSpc>
                  <a:spcPct val="9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Arquivos-Cabeçalh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655560" y="2792520"/>
            <a:ext cx="8010360" cy="1185840"/>
            <a:chOff x="655560" y="2792520"/>
            <a:chExt cx="8010360" cy="1185840"/>
          </a:xfrm>
        </p:grpSpPr>
        <p:sp>
          <p:nvSpPr>
            <p:cNvPr id="1965" name=""/>
            <p:cNvSpPr/>
            <p:nvPr/>
          </p:nvSpPr>
          <p:spPr>
            <a:xfrm>
              <a:off x="674280" y="2792520"/>
              <a:ext cx="7991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O corpo das funções com protótipos no arquivo-cabeçalho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já estão compiladas e normalmente são incluídas no programa no instante da "linkagem"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55560" y="2808360"/>
              <a:ext cx="799128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O corpo das funções com protótipos no arquivo-cabeçalh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já estão compiladas e normalmente são incluídas no programa no instante da "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linkagem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"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85720" y="4290840"/>
            <a:ext cx="8010720" cy="801720"/>
            <a:chOff x="585720" y="4290840"/>
            <a:chExt cx="8010720" cy="801720"/>
          </a:xfrm>
        </p:grpSpPr>
        <p:sp>
          <p:nvSpPr>
            <p:cNvPr id="1968" name=""/>
            <p:cNvSpPr/>
            <p:nvPr/>
          </p:nvSpPr>
          <p:spPr>
            <a:xfrm>
              <a:off x="604800" y="4290840"/>
              <a:ext cx="7991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 podem ser reusadas em programas ou módulos de programas, a partir do uso de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arquivos-cabeçalhos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85720" y="4300560"/>
              <a:ext cx="7991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 podem ser reusadas em programas ou módulos de programas, a partir do uso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arquivos-cabeçalho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D107-1DF1-4CC3-9978-39F73499F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7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197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531720" y="2522520"/>
            <a:ext cx="8080200" cy="738360"/>
            <a:chOff x="531720" y="2522520"/>
            <a:chExt cx="8080200" cy="738360"/>
          </a:xfrm>
        </p:grpSpPr>
        <p:sp>
          <p:nvSpPr>
            <p:cNvPr id="1977" name=""/>
            <p:cNvSpPr/>
            <p:nvPr/>
          </p:nvSpPr>
          <p:spPr>
            <a:xfrm>
              <a:off x="549000" y="2522520"/>
              <a:ext cx="8062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 código da função será escrito num arquivo a parte, e.g.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uncao.c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1720" y="2536920"/>
              <a:ext cx="80629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O código da função será escrito num arquivo a parte, e.g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funcao.c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498600" y="3395520"/>
            <a:ext cx="8078760" cy="746280"/>
            <a:chOff x="498600" y="3395520"/>
            <a:chExt cx="8078760" cy="746280"/>
          </a:xfrm>
        </p:grpSpPr>
        <p:sp>
          <p:nvSpPr>
            <p:cNvPr id="1980" name=""/>
            <p:cNvSpPr/>
            <p:nvPr/>
          </p:nvSpPr>
          <p:spPr>
            <a:xfrm>
              <a:off x="514440" y="3398760"/>
              <a:ext cx="8062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No arquivo do programa principal, tem-se o programa principal, e.g.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principal.c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98600" y="3395520"/>
              <a:ext cx="8062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2494080" y="4387680"/>
            <a:ext cx="4155480" cy="1892520"/>
            <a:chOff x="2494080" y="4387680"/>
            <a:chExt cx="4155480" cy="1892520"/>
          </a:xfrm>
        </p:grpSpPr>
        <p:sp>
          <p:nvSpPr>
            <p:cNvPr id="1983" name=""/>
            <p:cNvSpPr/>
            <p:nvPr/>
          </p:nvSpPr>
          <p:spPr>
            <a:xfrm>
              <a:off x="2685960" y="4387680"/>
              <a:ext cx="3397320" cy="1892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2494080" y="4597560"/>
              <a:ext cx="4155480" cy="1500120"/>
              <a:chOff x="2494080" y="4597560"/>
              <a:chExt cx="4155480" cy="1500120"/>
            </a:xfrm>
          </p:grpSpPr>
          <p:sp>
            <p:nvSpPr>
              <p:cNvPr id="1985" name=""/>
              <p:cNvSpPr/>
              <p:nvPr/>
            </p:nvSpPr>
            <p:spPr>
              <a:xfrm>
                <a:off x="2502720" y="4597560"/>
                <a:ext cx="4146840" cy="14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#include &lt;stdio.h&gt;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#include "funcao.h"   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00000"/>
                    </a:solidFill>
                    <a:latin typeface="Arial"/>
                  </a:rPr>
                  <a:t>void main ()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494080" y="4611600"/>
                <a:ext cx="4146840" cy="14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#include &lt;stdio.h&gt;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#include "funcao.h"   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i="1" lang="pt-BR" sz="2400" spc="-1" strike="noStrike">
                    <a:solidFill>
                      <a:srgbClr val="010199"/>
                    </a:solidFill>
                    <a:latin typeface="Arial"/>
                  </a:rPr>
                  <a:t>void main () 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 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marL="457200" indent="-457200" algn="just">
                  <a:lnSpc>
                    <a:spcPct val="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	</a:t>
                </a:r>
                <a:r>
                  <a:rPr b="1" lang="pt-BR" sz="2400" spc="-1" strike="noStrike">
                    <a:solidFill>
                      <a:srgbClr val="010199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1987" name=""/>
          <p:cNvGrpSpPr/>
          <p:nvPr/>
        </p:nvGrpSpPr>
        <p:grpSpPr>
          <a:xfrm>
            <a:off x="531720" y="1631880"/>
            <a:ext cx="8080200" cy="719280"/>
            <a:chOff x="531720" y="1631880"/>
            <a:chExt cx="8080200" cy="719280"/>
          </a:xfrm>
        </p:grpSpPr>
        <p:sp>
          <p:nvSpPr>
            <p:cNvPr id="1988" name=""/>
            <p:cNvSpPr/>
            <p:nvPr/>
          </p:nvSpPr>
          <p:spPr>
            <a:xfrm>
              <a:off x="549000" y="1631880"/>
              <a:ext cx="8062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No arquivo-cabeçalho chamado '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funcao.h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' tem-se a declaração (e.g.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int EPar(int a)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31720" y="1646280"/>
              <a:ext cx="8062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No arquivo-cabeçalho chamado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'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funcao.h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' 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tem-se a declaração (e.g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int EPar(int a)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)</a:t>
              </a:r>
              <a:r>
                <a:rPr b="1" i="1" lang="pt-BR" sz="24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5147-75FA-41A1-9F99-9B4759029F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9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199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428760" y="1635120"/>
            <a:ext cx="844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Suponha que a funçã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</a:rPr>
              <a:t>int EPar(int a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seja importante em vários programas e você deseja declará-la num módulo separado. No arquivo de cabeçalho, chamado por exemplo de </a:t>
            </a:r>
            <a:r>
              <a:rPr b="1" i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funcao.h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, tem-se a seguinte declara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2685960" y="3664080"/>
            <a:ext cx="3397320" cy="996840"/>
            <a:chOff x="2685960" y="3664080"/>
            <a:chExt cx="3397320" cy="996840"/>
          </a:xfrm>
        </p:grpSpPr>
        <p:sp>
          <p:nvSpPr>
            <p:cNvPr id="1998" name=""/>
            <p:cNvSpPr/>
            <p:nvPr/>
          </p:nvSpPr>
          <p:spPr>
            <a:xfrm>
              <a:off x="2685960" y="3664080"/>
              <a:ext cx="3397320" cy="996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54160" y="3905280"/>
              <a:ext cx="291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Arial"/>
                </a:rPr>
                <a:t>int EPar(int a)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BD23-DE9A-425D-A15D-AA9AA92D3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0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0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428760" y="1635120"/>
            <a:ext cx="844236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O código da função deverá ser escrito em um outro arquivo, chamado, por exemplo de </a:t>
            </a:r>
            <a:r>
              <a:rPr b="1" i="1" lang="pt-PT" sz="2400" spc="-1" strike="noStrike">
                <a:solidFill>
                  <a:srgbClr val="ffcc66"/>
                </a:solidFill>
                <a:latin typeface="Arial"/>
                <a:ea typeface="Arial"/>
              </a:rPr>
              <a:t>funcao.c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. Neste arquivo tem-se a definição da funçã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912960" y="2978280"/>
            <a:ext cx="7718400" cy="3235320"/>
            <a:chOff x="912960" y="2978280"/>
            <a:chExt cx="7718400" cy="3235320"/>
          </a:xfrm>
        </p:grpSpPr>
        <p:sp>
          <p:nvSpPr>
            <p:cNvPr id="2008" name=""/>
            <p:cNvSpPr/>
            <p:nvPr/>
          </p:nvSpPr>
          <p:spPr>
            <a:xfrm>
              <a:off x="912960" y="2978280"/>
              <a:ext cx="7385040" cy="3235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62000" y="3142080"/>
              <a:ext cx="7569360" cy="28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EPar(int a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f (a%2) 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Verifica se a é divisivel por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0;  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Retorna 0 se a nao for divisivel por 2*/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else        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1;  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/* Retorna 1 se a for divisivel por 2 */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A110-926E-409C-9A20-1502C96358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1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3505320" y="633240"/>
            <a:ext cx="2131560" cy="446040"/>
            <a:chOff x="3505320" y="633240"/>
            <a:chExt cx="2131560" cy="446040"/>
          </a:xfrm>
        </p:grpSpPr>
        <p:sp>
          <p:nvSpPr>
            <p:cNvPr id="2014" name=""/>
            <p:cNvSpPr/>
            <p:nvPr/>
          </p:nvSpPr>
          <p:spPr>
            <a:xfrm>
              <a:off x="3527280" y="63324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505320" y="64440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16" name=""/>
          <p:cNvSpPr/>
          <p:nvPr/>
        </p:nvSpPr>
        <p:spPr>
          <a:xfrm>
            <a:off x="314280" y="1311120"/>
            <a:ext cx="8715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: Por fim, no arquivo do programa principal tem-se o programa principal. Podemos denominá-lo </a:t>
            </a:r>
            <a:r>
              <a:rPr b="1" i="1" lang="pt-BR" sz="2400" spc="-1" strike="noStrike">
                <a:solidFill>
                  <a:srgbClr val="ffcc66"/>
                </a:solidFill>
                <a:latin typeface="Arial"/>
                <a:ea typeface="Arial"/>
              </a:rPr>
              <a:t>princip.c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7" name=""/>
          <p:cNvSpPr/>
          <p:nvPr/>
        </p:nvSpPr>
        <p:spPr>
          <a:xfrm>
            <a:off x="2314440" y="2166840"/>
            <a:ext cx="5396040" cy="4595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8" name=""/>
          <p:cNvSpPr/>
          <p:nvPr/>
        </p:nvSpPr>
        <p:spPr>
          <a:xfrm>
            <a:off x="2443320" y="2268360"/>
            <a:ext cx="5489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&lt;conio.h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#include “funcao.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oid main(void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 x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x = 5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lrscr(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f(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Par(x)) printf(“\n%d é par",x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ls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printf(“\n%d é ímpar",x)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194A-1814-4E8B-B70A-9D4AC881D2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1162080" y="98280"/>
            <a:ext cx="6818040" cy="769680"/>
            <a:chOff x="1162080" y="98280"/>
            <a:chExt cx="6818040" cy="769680"/>
          </a:xfrm>
        </p:grpSpPr>
        <p:sp>
          <p:nvSpPr>
            <p:cNvPr id="1778" name=""/>
            <p:cNvSpPr/>
            <p:nvPr/>
          </p:nvSpPr>
          <p:spPr>
            <a:xfrm>
              <a:off x="1172160" y="9828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62080" y="11952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442800" y="3772080"/>
            <a:ext cx="8174160" cy="1746000"/>
            <a:chOff x="442800" y="3772080"/>
            <a:chExt cx="8174160" cy="1746000"/>
          </a:xfrm>
        </p:grpSpPr>
        <p:sp>
          <p:nvSpPr>
            <p:cNvPr id="1781" name=""/>
            <p:cNvSpPr/>
            <p:nvPr/>
          </p:nvSpPr>
          <p:spPr>
            <a:xfrm>
              <a:off x="463680" y="3772080"/>
              <a:ext cx="8153280" cy="17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9640" indent="-5396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Tópicos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9640" indent="-53964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Funções Recursiv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2800" y="3783240"/>
              <a:ext cx="815364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9640" indent="-539640">
                <a:lnSpc>
                  <a:spcPct val="90000"/>
                </a:lnSpc>
                <a:spcBef>
                  <a:spcPts val="9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Tópicos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9640" indent="-53964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3240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Funções Recursiva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442800" y="1343160"/>
            <a:ext cx="8174160" cy="1681200"/>
            <a:chOff x="442800" y="1343160"/>
            <a:chExt cx="8174160" cy="1681200"/>
          </a:xfrm>
        </p:grpSpPr>
        <p:sp>
          <p:nvSpPr>
            <p:cNvPr id="1784" name=""/>
            <p:cNvSpPr/>
            <p:nvPr/>
          </p:nvSpPr>
          <p:spPr>
            <a:xfrm>
              <a:off x="463680" y="1343160"/>
              <a:ext cx="815328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501480" indent="-5014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01480" indent="-501480">
                <a:lnSpc>
                  <a:spcPct val="90000"/>
                </a:lnSpc>
                <a:spcBef>
                  <a:spcPts val="300"/>
                </a:spcBef>
                <a:buClr>
                  <a:srgbClr val="000000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17360" indent="-3474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studo de tópicos avançados da linguagem C usados na implementação de estruturas de dados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42800" y="1362240"/>
              <a:ext cx="815364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501480" indent="-50148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01480" indent="-50148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17360" indent="-347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studo de tópicos avançados da linguagem C usados na implementação de estruturas de dados.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A470-E5CE-4406-8DB8-04C114630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9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20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23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428760" y="1498680"/>
            <a:ext cx="84628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Arial"/>
                <a:ea typeface="Arial"/>
              </a:rPr>
              <a:t>Exemplo ...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gerar o executável deste programa n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Turbo C++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você deve criar um projeto, com a opçã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Arial"/>
              </a:rPr>
              <a:t>Project -&gt; Open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Digitar um nome para o seu projeto (por exemplo projeto, com extensão .PRJ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Ao apertar OK, o 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Turbo C++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o criará uma janela de projeto, onde você deverá adicionar os arquivos que serão usados para compor o seu executável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isto, você deve apertar a tecla &lt;Insert&gt; e em seguida escolher os arquivos princip.c (Add) e funcao.c (Add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Para finalizar, é só mandar compilar o projeto. </a:t>
            </a:r>
            <a:r>
              <a:rPr b="1" lang="pt-BR" sz="2400" spc="-1" strike="noStrike" u="sng">
                <a:solidFill>
                  <a:srgbClr val="ffcc66"/>
                </a:solidFill>
                <a:uFillTx/>
                <a:latin typeface="Arial"/>
                <a:ea typeface="Arial"/>
              </a:rPr>
              <a:t>Se não der erro, pode executar!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7724-2DF8-4E39-A9BB-9093462DA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2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30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900000" y="2543040"/>
            <a:ext cx="7993080" cy="949320"/>
            <a:chOff x="900000" y="2543040"/>
            <a:chExt cx="7993080" cy="949320"/>
          </a:xfrm>
        </p:grpSpPr>
        <p:sp>
          <p:nvSpPr>
            <p:cNvPr id="2033" name=""/>
            <p:cNvSpPr/>
            <p:nvPr/>
          </p:nvSpPr>
          <p:spPr>
            <a:xfrm>
              <a:off x="911160" y="2543040"/>
              <a:ext cx="79819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Variáveis declaradas em um bloco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extern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são também válidas no bloco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ern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o primeiro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900000" y="2550960"/>
              <a:ext cx="79819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Variáveis declaradas em um bloco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extern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são também válidas no bloco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o primeir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873000" y="3678120"/>
            <a:ext cx="7992720" cy="1323720"/>
            <a:chOff x="873000" y="3678120"/>
            <a:chExt cx="7992720" cy="1323720"/>
          </a:xfrm>
        </p:grpSpPr>
        <p:sp>
          <p:nvSpPr>
            <p:cNvPr id="2036" name=""/>
            <p:cNvSpPr/>
            <p:nvPr/>
          </p:nvSpPr>
          <p:spPr>
            <a:xfrm>
              <a:off x="884880" y="3678120"/>
              <a:ext cx="7980840" cy="13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Variáveis declaradas em um bloco são GLOBAIS para todos os blocos internos e LOCAIS para o próprio bloc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73000" y="3694680"/>
              <a:ext cx="7980480" cy="13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Variáveis declaradas em um bloco são </a:t>
              </a:r>
              <a:r>
                <a:rPr b="1" lang="pt-PT" sz="2400" spc="-1" strike="noStrike">
                  <a:solidFill>
                    <a:srgbClr val="ffcccc"/>
                  </a:solidFill>
                  <a:latin typeface="Arial"/>
                </a:rPr>
                <a:t>GLOBAI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para todos os blocos internos e </a:t>
              </a:r>
              <a:r>
                <a:rPr b="1" lang="pt-PT" sz="2400" spc="-1" strike="noStrike">
                  <a:solidFill>
                    <a:srgbClr val="ff9966"/>
                  </a:solidFill>
                  <a:latin typeface="Arial"/>
                </a:rPr>
                <a:t>LOCAIS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para o próprio bloco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876240" y="5156280"/>
            <a:ext cx="7989840" cy="1220760"/>
            <a:chOff x="876240" y="5156280"/>
            <a:chExt cx="7989840" cy="1220760"/>
          </a:xfrm>
        </p:grpSpPr>
        <p:sp>
          <p:nvSpPr>
            <p:cNvPr id="2039" name=""/>
            <p:cNvSpPr/>
            <p:nvPr/>
          </p:nvSpPr>
          <p:spPr>
            <a:xfrm>
              <a:off x="885960" y="5156280"/>
              <a:ext cx="798012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Uma variável declarada </a:t>
              </a:r>
              <a:r>
                <a:rPr b="1" i="1" lang="pt-PT" sz="2400" spc="-1" strike="noStrike">
                  <a:solidFill>
                    <a:srgbClr val="ffffcc"/>
                  </a:solidFill>
                  <a:latin typeface="Arial"/>
                </a:rPr>
                <a:t>dentr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de um bloco só é conhecida </a:t>
              </a:r>
              <a:r>
                <a:rPr b="1" i="1" lang="pt-PT" sz="2400" spc="-1" strike="noStrike">
                  <a:solidFill>
                    <a:srgbClr val="ffffcc"/>
                  </a:solidFill>
                  <a:latin typeface="Arial"/>
                </a:rPr>
                <a:t>dentr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daquele bloco (e dos blocos internos a ele)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5360" indent="-3153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76240" y="5168880"/>
              <a:ext cx="79804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177840" y="1666800"/>
            <a:ext cx="8067600" cy="758880"/>
            <a:chOff x="177840" y="1666800"/>
            <a:chExt cx="8067600" cy="758880"/>
          </a:xfrm>
        </p:grpSpPr>
        <p:sp>
          <p:nvSpPr>
            <p:cNvPr id="2042" name=""/>
            <p:cNvSpPr/>
            <p:nvPr/>
          </p:nvSpPr>
          <p:spPr>
            <a:xfrm>
              <a:off x="200160" y="166680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7840" y="168588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Regras do escopo de variávei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7E8E-506A-490E-AF79-811485B920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4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48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338040" y="1614600"/>
            <a:ext cx="2703600" cy="495000"/>
            <a:chOff x="338040" y="1614600"/>
            <a:chExt cx="2703600" cy="495000"/>
          </a:xfrm>
        </p:grpSpPr>
        <p:sp>
          <p:nvSpPr>
            <p:cNvPr id="2051" name=""/>
            <p:cNvSpPr/>
            <p:nvPr/>
          </p:nvSpPr>
          <p:spPr>
            <a:xfrm>
              <a:off x="353880" y="1614600"/>
              <a:ext cx="2687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8040" y="1633680"/>
              <a:ext cx="2687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53" name=""/>
          <p:cNvSpPr/>
          <p:nvPr/>
        </p:nvSpPr>
        <p:spPr>
          <a:xfrm>
            <a:off x="569880" y="2481120"/>
            <a:ext cx="2813040" cy="3463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200" spc="-1" strike="noStrike">
                <a:solidFill>
                  <a:srgbClr val="010199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loat y;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4" name=""/>
          <p:cNvSpPr/>
          <p:nvPr/>
        </p:nvSpPr>
        <p:spPr>
          <a:xfrm>
            <a:off x="1173240" y="3699000"/>
            <a:ext cx="1731960" cy="9874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5" name=""/>
          <p:cNvSpPr/>
          <p:nvPr/>
        </p:nvSpPr>
        <p:spPr>
          <a:xfrm>
            <a:off x="1173240" y="4878360"/>
            <a:ext cx="1731960" cy="98748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Bloco </a:t>
            </a:r>
            <a:r>
              <a:rPr b="1" lang="pt-BR" sz="2000" spc="-1" strike="noStrike">
                <a:solidFill>
                  <a:srgbClr val="0101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3684600" y="3286080"/>
            <a:ext cx="5459400" cy="1900080"/>
            <a:chOff x="3684600" y="3286080"/>
            <a:chExt cx="5459400" cy="1900080"/>
          </a:xfrm>
        </p:grpSpPr>
        <p:sp>
          <p:nvSpPr>
            <p:cNvPr id="2057" name=""/>
            <p:cNvSpPr/>
            <p:nvPr/>
          </p:nvSpPr>
          <p:spPr>
            <a:xfrm>
              <a:off x="3695760" y="3286080"/>
              <a:ext cx="544824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684600" y="3301920"/>
              <a:ext cx="54594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59" name=""/>
          <p:cNvSpPr/>
          <p:nvPr/>
        </p:nvSpPr>
        <p:spPr>
          <a:xfrm>
            <a:off x="3638520" y="3097080"/>
            <a:ext cx="527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y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é variável </a:t>
            </a:r>
            <a:r>
              <a:rPr b="1" lang="pt-PT" sz="2400" spc="-1" strike="noStrike">
                <a:solidFill>
                  <a:srgbClr val="ff99cc"/>
                </a:solidFill>
                <a:latin typeface="Arial"/>
              </a:rPr>
              <a:t>GLOBAL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para B e 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é variável </a:t>
            </a:r>
            <a:r>
              <a:rPr b="1" lang="pt-PT" sz="2400" spc="-1" strike="noStrike">
                <a:solidFill>
                  <a:srgbClr val="ffdcb9"/>
                </a:solidFill>
                <a:latin typeface="Arial"/>
              </a:rPr>
              <a:t>LOCAL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 B e de C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de5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e B e </a:t>
            </a:r>
            <a:r>
              <a:rPr b="1" lang="pt-PT" sz="2400" spc="-1" strike="noStrike">
                <a:solidFill>
                  <a:srgbClr val="fde503"/>
                </a:solidFill>
                <a:latin typeface="Arial"/>
              </a:rPr>
              <a:t>x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e C são variáveis distintas, invisíveis em 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4681-E618-4C0E-9752-42D6ECB813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6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64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630360" y="1654200"/>
            <a:ext cx="6818040" cy="601560"/>
            <a:chOff x="630360" y="1654200"/>
            <a:chExt cx="6818040" cy="601560"/>
          </a:xfrm>
        </p:grpSpPr>
        <p:sp>
          <p:nvSpPr>
            <p:cNvPr id="2067" name=""/>
            <p:cNvSpPr/>
            <p:nvPr/>
          </p:nvSpPr>
          <p:spPr>
            <a:xfrm>
              <a:off x="647640" y="1654200"/>
              <a:ext cx="6800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Uma função só é executada </a:t>
              </a:r>
              <a:r>
                <a:rPr b="1" lang="pt-PT" sz="2400" spc="-1" strike="noStrike">
                  <a:solidFill>
                    <a:srgbClr val="ffcccc"/>
                  </a:solidFill>
                  <a:latin typeface="Arial"/>
                </a:rPr>
                <a:t>sob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0360" y="1665360"/>
              <a:ext cx="68007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224"/>
                </a:spcBef>
                <a:buClr>
                  <a:srgbClr val="ffffcc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69" name=""/>
          <p:cNvSpPr/>
          <p:nvPr/>
        </p:nvSpPr>
        <p:spPr>
          <a:xfrm>
            <a:off x="1222200" y="2786040"/>
            <a:ext cx="2378160" cy="352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0" name=""/>
          <p:cNvSpPr/>
          <p:nvPr/>
        </p:nvSpPr>
        <p:spPr>
          <a:xfrm>
            <a:off x="1847880" y="3448080"/>
            <a:ext cx="1463760" cy="8380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1" name=""/>
          <p:cNvSpPr/>
          <p:nvPr/>
        </p:nvSpPr>
        <p:spPr>
          <a:xfrm>
            <a:off x="1847880" y="4449600"/>
            <a:ext cx="1463760" cy="159084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2" name=""/>
          <p:cNvSpPr/>
          <p:nvPr/>
        </p:nvSpPr>
        <p:spPr>
          <a:xfrm>
            <a:off x="2236680" y="348300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3" name=""/>
          <p:cNvSpPr/>
          <p:nvPr/>
        </p:nvSpPr>
        <p:spPr>
          <a:xfrm>
            <a:off x="2236680" y="366552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4" name=""/>
          <p:cNvSpPr/>
          <p:nvPr/>
        </p:nvSpPr>
        <p:spPr>
          <a:xfrm>
            <a:off x="2236680" y="384804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5" name=""/>
          <p:cNvSpPr/>
          <p:nvPr/>
        </p:nvSpPr>
        <p:spPr>
          <a:xfrm>
            <a:off x="2233440" y="4030560"/>
            <a:ext cx="20808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6" name=""/>
          <p:cNvSpPr/>
          <p:nvPr/>
        </p:nvSpPr>
        <p:spPr>
          <a:xfrm>
            <a:off x="4613400" y="3924360"/>
            <a:ext cx="1463400" cy="1458720"/>
          </a:xfrm>
          <a:prstGeom prst="rect">
            <a:avLst/>
          </a:prstGeom>
          <a:gradFill rotWithShape="0">
            <a:gsLst>
              <a:gs pos="0">
                <a:srgbClr val="e3ffe3"/>
              </a:gs>
              <a:gs pos="100000">
                <a:srgbClr val="e3ffe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 f(int x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77" name=""/>
          <p:cNvGrpSpPr/>
          <p:nvPr/>
        </p:nvGrpSpPr>
        <p:grpSpPr>
          <a:xfrm>
            <a:off x="2251440" y="3651480"/>
            <a:ext cx="3361320" cy="937080"/>
            <a:chOff x="2251440" y="3651480"/>
            <a:chExt cx="3361320" cy="937080"/>
          </a:xfrm>
        </p:grpSpPr>
        <p:sp>
          <p:nvSpPr>
            <p:cNvPr id="2078" name=""/>
            <p:cNvSpPr/>
            <p:nvPr/>
          </p:nvSpPr>
          <p:spPr>
            <a:xfrm rot="371400">
              <a:off x="2271600" y="3852360"/>
              <a:ext cx="3319200" cy="558720"/>
            </a:xfrm>
            <a:custGeom>
              <a:avLst/>
              <a:gdLst>
                <a:gd name="textAreaLeft" fmla="*/ 692280 w 3319200"/>
                <a:gd name="textAreaRight" fmla="*/ 2343960 w 3319200"/>
                <a:gd name="textAreaTop" fmla="*/ 74880 h 558720"/>
                <a:gd name="textAreaBottom" fmla="*/ 4838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371400">
              <a:off x="2273040" y="3828600"/>
              <a:ext cx="3319200" cy="558720"/>
            </a:xfrm>
            <a:custGeom>
              <a:avLst/>
              <a:gdLst>
                <a:gd name="textAreaLeft" fmla="*/ 692280 w 3319200"/>
                <a:gd name="textAreaRight" fmla="*/ 2343960 w 3319200"/>
                <a:gd name="textAreaTop" fmla="*/ 74880 h 558720"/>
                <a:gd name="textAreaBottom" fmla="*/ 48384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3300"/>
                </a:gs>
              </a:gsLst>
              <a:lin ang="131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5146560" y="455148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1" name=""/>
          <p:cNvSpPr/>
          <p:nvPr/>
        </p:nvSpPr>
        <p:spPr>
          <a:xfrm>
            <a:off x="5146560" y="473400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2" name=""/>
          <p:cNvSpPr/>
          <p:nvPr/>
        </p:nvSpPr>
        <p:spPr>
          <a:xfrm>
            <a:off x="5146560" y="491652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3" name=""/>
          <p:cNvSpPr/>
          <p:nvPr/>
        </p:nvSpPr>
        <p:spPr>
          <a:xfrm>
            <a:off x="5143680" y="5099040"/>
            <a:ext cx="20772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4" name=""/>
          <p:cNvSpPr/>
          <p:nvPr/>
        </p:nvSpPr>
        <p:spPr>
          <a:xfrm>
            <a:off x="2316240" y="451476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5" name=""/>
          <p:cNvSpPr/>
          <p:nvPr/>
        </p:nvSpPr>
        <p:spPr>
          <a:xfrm>
            <a:off x="2316240" y="469728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6" name=""/>
          <p:cNvSpPr/>
          <p:nvPr/>
        </p:nvSpPr>
        <p:spPr>
          <a:xfrm>
            <a:off x="2316240" y="487980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7" name=""/>
          <p:cNvSpPr/>
          <p:nvPr/>
        </p:nvSpPr>
        <p:spPr>
          <a:xfrm>
            <a:off x="2313000" y="506268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8" name=""/>
          <p:cNvSpPr/>
          <p:nvPr/>
        </p:nvSpPr>
        <p:spPr>
          <a:xfrm>
            <a:off x="2316240" y="525132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9" name=""/>
          <p:cNvSpPr/>
          <p:nvPr/>
        </p:nvSpPr>
        <p:spPr>
          <a:xfrm>
            <a:off x="2316240" y="5433840"/>
            <a:ext cx="207720" cy="17964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0" name=""/>
          <p:cNvSpPr/>
          <p:nvPr/>
        </p:nvSpPr>
        <p:spPr>
          <a:xfrm>
            <a:off x="2316240" y="5616720"/>
            <a:ext cx="20772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1" name=""/>
          <p:cNvSpPr/>
          <p:nvPr/>
        </p:nvSpPr>
        <p:spPr>
          <a:xfrm>
            <a:off x="2313000" y="5799240"/>
            <a:ext cx="208080" cy="179280"/>
          </a:xfrm>
          <a:custGeom>
            <a:avLst/>
            <a:gdLst/>
            <a:ahLst/>
            <a:rect l="l" t="t" r="r" b="b"/>
            <a:pathLst>
              <a:path w="170" h="292">
                <a:moveTo>
                  <a:pt x="4" y="0"/>
                </a:moveTo>
                <a:lnTo>
                  <a:pt x="170" y="146"/>
                </a:lnTo>
                <a:lnTo>
                  <a:pt x="0" y="2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1748880" y="4364640"/>
            <a:ext cx="3407040" cy="1527480"/>
            <a:chOff x="1748880" y="4364640"/>
            <a:chExt cx="3407040" cy="1527480"/>
          </a:xfrm>
        </p:grpSpPr>
        <p:sp>
          <p:nvSpPr>
            <p:cNvPr id="2093" name=""/>
            <p:cNvSpPr/>
            <p:nvPr/>
          </p:nvSpPr>
          <p:spPr>
            <a:xfrm rot="11849400">
              <a:off x="1752120" y="4864320"/>
              <a:ext cx="3406320" cy="507240"/>
            </a:xfrm>
            <a:custGeom>
              <a:avLst/>
              <a:gdLst>
                <a:gd name="textAreaLeft" fmla="*/ 710640 w 3406320"/>
                <a:gd name="textAreaRight" fmla="*/ 2405520 w 3406320"/>
                <a:gd name="textAreaTop" fmla="*/ 67680 h 507240"/>
                <a:gd name="textAreaBottom" fmla="*/ 439560 h 5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11849400">
              <a:off x="1746360" y="4884840"/>
              <a:ext cx="3406320" cy="507240"/>
            </a:xfrm>
            <a:custGeom>
              <a:avLst/>
              <a:gdLst>
                <a:gd name="textAreaLeft" fmla="*/ 710640 w 3406320"/>
                <a:gd name="textAreaRight" fmla="*/ 2405520 w 3406320"/>
                <a:gd name="textAreaTop" fmla="*/ 67680 h 507240"/>
                <a:gd name="textAreaBottom" fmla="*/ 439560 h 5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14" hR="21600" stAng="10800000" swAng="5400000"/>
                  <a:lnTo>
                    <a:pt x="10747" y="0"/>
                  </a:lnTo>
                  <a:arcTo wR="9014" hR="21600" stAng="-5400000" swAng="1621008"/>
                  <a:lnTo>
                    <a:pt x="19562" y="7920"/>
                  </a:lnTo>
                  <a:lnTo>
                    <a:pt x="18894" y="21600"/>
                  </a:lnTo>
                  <a:lnTo>
                    <a:pt x="14149" y="7920"/>
                  </a:lnTo>
                  <a:lnTo>
                    <a:pt x="15989" y="7920"/>
                  </a:lnTo>
                  <a:arcTo wR="9014" hR="21600" stAng="-3778992" swAng="-1482533"/>
                  <a:lnTo>
                    <a:pt x="9880" y="100"/>
                  </a:lnTo>
                  <a:arcTo wR="9014" hR="21600" stAng="-5538475" swAng="-5261525"/>
                  <a:close/>
                </a:path>
                <a:path fill="darkenLess" w="21600" h="21600">
                  <a:moveTo>
                    <a:pt x="0" y="21600"/>
                  </a:moveTo>
                  <a:arcTo wR="9014" hR="21600" stAng="10800000" swAng="5400000"/>
                  <a:lnTo>
                    <a:pt x="9014" y="0"/>
                  </a:lnTo>
                  <a:arcTo wR="9014" hR="21600" stAng="-5400000" swAng="138475"/>
                  <a:lnTo>
                    <a:pt x="9880" y="100"/>
                  </a:lnTo>
                  <a:arcTo wR="9014" hR="21600" stAng="-5538475" swAng="-5261525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cc3300"/>
                </a:gs>
              </a:gsLst>
              <a:lin ang="131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CB5F-F606-456D-BCAF-C558ABAD46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09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099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414360" y="1722600"/>
            <a:ext cx="7078680" cy="701640"/>
            <a:chOff x="414360" y="1722600"/>
            <a:chExt cx="7078680" cy="701640"/>
          </a:xfrm>
        </p:grpSpPr>
        <p:sp>
          <p:nvSpPr>
            <p:cNvPr id="2102" name=""/>
            <p:cNvSpPr/>
            <p:nvPr/>
          </p:nvSpPr>
          <p:spPr>
            <a:xfrm>
              <a:off x="433440" y="1722600"/>
              <a:ext cx="70596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14360" y="1739880"/>
              <a:ext cx="705960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de503"/>
                  </a:solidFill>
                  <a:latin typeface="Penguin"/>
                </a:rPr>
                <a:t>Exemplo: </a:t>
              </a:r>
              <a:r>
                <a:rPr b="1" lang="pt-BR" sz="3200" spc="-1" strike="noStrike">
                  <a:solidFill>
                    <a:srgbClr val="ffffff"/>
                  </a:solidFill>
                  <a:latin typeface="Penguin"/>
                </a:rPr>
                <a:t>Programa Principal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255600" y="2482920"/>
            <a:ext cx="8648640" cy="3676680"/>
            <a:chOff x="255600" y="2482920"/>
            <a:chExt cx="8648640" cy="3676680"/>
          </a:xfrm>
        </p:grpSpPr>
        <p:sp>
          <p:nvSpPr>
            <p:cNvPr id="2105" name=""/>
            <p:cNvSpPr/>
            <p:nvPr/>
          </p:nvSpPr>
          <p:spPr>
            <a:xfrm>
              <a:off x="255600" y="2482920"/>
              <a:ext cx="8648640" cy="3676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7760" y="2749680"/>
              <a:ext cx="850896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Programa principal também é função */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a, b, c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a = -10; b = 5; c = 5 + abs(a);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chamada à </a:t>
              </a:r>
              <a:r>
                <a:rPr b="1" i="1" lang="pt-BR" sz="2600" spc="-1" strike="noStrike">
                  <a:solidFill>
                    <a:srgbClr val="010199"/>
                  </a:solidFill>
                  <a:latin typeface="Arial"/>
                </a:rPr>
                <a:t> 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função abs */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printf("%d",c)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10199"/>
                  </a:solidFill>
                  <a:latin typeface="Arial"/>
                </a:rPr>
                <a:t>/* OK */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5291280" y="3919680"/>
            <a:ext cx="1350720" cy="5648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E003-F397-4FE0-98D9-7C877305EF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294000" y="785880"/>
            <a:ext cx="2131560" cy="445680"/>
            <a:chOff x="3294000" y="785880"/>
            <a:chExt cx="2131560" cy="445680"/>
          </a:xfrm>
        </p:grpSpPr>
        <p:sp>
          <p:nvSpPr>
            <p:cNvPr id="2112" name=""/>
            <p:cNvSpPr/>
            <p:nvPr/>
          </p:nvSpPr>
          <p:spPr>
            <a:xfrm>
              <a:off x="331596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29400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88800" y="1771560"/>
            <a:ext cx="6150240" cy="498240"/>
            <a:chOff x="388800" y="1771560"/>
            <a:chExt cx="6150240" cy="498240"/>
          </a:xfrm>
        </p:grpSpPr>
        <p:sp>
          <p:nvSpPr>
            <p:cNvPr id="2115" name=""/>
            <p:cNvSpPr/>
            <p:nvPr/>
          </p:nvSpPr>
          <p:spPr>
            <a:xfrm>
              <a:off x="409680" y="1771560"/>
              <a:ext cx="6129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800" y="1793520"/>
              <a:ext cx="61293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 </a:t>
              </a:r>
              <a:r>
                <a:rPr b="1" lang="pt-BR" sz="2800" spc="-1" strike="noStrike">
                  <a:solidFill>
                    <a:srgbClr val="ffffcc"/>
                  </a:solidFill>
                  <a:latin typeface="Penguin"/>
                </a:rPr>
                <a:t>Função</a:t>
              </a:r>
              <a:r>
                <a:rPr b="1" lang="pt-BR" sz="2800" spc="-1" strike="noStrike">
                  <a:solidFill>
                    <a:srgbClr val="ffffff"/>
                  </a:solidFill>
                  <a:latin typeface="Penguin"/>
                </a:rPr>
                <a:t> </a:t>
              </a: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abs(x)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463680" y="2505240"/>
            <a:ext cx="8216640" cy="3627360"/>
            <a:chOff x="463680" y="2505240"/>
            <a:chExt cx="8216640" cy="3627360"/>
          </a:xfrm>
        </p:grpSpPr>
        <p:sp>
          <p:nvSpPr>
            <p:cNvPr id="2118" name=""/>
            <p:cNvSpPr/>
            <p:nvPr/>
          </p:nvSpPr>
          <p:spPr>
            <a:xfrm>
              <a:off x="463680" y="2505240"/>
              <a:ext cx="8216640" cy="3627360"/>
            </a:xfrm>
            <a:prstGeom prst="rect">
              <a:avLst/>
            </a:prstGeom>
            <a:gradFill rotWithShape="0">
              <a:gsLst>
                <a:gs pos="0">
                  <a:srgbClr val="e3ffe3"/>
                </a:gs>
                <a:gs pos="100000">
                  <a:srgbClr val="e3ffe3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2480" y="2749680"/>
              <a:ext cx="7990920" cy="29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nt abs(int x) 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10199"/>
                  </a:solidFill>
                  <a:latin typeface="Arial"/>
                </a:rPr>
                <a:t>/* cabeçalho */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10199"/>
                  </a:solidFill>
                  <a:latin typeface="Arial"/>
                </a:rPr>
                <a:t>/* inicio do bloco da função */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nt res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if (x &gt;= 0)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res = x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else res = -x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return res;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2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2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8986-3237-47D2-B4A4-B08DFABF87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2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505320" y="880920"/>
            <a:ext cx="2131560" cy="446040"/>
            <a:chOff x="3505320" y="880920"/>
            <a:chExt cx="2131560" cy="446040"/>
          </a:xfrm>
        </p:grpSpPr>
        <p:sp>
          <p:nvSpPr>
            <p:cNvPr id="2124" name=""/>
            <p:cNvSpPr/>
            <p:nvPr/>
          </p:nvSpPr>
          <p:spPr>
            <a:xfrm>
              <a:off x="3527280" y="88092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505320" y="892080"/>
              <a:ext cx="2109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41520" y="1932120"/>
            <a:ext cx="6003720" cy="473040"/>
            <a:chOff x="641520" y="1932120"/>
            <a:chExt cx="6003720" cy="473040"/>
          </a:xfrm>
        </p:grpSpPr>
        <p:sp>
          <p:nvSpPr>
            <p:cNvPr id="2127" name=""/>
            <p:cNvSpPr/>
            <p:nvPr/>
          </p:nvSpPr>
          <p:spPr>
            <a:xfrm>
              <a:off x="658800" y="1932120"/>
              <a:ext cx="5986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 algn="just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1520" y="1946520"/>
              <a:ext cx="5986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marL="402840" indent="-402840" algn="just">
                <a:lnSpc>
                  <a:spcPct val="10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Passagem de parâmetro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69800" y="2616120"/>
            <a:ext cx="8239320" cy="1147680"/>
            <a:chOff x="469800" y="2616120"/>
            <a:chExt cx="8239320" cy="1147680"/>
          </a:xfrm>
        </p:grpSpPr>
        <p:sp>
          <p:nvSpPr>
            <p:cNvPr id="2130" name=""/>
            <p:cNvSpPr/>
            <p:nvPr/>
          </p:nvSpPr>
          <p:spPr>
            <a:xfrm>
              <a:off x="479520" y="2616120"/>
              <a:ext cx="822960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262160" indent="-538200" algn="just">
                <a:lnSpc>
                  <a:spcPct val="120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m C, a passagem de parâmetros é sempre por valor (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cópia local da variável origina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69800" y="2628720"/>
              <a:ext cx="822960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262160" indent="-538200" algn="just">
                <a:lnSpc>
                  <a:spcPct val="120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m </a:t>
              </a:r>
              <a:r>
                <a:rPr b="1" lang="pt-PT" sz="2400" spc="-1" strike="noStrike">
                  <a:solidFill>
                    <a:srgbClr val="ffcc00"/>
                  </a:solidFill>
                  <a:latin typeface="Arial"/>
                </a:rPr>
                <a:t>C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, a passagem de parâmetros é sempre </a:t>
              </a:r>
              <a:r>
                <a:rPr b="1" lang="pt-PT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por valor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(</a:t>
              </a:r>
              <a:r>
                <a:rPr b="1" i="1" lang="pt-PT" sz="2400" spc="-1" strike="noStrike">
                  <a:solidFill>
                    <a:srgbClr val="ffdcb9"/>
                  </a:solidFill>
                  <a:latin typeface="Arial"/>
                </a:rPr>
                <a:t>cópia local da variável origina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)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453960" y="3821040"/>
            <a:ext cx="8240760" cy="1842840"/>
            <a:chOff x="453960" y="3821040"/>
            <a:chExt cx="8240760" cy="1842840"/>
          </a:xfrm>
        </p:grpSpPr>
        <p:sp>
          <p:nvSpPr>
            <p:cNvPr id="2133" name=""/>
            <p:cNvSpPr/>
            <p:nvPr/>
          </p:nvSpPr>
          <p:spPr>
            <a:xfrm>
              <a:off x="465120" y="3821040"/>
              <a:ext cx="8229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lvl="1" marL="1249200" indent="-532800" algn="just">
                <a:lnSpc>
                  <a:spcPct val="120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A função recebe uma cópia temporária e particular de cada argumento e, portanto, não pode afetar o argumento original da função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3960" y="3833640"/>
              <a:ext cx="8229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lvl="1" marL="1249200" indent="-532800" algn="just">
                <a:lnSpc>
                  <a:spcPct val="120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A função recebe uma cópia temporária e particular de cada argumento e, portanto, não pode afetar o argumento original da função chamada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D5B0-B329-43BF-8AAE-A29344727D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"/>
          <p:cNvGrpSpPr/>
          <p:nvPr/>
        </p:nvGrpSpPr>
        <p:grpSpPr>
          <a:xfrm>
            <a:off x="330120" y="2470320"/>
            <a:ext cx="3952800" cy="3954240"/>
            <a:chOff x="330120" y="2470320"/>
            <a:chExt cx="3952800" cy="3954240"/>
          </a:xfrm>
        </p:grpSpPr>
        <p:sp>
          <p:nvSpPr>
            <p:cNvPr id="2136" name=""/>
            <p:cNvSpPr/>
            <p:nvPr/>
          </p:nvSpPr>
          <p:spPr>
            <a:xfrm>
              <a:off x="330120" y="2470320"/>
              <a:ext cx="3952800" cy="3954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40720" y="2576880"/>
              <a:ext cx="3549240" cy="37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t x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x = 5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IncImprime(x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intf("%d",x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3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142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392040" y="1542960"/>
            <a:ext cx="4374720" cy="2265120"/>
            <a:chOff x="392040" y="1542960"/>
            <a:chExt cx="4374720" cy="2265120"/>
          </a:xfrm>
        </p:grpSpPr>
        <p:sp>
          <p:nvSpPr>
            <p:cNvPr id="2145" name=""/>
            <p:cNvSpPr/>
            <p:nvPr/>
          </p:nvSpPr>
          <p:spPr>
            <a:xfrm>
              <a:off x="407160" y="1542960"/>
              <a:ext cx="4359600" cy="22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2040" y="1558800"/>
              <a:ext cx="4281840" cy="21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6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Penguin"/>
                </a:rPr>
                <a:t>	</a:t>
              </a:r>
              <a:r>
                <a:rPr b="1" lang="pt-BR" sz="2400" spc="-1" strike="noStrike">
                  <a:solidFill>
                    <a:srgbClr val="ffffff"/>
                  </a:solidFill>
                  <a:latin typeface="Penguin"/>
                </a:rPr>
                <a:t>Programa Princip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4871880" y="3843360"/>
            <a:ext cx="2494080" cy="7365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4464000" y="2616120"/>
            <a:ext cx="4289400" cy="2712960"/>
            <a:chOff x="4464000" y="2616120"/>
            <a:chExt cx="4289400" cy="2712960"/>
          </a:xfrm>
        </p:grpSpPr>
        <p:sp>
          <p:nvSpPr>
            <p:cNvPr id="2149" name=""/>
            <p:cNvSpPr/>
            <p:nvPr/>
          </p:nvSpPr>
          <p:spPr>
            <a:xfrm>
              <a:off x="4464000" y="2616120"/>
              <a:ext cx="4289400" cy="27129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97200" y="2838240"/>
              <a:ext cx="402228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void IncImprime(int valor)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valor++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printf("%d",valor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4952160" y="2001960"/>
            <a:ext cx="3358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Penguin"/>
              </a:rPr>
              <a:t>Função</a:t>
            </a:r>
            <a:r>
              <a:rPr b="1" lang="pt-BR" sz="2400" spc="-1" strike="noStrike">
                <a:solidFill>
                  <a:srgbClr val="ffffff"/>
                </a:solidFill>
                <a:latin typeface="Pengui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cImprime(x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3E39-B7F6-43A7-A609-06065FAA0C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5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55" name=""/>
          <p:cNvGrpSpPr/>
          <p:nvPr/>
        </p:nvGrpSpPr>
        <p:grpSpPr>
          <a:xfrm>
            <a:off x="3505320" y="596880"/>
            <a:ext cx="2131560" cy="445680"/>
            <a:chOff x="3505320" y="596880"/>
            <a:chExt cx="2131560" cy="445680"/>
          </a:xfrm>
        </p:grpSpPr>
        <p:sp>
          <p:nvSpPr>
            <p:cNvPr id="2156" name=""/>
            <p:cNvSpPr/>
            <p:nvPr/>
          </p:nvSpPr>
          <p:spPr>
            <a:xfrm>
              <a:off x="3527280" y="596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505320" y="608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1611360" y="1558800"/>
            <a:ext cx="7283520" cy="4560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9" name=""/>
          <p:cNvSpPr/>
          <p:nvPr/>
        </p:nvSpPr>
        <p:spPr>
          <a:xfrm>
            <a:off x="1692360" y="1690560"/>
            <a:ext cx="7451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func(int a, int b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 = (a+b)/2;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Qual e o valor de a apos a atribuicao?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-= a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turn a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 first = 0, sec = 50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= 10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um += func(first, sec);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Qual e o valor de num, first e sec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1600" spc="-1" strike="noStrike">
                <a:solidFill>
                  <a:srgbClr val="010199"/>
                </a:solidFill>
                <a:latin typeface="Arial"/>
              </a:rPr>
              <a:t>/* antes e depois da atribuicao? *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intf("\n\nConfira! num = %d\tfirst = %d\tsec = %d",num, first, sec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0" y="1932120"/>
            <a:ext cx="1684080" cy="2668680"/>
            <a:chOff x="0" y="1932120"/>
            <a:chExt cx="1684080" cy="2668680"/>
          </a:xfrm>
        </p:grpSpPr>
        <p:sp>
          <p:nvSpPr>
            <p:cNvPr id="2161" name=""/>
            <p:cNvSpPr/>
            <p:nvPr/>
          </p:nvSpPr>
          <p:spPr>
            <a:xfrm>
              <a:off x="17640" y="1932120"/>
              <a:ext cx="1666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Penguin"/>
                </a:rPr>
                <a:t>Exemplo: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 Informe o valor de cada variável sempre que solicitado.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0" y="1946520"/>
              <a:ext cx="1666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Penguin"/>
                </a:rPr>
                <a:t>Exemplo: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 Narrow"/>
                </a:rPr>
                <a:t> Informe o valor de cada variável sempre que solicitado.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 Narrow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F9DB-81CF-4015-ADE6-7B0F74D2FB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3" name=""/>
          <p:cNvGrpSpPr/>
          <p:nvPr/>
        </p:nvGrpSpPr>
        <p:grpSpPr>
          <a:xfrm>
            <a:off x="2509920" y="1030320"/>
            <a:ext cx="6219360" cy="5479560"/>
            <a:chOff x="2509920" y="1030320"/>
            <a:chExt cx="6219360" cy="5479560"/>
          </a:xfrm>
        </p:grpSpPr>
        <p:sp>
          <p:nvSpPr>
            <p:cNvPr id="2164" name=""/>
            <p:cNvSpPr/>
            <p:nvPr/>
          </p:nvSpPr>
          <p:spPr>
            <a:xfrm>
              <a:off x="2509920" y="1058760"/>
              <a:ext cx="6149880" cy="5451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629800" y="1030320"/>
              <a:ext cx="6099480" cy="54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/* Bibliotecas 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#include &lt;stdio.h&gt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Variáveis, constantes e tipos globais</a:t>
              </a:r>
              <a:r>
                <a:rPr b="1" i="1" lang="pt-BR" sz="1600" spc="-1" strike="noStrike">
                  <a:solidFill>
                    <a:srgbClr val="010199"/>
                  </a:solidFill>
                  <a:latin typeface="Arial"/>
                </a:rPr>
                <a:t> </a:t>
              </a: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a todas as funções */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const float PI = 3.141592654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Protótipos (cabeçalhos) das funções */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maior(float a, float b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Programa principal */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int main(){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x,y</a:t>
              </a: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m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scanf("%f",&amp;x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scanf("%f",&amp;y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m = maior(x,y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printf("Maior = %f\n", m)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10199"/>
                  </a:solidFill>
                  <a:latin typeface="Arial"/>
                </a:rPr>
                <a:t>/* Corpo das funções 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float maior(float a, float b){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if (a&gt;b) return a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else return b;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338040" y="896760"/>
            <a:ext cx="2132280" cy="446040"/>
            <a:chOff x="338040" y="896760"/>
            <a:chExt cx="2132280" cy="446040"/>
          </a:xfrm>
        </p:grpSpPr>
        <p:sp>
          <p:nvSpPr>
            <p:cNvPr id="2170" name=""/>
            <p:cNvSpPr/>
            <p:nvPr/>
          </p:nvSpPr>
          <p:spPr>
            <a:xfrm>
              <a:off x="360360" y="896760"/>
              <a:ext cx="21099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38040" y="907920"/>
              <a:ext cx="21099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228600" y="2259000"/>
            <a:ext cx="2147400" cy="1581120"/>
            <a:chOff x="228600" y="2259000"/>
            <a:chExt cx="2147400" cy="1581120"/>
          </a:xfrm>
        </p:grpSpPr>
        <p:sp>
          <p:nvSpPr>
            <p:cNvPr id="2173" name=""/>
            <p:cNvSpPr/>
            <p:nvPr/>
          </p:nvSpPr>
          <p:spPr>
            <a:xfrm>
              <a:off x="246600" y="2259000"/>
              <a:ext cx="2129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8600" y="2283120"/>
              <a:ext cx="2129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Penguin"/>
                </a:rPr>
                <a:t>Estrutura geral de um programa com funções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435E-93BE-4F99-A0F2-74C454122F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6" name=""/>
          <p:cNvGrpSpPr/>
          <p:nvPr/>
        </p:nvGrpSpPr>
        <p:grpSpPr>
          <a:xfrm>
            <a:off x="977760" y="66600"/>
            <a:ext cx="7174080" cy="703440"/>
            <a:chOff x="977760" y="66600"/>
            <a:chExt cx="7174080" cy="703440"/>
          </a:xfrm>
        </p:grpSpPr>
        <p:sp>
          <p:nvSpPr>
            <p:cNvPr id="1787" name=""/>
            <p:cNvSpPr/>
            <p:nvPr/>
          </p:nvSpPr>
          <p:spPr>
            <a:xfrm>
              <a:off x="100476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97776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1395360" y="816120"/>
            <a:ext cx="6386040" cy="509040"/>
            <a:chOff x="1395360" y="816120"/>
            <a:chExt cx="6386040" cy="509040"/>
          </a:xfrm>
        </p:grpSpPr>
        <p:sp>
          <p:nvSpPr>
            <p:cNvPr id="1790" name=""/>
            <p:cNvSpPr/>
            <p:nvPr/>
          </p:nvSpPr>
          <p:spPr>
            <a:xfrm>
              <a:off x="1422720" y="816120"/>
              <a:ext cx="6358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95360" y="838080"/>
              <a:ext cx="63586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Estrutura de um Programa 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792" name="PlaceHolder 1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527040" y="1542960"/>
            <a:ext cx="8091360" cy="4876920"/>
            <a:chOff x="527040" y="1542960"/>
            <a:chExt cx="8091360" cy="4876920"/>
          </a:xfrm>
        </p:grpSpPr>
        <p:sp>
          <p:nvSpPr>
            <p:cNvPr id="1794" name=""/>
            <p:cNvSpPr/>
            <p:nvPr/>
          </p:nvSpPr>
          <p:spPr>
            <a:xfrm>
              <a:off x="527040" y="1542960"/>
              <a:ext cx="8091360" cy="48769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7040" y="1638360"/>
              <a:ext cx="808992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Bibliotecas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Constantes, variáveis e tipos globais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st float PI=3.141592654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rograma Principal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 main()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Declaração das variáveis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 x,y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rograma propriamente dit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canf("%d",&amp;x);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turn 0; </a:t>
              </a:r>
              <a:r>
                <a:rPr b="1" i="1" lang="en-US" sz="1800" spc="-1" strike="noStrike">
                  <a:solidFill>
                    <a:srgbClr val="0030c8"/>
                  </a:solidFill>
                  <a:latin typeface="Arial"/>
                </a:rPr>
                <a:t>/* para indicação de execução bem-sucedida *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FC24-2EF7-4AA4-B8DF-F71012CDB2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5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176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179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1420920" y="2511360"/>
            <a:ext cx="2724120" cy="507960"/>
            <a:chOff x="1420920" y="2511360"/>
            <a:chExt cx="2724120" cy="507960"/>
          </a:xfrm>
        </p:grpSpPr>
        <p:sp>
          <p:nvSpPr>
            <p:cNvPr id="2182" name=""/>
            <p:cNvSpPr/>
            <p:nvPr/>
          </p:nvSpPr>
          <p:spPr>
            <a:xfrm>
              <a:off x="1446480" y="2511360"/>
              <a:ext cx="26985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420920" y="2516040"/>
              <a:ext cx="2698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99"/>
                  </a:solidFill>
                  <a:latin typeface="Arial"/>
                </a:rPr>
                <a:t>Automática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750960" y="1622520"/>
            <a:ext cx="8067600" cy="758880"/>
            <a:chOff x="750960" y="1622520"/>
            <a:chExt cx="8067600" cy="758880"/>
          </a:xfrm>
        </p:grpSpPr>
        <p:sp>
          <p:nvSpPr>
            <p:cNvPr id="2185" name=""/>
            <p:cNvSpPr/>
            <p:nvPr/>
          </p:nvSpPr>
          <p:spPr>
            <a:xfrm>
              <a:off x="773280" y="162252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50960" y="1641600"/>
              <a:ext cx="80452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1420920" y="3222720"/>
            <a:ext cx="2022480" cy="462960"/>
            <a:chOff x="1420920" y="3222720"/>
            <a:chExt cx="2022480" cy="462960"/>
          </a:xfrm>
        </p:grpSpPr>
        <p:sp>
          <p:nvSpPr>
            <p:cNvPr id="2188" name=""/>
            <p:cNvSpPr/>
            <p:nvPr/>
          </p:nvSpPr>
          <p:spPr>
            <a:xfrm>
              <a:off x="1444680" y="3222720"/>
              <a:ext cx="1998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57040" indent="-2570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420920" y="3241440"/>
              <a:ext cx="1998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57040" indent="-25704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ff99"/>
                  </a:solidFill>
                  <a:latin typeface="Arial"/>
                </a:rPr>
                <a:t>Externa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1420920" y="3967200"/>
            <a:ext cx="2160000" cy="495360"/>
            <a:chOff x="1420920" y="3967200"/>
            <a:chExt cx="2160000" cy="495360"/>
          </a:xfrm>
        </p:grpSpPr>
        <p:sp>
          <p:nvSpPr>
            <p:cNvPr id="2191" name=""/>
            <p:cNvSpPr/>
            <p:nvPr/>
          </p:nvSpPr>
          <p:spPr>
            <a:xfrm>
              <a:off x="1444320" y="3967200"/>
              <a:ext cx="21366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E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420920" y="3988080"/>
              <a:ext cx="21366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</a:rPr>
                <a:t>E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361120" y="2535120"/>
            <a:ext cx="1001520" cy="417240"/>
            <a:chOff x="5361120" y="2535120"/>
            <a:chExt cx="1001520" cy="417240"/>
          </a:xfrm>
        </p:grpSpPr>
        <p:sp>
          <p:nvSpPr>
            <p:cNvPr id="2194" name=""/>
            <p:cNvSpPr/>
            <p:nvPr/>
          </p:nvSpPr>
          <p:spPr>
            <a:xfrm>
              <a:off x="5370480" y="2535120"/>
              <a:ext cx="992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361120" y="2538720"/>
              <a:ext cx="992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5383080" y="3235320"/>
            <a:ext cx="1398600" cy="417240"/>
            <a:chOff x="5383080" y="3235320"/>
            <a:chExt cx="1398600" cy="417240"/>
          </a:xfrm>
        </p:grpSpPr>
        <p:sp>
          <p:nvSpPr>
            <p:cNvPr id="2197" name=""/>
            <p:cNvSpPr/>
            <p:nvPr/>
          </p:nvSpPr>
          <p:spPr>
            <a:xfrm>
              <a:off x="5396040" y="3235320"/>
              <a:ext cx="1385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383080" y="3238920"/>
              <a:ext cx="1385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5383080" y="3967200"/>
            <a:ext cx="1185480" cy="417240"/>
            <a:chOff x="5383080" y="3967200"/>
            <a:chExt cx="1185480" cy="417240"/>
          </a:xfrm>
        </p:grpSpPr>
        <p:sp>
          <p:nvSpPr>
            <p:cNvPr id="2200" name=""/>
            <p:cNvSpPr/>
            <p:nvPr/>
          </p:nvSpPr>
          <p:spPr>
            <a:xfrm>
              <a:off x="5393880" y="3967200"/>
              <a:ext cx="1174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83080" y="3970800"/>
              <a:ext cx="11750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5356080" y="4773600"/>
            <a:ext cx="1969920" cy="417240"/>
            <a:chOff x="5356080" y="4773600"/>
            <a:chExt cx="1969920" cy="417240"/>
          </a:xfrm>
        </p:grpSpPr>
        <p:sp>
          <p:nvSpPr>
            <p:cNvPr id="2203" name=""/>
            <p:cNvSpPr/>
            <p:nvPr/>
          </p:nvSpPr>
          <p:spPr>
            <a:xfrm>
              <a:off x="5374440" y="4773600"/>
              <a:ext cx="19515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56080" y="4777200"/>
              <a:ext cx="19519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marL="233280" indent="-2332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05" name=""/>
          <p:cNvGrpSpPr/>
          <p:nvPr/>
        </p:nvGrpSpPr>
        <p:grpSpPr>
          <a:xfrm>
            <a:off x="1420920" y="4784760"/>
            <a:ext cx="3514320" cy="495360"/>
            <a:chOff x="1420920" y="4784760"/>
            <a:chExt cx="3514320" cy="495360"/>
          </a:xfrm>
        </p:grpSpPr>
        <p:sp>
          <p:nvSpPr>
            <p:cNvPr id="2206" name=""/>
            <p:cNvSpPr/>
            <p:nvPr/>
          </p:nvSpPr>
          <p:spPr>
            <a:xfrm>
              <a:off x="1459440" y="4784760"/>
              <a:ext cx="347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</a:rPr>
                <a:t>Em Registrado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420920" y="4805640"/>
              <a:ext cx="34758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fff99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CED6-4327-45BC-9C75-B082DF18D5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1873080" y="566640"/>
            <a:ext cx="5767200" cy="758880"/>
            <a:chOff x="1873080" y="566640"/>
            <a:chExt cx="5767200" cy="758880"/>
          </a:xfrm>
        </p:grpSpPr>
        <p:sp>
          <p:nvSpPr>
            <p:cNvPr id="2212" name=""/>
            <p:cNvSpPr/>
            <p:nvPr/>
          </p:nvSpPr>
          <p:spPr>
            <a:xfrm>
              <a:off x="1888920" y="566640"/>
              <a:ext cx="57513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873080" y="585720"/>
              <a:ext cx="575136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3316320" y="1166760"/>
            <a:ext cx="1410840" cy="526680"/>
            <a:chOff x="3316320" y="1166760"/>
            <a:chExt cx="1410840" cy="526680"/>
          </a:xfrm>
        </p:grpSpPr>
        <p:sp>
          <p:nvSpPr>
            <p:cNvPr id="2215" name=""/>
            <p:cNvSpPr/>
            <p:nvPr/>
          </p:nvSpPr>
          <p:spPr>
            <a:xfrm>
              <a:off x="3329280" y="116676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316320" y="117144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312840" y="1189080"/>
            <a:ext cx="3069720" cy="569520"/>
            <a:chOff x="312840" y="1189080"/>
            <a:chExt cx="3069720" cy="569520"/>
          </a:xfrm>
        </p:grpSpPr>
        <p:sp>
          <p:nvSpPr>
            <p:cNvPr id="2218" name=""/>
            <p:cNvSpPr/>
            <p:nvPr/>
          </p:nvSpPr>
          <p:spPr>
            <a:xfrm>
              <a:off x="328320" y="118908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2840" y="119412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Autom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366840" y="1728720"/>
            <a:ext cx="8586720" cy="518760"/>
            <a:chOff x="366840" y="1728720"/>
            <a:chExt cx="8586720" cy="518760"/>
          </a:xfrm>
        </p:grpSpPr>
        <p:sp>
          <p:nvSpPr>
            <p:cNvPr id="2221" name=""/>
            <p:cNvSpPr/>
            <p:nvPr/>
          </p:nvSpPr>
          <p:spPr>
            <a:xfrm>
              <a:off x="379440" y="1728720"/>
              <a:ext cx="8574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66840" y="1744560"/>
              <a:ext cx="8574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4000"/>
            </a:bodyPr>
            <a:p>
              <a:pPr marL="150840" indent="-150840" algn="just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Padrão para variáveis declaradas </a:t>
              </a:r>
              <a:r>
                <a:rPr b="0" lang="pt-BR" sz="2400" spc="-1" strike="noStrike" u="sng">
                  <a:solidFill>
                    <a:srgbClr val="ffffcc"/>
                  </a:solidFill>
                  <a:uFillTx/>
                  <a:latin typeface="Arial"/>
                </a:rPr>
                <a:t>dentro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 de uma funçã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Arial"/>
                </a:rPr>
                <a:t>Sem</a:t>
              </a:r>
              <a:r>
                <a:rPr b="0" lang="pt-BR" sz="2400" spc="-1" strike="noStrike">
                  <a:solidFill>
                    <a:srgbClr val="ffffcc"/>
                  </a:solidFill>
                  <a:latin typeface="Arial"/>
                </a:rPr>
                <a:t> especificação quanto à classe de armazenament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ão criadas quando a função é chamada e 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destruídas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 quando a funçã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termina a sua execução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150840" indent="-15084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1525680" y="3381480"/>
            <a:ext cx="6238800" cy="3214440"/>
            <a:chOff x="1525680" y="3381480"/>
            <a:chExt cx="6238800" cy="3214440"/>
          </a:xfrm>
        </p:grpSpPr>
        <p:sp>
          <p:nvSpPr>
            <p:cNvPr id="2224" name=""/>
            <p:cNvSpPr/>
            <p:nvPr/>
          </p:nvSpPr>
          <p:spPr>
            <a:xfrm>
              <a:off x="1679400" y="3381480"/>
              <a:ext cx="6069240" cy="321444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25680" y="3397320"/>
              <a:ext cx="6238800" cy="31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void</a:t>
              </a:r>
              <a:r>
                <a:rPr b="0" i="1" lang="pt-BR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main()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cabeçalh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inicio do bloco externo */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int y=5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inicio do bloco interno */</a:t>
              </a:r>
              <a:r>
                <a:rPr b="1" i="1" lang="pt-PT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int y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y=15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printf(“No bloco interno, y=%d\n”,y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término do bloco interno */</a:t>
              </a:r>
              <a:r>
                <a:rPr b="1" i="1" lang="pt-PT" sz="18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printf(“No bloco externo, y=%d\n”,y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43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/* término do bloco externo */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673600" y="4064040"/>
            <a:ext cx="1881000" cy="2364480"/>
            <a:chOff x="5673600" y="4064040"/>
            <a:chExt cx="1881000" cy="2364480"/>
          </a:xfrm>
        </p:grpSpPr>
        <p:sp>
          <p:nvSpPr>
            <p:cNvPr id="2227" name=""/>
            <p:cNvSpPr/>
            <p:nvPr/>
          </p:nvSpPr>
          <p:spPr>
            <a:xfrm>
              <a:off x="5673600" y="4064040"/>
              <a:ext cx="1876320" cy="235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79000" y="4071960"/>
              <a:ext cx="1875600" cy="235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e2a702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6086880" y="4599000"/>
            <a:ext cx="1312200" cy="1275480"/>
            <a:chOff x="6086880" y="4599000"/>
            <a:chExt cx="1312200" cy="1275480"/>
          </a:xfrm>
        </p:grpSpPr>
        <p:sp>
          <p:nvSpPr>
            <p:cNvPr id="2230" name=""/>
            <p:cNvSpPr/>
            <p:nvPr/>
          </p:nvSpPr>
          <p:spPr>
            <a:xfrm>
              <a:off x="6086880" y="4599000"/>
              <a:ext cx="131040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88680" y="4605480"/>
              <a:ext cx="1310400" cy="126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c3c00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A721-1689-4820-8DED-1D1EB513A9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3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35" name=""/>
          <p:cNvGrpSpPr/>
          <p:nvPr/>
        </p:nvGrpSpPr>
        <p:grpSpPr>
          <a:xfrm>
            <a:off x="2028960" y="579600"/>
            <a:ext cx="5766840" cy="758160"/>
            <a:chOff x="2028960" y="579600"/>
            <a:chExt cx="5766840" cy="758160"/>
          </a:xfrm>
        </p:grpSpPr>
        <p:sp>
          <p:nvSpPr>
            <p:cNvPr id="2236" name=""/>
            <p:cNvSpPr/>
            <p:nvPr/>
          </p:nvSpPr>
          <p:spPr>
            <a:xfrm>
              <a:off x="2044800" y="5796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28960" y="59832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2795760" y="1033560"/>
            <a:ext cx="1410840" cy="526680"/>
            <a:chOff x="2795760" y="1033560"/>
            <a:chExt cx="1410840" cy="526680"/>
          </a:xfrm>
        </p:grpSpPr>
        <p:sp>
          <p:nvSpPr>
            <p:cNvPr id="2239" name=""/>
            <p:cNvSpPr/>
            <p:nvPr/>
          </p:nvSpPr>
          <p:spPr>
            <a:xfrm>
              <a:off x="2808720" y="103356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95760" y="103824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264960" y="1074600"/>
            <a:ext cx="3070080" cy="569520"/>
            <a:chOff x="264960" y="1074600"/>
            <a:chExt cx="3070080" cy="569520"/>
          </a:xfrm>
        </p:grpSpPr>
        <p:sp>
          <p:nvSpPr>
            <p:cNvPr id="2242" name=""/>
            <p:cNvSpPr/>
            <p:nvPr/>
          </p:nvSpPr>
          <p:spPr>
            <a:xfrm>
              <a:off x="280440" y="107460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64960" y="10796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1611360" y="3395520"/>
            <a:ext cx="5776920" cy="3202200"/>
            <a:chOff x="1611360" y="3395520"/>
            <a:chExt cx="5776920" cy="3202200"/>
          </a:xfrm>
        </p:grpSpPr>
        <p:sp>
          <p:nvSpPr>
            <p:cNvPr id="2245" name=""/>
            <p:cNvSpPr/>
            <p:nvPr/>
          </p:nvSpPr>
          <p:spPr>
            <a:xfrm>
              <a:off x="1611360" y="3395520"/>
              <a:ext cx="5776920" cy="320220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775160" y="3411720"/>
              <a:ext cx="460044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int y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void</a:t>
              </a:r>
              <a:r>
                <a:rPr b="0" i="1" lang="pt-BR" sz="16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main()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inicio da função main*/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y=5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fun(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printf(“Na funcao main, y=%d\n”,y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término da função main*/</a:t>
              </a:r>
              <a:r>
                <a:rPr b="1" i="1" lang="pt-PT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fun()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{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inicio da função func*/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y=15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printf(“Na funcao func, y=%d\n”,y);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} </a:t>
              </a: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i="1" lang="pt-PT" sz="1600" spc="-1" strike="noStrike">
                  <a:solidFill>
                    <a:srgbClr val="ffff99"/>
                  </a:solidFill>
                  <a:latin typeface="Arial"/>
                </a:rPr>
                <a:t>/* término da função func*/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5110560" y="3517920"/>
            <a:ext cx="1879920" cy="3013200"/>
            <a:chOff x="5110560" y="3517920"/>
            <a:chExt cx="1879920" cy="3013200"/>
          </a:xfrm>
        </p:grpSpPr>
        <p:sp>
          <p:nvSpPr>
            <p:cNvPr id="2248" name=""/>
            <p:cNvSpPr/>
            <p:nvPr/>
          </p:nvSpPr>
          <p:spPr>
            <a:xfrm>
              <a:off x="5110560" y="3517920"/>
              <a:ext cx="1875600" cy="300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ffffff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15600" y="3528000"/>
              <a:ext cx="1874880" cy="300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08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082201"/>
                </a:path>
              </a:pathLst>
            </a:custGeom>
            <a:noFill/>
            <a:ln w="28440">
              <a:solidFill>
                <a:srgbClr val="e2a702"/>
              </a:solidFill>
              <a:miter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58800" y="1508040"/>
            <a:ext cx="810108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Variáveis declaradas </a:t>
            </a:r>
            <a:r>
              <a:rPr b="0" lang="pt-BR" sz="2200" spc="-1" strike="noStrike" u="sng">
                <a:solidFill>
                  <a:srgbClr val="ffffff"/>
                </a:solidFill>
                <a:uFillTx/>
                <a:latin typeface="Arial"/>
              </a:rPr>
              <a:t>fora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de uma função.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Valor acessível (visível)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0" lang="pt-PT" sz="2200" spc="-1" strike="noStrike" u="sng">
                <a:solidFill>
                  <a:srgbClr val="ffffcc"/>
                </a:solidFill>
                <a:uFillTx/>
                <a:latin typeface="Arial"/>
              </a:rPr>
              <a:t>todas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 as funções do módulo no qual ocorre sua definição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Jester"/>
              </a:rPr>
              <a:t> </a:t>
            </a:r>
            <a:r>
              <a:rPr b="0" lang="pt-PT" sz="2200" spc="-1" strike="noStrike">
                <a:solidFill>
                  <a:srgbClr val="ffffcc"/>
                </a:solidFill>
                <a:latin typeface="Arial"/>
              </a:rPr>
              <a:t>Variáveis com este atributo serão conhecidas por todas as funções declaradas depois delas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PT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D8A3-472D-4BBB-AD1B-B89DB327A9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5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2028960" y="544680"/>
            <a:ext cx="5766840" cy="758160"/>
            <a:chOff x="2028960" y="544680"/>
            <a:chExt cx="5766840" cy="758160"/>
          </a:xfrm>
        </p:grpSpPr>
        <p:sp>
          <p:nvSpPr>
            <p:cNvPr id="2255" name=""/>
            <p:cNvSpPr/>
            <p:nvPr/>
          </p:nvSpPr>
          <p:spPr>
            <a:xfrm>
              <a:off x="2044800" y="54468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028960" y="5634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2700360" y="1138320"/>
            <a:ext cx="1410840" cy="526680"/>
            <a:chOff x="2700360" y="1138320"/>
            <a:chExt cx="1410840" cy="526680"/>
          </a:xfrm>
        </p:grpSpPr>
        <p:sp>
          <p:nvSpPr>
            <p:cNvPr id="2258" name=""/>
            <p:cNvSpPr/>
            <p:nvPr/>
          </p:nvSpPr>
          <p:spPr>
            <a:xfrm>
              <a:off x="2713320" y="113832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700360" y="114300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extern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264960" y="1144440"/>
            <a:ext cx="3070080" cy="569880"/>
            <a:chOff x="264960" y="1144440"/>
            <a:chExt cx="3070080" cy="569880"/>
          </a:xfrm>
        </p:grpSpPr>
        <p:sp>
          <p:nvSpPr>
            <p:cNvPr id="2261" name=""/>
            <p:cNvSpPr/>
            <p:nvPr/>
          </p:nvSpPr>
          <p:spPr>
            <a:xfrm>
              <a:off x="280440" y="1144440"/>
              <a:ext cx="305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xtern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64960" y="1149480"/>
              <a:ext cx="305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2938320" y="1873080"/>
            <a:ext cx="4353120" cy="4464360"/>
          </a:xfrm>
          <a:prstGeom prst="rect">
            <a:avLst/>
          </a:prstGeom>
          <a:gradFill rotWithShape="0">
            <a:gsLst>
              <a:gs pos="0">
                <a:srgbClr val="001f3e"/>
              </a:gs>
              <a:gs pos="100000">
                <a:srgbClr val="001f3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4" name=""/>
          <p:cNvSpPr/>
          <p:nvPr/>
        </p:nvSpPr>
        <p:spPr>
          <a:xfrm>
            <a:off x="3336840" y="1932120"/>
            <a:ext cx="346572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int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xtern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Digite teclanum: 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scanf("%d", &amp;teclanum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arimpar(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arimpar(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xtern teclanum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if(teclanum % 2)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teclanum eh impar\n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printf("teclanum eh par\n"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5" name=""/>
          <p:cNvSpPr/>
          <p:nvPr/>
        </p:nvSpPr>
        <p:spPr>
          <a:xfrm>
            <a:off x="676440" y="250524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3F4A-3B64-451B-8180-C5E6474220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270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3021120" y="1687680"/>
            <a:ext cx="1410840" cy="526680"/>
            <a:chOff x="3021120" y="1687680"/>
            <a:chExt cx="1410840" cy="526680"/>
          </a:xfrm>
        </p:grpSpPr>
        <p:sp>
          <p:nvSpPr>
            <p:cNvPr id="2273" name=""/>
            <p:cNvSpPr/>
            <p:nvPr/>
          </p:nvSpPr>
          <p:spPr>
            <a:xfrm>
              <a:off x="3034080" y="168768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021120" y="169236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628560" y="2516040"/>
            <a:ext cx="1978200" cy="574560"/>
            <a:chOff x="628560" y="2516040"/>
            <a:chExt cx="1978200" cy="574560"/>
          </a:xfrm>
        </p:grpSpPr>
        <p:sp>
          <p:nvSpPr>
            <p:cNvPr id="2276" name=""/>
            <p:cNvSpPr/>
            <p:nvPr/>
          </p:nvSpPr>
          <p:spPr>
            <a:xfrm>
              <a:off x="632160" y="251604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28560" y="252576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1042920" y="3273480"/>
            <a:ext cx="6527520" cy="511200"/>
            <a:chOff x="1042920" y="3273480"/>
            <a:chExt cx="6527520" cy="511200"/>
          </a:xfrm>
        </p:grpSpPr>
        <p:sp>
          <p:nvSpPr>
            <p:cNvPr id="2279" name=""/>
            <p:cNvSpPr/>
            <p:nvPr/>
          </p:nvSpPr>
          <p:spPr>
            <a:xfrm>
              <a:off x="1051200" y="3273480"/>
              <a:ext cx="65192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eclarada dentro de uma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042920" y="3281400"/>
              <a:ext cx="65192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clarada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entro 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 uma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1042920" y="3875040"/>
            <a:ext cx="8585280" cy="511200"/>
            <a:chOff x="1042920" y="3875040"/>
            <a:chExt cx="8585280" cy="511200"/>
          </a:xfrm>
        </p:grpSpPr>
        <p:sp>
          <p:nvSpPr>
            <p:cNvPr id="2282" name=""/>
            <p:cNvSpPr/>
            <p:nvPr/>
          </p:nvSpPr>
          <p:spPr>
            <a:xfrm>
              <a:off x="1054080" y="387504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mória alocada em tempo de compil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042920" y="388296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Memória alocada em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tempo de compila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1050840" y="4545000"/>
            <a:ext cx="7766280" cy="511200"/>
            <a:chOff x="1050840" y="4545000"/>
            <a:chExt cx="7766280" cy="511200"/>
          </a:xfrm>
        </p:grpSpPr>
        <p:sp>
          <p:nvSpPr>
            <p:cNvPr id="2285" name=""/>
            <p:cNvSpPr/>
            <p:nvPr/>
          </p:nvSpPr>
          <p:spPr>
            <a:xfrm>
              <a:off x="1060920" y="454500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o término do processamento da função, o conteúdo é mantido (novas chamadas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050840" y="455292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Ao término do processamento da função, o conteúdo é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mantid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(novas chamadas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264960" y="1727280"/>
            <a:ext cx="3070080" cy="569520"/>
            <a:chOff x="264960" y="1727280"/>
            <a:chExt cx="3070080" cy="569520"/>
          </a:xfrm>
        </p:grpSpPr>
        <p:sp>
          <p:nvSpPr>
            <p:cNvPr id="2288" name=""/>
            <p:cNvSpPr/>
            <p:nvPr/>
          </p:nvSpPr>
          <p:spPr>
            <a:xfrm>
              <a:off x="280440" y="172728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fcc66"/>
                  </a:solidFill>
                  <a:latin typeface="Penguin"/>
                </a:rPr>
                <a:t>E</a:t>
              </a:r>
              <a:r>
                <a:rPr b="1" lang="en-US" sz="2800" spc="-1" strike="noStrike">
                  <a:solidFill>
                    <a:srgbClr val="ffcc66"/>
                  </a:solidFill>
                  <a:latin typeface="Penguin"/>
                </a:rPr>
                <a:t>státic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64960" y="173232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E09C-F45C-46C2-A435-678614D9E8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0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291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2028960" y="579600"/>
            <a:ext cx="5766840" cy="758160"/>
            <a:chOff x="2028960" y="579600"/>
            <a:chExt cx="5766840" cy="758160"/>
          </a:xfrm>
        </p:grpSpPr>
        <p:sp>
          <p:nvSpPr>
            <p:cNvPr id="2294" name=""/>
            <p:cNvSpPr/>
            <p:nvPr/>
          </p:nvSpPr>
          <p:spPr>
            <a:xfrm>
              <a:off x="2044800" y="57960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028960" y="598320"/>
              <a:ext cx="5751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3359160" y="2411280"/>
            <a:ext cx="3402000" cy="3527640"/>
          </a:xfrm>
          <a:prstGeom prst="rect">
            <a:avLst/>
          </a:prstGeom>
          <a:gradFill rotWithShape="0">
            <a:gsLst>
              <a:gs pos="0">
                <a:srgbClr val="001f3e"/>
              </a:gs>
              <a:gs pos="100000">
                <a:srgbClr val="001f3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7" name=""/>
          <p:cNvSpPr/>
          <p:nvPr/>
        </p:nvSpPr>
        <p:spPr>
          <a:xfrm>
            <a:off x="3794040" y="2575080"/>
            <a:ext cx="2970360" cy="33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oma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static int i=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printf("i = %d\n",i++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9072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8" name=""/>
          <p:cNvSpPr/>
          <p:nvPr/>
        </p:nvSpPr>
        <p:spPr>
          <a:xfrm>
            <a:off x="652320" y="331308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3021120" y="1295280"/>
            <a:ext cx="1410840" cy="526680"/>
            <a:chOff x="3021120" y="1295280"/>
            <a:chExt cx="1410840" cy="526680"/>
          </a:xfrm>
        </p:grpSpPr>
        <p:sp>
          <p:nvSpPr>
            <p:cNvPr id="2300" name=""/>
            <p:cNvSpPr/>
            <p:nvPr/>
          </p:nvSpPr>
          <p:spPr>
            <a:xfrm>
              <a:off x="3034080" y="129528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21120" y="129996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258840" y="1312920"/>
            <a:ext cx="3069720" cy="569520"/>
            <a:chOff x="258840" y="1312920"/>
            <a:chExt cx="3069720" cy="569520"/>
          </a:xfrm>
        </p:grpSpPr>
        <p:sp>
          <p:nvSpPr>
            <p:cNvPr id="2303" name=""/>
            <p:cNvSpPr/>
            <p:nvPr/>
          </p:nvSpPr>
          <p:spPr>
            <a:xfrm>
              <a:off x="274320" y="131292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8840" y="1317960"/>
              <a:ext cx="3054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628560" y="2136600"/>
            <a:ext cx="1978200" cy="574560"/>
            <a:chOff x="628560" y="2136600"/>
            <a:chExt cx="1978200" cy="574560"/>
          </a:xfrm>
        </p:grpSpPr>
        <p:sp>
          <p:nvSpPr>
            <p:cNvPr id="2306" name=""/>
            <p:cNvSpPr/>
            <p:nvPr/>
          </p:nvSpPr>
          <p:spPr>
            <a:xfrm>
              <a:off x="632160" y="213660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28560" y="2146320"/>
              <a:ext cx="197460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Loc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5892-4901-46B2-ABAA-7383DB3F51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8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09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312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3198960" y="1741320"/>
            <a:ext cx="1410840" cy="526680"/>
            <a:chOff x="3198960" y="1741320"/>
            <a:chExt cx="1410840" cy="526680"/>
          </a:xfrm>
        </p:grpSpPr>
        <p:sp>
          <p:nvSpPr>
            <p:cNvPr id="2315" name=""/>
            <p:cNvSpPr/>
            <p:nvPr/>
          </p:nvSpPr>
          <p:spPr>
            <a:xfrm>
              <a:off x="3211920" y="1741320"/>
              <a:ext cx="1397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stati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98960" y="1746000"/>
              <a:ext cx="1398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7" name=""/>
          <p:cNvGrpSpPr/>
          <p:nvPr/>
        </p:nvGrpSpPr>
        <p:grpSpPr>
          <a:xfrm>
            <a:off x="241200" y="1738440"/>
            <a:ext cx="3070080" cy="569520"/>
            <a:chOff x="241200" y="1738440"/>
            <a:chExt cx="3070080" cy="569520"/>
          </a:xfrm>
        </p:grpSpPr>
        <p:sp>
          <p:nvSpPr>
            <p:cNvPr id="2318" name=""/>
            <p:cNvSpPr/>
            <p:nvPr/>
          </p:nvSpPr>
          <p:spPr>
            <a:xfrm>
              <a:off x="256680" y="17384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41200" y="174348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Estátic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0" name=""/>
          <p:cNvGrpSpPr/>
          <p:nvPr/>
        </p:nvGrpSpPr>
        <p:grpSpPr>
          <a:xfrm>
            <a:off x="1035000" y="3346560"/>
            <a:ext cx="8585280" cy="511200"/>
            <a:chOff x="1035000" y="3346560"/>
            <a:chExt cx="8585280" cy="511200"/>
          </a:xfrm>
        </p:grpSpPr>
        <p:sp>
          <p:nvSpPr>
            <p:cNvPr id="2321" name=""/>
            <p:cNvSpPr/>
            <p:nvPr/>
          </p:nvSpPr>
          <p:spPr>
            <a:xfrm>
              <a:off x="1046160" y="334656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035000" y="335448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eclarada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or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de qualquer funç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4560" y="2584440"/>
            <a:ext cx="1996920" cy="574560"/>
            <a:chOff x="574560" y="2584440"/>
            <a:chExt cx="1996920" cy="574560"/>
          </a:xfrm>
        </p:grpSpPr>
        <p:sp>
          <p:nvSpPr>
            <p:cNvPr id="2324" name=""/>
            <p:cNvSpPr/>
            <p:nvPr/>
          </p:nvSpPr>
          <p:spPr>
            <a:xfrm>
              <a:off x="596880" y="2584440"/>
              <a:ext cx="19746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Penguin"/>
                </a:rPr>
                <a:t>Glob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74560" y="2593800"/>
              <a:ext cx="19749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 algn="just">
                <a:lnSpc>
                  <a:spcPct val="100000"/>
                </a:lnSpc>
                <a:spcBef>
                  <a:spcPts val="700"/>
                </a:spcBef>
                <a:buClr>
                  <a:srgbClr val="ffff99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99"/>
                  </a:solidFill>
                  <a:latin typeface="Penguin"/>
                </a:rPr>
                <a:t>Global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1035000" y="4041720"/>
            <a:ext cx="8585280" cy="511200"/>
            <a:chOff x="1035000" y="4041720"/>
            <a:chExt cx="8585280" cy="511200"/>
          </a:xfrm>
        </p:grpSpPr>
        <p:sp>
          <p:nvSpPr>
            <p:cNvPr id="2327" name=""/>
            <p:cNvSpPr/>
            <p:nvPr/>
          </p:nvSpPr>
          <p:spPr>
            <a:xfrm>
              <a:off x="1046160" y="404172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Visíve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penas n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35000" y="4049640"/>
              <a:ext cx="8574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Visíve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penas n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042920" y="4772160"/>
            <a:ext cx="7766280" cy="511200"/>
            <a:chOff x="1042920" y="4772160"/>
            <a:chExt cx="7766280" cy="511200"/>
          </a:xfrm>
        </p:grpSpPr>
        <p:sp>
          <p:nvSpPr>
            <p:cNvPr id="2330" name=""/>
            <p:cNvSpPr/>
            <p:nvPr/>
          </p:nvSpPr>
          <p:spPr>
            <a:xfrm>
              <a:off x="1053000" y="477216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acessível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a outros módulos posteriormente integrados a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042920" y="4780080"/>
              <a:ext cx="7756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 marL="275400" indent="-2754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Inacessível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a outros módulos posteriormente integrados ao arquivo no qual foi definid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B03D-E359-4366-86D6-F3331BAD41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3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1708200" y="698400"/>
            <a:ext cx="5766840" cy="758880"/>
            <a:chOff x="1708200" y="698400"/>
            <a:chExt cx="5766840" cy="758880"/>
          </a:xfrm>
        </p:grpSpPr>
        <p:sp>
          <p:nvSpPr>
            <p:cNvPr id="2336" name=""/>
            <p:cNvSpPr/>
            <p:nvPr/>
          </p:nvSpPr>
          <p:spPr>
            <a:xfrm>
              <a:off x="1724040" y="6984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708200" y="7174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3392640" y="1494000"/>
            <a:ext cx="1601280" cy="526680"/>
            <a:chOff x="3392640" y="1494000"/>
            <a:chExt cx="1601280" cy="526680"/>
          </a:xfrm>
        </p:grpSpPr>
        <p:sp>
          <p:nvSpPr>
            <p:cNvPr id="2339" name=""/>
            <p:cNvSpPr/>
            <p:nvPr/>
          </p:nvSpPr>
          <p:spPr>
            <a:xfrm>
              <a:off x="3407400" y="1494000"/>
              <a:ext cx="15865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392640" y="1498680"/>
              <a:ext cx="158688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241200" y="1492200"/>
            <a:ext cx="3070080" cy="569520"/>
            <a:chOff x="241200" y="1492200"/>
            <a:chExt cx="3070080" cy="569520"/>
          </a:xfrm>
        </p:grpSpPr>
        <p:sp>
          <p:nvSpPr>
            <p:cNvPr id="2342" name=""/>
            <p:cNvSpPr/>
            <p:nvPr/>
          </p:nvSpPr>
          <p:spPr>
            <a:xfrm>
              <a:off x="256680" y="149220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Registrador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41200" y="1497240"/>
              <a:ext cx="30546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Registrador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635040" y="2313000"/>
            <a:ext cx="8222760" cy="815760"/>
            <a:chOff x="635040" y="2313000"/>
            <a:chExt cx="8222760" cy="815760"/>
          </a:xfrm>
        </p:grpSpPr>
        <p:sp>
          <p:nvSpPr>
            <p:cNvPr id="2345" name=""/>
            <p:cNvSpPr/>
            <p:nvPr/>
          </p:nvSpPr>
          <p:spPr>
            <a:xfrm>
              <a:off x="645480" y="2313000"/>
              <a:ext cx="82123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dicação ao compilador que seu conteúdo é utilizado com muita freqüênci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35040" y="2325600"/>
              <a:ext cx="82123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Indicação ao compilador que seu conteúdo é utilizado com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muit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freqüência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635040" y="3292560"/>
            <a:ext cx="8222760" cy="511200"/>
            <a:chOff x="635040" y="3292560"/>
            <a:chExt cx="8222760" cy="511200"/>
          </a:xfrm>
        </p:grpSpPr>
        <p:sp>
          <p:nvSpPr>
            <p:cNvPr id="2348" name=""/>
            <p:cNvSpPr/>
            <p:nvPr/>
          </p:nvSpPr>
          <p:spPr>
            <a:xfrm>
              <a:off x="645480" y="3292560"/>
              <a:ext cx="8212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342000" indent="-34200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locação de um registrador da CPU para processamento da variáve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35040" y="3300480"/>
              <a:ext cx="8212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342000" indent="-3420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Alocação de um registrador da CPU para processamento da variáve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642960" y="4348080"/>
            <a:ext cx="7765920" cy="948600"/>
            <a:chOff x="642960" y="4348080"/>
            <a:chExt cx="7765920" cy="948600"/>
          </a:xfrm>
        </p:grpSpPr>
        <p:sp>
          <p:nvSpPr>
            <p:cNvPr id="2351" name=""/>
            <p:cNvSpPr/>
            <p:nvPr/>
          </p:nvSpPr>
          <p:spPr>
            <a:xfrm>
              <a:off x="653040" y="4348080"/>
              <a:ext cx="7755840" cy="9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Regras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42960" y="4362480"/>
              <a:ext cx="7755840" cy="9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-44460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Regras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933480" y="4898880"/>
            <a:ext cx="7980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 variável tem que ser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automátic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tipo da variável tem que caber (bits) no registrad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Se aplicam apenas às variáveis do tipo int e ch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D039-2BE1-4979-80EF-CE1836E64F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4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55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157320" y="2079720"/>
            <a:ext cx="2212560" cy="569520"/>
            <a:chOff x="157320" y="2079720"/>
            <a:chExt cx="2212560" cy="569520"/>
          </a:xfrm>
        </p:grpSpPr>
        <p:sp>
          <p:nvSpPr>
            <p:cNvPr id="2358" name=""/>
            <p:cNvSpPr/>
            <p:nvPr/>
          </p:nvSpPr>
          <p:spPr>
            <a:xfrm>
              <a:off x="168480" y="2079720"/>
              <a:ext cx="2201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000000"/>
                  </a:solidFill>
                  <a:latin typeface="Penguin"/>
                </a:rPr>
                <a:t>Exempl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57320" y="2084760"/>
              <a:ext cx="2201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fde503"/>
                  </a:solidFill>
                  <a:latin typeface="Penguin"/>
                </a:rPr>
                <a:t>Exemplo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2179800" y="1255680"/>
            <a:ext cx="6786000" cy="5295600"/>
            <a:chOff x="2179800" y="1255680"/>
            <a:chExt cx="6786000" cy="5295600"/>
          </a:xfrm>
        </p:grpSpPr>
        <p:sp>
          <p:nvSpPr>
            <p:cNvPr id="2361" name=""/>
            <p:cNvSpPr/>
            <p:nvPr/>
          </p:nvSpPr>
          <p:spPr>
            <a:xfrm>
              <a:off x="2179800" y="1255680"/>
              <a:ext cx="6786000" cy="5295600"/>
            </a:xfrm>
            <a:prstGeom prst="rect">
              <a:avLst/>
            </a:prstGeom>
            <a:gradFill rotWithShape="0">
              <a:gsLst>
                <a:gs pos="0">
                  <a:srgbClr val="001f3e"/>
                </a:gs>
                <a:gs pos="100000">
                  <a:srgbClr val="001f3e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322360" y="1278000"/>
              <a:ext cx="6500880" cy="48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main(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int i,j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register int m,n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long t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t=time(0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j=0;j &lt;=100000;j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i=0;i &lt;=10000;i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printf("Tempo dos laços sem register: %ld\n",time(0)-t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t=time(0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m=0;m &lt;=100000;m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for(n=0;n &lt;=10000;n++)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         </a:t>
              </a: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printf("Tempo dos laços com register: %ld\n",time(0)-t);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12120" indent="-31212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9072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800" spc="-1" strike="noStrike">
                  <a:solidFill>
                    <a:srgbClr val="ffff99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1708200" y="592200"/>
            <a:ext cx="5766840" cy="758880"/>
            <a:chOff x="1708200" y="592200"/>
            <a:chExt cx="5766840" cy="758880"/>
          </a:xfrm>
        </p:grpSpPr>
        <p:sp>
          <p:nvSpPr>
            <p:cNvPr id="2364" name=""/>
            <p:cNvSpPr/>
            <p:nvPr/>
          </p:nvSpPr>
          <p:spPr>
            <a:xfrm>
              <a:off x="1724040" y="59220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44680" indent="-5446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708200" y="611280"/>
              <a:ext cx="5751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441000" indent="-4410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de503"/>
                  </a:solidFill>
                  <a:latin typeface="Penguin"/>
                </a:rPr>
                <a:t>Classes de Armazenamento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ED5B-1806-4428-9C5B-C1377DC161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6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370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1666800" y="4249800"/>
            <a:ext cx="3397320" cy="1892160"/>
            <a:chOff x="1666800" y="4249800"/>
            <a:chExt cx="3397320" cy="1892160"/>
          </a:xfrm>
        </p:grpSpPr>
        <p:sp>
          <p:nvSpPr>
            <p:cNvPr id="2373" name=""/>
            <p:cNvSpPr/>
            <p:nvPr/>
          </p:nvSpPr>
          <p:spPr>
            <a:xfrm>
              <a:off x="1666800" y="4249800"/>
              <a:ext cx="3397320" cy="1892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, se n==0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!=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n(n-1)!, se n&gt;0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693880" y="4483080"/>
              <a:ext cx="265320" cy="1406160"/>
            </a:xfrm>
            <a:custGeom>
              <a:avLst/>
              <a:gdLst>
                <a:gd name="textAreaLeft" fmla="*/ 169560 w 265320"/>
                <a:gd name="textAreaRight" fmla="*/ 265680 w 265320"/>
                <a:gd name="textAreaTop" fmla="*/ 36360 h 1406160"/>
                <a:gd name="textAreaBottom" fmla="*/ 1369800 h 14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9080" y="2408400"/>
            <a:ext cx="8086680" cy="838080"/>
            <a:chOff x="289080" y="2408400"/>
            <a:chExt cx="8086680" cy="838080"/>
          </a:xfrm>
        </p:grpSpPr>
        <p:sp>
          <p:nvSpPr>
            <p:cNvPr id="2376" name=""/>
            <p:cNvSpPr/>
            <p:nvPr/>
          </p:nvSpPr>
          <p:spPr>
            <a:xfrm>
              <a:off x="289080" y="2408400"/>
              <a:ext cx="807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338120" indent="-4442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Definição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são funções que fazem chamadas a si mesma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98440" y="242100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338120" indent="-44424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finição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: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são funções que fazem chamadas a si mesma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71440" y="3411360"/>
            <a:ext cx="8094600" cy="436680"/>
            <a:chOff x="271440" y="3411360"/>
            <a:chExt cx="8094600" cy="436680"/>
          </a:xfrm>
        </p:grpSpPr>
        <p:sp>
          <p:nvSpPr>
            <p:cNvPr id="2379" name=""/>
            <p:cNvSpPr/>
            <p:nvPr/>
          </p:nvSpPr>
          <p:spPr>
            <a:xfrm>
              <a:off x="289080" y="3411360"/>
              <a:ext cx="8076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lvl="1" marL="1204200" indent="-3996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xemplo: FATORI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71440" y="3423960"/>
              <a:ext cx="807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lvl="1" marL="1204200" indent="-39960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xemplo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FATORIAL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446040" y="1627200"/>
            <a:ext cx="8094600" cy="727200"/>
            <a:chOff x="446040" y="1627200"/>
            <a:chExt cx="8094600" cy="727200"/>
          </a:xfrm>
        </p:grpSpPr>
        <p:sp>
          <p:nvSpPr>
            <p:cNvPr id="2382" name=""/>
            <p:cNvSpPr/>
            <p:nvPr/>
          </p:nvSpPr>
          <p:spPr>
            <a:xfrm>
              <a:off x="463680" y="1627200"/>
              <a:ext cx="8076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4240" indent="-7142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6040" y="1639800"/>
              <a:ext cx="8077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714240" indent="-714240">
                <a:lnSpc>
                  <a:spcPct val="100000"/>
                </a:lnSpc>
                <a:spcBef>
                  <a:spcPts val="799"/>
                </a:spcBef>
                <a:buClr>
                  <a:srgbClr val="ffcc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fcc00"/>
                  </a:solidFill>
                  <a:latin typeface="Penguin"/>
                </a:rPr>
                <a:t>Funções Recursivas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271E-C13C-4FE4-8FB6-CD470474E2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243000" y="1827360"/>
            <a:ext cx="2377800" cy="2941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loco A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7" name=""/>
          <p:cNvSpPr/>
          <p:nvPr/>
        </p:nvSpPr>
        <p:spPr>
          <a:xfrm>
            <a:off x="868320" y="2622600"/>
            <a:ext cx="1463760" cy="838080"/>
          </a:xfrm>
          <a:prstGeom prst="rect">
            <a:avLst/>
          </a:prstGeom>
          <a:gradFill rotWithShape="0">
            <a:gsLst>
              <a:gs pos="0">
                <a:srgbClr val="ddd7ff"/>
              </a:gs>
              <a:gs pos="100000">
                <a:srgbClr val="ddd7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loco 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8" name=""/>
          <p:cNvSpPr/>
          <p:nvPr/>
        </p:nvSpPr>
        <p:spPr>
          <a:xfrm>
            <a:off x="868320" y="3624120"/>
            <a:ext cx="1463760" cy="838440"/>
          </a:xfrm>
          <a:prstGeom prst="rect">
            <a:avLst/>
          </a:prstGeom>
          <a:gradFill rotWithShape="0">
            <a:gsLst>
              <a:gs pos="0">
                <a:srgbClr val="bdd0ff"/>
              </a:gs>
              <a:gs pos="100000">
                <a:srgbClr val="bdd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loco 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00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03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805120" y="1544760"/>
            <a:ext cx="6056280" cy="2009520"/>
            <a:chOff x="2805120" y="1544760"/>
            <a:chExt cx="6056280" cy="2009520"/>
          </a:xfrm>
        </p:grpSpPr>
        <p:sp>
          <p:nvSpPr>
            <p:cNvPr id="1806" name=""/>
            <p:cNvSpPr/>
            <p:nvPr/>
          </p:nvSpPr>
          <p:spPr>
            <a:xfrm>
              <a:off x="2827080" y="1544760"/>
              <a:ext cx="603432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Decomposição de tarefas computacionais extensas em tarefas menores.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805120" y="1557360"/>
              <a:ext cx="603396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Propósit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9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Decomposição de tarefas computacionais extensas em tarefas menores.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2814480" y="3700440"/>
            <a:ext cx="6048360" cy="1630440"/>
            <a:chOff x="2814480" y="3700440"/>
            <a:chExt cx="6048360" cy="1630440"/>
          </a:xfrm>
        </p:grpSpPr>
        <p:sp>
          <p:nvSpPr>
            <p:cNvPr id="1809" name=""/>
            <p:cNvSpPr/>
            <p:nvPr/>
          </p:nvSpPr>
          <p:spPr>
            <a:xfrm>
              <a:off x="2827440" y="3700440"/>
              <a:ext cx="603540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Definição 1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64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são 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blocos</a:t>
              </a: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 de programa com início e fim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814480" y="3714840"/>
              <a:ext cx="603576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901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Definição 1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64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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fcbb04"/>
                  </a:solidFill>
                  <a:latin typeface="Arial"/>
                </a:rPr>
                <a:t>Funções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são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blocos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de programa com início e fim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2789280" y="5448240"/>
            <a:ext cx="6051600" cy="905040"/>
            <a:chOff x="2789280" y="5448240"/>
            <a:chExt cx="6051600" cy="905040"/>
          </a:xfrm>
        </p:grpSpPr>
        <p:sp>
          <p:nvSpPr>
            <p:cNvPr id="1812" name=""/>
            <p:cNvSpPr/>
            <p:nvPr/>
          </p:nvSpPr>
          <p:spPr>
            <a:xfrm>
              <a:off x="2805120" y="5448240"/>
              <a:ext cx="60357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000000"/>
                  </a:solidFill>
                  <a:latin typeface="Penguin"/>
                </a:rPr>
                <a:t>C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permite aninhamento de bloco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Delimitadores de blocos: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 Black"/>
                </a:rPr>
                <a:t>{ }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789280" y="5462640"/>
              <a:ext cx="60357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fcbb04"/>
                  </a:solidFill>
                  <a:latin typeface="Penguin"/>
                </a:rPr>
                <a:t>C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permite aninhamento de bloco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Arial"/>
                </a:rPr>
                <a:t>Delimitadores de blocos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fcbb04"/>
                  </a:solidFill>
                  <a:latin typeface="Arial Black"/>
                </a:rPr>
                <a:t>{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pt-PT" sz="2800" spc="-1" strike="noStrike">
                  <a:solidFill>
                    <a:srgbClr val="fcbb04"/>
                  </a:solidFill>
                  <a:latin typeface="Arial Black"/>
                </a:rPr>
                <a:t>}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EEBA-60FC-42F8-9783-C337C623AB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4" name=""/>
          <p:cNvGrpSpPr/>
          <p:nvPr/>
        </p:nvGrpSpPr>
        <p:grpSpPr>
          <a:xfrm>
            <a:off x="4940280" y="2422440"/>
            <a:ext cx="3970440" cy="3508560"/>
            <a:chOff x="4940280" y="2422440"/>
            <a:chExt cx="3970440" cy="3508560"/>
          </a:xfrm>
        </p:grpSpPr>
        <p:sp>
          <p:nvSpPr>
            <p:cNvPr id="2385" name=""/>
            <p:cNvSpPr/>
            <p:nvPr/>
          </p:nvSpPr>
          <p:spPr>
            <a:xfrm>
              <a:off x="4940280" y="2422440"/>
              <a:ext cx="3911760" cy="350856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dcb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24520" y="2536920"/>
              <a:ext cx="38862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Fat(int n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f (n==0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1;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else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n*Fat(n-1)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388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3505320" y="785880"/>
            <a:ext cx="2131560" cy="445680"/>
            <a:chOff x="3505320" y="785880"/>
            <a:chExt cx="2131560" cy="445680"/>
          </a:xfrm>
        </p:grpSpPr>
        <p:sp>
          <p:nvSpPr>
            <p:cNvPr id="2391" name=""/>
            <p:cNvSpPr/>
            <p:nvPr/>
          </p:nvSpPr>
          <p:spPr>
            <a:xfrm>
              <a:off x="3527280" y="7858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3505320" y="7970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339840" y="2422440"/>
            <a:ext cx="3911400" cy="3799080"/>
            <a:chOff x="339840" y="2422440"/>
            <a:chExt cx="3911400" cy="3799080"/>
          </a:xfrm>
        </p:grpSpPr>
        <p:sp>
          <p:nvSpPr>
            <p:cNvPr id="2394" name=""/>
            <p:cNvSpPr/>
            <p:nvPr/>
          </p:nvSpPr>
          <p:spPr>
            <a:xfrm>
              <a:off x="339840" y="2422440"/>
              <a:ext cx="3911400" cy="3799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12560" y="2490840"/>
              <a:ext cx="3733560" cy="35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Fat(int n)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int i, res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s = 1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for (i=1; i&lt;=n; i++)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s *= i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return res; 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382680" y="1573200"/>
            <a:ext cx="3817800" cy="600480"/>
            <a:chOff x="382680" y="1573200"/>
            <a:chExt cx="3817800" cy="600480"/>
          </a:xfrm>
        </p:grpSpPr>
        <p:sp>
          <p:nvSpPr>
            <p:cNvPr id="2397" name=""/>
            <p:cNvSpPr/>
            <p:nvPr/>
          </p:nvSpPr>
          <p:spPr>
            <a:xfrm>
              <a:off x="390600" y="157320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Penguin"/>
                </a:rPr>
                <a:t>Solução Iterat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2680" y="15922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00"/>
                  </a:solidFill>
                  <a:latin typeface="Penguin"/>
                </a:rPr>
                <a:t>Solução Iterat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4740120" y="1573200"/>
            <a:ext cx="4364280" cy="701640"/>
            <a:chOff x="4740120" y="1573200"/>
            <a:chExt cx="4364280" cy="701640"/>
          </a:xfrm>
        </p:grpSpPr>
        <p:sp>
          <p:nvSpPr>
            <p:cNvPr id="2400" name=""/>
            <p:cNvSpPr/>
            <p:nvPr/>
          </p:nvSpPr>
          <p:spPr>
            <a:xfrm>
              <a:off x="4748040" y="1573200"/>
              <a:ext cx="435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0120" y="1592280"/>
              <a:ext cx="435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ffcc00"/>
                  </a:solidFill>
                  <a:latin typeface="Penguin"/>
                </a:rPr>
                <a:t>Solução Recursiva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D36D-76DE-45CF-90C0-110C436110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2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2403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3505320" y="641520"/>
            <a:ext cx="2131560" cy="445680"/>
            <a:chOff x="3505320" y="641520"/>
            <a:chExt cx="2131560" cy="445680"/>
          </a:xfrm>
        </p:grpSpPr>
        <p:sp>
          <p:nvSpPr>
            <p:cNvPr id="2406" name=""/>
            <p:cNvSpPr/>
            <p:nvPr/>
          </p:nvSpPr>
          <p:spPr>
            <a:xfrm>
              <a:off x="3527280" y="64152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505320" y="65268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372960" y="4191120"/>
            <a:ext cx="8469360" cy="1347840"/>
            <a:chOff x="372960" y="4191120"/>
            <a:chExt cx="8469360" cy="1347840"/>
          </a:xfrm>
        </p:grpSpPr>
        <p:sp>
          <p:nvSpPr>
            <p:cNvPr id="2409" name=""/>
            <p:cNvSpPr/>
            <p:nvPr/>
          </p:nvSpPr>
          <p:spPr>
            <a:xfrm>
              <a:off x="382320" y="4192920"/>
              <a:ext cx="846000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Se a rapidez de uma rotina for um aspecto essencial em um dado contexto, é conveniente implementá-la sem nenhuma ou com o mínimo de chamadas a funções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72960" y="4191120"/>
              <a:ext cx="845964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Se a rapidez de uma rotina for um aspecto essencial em um dado contexto, é conveniente implementá-l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de503"/>
                  </a:solidFill>
                  <a:latin typeface="Arial"/>
                </a:rPr>
                <a:t>sem nenhuma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ou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99cc"/>
                  </a:solidFill>
                  <a:latin typeface="Arial"/>
                </a:rPr>
                <a:t>com o mínimo de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chamadas a funçõe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30120" y="1754280"/>
            <a:ext cx="8480520" cy="702720"/>
            <a:chOff x="330120" y="1754280"/>
            <a:chExt cx="8480520" cy="702720"/>
          </a:xfrm>
        </p:grpSpPr>
        <p:sp>
          <p:nvSpPr>
            <p:cNvPr id="2412" name=""/>
            <p:cNvSpPr/>
            <p:nvPr/>
          </p:nvSpPr>
          <p:spPr>
            <a:xfrm>
              <a:off x="351000" y="1754280"/>
              <a:ext cx="8459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Funções devem ser implementadas, preferencialmente, da forma mais geral possível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30120" y="1765080"/>
              <a:ext cx="84600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0" y="2606760"/>
            <a:ext cx="7142040" cy="444240"/>
            <a:chOff x="0" y="2606760"/>
            <a:chExt cx="7142040" cy="444240"/>
          </a:xfrm>
        </p:grpSpPr>
        <p:sp>
          <p:nvSpPr>
            <p:cNvPr id="2415" name=""/>
            <p:cNvSpPr/>
            <p:nvPr/>
          </p:nvSpPr>
          <p:spPr>
            <a:xfrm>
              <a:off x="7920" y="2606760"/>
              <a:ext cx="71341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acilidade de reutilização e compreens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0" y="2617920"/>
              <a:ext cx="71341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Facilidade de reutilização e compreensã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407880" y="3330720"/>
            <a:ext cx="8467560" cy="704880"/>
            <a:chOff x="407880" y="3330720"/>
            <a:chExt cx="8467560" cy="704880"/>
          </a:xfrm>
        </p:grpSpPr>
        <p:sp>
          <p:nvSpPr>
            <p:cNvPr id="2418" name=""/>
            <p:cNvSpPr/>
            <p:nvPr/>
          </p:nvSpPr>
          <p:spPr>
            <a:xfrm>
              <a:off x="415800" y="3330720"/>
              <a:ext cx="8459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vitar, na medida do possível, funções que usem variáveis globais.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07880" y="3343320"/>
              <a:ext cx="84596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Evitar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, na medida do possível, funções que usem variáveis </a:t>
              </a: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globais</a:t>
              </a:r>
              <a:r>
                <a:rPr b="1" lang="pt-BR" sz="2400" spc="-1" strike="noStrike">
                  <a:solidFill>
                    <a:srgbClr val="ffff99"/>
                  </a:solidFill>
                  <a:latin typeface="Arial"/>
                </a:rPr>
                <a:t>.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0" y="5661000"/>
            <a:ext cx="7149600" cy="452160"/>
            <a:chOff x="0" y="5661000"/>
            <a:chExt cx="7149600" cy="452160"/>
          </a:xfrm>
        </p:grpSpPr>
        <p:sp>
          <p:nvSpPr>
            <p:cNvPr id="2421" name=""/>
            <p:cNvSpPr/>
            <p:nvPr/>
          </p:nvSpPr>
          <p:spPr>
            <a:xfrm>
              <a:off x="15480" y="5661000"/>
              <a:ext cx="71341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nor consumo de temp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0" y="5679720"/>
              <a:ext cx="71337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just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Menor consumo de tempo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801F-9C44-4955-9FA2-6A51EF325A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15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18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401760" y="1604880"/>
            <a:ext cx="8164440" cy="2057040"/>
            <a:chOff x="401760" y="1604880"/>
            <a:chExt cx="8164440" cy="2057040"/>
          </a:xfrm>
        </p:grpSpPr>
        <p:sp>
          <p:nvSpPr>
            <p:cNvPr id="1821" name=""/>
            <p:cNvSpPr/>
            <p:nvPr/>
          </p:nvSpPr>
          <p:spPr>
            <a:xfrm>
              <a:off x="412920" y="1604880"/>
              <a:ext cx="815328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Definição</a:t>
              </a:r>
              <a:r>
                <a:rPr b="0" lang="pt-BR" sz="3600" spc="-1" strike="noStrike">
                  <a:solidFill>
                    <a:srgbClr val="000000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000000"/>
                  </a:solidFill>
                  <a:latin typeface="Arial"/>
                </a:rPr>
                <a:t>Funções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 são blocos precedidos de um cabeçalho que consiste em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 algn="just">
                <a:lnSpc>
                  <a:spcPct val="10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01760" y="1620720"/>
              <a:ext cx="8153280" cy="20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9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Definição</a:t>
              </a:r>
              <a:r>
                <a:rPr b="0" lang="pt-BR" sz="3600" spc="-1" strike="noStrike">
                  <a:solidFill>
                    <a:srgbClr val="fde503"/>
                  </a:solidFill>
                  <a:latin typeface="Penguin"/>
                </a:rPr>
                <a:t>: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90000"/>
                </a:lnSpc>
                <a:spcBef>
                  <a:spcPts val="3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82520" indent="-369720" algn="just">
                <a:lnSpc>
                  <a:spcPct val="100000"/>
                </a:lnSpc>
                <a:spcBef>
                  <a:spcPts val="700"/>
                </a:spcBef>
                <a:buClr>
                  <a:srgbClr val="ffffcc"/>
                </a:buClr>
                <a:buSzPct val="8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cbb04"/>
                  </a:solidFill>
                  <a:latin typeface="Arial"/>
                </a:rPr>
                <a:t>Funções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são blocos precedidos de um cabeçalho que consiste em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 algn="just">
                <a:lnSpc>
                  <a:spcPct val="10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984240" y="3665520"/>
            <a:ext cx="7802640" cy="2424240"/>
            <a:chOff x="984240" y="3665520"/>
            <a:chExt cx="7802640" cy="2424240"/>
          </a:xfrm>
        </p:grpSpPr>
        <p:sp>
          <p:nvSpPr>
            <p:cNvPr id="1824" name=""/>
            <p:cNvSpPr/>
            <p:nvPr/>
          </p:nvSpPr>
          <p:spPr>
            <a:xfrm>
              <a:off x="998640" y="3665520"/>
              <a:ext cx="778824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tipo do valor de retorno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 (se houver algum).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nome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da função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;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lista de parâmetros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 ou </a:t>
              </a:r>
              <a:r>
                <a:rPr b="1" i="1" lang="pt-PT" sz="2800" spc="-1" strike="noStrike">
                  <a:solidFill>
                    <a:srgbClr val="ffffcc"/>
                  </a:solidFill>
                  <a:latin typeface="Arial"/>
                </a:rPr>
                <a:t>argumentos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pt-PT" sz="2800" spc="-1" strike="noStrike">
                  <a:solidFill>
                    <a:srgbClr val="ffffff"/>
                  </a:solidFill>
                  <a:latin typeface="Arial"/>
                </a:rPr>
                <a:t>com respectivos tipos; 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984240" y="3681360"/>
              <a:ext cx="7788240" cy="24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63720" indent="-50652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SzPct val="80000"/>
                <a:buFont typeface="Wingdings" charset="2"/>
                <a:buChar char="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89B9-DAB5-442F-A9A4-A0ED7C32E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"/>
          <p:cNvGrpSpPr/>
          <p:nvPr/>
        </p:nvGrpSpPr>
        <p:grpSpPr>
          <a:xfrm>
            <a:off x="984240" y="66600"/>
            <a:ext cx="7174080" cy="703440"/>
            <a:chOff x="984240" y="66600"/>
            <a:chExt cx="7174080" cy="703440"/>
          </a:xfrm>
        </p:grpSpPr>
        <p:sp>
          <p:nvSpPr>
            <p:cNvPr id="1827" name=""/>
            <p:cNvSpPr/>
            <p:nvPr/>
          </p:nvSpPr>
          <p:spPr>
            <a:xfrm>
              <a:off x="1011240" y="6660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84240" y="85680"/>
              <a:ext cx="714708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582480" y="2351160"/>
            <a:ext cx="7604280" cy="1874520"/>
            <a:chOff x="582480" y="2351160"/>
            <a:chExt cx="7604280" cy="1874520"/>
          </a:xfrm>
        </p:grpSpPr>
        <p:sp>
          <p:nvSpPr>
            <p:cNvPr id="1830" name=""/>
            <p:cNvSpPr/>
            <p:nvPr/>
          </p:nvSpPr>
          <p:spPr>
            <a:xfrm>
              <a:off x="582480" y="2351160"/>
              <a:ext cx="7604280" cy="18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66720" y="2512800"/>
              <a:ext cx="745344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415800" indent="-41580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_de_retorno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nome_da_função(declaração_de_parâmetros)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corpo_da_função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419040" y="1517760"/>
            <a:ext cx="5499000" cy="609480"/>
            <a:chOff x="419040" y="1517760"/>
            <a:chExt cx="5499000" cy="609480"/>
          </a:xfrm>
        </p:grpSpPr>
        <p:sp>
          <p:nvSpPr>
            <p:cNvPr id="1833" name=""/>
            <p:cNvSpPr/>
            <p:nvPr/>
          </p:nvSpPr>
          <p:spPr>
            <a:xfrm>
              <a:off x="431640" y="1517760"/>
              <a:ext cx="5486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Penguin"/>
                </a:rPr>
                <a:t>Forma</a:t>
              </a: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 geral:</a:t>
              </a:r>
              <a:r>
                <a:rPr b="1" lang="pt-PT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19040" y="1530360"/>
              <a:ext cx="5486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fde503"/>
                  </a:solidFill>
                  <a:latin typeface="Penguin"/>
                </a:rPr>
                <a:t>Forma</a:t>
              </a: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 geral:</a:t>
              </a:r>
              <a:r>
                <a:rPr b="1" lang="pt-PT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879480" y="4390920"/>
            <a:ext cx="7281720" cy="1812960"/>
            <a:chOff x="879480" y="4390920"/>
            <a:chExt cx="7281720" cy="1812960"/>
          </a:xfrm>
        </p:grpSpPr>
        <p:sp>
          <p:nvSpPr>
            <p:cNvPr id="1836" name=""/>
            <p:cNvSpPr/>
            <p:nvPr/>
          </p:nvSpPr>
          <p:spPr>
            <a:xfrm>
              <a:off x="893880" y="4390920"/>
              <a:ext cx="7267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fault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 int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eclaração de parâmetros: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249"/>
                </a:spcBef>
                <a:buClr>
                  <a:srgbClr val="b2b2b2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12800" indent="-4348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tipo nome1, tipo nome2, ... , tipo nomeN</a:t>
              </a:r>
              <a:r>
                <a:rPr b="1" lang="pt-PT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79480" y="4403880"/>
              <a:ext cx="72676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fault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 int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3520" indent="-533520">
                <a:lnSpc>
                  <a:spcPct val="80000"/>
                </a:lnSpc>
                <a:spcBef>
                  <a:spcPts val="499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claração de parâmetros: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998640" indent="-285840">
                <a:lnSpc>
                  <a:spcPct val="80000"/>
                </a:lnSpc>
                <a:spcBef>
                  <a:spcPts val="249"/>
                </a:spcBef>
                <a:buClr>
                  <a:srgbClr val="b2b2b2"/>
                </a:buClr>
                <a:buSzPct val="85000"/>
                <a:buFont typeface="Wingdings" charset="2"/>
                <a:buChar char=""/>
                <a:tabLst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2" marL="1612800" indent="-4348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 nome1, tipo nome2, ... , tipo nomeN</a:t>
              </a:r>
              <a:r>
                <a:rPr b="1" lang="pt-PT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39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04B0-0591-47A8-AA2C-D5AE67C88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4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3505320" y="944640"/>
            <a:ext cx="2131560" cy="445680"/>
            <a:chOff x="3505320" y="944640"/>
            <a:chExt cx="2131560" cy="445680"/>
          </a:xfrm>
        </p:grpSpPr>
        <p:sp>
          <p:nvSpPr>
            <p:cNvPr id="1845" name=""/>
            <p:cNvSpPr/>
            <p:nvPr/>
          </p:nvSpPr>
          <p:spPr>
            <a:xfrm>
              <a:off x="3527280" y="94464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505320" y="955800"/>
              <a:ext cx="2109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9000"/>
            </a:bodyPr>
            <a:p>
              <a:pPr marL="236520" indent="-2365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378000" y="1835280"/>
            <a:ext cx="8468640" cy="1255680"/>
            <a:chOff x="378000" y="1835280"/>
            <a:chExt cx="8468640" cy="1255680"/>
          </a:xfrm>
        </p:grpSpPr>
        <p:sp>
          <p:nvSpPr>
            <p:cNvPr id="1848" name=""/>
            <p:cNvSpPr/>
            <p:nvPr/>
          </p:nvSpPr>
          <p:spPr>
            <a:xfrm>
              <a:off x="388800" y="1835280"/>
              <a:ext cx="845784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rotótipo de uma função que não retorna nada:</a:t>
              </a:r>
              <a:r>
                <a:rPr b="0" lang="pt-PT" sz="24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 indent="-446040">
                <a:lnSpc>
                  <a:spcPct val="100000"/>
                </a:lnSpc>
                <a:spcBef>
                  <a:spcPts val="201"/>
                </a:spcBef>
                <a:buClr>
                  <a:srgbClr val="ffff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446040" indent="-44604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void nome_da_função(declaração_de_parâmetros</a:t>
              </a:r>
              <a:r>
                <a:rPr b="1" i="1" lang="pt-BR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8000" y="1852560"/>
              <a:ext cx="845784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6040" indent="-4460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384120" y="3284640"/>
            <a:ext cx="8364600" cy="1050840"/>
            <a:chOff x="384120" y="3284640"/>
            <a:chExt cx="8364600" cy="1050840"/>
          </a:xfrm>
        </p:grpSpPr>
        <p:sp>
          <p:nvSpPr>
            <p:cNvPr id="1851" name=""/>
            <p:cNvSpPr/>
            <p:nvPr/>
          </p:nvSpPr>
          <p:spPr>
            <a:xfrm>
              <a:off x="396720" y="3284640"/>
              <a:ext cx="835200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rotótipo de uma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funç</a:t>
              </a: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ão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 que não têm parâmetros: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tipo_de_retorno nome_da_função(void);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84120" y="3298680"/>
              <a:ext cx="8352000" cy="10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23720" y="4689360"/>
            <a:ext cx="8147160" cy="1387440"/>
            <a:chOff x="423720" y="4689360"/>
            <a:chExt cx="8147160" cy="1387440"/>
          </a:xfrm>
        </p:grpSpPr>
        <p:sp>
          <p:nvSpPr>
            <p:cNvPr id="1854" name=""/>
            <p:cNvSpPr/>
            <p:nvPr/>
          </p:nvSpPr>
          <p:spPr>
            <a:xfrm>
              <a:off x="441360" y="4689360"/>
              <a:ext cx="8129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cc"/>
                  </a:solidFill>
                  <a:latin typeface="Arial"/>
                </a:rPr>
                <a:t>Protótipo de uma função que </a:t>
              </a: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não tem parâmetros e não retorna nada: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400" spc="-1" strike="noStrike">
                  <a:solidFill>
                    <a:srgbClr val="ffffff"/>
                  </a:solidFill>
                  <a:latin typeface="Arial"/>
                </a:rPr>
                <a:t>void nome_da_função(void);</a:t>
              </a:r>
              <a:r>
                <a:rPr b="1" lang="pt-PT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23720" y="4705200"/>
              <a:ext cx="8129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SzPct val="75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FB1A-4D24-499F-BF21-1F087F4E6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57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338040" y="3568680"/>
            <a:ext cx="7845480" cy="3039840"/>
            <a:chOff x="338040" y="3568680"/>
            <a:chExt cx="7845480" cy="3039840"/>
          </a:xfrm>
        </p:grpSpPr>
        <p:sp>
          <p:nvSpPr>
            <p:cNvPr id="1860" name=""/>
            <p:cNvSpPr/>
            <p:nvPr/>
          </p:nvSpPr>
          <p:spPr>
            <a:xfrm>
              <a:off x="338040" y="3568680"/>
              <a:ext cx="7845480" cy="303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1520" y="3641400"/>
              <a:ext cx="772488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#include &lt;stdio.h&gt;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int EPar(int a)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{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if (a%2) 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Verifica se a for divisivel por </a:t>
              </a:r>
              <a:r>
                <a:rPr b="1" i="1" lang="pt-BR" sz="2000" spc="-1" strike="noStrike">
                  <a:solidFill>
                    <a:srgbClr val="010199"/>
                  </a:solidFill>
                  <a:latin typeface="Arial"/>
                </a:rPr>
                <a:t>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return 0;  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Retorna 0 se a nao for divisivel por 2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else        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return 1;  </a:t>
              </a:r>
              <a:r>
                <a:rPr b="1" i="1" lang="pt-PT" sz="2000" spc="-1" strike="noStrike">
                  <a:solidFill>
                    <a:srgbClr val="010199"/>
                  </a:solidFill>
                  <a:latin typeface="Arial"/>
                </a:rPr>
                <a:t>/* Retorna 1 se a for divisivel por 2 */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PT" sz="20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436680" y="1371600"/>
            <a:ext cx="7089480" cy="1593720"/>
            <a:chOff x="436680" y="1371600"/>
            <a:chExt cx="7089480" cy="1593720"/>
          </a:xfrm>
        </p:grpSpPr>
        <p:sp>
          <p:nvSpPr>
            <p:cNvPr id="1863" name=""/>
            <p:cNvSpPr/>
            <p:nvPr/>
          </p:nvSpPr>
          <p:spPr>
            <a:xfrm>
              <a:off x="461880" y="1371600"/>
              <a:ext cx="70642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85000"/>
                </a:lnSpc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000000"/>
                  </a:solidFill>
                  <a:latin typeface="Penguin"/>
                </a:rPr>
                <a:t>Comando </a:t>
              </a:r>
              <a:r>
                <a:rPr b="1" i="1" lang="pt-PT" sz="32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buClr>
                  <a:srgbClr val="000000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Forma</a:t>
              </a:r>
              <a:r>
                <a:rPr b="1" lang="pt-PT" sz="2800" spc="-1" strike="noStrike">
                  <a:solidFill>
                    <a:srgbClr val="000000"/>
                  </a:solidFill>
                  <a:latin typeface="Arial"/>
                </a:rPr>
                <a:t> geral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return valor_de_retorno;</a:t>
              </a:r>
              <a:r>
                <a:rPr b="0" lang="pt-PT" sz="2800" spc="-1" strike="noStrike">
                  <a:solidFill>
                    <a:srgbClr val="000000"/>
                  </a:solidFill>
                  <a:latin typeface="Arial"/>
                </a:rPr>
                <a:t> ou </a:t>
              </a:r>
              <a:r>
                <a:rPr b="0" i="1" lang="pt-PT" sz="2800" spc="-1" strike="noStrike">
                  <a:solidFill>
                    <a:srgbClr val="000000"/>
                  </a:solidFill>
                  <a:latin typeface="Arial"/>
                </a:rPr>
                <a:t>return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6680" y="1384200"/>
              <a:ext cx="70642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85000"/>
                </a:lnSpc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Comando</a:t>
              </a:r>
              <a:r>
                <a:rPr b="1" lang="pt-PT" sz="3600" spc="-1" strike="noStrike">
                  <a:solidFill>
                    <a:srgbClr val="ffffff"/>
                  </a:solidFill>
                  <a:latin typeface="Penguin"/>
                </a:rPr>
                <a:t> </a:t>
              </a:r>
              <a:r>
                <a:rPr b="1" i="1" lang="pt-PT" sz="3200" spc="-1" strike="noStrike">
                  <a:solidFill>
                    <a:srgbClr val="ffffff"/>
                  </a:solidFill>
                  <a:latin typeface="Arial"/>
                </a:rPr>
                <a:t>return</a:t>
              </a:r>
              <a:endParaRPr b="0" lang="en-US" sz="32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538200" indent="-538200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buClr>
                  <a:srgbClr val="ffffcc"/>
                </a:buClr>
                <a:buSzPct val="70000"/>
                <a:buFont typeface="Wingdings" charset="2"/>
                <a:buChar char="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Arial"/>
                </a:rPr>
                <a:t>Forma</a:t>
              </a:r>
              <a:r>
                <a:rPr b="1" lang="pt-PT" sz="2800" spc="-1" strike="noStrike">
                  <a:solidFill>
                    <a:srgbClr val="ffffcc"/>
                  </a:solidFill>
                  <a:latin typeface="Arial"/>
                </a:rPr>
                <a:t> geral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  <a:p>
              <a:pPr lvl="1" marL="1003320" indent="-285840">
                <a:lnSpc>
                  <a:spcPct val="85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return valor_de_retorno;</a:t>
              </a:r>
              <a:r>
                <a:rPr b="0" lang="pt-P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pt-PT" sz="2800" spc="-1" strike="noStrike">
                  <a:solidFill>
                    <a:srgbClr val="ffffcc"/>
                  </a:solidFill>
                  <a:latin typeface="Arial"/>
                </a:rPr>
                <a:t>ou</a:t>
              </a:r>
              <a:r>
                <a:rPr b="0" lang="pt-PT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pt-PT" sz="2800" spc="-1" strike="noStrike">
                  <a:solidFill>
                    <a:srgbClr val="ffffff"/>
                  </a:solidFill>
                  <a:latin typeface="Arial"/>
                </a:rPr>
                <a:t>return;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380880" y="3022560"/>
            <a:ext cx="2703600" cy="495000"/>
            <a:chOff x="380880" y="3022560"/>
            <a:chExt cx="2703600" cy="495000"/>
          </a:xfrm>
        </p:grpSpPr>
        <p:sp>
          <p:nvSpPr>
            <p:cNvPr id="1866" name=""/>
            <p:cNvSpPr/>
            <p:nvPr/>
          </p:nvSpPr>
          <p:spPr>
            <a:xfrm>
              <a:off x="396720" y="3022560"/>
              <a:ext cx="2687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80880" y="3041640"/>
              <a:ext cx="26877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69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EFEF-8010-4303-910F-43556BD59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1" name=""/>
          <p:cNvGrpSpPr/>
          <p:nvPr/>
        </p:nvGrpSpPr>
        <p:grpSpPr>
          <a:xfrm>
            <a:off x="984240" y="66600"/>
            <a:ext cx="7174080" cy="577440"/>
            <a:chOff x="984240" y="66600"/>
            <a:chExt cx="7174080" cy="577440"/>
          </a:xfrm>
        </p:grpSpPr>
        <p:sp>
          <p:nvSpPr>
            <p:cNvPr id="1872" name=""/>
            <p:cNvSpPr/>
            <p:nvPr/>
          </p:nvSpPr>
          <p:spPr>
            <a:xfrm>
              <a:off x="1011240" y="666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984240" y="82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444600" y="1808280"/>
            <a:ext cx="2702880" cy="495000"/>
            <a:chOff x="444600" y="1808280"/>
            <a:chExt cx="2702880" cy="495000"/>
          </a:xfrm>
        </p:grpSpPr>
        <p:sp>
          <p:nvSpPr>
            <p:cNvPr id="1875" name=""/>
            <p:cNvSpPr/>
            <p:nvPr/>
          </p:nvSpPr>
          <p:spPr>
            <a:xfrm>
              <a:off x="460080" y="1808280"/>
              <a:ext cx="2687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538200" indent="-53820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4600" y="1827360"/>
              <a:ext cx="2687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532800" indent="-532800">
                <a:lnSpc>
                  <a:spcPct val="90000"/>
                </a:lnSpc>
                <a:spcBef>
                  <a:spcPts val="700"/>
                </a:spcBef>
                <a:buClr>
                  <a:srgbClr val="fde503"/>
                </a:buClr>
                <a:buSzPct val="75000"/>
                <a:buFont typeface="Wingdings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de503"/>
                  </a:solidFill>
                  <a:latin typeface="Penguin"/>
                </a:rPr>
                <a:t>Exemplo: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425520" y="2556000"/>
            <a:ext cx="8245440" cy="2104920"/>
            <a:chOff x="425520" y="2556000"/>
            <a:chExt cx="8245440" cy="2104920"/>
          </a:xfrm>
        </p:grpSpPr>
        <p:sp>
          <p:nvSpPr>
            <p:cNvPr id="1878" name=""/>
            <p:cNvSpPr/>
            <p:nvPr/>
          </p:nvSpPr>
          <p:spPr>
            <a:xfrm>
              <a:off x="441360" y="25560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ffffcc"/>
                  </a:solidFill>
                  <a:latin typeface="Arial"/>
                </a:rPr>
                <a:t>Escreva a função 'EDivisivel(int a, int b)' (tome como base EPar(int a)). A função deverá retornar 1 se o resto da divisão de a por b for zero. Caso contrário, a função deverá retornar 0.</a:t>
              </a:r>
              <a:r>
                <a:rPr b="1" lang="pt-PT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buClr>
                  <a:srgbClr val="ffff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25520" y="2568600"/>
              <a:ext cx="8229600" cy="20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46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500280" y="798480"/>
            <a:ext cx="2132280" cy="500040"/>
            <a:chOff x="3500280" y="798480"/>
            <a:chExt cx="2132280" cy="500040"/>
          </a:xfrm>
        </p:grpSpPr>
        <p:sp>
          <p:nvSpPr>
            <p:cNvPr id="1881" name=""/>
            <p:cNvSpPr/>
            <p:nvPr/>
          </p:nvSpPr>
          <p:spPr>
            <a:xfrm>
              <a:off x="3522600" y="7984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500280" y="811080"/>
              <a:ext cx="21099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600" spc="-1" strike="noStrike">
                  <a:solidFill>
                    <a:srgbClr val="fde503"/>
                  </a:solidFill>
                  <a:latin typeface="Penguin"/>
                </a:rPr>
                <a:t>Funções</a:t>
              </a:r>
              <a:endParaRPr b="0" lang="en-US" sz="3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34EF-2538-410F-81FE-6972C71CF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02-10T18:52:40Z</dcterms:modified>
  <cp:revision>219</cp:revision>
  <dc:subject/>
  <dc:title>Reconhecimento de voz</dc:title>
</cp:coreProperties>
</file>