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0641-523D-427C-9A02-6EB4671EA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05EC-5E87-453D-B1D3-BAA6BA6C3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8CFA-F74D-40D7-AB47-7CF77E375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1D70-0F39-4960-A1BE-547F8E630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2FAF-1E11-4351-AE5E-865FF1366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8949-7E90-4F95-ADF7-20411AE61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FC9C-66AC-497F-87BD-FC9CB1F67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4B80-9A3B-4AF6-B6EB-86748A58F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6B25-5518-4877-A561-49EB77FC8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9DEA-075E-4620-9502-CA58B6B0B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A4ED-B6FB-4058-9EC7-5D00C5029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195-9E7B-4A25-9BFD-63C1FDCC5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C057-3474-4B44-A1F3-804607B28CAD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1460520" y="2322360"/>
            <a:ext cx="62229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Apresentaçã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790640" y="3395520"/>
            <a:ext cx="556272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da Disciplina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37960" y="1165320"/>
            <a:ext cx="8745840" cy="534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707040" indent="-707040" algn="just">
              <a:lnSpc>
                <a:spcPct val="100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GRAHAM, N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Learning 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9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JAMSA, KRIS &amp; KLANDER, L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Programando em C/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akron Books Editora do Brasil Ltda, 1999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MARTIN, J. &amp; ODELL, J. J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Análise e Projeto Orientados a Objet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akron Books Editora do Brasil Ltda, 1996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MESQUITA, R. C.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urso de C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NED. Escola de Engenharia - UFMG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42A6-C26C-4C22-81F6-17DACB94BC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37960" y="1165320"/>
            <a:ext cx="874584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NONATO, L. G.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Tipos e Estruturas de Dados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Instituto de Ciências Matemáticas e de Computação – DCE/USP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UMBAUGH, B. M., PREMERLANI, W., EDDY, F. &amp; LORENSEN, W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Object-Oriented Modeling and Desig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 Prentice Hall, 1991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AVITCH, W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++ Absolut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Pearson Education do Brasil, 2003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28F5-B9C4-410F-8DF5-AE60D979D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37960" y="1165320"/>
            <a:ext cx="8745840" cy="534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CHILDT, H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 Avançado - Guia do Usuári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87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CHILDT, H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 Completo e Total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90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AUSTRUP, B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e Design and Evolution of 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. Addison Wesley, 1994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AUSTRUP, B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e C++ Programming Languag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 Addison-Wesley, 199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B731-91C6-41C7-8EFE-84E9626F26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305000" y="247680"/>
            <a:ext cx="7772400" cy="75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lano de Ensin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90080" y="1203480"/>
            <a:ext cx="8745480" cy="479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ent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todologia, Técnicas de Ensin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cursos Didátic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valia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ultados Esperad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ibliografia Sugerida para Leitur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50E8-AC8C-4A2A-972F-14B9BF4AC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238400" y="75960"/>
            <a:ext cx="7772400" cy="949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Objetiv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71000" y="1143000"/>
            <a:ext cx="8745480" cy="5292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r e construir conceitos fundamentais da comput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tilizar a programação modular, dominando as principais técnicas utilizadas na implementação de estruturas de dados básicas, de algoritmos de pesquisa e de algoritmos de orden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lver eficientemente problemas de engenharia elétrica em ambientes computacionais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DC87-CF57-410E-9019-88642E42E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247760" y="104400"/>
            <a:ext cx="7772400" cy="901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menta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99800" y="1157040"/>
            <a:ext cx="8745480" cy="4235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Estruturas de dados e algoritmos de manipulação relacionados: pilhas, listas, filas, árvores e tabelas 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</a:rPr>
              <a:t>hash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Algoritmos de ordenação e busca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Noções de programação orientada a objetos: conceitos básicos, modelo de programação, aplicações em engenharia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EAD-95B0-4CFB-98F1-53C02A4D0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257480" y="12384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écnicas de Ensin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228240" y="1238400"/>
            <a:ext cx="8745480" cy="2187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las Expositivas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las Práticas em Laboratóri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tividades Individuais e Grupais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B71A-15D4-4B82-B6BD-B9B0556D00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276200" y="142920"/>
            <a:ext cx="7772400" cy="853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Recursos Didátic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99800" y="1157040"/>
            <a:ext cx="8745480" cy="3405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uadro branc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troprojetor/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atasho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boratório de Informática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gramas de Simulação de domínio público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5977-8AEE-467A-ABE8-099CBE3660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76200" y="123480"/>
            <a:ext cx="7772400" cy="863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Avaliaçã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99800" y="1170000"/>
            <a:ext cx="8745480" cy="4968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tínu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Avaliações individuais e trabalhos em laboratóri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balhos interativos de pesquisa extra-class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Individuais e grupai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balhos de pesquisa em sala de au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Individuais e grupai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CF91-9C25-4997-AC2C-DF6862A5D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285920" y="57240"/>
            <a:ext cx="7772400" cy="96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Resultados Esperad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98000" y="1168560"/>
            <a:ext cx="8745480" cy="5448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xílio ao aluno no raciocínio e na compreensão de conceitos e técnicas de program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porte ao aluno na elaboração mais efetiva e eficiente de programas 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eparação do aluno para a assimilação de tópicos mais avançados de programação em linguag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basamento do aluno na programação orientada a objetos usando a linguag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1630-3F6B-4384-A886-8ED47934EF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37960" y="1165320"/>
            <a:ext cx="874584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BUDD, T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lassic Data Structures in C++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Addison Wesley, 1994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DEITEL, H. M. &amp; DEITEL, P. J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++ Como Programar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Bookman Co. Editora, 200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DROZDEK, A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Estruturas de Dados e Algoritmos em 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Pioneira Thomson Learning Ltda., 2002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CKEL, B.,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inking in 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. MindView Inc., 2000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81080" y="2286000"/>
            <a:ext cx="8810640" cy="1057320"/>
          </a:xfrm>
          <a:prstGeom prst="rect">
            <a:avLst/>
          </a:prstGeom>
          <a:noFill/>
          <a:ln w="38160">
            <a:solidFill>
              <a:srgbClr val="ffffe3"/>
            </a:solidFill>
            <a:prstDash val="sysDot"/>
            <a:miter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CD87-DBF0-47F8-B3A9-F4BF88DFB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Eustáquio Rangel</cp:lastModifiedBy>
  <dcterms:modified xsi:type="dcterms:W3CDTF">2003-11-25T17:07:08Z</dcterms:modified>
  <cp:revision>332</cp:revision>
  <dc:subject>SBPC03</dc:subject>
  <dc:title>Informática na Educação</dc:title>
</cp:coreProperties>
</file>