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0A4-845E-46F7-A82A-C10DC3EC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8DC-8436-401F-A459-8A5D1AAC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EE1-2A17-4498-86C3-855B352C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F48-F288-4E78-98C4-DB218A6E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5C53-3531-413E-8234-76C94DF4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E2BA-3FFB-4D86-A05A-9EBD0CF6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02F5-B396-47B3-BEEB-C0C455C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7E12-D3C2-4596-9C24-AB5330FB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16E1-7BDE-4874-B64F-E54BE40C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9C12-1027-4777-B235-4A0E75E4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FDF8-081D-473E-98E6-86170CC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8CE-F3C8-4453-AB01-A512BA95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96C5-92B5-4F0B-8461-528A8F65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17D8-6A60-4BC3-9D96-992D927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44D-088A-4F97-8896-A32133A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EC3C-6B8B-4DDE-8F6E-78CF2402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382C-4801-469A-8817-9C357F21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516-060B-49EE-A0D1-88B593E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734-A13A-4A2F-B136-37016111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C81-F6C4-4F27-A45B-F1D2D014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AAC-EBCE-40E4-924D-AE2C20BE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7D9-0633-446A-B88D-88E955F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33F-EA90-41B4-9061-B711390A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D4B-F405-48D3-B6FD-3D45C0E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B73C-EC5D-458F-94CA-89FF3E52D0C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7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2120760"/>
            <a:ext cx="900000" cy="20671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000" cy="21337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900000" cy="201636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932360" y="1951200"/>
          <a:ext cx="3183120" cy="205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951200"/>
                    <a:ext cx="31831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B9BA-6F4F-488D-9F6F-C2C9E18B3E7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2924280"/>
            <a:ext cx="8159760" cy="73080"/>
            <a:chOff x="228600" y="2924280"/>
            <a:chExt cx="8159760" cy="73080"/>
          </a:xfrm>
        </p:grpSpPr>
        <p:sp>
          <p:nvSpPr>
            <p:cNvPr id="59" name=""/>
            <p:cNvSpPr/>
            <p:nvPr/>
          </p:nvSpPr>
          <p:spPr>
            <a:xfrm>
              <a:off x="228600" y="2927520"/>
              <a:ext cx="4199040" cy="69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56000" y="2923920"/>
              <a:ext cx="4032360" cy="712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62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826920" y="1917720"/>
          <a:ext cx="3024360" cy="201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917720"/>
                    <a:ext cx="302436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63960" y="3789360"/>
          <a:ext cx="2871720" cy="20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3960" y="3789360"/>
                    <a:ext cx="28717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nsiderações Fi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1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411280" y="1844640"/>
            <a:ext cx="43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istemas Multimídia</a:t>
            </a:r>
            <a:endParaRPr b="0" lang="en-US" sz="1800" spc="1" strike="noStrike">
              <a:ln w="1260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 multimíd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&gt; interagem com o usuário fazendo uso simultâneo de diversos meios, como áudio, imagens estáticas, imagens em movimento, gráficos e texto, obtendo desta forma uma comunicação mais efetiva - "com alto impacto sobre as pessoas leigas" [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ares et All 9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350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multimídia será a mais poderosa ferramenta de apresentação porque será capaz de explorar todos os sentidos.”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ouglas E. Wolfgra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10T03:04:56Z</dcterms:modified>
  <cp:revision>36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