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7D4D-BFBF-42A9-BA2A-DA5CE02573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7AE3-BD5A-465A-A55A-037B58D4C6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8F89-8924-490C-9BC6-308DBE77F4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8BAC-392C-47B2-9B97-153F9B268D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A92-8E53-432B-8718-01A848E3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176-E0A7-4D9E-BC21-617D00E0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CB9-1EEF-4A04-8FB8-B67374B3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7808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3760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61892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7808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3760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298-0280-4D48-893B-AB5F3033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C81B-0E57-431B-B790-3C9DC612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524E-0992-44AE-AA31-37D3A286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758B-CDB8-4E3D-BBEC-A7034FAF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AAF1-5904-48CB-9FBA-8F5441EA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3ECB-8074-4BC7-94C4-13B6C9E9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82E7-32A0-4E2D-9C3F-4D75FAF2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4BE1-2163-42DA-9E3E-824862A3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72D-DAE3-4B9D-856F-C5A19183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CA5B-2E8B-4450-8414-7EC07688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265B-BCDB-4D2F-A3D0-FB5ECBC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BF41-5C65-40D3-AB06-CCFC8448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9485-A07A-4CCF-BDA3-E5BBA5A2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7808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3760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61892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7808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3760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791C-4DEC-4C11-878B-10DCCBBA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2DF-DC1E-45A9-83B4-69E53A6C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2D0-76A7-4D5F-9CEF-0E3B25CF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852-1677-4F23-9C0C-F0AF87D9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F57-F67E-4F09-8020-215BFEAB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68C-C34C-4D23-A6F5-4DDF4530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541-FA74-43EE-81CB-C7651885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D60-A616-436D-98C4-3EC4F57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BB97-26D4-4DBF-BBE1-768BEEF9E79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9080" y="1447920"/>
            <a:ext cx="7559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87280" y="128520"/>
            <a:ext cx="7705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s Tex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3068640"/>
            <a:ext cx="99684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0" y="4292640"/>
            <a:ext cx="103176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0" y="907920"/>
            <a:ext cx="103176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0" y="5084640"/>
            <a:ext cx="9968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míd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0" y="189000"/>
            <a:ext cx="971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ultimídi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877000"/>
            <a:ext cx="163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MS Gothic"/>
              </a:rPr>
              <a:t>Multimí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Modern No. 20"/>
              </a:rPr>
              <a:t>MULTIMÍ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1844640"/>
            <a:ext cx="125892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C956-7F7C-42AD-8ACB-BEDB2AD88D6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05000"/>
            <a:ext cx="147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3357720"/>
            <a:ext cx="1292400" cy="7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4508640"/>
            <a:ext cx="13366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81000"/>
            <a:ext cx="133668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5229360"/>
            <a:ext cx="12924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míd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60280"/>
            <a:ext cx="12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ultimídi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72040"/>
            <a:ext cx="163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MS Gothic"/>
              </a:rPr>
              <a:t>Multimí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Modern No. 20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s Texto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 - Adicional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699920"/>
            <a:ext cx="78120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s - Recomendações  Adi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2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tar o alinhamento à direit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linhamento do texto à direita é prejudicial à compreensão pelos leitores inexperientes. (Robertson, 1993) (Schriver,1996)  </a:t>
            </a:r>
            <a:br>
              <a:rPr sz="20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tar o uso de hífen (Robertson, 1993) 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uso de hífen reduz a velocidade de leitura tanto para leitores experientes quanto para leitores inexper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has curtas facilitam a leitura, pois reduzem o movimento excessivo dos olhos. (Robertson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mprimento ótimo de uma linha para textos legíveis é de 10 a 12 palavras ou de 40 a 60 caracteres por linha. (Marcus, 1992)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2000" y="1628640"/>
            <a:ext cx="763272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- Recomendações  Adi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r o máximo de duas fontes (por exemplo, Arial e Times New Roman), duas inclinações (romano e itálico), dois pesos (regular e negrito), e quatro tamanhos (título principal, subtítulo, texto e nota de rodapé). (Marcus, 1992) (Mullet e Sano, 199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menda-se que a seleção da fonte seja feita de acordo com o tipo de documento a ser executado. (Marcus, 1992). Tipos com serifa são mais apropriados para documentos formais. Para literatura podem ser utilizados os tipos sem serifa, Helvética ou Arial.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minais de vídeo de baixa resolução, recomenda-se o uso de fontes sem serifa e com estilo regular. (Marcus, 1992). O uso da serifa deve ser evitado pois ela pode não ser visualizada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734544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- Recomendações  Adi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menda-se deixar um espaço antes e depois da palavra para aumentar a visibilidade do vídeo reverso. (Robertson, 1993). Tal procedimento aumenta a visibilidade da palavra. 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menda-se o uso do itálico para atrair a atenção do usuário. (Robertson, 1993). O uso do itálico atrai a atenção do usuário e não causa quebras significativas no ritmo do leitura, mas deve ser usado somente para textos curtos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tar o uso de caracteres brilhando e piscando. (Nielsen, 1996) (Robertson, 1993). Eles distraem e competem pela atenção do usuário. O usuário precisa de paz para a ler as informações. (Nielsen,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10T01:12:44Z</dcterms:modified>
  <cp:revision>509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