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4C8B-1D28-43D8-91E3-0152F66BE5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032F-AA3A-40D0-BFDA-B7D1F058D1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140F-574E-42E3-9A66-DB8B2C7148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351C-C406-4A6E-8D9A-6563472CEF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2F42-FCD7-44B5-BB90-70B1B95C71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840-86AB-480F-97BC-16475D6E44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7368-2E96-49E6-A06E-69B821A0C2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DC1-E6F9-4DDF-8919-18ED4C15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B3A-6AA4-4EF0-9714-281BD53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068-F0B1-4E3F-B0A1-A2D89244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7808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3760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61892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7808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3760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263-31A3-41DD-BF17-DFA2ABA5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5545-1D52-49EC-8F75-2AED41AD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D1F2-360E-4011-94E6-B24AFFD9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ACFD-A213-4590-A55D-190DCE0C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0D98-F60D-4E7C-9AF2-5638DB63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5741-2DC6-4359-A615-02CE6EDB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7D84-1071-4E53-AE6E-93D25828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AFE0-356A-4F0D-AB5E-A5C0D53E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50C-7FAB-49E3-ACEC-841FD696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E851-08EB-4444-963F-0B0349A6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E108-12BC-4548-893D-DD48942E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23E9-9284-4C82-94A8-AF855CD1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312E-412A-4AD6-B5E6-FE3DA322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7808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3760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61892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7808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3760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8C05-432A-4162-A110-7D799CE2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FD5-1E40-4A6A-9DAC-15231741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BB3-9D6D-4448-AB0B-000086D6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3B8-53C4-496B-9F00-B13DF596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AF7-840D-4775-A98D-4D19E95F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814-B09E-42FE-9793-647E901E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018-D8AE-4BEF-946B-680EEE03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B5C-1920-48EA-91C5-077C13A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C9C1-3E6D-48DA-87CB-5B35F00C96A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9080" y="1447920"/>
            <a:ext cx="7559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87280" y="128520"/>
            <a:ext cx="7705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s 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3068640"/>
            <a:ext cx="99684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0" y="4292640"/>
            <a:ext cx="103176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0" y="907920"/>
            <a:ext cx="103176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0" y="5084640"/>
            <a:ext cx="9968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míd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0" y="189000"/>
            <a:ext cx="971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ultimídi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877000"/>
            <a:ext cx="163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MS Gothic"/>
              </a:rPr>
              <a:t>Multimí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Modern No. 20"/>
              </a:rPr>
              <a:t>MULTIMÍ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844640"/>
            <a:ext cx="12589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09C-6C8D-4F51-9F8C-676496FB222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05000"/>
            <a:ext cx="14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3357720"/>
            <a:ext cx="129240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4508640"/>
            <a:ext cx="13366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81000"/>
            <a:ext cx="133668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5229360"/>
            <a:ext cx="12924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míd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60280"/>
            <a:ext cx="12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ultimídi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72040"/>
            <a:ext cx="163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MS Gothic"/>
              </a:rPr>
              <a:t>Multimí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odern No. 20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pecular.com/" TargetMode="External"/><Relationship Id="rId2" Type="http://schemas.openxmlformats.org/officeDocument/2006/relationships/hyperlink" Target="http://www.specular.com/" TargetMode="External"/><Relationship Id="rId3" Type="http://schemas.openxmlformats.org/officeDocument/2006/relationships/hyperlink" Target="http://www.xaostools.com/" TargetMode="External"/><Relationship Id="rId4" Type="http://schemas.openxmlformats.org/officeDocument/2006/relationships/hyperlink" Target="http://www.xaostools.com/" TargetMode="External"/><Relationship Id="rId5" Type="http://schemas.openxmlformats.org/officeDocument/2006/relationships/hyperlink" Target="http://www.macromedia.com/" TargetMode="External"/><Relationship Id="rId6" Type="http://schemas.openxmlformats.org/officeDocument/2006/relationships/hyperlink" Target="http://www.macromedia.com/" TargetMode="External"/><Relationship Id="rId7" Type="http://schemas.openxmlformats.org/officeDocument/2006/relationships/hyperlink" Target="http://www.metatools.com/" TargetMode="External"/><Relationship Id="rId8" Type="http://schemas.openxmlformats.org/officeDocument/2006/relationships/hyperlink" Target="http://www.metatools.com/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64137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31640" y="1773000"/>
            <a:ext cx="7499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 das fontes (em ordem crescen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tric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finidas por mapas de bi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tor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finidas por polig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diment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finidas por procedimentos (por exemplo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ue 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03280" y="184428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aração entre fo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5742000" cy="25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28480" y="1773000"/>
            <a:ext cx="73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Fo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 com serifa/sem seri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6954840" cy="173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56000" y="4076640"/>
            <a:ext cx="158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Seri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1628640"/>
            <a:ext cx="757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com serifa/sem seri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ncipal diferença entre os vários tipos de fontes existentes é a existência ou não de serif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aso do texto impresso esta característica contribui para uma leitura mais fácil leitura e por isso esse tipo de fonte é muito usada em grandes blocos de info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fontes sem serifa são mais usadas para títulos, cabeçalhos e mensa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aso dos textos para visualização de computador aconselha-se precisamente o contr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03280" y="169992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Fo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er humano lê palavras ao invés de letras individuais, assim as letras serifadas parecem juntar-se devido aos seus prolongamentos, unindo as palav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outro lado, as fontes sem serifa costumam ser usadas em títulos e chamadas, pois valorizam cada palavra individualmente e tendem a ter maior peso e presença para os olhos ("chamando a atenção"), já que parecem mais limp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643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com serif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imes New Rom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a mais uti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Book Antiqu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fonte mais mod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urier Ne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tipo de letra muito usado na impr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sem serif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a mais uti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erd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fonte que se impõe ba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58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decorativ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Comic Sans MS é a fonte da 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Impact é uma fonte para chamar a a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tipo de fontes pode ter, ou não ter, seri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são mais decorativas do que fáceis de 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muito usadas em anúncios e carta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8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s das fo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luem quase tudo o que se pode fazer numa fonte para alterar o seu aspe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s mais com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gr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que torna as linhas mais carre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táli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clina a f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ublinh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coloca uma linha sob as palav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mbre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coloca uma sombra por trás das letras dando-lhes um aspecto tridim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torno - salienta os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1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s das fo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s mais com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dar a cor - é uma forma de realçar o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sais e versaletes - são formas de apresentar o texto em maiúscu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as letras todas do mesmo tamanho e com a primeira letra de cada palavra em tamanho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de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as frases totalmente em maiúsculas (nem mesmo nos tít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escrever em verme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escrever a cores fluor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servar com atenção quando utilizar fontes com serifa (depende do contex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utilizar sublinhados sem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abusar dos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0328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Textos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03280" y="1557000"/>
            <a:ext cx="749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de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mesmo documento deve-se utilizar, no máximo, 2/3 tipos de letra difer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malmente: 1 tipo de letra para o título e outro para o corpo do tex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 ser evitados os tipos de letra muito arredondados pois tornam-se de difícil leitura a partir do mon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32000" y="1557000"/>
            <a:ext cx="757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de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utilizar o maior contraste possível entre o texto e a cor de fundo (letra preta em fundo branco resulta melhor do que letra branca em fundo preto apesar do contraste ser o me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utilizar cores escuras para o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aproveitar a experiência do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de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evem ser utilizadas palavras completamente em maiúsculas. Além de parecer que se está "gritando" com o usuário, a leitura torna-se monót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r palavras completamente em maiúsculas só é permitido em títulos e desde que a primeira letra de cada palavra seja maior do que as rest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palavras escritas em minúsculas apresentam uma descontinuidade que estimula e prende a atenção do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ndo Texto na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ine um projeto que não utiliza texto. Certamente som e animação poderão guiar o usuário na navegação, porém isto requer do usuário uma maior concentração para acompanhar o conteúdo destes do que para seguir algum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 dúvida um item de um menu seguido de um "clique" do mouse é bem mais explicativo e fácil de ser absorvido (requer menos treinamento) pelo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 num projeto Multimídia para naveg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xto n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importante dimensionar bem a quantidade de texto por págin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ucas linhas podem ocasionar um grande número de intervenções para mudar de página, por outro lado uma grande quantidade pode tornar a tela cheia e desagradável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 num projeto Multimídia para naveg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lha da Fonte e Posicionamento do Texto– este é um outro ponto difícil de selecion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d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tornar a página mais legível é interessante explorar os efeitos das diferentes cores e a utilização de vários "backgrounds" (para mensagens em preto e branco uma solução é utilizar o tipo revers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o uso de cores incandescentes, causando um impacto desagradável, como verde no vermelho, por exemplo, nos casos de se desejar prender a atenção quando se utiliza técnicas de arrastar, uma boa alternativa é alterar e distorcer o texto grafic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 num projeto Multimídia para naveg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d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eriências com sombras podem tornar o texto mais legível e causar um impacto mai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beçalhos devem ser rodeados de espaços em branc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uma página Web, coloque os elementos de texto mais importantes e os menus no topo. Estudos demonstram que entre 10 a 15% dos usuários da Web utilizam a rolagem de uma página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ímbolos e í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ímbolos são textos concentrados na forma gráfica que transmitem (significam) uma mensagem, por exemplo, a figura de uma lixeira diz onde devem ser colocados os arquivos inúte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multimídia estes símbolos são tratados como textos porque estão embutindo uma mensagem, e símbolos peculiares, como a lixeira, são conhecidos como ícones, pois exercem a função de ânco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ímbolos e í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ímbolos que não são conhecidos devem ser introduzidos com cuidado para não frustrar o usuário. Uma boa técnica é a combinação do símbolo com o tex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 anim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texto com animação pode reter a atenção do usuá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mas técnicas são: palavras-chaves podem voar, outras serem dissolvidas, sofrerem um processo de rotação, etc. Porém o exagero deve ser evi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ímbolos e í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para criar efeitos em 3-D e alguns "plug-ins" estão 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specular.com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 </a:t>
            </a:r>
            <a:br>
              <a:rPr sz="2400"/>
            </a:b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xaostools.com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</a:t>
            </a:r>
            <a:br>
              <a:rPr sz="2400"/>
            </a:b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www.macromedia.com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 </a:t>
            </a:r>
            <a:br>
              <a:rPr sz="2400"/>
            </a:b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http://www.metatools.com</a:t>
            </a: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76360" y="1699920"/>
            <a:ext cx="66960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s dos tex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s das fo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los (negrito, itálico, sublinhad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nh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e ori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6180120"/>
            <a:ext cx="7561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Prata, A., Multimédia Organizacional, Instituto Politécnico de Setúbal, Escola Superior de Ciências Empresariais, 2007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ição de Fontes e Ferramentas par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or da Apple utilizado para criar e modificar recursos gráficos tais como: cursor, ícone, caixa para diálogo, padrões, mapa de teclado, e fontes em bitmap do Macinto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ogra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or gráfico especial da Macromedia (pode ser usado no ambiente Windows ou Macintosh) que serve para desenvolver PostScript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ue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 fontes em bitmap para Windows, Macintosh, estações de trabalho Sun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também a modificação de tipos já existentes, converte automaticamente imagens escanead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58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ição de Fontes e Ferramentas par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ype-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or da DS Design, para Windows, que permite a criação, conversão e manipulação de fontes do tipo PostScrip Type 1 e TrueType , como também arquivos do formato EPS para ilustr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Chame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 Ares Software, para Windows e Macintosh, constrói milhões de fontes diferentes a partir de um simples font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odendo o resultado ser em PostScript Type 1 ou TrueType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835280" y="2133720"/>
            <a:ext cx="619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s dias atuais, com a recente explosão da Internet e da WWW, textos estão sendo utilizados em todas as formas de comunicação e nunca foram de tamanha importâ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28480" y="1628640"/>
            <a:ext cx="75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xto é uma parte vital de quase todas as apresentações e por i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de ter um aspecto interessante e ser lido com facilidade, caso contrário, a apresentação perde eficá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onte que se escolhe é muito importante. Pode ser conservadora ou despreocupada, moderna ou clássic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fundamental ter em conta as necessidades e as características da população al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6139080"/>
            <a:ext cx="756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tamanho do tipo de fonte é normalmente expresso em pontos (1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qüivale a 0.0138 polegadas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njunto de caracteres concebidos para funcionarem jun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das decisões mais importantes em relação ao texto tem a ver com a escolha de uma boa fo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fo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toriais/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visualização (monitor)/de im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ue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todas as ou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31640" y="155700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veto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armazenadas nos arquivos como algoritmos ou cál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o computador precisa apresentar a fonte, calcula como será o próximo caractere e apresenta o resultado dos cál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fontes muito "maleáveis" e fáceis de redimensio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r o tamanho da fonte não diminui a qualidade do seu aspe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 ser estas as usadas nas apresentações multimí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35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ou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êm várias desvantag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armazenadas como uma série de imagens, uma por cada caract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rquivos de font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muito maiores do que os de fontes vetor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s fontes são menos flexíveis que as vetoriais. Quando se aumenta este tipo de fonte a letra fica com os bordas recortadas, quando se diminui, a letra perde detal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32000" y="1773000"/>
            <a:ext cx="742608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de visualização/de impr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as fontes têm uma versão de visualização e outra de impressão (normalmente, as font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resolução no monitor é muito menor do que a resolução disponível nas impr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onte ótima quando se imprime pode não se apresentar bem no monitor e vice-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02920" y="177300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ue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elhor escolha é por uma font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ue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s fontes destinam-se a adaptar monitor e  impressora, ou seja, ver-se-á a mesma coisa quer o texto apareça na visualização quer seja impr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09T23:52:12Z</dcterms:modified>
  <cp:revision>50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