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B9B4-2106-4BB0-9791-379BDCD227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5DFC-77FB-4932-98BC-52E0B85323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FCA-6035-46BA-A031-1E88555092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652-E9CD-4A69-AE3E-56D88A1CB0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5A2-3084-45D2-BED8-A18650A5E8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290-F229-4370-A604-BA86E1F5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622-2109-4FA0-90BD-54A8B89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3D3-584C-4947-AB73-9364D801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E40-9DAA-4C8D-A4B4-6E4C898A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ECCD-5BD0-4124-8F1A-CBDD1B06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00A7-BC75-4A12-B8CF-B00A435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00F-200D-4BFB-AA78-F4F99DC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ADC-BE26-42DC-9F67-B792B26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6A2-DC57-4BDC-913C-DC65E67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E9E4-A827-488D-A6B8-1BAB685C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554-9E4F-48CD-A42E-BF950CB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D4F-5060-414B-A22E-BEB1986D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F55A-17F1-4CBB-A18B-EB30F45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8DAC-86EA-4C00-9AF3-4F76996D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F2C0-5941-4BFF-BE2C-71DFCB5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D96E-64EA-42EB-B3BC-909AB82E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C878-6E16-4113-8461-5F73B7BE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E3A-605D-4771-A3F0-AB87317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EC2-3EE9-47CA-BB5E-6AC6239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CF3-93A5-4920-AD76-6E79B6C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135-BF65-45F3-A093-4F2D8135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166-41FE-44F2-9FB1-AF16315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DA3-768B-45C1-9BEC-0F680EF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929-D558-4C96-8524-1C2F483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07A-F39C-41B9-845C-A532DBB2B54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42920" y="1447920"/>
            <a:ext cx="7632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1285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6360" y="0"/>
            <a:ext cx="1079280" cy="6858000"/>
            <a:chOff x="-36360" y="0"/>
            <a:chExt cx="1079280" cy="6858000"/>
          </a:xfrm>
        </p:grpSpPr>
        <p:graphicFrame>
          <p:nvGraphicFramePr>
            <p:cNvPr id="7" name=""/>
            <p:cNvGraphicFramePr/>
            <p:nvPr/>
          </p:nvGraphicFramePr>
          <p:xfrm>
            <a:off x="5760" y="0"/>
            <a:ext cx="1036800" cy="116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60" y="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5760" y="2060640"/>
            <a:ext cx="1036800" cy="13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0" y="2060640"/>
                      <a:ext cx="103680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" name=""/>
            <p:cNvGraphicFramePr/>
            <p:nvPr/>
          </p:nvGraphicFramePr>
          <p:xfrm>
            <a:off x="5760" y="1125360"/>
            <a:ext cx="1036800" cy="1168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60" y="112536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" name=""/>
            <p:cNvGraphicFramePr/>
            <p:nvPr/>
          </p:nvGraphicFramePr>
          <p:xfrm>
            <a:off x="-36360" y="4508640"/>
            <a:ext cx="1079280" cy="1168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-36360" y="4508640"/>
                      <a:ext cx="107928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" name=""/>
            <p:cNvGraphicFramePr/>
            <p:nvPr/>
          </p:nvGraphicFramePr>
          <p:xfrm>
            <a:off x="5760" y="3357720"/>
            <a:ext cx="1036800" cy="116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60" y="3357720"/>
                      <a:ext cx="103680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" name=""/>
            <p:cNvGraphicFramePr/>
            <p:nvPr/>
          </p:nvGraphicFramePr>
          <p:xfrm>
            <a:off x="5760" y="5689440"/>
            <a:ext cx="1036800" cy="1168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60" y="568944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775-6513-406D-B45E-B88F8D39893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graphicFrame>
          <p:nvGraphicFramePr>
            <p:cNvPr id="63" name=""/>
            <p:cNvGraphicFramePr/>
            <p:nvPr/>
          </p:nvGraphicFramePr>
          <p:xfrm>
            <a:off x="55080" y="0"/>
            <a:ext cx="1348200" cy="116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080" y="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5080" y="2060640"/>
            <a:ext cx="1348200" cy="13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080" y="2060640"/>
                      <a:ext cx="134820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"/>
            <p:cNvGraphicFramePr/>
            <p:nvPr/>
          </p:nvGraphicFramePr>
          <p:xfrm>
            <a:off x="55080" y="1125360"/>
            <a:ext cx="1348200" cy="1168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080" y="112536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"/>
            <p:cNvGraphicFramePr/>
            <p:nvPr/>
          </p:nvGraphicFramePr>
          <p:xfrm>
            <a:off x="0" y="4508640"/>
            <a:ext cx="1403280" cy="1168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4508640"/>
                      <a:ext cx="140328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55080" y="3357720"/>
            <a:ext cx="1348200" cy="116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080" y="3357720"/>
                      <a:ext cx="134820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5080" y="5689440"/>
            <a:ext cx="1348200" cy="1168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5080" y="568944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Gráfic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Gráfic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gráficos constituem um elemento muito importante para qualquer aplicação multimídia po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ituem uma forma simples de ajudar a esclarecer alguns conceitos mais complex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m o aspecto geral da aplicação tornando-a mais agradável aos olhos do usu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618012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Prata, A., Multimédia Organizacional, Instituto Politécnico de Setúbal, Escola Superior de Ciências Empresariais, 20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riados pelos usuários ou gerados por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formados por objetos como: linhas, curvas ou cír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es objetos podem ser apagados, adicionados, deslocados, modificados ou estic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es objetos têm atributos como: espessura, cor ou padrões de preenchimento os quais também são modific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documentos modificáveis porque o seu formato contém informação estru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gráfico pode ser facilmente redimensionado, girado ou inclinado sem qualquer distor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to só é possível porque o gráfico é armazenado pelo computador como uma lista de instruções que inclui informação sobre o tamanho, a forma, a posição e a cor do obj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18:20:44Z</dcterms:modified>
  <cp:revision>47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