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3.wmf" ContentType="image/x-wmf"/>
  <Override PartName="/ppt/media/image5.png" ContentType="image/png"/>
  <Override PartName="/ppt/media/image9.png" ContentType="image/png"/>
  <Override PartName="/ppt/media/image12.wmf" ContentType="image/x-wmf"/>
  <Override PartName="/ppt/media/image4.png" ContentType="image/png"/>
  <Override PartName="/ppt/media/image8.png" ContentType="image/png"/>
  <Override PartName="/ppt/media/image16.wmf" ContentType="image/x-wmf"/>
  <Override PartName="/ppt/media/image7.wmf" ContentType="image/x-wmf"/>
  <Override PartName="/ppt/media/image22.png" ContentType="image/png"/>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5.wmf" ContentType="image/x-wmf"/>
  <Override PartName="/ppt/media/image14.wmf" ContentType="image/x-wmf"/>
  <Override PartName="/ppt/media/image1.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PlaceHolder 2"/>
          <p:cNvSpPr>
            <a:spLocks noGrp="1"/>
          </p:cNvSpPr>
          <p:nvPr>
            <p:ph type="dt" idx="7"/>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move the slide</a:t>
            </a:r>
            <a:endParaRPr b="1" lang="en-US" sz="3600" spc="-1" strike="noStrike">
              <a:solidFill>
                <a:srgbClr val="000000"/>
              </a:solidFill>
              <a:latin typeface="Verdana"/>
            </a:endParaRPr>
          </a:p>
        </p:txBody>
      </p:sp>
      <p:sp>
        <p:nvSpPr>
          <p:cNvPr id="128"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8"/>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PlaceHolder 6"/>
          <p:cNvSpPr>
            <a:spLocks noGrp="1"/>
          </p:cNvSpPr>
          <p:nvPr>
            <p:ph type="sldNum" idx="9"/>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80DCA-3E56-407B-A8CC-51F495DAF34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76A5-17E2-4BE3-B9A9-D262EF4D2523}"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049400" y="770040"/>
            <a:ext cx="4821120" cy="3616200"/>
          </a:xfrm>
          <a:prstGeom prst="rect">
            <a:avLst/>
          </a:prstGeom>
          <a:ln w="0">
            <a:noFill/>
          </a:ln>
        </p:spPr>
      </p:sp>
      <p:sp>
        <p:nvSpPr>
          <p:cNvPr id="240"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C62E-6F81-4266-B0BE-F8EA8927E8C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049400" y="770040"/>
            <a:ext cx="4821120" cy="3616200"/>
          </a:xfrm>
          <a:prstGeom prst="rect">
            <a:avLst/>
          </a:prstGeom>
          <a:ln w="0">
            <a:noFill/>
          </a:ln>
        </p:spPr>
      </p:sp>
      <p:sp>
        <p:nvSpPr>
          <p:cNvPr id="246"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D5DE-4E21-4505-85BC-2FB5D77658B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049400" y="770040"/>
            <a:ext cx="4821120" cy="3616200"/>
          </a:xfrm>
          <a:prstGeom prst="rect">
            <a:avLst/>
          </a:prstGeom>
          <a:ln w="0">
            <a:noFill/>
          </a:ln>
        </p:spPr>
      </p:sp>
      <p:sp>
        <p:nvSpPr>
          <p:cNvPr id="252"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5485-79B1-408D-9834-C4FCA260E60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049400" y="770040"/>
            <a:ext cx="4821120" cy="3616200"/>
          </a:xfrm>
          <a:prstGeom prst="rect">
            <a:avLst/>
          </a:prstGeom>
          <a:ln w="0">
            <a:noFill/>
          </a:ln>
        </p:spPr>
      </p:sp>
      <p:sp>
        <p:nvSpPr>
          <p:cNvPr id="258"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E7A2-B735-4CA3-9E96-D74CE8D656E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049400" y="770040"/>
            <a:ext cx="4821120" cy="3616200"/>
          </a:xfrm>
          <a:prstGeom prst="rect">
            <a:avLst/>
          </a:prstGeom>
          <a:ln w="0">
            <a:noFill/>
          </a:ln>
        </p:spPr>
      </p:sp>
      <p:sp>
        <p:nvSpPr>
          <p:cNvPr id="264"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88C1A-39C0-4B38-A757-F35021BB9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8"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C383C-68C9-44CB-920B-042A2A6B0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1"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23AE1-A751-461B-B7CB-AC985E2C3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6"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E3A28-99F3-4195-AA05-C6695B80E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DC9E2-C47B-4636-9017-570AB839C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9"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44561-DD16-4B6C-A1AF-AE51863E7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1"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756BA-48B0-4CE0-A77F-6428C2407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3"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91B5D-E35A-410D-BDDB-A99DFFFF4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54CA4-62F9-4B51-9BFE-8F57340EB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E4BED-AD01-4DD4-9EF3-B2C384CB5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F9CCF-4A77-4985-8B44-F71C11A31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CBDFC-3FAC-424C-8A2A-52081F08B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2"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8673E-69FF-4218-9642-D2865092F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6"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47741-9349-41F9-A65E-001B5FD6F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0"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12A7F-8402-44A4-90A1-F5BAFEEBB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3"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64A78-5259-4C80-8761-F3EC89D4F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8"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2B00A-D573-4E87-849D-F80FF02A7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EF75E-C4CD-45F3-8625-0408A3256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1"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CCCDD-3771-4C52-B2E8-EF23D8C54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207D9-27EC-4C4B-A4AE-8FE781DBA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0FFB3-693F-42A8-9F40-ADC24BB09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6"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E9E77-5136-4D2A-AFF9-A5D0FBFC1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0"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6361C-036E-4584-AC78-241D3E92C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30024-1783-4BE5-B33D-DDAA9F2F4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39E8-A073-4832-94D2-E30B871A7C91}"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 name=""/>
          <p:cNvSpPr/>
          <p:nvPr/>
        </p:nvSpPr>
        <p:spPr>
          <a:xfrm>
            <a:off x="1042920" y="1447920"/>
            <a:ext cx="76327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150920" y="189000"/>
            <a:ext cx="774216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A Animação</a:t>
            </a:r>
            <a:endParaRPr b="0" lang="en-US" sz="3200" spc="-1" strike="noStrike">
              <a:solidFill>
                <a:srgbClr val="000000"/>
              </a:solidFill>
              <a:latin typeface="Arial"/>
            </a:endParaRPr>
          </a:p>
        </p:txBody>
      </p:sp>
      <p:grpSp>
        <p:nvGrpSpPr>
          <p:cNvPr id="6" name=""/>
          <p:cNvGrpSpPr/>
          <p:nvPr/>
        </p:nvGrpSpPr>
        <p:grpSpPr>
          <a:xfrm>
            <a:off x="0" y="44280"/>
            <a:ext cx="1042920" cy="6840720"/>
            <a:chOff x="0" y="44280"/>
            <a:chExt cx="1042920" cy="6840720"/>
          </a:xfrm>
        </p:grpSpPr>
        <p:grpSp>
          <p:nvGrpSpPr>
            <p:cNvPr id="7" name=""/>
            <p:cNvGrpSpPr/>
            <p:nvPr/>
          </p:nvGrpSpPr>
          <p:grpSpPr>
            <a:xfrm>
              <a:off x="7920" y="44280"/>
              <a:ext cx="974520" cy="1071360"/>
              <a:chOff x="7920" y="44280"/>
              <a:chExt cx="974520" cy="1071360"/>
            </a:xfrm>
          </p:grpSpPr>
          <p:sp>
            <p:nvSpPr>
              <p:cNvPr id="8" name=""/>
              <p:cNvSpPr/>
              <p:nvPr/>
            </p:nvSpPr>
            <p:spPr>
              <a:xfrm>
                <a:off x="7920" y="443880"/>
                <a:ext cx="974520" cy="671760"/>
              </a:xfrm>
              <a:custGeom>
                <a:avLst/>
                <a:gdLst/>
                <a:ahLst/>
                <a:rect l="l" t="t" r="r" b="b"/>
                <a:pathLst>
                  <a:path w="5423" h="1688">
                    <a:moveTo>
                      <a:pt x="0" y="0"/>
                    </a:moveTo>
                    <a:lnTo>
                      <a:pt x="3787" y="0"/>
                    </a:lnTo>
                    <a:lnTo>
                      <a:pt x="5423" y="1688"/>
                    </a:lnTo>
                    <a:lnTo>
                      <a:pt x="1636" y="1688"/>
                    </a:lnTo>
                    <a:lnTo>
                      <a:pt x="0" y="0"/>
                    </a:lnTo>
                    <a:close/>
                  </a:path>
                </a:pathLst>
              </a:custGeom>
              <a:solidFill>
                <a:srgbClr val="665e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920" y="443880"/>
                <a:ext cx="974520" cy="671760"/>
              </a:xfrm>
              <a:custGeom>
                <a:avLst/>
                <a:gdLst/>
                <a:ahLst/>
                <a:rect l="l" t="t" r="r" b="b"/>
                <a:pathLst>
                  <a:path w="5423" h="1688">
                    <a:moveTo>
                      <a:pt x="0" y="0"/>
                    </a:moveTo>
                    <a:lnTo>
                      <a:pt x="3787" y="0"/>
                    </a:lnTo>
                    <a:lnTo>
                      <a:pt x="5423" y="1688"/>
                    </a:lnTo>
                    <a:lnTo>
                      <a:pt x="1636" y="1688"/>
                    </a:lnTo>
                    <a:lnTo>
                      <a:pt x="0" y="0"/>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42200" y="44280"/>
                <a:ext cx="376920" cy="560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142200" y="44280"/>
                <a:ext cx="376920" cy="560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42200" y="321120"/>
                <a:ext cx="377280" cy="284040"/>
              </a:xfrm>
              <a:custGeom>
                <a:avLst/>
                <a:gdLst/>
                <a:ahLst/>
                <a:rect l="l" t="t" r="r" b="b"/>
                <a:pathLst>
                  <a:path w="2101" h="714">
                    <a:moveTo>
                      <a:pt x="0" y="109"/>
                    </a:moveTo>
                    <a:lnTo>
                      <a:pt x="7" y="107"/>
                    </a:lnTo>
                    <a:lnTo>
                      <a:pt x="15" y="106"/>
                    </a:lnTo>
                    <a:lnTo>
                      <a:pt x="23" y="103"/>
                    </a:lnTo>
                    <a:lnTo>
                      <a:pt x="33" y="99"/>
                    </a:lnTo>
                    <a:lnTo>
                      <a:pt x="43" y="96"/>
                    </a:lnTo>
                    <a:lnTo>
                      <a:pt x="51" y="92"/>
                    </a:lnTo>
                    <a:lnTo>
                      <a:pt x="59" y="89"/>
                    </a:lnTo>
                    <a:lnTo>
                      <a:pt x="66" y="86"/>
                    </a:lnTo>
                    <a:lnTo>
                      <a:pt x="66" y="81"/>
                    </a:lnTo>
                    <a:lnTo>
                      <a:pt x="88" y="75"/>
                    </a:lnTo>
                    <a:lnTo>
                      <a:pt x="89" y="70"/>
                    </a:lnTo>
                    <a:lnTo>
                      <a:pt x="94" y="63"/>
                    </a:lnTo>
                    <a:lnTo>
                      <a:pt x="101" y="56"/>
                    </a:lnTo>
                    <a:lnTo>
                      <a:pt x="109" y="49"/>
                    </a:lnTo>
                    <a:lnTo>
                      <a:pt x="118" y="42"/>
                    </a:lnTo>
                    <a:lnTo>
                      <a:pt x="128" y="36"/>
                    </a:lnTo>
                    <a:lnTo>
                      <a:pt x="137" y="32"/>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95" y="48"/>
                    </a:lnTo>
                    <a:lnTo>
                      <a:pt x="511" y="54"/>
                    </a:lnTo>
                    <a:lnTo>
                      <a:pt x="529" y="62"/>
                    </a:lnTo>
                    <a:lnTo>
                      <a:pt x="546" y="70"/>
                    </a:lnTo>
                    <a:lnTo>
                      <a:pt x="564" y="78"/>
                    </a:lnTo>
                    <a:lnTo>
                      <a:pt x="581" y="86"/>
                    </a:lnTo>
                    <a:lnTo>
                      <a:pt x="597" y="92"/>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95" y="167"/>
                    </a:lnTo>
                    <a:lnTo>
                      <a:pt x="1313" y="168"/>
                    </a:lnTo>
                    <a:lnTo>
                      <a:pt x="1334" y="169"/>
                    </a:lnTo>
                    <a:lnTo>
                      <a:pt x="1356" y="169"/>
                    </a:lnTo>
                    <a:lnTo>
                      <a:pt x="1378" y="169"/>
                    </a:lnTo>
                    <a:lnTo>
                      <a:pt x="1398" y="168"/>
                    </a:lnTo>
                    <a:lnTo>
                      <a:pt x="1416" y="167"/>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60" y="173"/>
                    </a:lnTo>
                    <a:lnTo>
                      <a:pt x="2061" y="175"/>
                    </a:lnTo>
                    <a:lnTo>
                      <a:pt x="2062" y="176"/>
                    </a:lnTo>
                    <a:lnTo>
                      <a:pt x="2063" y="181"/>
                    </a:lnTo>
                    <a:lnTo>
                      <a:pt x="2080" y="181"/>
                    </a:lnTo>
                    <a:lnTo>
                      <a:pt x="2083" y="191"/>
                    </a:lnTo>
                    <a:lnTo>
                      <a:pt x="2087" y="196"/>
                    </a:lnTo>
                    <a:lnTo>
                      <a:pt x="2093" y="198"/>
                    </a:lnTo>
                    <a:lnTo>
                      <a:pt x="2101" y="198"/>
                    </a:lnTo>
                    <a:lnTo>
                      <a:pt x="2101" y="202"/>
                    </a:lnTo>
                    <a:lnTo>
                      <a:pt x="2101" y="205"/>
                    </a:lnTo>
                    <a:lnTo>
                      <a:pt x="2099" y="207"/>
                    </a:lnTo>
                    <a:lnTo>
                      <a:pt x="2097" y="209"/>
                    </a:lnTo>
                    <a:lnTo>
                      <a:pt x="2097" y="714"/>
                    </a:lnTo>
                    <a:lnTo>
                      <a:pt x="0" y="714"/>
                    </a:lnTo>
                    <a:lnTo>
                      <a:pt x="0" y="109"/>
                    </a:lnTo>
                    <a:close/>
                  </a:path>
                </a:pathLst>
              </a:custGeom>
              <a:solidFill>
                <a:srgbClr val="e1e1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142200" y="321120"/>
                <a:ext cx="377280" cy="284040"/>
              </a:xfrm>
              <a:custGeom>
                <a:avLst/>
                <a:gdLst/>
                <a:ahLst/>
                <a:rect l="l" t="t" r="r" b="b"/>
                <a:pathLst>
                  <a:path w="2101" h="714">
                    <a:moveTo>
                      <a:pt x="0" y="109"/>
                    </a:moveTo>
                    <a:lnTo>
                      <a:pt x="0" y="109"/>
                    </a:lnTo>
                    <a:lnTo>
                      <a:pt x="7" y="107"/>
                    </a:lnTo>
                    <a:lnTo>
                      <a:pt x="15" y="106"/>
                    </a:lnTo>
                    <a:lnTo>
                      <a:pt x="23" y="103"/>
                    </a:lnTo>
                    <a:lnTo>
                      <a:pt x="33" y="99"/>
                    </a:lnTo>
                    <a:lnTo>
                      <a:pt x="43" y="96"/>
                    </a:lnTo>
                    <a:lnTo>
                      <a:pt x="51" y="92"/>
                    </a:lnTo>
                    <a:lnTo>
                      <a:pt x="59" y="89"/>
                    </a:lnTo>
                    <a:lnTo>
                      <a:pt x="66" y="86"/>
                    </a:lnTo>
                    <a:lnTo>
                      <a:pt x="66" y="81"/>
                    </a:lnTo>
                    <a:lnTo>
                      <a:pt x="88" y="75"/>
                    </a:lnTo>
                    <a:lnTo>
                      <a:pt x="88" y="75"/>
                    </a:lnTo>
                    <a:lnTo>
                      <a:pt x="89" y="70"/>
                    </a:lnTo>
                    <a:lnTo>
                      <a:pt x="94" y="63"/>
                    </a:lnTo>
                    <a:lnTo>
                      <a:pt x="101" y="56"/>
                    </a:lnTo>
                    <a:lnTo>
                      <a:pt x="109" y="49"/>
                    </a:lnTo>
                    <a:lnTo>
                      <a:pt x="118" y="42"/>
                    </a:lnTo>
                    <a:lnTo>
                      <a:pt x="128" y="36"/>
                    </a:lnTo>
                    <a:lnTo>
                      <a:pt x="137" y="32"/>
                    </a:lnTo>
                    <a:lnTo>
                      <a:pt x="144" y="31"/>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80" y="42"/>
                    </a:lnTo>
                    <a:lnTo>
                      <a:pt x="495" y="48"/>
                    </a:lnTo>
                    <a:lnTo>
                      <a:pt x="511" y="54"/>
                    </a:lnTo>
                    <a:lnTo>
                      <a:pt x="529" y="62"/>
                    </a:lnTo>
                    <a:lnTo>
                      <a:pt x="546" y="70"/>
                    </a:lnTo>
                    <a:lnTo>
                      <a:pt x="564" y="78"/>
                    </a:lnTo>
                    <a:lnTo>
                      <a:pt x="581" y="86"/>
                    </a:lnTo>
                    <a:lnTo>
                      <a:pt x="597" y="92"/>
                    </a:lnTo>
                    <a:lnTo>
                      <a:pt x="612" y="98"/>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80" y="164"/>
                    </a:lnTo>
                    <a:lnTo>
                      <a:pt x="1295" y="167"/>
                    </a:lnTo>
                    <a:lnTo>
                      <a:pt x="1313" y="168"/>
                    </a:lnTo>
                    <a:lnTo>
                      <a:pt x="1334" y="169"/>
                    </a:lnTo>
                    <a:lnTo>
                      <a:pt x="1356" y="169"/>
                    </a:lnTo>
                    <a:lnTo>
                      <a:pt x="1378" y="169"/>
                    </a:lnTo>
                    <a:lnTo>
                      <a:pt x="1398" y="168"/>
                    </a:lnTo>
                    <a:lnTo>
                      <a:pt x="1416" y="167"/>
                    </a:lnTo>
                    <a:lnTo>
                      <a:pt x="1428" y="164"/>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58" y="164"/>
                    </a:lnTo>
                    <a:lnTo>
                      <a:pt x="2060" y="173"/>
                    </a:lnTo>
                    <a:lnTo>
                      <a:pt x="2061" y="175"/>
                    </a:lnTo>
                    <a:lnTo>
                      <a:pt x="2062" y="176"/>
                    </a:lnTo>
                    <a:lnTo>
                      <a:pt x="2063" y="181"/>
                    </a:lnTo>
                    <a:lnTo>
                      <a:pt x="2080" y="181"/>
                    </a:lnTo>
                    <a:lnTo>
                      <a:pt x="2080" y="181"/>
                    </a:lnTo>
                    <a:lnTo>
                      <a:pt x="2083" y="191"/>
                    </a:lnTo>
                    <a:lnTo>
                      <a:pt x="2087" y="196"/>
                    </a:lnTo>
                    <a:lnTo>
                      <a:pt x="2093" y="198"/>
                    </a:lnTo>
                    <a:lnTo>
                      <a:pt x="2101" y="198"/>
                    </a:lnTo>
                    <a:lnTo>
                      <a:pt x="2101" y="198"/>
                    </a:lnTo>
                    <a:lnTo>
                      <a:pt x="2101" y="202"/>
                    </a:lnTo>
                    <a:lnTo>
                      <a:pt x="2101" y="205"/>
                    </a:lnTo>
                    <a:lnTo>
                      <a:pt x="2099" y="207"/>
                    </a:lnTo>
                    <a:lnTo>
                      <a:pt x="2097" y="209"/>
                    </a:lnTo>
                    <a:lnTo>
                      <a:pt x="2097" y="714"/>
                    </a:lnTo>
                    <a:lnTo>
                      <a:pt x="0" y="714"/>
                    </a:lnTo>
                    <a:lnTo>
                      <a:pt x="0" y="1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23000" y="330840"/>
                <a:ext cx="113400" cy="367200"/>
              </a:xfrm>
              <a:custGeom>
                <a:avLst/>
                <a:gdLst/>
                <a:ahLst/>
                <a:rect l="l" t="t" r="r" b="b"/>
                <a:pathLst>
                  <a:path w="635" h="923">
                    <a:moveTo>
                      <a:pt x="428" y="277"/>
                    </a:moveTo>
                    <a:lnTo>
                      <a:pt x="422" y="285"/>
                    </a:lnTo>
                    <a:lnTo>
                      <a:pt x="416" y="292"/>
                    </a:lnTo>
                    <a:lnTo>
                      <a:pt x="410" y="300"/>
                    </a:lnTo>
                    <a:lnTo>
                      <a:pt x="407" y="309"/>
                    </a:lnTo>
                    <a:lnTo>
                      <a:pt x="416" y="305"/>
                    </a:lnTo>
                    <a:lnTo>
                      <a:pt x="424" y="299"/>
                    </a:lnTo>
                    <a:lnTo>
                      <a:pt x="434" y="292"/>
                    </a:lnTo>
                    <a:lnTo>
                      <a:pt x="443" y="284"/>
                    </a:lnTo>
                    <a:lnTo>
                      <a:pt x="452" y="278"/>
                    </a:lnTo>
                    <a:lnTo>
                      <a:pt x="463" y="273"/>
                    </a:lnTo>
                    <a:lnTo>
                      <a:pt x="474" y="271"/>
                    </a:lnTo>
                    <a:lnTo>
                      <a:pt x="486" y="272"/>
                    </a:lnTo>
                    <a:lnTo>
                      <a:pt x="478" y="270"/>
                    </a:lnTo>
                    <a:lnTo>
                      <a:pt x="470" y="267"/>
                    </a:lnTo>
                    <a:lnTo>
                      <a:pt x="460" y="265"/>
                    </a:lnTo>
                    <a:lnTo>
                      <a:pt x="452" y="264"/>
                    </a:lnTo>
                    <a:lnTo>
                      <a:pt x="445" y="265"/>
                    </a:lnTo>
                    <a:lnTo>
                      <a:pt x="438" y="266"/>
                    </a:lnTo>
                    <a:lnTo>
                      <a:pt x="432" y="270"/>
                    </a:lnTo>
                    <a:lnTo>
                      <a:pt x="428" y="277"/>
                    </a:lnTo>
                    <a:close/>
                    <a:moveTo>
                      <a:pt x="277" y="350"/>
                    </a:moveTo>
                    <a:lnTo>
                      <a:pt x="273" y="349"/>
                    </a:lnTo>
                    <a:lnTo>
                      <a:pt x="269" y="348"/>
                    </a:lnTo>
                    <a:lnTo>
                      <a:pt x="263" y="344"/>
                    </a:lnTo>
                    <a:lnTo>
                      <a:pt x="258" y="342"/>
                    </a:lnTo>
                    <a:lnTo>
                      <a:pt x="252" y="338"/>
                    </a:lnTo>
                    <a:lnTo>
                      <a:pt x="246" y="337"/>
                    </a:lnTo>
                    <a:lnTo>
                      <a:pt x="242" y="336"/>
                    </a:lnTo>
                    <a:lnTo>
                      <a:pt x="237" y="337"/>
                    </a:lnTo>
                    <a:lnTo>
                      <a:pt x="244" y="340"/>
                    </a:lnTo>
                    <a:lnTo>
                      <a:pt x="253" y="347"/>
                    </a:lnTo>
                    <a:lnTo>
                      <a:pt x="260" y="352"/>
                    </a:lnTo>
                    <a:lnTo>
                      <a:pt x="265" y="357"/>
                    </a:lnTo>
                    <a:lnTo>
                      <a:pt x="258" y="357"/>
                    </a:lnTo>
                    <a:lnTo>
                      <a:pt x="251" y="358"/>
                    </a:lnTo>
                    <a:lnTo>
                      <a:pt x="244" y="360"/>
                    </a:lnTo>
                    <a:lnTo>
                      <a:pt x="238" y="363"/>
                    </a:lnTo>
                    <a:lnTo>
                      <a:pt x="231" y="365"/>
                    </a:lnTo>
                    <a:lnTo>
                      <a:pt x="226" y="367"/>
                    </a:lnTo>
                    <a:lnTo>
                      <a:pt x="219" y="370"/>
                    </a:lnTo>
                    <a:lnTo>
                      <a:pt x="213" y="371"/>
                    </a:lnTo>
                    <a:lnTo>
                      <a:pt x="222" y="372"/>
                    </a:lnTo>
                    <a:lnTo>
                      <a:pt x="233" y="373"/>
                    </a:lnTo>
                    <a:lnTo>
                      <a:pt x="243" y="373"/>
                    </a:lnTo>
                    <a:lnTo>
                      <a:pt x="253" y="371"/>
                    </a:lnTo>
                    <a:lnTo>
                      <a:pt x="264" y="369"/>
                    </a:lnTo>
                    <a:lnTo>
                      <a:pt x="274" y="365"/>
                    </a:lnTo>
                    <a:lnTo>
                      <a:pt x="282" y="360"/>
                    </a:lnTo>
                    <a:lnTo>
                      <a:pt x="289" y="356"/>
                    </a:lnTo>
                    <a:lnTo>
                      <a:pt x="277" y="350"/>
                    </a:lnTo>
                    <a:close/>
                    <a:moveTo>
                      <a:pt x="249" y="313"/>
                    </a:moveTo>
                    <a:lnTo>
                      <a:pt x="249" y="313"/>
                    </a:lnTo>
                    <a:lnTo>
                      <a:pt x="245" y="309"/>
                    </a:lnTo>
                    <a:lnTo>
                      <a:pt x="241" y="302"/>
                    </a:lnTo>
                    <a:lnTo>
                      <a:pt x="235" y="293"/>
                    </a:lnTo>
                    <a:lnTo>
                      <a:pt x="228" y="281"/>
                    </a:lnTo>
                    <a:lnTo>
                      <a:pt x="219" y="267"/>
                    </a:lnTo>
                    <a:lnTo>
                      <a:pt x="209" y="252"/>
                    </a:lnTo>
                    <a:lnTo>
                      <a:pt x="200" y="236"/>
                    </a:lnTo>
                    <a:lnTo>
                      <a:pt x="191" y="220"/>
                    </a:lnTo>
                    <a:lnTo>
                      <a:pt x="181" y="203"/>
                    </a:lnTo>
                    <a:lnTo>
                      <a:pt x="172" y="188"/>
                    </a:lnTo>
                    <a:lnTo>
                      <a:pt x="164" y="173"/>
                    </a:lnTo>
                    <a:lnTo>
                      <a:pt x="157" y="160"/>
                    </a:lnTo>
                    <a:lnTo>
                      <a:pt x="152" y="150"/>
                    </a:lnTo>
                    <a:lnTo>
                      <a:pt x="149" y="142"/>
                    </a:lnTo>
                    <a:lnTo>
                      <a:pt x="148" y="137"/>
                    </a:lnTo>
                    <a:lnTo>
                      <a:pt x="163" y="137"/>
                    </a:lnTo>
                    <a:lnTo>
                      <a:pt x="162" y="130"/>
                    </a:lnTo>
                    <a:lnTo>
                      <a:pt x="157" y="124"/>
                    </a:lnTo>
                    <a:lnTo>
                      <a:pt x="151" y="117"/>
                    </a:lnTo>
                    <a:lnTo>
                      <a:pt x="144" y="109"/>
                    </a:lnTo>
                    <a:lnTo>
                      <a:pt x="136" y="102"/>
                    </a:lnTo>
                    <a:lnTo>
                      <a:pt x="129" y="97"/>
                    </a:lnTo>
                    <a:lnTo>
                      <a:pt x="122" y="91"/>
                    </a:lnTo>
                    <a:lnTo>
                      <a:pt x="116" y="85"/>
                    </a:lnTo>
                    <a:lnTo>
                      <a:pt x="137" y="79"/>
                    </a:lnTo>
                    <a:lnTo>
                      <a:pt x="157" y="81"/>
                    </a:lnTo>
                    <a:lnTo>
                      <a:pt x="177" y="88"/>
                    </a:lnTo>
                    <a:lnTo>
                      <a:pt x="194" y="101"/>
                    </a:lnTo>
                    <a:lnTo>
                      <a:pt x="210" y="116"/>
                    </a:lnTo>
                    <a:lnTo>
                      <a:pt x="226" y="133"/>
                    </a:lnTo>
                    <a:lnTo>
                      <a:pt x="238" y="150"/>
                    </a:lnTo>
                    <a:lnTo>
                      <a:pt x="250" y="165"/>
                    </a:lnTo>
                    <a:lnTo>
                      <a:pt x="245" y="147"/>
                    </a:lnTo>
                    <a:lnTo>
                      <a:pt x="242" y="128"/>
                    </a:lnTo>
                    <a:lnTo>
                      <a:pt x="241" y="110"/>
                    </a:lnTo>
                    <a:lnTo>
                      <a:pt x="239" y="93"/>
                    </a:lnTo>
                    <a:lnTo>
                      <a:pt x="239" y="78"/>
                    </a:lnTo>
                    <a:lnTo>
                      <a:pt x="239" y="64"/>
                    </a:lnTo>
                    <a:lnTo>
                      <a:pt x="241" y="51"/>
                    </a:lnTo>
                    <a:lnTo>
                      <a:pt x="243" y="41"/>
                    </a:lnTo>
                    <a:lnTo>
                      <a:pt x="244" y="33"/>
                    </a:lnTo>
                    <a:lnTo>
                      <a:pt x="246" y="28"/>
                    </a:lnTo>
                    <a:lnTo>
                      <a:pt x="249" y="24"/>
                    </a:lnTo>
                    <a:lnTo>
                      <a:pt x="251" y="26"/>
                    </a:lnTo>
                    <a:lnTo>
                      <a:pt x="252" y="29"/>
                    </a:lnTo>
                    <a:lnTo>
                      <a:pt x="255" y="37"/>
                    </a:lnTo>
                    <a:lnTo>
                      <a:pt x="256" y="49"/>
                    </a:lnTo>
                    <a:lnTo>
                      <a:pt x="256" y="65"/>
                    </a:lnTo>
                    <a:lnTo>
                      <a:pt x="257" y="51"/>
                    </a:lnTo>
                    <a:lnTo>
                      <a:pt x="259" y="38"/>
                    </a:lnTo>
                    <a:lnTo>
                      <a:pt x="263" y="28"/>
                    </a:lnTo>
                    <a:lnTo>
                      <a:pt x="269" y="19"/>
                    </a:lnTo>
                    <a:lnTo>
                      <a:pt x="276" y="12"/>
                    </a:lnTo>
                    <a:lnTo>
                      <a:pt x="285" y="6"/>
                    </a:lnTo>
                    <a:lnTo>
                      <a:pt x="295" y="2"/>
                    </a:lnTo>
                    <a:lnTo>
                      <a:pt x="308" y="1"/>
                    </a:lnTo>
                    <a:lnTo>
                      <a:pt x="308" y="56"/>
                    </a:lnTo>
                    <a:lnTo>
                      <a:pt x="314" y="53"/>
                    </a:lnTo>
                    <a:lnTo>
                      <a:pt x="319" y="49"/>
                    </a:lnTo>
                    <a:lnTo>
                      <a:pt x="322" y="43"/>
                    </a:lnTo>
                    <a:lnTo>
                      <a:pt x="327" y="37"/>
                    </a:lnTo>
                    <a:lnTo>
                      <a:pt x="330" y="30"/>
                    </a:lnTo>
                    <a:lnTo>
                      <a:pt x="334" y="24"/>
                    </a:lnTo>
                    <a:lnTo>
                      <a:pt x="337" y="19"/>
                    </a:lnTo>
                    <a:lnTo>
                      <a:pt x="342" y="13"/>
                    </a:lnTo>
                    <a:lnTo>
                      <a:pt x="348" y="14"/>
                    </a:lnTo>
                    <a:lnTo>
                      <a:pt x="353" y="15"/>
                    </a:lnTo>
                    <a:lnTo>
                      <a:pt x="359" y="19"/>
                    </a:lnTo>
                    <a:lnTo>
                      <a:pt x="364" y="22"/>
                    </a:lnTo>
                    <a:lnTo>
                      <a:pt x="372" y="20"/>
                    </a:lnTo>
                    <a:lnTo>
                      <a:pt x="380" y="15"/>
                    </a:lnTo>
                    <a:lnTo>
                      <a:pt x="387" y="12"/>
                    </a:lnTo>
                    <a:lnTo>
                      <a:pt x="395" y="7"/>
                    </a:lnTo>
                    <a:lnTo>
                      <a:pt x="402" y="3"/>
                    </a:lnTo>
                    <a:lnTo>
                      <a:pt x="412" y="1"/>
                    </a:lnTo>
                    <a:lnTo>
                      <a:pt x="421" y="0"/>
                    </a:lnTo>
                    <a:lnTo>
                      <a:pt x="431" y="1"/>
                    </a:lnTo>
                    <a:lnTo>
                      <a:pt x="430" y="10"/>
                    </a:lnTo>
                    <a:lnTo>
                      <a:pt x="427" y="21"/>
                    </a:lnTo>
                    <a:lnTo>
                      <a:pt x="422" y="31"/>
                    </a:lnTo>
                    <a:lnTo>
                      <a:pt x="417" y="43"/>
                    </a:lnTo>
                    <a:lnTo>
                      <a:pt x="412" y="55"/>
                    </a:lnTo>
                    <a:lnTo>
                      <a:pt x="407" y="65"/>
                    </a:lnTo>
                    <a:lnTo>
                      <a:pt x="403" y="76"/>
                    </a:lnTo>
                    <a:lnTo>
                      <a:pt x="401" y="85"/>
                    </a:lnTo>
                    <a:lnTo>
                      <a:pt x="398" y="102"/>
                    </a:lnTo>
                    <a:lnTo>
                      <a:pt x="393" y="121"/>
                    </a:lnTo>
                    <a:lnTo>
                      <a:pt x="387" y="140"/>
                    </a:lnTo>
                    <a:lnTo>
                      <a:pt x="381" y="158"/>
                    </a:lnTo>
                    <a:lnTo>
                      <a:pt x="375" y="177"/>
                    </a:lnTo>
                    <a:lnTo>
                      <a:pt x="370" y="195"/>
                    </a:lnTo>
                    <a:lnTo>
                      <a:pt x="364" y="212"/>
                    </a:lnTo>
                    <a:lnTo>
                      <a:pt x="359" y="227"/>
                    </a:lnTo>
                    <a:lnTo>
                      <a:pt x="355" y="241"/>
                    </a:lnTo>
                    <a:lnTo>
                      <a:pt x="352" y="252"/>
                    </a:lnTo>
                    <a:lnTo>
                      <a:pt x="350" y="260"/>
                    </a:lnTo>
                    <a:lnTo>
                      <a:pt x="349" y="266"/>
                    </a:lnTo>
                    <a:lnTo>
                      <a:pt x="350" y="269"/>
                    </a:lnTo>
                    <a:lnTo>
                      <a:pt x="352" y="267"/>
                    </a:lnTo>
                    <a:lnTo>
                      <a:pt x="357" y="262"/>
                    </a:lnTo>
                    <a:lnTo>
                      <a:pt x="364" y="251"/>
                    </a:lnTo>
                    <a:lnTo>
                      <a:pt x="386" y="213"/>
                    </a:lnTo>
                    <a:lnTo>
                      <a:pt x="402" y="180"/>
                    </a:lnTo>
                    <a:lnTo>
                      <a:pt x="417" y="155"/>
                    </a:lnTo>
                    <a:lnTo>
                      <a:pt x="431" y="134"/>
                    </a:lnTo>
                    <a:lnTo>
                      <a:pt x="445" y="121"/>
                    </a:lnTo>
                    <a:lnTo>
                      <a:pt x="462" y="116"/>
                    </a:lnTo>
                    <a:lnTo>
                      <a:pt x="481" y="120"/>
                    </a:lnTo>
                    <a:lnTo>
                      <a:pt x="508" y="131"/>
                    </a:lnTo>
                    <a:lnTo>
                      <a:pt x="501" y="137"/>
                    </a:lnTo>
                    <a:lnTo>
                      <a:pt x="495" y="144"/>
                    </a:lnTo>
                    <a:lnTo>
                      <a:pt x="488" y="151"/>
                    </a:lnTo>
                    <a:lnTo>
                      <a:pt x="484" y="158"/>
                    </a:lnTo>
                    <a:lnTo>
                      <a:pt x="478" y="166"/>
                    </a:lnTo>
                    <a:lnTo>
                      <a:pt x="473" y="174"/>
                    </a:lnTo>
                    <a:lnTo>
                      <a:pt x="468" y="183"/>
                    </a:lnTo>
                    <a:lnTo>
                      <a:pt x="465" y="190"/>
                    </a:lnTo>
                    <a:lnTo>
                      <a:pt x="478" y="188"/>
                    </a:lnTo>
                    <a:lnTo>
                      <a:pt x="488" y="187"/>
                    </a:lnTo>
                    <a:lnTo>
                      <a:pt x="496" y="187"/>
                    </a:lnTo>
                    <a:lnTo>
                      <a:pt x="503" y="187"/>
                    </a:lnTo>
                    <a:lnTo>
                      <a:pt x="508" y="188"/>
                    </a:lnTo>
                    <a:lnTo>
                      <a:pt x="513" y="192"/>
                    </a:lnTo>
                    <a:lnTo>
                      <a:pt x="516" y="199"/>
                    </a:lnTo>
                    <a:lnTo>
                      <a:pt x="520" y="208"/>
                    </a:lnTo>
                    <a:lnTo>
                      <a:pt x="514" y="209"/>
                    </a:lnTo>
                    <a:lnTo>
                      <a:pt x="507" y="212"/>
                    </a:lnTo>
                    <a:lnTo>
                      <a:pt x="499" y="215"/>
                    </a:lnTo>
                    <a:lnTo>
                      <a:pt x="491" y="220"/>
                    </a:lnTo>
                    <a:lnTo>
                      <a:pt x="484" y="226"/>
                    </a:lnTo>
                    <a:lnTo>
                      <a:pt x="477" y="231"/>
                    </a:lnTo>
                    <a:lnTo>
                      <a:pt x="470" y="237"/>
                    </a:lnTo>
                    <a:lnTo>
                      <a:pt x="465" y="242"/>
                    </a:lnTo>
                    <a:lnTo>
                      <a:pt x="477" y="242"/>
                    </a:lnTo>
                    <a:lnTo>
                      <a:pt x="489" y="243"/>
                    </a:lnTo>
                    <a:lnTo>
                      <a:pt x="505" y="245"/>
                    </a:lnTo>
                    <a:lnTo>
                      <a:pt x="521" y="249"/>
                    </a:lnTo>
                    <a:lnTo>
                      <a:pt x="539" y="257"/>
                    </a:lnTo>
                    <a:lnTo>
                      <a:pt x="559" y="269"/>
                    </a:lnTo>
                    <a:lnTo>
                      <a:pt x="582" y="287"/>
                    </a:lnTo>
                    <a:lnTo>
                      <a:pt x="607" y="313"/>
                    </a:lnTo>
                    <a:lnTo>
                      <a:pt x="594" y="315"/>
                    </a:lnTo>
                    <a:lnTo>
                      <a:pt x="581" y="317"/>
                    </a:lnTo>
                    <a:lnTo>
                      <a:pt x="568" y="321"/>
                    </a:lnTo>
                    <a:lnTo>
                      <a:pt x="556" y="324"/>
                    </a:lnTo>
                    <a:lnTo>
                      <a:pt x="542" y="326"/>
                    </a:lnTo>
                    <a:lnTo>
                      <a:pt x="527" y="326"/>
                    </a:lnTo>
                    <a:lnTo>
                      <a:pt x="510" y="324"/>
                    </a:lnTo>
                    <a:lnTo>
                      <a:pt x="493" y="319"/>
                    </a:lnTo>
                    <a:lnTo>
                      <a:pt x="486" y="320"/>
                    </a:lnTo>
                    <a:lnTo>
                      <a:pt x="478" y="326"/>
                    </a:lnTo>
                    <a:lnTo>
                      <a:pt x="467" y="335"/>
                    </a:lnTo>
                    <a:lnTo>
                      <a:pt x="457" y="345"/>
                    </a:lnTo>
                    <a:lnTo>
                      <a:pt x="448" y="357"/>
                    </a:lnTo>
                    <a:lnTo>
                      <a:pt x="441" y="366"/>
                    </a:lnTo>
                    <a:lnTo>
                      <a:pt x="438" y="374"/>
                    </a:lnTo>
                    <a:lnTo>
                      <a:pt x="441" y="377"/>
                    </a:lnTo>
                    <a:lnTo>
                      <a:pt x="444" y="377"/>
                    </a:lnTo>
                    <a:lnTo>
                      <a:pt x="448" y="376"/>
                    </a:lnTo>
                    <a:lnTo>
                      <a:pt x="452" y="376"/>
                    </a:lnTo>
                    <a:lnTo>
                      <a:pt x="458" y="374"/>
                    </a:lnTo>
                    <a:lnTo>
                      <a:pt x="464" y="373"/>
                    </a:lnTo>
                    <a:lnTo>
                      <a:pt x="472" y="372"/>
                    </a:lnTo>
                    <a:lnTo>
                      <a:pt x="480" y="371"/>
                    </a:lnTo>
                    <a:lnTo>
                      <a:pt x="491" y="371"/>
                    </a:lnTo>
                    <a:lnTo>
                      <a:pt x="501" y="370"/>
                    </a:lnTo>
                    <a:lnTo>
                      <a:pt x="515" y="370"/>
                    </a:lnTo>
                    <a:lnTo>
                      <a:pt x="529" y="371"/>
                    </a:lnTo>
                    <a:lnTo>
                      <a:pt x="546" y="371"/>
                    </a:lnTo>
                    <a:lnTo>
                      <a:pt x="565" y="373"/>
                    </a:lnTo>
                    <a:lnTo>
                      <a:pt x="586" y="374"/>
                    </a:lnTo>
                    <a:lnTo>
                      <a:pt x="609" y="378"/>
                    </a:lnTo>
                    <a:lnTo>
                      <a:pt x="635" y="381"/>
                    </a:lnTo>
                    <a:lnTo>
                      <a:pt x="627" y="392"/>
                    </a:lnTo>
                    <a:lnTo>
                      <a:pt x="618" y="401"/>
                    </a:lnTo>
                    <a:lnTo>
                      <a:pt x="613" y="408"/>
                    </a:lnTo>
                    <a:lnTo>
                      <a:pt x="607" y="413"/>
                    </a:lnTo>
                    <a:lnTo>
                      <a:pt x="601" y="416"/>
                    </a:lnTo>
                    <a:lnTo>
                      <a:pt x="595" y="419"/>
                    </a:lnTo>
                    <a:lnTo>
                      <a:pt x="589" y="420"/>
                    </a:lnTo>
                    <a:lnTo>
                      <a:pt x="581" y="420"/>
                    </a:lnTo>
                    <a:lnTo>
                      <a:pt x="573" y="420"/>
                    </a:lnTo>
                    <a:lnTo>
                      <a:pt x="563" y="419"/>
                    </a:lnTo>
                    <a:lnTo>
                      <a:pt x="550" y="416"/>
                    </a:lnTo>
                    <a:lnTo>
                      <a:pt x="535" y="415"/>
                    </a:lnTo>
                    <a:lnTo>
                      <a:pt x="517" y="413"/>
                    </a:lnTo>
                    <a:lnTo>
                      <a:pt x="496" y="412"/>
                    </a:lnTo>
                    <a:lnTo>
                      <a:pt x="472" y="410"/>
                    </a:lnTo>
                    <a:lnTo>
                      <a:pt x="443" y="410"/>
                    </a:lnTo>
                    <a:lnTo>
                      <a:pt x="451" y="413"/>
                    </a:lnTo>
                    <a:lnTo>
                      <a:pt x="470" y="419"/>
                    </a:lnTo>
                    <a:lnTo>
                      <a:pt x="494" y="428"/>
                    </a:lnTo>
                    <a:lnTo>
                      <a:pt x="523" y="440"/>
                    </a:lnTo>
                    <a:lnTo>
                      <a:pt x="552" y="452"/>
                    </a:lnTo>
                    <a:lnTo>
                      <a:pt x="580" y="467"/>
                    </a:lnTo>
                    <a:lnTo>
                      <a:pt x="602" y="483"/>
                    </a:lnTo>
                    <a:lnTo>
                      <a:pt x="616" y="498"/>
                    </a:lnTo>
                    <a:lnTo>
                      <a:pt x="520" y="507"/>
                    </a:lnTo>
                    <a:lnTo>
                      <a:pt x="514" y="501"/>
                    </a:lnTo>
                    <a:lnTo>
                      <a:pt x="503" y="495"/>
                    </a:lnTo>
                    <a:lnTo>
                      <a:pt x="493" y="490"/>
                    </a:lnTo>
                    <a:lnTo>
                      <a:pt x="486" y="485"/>
                    </a:lnTo>
                    <a:lnTo>
                      <a:pt x="485" y="490"/>
                    </a:lnTo>
                    <a:lnTo>
                      <a:pt x="484" y="494"/>
                    </a:lnTo>
                    <a:lnTo>
                      <a:pt x="482" y="498"/>
                    </a:lnTo>
                    <a:lnTo>
                      <a:pt x="481" y="500"/>
                    </a:lnTo>
                    <a:lnTo>
                      <a:pt x="474" y="499"/>
                    </a:lnTo>
                    <a:lnTo>
                      <a:pt x="468" y="494"/>
                    </a:lnTo>
                    <a:lnTo>
                      <a:pt x="464" y="488"/>
                    </a:lnTo>
                    <a:lnTo>
                      <a:pt x="458" y="481"/>
                    </a:lnTo>
                    <a:lnTo>
                      <a:pt x="453" y="473"/>
                    </a:lnTo>
                    <a:lnTo>
                      <a:pt x="448" y="466"/>
                    </a:lnTo>
                    <a:lnTo>
                      <a:pt x="442" y="460"/>
                    </a:lnTo>
                    <a:lnTo>
                      <a:pt x="434" y="457"/>
                    </a:lnTo>
                    <a:lnTo>
                      <a:pt x="424" y="452"/>
                    </a:lnTo>
                    <a:lnTo>
                      <a:pt x="414" y="445"/>
                    </a:lnTo>
                    <a:lnTo>
                      <a:pt x="403" y="436"/>
                    </a:lnTo>
                    <a:lnTo>
                      <a:pt x="391" y="427"/>
                    </a:lnTo>
                    <a:lnTo>
                      <a:pt x="379" y="417"/>
                    </a:lnTo>
                    <a:lnTo>
                      <a:pt x="366" y="409"/>
                    </a:lnTo>
                    <a:lnTo>
                      <a:pt x="356" y="405"/>
                    </a:lnTo>
                    <a:lnTo>
                      <a:pt x="345" y="402"/>
                    </a:lnTo>
                    <a:lnTo>
                      <a:pt x="349" y="430"/>
                    </a:lnTo>
                    <a:lnTo>
                      <a:pt x="350" y="457"/>
                    </a:lnTo>
                    <a:lnTo>
                      <a:pt x="349" y="485"/>
                    </a:lnTo>
                    <a:lnTo>
                      <a:pt x="348" y="513"/>
                    </a:lnTo>
                    <a:lnTo>
                      <a:pt x="344" y="541"/>
                    </a:lnTo>
                    <a:lnTo>
                      <a:pt x="339" y="570"/>
                    </a:lnTo>
                    <a:lnTo>
                      <a:pt x="335" y="599"/>
                    </a:lnTo>
                    <a:lnTo>
                      <a:pt x="329" y="628"/>
                    </a:lnTo>
                    <a:lnTo>
                      <a:pt x="324" y="658"/>
                    </a:lnTo>
                    <a:lnTo>
                      <a:pt x="319" y="690"/>
                    </a:lnTo>
                    <a:lnTo>
                      <a:pt x="314" y="720"/>
                    </a:lnTo>
                    <a:lnTo>
                      <a:pt x="309" y="752"/>
                    </a:lnTo>
                    <a:lnTo>
                      <a:pt x="306" y="785"/>
                    </a:lnTo>
                    <a:lnTo>
                      <a:pt x="303" y="817"/>
                    </a:lnTo>
                    <a:lnTo>
                      <a:pt x="303" y="851"/>
                    </a:lnTo>
                    <a:lnTo>
                      <a:pt x="305" y="886"/>
                    </a:lnTo>
                    <a:lnTo>
                      <a:pt x="313" y="886"/>
                    </a:lnTo>
                    <a:lnTo>
                      <a:pt x="326" y="890"/>
                    </a:lnTo>
                    <a:lnTo>
                      <a:pt x="339" y="894"/>
                    </a:lnTo>
                    <a:lnTo>
                      <a:pt x="355" y="899"/>
                    </a:lnTo>
                    <a:lnTo>
                      <a:pt x="370" y="906"/>
                    </a:lnTo>
                    <a:lnTo>
                      <a:pt x="384" y="912"/>
                    </a:lnTo>
                    <a:lnTo>
                      <a:pt x="394" y="916"/>
                    </a:lnTo>
                    <a:lnTo>
                      <a:pt x="400" y="920"/>
                    </a:lnTo>
                    <a:lnTo>
                      <a:pt x="384" y="918"/>
                    </a:lnTo>
                    <a:lnTo>
                      <a:pt x="369" y="915"/>
                    </a:lnTo>
                    <a:lnTo>
                      <a:pt x="355" y="914"/>
                    </a:lnTo>
                    <a:lnTo>
                      <a:pt x="341" y="914"/>
                    </a:lnTo>
                    <a:lnTo>
                      <a:pt x="328" y="913"/>
                    </a:lnTo>
                    <a:lnTo>
                      <a:pt x="316" y="913"/>
                    </a:lnTo>
                    <a:lnTo>
                      <a:pt x="303" y="914"/>
                    </a:lnTo>
                    <a:lnTo>
                      <a:pt x="293" y="914"/>
                    </a:lnTo>
                    <a:lnTo>
                      <a:pt x="281" y="915"/>
                    </a:lnTo>
                    <a:lnTo>
                      <a:pt x="270" y="916"/>
                    </a:lnTo>
                    <a:lnTo>
                      <a:pt x="259" y="916"/>
                    </a:lnTo>
                    <a:lnTo>
                      <a:pt x="249" y="918"/>
                    </a:lnTo>
                    <a:lnTo>
                      <a:pt x="237" y="919"/>
                    </a:lnTo>
                    <a:lnTo>
                      <a:pt x="226" y="919"/>
                    </a:lnTo>
                    <a:lnTo>
                      <a:pt x="214" y="920"/>
                    </a:lnTo>
                    <a:lnTo>
                      <a:pt x="202" y="920"/>
                    </a:lnTo>
                    <a:lnTo>
                      <a:pt x="193" y="920"/>
                    </a:lnTo>
                    <a:lnTo>
                      <a:pt x="185" y="920"/>
                    </a:lnTo>
                    <a:lnTo>
                      <a:pt x="176" y="920"/>
                    </a:lnTo>
                    <a:lnTo>
                      <a:pt x="167" y="921"/>
                    </a:lnTo>
                    <a:lnTo>
                      <a:pt x="159" y="922"/>
                    </a:lnTo>
                    <a:lnTo>
                      <a:pt x="151" y="922"/>
                    </a:lnTo>
                    <a:lnTo>
                      <a:pt x="143" y="923"/>
                    </a:lnTo>
                    <a:lnTo>
                      <a:pt x="135" y="923"/>
                    </a:lnTo>
                    <a:lnTo>
                      <a:pt x="140" y="921"/>
                    </a:lnTo>
                    <a:lnTo>
                      <a:pt x="144" y="918"/>
                    </a:lnTo>
                    <a:lnTo>
                      <a:pt x="151" y="913"/>
                    </a:lnTo>
                    <a:lnTo>
                      <a:pt x="165" y="908"/>
                    </a:lnTo>
                    <a:lnTo>
                      <a:pt x="169" y="904"/>
                    </a:lnTo>
                    <a:lnTo>
                      <a:pt x="176" y="901"/>
                    </a:lnTo>
                    <a:lnTo>
                      <a:pt x="184" y="899"/>
                    </a:lnTo>
                    <a:lnTo>
                      <a:pt x="192" y="897"/>
                    </a:lnTo>
                    <a:lnTo>
                      <a:pt x="201" y="897"/>
                    </a:lnTo>
                    <a:lnTo>
                      <a:pt x="209" y="895"/>
                    </a:lnTo>
                    <a:lnTo>
                      <a:pt x="216" y="895"/>
                    </a:lnTo>
                    <a:lnTo>
                      <a:pt x="222" y="895"/>
                    </a:lnTo>
                    <a:lnTo>
                      <a:pt x="229" y="892"/>
                    </a:lnTo>
                    <a:lnTo>
                      <a:pt x="237" y="888"/>
                    </a:lnTo>
                    <a:lnTo>
                      <a:pt x="246" y="887"/>
                    </a:lnTo>
                    <a:lnTo>
                      <a:pt x="253" y="886"/>
                    </a:lnTo>
                    <a:lnTo>
                      <a:pt x="253" y="841"/>
                    </a:lnTo>
                    <a:lnTo>
                      <a:pt x="255" y="813"/>
                    </a:lnTo>
                    <a:lnTo>
                      <a:pt x="256" y="785"/>
                    </a:lnTo>
                    <a:lnTo>
                      <a:pt x="259" y="757"/>
                    </a:lnTo>
                    <a:lnTo>
                      <a:pt x="264" y="729"/>
                    </a:lnTo>
                    <a:lnTo>
                      <a:pt x="269" y="701"/>
                    </a:lnTo>
                    <a:lnTo>
                      <a:pt x="274" y="673"/>
                    </a:lnTo>
                    <a:lnTo>
                      <a:pt x="280" y="647"/>
                    </a:lnTo>
                    <a:lnTo>
                      <a:pt x="286" y="619"/>
                    </a:lnTo>
                    <a:lnTo>
                      <a:pt x="291" y="591"/>
                    </a:lnTo>
                    <a:lnTo>
                      <a:pt x="296" y="564"/>
                    </a:lnTo>
                    <a:lnTo>
                      <a:pt x="301" y="536"/>
                    </a:lnTo>
                    <a:lnTo>
                      <a:pt x="305" y="508"/>
                    </a:lnTo>
                    <a:lnTo>
                      <a:pt x="307" y="480"/>
                    </a:lnTo>
                    <a:lnTo>
                      <a:pt x="308" y="452"/>
                    </a:lnTo>
                    <a:lnTo>
                      <a:pt x="308" y="424"/>
                    </a:lnTo>
                    <a:lnTo>
                      <a:pt x="307" y="397"/>
                    </a:lnTo>
                    <a:lnTo>
                      <a:pt x="289" y="420"/>
                    </a:lnTo>
                    <a:lnTo>
                      <a:pt x="274" y="442"/>
                    </a:lnTo>
                    <a:lnTo>
                      <a:pt x="263" y="464"/>
                    </a:lnTo>
                    <a:lnTo>
                      <a:pt x="255" y="486"/>
                    </a:lnTo>
                    <a:lnTo>
                      <a:pt x="246" y="508"/>
                    </a:lnTo>
                    <a:lnTo>
                      <a:pt x="241" y="530"/>
                    </a:lnTo>
                    <a:lnTo>
                      <a:pt x="235" y="552"/>
                    </a:lnTo>
                    <a:lnTo>
                      <a:pt x="228" y="574"/>
                    </a:lnTo>
                    <a:lnTo>
                      <a:pt x="219" y="567"/>
                    </a:lnTo>
                    <a:lnTo>
                      <a:pt x="213" y="557"/>
                    </a:lnTo>
                    <a:lnTo>
                      <a:pt x="209" y="544"/>
                    </a:lnTo>
                    <a:lnTo>
                      <a:pt x="209" y="530"/>
                    </a:lnTo>
                    <a:lnTo>
                      <a:pt x="210" y="515"/>
                    </a:lnTo>
                    <a:lnTo>
                      <a:pt x="213" y="500"/>
                    </a:lnTo>
                    <a:lnTo>
                      <a:pt x="215" y="485"/>
                    </a:lnTo>
                    <a:lnTo>
                      <a:pt x="220" y="471"/>
                    </a:lnTo>
                    <a:lnTo>
                      <a:pt x="222" y="458"/>
                    </a:lnTo>
                    <a:lnTo>
                      <a:pt x="226" y="448"/>
                    </a:lnTo>
                    <a:lnTo>
                      <a:pt x="227" y="441"/>
                    </a:lnTo>
                    <a:lnTo>
                      <a:pt x="226" y="437"/>
                    </a:lnTo>
                    <a:lnTo>
                      <a:pt x="223" y="438"/>
                    </a:lnTo>
                    <a:lnTo>
                      <a:pt x="217" y="444"/>
                    </a:lnTo>
                    <a:lnTo>
                      <a:pt x="209" y="456"/>
                    </a:lnTo>
                    <a:lnTo>
                      <a:pt x="196" y="473"/>
                    </a:lnTo>
                    <a:lnTo>
                      <a:pt x="179" y="473"/>
                    </a:lnTo>
                    <a:lnTo>
                      <a:pt x="179" y="479"/>
                    </a:lnTo>
                    <a:lnTo>
                      <a:pt x="179" y="486"/>
                    </a:lnTo>
                    <a:lnTo>
                      <a:pt x="178" y="491"/>
                    </a:lnTo>
                    <a:lnTo>
                      <a:pt x="178" y="495"/>
                    </a:lnTo>
                    <a:lnTo>
                      <a:pt x="169" y="500"/>
                    </a:lnTo>
                    <a:lnTo>
                      <a:pt x="160" y="505"/>
                    </a:lnTo>
                    <a:lnTo>
                      <a:pt x="151" y="510"/>
                    </a:lnTo>
                    <a:lnTo>
                      <a:pt x="142" y="516"/>
                    </a:lnTo>
                    <a:lnTo>
                      <a:pt x="133" y="521"/>
                    </a:lnTo>
                    <a:lnTo>
                      <a:pt x="123" y="526"/>
                    </a:lnTo>
                    <a:lnTo>
                      <a:pt x="114" y="528"/>
                    </a:lnTo>
                    <a:lnTo>
                      <a:pt x="105" y="529"/>
                    </a:lnTo>
                    <a:lnTo>
                      <a:pt x="106" y="519"/>
                    </a:lnTo>
                    <a:lnTo>
                      <a:pt x="112" y="507"/>
                    </a:lnTo>
                    <a:lnTo>
                      <a:pt x="119" y="495"/>
                    </a:lnTo>
                    <a:lnTo>
                      <a:pt x="127" y="483"/>
                    </a:lnTo>
                    <a:lnTo>
                      <a:pt x="136" y="472"/>
                    </a:lnTo>
                    <a:lnTo>
                      <a:pt x="145" y="460"/>
                    </a:lnTo>
                    <a:lnTo>
                      <a:pt x="155" y="451"/>
                    </a:lnTo>
                    <a:lnTo>
                      <a:pt x="163" y="443"/>
                    </a:lnTo>
                    <a:lnTo>
                      <a:pt x="146" y="443"/>
                    </a:lnTo>
                    <a:lnTo>
                      <a:pt x="130" y="445"/>
                    </a:lnTo>
                    <a:lnTo>
                      <a:pt x="114" y="447"/>
                    </a:lnTo>
                    <a:lnTo>
                      <a:pt x="97" y="448"/>
                    </a:lnTo>
                    <a:lnTo>
                      <a:pt x="80" y="449"/>
                    </a:lnTo>
                    <a:lnTo>
                      <a:pt x="64" y="449"/>
                    </a:lnTo>
                    <a:lnTo>
                      <a:pt x="49" y="447"/>
                    </a:lnTo>
                    <a:lnTo>
                      <a:pt x="34" y="443"/>
                    </a:lnTo>
                    <a:lnTo>
                      <a:pt x="45" y="434"/>
                    </a:lnTo>
                    <a:lnTo>
                      <a:pt x="58" y="426"/>
                    </a:lnTo>
                    <a:lnTo>
                      <a:pt x="73" y="419"/>
                    </a:lnTo>
                    <a:lnTo>
                      <a:pt x="90" y="412"/>
                    </a:lnTo>
                    <a:lnTo>
                      <a:pt x="107" y="406"/>
                    </a:lnTo>
                    <a:lnTo>
                      <a:pt x="124" y="399"/>
                    </a:lnTo>
                    <a:lnTo>
                      <a:pt x="144" y="393"/>
                    </a:lnTo>
                    <a:lnTo>
                      <a:pt x="163" y="386"/>
                    </a:lnTo>
                    <a:lnTo>
                      <a:pt x="0" y="377"/>
                    </a:lnTo>
                    <a:lnTo>
                      <a:pt x="13" y="352"/>
                    </a:lnTo>
                    <a:lnTo>
                      <a:pt x="33" y="340"/>
                    </a:lnTo>
                    <a:lnTo>
                      <a:pt x="57" y="335"/>
                    </a:lnTo>
                    <a:lnTo>
                      <a:pt x="84" y="335"/>
                    </a:lnTo>
                    <a:lnTo>
                      <a:pt x="112" y="338"/>
                    </a:lnTo>
                    <a:lnTo>
                      <a:pt x="136" y="341"/>
                    </a:lnTo>
                    <a:lnTo>
                      <a:pt x="158" y="341"/>
                    </a:lnTo>
                    <a:lnTo>
                      <a:pt x="173" y="334"/>
                    </a:lnTo>
                    <a:lnTo>
                      <a:pt x="158" y="324"/>
                    </a:lnTo>
                    <a:lnTo>
                      <a:pt x="144" y="315"/>
                    </a:lnTo>
                    <a:lnTo>
                      <a:pt x="129" y="306"/>
                    </a:lnTo>
                    <a:lnTo>
                      <a:pt x="114" y="297"/>
                    </a:lnTo>
                    <a:lnTo>
                      <a:pt x="100" y="287"/>
                    </a:lnTo>
                    <a:lnTo>
                      <a:pt x="86" y="277"/>
                    </a:lnTo>
                    <a:lnTo>
                      <a:pt x="73" y="266"/>
                    </a:lnTo>
                    <a:lnTo>
                      <a:pt x="62" y="256"/>
                    </a:lnTo>
                    <a:lnTo>
                      <a:pt x="62" y="236"/>
                    </a:lnTo>
                    <a:lnTo>
                      <a:pt x="51" y="236"/>
                    </a:lnTo>
                    <a:lnTo>
                      <a:pt x="43" y="236"/>
                    </a:lnTo>
                    <a:lnTo>
                      <a:pt x="37" y="236"/>
                    </a:lnTo>
                    <a:lnTo>
                      <a:pt x="31" y="235"/>
                    </a:lnTo>
                    <a:lnTo>
                      <a:pt x="26" y="234"/>
                    </a:lnTo>
                    <a:lnTo>
                      <a:pt x="20" y="231"/>
                    </a:lnTo>
                    <a:lnTo>
                      <a:pt x="13" y="229"/>
                    </a:lnTo>
                    <a:lnTo>
                      <a:pt x="4" y="226"/>
                    </a:lnTo>
                    <a:lnTo>
                      <a:pt x="14" y="217"/>
                    </a:lnTo>
                    <a:lnTo>
                      <a:pt x="26" y="210"/>
                    </a:lnTo>
                    <a:lnTo>
                      <a:pt x="38" y="207"/>
                    </a:lnTo>
                    <a:lnTo>
                      <a:pt x="51" y="205"/>
                    </a:lnTo>
                    <a:lnTo>
                      <a:pt x="66" y="206"/>
                    </a:lnTo>
                    <a:lnTo>
                      <a:pt x="80" y="207"/>
                    </a:lnTo>
                    <a:lnTo>
                      <a:pt x="97" y="212"/>
                    </a:lnTo>
                    <a:lnTo>
                      <a:pt x="113" y="217"/>
                    </a:lnTo>
                    <a:lnTo>
                      <a:pt x="129" y="224"/>
                    </a:lnTo>
                    <a:lnTo>
                      <a:pt x="146" y="234"/>
                    </a:lnTo>
                    <a:lnTo>
                      <a:pt x="163" y="244"/>
                    </a:lnTo>
                    <a:lnTo>
                      <a:pt x="180" y="256"/>
                    </a:lnTo>
                    <a:lnTo>
                      <a:pt x="198" y="269"/>
                    </a:lnTo>
                    <a:lnTo>
                      <a:pt x="215" y="283"/>
                    </a:lnTo>
                    <a:lnTo>
                      <a:pt x="233" y="297"/>
                    </a:lnTo>
                    <a:lnTo>
                      <a:pt x="249" y="313"/>
                    </a:lnTo>
                    <a:close/>
                    <a:moveTo>
                      <a:pt x="310" y="281"/>
                    </a:moveTo>
                    <a:lnTo>
                      <a:pt x="310" y="269"/>
                    </a:lnTo>
                    <a:lnTo>
                      <a:pt x="310" y="256"/>
                    </a:lnTo>
                    <a:lnTo>
                      <a:pt x="310" y="242"/>
                    </a:lnTo>
                    <a:lnTo>
                      <a:pt x="310" y="229"/>
                    </a:lnTo>
                    <a:lnTo>
                      <a:pt x="312" y="215"/>
                    </a:lnTo>
                    <a:lnTo>
                      <a:pt x="314" y="203"/>
                    </a:lnTo>
                    <a:lnTo>
                      <a:pt x="316" y="191"/>
                    </a:lnTo>
                    <a:lnTo>
                      <a:pt x="321" y="180"/>
                    </a:lnTo>
                    <a:lnTo>
                      <a:pt x="316" y="180"/>
                    </a:lnTo>
                    <a:lnTo>
                      <a:pt x="312" y="184"/>
                    </a:lnTo>
                    <a:lnTo>
                      <a:pt x="308" y="188"/>
                    </a:lnTo>
                    <a:lnTo>
                      <a:pt x="302" y="192"/>
                    </a:lnTo>
                    <a:lnTo>
                      <a:pt x="300" y="179"/>
                    </a:lnTo>
                    <a:lnTo>
                      <a:pt x="299" y="164"/>
                    </a:lnTo>
                    <a:lnTo>
                      <a:pt x="298" y="147"/>
                    </a:lnTo>
                    <a:lnTo>
                      <a:pt x="298" y="128"/>
                    </a:lnTo>
                    <a:lnTo>
                      <a:pt x="298" y="110"/>
                    </a:lnTo>
                    <a:lnTo>
                      <a:pt x="299" y="94"/>
                    </a:lnTo>
                    <a:lnTo>
                      <a:pt x="301" y="80"/>
                    </a:lnTo>
                    <a:lnTo>
                      <a:pt x="305" y="70"/>
                    </a:lnTo>
                    <a:lnTo>
                      <a:pt x="302" y="76"/>
                    </a:lnTo>
                    <a:lnTo>
                      <a:pt x="299" y="85"/>
                    </a:lnTo>
                    <a:lnTo>
                      <a:pt x="295" y="97"/>
                    </a:lnTo>
                    <a:lnTo>
                      <a:pt x="292" y="110"/>
                    </a:lnTo>
                    <a:lnTo>
                      <a:pt x="288" y="127"/>
                    </a:lnTo>
                    <a:lnTo>
                      <a:pt x="287" y="145"/>
                    </a:lnTo>
                    <a:lnTo>
                      <a:pt x="287" y="165"/>
                    </a:lnTo>
                    <a:lnTo>
                      <a:pt x="289" y="186"/>
                    </a:lnTo>
                    <a:lnTo>
                      <a:pt x="285" y="184"/>
                    </a:lnTo>
                    <a:lnTo>
                      <a:pt x="281" y="184"/>
                    </a:lnTo>
                    <a:lnTo>
                      <a:pt x="279" y="186"/>
                    </a:lnTo>
                    <a:lnTo>
                      <a:pt x="278" y="190"/>
                    </a:lnTo>
                    <a:lnTo>
                      <a:pt x="279" y="194"/>
                    </a:lnTo>
                    <a:lnTo>
                      <a:pt x="281" y="200"/>
                    </a:lnTo>
                    <a:lnTo>
                      <a:pt x="285" y="206"/>
                    </a:lnTo>
                    <a:lnTo>
                      <a:pt x="289" y="213"/>
                    </a:lnTo>
                    <a:lnTo>
                      <a:pt x="291" y="221"/>
                    </a:lnTo>
                    <a:lnTo>
                      <a:pt x="293" y="230"/>
                    </a:lnTo>
                    <a:lnTo>
                      <a:pt x="296" y="238"/>
                    </a:lnTo>
                    <a:lnTo>
                      <a:pt x="300" y="247"/>
                    </a:lnTo>
                    <a:lnTo>
                      <a:pt x="303" y="255"/>
                    </a:lnTo>
                    <a:lnTo>
                      <a:pt x="307" y="263"/>
                    </a:lnTo>
                    <a:lnTo>
                      <a:pt x="309" y="272"/>
                    </a:lnTo>
                    <a:lnTo>
                      <a:pt x="310" y="2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02400" y="191160"/>
                <a:ext cx="412920" cy="616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586080" y="655200"/>
                <a:ext cx="164160" cy="285120"/>
              </a:xfrm>
              <a:custGeom>
                <a:avLst/>
                <a:gdLst/>
                <a:ahLst/>
                <a:rect l="l" t="t" r="r" b="b"/>
                <a:pathLst>
                  <a:path w="915" h="718">
                    <a:moveTo>
                      <a:pt x="540" y="401"/>
                    </a:moveTo>
                    <a:lnTo>
                      <a:pt x="540" y="401"/>
                    </a:lnTo>
                    <a:lnTo>
                      <a:pt x="540" y="412"/>
                    </a:lnTo>
                    <a:lnTo>
                      <a:pt x="540" y="421"/>
                    </a:lnTo>
                    <a:lnTo>
                      <a:pt x="540" y="430"/>
                    </a:lnTo>
                    <a:lnTo>
                      <a:pt x="540" y="440"/>
                    </a:lnTo>
                    <a:lnTo>
                      <a:pt x="539" y="448"/>
                    </a:lnTo>
                    <a:lnTo>
                      <a:pt x="538" y="455"/>
                    </a:lnTo>
                    <a:lnTo>
                      <a:pt x="538" y="462"/>
                    </a:lnTo>
                    <a:lnTo>
                      <a:pt x="537" y="469"/>
                    </a:lnTo>
                    <a:lnTo>
                      <a:pt x="536" y="476"/>
                    </a:lnTo>
                    <a:lnTo>
                      <a:pt x="534" y="483"/>
                    </a:lnTo>
                    <a:lnTo>
                      <a:pt x="533" y="489"/>
                    </a:lnTo>
                    <a:lnTo>
                      <a:pt x="533" y="494"/>
                    </a:lnTo>
                    <a:lnTo>
                      <a:pt x="533" y="500"/>
                    </a:lnTo>
                    <a:lnTo>
                      <a:pt x="534" y="506"/>
                    </a:lnTo>
                    <a:lnTo>
                      <a:pt x="536" y="512"/>
                    </a:lnTo>
                    <a:lnTo>
                      <a:pt x="537" y="516"/>
                    </a:lnTo>
                    <a:lnTo>
                      <a:pt x="538" y="522"/>
                    </a:lnTo>
                    <a:lnTo>
                      <a:pt x="539" y="528"/>
                    </a:lnTo>
                    <a:lnTo>
                      <a:pt x="539" y="534"/>
                    </a:lnTo>
                    <a:lnTo>
                      <a:pt x="539" y="540"/>
                    </a:lnTo>
                    <a:lnTo>
                      <a:pt x="538" y="546"/>
                    </a:lnTo>
                    <a:lnTo>
                      <a:pt x="537" y="553"/>
                    </a:lnTo>
                    <a:lnTo>
                      <a:pt x="534" y="558"/>
                    </a:lnTo>
                    <a:lnTo>
                      <a:pt x="532" y="565"/>
                    </a:lnTo>
                    <a:lnTo>
                      <a:pt x="531" y="569"/>
                    </a:lnTo>
                    <a:lnTo>
                      <a:pt x="531" y="572"/>
                    </a:lnTo>
                    <a:lnTo>
                      <a:pt x="530" y="576"/>
                    </a:lnTo>
                    <a:lnTo>
                      <a:pt x="529" y="580"/>
                    </a:lnTo>
                    <a:lnTo>
                      <a:pt x="529" y="586"/>
                    </a:lnTo>
                    <a:lnTo>
                      <a:pt x="527" y="592"/>
                    </a:lnTo>
                    <a:lnTo>
                      <a:pt x="527" y="598"/>
                    </a:lnTo>
                    <a:lnTo>
                      <a:pt x="527" y="605"/>
                    </a:lnTo>
                    <a:lnTo>
                      <a:pt x="527" y="611"/>
                    </a:lnTo>
                    <a:lnTo>
                      <a:pt x="529" y="617"/>
                    </a:lnTo>
                    <a:lnTo>
                      <a:pt x="530" y="623"/>
                    </a:lnTo>
                    <a:lnTo>
                      <a:pt x="531" y="629"/>
                    </a:lnTo>
                    <a:lnTo>
                      <a:pt x="532" y="636"/>
                    </a:lnTo>
                    <a:lnTo>
                      <a:pt x="534" y="643"/>
                    </a:lnTo>
                    <a:lnTo>
                      <a:pt x="537" y="651"/>
                    </a:lnTo>
                    <a:lnTo>
                      <a:pt x="539" y="660"/>
                    </a:lnTo>
                    <a:lnTo>
                      <a:pt x="544" y="658"/>
                    </a:lnTo>
                    <a:lnTo>
                      <a:pt x="550" y="656"/>
                    </a:lnTo>
                    <a:lnTo>
                      <a:pt x="555" y="651"/>
                    </a:lnTo>
                    <a:lnTo>
                      <a:pt x="563" y="646"/>
                    </a:lnTo>
                    <a:lnTo>
                      <a:pt x="568" y="642"/>
                    </a:lnTo>
                    <a:lnTo>
                      <a:pt x="572" y="637"/>
                    </a:lnTo>
                    <a:lnTo>
                      <a:pt x="576" y="633"/>
                    </a:lnTo>
                    <a:lnTo>
                      <a:pt x="581" y="627"/>
                    </a:lnTo>
                    <a:lnTo>
                      <a:pt x="584" y="620"/>
                    </a:lnTo>
                    <a:lnTo>
                      <a:pt x="588" y="613"/>
                    </a:lnTo>
                    <a:lnTo>
                      <a:pt x="591" y="605"/>
                    </a:lnTo>
                    <a:lnTo>
                      <a:pt x="595" y="597"/>
                    </a:lnTo>
                    <a:lnTo>
                      <a:pt x="598" y="589"/>
                    </a:lnTo>
                    <a:lnTo>
                      <a:pt x="601" y="580"/>
                    </a:lnTo>
                    <a:lnTo>
                      <a:pt x="603" y="572"/>
                    </a:lnTo>
                    <a:lnTo>
                      <a:pt x="605" y="565"/>
                    </a:lnTo>
                    <a:lnTo>
                      <a:pt x="608" y="558"/>
                    </a:lnTo>
                    <a:lnTo>
                      <a:pt x="610" y="551"/>
                    </a:lnTo>
                    <a:lnTo>
                      <a:pt x="611" y="546"/>
                    </a:lnTo>
                    <a:lnTo>
                      <a:pt x="613" y="540"/>
                    </a:lnTo>
                    <a:lnTo>
                      <a:pt x="615" y="533"/>
                    </a:lnTo>
                    <a:lnTo>
                      <a:pt x="616" y="526"/>
                    </a:lnTo>
                    <a:lnTo>
                      <a:pt x="617" y="519"/>
                    </a:lnTo>
                    <a:lnTo>
                      <a:pt x="618" y="511"/>
                    </a:lnTo>
                    <a:lnTo>
                      <a:pt x="618" y="503"/>
                    </a:lnTo>
                    <a:lnTo>
                      <a:pt x="618" y="494"/>
                    </a:lnTo>
                    <a:lnTo>
                      <a:pt x="618" y="485"/>
                    </a:lnTo>
                    <a:lnTo>
                      <a:pt x="617" y="477"/>
                    </a:lnTo>
                    <a:lnTo>
                      <a:pt x="617" y="471"/>
                    </a:lnTo>
                    <a:lnTo>
                      <a:pt x="616" y="465"/>
                    </a:lnTo>
                    <a:lnTo>
                      <a:pt x="616" y="461"/>
                    </a:lnTo>
                    <a:lnTo>
                      <a:pt x="616" y="455"/>
                    </a:lnTo>
                    <a:lnTo>
                      <a:pt x="617" y="450"/>
                    </a:lnTo>
                    <a:lnTo>
                      <a:pt x="617" y="444"/>
                    </a:lnTo>
                    <a:lnTo>
                      <a:pt x="617" y="440"/>
                    </a:lnTo>
                    <a:lnTo>
                      <a:pt x="618" y="435"/>
                    </a:lnTo>
                    <a:lnTo>
                      <a:pt x="619" y="430"/>
                    </a:lnTo>
                    <a:lnTo>
                      <a:pt x="619" y="425"/>
                    </a:lnTo>
                    <a:lnTo>
                      <a:pt x="619" y="420"/>
                    </a:lnTo>
                    <a:lnTo>
                      <a:pt x="619" y="414"/>
                    </a:lnTo>
                    <a:lnTo>
                      <a:pt x="619" y="410"/>
                    </a:lnTo>
                    <a:lnTo>
                      <a:pt x="618" y="405"/>
                    </a:lnTo>
                    <a:lnTo>
                      <a:pt x="617" y="399"/>
                    </a:lnTo>
                    <a:lnTo>
                      <a:pt x="616" y="394"/>
                    </a:lnTo>
                    <a:lnTo>
                      <a:pt x="605" y="399"/>
                    </a:lnTo>
                    <a:lnTo>
                      <a:pt x="595" y="403"/>
                    </a:lnTo>
                    <a:lnTo>
                      <a:pt x="586" y="405"/>
                    </a:lnTo>
                    <a:lnTo>
                      <a:pt x="576" y="406"/>
                    </a:lnTo>
                    <a:lnTo>
                      <a:pt x="567" y="407"/>
                    </a:lnTo>
                    <a:lnTo>
                      <a:pt x="558" y="406"/>
                    </a:lnTo>
                    <a:lnTo>
                      <a:pt x="548" y="405"/>
                    </a:lnTo>
                    <a:lnTo>
                      <a:pt x="540" y="401"/>
                    </a:lnTo>
                    <a:close/>
                    <a:moveTo>
                      <a:pt x="258" y="383"/>
                    </a:moveTo>
                    <a:lnTo>
                      <a:pt x="257" y="383"/>
                    </a:lnTo>
                    <a:lnTo>
                      <a:pt x="239" y="378"/>
                    </a:lnTo>
                    <a:lnTo>
                      <a:pt x="223" y="371"/>
                    </a:lnTo>
                    <a:lnTo>
                      <a:pt x="209" y="362"/>
                    </a:lnTo>
                    <a:lnTo>
                      <a:pt x="195" y="351"/>
                    </a:lnTo>
                    <a:lnTo>
                      <a:pt x="182" y="339"/>
                    </a:lnTo>
                    <a:lnTo>
                      <a:pt x="172" y="323"/>
                    </a:lnTo>
                    <a:lnTo>
                      <a:pt x="161" y="306"/>
                    </a:lnTo>
                    <a:lnTo>
                      <a:pt x="153" y="287"/>
                    </a:lnTo>
                    <a:lnTo>
                      <a:pt x="146" y="268"/>
                    </a:lnTo>
                    <a:lnTo>
                      <a:pt x="139" y="249"/>
                    </a:lnTo>
                    <a:lnTo>
                      <a:pt x="135" y="230"/>
                    </a:lnTo>
                    <a:lnTo>
                      <a:pt x="131" y="213"/>
                    </a:lnTo>
                    <a:lnTo>
                      <a:pt x="128" y="196"/>
                    </a:lnTo>
                    <a:lnTo>
                      <a:pt x="125" y="179"/>
                    </a:lnTo>
                    <a:lnTo>
                      <a:pt x="125" y="164"/>
                    </a:lnTo>
                    <a:lnTo>
                      <a:pt x="125" y="150"/>
                    </a:lnTo>
                    <a:lnTo>
                      <a:pt x="123" y="146"/>
                    </a:lnTo>
                    <a:lnTo>
                      <a:pt x="119" y="140"/>
                    </a:lnTo>
                    <a:lnTo>
                      <a:pt x="115" y="134"/>
                    </a:lnTo>
                    <a:lnTo>
                      <a:pt x="110" y="127"/>
                    </a:lnTo>
                    <a:lnTo>
                      <a:pt x="104" y="120"/>
                    </a:lnTo>
                    <a:lnTo>
                      <a:pt x="101" y="114"/>
                    </a:lnTo>
                    <a:lnTo>
                      <a:pt x="99" y="108"/>
                    </a:lnTo>
                    <a:lnTo>
                      <a:pt x="97" y="103"/>
                    </a:lnTo>
                    <a:lnTo>
                      <a:pt x="95" y="103"/>
                    </a:lnTo>
                    <a:lnTo>
                      <a:pt x="93" y="101"/>
                    </a:lnTo>
                    <a:lnTo>
                      <a:pt x="90" y="100"/>
                    </a:lnTo>
                    <a:lnTo>
                      <a:pt x="87" y="99"/>
                    </a:lnTo>
                    <a:lnTo>
                      <a:pt x="83" y="98"/>
                    </a:lnTo>
                    <a:lnTo>
                      <a:pt x="80" y="97"/>
                    </a:lnTo>
                    <a:lnTo>
                      <a:pt x="76" y="96"/>
                    </a:lnTo>
                    <a:lnTo>
                      <a:pt x="74" y="94"/>
                    </a:lnTo>
                    <a:lnTo>
                      <a:pt x="66" y="92"/>
                    </a:lnTo>
                    <a:lnTo>
                      <a:pt x="59" y="89"/>
                    </a:lnTo>
                    <a:lnTo>
                      <a:pt x="54" y="85"/>
                    </a:lnTo>
                    <a:lnTo>
                      <a:pt x="51" y="82"/>
                    </a:lnTo>
                    <a:lnTo>
                      <a:pt x="46" y="84"/>
                    </a:lnTo>
                    <a:lnTo>
                      <a:pt x="40" y="86"/>
                    </a:lnTo>
                    <a:lnTo>
                      <a:pt x="36" y="87"/>
                    </a:lnTo>
                    <a:lnTo>
                      <a:pt x="30" y="89"/>
                    </a:lnTo>
                    <a:lnTo>
                      <a:pt x="24" y="89"/>
                    </a:lnTo>
                    <a:lnTo>
                      <a:pt x="18" y="87"/>
                    </a:lnTo>
                    <a:lnTo>
                      <a:pt x="12" y="86"/>
                    </a:lnTo>
                    <a:lnTo>
                      <a:pt x="7" y="84"/>
                    </a:lnTo>
                    <a:lnTo>
                      <a:pt x="3" y="82"/>
                    </a:lnTo>
                    <a:lnTo>
                      <a:pt x="1" y="79"/>
                    </a:lnTo>
                    <a:lnTo>
                      <a:pt x="1" y="76"/>
                    </a:lnTo>
                    <a:lnTo>
                      <a:pt x="2" y="72"/>
                    </a:lnTo>
                    <a:lnTo>
                      <a:pt x="2" y="71"/>
                    </a:lnTo>
                    <a:lnTo>
                      <a:pt x="4" y="69"/>
                    </a:lnTo>
                    <a:lnTo>
                      <a:pt x="7" y="68"/>
                    </a:lnTo>
                    <a:lnTo>
                      <a:pt x="10" y="68"/>
                    </a:lnTo>
                    <a:lnTo>
                      <a:pt x="7" y="68"/>
                    </a:lnTo>
                    <a:lnTo>
                      <a:pt x="4" y="66"/>
                    </a:lnTo>
                    <a:lnTo>
                      <a:pt x="2" y="65"/>
                    </a:lnTo>
                    <a:lnTo>
                      <a:pt x="0" y="64"/>
                    </a:lnTo>
                    <a:lnTo>
                      <a:pt x="0" y="56"/>
                    </a:lnTo>
                    <a:lnTo>
                      <a:pt x="2" y="50"/>
                    </a:lnTo>
                    <a:lnTo>
                      <a:pt x="7" y="44"/>
                    </a:lnTo>
                    <a:lnTo>
                      <a:pt x="15" y="41"/>
                    </a:lnTo>
                    <a:lnTo>
                      <a:pt x="19" y="33"/>
                    </a:lnTo>
                    <a:lnTo>
                      <a:pt x="23" y="26"/>
                    </a:lnTo>
                    <a:lnTo>
                      <a:pt x="28" y="22"/>
                    </a:lnTo>
                    <a:lnTo>
                      <a:pt x="31" y="20"/>
                    </a:lnTo>
                    <a:lnTo>
                      <a:pt x="35" y="20"/>
                    </a:lnTo>
                    <a:lnTo>
                      <a:pt x="39" y="19"/>
                    </a:lnTo>
                    <a:lnTo>
                      <a:pt x="44" y="19"/>
                    </a:lnTo>
                    <a:lnTo>
                      <a:pt x="49" y="19"/>
                    </a:lnTo>
                    <a:lnTo>
                      <a:pt x="53" y="18"/>
                    </a:lnTo>
                    <a:lnTo>
                      <a:pt x="59" y="18"/>
                    </a:lnTo>
                    <a:lnTo>
                      <a:pt x="64" y="18"/>
                    </a:lnTo>
                    <a:lnTo>
                      <a:pt x="69" y="18"/>
                    </a:lnTo>
                    <a:lnTo>
                      <a:pt x="75" y="18"/>
                    </a:lnTo>
                    <a:lnTo>
                      <a:pt x="81" y="19"/>
                    </a:lnTo>
                    <a:lnTo>
                      <a:pt x="87" y="19"/>
                    </a:lnTo>
                    <a:lnTo>
                      <a:pt x="93" y="18"/>
                    </a:lnTo>
                    <a:lnTo>
                      <a:pt x="99" y="18"/>
                    </a:lnTo>
                    <a:lnTo>
                      <a:pt x="104" y="18"/>
                    </a:lnTo>
                    <a:lnTo>
                      <a:pt x="110" y="16"/>
                    </a:lnTo>
                    <a:lnTo>
                      <a:pt x="116" y="15"/>
                    </a:lnTo>
                    <a:lnTo>
                      <a:pt x="121" y="15"/>
                    </a:lnTo>
                    <a:lnTo>
                      <a:pt x="124" y="14"/>
                    </a:lnTo>
                    <a:lnTo>
                      <a:pt x="128" y="12"/>
                    </a:lnTo>
                    <a:lnTo>
                      <a:pt x="130" y="11"/>
                    </a:lnTo>
                    <a:lnTo>
                      <a:pt x="132" y="8"/>
                    </a:lnTo>
                    <a:lnTo>
                      <a:pt x="135" y="7"/>
                    </a:lnTo>
                    <a:lnTo>
                      <a:pt x="138" y="5"/>
                    </a:lnTo>
                    <a:lnTo>
                      <a:pt x="142" y="4"/>
                    </a:lnTo>
                    <a:lnTo>
                      <a:pt x="144" y="2"/>
                    </a:lnTo>
                    <a:lnTo>
                      <a:pt x="150" y="2"/>
                    </a:lnTo>
                    <a:lnTo>
                      <a:pt x="158" y="4"/>
                    </a:lnTo>
                    <a:lnTo>
                      <a:pt x="168" y="5"/>
                    </a:lnTo>
                    <a:lnTo>
                      <a:pt x="176" y="6"/>
                    </a:lnTo>
                    <a:lnTo>
                      <a:pt x="183" y="7"/>
                    </a:lnTo>
                    <a:lnTo>
                      <a:pt x="187" y="7"/>
                    </a:lnTo>
                    <a:lnTo>
                      <a:pt x="188" y="6"/>
                    </a:lnTo>
                    <a:lnTo>
                      <a:pt x="195" y="2"/>
                    </a:lnTo>
                    <a:lnTo>
                      <a:pt x="201" y="1"/>
                    </a:lnTo>
                    <a:lnTo>
                      <a:pt x="207" y="0"/>
                    </a:lnTo>
                    <a:lnTo>
                      <a:pt x="212" y="0"/>
                    </a:lnTo>
                    <a:lnTo>
                      <a:pt x="217" y="2"/>
                    </a:lnTo>
                    <a:lnTo>
                      <a:pt x="223" y="5"/>
                    </a:lnTo>
                    <a:lnTo>
                      <a:pt x="226" y="8"/>
                    </a:lnTo>
                    <a:lnTo>
                      <a:pt x="231" y="13"/>
                    </a:lnTo>
                    <a:lnTo>
                      <a:pt x="235" y="19"/>
                    </a:lnTo>
                    <a:lnTo>
                      <a:pt x="238" y="25"/>
                    </a:lnTo>
                    <a:lnTo>
                      <a:pt x="241" y="29"/>
                    </a:lnTo>
                    <a:lnTo>
                      <a:pt x="245" y="33"/>
                    </a:lnTo>
                    <a:lnTo>
                      <a:pt x="247" y="35"/>
                    </a:lnTo>
                    <a:lnTo>
                      <a:pt x="250" y="39"/>
                    </a:lnTo>
                    <a:lnTo>
                      <a:pt x="251" y="41"/>
                    </a:lnTo>
                    <a:lnTo>
                      <a:pt x="253" y="43"/>
                    </a:lnTo>
                    <a:lnTo>
                      <a:pt x="255" y="49"/>
                    </a:lnTo>
                    <a:lnTo>
                      <a:pt x="258" y="55"/>
                    </a:lnTo>
                    <a:lnTo>
                      <a:pt x="259" y="61"/>
                    </a:lnTo>
                    <a:lnTo>
                      <a:pt x="260" y="65"/>
                    </a:lnTo>
                    <a:lnTo>
                      <a:pt x="260" y="71"/>
                    </a:lnTo>
                    <a:lnTo>
                      <a:pt x="259" y="76"/>
                    </a:lnTo>
                    <a:lnTo>
                      <a:pt x="257" y="79"/>
                    </a:lnTo>
                    <a:lnTo>
                      <a:pt x="254" y="84"/>
                    </a:lnTo>
                    <a:lnTo>
                      <a:pt x="252" y="90"/>
                    </a:lnTo>
                    <a:lnTo>
                      <a:pt x="250" y="97"/>
                    </a:lnTo>
                    <a:lnTo>
                      <a:pt x="248" y="105"/>
                    </a:lnTo>
                    <a:lnTo>
                      <a:pt x="248" y="116"/>
                    </a:lnTo>
                    <a:lnTo>
                      <a:pt x="250" y="129"/>
                    </a:lnTo>
                    <a:lnTo>
                      <a:pt x="251" y="143"/>
                    </a:lnTo>
                    <a:lnTo>
                      <a:pt x="253" y="159"/>
                    </a:lnTo>
                    <a:lnTo>
                      <a:pt x="257" y="178"/>
                    </a:lnTo>
                    <a:lnTo>
                      <a:pt x="259" y="186"/>
                    </a:lnTo>
                    <a:lnTo>
                      <a:pt x="265" y="193"/>
                    </a:lnTo>
                    <a:lnTo>
                      <a:pt x="273" y="197"/>
                    </a:lnTo>
                    <a:lnTo>
                      <a:pt x="283" y="198"/>
                    </a:lnTo>
                    <a:lnTo>
                      <a:pt x="289" y="198"/>
                    </a:lnTo>
                    <a:lnTo>
                      <a:pt x="295" y="198"/>
                    </a:lnTo>
                    <a:lnTo>
                      <a:pt x="301" y="198"/>
                    </a:lnTo>
                    <a:lnTo>
                      <a:pt x="305" y="198"/>
                    </a:lnTo>
                    <a:lnTo>
                      <a:pt x="309" y="198"/>
                    </a:lnTo>
                    <a:lnTo>
                      <a:pt x="312" y="197"/>
                    </a:lnTo>
                    <a:lnTo>
                      <a:pt x="316" y="196"/>
                    </a:lnTo>
                    <a:lnTo>
                      <a:pt x="318" y="194"/>
                    </a:lnTo>
                    <a:lnTo>
                      <a:pt x="325" y="191"/>
                    </a:lnTo>
                    <a:lnTo>
                      <a:pt x="333" y="186"/>
                    </a:lnTo>
                    <a:lnTo>
                      <a:pt x="340" y="182"/>
                    </a:lnTo>
                    <a:lnTo>
                      <a:pt x="347" y="176"/>
                    </a:lnTo>
                    <a:lnTo>
                      <a:pt x="353" y="169"/>
                    </a:lnTo>
                    <a:lnTo>
                      <a:pt x="360" y="161"/>
                    </a:lnTo>
                    <a:lnTo>
                      <a:pt x="367" y="153"/>
                    </a:lnTo>
                    <a:lnTo>
                      <a:pt x="373" y="143"/>
                    </a:lnTo>
                    <a:lnTo>
                      <a:pt x="380" y="134"/>
                    </a:lnTo>
                    <a:lnTo>
                      <a:pt x="387" y="126"/>
                    </a:lnTo>
                    <a:lnTo>
                      <a:pt x="394" y="118"/>
                    </a:lnTo>
                    <a:lnTo>
                      <a:pt x="401" y="111"/>
                    </a:lnTo>
                    <a:lnTo>
                      <a:pt x="409" y="104"/>
                    </a:lnTo>
                    <a:lnTo>
                      <a:pt x="416" y="98"/>
                    </a:lnTo>
                    <a:lnTo>
                      <a:pt x="424" y="93"/>
                    </a:lnTo>
                    <a:lnTo>
                      <a:pt x="431" y="90"/>
                    </a:lnTo>
                    <a:lnTo>
                      <a:pt x="438" y="85"/>
                    </a:lnTo>
                    <a:lnTo>
                      <a:pt x="444" y="78"/>
                    </a:lnTo>
                    <a:lnTo>
                      <a:pt x="448" y="71"/>
                    </a:lnTo>
                    <a:lnTo>
                      <a:pt x="452" y="62"/>
                    </a:lnTo>
                    <a:lnTo>
                      <a:pt x="453" y="57"/>
                    </a:lnTo>
                    <a:lnTo>
                      <a:pt x="457" y="51"/>
                    </a:lnTo>
                    <a:lnTo>
                      <a:pt x="459" y="47"/>
                    </a:lnTo>
                    <a:lnTo>
                      <a:pt x="464" y="42"/>
                    </a:lnTo>
                    <a:lnTo>
                      <a:pt x="468" y="37"/>
                    </a:lnTo>
                    <a:lnTo>
                      <a:pt x="473" y="34"/>
                    </a:lnTo>
                    <a:lnTo>
                      <a:pt x="479" y="29"/>
                    </a:lnTo>
                    <a:lnTo>
                      <a:pt x="486" y="26"/>
                    </a:lnTo>
                    <a:lnTo>
                      <a:pt x="490" y="23"/>
                    </a:lnTo>
                    <a:lnTo>
                      <a:pt x="497" y="20"/>
                    </a:lnTo>
                    <a:lnTo>
                      <a:pt x="503" y="19"/>
                    </a:lnTo>
                    <a:lnTo>
                      <a:pt x="511" y="16"/>
                    </a:lnTo>
                    <a:lnTo>
                      <a:pt x="518" y="15"/>
                    </a:lnTo>
                    <a:lnTo>
                      <a:pt x="527" y="15"/>
                    </a:lnTo>
                    <a:lnTo>
                      <a:pt x="537" y="14"/>
                    </a:lnTo>
                    <a:lnTo>
                      <a:pt x="546" y="14"/>
                    </a:lnTo>
                    <a:lnTo>
                      <a:pt x="555" y="15"/>
                    </a:lnTo>
                    <a:lnTo>
                      <a:pt x="563" y="18"/>
                    </a:lnTo>
                    <a:lnTo>
                      <a:pt x="570" y="20"/>
                    </a:lnTo>
                    <a:lnTo>
                      <a:pt x="576" y="25"/>
                    </a:lnTo>
                    <a:lnTo>
                      <a:pt x="581" y="28"/>
                    </a:lnTo>
                    <a:lnTo>
                      <a:pt x="586" y="34"/>
                    </a:lnTo>
                    <a:lnTo>
                      <a:pt x="588" y="40"/>
                    </a:lnTo>
                    <a:lnTo>
                      <a:pt x="590" y="46"/>
                    </a:lnTo>
                    <a:lnTo>
                      <a:pt x="593" y="59"/>
                    </a:lnTo>
                    <a:lnTo>
                      <a:pt x="596" y="71"/>
                    </a:lnTo>
                    <a:lnTo>
                      <a:pt x="601" y="82"/>
                    </a:lnTo>
                    <a:lnTo>
                      <a:pt x="605" y="90"/>
                    </a:lnTo>
                    <a:lnTo>
                      <a:pt x="611" y="97"/>
                    </a:lnTo>
                    <a:lnTo>
                      <a:pt x="618" y="101"/>
                    </a:lnTo>
                    <a:lnTo>
                      <a:pt x="625" y="104"/>
                    </a:lnTo>
                    <a:lnTo>
                      <a:pt x="633" y="105"/>
                    </a:lnTo>
                    <a:lnTo>
                      <a:pt x="637" y="98"/>
                    </a:lnTo>
                    <a:lnTo>
                      <a:pt x="641" y="91"/>
                    </a:lnTo>
                    <a:lnTo>
                      <a:pt x="645" y="84"/>
                    </a:lnTo>
                    <a:lnTo>
                      <a:pt x="650" y="77"/>
                    </a:lnTo>
                    <a:lnTo>
                      <a:pt x="653" y="71"/>
                    </a:lnTo>
                    <a:lnTo>
                      <a:pt x="658" y="65"/>
                    </a:lnTo>
                    <a:lnTo>
                      <a:pt x="661" y="59"/>
                    </a:lnTo>
                    <a:lnTo>
                      <a:pt x="665" y="55"/>
                    </a:lnTo>
                    <a:lnTo>
                      <a:pt x="669" y="49"/>
                    </a:lnTo>
                    <a:lnTo>
                      <a:pt x="674" y="46"/>
                    </a:lnTo>
                    <a:lnTo>
                      <a:pt x="680" y="42"/>
                    </a:lnTo>
                    <a:lnTo>
                      <a:pt x="687" y="40"/>
                    </a:lnTo>
                    <a:lnTo>
                      <a:pt x="695" y="39"/>
                    </a:lnTo>
                    <a:lnTo>
                      <a:pt x="702" y="40"/>
                    </a:lnTo>
                    <a:lnTo>
                      <a:pt x="711" y="41"/>
                    </a:lnTo>
                    <a:lnTo>
                      <a:pt x="720" y="43"/>
                    </a:lnTo>
                    <a:lnTo>
                      <a:pt x="729" y="46"/>
                    </a:lnTo>
                    <a:lnTo>
                      <a:pt x="737" y="49"/>
                    </a:lnTo>
                    <a:lnTo>
                      <a:pt x="742" y="53"/>
                    </a:lnTo>
                    <a:lnTo>
                      <a:pt x="748" y="56"/>
                    </a:lnTo>
                    <a:lnTo>
                      <a:pt x="753" y="61"/>
                    </a:lnTo>
                    <a:lnTo>
                      <a:pt x="758" y="64"/>
                    </a:lnTo>
                    <a:lnTo>
                      <a:pt x="760" y="69"/>
                    </a:lnTo>
                    <a:lnTo>
                      <a:pt x="762" y="72"/>
                    </a:lnTo>
                    <a:lnTo>
                      <a:pt x="763" y="77"/>
                    </a:lnTo>
                    <a:lnTo>
                      <a:pt x="765" y="80"/>
                    </a:lnTo>
                    <a:lnTo>
                      <a:pt x="767" y="85"/>
                    </a:lnTo>
                    <a:lnTo>
                      <a:pt x="768" y="90"/>
                    </a:lnTo>
                    <a:lnTo>
                      <a:pt x="770" y="94"/>
                    </a:lnTo>
                    <a:lnTo>
                      <a:pt x="772" y="98"/>
                    </a:lnTo>
                    <a:lnTo>
                      <a:pt x="774" y="101"/>
                    </a:lnTo>
                    <a:lnTo>
                      <a:pt x="775" y="105"/>
                    </a:lnTo>
                    <a:lnTo>
                      <a:pt x="777" y="113"/>
                    </a:lnTo>
                    <a:lnTo>
                      <a:pt x="781" y="120"/>
                    </a:lnTo>
                    <a:lnTo>
                      <a:pt x="783" y="126"/>
                    </a:lnTo>
                    <a:lnTo>
                      <a:pt x="787" y="132"/>
                    </a:lnTo>
                    <a:lnTo>
                      <a:pt x="789" y="135"/>
                    </a:lnTo>
                    <a:lnTo>
                      <a:pt x="792" y="140"/>
                    </a:lnTo>
                    <a:lnTo>
                      <a:pt x="796" y="142"/>
                    </a:lnTo>
                    <a:lnTo>
                      <a:pt x="799" y="144"/>
                    </a:lnTo>
                    <a:lnTo>
                      <a:pt x="804" y="148"/>
                    </a:lnTo>
                    <a:lnTo>
                      <a:pt x="811" y="153"/>
                    </a:lnTo>
                    <a:lnTo>
                      <a:pt x="818" y="161"/>
                    </a:lnTo>
                    <a:lnTo>
                      <a:pt x="826" y="170"/>
                    </a:lnTo>
                    <a:lnTo>
                      <a:pt x="831" y="178"/>
                    </a:lnTo>
                    <a:lnTo>
                      <a:pt x="835" y="185"/>
                    </a:lnTo>
                    <a:lnTo>
                      <a:pt x="840" y="193"/>
                    </a:lnTo>
                    <a:lnTo>
                      <a:pt x="844" y="199"/>
                    </a:lnTo>
                    <a:lnTo>
                      <a:pt x="847" y="206"/>
                    </a:lnTo>
                    <a:lnTo>
                      <a:pt x="849" y="212"/>
                    </a:lnTo>
                    <a:lnTo>
                      <a:pt x="852" y="216"/>
                    </a:lnTo>
                    <a:lnTo>
                      <a:pt x="854" y="221"/>
                    </a:lnTo>
                    <a:lnTo>
                      <a:pt x="856" y="227"/>
                    </a:lnTo>
                    <a:lnTo>
                      <a:pt x="859" y="235"/>
                    </a:lnTo>
                    <a:lnTo>
                      <a:pt x="860" y="244"/>
                    </a:lnTo>
                    <a:lnTo>
                      <a:pt x="861" y="254"/>
                    </a:lnTo>
                    <a:lnTo>
                      <a:pt x="861" y="265"/>
                    </a:lnTo>
                    <a:lnTo>
                      <a:pt x="861" y="278"/>
                    </a:lnTo>
                    <a:lnTo>
                      <a:pt x="860" y="291"/>
                    </a:lnTo>
                    <a:lnTo>
                      <a:pt x="858" y="306"/>
                    </a:lnTo>
                    <a:lnTo>
                      <a:pt x="861" y="315"/>
                    </a:lnTo>
                    <a:lnTo>
                      <a:pt x="866" y="323"/>
                    </a:lnTo>
                    <a:lnTo>
                      <a:pt x="873" y="328"/>
                    </a:lnTo>
                    <a:lnTo>
                      <a:pt x="880" y="332"/>
                    </a:lnTo>
                    <a:lnTo>
                      <a:pt x="888" y="335"/>
                    </a:lnTo>
                    <a:lnTo>
                      <a:pt x="895" y="340"/>
                    </a:lnTo>
                    <a:lnTo>
                      <a:pt x="902" y="346"/>
                    </a:lnTo>
                    <a:lnTo>
                      <a:pt x="909" y="351"/>
                    </a:lnTo>
                    <a:lnTo>
                      <a:pt x="912" y="357"/>
                    </a:lnTo>
                    <a:lnTo>
                      <a:pt x="915" y="362"/>
                    </a:lnTo>
                    <a:lnTo>
                      <a:pt x="915" y="365"/>
                    </a:lnTo>
                    <a:lnTo>
                      <a:pt x="913" y="369"/>
                    </a:lnTo>
                    <a:lnTo>
                      <a:pt x="904" y="366"/>
                    </a:lnTo>
                    <a:lnTo>
                      <a:pt x="895" y="363"/>
                    </a:lnTo>
                    <a:lnTo>
                      <a:pt x="887" y="361"/>
                    </a:lnTo>
                    <a:lnTo>
                      <a:pt x="877" y="356"/>
                    </a:lnTo>
                    <a:lnTo>
                      <a:pt x="869" y="353"/>
                    </a:lnTo>
                    <a:lnTo>
                      <a:pt x="861" y="348"/>
                    </a:lnTo>
                    <a:lnTo>
                      <a:pt x="853" y="343"/>
                    </a:lnTo>
                    <a:lnTo>
                      <a:pt x="845" y="337"/>
                    </a:lnTo>
                    <a:lnTo>
                      <a:pt x="842" y="342"/>
                    </a:lnTo>
                    <a:lnTo>
                      <a:pt x="840" y="349"/>
                    </a:lnTo>
                    <a:lnTo>
                      <a:pt x="838" y="356"/>
                    </a:lnTo>
                    <a:lnTo>
                      <a:pt x="835" y="364"/>
                    </a:lnTo>
                    <a:lnTo>
                      <a:pt x="832" y="375"/>
                    </a:lnTo>
                    <a:lnTo>
                      <a:pt x="830" y="385"/>
                    </a:lnTo>
                    <a:lnTo>
                      <a:pt x="826" y="396"/>
                    </a:lnTo>
                    <a:lnTo>
                      <a:pt x="823" y="408"/>
                    </a:lnTo>
                    <a:lnTo>
                      <a:pt x="819" y="420"/>
                    </a:lnTo>
                    <a:lnTo>
                      <a:pt x="817" y="430"/>
                    </a:lnTo>
                    <a:lnTo>
                      <a:pt x="816" y="442"/>
                    </a:lnTo>
                    <a:lnTo>
                      <a:pt x="816" y="451"/>
                    </a:lnTo>
                    <a:lnTo>
                      <a:pt x="816" y="461"/>
                    </a:lnTo>
                    <a:lnTo>
                      <a:pt x="817" y="470"/>
                    </a:lnTo>
                    <a:lnTo>
                      <a:pt x="818" y="478"/>
                    </a:lnTo>
                    <a:lnTo>
                      <a:pt x="820" y="486"/>
                    </a:lnTo>
                    <a:lnTo>
                      <a:pt x="822" y="492"/>
                    </a:lnTo>
                    <a:lnTo>
                      <a:pt x="823" y="499"/>
                    </a:lnTo>
                    <a:lnTo>
                      <a:pt x="823" y="506"/>
                    </a:lnTo>
                    <a:lnTo>
                      <a:pt x="823" y="514"/>
                    </a:lnTo>
                    <a:lnTo>
                      <a:pt x="822" y="519"/>
                    </a:lnTo>
                    <a:lnTo>
                      <a:pt x="822" y="525"/>
                    </a:lnTo>
                    <a:lnTo>
                      <a:pt x="820" y="529"/>
                    </a:lnTo>
                    <a:lnTo>
                      <a:pt x="820" y="533"/>
                    </a:lnTo>
                    <a:lnTo>
                      <a:pt x="819" y="537"/>
                    </a:lnTo>
                    <a:lnTo>
                      <a:pt x="819" y="541"/>
                    </a:lnTo>
                    <a:lnTo>
                      <a:pt x="818" y="543"/>
                    </a:lnTo>
                    <a:lnTo>
                      <a:pt x="818" y="546"/>
                    </a:lnTo>
                    <a:lnTo>
                      <a:pt x="817" y="553"/>
                    </a:lnTo>
                    <a:lnTo>
                      <a:pt x="817" y="561"/>
                    </a:lnTo>
                    <a:lnTo>
                      <a:pt x="817" y="569"/>
                    </a:lnTo>
                    <a:lnTo>
                      <a:pt x="816" y="577"/>
                    </a:lnTo>
                    <a:lnTo>
                      <a:pt x="816" y="585"/>
                    </a:lnTo>
                    <a:lnTo>
                      <a:pt x="816" y="593"/>
                    </a:lnTo>
                    <a:lnTo>
                      <a:pt x="817" y="603"/>
                    </a:lnTo>
                    <a:lnTo>
                      <a:pt x="817" y="611"/>
                    </a:lnTo>
                    <a:lnTo>
                      <a:pt x="818" y="621"/>
                    </a:lnTo>
                    <a:lnTo>
                      <a:pt x="818" y="630"/>
                    </a:lnTo>
                    <a:lnTo>
                      <a:pt x="819" y="640"/>
                    </a:lnTo>
                    <a:lnTo>
                      <a:pt x="820" y="649"/>
                    </a:lnTo>
                    <a:lnTo>
                      <a:pt x="822" y="657"/>
                    </a:lnTo>
                    <a:lnTo>
                      <a:pt x="822" y="664"/>
                    </a:lnTo>
                    <a:lnTo>
                      <a:pt x="823" y="671"/>
                    </a:lnTo>
                    <a:lnTo>
                      <a:pt x="823" y="678"/>
                    </a:lnTo>
                    <a:lnTo>
                      <a:pt x="827" y="685"/>
                    </a:lnTo>
                    <a:lnTo>
                      <a:pt x="830" y="690"/>
                    </a:lnTo>
                    <a:lnTo>
                      <a:pt x="832" y="694"/>
                    </a:lnTo>
                    <a:lnTo>
                      <a:pt x="832" y="697"/>
                    </a:lnTo>
                    <a:lnTo>
                      <a:pt x="831" y="701"/>
                    </a:lnTo>
                    <a:lnTo>
                      <a:pt x="827" y="706"/>
                    </a:lnTo>
                    <a:lnTo>
                      <a:pt x="824" y="710"/>
                    </a:lnTo>
                    <a:lnTo>
                      <a:pt x="818" y="712"/>
                    </a:lnTo>
                    <a:lnTo>
                      <a:pt x="810" y="713"/>
                    </a:lnTo>
                    <a:lnTo>
                      <a:pt x="801" y="713"/>
                    </a:lnTo>
                    <a:lnTo>
                      <a:pt x="790" y="713"/>
                    </a:lnTo>
                    <a:lnTo>
                      <a:pt x="779" y="712"/>
                    </a:lnTo>
                    <a:lnTo>
                      <a:pt x="773" y="711"/>
                    </a:lnTo>
                    <a:lnTo>
                      <a:pt x="770" y="710"/>
                    </a:lnTo>
                    <a:lnTo>
                      <a:pt x="770" y="706"/>
                    </a:lnTo>
                    <a:lnTo>
                      <a:pt x="774" y="703"/>
                    </a:lnTo>
                    <a:lnTo>
                      <a:pt x="766" y="704"/>
                    </a:lnTo>
                    <a:lnTo>
                      <a:pt x="760" y="703"/>
                    </a:lnTo>
                    <a:lnTo>
                      <a:pt x="756" y="700"/>
                    </a:lnTo>
                    <a:lnTo>
                      <a:pt x="755" y="696"/>
                    </a:lnTo>
                    <a:lnTo>
                      <a:pt x="756" y="693"/>
                    </a:lnTo>
                    <a:lnTo>
                      <a:pt x="758" y="690"/>
                    </a:lnTo>
                    <a:lnTo>
                      <a:pt x="761" y="687"/>
                    </a:lnTo>
                    <a:lnTo>
                      <a:pt x="765" y="685"/>
                    </a:lnTo>
                    <a:lnTo>
                      <a:pt x="770" y="682"/>
                    </a:lnTo>
                    <a:lnTo>
                      <a:pt x="777" y="677"/>
                    </a:lnTo>
                    <a:lnTo>
                      <a:pt x="784" y="672"/>
                    </a:lnTo>
                    <a:lnTo>
                      <a:pt x="791" y="665"/>
                    </a:lnTo>
                    <a:lnTo>
                      <a:pt x="792" y="663"/>
                    </a:lnTo>
                    <a:lnTo>
                      <a:pt x="794" y="658"/>
                    </a:lnTo>
                    <a:lnTo>
                      <a:pt x="794" y="653"/>
                    </a:lnTo>
                    <a:lnTo>
                      <a:pt x="795" y="647"/>
                    </a:lnTo>
                    <a:lnTo>
                      <a:pt x="795" y="639"/>
                    </a:lnTo>
                    <a:lnTo>
                      <a:pt x="795" y="630"/>
                    </a:lnTo>
                    <a:lnTo>
                      <a:pt x="795" y="620"/>
                    </a:lnTo>
                    <a:lnTo>
                      <a:pt x="794" y="610"/>
                    </a:lnTo>
                    <a:lnTo>
                      <a:pt x="792" y="597"/>
                    </a:lnTo>
                    <a:lnTo>
                      <a:pt x="791" y="585"/>
                    </a:lnTo>
                    <a:lnTo>
                      <a:pt x="790" y="575"/>
                    </a:lnTo>
                    <a:lnTo>
                      <a:pt x="789" y="565"/>
                    </a:lnTo>
                    <a:lnTo>
                      <a:pt x="789" y="557"/>
                    </a:lnTo>
                    <a:lnTo>
                      <a:pt x="788" y="550"/>
                    </a:lnTo>
                    <a:lnTo>
                      <a:pt x="788" y="544"/>
                    </a:lnTo>
                    <a:lnTo>
                      <a:pt x="788" y="540"/>
                    </a:lnTo>
                    <a:lnTo>
                      <a:pt x="786" y="536"/>
                    </a:lnTo>
                    <a:lnTo>
                      <a:pt x="782" y="532"/>
                    </a:lnTo>
                    <a:lnTo>
                      <a:pt x="780" y="525"/>
                    </a:lnTo>
                    <a:lnTo>
                      <a:pt x="777" y="516"/>
                    </a:lnTo>
                    <a:lnTo>
                      <a:pt x="776" y="508"/>
                    </a:lnTo>
                    <a:lnTo>
                      <a:pt x="776" y="500"/>
                    </a:lnTo>
                    <a:lnTo>
                      <a:pt x="777" y="494"/>
                    </a:lnTo>
                    <a:lnTo>
                      <a:pt x="781" y="489"/>
                    </a:lnTo>
                    <a:lnTo>
                      <a:pt x="781" y="480"/>
                    </a:lnTo>
                    <a:lnTo>
                      <a:pt x="780" y="472"/>
                    </a:lnTo>
                    <a:lnTo>
                      <a:pt x="777" y="464"/>
                    </a:lnTo>
                    <a:lnTo>
                      <a:pt x="775" y="456"/>
                    </a:lnTo>
                    <a:lnTo>
                      <a:pt x="772" y="449"/>
                    </a:lnTo>
                    <a:lnTo>
                      <a:pt x="768" y="441"/>
                    </a:lnTo>
                    <a:lnTo>
                      <a:pt x="763" y="433"/>
                    </a:lnTo>
                    <a:lnTo>
                      <a:pt x="758" y="426"/>
                    </a:lnTo>
                    <a:lnTo>
                      <a:pt x="753" y="419"/>
                    </a:lnTo>
                    <a:lnTo>
                      <a:pt x="748" y="411"/>
                    </a:lnTo>
                    <a:lnTo>
                      <a:pt x="746" y="404"/>
                    </a:lnTo>
                    <a:lnTo>
                      <a:pt x="744" y="396"/>
                    </a:lnTo>
                    <a:lnTo>
                      <a:pt x="742" y="387"/>
                    </a:lnTo>
                    <a:lnTo>
                      <a:pt x="742" y="379"/>
                    </a:lnTo>
                    <a:lnTo>
                      <a:pt x="744" y="370"/>
                    </a:lnTo>
                    <a:lnTo>
                      <a:pt x="746" y="362"/>
                    </a:lnTo>
                    <a:lnTo>
                      <a:pt x="745" y="358"/>
                    </a:lnTo>
                    <a:lnTo>
                      <a:pt x="742" y="355"/>
                    </a:lnTo>
                    <a:lnTo>
                      <a:pt x="739" y="354"/>
                    </a:lnTo>
                    <a:lnTo>
                      <a:pt x="734" y="353"/>
                    </a:lnTo>
                    <a:lnTo>
                      <a:pt x="730" y="354"/>
                    </a:lnTo>
                    <a:lnTo>
                      <a:pt x="727" y="355"/>
                    </a:lnTo>
                    <a:lnTo>
                      <a:pt x="725" y="358"/>
                    </a:lnTo>
                    <a:lnTo>
                      <a:pt x="724" y="364"/>
                    </a:lnTo>
                    <a:lnTo>
                      <a:pt x="719" y="375"/>
                    </a:lnTo>
                    <a:lnTo>
                      <a:pt x="716" y="384"/>
                    </a:lnTo>
                    <a:lnTo>
                      <a:pt x="712" y="393"/>
                    </a:lnTo>
                    <a:lnTo>
                      <a:pt x="708" y="401"/>
                    </a:lnTo>
                    <a:lnTo>
                      <a:pt x="704" y="411"/>
                    </a:lnTo>
                    <a:lnTo>
                      <a:pt x="701" y="418"/>
                    </a:lnTo>
                    <a:lnTo>
                      <a:pt x="698" y="426"/>
                    </a:lnTo>
                    <a:lnTo>
                      <a:pt x="695" y="433"/>
                    </a:lnTo>
                    <a:lnTo>
                      <a:pt x="690" y="442"/>
                    </a:lnTo>
                    <a:lnTo>
                      <a:pt x="687" y="450"/>
                    </a:lnTo>
                    <a:lnTo>
                      <a:pt x="683" y="460"/>
                    </a:lnTo>
                    <a:lnTo>
                      <a:pt x="681" y="469"/>
                    </a:lnTo>
                    <a:lnTo>
                      <a:pt x="677" y="477"/>
                    </a:lnTo>
                    <a:lnTo>
                      <a:pt x="675" y="486"/>
                    </a:lnTo>
                    <a:lnTo>
                      <a:pt x="674" y="496"/>
                    </a:lnTo>
                    <a:lnTo>
                      <a:pt x="673" y="505"/>
                    </a:lnTo>
                    <a:lnTo>
                      <a:pt x="672" y="512"/>
                    </a:lnTo>
                    <a:lnTo>
                      <a:pt x="669" y="520"/>
                    </a:lnTo>
                    <a:lnTo>
                      <a:pt x="667" y="527"/>
                    </a:lnTo>
                    <a:lnTo>
                      <a:pt x="665" y="535"/>
                    </a:lnTo>
                    <a:lnTo>
                      <a:pt x="660" y="542"/>
                    </a:lnTo>
                    <a:lnTo>
                      <a:pt x="656" y="550"/>
                    </a:lnTo>
                    <a:lnTo>
                      <a:pt x="652" y="557"/>
                    </a:lnTo>
                    <a:lnTo>
                      <a:pt x="646" y="564"/>
                    </a:lnTo>
                    <a:lnTo>
                      <a:pt x="641" y="571"/>
                    </a:lnTo>
                    <a:lnTo>
                      <a:pt x="637" y="577"/>
                    </a:lnTo>
                    <a:lnTo>
                      <a:pt x="632" y="584"/>
                    </a:lnTo>
                    <a:lnTo>
                      <a:pt x="627" y="591"/>
                    </a:lnTo>
                    <a:lnTo>
                      <a:pt x="624" y="598"/>
                    </a:lnTo>
                    <a:lnTo>
                      <a:pt x="620" y="605"/>
                    </a:lnTo>
                    <a:lnTo>
                      <a:pt x="617" y="613"/>
                    </a:lnTo>
                    <a:lnTo>
                      <a:pt x="615" y="620"/>
                    </a:lnTo>
                    <a:lnTo>
                      <a:pt x="612" y="630"/>
                    </a:lnTo>
                    <a:lnTo>
                      <a:pt x="610" y="639"/>
                    </a:lnTo>
                    <a:lnTo>
                      <a:pt x="606" y="647"/>
                    </a:lnTo>
                    <a:lnTo>
                      <a:pt x="604" y="653"/>
                    </a:lnTo>
                    <a:lnTo>
                      <a:pt x="601" y="657"/>
                    </a:lnTo>
                    <a:lnTo>
                      <a:pt x="597" y="660"/>
                    </a:lnTo>
                    <a:lnTo>
                      <a:pt x="593" y="662"/>
                    </a:lnTo>
                    <a:lnTo>
                      <a:pt x="589" y="662"/>
                    </a:lnTo>
                    <a:lnTo>
                      <a:pt x="590" y="663"/>
                    </a:lnTo>
                    <a:lnTo>
                      <a:pt x="593" y="665"/>
                    </a:lnTo>
                    <a:lnTo>
                      <a:pt x="594" y="667"/>
                    </a:lnTo>
                    <a:lnTo>
                      <a:pt x="595" y="668"/>
                    </a:lnTo>
                    <a:lnTo>
                      <a:pt x="595" y="671"/>
                    </a:lnTo>
                    <a:lnTo>
                      <a:pt x="594" y="675"/>
                    </a:lnTo>
                    <a:lnTo>
                      <a:pt x="594" y="677"/>
                    </a:lnTo>
                    <a:lnTo>
                      <a:pt x="593" y="678"/>
                    </a:lnTo>
                    <a:lnTo>
                      <a:pt x="588" y="680"/>
                    </a:lnTo>
                    <a:lnTo>
                      <a:pt x="583" y="683"/>
                    </a:lnTo>
                    <a:lnTo>
                      <a:pt x="577" y="684"/>
                    </a:lnTo>
                    <a:lnTo>
                      <a:pt x="570" y="685"/>
                    </a:lnTo>
                    <a:lnTo>
                      <a:pt x="565" y="685"/>
                    </a:lnTo>
                    <a:lnTo>
                      <a:pt x="557" y="685"/>
                    </a:lnTo>
                    <a:lnTo>
                      <a:pt x="550" y="685"/>
                    </a:lnTo>
                    <a:lnTo>
                      <a:pt x="541" y="684"/>
                    </a:lnTo>
                    <a:lnTo>
                      <a:pt x="541" y="686"/>
                    </a:lnTo>
                    <a:lnTo>
                      <a:pt x="543" y="687"/>
                    </a:lnTo>
                    <a:lnTo>
                      <a:pt x="545" y="690"/>
                    </a:lnTo>
                    <a:lnTo>
                      <a:pt x="547" y="692"/>
                    </a:lnTo>
                    <a:lnTo>
                      <a:pt x="550" y="694"/>
                    </a:lnTo>
                    <a:lnTo>
                      <a:pt x="551" y="697"/>
                    </a:lnTo>
                    <a:lnTo>
                      <a:pt x="551" y="699"/>
                    </a:lnTo>
                    <a:lnTo>
                      <a:pt x="551" y="701"/>
                    </a:lnTo>
                    <a:lnTo>
                      <a:pt x="544" y="707"/>
                    </a:lnTo>
                    <a:lnTo>
                      <a:pt x="537" y="712"/>
                    </a:lnTo>
                    <a:lnTo>
                      <a:pt x="530" y="715"/>
                    </a:lnTo>
                    <a:lnTo>
                      <a:pt x="522" y="717"/>
                    </a:lnTo>
                    <a:lnTo>
                      <a:pt x="513" y="717"/>
                    </a:lnTo>
                    <a:lnTo>
                      <a:pt x="505" y="717"/>
                    </a:lnTo>
                    <a:lnTo>
                      <a:pt x="497" y="718"/>
                    </a:lnTo>
                    <a:lnTo>
                      <a:pt x="490" y="718"/>
                    </a:lnTo>
                    <a:lnTo>
                      <a:pt x="484" y="717"/>
                    </a:lnTo>
                    <a:lnTo>
                      <a:pt x="482" y="715"/>
                    </a:lnTo>
                    <a:lnTo>
                      <a:pt x="482" y="712"/>
                    </a:lnTo>
                    <a:lnTo>
                      <a:pt x="484" y="708"/>
                    </a:lnTo>
                    <a:lnTo>
                      <a:pt x="477" y="708"/>
                    </a:lnTo>
                    <a:lnTo>
                      <a:pt x="473" y="708"/>
                    </a:lnTo>
                    <a:lnTo>
                      <a:pt x="468" y="707"/>
                    </a:lnTo>
                    <a:lnTo>
                      <a:pt x="465" y="706"/>
                    </a:lnTo>
                    <a:lnTo>
                      <a:pt x="464" y="705"/>
                    </a:lnTo>
                    <a:lnTo>
                      <a:pt x="464" y="704"/>
                    </a:lnTo>
                    <a:lnTo>
                      <a:pt x="464" y="701"/>
                    </a:lnTo>
                    <a:lnTo>
                      <a:pt x="465" y="698"/>
                    </a:lnTo>
                    <a:lnTo>
                      <a:pt x="469" y="693"/>
                    </a:lnTo>
                    <a:lnTo>
                      <a:pt x="474" y="690"/>
                    </a:lnTo>
                    <a:lnTo>
                      <a:pt x="477" y="687"/>
                    </a:lnTo>
                    <a:lnTo>
                      <a:pt x="482" y="685"/>
                    </a:lnTo>
                    <a:lnTo>
                      <a:pt x="487" y="683"/>
                    </a:lnTo>
                    <a:lnTo>
                      <a:pt x="491" y="682"/>
                    </a:lnTo>
                    <a:lnTo>
                      <a:pt x="495" y="680"/>
                    </a:lnTo>
                    <a:lnTo>
                      <a:pt x="500" y="680"/>
                    </a:lnTo>
                    <a:lnTo>
                      <a:pt x="498" y="677"/>
                    </a:lnTo>
                    <a:lnTo>
                      <a:pt x="498" y="675"/>
                    </a:lnTo>
                    <a:lnTo>
                      <a:pt x="501" y="672"/>
                    </a:lnTo>
                    <a:lnTo>
                      <a:pt x="504" y="671"/>
                    </a:lnTo>
                    <a:lnTo>
                      <a:pt x="505" y="658"/>
                    </a:lnTo>
                    <a:lnTo>
                      <a:pt x="507" y="646"/>
                    </a:lnTo>
                    <a:lnTo>
                      <a:pt x="508" y="632"/>
                    </a:lnTo>
                    <a:lnTo>
                      <a:pt x="509" y="618"/>
                    </a:lnTo>
                    <a:lnTo>
                      <a:pt x="509" y="605"/>
                    </a:lnTo>
                    <a:lnTo>
                      <a:pt x="509" y="591"/>
                    </a:lnTo>
                    <a:lnTo>
                      <a:pt x="508" y="576"/>
                    </a:lnTo>
                    <a:lnTo>
                      <a:pt x="507" y="562"/>
                    </a:lnTo>
                    <a:lnTo>
                      <a:pt x="501" y="555"/>
                    </a:lnTo>
                    <a:lnTo>
                      <a:pt x="496" y="548"/>
                    </a:lnTo>
                    <a:lnTo>
                      <a:pt x="494" y="541"/>
                    </a:lnTo>
                    <a:lnTo>
                      <a:pt x="493" y="534"/>
                    </a:lnTo>
                    <a:lnTo>
                      <a:pt x="493" y="526"/>
                    </a:lnTo>
                    <a:lnTo>
                      <a:pt x="491" y="518"/>
                    </a:lnTo>
                    <a:lnTo>
                      <a:pt x="489" y="510"/>
                    </a:lnTo>
                    <a:lnTo>
                      <a:pt x="487" y="503"/>
                    </a:lnTo>
                    <a:lnTo>
                      <a:pt x="482" y="496"/>
                    </a:lnTo>
                    <a:lnTo>
                      <a:pt x="479" y="489"/>
                    </a:lnTo>
                    <a:lnTo>
                      <a:pt x="475" y="482"/>
                    </a:lnTo>
                    <a:lnTo>
                      <a:pt x="472" y="476"/>
                    </a:lnTo>
                    <a:lnTo>
                      <a:pt x="468" y="471"/>
                    </a:lnTo>
                    <a:lnTo>
                      <a:pt x="466" y="465"/>
                    </a:lnTo>
                    <a:lnTo>
                      <a:pt x="464" y="461"/>
                    </a:lnTo>
                    <a:lnTo>
                      <a:pt x="461" y="457"/>
                    </a:lnTo>
                    <a:lnTo>
                      <a:pt x="458" y="453"/>
                    </a:lnTo>
                    <a:lnTo>
                      <a:pt x="454" y="447"/>
                    </a:lnTo>
                    <a:lnTo>
                      <a:pt x="451" y="441"/>
                    </a:lnTo>
                    <a:lnTo>
                      <a:pt x="447" y="434"/>
                    </a:lnTo>
                    <a:lnTo>
                      <a:pt x="444" y="427"/>
                    </a:lnTo>
                    <a:lnTo>
                      <a:pt x="440" y="419"/>
                    </a:lnTo>
                    <a:lnTo>
                      <a:pt x="437" y="410"/>
                    </a:lnTo>
                    <a:lnTo>
                      <a:pt x="433" y="400"/>
                    </a:lnTo>
                    <a:lnTo>
                      <a:pt x="426" y="391"/>
                    </a:lnTo>
                    <a:lnTo>
                      <a:pt x="421" y="387"/>
                    </a:lnTo>
                    <a:lnTo>
                      <a:pt x="415" y="390"/>
                    </a:lnTo>
                    <a:lnTo>
                      <a:pt x="409" y="397"/>
                    </a:lnTo>
                    <a:lnTo>
                      <a:pt x="404" y="404"/>
                    </a:lnTo>
                    <a:lnTo>
                      <a:pt x="400" y="412"/>
                    </a:lnTo>
                    <a:lnTo>
                      <a:pt x="395" y="419"/>
                    </a:lnTo>
                    <a:lnTo>
                      <a:pt x="391" y="427"/>
                    </a:lnTo>
                    <a:lnTo>
                      <a:pt x="388" y="434"/>
                    </a:lnTo>
                    <a:lnTo>
                      <a:pt x="386" y="441"/>
                    </a:lnTo>
                    <a:lnTo>
                      <a:pt x="383" y="448"/>
                    </a:lnTo>
                    <a:lnTo>
                      <a:pt x="382" y="455"/>
                    </a:lnTo>
                    <a:lnTo>
                      <a:pt x="380" y="464"/>
                    </a:lnTo>
                    <a:lnTo>
                      <a:pt x="376" y="472"/>
                    </a:lnTo>
                    <a:lnTo>
                      <a:pt x="373" y="480"/>
                    </a:lnTo>
                    <a:lnTo>
                      <a:pt x="369" y="489"/>
                    </a:lnTo>
                    <a:lnTo>
                      <a:pt x="366" y="494"/>
                    </a:lnTo>
                    <a:lnTo>
                      <a:pt x="362" y="501"/>
                    </a:lnTo>
                    <a:lnTo>
                      <a:pt x="358" y="507"/>
                    </a:lnTo>
                    <a:lnTo>
                      <a:pt x="353" y="512"/>
                    </a:lnTo>
                    <a:lnTo>
                      <a:pt x="353" y="519"/>
                    </a:lnTo>
                    <a:lnTo>
                      <a:pt x="353" y="526"/>
                    </a:lnTo>
                    <a:lnTo>
                      <a:pt x="352" y="534"/>
                    </a:lnTo>
                    <a:lnTo>
                      <a:pt x="350" y="541"/>
                    </a:lnTo>
                    <a:lnTo>
                      <a:pt x="346" y="547"/>
                    </a:lnTo>
                    <a:lnTo>
                      <a:pt x="343" y="551"/>
                    </a:lnTo>
                    <a:lnTo>
                      <a:pt x="339" y="555"/>
                    </a:lnTo>
                    <a:lnTo>
                      <a:pt x="336" y="556"/>
                    </a:lnTo>
                    <a:lnTo>
                      <a:pt x="333" y="562"/>
                    </a:lnTo>
                    <a:lnTo>
                      <a:pt x="332" y="568"/>
                    </a:lnTo>
                    <a:lnTo>
                      <a:pt x="330" y="573"/>
                    </a:lnTo>
                    <a:lnTo>
                      <a:pt x="328" y="579"/>
                    </a:lnTo>
                    <a:lnTo>
                      <a:pt x="326" y="582"/>
                    </a:lnTo>
                    <a:lnTo>
                      <a:pt x="325" y="585"/>
                    </a:lnTo>
                    <a:lnTo>
                      <a:pt x="324" y="587"/>
                    </a:lnTo>
                    <a:lnTo>
                      <a:pt x="323" y="590"/>
                    </a:lnTo>
                    <a:lnTo>
                      <a:pt x="322" y="593"/>
                    </a:lnTo>
                    <a:lnTo>
                      <a:pt x="321" y="597"/>
                    </a:lnTo>
                    <a:lnTo>
                      <a:pt x="319" y="599"/>
                    </a:lnTo>
                    <a:lnTo>
                      <a:pt x="318" y="601"/>
                    </a:lnTo>
                    <a:lnTo>
                      <a:pt x="318" y="604"/>
                    </a:lnTo>
                    <a:lnTo>
                      <a:pt x="317" y="607"/>
                    </a:lnTo>
                    <a:lnTo>
                      <a:pt x="316" y="611"/>
                    </a:lnTo>
                    <a:lnTo>
                      <a:pt x="315" y="614"/>
                    </a:lnTo>
                    <a:lnTo>
                      <a:pt x="314" y="619"/>
                    </a:lnTo>
                    <a:lnTo>
                      <a:pt x="311" y="623"/>
                    </a:lnTo>
                    <a:lnTo>
                      <a:pt x="310" y="629"/>
                    </a:lnTo>
                    <a:lnTo>
                      <a:pt x="308" y="635"/>
                    </a:lnTo>
                    <a:lnTo>
                      <a:pt x="304" y="647"/>
                    </a:lnTo>
                    <a:lnTo>
                      <a:pt x="301" y="655"/>
                    </a:lnTo>
                    <a:lnTo>
                      <a:pt x="298" y="661"/>
                    </a:lnTo>
                    <a:lnTo>
                      <a:pt x="296" y="662"/>
                    </a:lnTo>
                    <a:lnTo>
                      <a:pt x="297" y="664"/>
                    </a:lnTo>
                    <a:lnTo>
                      <a:pt x="298" y="667"/>
                    </a:lnTo>
                    <a:lnTo>
                      <a:pt x="300" y="670"/>
                    </a:lnTo>
                    <a:lnTo>
                      <a:pt x="300" y="675"/>
                    </a:lnTo>
                    <a:lnTo>
                      <a:pt x="298" y="679"/>
                    </a:lnTo>
                    <a:lnTo>
                      <a:pt x="297" y="684"/>
                    </a:lnTo>
                    <a:lnTo>
                      <a:pt x="294" y="687"/>
                    </a:lnTo>
                    <a:lnTo>
                      <a:pt x="290" y="690"/>
                    </a:lnTo>
                    <a:lnTo>
                      <a:pt x="286" y="692"/>
                    </a:lnTo>
                    <a:lnTo>
                      <a:pt x="280" y="693"/>
                    </a:lnTo>
                    <a:lnTo>
                      <a:pt x="272" y="694"/>
                    </a:lnTo>
                    <a:lnTo>
                      <a:pt x="262" y="694"/>
                    </a:lnTo>
                    <a:lnTo>
                      <a:pt x="258" y="694"/>
                    </a:lnTo>
                    <a:lnTo>
                      <a:pt x="252" y="694"/>
                    </a:lnTo>
                    <a:lnTo>
                      <a:pt x="248" y="694"/>
                    </a:lnTo>
                    <a:lnTo>
                      <a:pt x="245" y="694"/>
                    </a:lnTo>
                    <a:lnTo>
                      <a:pt x="241" y="694"/>
                    </a:lnTo>
                    <a:lnTo>
                      <a:pt x="238" y="694"/>
                    </a:lnTo>
                    <a:lnTo>
                      <a:pt x="236" y="694"/>
                    </a:lnTo>
                    <a:lnTo>
                      <a:pt x="233" y="694"/>
                    </a:lnTo>
                    <a:lnTo>
                      <a:pt x="231" y="694"/>
                    </a:lnTo>
                    <a:lnTo>
                      <a:pt x="228" y="693"/>
                    </a:lnTo>
                    <a:lnTo>
                      <a:pt x="225" y="693"/>
                    </a:lnTo>
                    <a:lnTo>
                      <a:pt x="222" y="693"/>
                    </a:lnTo>
                    <a:lnTo>
                      <a:pt x="219" y="691"/>
                    </a:lnTo>
                    <a:lnTo>
                      <a:pt x="217" y="687"/>
                    </a:lnTo>
                    <a:lnTo>
                      <a:pt x="217" y="685"/>
                    </a:lnTo>
                    <a:lnTo>
                      <a:pt x="218" y="683"/>
                    </a:lnTo>
                    <a:lnTo>
                      <a:pt x="216" y="684"/>
                    </a:lnTo>
                    <a:lnTo>
                      <a:pt x="214" y="684"/>
                    </a:lnTo>
                    <a:lnTo>
                      <a:pt x="211" y="684"/>
                    </a:lnTo>
                    <a:lnTo>
                      <a:pt x="209" y="683"/>
                    </a:lnTo>
                    <a:lnTo>
                      <a:pt x="208" y="680"/>
                    </a:lnTo>
                    <a:lnTo>
                      <a:pt x="207" y="678"/>
                    </a:lnTo>
                    <a:lnTo>
                      <a:pt x="207" y="675"/>
                    </a:lnTo>
                    <a:lnTo>
                      <a:pt x="207" y="671"/>
                    </a:lnTo>
                    <a:lnTo>
                      <a:pt x="209" y="668"/>
                    </a:lnTo>
                    <a:lnTo>
                      <a:pt x="211" y="665"/>
                    </a:lnTo>
                    <a:lnTo>
                      <a:pt x="215" y="664"/>
                    </a:lnTo>
                    <a:lnTo>
                      <a:pt x="219" y="664"/>
                    </a:lnTo>
                    <a:lnTo>
                      <a:pt x="226" y="665"/>
                    </a:lnTo>
                    <a:lnTo>
                      <a:pt x="233" y="665"/>
                    </a:lnTo>
                    <a:lnTo>
                      <a:pt x="239" y="664"/>
                    </a:lnTo>
                    <a:lnTo>
                      <a:pt x="245" y="663"/>
                    </a:lnTo>
                    <a:lnTo>
                      <a:pt x="251" y="662"/>
                    </a:lnTo>
                    <a:lnTo>
                      <a:pt x="255" y="660"/>
                    </a:lnTo>
                    <a:lnTo>
                      <a:pt x="260" y="657"/>
                    </a:lnTo>
                    <a:lnTo>
                      <a:pt x="264" y="655"/>
                    </a:lnTo>
                    <a:lnTo>
                      <a:pt x="265" y="650"/>
                    </a:lnTo>
                    <a:lnTo>
                      <a:pt x="267" y="643"/>
                    </a:lnTo>
                    <a:lnTo>
                      <a:pt x="271" y="636"/>
                    </a:lnTo>
                    <a:lnTo>
                      <a:pt x="276" y="628"/>
                    </a:lnTo>
                    <a:lnTo>
                      <a:pt x="282" y="620"/>
                    </a:lnTo>
                    <a:lnTo>
                      <a:pt x="287" y="613"/>
                    </a:lnTo>
                    <a:lnTo>
                      <a:pt x="290" y="607"/>
                    </a:lnTo>
                    <a:lnTo>
                      <a:pt x="294" y="601"/>
                    </a:lnTo>
                    <a:lnTo>
                      <a:pt x="295" y="596"/>
                    </a:lnTo>
                    <a:lnTo>
                      <a:pt x="297" y="589"/>
                    </a:lnTo>
                    <a:lnTo>
                      <a:pt x="300" y="583"/>
                    </a:lnTo>
                    <a:lnTo>
                      <a:pt x="302" y="577"/>
                    </a:lnTo>
                    <a:lnTo>
                      <a:pt x="305" y="569"/>
                    </a:lnTo>
                    <a:lnTo>
                      <a:pt x="308" y="561"/>
                    </a:lnTo>
                    <a:lnTo>
                      <a:pt x="310" y="555"/>
                    </a:lnTo>
                    <a:lnTo>
                      <a:pt x="311" y="550"/>
                    </a:lnTo>
                    <a:lnTo>
                      <a:pt x="311" y="543"/>
                    </a:lnTo>
                    <a:lnTo>
                      <a:pt x="311" y="537"/>
                    </a:lnTo>
                    <a:lnTo>
                      <a:pt x="310" y="533"/>
                    </a:lnTo>
                    <a:lnTo>
                      <a:pt x="310" y="529"/>
                    </a:lnTo>
                    <a:lnTo>
                      <a:pt x="309" y="525"/>
                    </a:lnTo>
                    <a:lnTo>
                      <a:pt x="310" y="518"/>
                    </a:lnTo>
                    <a:lnTo>
                      <a:pt x="312" y="510"/>
                    </a:lnTo>
                    <a:lnTo>
                      <a:pt x="317" y="498"/>
                    </a:lnTo>
                    <a:lnTo>
                      <a:pt x="317" y="493"/>
                    </a:lnTo>
                    <a:lnTo>
                      <a:pt x="317" y="489"/>
                    </a:lnTo>
                    <a:lnTo>
                      <a:pt x="316" y="483"/>
                    </a:lnTo>
                    <a:lnTo>
                      <a:pt x="316" y="476"/>
                    </a:lnTo>
                    <a:lnTo>
                      <a:pt x="315" y="469"/>
                    </a:lnTo>
                    <a:lnTo>
                      <a:pt x="314" y="461"/>
                    </a:lnTo>
                    <a:lnTo>
                      <a:pt x="311" y="453"/>
                    </a:lnTo>
                    <a:lnTo>
                      <a:pt x="310" y="443"/>
                    </a:lnTo>
                    <a:lnTo>
                      <a:pt x="308" y="434"/>
                    </a:lnTo>
                    <a:lnTo>
                      <a:pt x="307" y="427"/>
                    </a:lnTo>
                    <a:lnTo>
                      <a:pt x="305" y="419"/>
                    </a:lnTo>
                    <a:lnTo>
                      <a:pt x="304" y="413"/>
                    </a:lnTo>
                    <a:lnTo>
                      <a:pt x="304" y="407"/>
                    </a:lnTo>
                    <a:lnTo>
                      <a:pt x="304" y="403"/>
                    </a:lnTo>
                    <a:lnTo>
                      <a:pt x="304" y="399"/>
                    </a:lnTo>
                    <a:lnTo>
                      <a:pt x="305" y="396"/>
                    </a:lnTo>
                    <a:lnTo>
                      <a:pt x="301" y="394"/>
                    </a:lnTo>
                    <a:lnTo>
                      <a:pt x="296" y="393"/>
                    </a:lnTo>
                    <a:lnTo>
                      <a:pt x="290" y="392"/>
                    </a:lnTo>
                    <a:lnTo>
                      <a:pt x="285" y="391"/>
                    </a:lnTo>
                    <a:lnTo>
                      <a:pt x="278" y="389"/>
                    </a:lnTo>
                    <a:lnTo>
                      <a:pt x="271" y="387"/>
                    </a:lnTo>
                    <a:lnTo>
                      <a:pt x="264" y="385"/>
                    </a:lnTo>
                    <a:lnTo>
                      <a:pt x="257" y="383"/>
                    </a:lnTo>
                    <a:lnTo>
                      <a:pt x="258" y="383"/>
                    </a:lnTo>
                    <a:close/>
                  </a:path>
                </a:pathLst>
              </a:custGeom>
              <a:solidFill>
                <a:srgbClr val="b7a3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681120" y="811800"/>
                <a:ext cx="15840" cy="105840"/>
              </a:xfrm>
              <a:custGeom>
                <a:avLst/>
                <a:gdLst/>
                <a:ahLst/>
                <a:rect l="l" t="t" r="r" b="b"/>
                <a:pathLst>
                  <a:path w="92" h="266">
                    <a:moveTo>
                      <a:pt x="13" y="7"/>
                    </a:moveTo>
                    <a:lnTo>
                      <a:pt x="13" y="7"/>
                    </a:lnTo>
                    <a:lnTo>
                      <a:pt x="13" y="7"/>
                    </a:lnTo>
                    <a:lnTo>
                      <a:pt x="13" y="18"/>
                    </a:lnTo>
                    <a:lnTo>
                      <a:pt x="13" y="27"/>
                    </a:lnTo>
                    <a:lnTo>
                      <a:pt x="13" y="36"/>
                    </a:lnTo>
                    <a:lnTo>
                      <a:pt x="13" y="46"/>
                    </a:lnTo>
                    <a:lnTo>
                      <a:pt x="12" y="54"/>
                    </a:lnTo>
                    <a:lnTo>
                      <a:pt x="11" y="61"/>
                    </a:lnTo>
                    <a:lnTo>
                      <a:pt x="11" y="68"/>
                    </a:lnTo>
                    <a:lnTo>
                      <a:pt x="10" y="75"/>
                    </a:lnTo>
                    <a:lnTo>
                      <a:pt x="10" y="75"/>
                    </a:lnTo>
                    <a:lnTo>
                      <a:pt x="9" y="82"/>
                    </a:lnTo>
                    <a:lnTo>
                      <a:pt x="7" y="89"/>
                    </a:lnTo>
                    <a:lnTo>
                      <a:pt x="6" y="95"/>
                    </a:lnTo>
                    <a:lnTo>
                      <a:pt x="6" y="100"/>
                    </a:lnTo>
                    <a:lnTo>
                      <a:pt x="6" y="106"/>
                    </a:lnTo>
                    <a:lnTo>
                      <a:pt x="7" y="112"/>
                    </a:lnTo>
                    <a:lnTo>
                      <a:pt x="9" y="118"/>
                    </a:lnTo>
                    <a:lnTo>
                      <a:pt x="10" y="122"/>
                    </a:lnTo>
                    <a:lnTo>
                      <a:pt x="10" y="122"/>
                    </a:lnTo>
                    <a:lnTo>
                      <a:pt x="11" y="128"/>
                    </a:lnTo>
                    <a:lnTo>
                      <a:pt x="12" y="134"/>
                    </a:lnTo>
                    <a:lnTo>
                      <a:pt x="12" y="140"/>
                    </a:lnTo>
                    <a:lnTo>
                      <a:pt x="12" y="146"/>
                    </a:lnTo>
                    <a:lnTo>
                      <a:pt x="11" y="152"/>
                    </a:lnTo>
                    <a:lnTo>
                      <a:pt x="10" y="159"/>
                    </a:lnTo>
                    <a:lnTo>
                      <a:pt x="7" y="164"/>
                    </a:lnTo>
                    <a:lnTo>
                      <a:pt x="5" y="171"/>
                    </a:lnTo>
                    <a:lnTo>
                      <a:pt x="5" y="171"/>
                    </a:lnTo>
                    <a:lnTo>
                      <a:pt x="4" y="175"/>
                    </a:lnTo>
                    <a:lnTo>
                      <a:pt x="4" y="178"/>
                    </a:lnTo>
                    <a:lnTo>
                      <a:pt x="3" y="182"/>
                    </a:lnTo>
                    <a:lnTo>
                      <a:pt x="2" y="186"/>
                    </a:lnTo>
                    <a:lnTo>
                      <a:pt x="2" y="192"/>
                    </a:lnTo>
                    <a:lnTo>
                      <a:pt x="0" y="198"/>
                    </a:lnTo>
                    <a:lnTo>
                      <a:pt x="0" y="204"/>
                    </a:lnTo>
                    <a:lnTo>
                      <a:pt x="0" y="211"/>
                    </a:lnTo>
                    <a:lnTo>
                      <a:pt x="0" y="211"/>
                    </a:lnTo>
                    <a:lnTo>
                      <a:pt x="0" y="217"/>
                    </a:lnTo>
                    <a:lnTo>
                      <a:pt x="2" y="223"/>
                    </a:lnTo>
                    <a:lnTo>
                      <a:pt x="3" y="229"/>
                    </a:lnTo>
                    <a:lnTo>
                      <a:pt x="4" y="235"/>
                    </a:lnTo>
                    <a:lnTo>
                      <a:pt x="5" y="242"/>
                    </a:lnTo>
                    <a:lnTo>
                      <a:pt x="7" y="249"/>
                    </a:lnTo>
                    <a:lnTo>
                      <a:pt x="10" y="257"/>
                    </a:lnTo>
                    <a:lnTo>
                      <a:pt x="12" y="266"/>
                    </a:lnTo>
                    <a:lnTo>
                      <a:pt x="12" y="266"/>
                    </a:lnTo>
                    <a:lnTo>
                      <a:pt x="17" y="264"/>
                    </a:lnTo>
                    <a:lnTo>
                      <a:pt x="23" y="262"/>
                    </a:lnTo>
                    <a:lnTo>
                      <a:pt x="28" y="257"/>
                    </a:lnTo>
                    <a:lnTo>
                      <a:pt x="36" y="252"/>
                    </a:lnTo>
                    <a:lnTo>
                      <a:pt x="36" y="252"/>
                    </a:lnTo>
                    <a:lnTo>
                      <a:pt x="41" y="248"/>
                    </a:lnTo>
                    <a:lnTo>
                      <a:pt x="45" y="243"/>
                    </a:lnTo>
                    <a:lnTo>
                      <a:pt x="49" y="239"/>
                    </a:lnTo>
                    <a:lnTo>
                      <a:pt x="54" y="233"/>
                    </a:lnTo>
                    <a:lnTo>
                      <a:pt x="57" y="226"/>
                    </a:lnTo>
                    <a:lnTo>
                      <a:pt x="61" y="219"/>
                    </a:lnTo>
                    <a:lnTo>
                      <a:pt x="64" y="211"/>
                    </a:lnTo>
                    <a:lnTo>
                      <a:pt x="68" y="203"/>
                    </a:lnTo>
                    <a:lnTo>
                      <a:pt x="68" y="203"/>
                    </a:lnTo>
                    <a:lnTo>
                      <a:pt x="71" y="195"/>
                    </a:lnTo>
                    <a:lnTo>
                      <a:pt x="74" y="186"/>
                    </a:lnTo>
                    <a:lnTo>
                      <a:pt x="76" y="178"/>
                    </a:lnTo>
                    <a:lnTo>
                      <a:pt x="78" y="171"/>
                    </a:lnTo>
                    <a:lnTo>
                      <a:pt x="81" y="164"/>
                    </a:lnTo>
                    <a:lnTo>
                      <a:pt x="83" y="157"/>
                    </a:lnTo>
                    <a:lnTo>
                      <a:pt x="84" y="152"/>
                    </a:lnTo>
                    <a:lnTo>
                      <a:pt x="86" y="146"/>
                    </a:lnTo>
                    <a:lnTo>
                      <a:pt x="86" y="146"/>
                    </a:lnTo>
                    <a:lnTo>
                      <a:pt x="88" y="139"/>
                    </a:lnTo>
                    <a:lnTo>
                      <a:pt x="89" y="132"/>
                    </a:lnTo>
                    <a:lnTo>
                      <a:pt x="90" y="125"/>
                    </a:lnTo>
                    <a:lnTo>
                      <a:pt x="91" y="117"/>
                    </a:lnTo>
                    <a:lnTo>
                      <a:pt x="91" y="109"/>
                    </a:lnTo>
                    <a:lnTo>
                      <a:pt x="91" y="100"/>
                    </a:lnTo>
                    <a:lnTo>
                      <a:pt x="91" y="91"/>
                    </a:lnTo>
                    <a:lnTo>
                      <a:pt x="90" y="83"/>
                    </a:lnTo>
                    <a:lnTo>
                      <a:pt x="90" y="83"/>
                    </a:lnTo>
                    <a:lnTo>
                      <a:pt x="90" y="77"/>
                    </a:lnTo>
                    <a:lnTo>
                      <a:pt x="89" y="71"/>
                    </a:lnTo>
                    <a:lnTo>
                      <a:pt x="89" y="67"/>
                    </a:lnTo>
                    <a:lnTo>
                      <a:pt x="89" y="61"/>
                    </a:lnTo>
                    <a:lnTo>
                      <a:pt x="90" y="56"/>
                    </a:lnTo>
                    <a:lnTo>
                      <a:pt x="90" y="50"/>
                    </a:lnTo>
                    <a:lnTo>
                      <a:pt x="90" y="46"/>
                    </a:lnTo>
                    <a:lnTo>
                      <a:pt x="91" y="41"/>
                    </a:lnTo>
                    <a:lnTo>
                      <a:pt x="91" y="41"/>
                    </a:lnTo>
                    <a:lnTo>
                      <a:pt x="92" y="36"/>
                    </a:lnTo>
                    <a:lnTo>
                      <a:pt x="92" y="31"/>
                    </a:lnTo>
                    <a:lnTo>
                      <a:pt x="92" y="26"/>
                    </a:lnTo>
                    <a:lnTo>
                      <a:pt x="92" y="20"/>
                    </a:lnTo>
                    <a:lnTo>
                      <a:pt x="92" y="16"/>
                    </a:lnTo>
                    <a:lnTo>
                      <a:pt x="91" y="11"/>
                    </a:lnTo>
                    <a:lnTo>
                      <a:pt x="90" y="5"/>
                    </a:lnTo>
                    <a:lnTo>
                      <a:pt x="89" y="0"/>
                    </a:lnTo>
                    <a:lnTo>
                      <a:pt x="89" y="0"/>
                    </a:lnTo>
                    <a:lnTo>
                      <a:pt x="78" y="5"/>
                    </a:lnTo>
                    <a:lnTo>
                      <a:pt x="68" y="9"/>
                    </a:lnTo>
                    <a:lnTo>
                      <a:pt x="59" y="11"/>
                    </a:lnTo>
                    <a:lnTo>
                      <a:pt x="49" y="12"/>
                    </a:lnTo>
                    <a:lnTo>
                      <a:pt x="40" y="13"/>
                    </a:lnTo>
                    <a:lnTo>
                      <a:pt x="31" y="12"/>
                    </a:lnTo>
                    <a:lnTo>
                      <a:pt x="21" y="11"/>
                    </a:lnTo>
                    <a:lnTo>
                      <a:pt x="13" y="7"/>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86080" y="655200"/>
                <a:ext cx="164160" cy="285120"/>
              </a:xfrm>
              <a:custGeom>
                <a:avLst/>
                <a:gdLst/>
                <a:ahLst/>
                <a:rect l="l" t="t" r="r" b="b"/>
                <a:pathLst>
                  <a:path w="915" h="718">
                    <a:moveTo>
                      <a:pt x="258" y="383"/>
                    </a:moveTo>
                    <a:lnTo>
                      <a:pt x="257" y="383"/>
                    </a:lnTo>
                    <a:lnTo>
                      <a:pt x="257" y="383"/>
                    </a:lnTo>
                    <a:lnTo>
                      <a:pt x="239" y="378"/>
                    </a:lnTo>
                    <a:lnTo>
                      <a:pt x="223" y="371"/>
                    </a:lnTo>
                    <a:lnTo>
                      <a:pt x="209" y="362"/>
                    </a:lnTo>
                    <a:lnTo>
                      <a:pt x="195" y="351"/>
                    </a:lnTo>
                    <a:lnTo>
                      <a:pt x="182" y="339"/>
                    </a:lnTo>
                    <a:lnTo>
                      <a:pt x="172" y="323"/>
                    </a:lnTo>
                    <a:lnTo>
                      <a:pt x="161" y="306"/>
                    </a:lnTo>
                    <a:lnTo>
                      <a:pt x="153" y="287"/>
                    </a:lnTo>
                    <a:lnTo>
                      <a:pt x="153" y="287"/>
                    </a:lnTo>
                    <a:lnTo>
                      <a:pt x="146" y="268"/>
                    </a:lnTo>
                    <a:lnTo>
                      <a:pt x="139" y="249"/>
                    </a:lnTo>
                    <a:lnTo>
                      <a:pt x="135" y="230"/>
                    </a:lnTo>
                    <a:lnTo>
                      <a:pt x="131" y="213"/>
                    </a:lnTo>
                    <a:lnTo>
                      <a:pt x="128" y="196"/>
                    </a:lnTo>
                    <a:lnTo>
                      <a:pt x="125" y="179"/>
                    </a:lnTo>
                    <a:lnTo>
                      <a:pt x="125" y="164"/>
                    </a:lnTo>
                    <a:lnTo>
                      <a:pt x="125" y="150"/>
                    </a:lnTo>
                    <a:lnTo>
                      <a:pt x="125" y="150"/>
                    </a:lnTo>
                    <a:lnTo>
                      <a:pt x="123" y="146"/>
                    </a:lnTo>
                    <a:lnTo>
                      <a:pt x="119" y="140"/>
                    </a:lnTo>
                    <a:lnTo>
                      <a:pt x="115" y="134"/>
                    </a:lnTo>
                    <a:lnTo>
                      <a:pt x="110" y="127"/>
                    </a:lnTo>
                    <a:lnTo>
                      <a:pt x="110" y="127"/>
                    </a:lnTo>
                    <a:lnTo>
                      <a:pt x="104" y="120"/>
                    </a:lnTo>
                    <a:lnTo>
                      <a:pt x="101" y="114"/>
                    </a:lnTo>
                    <a:lnTo>
                      <a:pt x="99" y="108"/>
                    </a:lnTo>
                    <a:lnTo>
                      <a:pt x="97" y="103"/>
                    </a:lnTo>
                    <a:lnTo>
                      <a:pt x="97" y="103"/>
                    </a:lnTo>
                    <a:lnTo>
                      <a:pt x="95" y="103"/>
                    </a:lnTo>
                    <a:lnTo>
                      <a:pt x="93" y="101"/>
                    </a:lnTo>
                    <a:lnTo>
                      <a:pt x="90" y="100"/>
                    </a:lnTo>
                    <a:lnTo>
                      <a:pt x="87" y="99"/>
                    </a:lnTo>
                    <a:lnTo>
                      <a:pt x="87" y="99"/>
                    </a:lnTo>
                    <a:lnTo>
                      <a:pt x="83" y="98"/>
                    </a:lnTo>
                    <a:lnTo>
                      <a:pt x="80" y="97"/>
                    </a:lnTo>
                    <a:lnTo>
                      <a:pt x="76" y="96"/>
                    </a:lnTo>
                    <a:lnTo>
                      <a:pt x="74" y="94"/>
                    </a:lnTo>
                    <a:lnTo>
                      <a:pt x="74" y="94"/>
                    </a:lnTo>
                    <a:lnTo>
                      <a:pt x="66" y="92"/>
                    </a:lnTo>
                    <a:lnTo>
                      <a:pt x="59" y="89"/>
                    </a:lnTo>
                    <a:lnTo>
                      <a:pt x="54" y="85"/>
                    </a:lnTo>
                    <a:lnTo>
                      <a:pt x="51" y="82"/>
                    </a:lnTo>
                    <a:lnTo>
                      <a:pt x="51" y="82"/>
                    </a:lnTo>
                    <a:lnTo>
                      <a:pt x="46" y="84"/>
                    </a:lnTo>
                    <a:lnTo>
                      <a:pt x="40" y="86"/>
                    </a:lnTo>
                    <a:lnTo>
                      <a:pt x="36" y="87"/>
                    </a:lnTo>
                    <a:lnTo>
                      <a:pt x="30" y="89"/>
                    </a:lnTo>
                    <a:lnTo>
                      <a:pt x="24" y="89"/>
                    </a:lnTo>
                    <a:lnTo>
                      <a:pt x="18" y="87"/>
                    </a:lnTo>
                    <a:lnTo>
                      <a:pt x="12" y="86"/>
                    </a:lnTo>
                    <a:lnTo>
                      <a:pt x="7" y="84"/>
                    </a:lnTo>
                    <a:lnTo>
                      <a:pt x="7" y="84"/>
                    </a:lnTo>
                    <a:lnTo>
                      <a:pt x="3" y="82"/>
                    </a:lnTo>
                    <a:lnTo>
                      <a:pt x="1" y="79"/>
                    </a:lnTo>
                    <a:lnTo>
                      <a:pt x="1" y="76"/>
                    </a:lnTo>
                    <a:lnTo>
                      <a:pt x="2" y="72"/>
                    </a:lnTo>
                    <a:lnTo>
                      <a:pt x="2" y="72"/>
                    </a:lnTo>
                    <a:lnTo>
                      <a:pt x="2" y="71"/>
                    </a:lnTo>
                    <a:lnTo>
                      <a:pt x="4" y="69"/>
                    </a:lnTo>
                    <a:lnTo>
                      <a:pt x="7" y="68"/>
                    </a:lnTo>
                    <a:lnTo>
                      <a:pt x="10" y="68"/>
                    </a:lnTo>
                    <a:lnTo>
                      <a:pt x="10" y="68"/>
                    </a:lnTo>
                    <a:lnTo>
                      <a:pt x="7" y="68"/>
                    </a:lnTo>
                    <a:lnTo>
                      <a:pt x="4" y="66"/>
                    </a:lnTo>
                    <a:lnTo>
                      <a:pt x="2" y="65"/>
                    </a:lnTo>
                    <a:lnTo>
                      <a:pt x="0" y="64"/>
                    </a:lnTo>
                    <a:lnTo>
                      <a:pt x="0" y="64"/>
                    </a:lnTo>
                    <a:lnTo>
                      <a:pt x="0" y="56"/>
                    </a:lnTo>
                    <a:lnTo>
                      <a:pt x="2" y="50"/>
                    </a:lnTo>
                    <a:lnTo>
                      <a:pt x="7" y="44"/>
                    </a:lnTo>
                    <a:lnTo>
                      <a:pt x="15" y="41"/>
                    </a:lnTo>
                    <a:lnTo>
                      <a:pt x="15" y="41"/>
                    </a:lnTo>
                    <a:lnTo>
                      <a:pt x="19" y="33"/>
                    </a:lnTo>
                    <a:lnTo>
                      <a:pt x="23" y="26"/>
                    </a:lnTo>
                    <a:lnTo>
                      <a:pt x="28" y="22"/>
                    </a:lnTo>
                    <a:lnTo>
                      <a:pt x="31" y="20"/>
                    </a:lnTo>
                    <a:lnTo>
                      <a:pt x="31" y="20"/>
                    </a:lnTo>
                    <a:lnTo>
                      <a:pt x="35" y="20"/>
                    </a:lnTo>
                    <a:lnTo>
                      <a:pt x="39" y="19"/>
                    </a:lnTo>
                    <a:lnTo>
                      <a:pt x="44" y="19"/>
                    </a:lnTo>
                    <a:lnTo>
                      <a:pt x="49" y="19"/>
                    </a:lnTo>
                    <a:lnTo>
                      <a:pt x="53" y="18"/>
                    </a:lnTo>
                    <a:lnTo>
                      <a:pt x="59" y="18"/>
                    </a:lnTo>
                    <a:lnTo>
                      <a:pt x="64" y="18"/>
                    </a:lnTo>
                    <a:lnTo>
                      <a:pt x="69" y="18"/>
                    </a:lnTo>
                    <a:lnTo>
                      <a:pt x="69" y="18"/>
                    </a:lnTo>
                    <a:lnTo>
                      <a:pt x="75" y="18"/>
                    </a:lnTo>
                    <a:lnTo>
                      <a:pt x="81" y="19"/>
                    </a:lnTo>
                    <a:lnTo>
                      <a:pt x="87" y="19"/>
                    </a:lnTo>
                    <a:lnTo>
                      <a:pt x="93" y="18"/>
                    </a:lnTo>
                    <a:lnTo>
                      <a:pt x="99" y="18"/>
                    </a:lnTo>
                    <a:lnTo>
                      <a:pt x="104" y="18"/>
                    </a:lnTo>
                    <a:lnTo>
                      <a:pt x="110" y="16"/>
                    </a:lnTo>
                    <a:lnTo>
                      <a:pt x="116" y="15"/>
                    </a:lnTo>
                    <a:lnTo>
                      <a:pt x="116" y="15"/>
                    </a:lnTo>
                    <a:lnTo>
                      <a:pt x="121" y="15"/>
                    </a:lnTo>
                    <a:lnTo>
                      <a:pt x="124" y="14"/>
                    </a:lnTo>
                    <a:lnTo>
                      <a:pt x="128" y="12"/>
                    </a:lnTo>
                    <a:lnTo>
                      <a:pt x="130" y="11"/>
                    </a:lnTo>
                    <a:lnTo>
                      <a:pt x="130" y="11"/>
                    </a:lnTo>
                    <a:lnTo>
                      <a:pt x="132" y="8"/>
                    </a:lnTo>
                    <a:lnTo>
                      <a:pt x="135" y="7"/>
                    </a:lnTo>
                    <a:lnTo>
                      <a:pt x="138" y="5"/>
                    </a:lnTo>
                    <a:lnTo>
                      <a:pt x="142" y="4"/>
                    </a:lnTo>
                    <a:lnTo>
                      <a:pt x="142" y="4"/>
                    </a:lnTo>
                    <a:lnTo>
                      <a:pt x="144" y="2"/>
                    </a:lnTo>
                    <a:lnTo>
                      <a:pt x="150" y="2"/>
                    </a:lnTo>
                    <a:lnTo>
                      <a:pt x="158" y="4"/>
                    </a:lnTo>
                    <a:lnTo>
                      <a:pt x="168" y="5"/>
                    </a:lnTo>
                    <a:lnTo>
                      <a:pt x="168" y="5"/>
                    </a:lnTo>
                    <a:lnTo>
                      <a:pt x="176" y="6"/>
                    </a:lnTo>
                    <a:lnTo>
                      <a:pt x="183" y="7"/>
                    </a:lnTo>
                    <a:lnTo>
                      <a:pt x="187" y="7"/>
                    </a:lnTo>
                    <a:lnTo>
                      <a:pt x="188" y="6"/>
                    </a:lnTo>
                    <a:lnTo>
                      <a:pt x="188" y="6"/>
                    </a:lnTo>
                    <a:lnTo>
                      <a:pt x="195" y="2"/>
                    </a:lnTo>
                    <a:lnTo>
                      <a:pt x="201" y="1"/>
                    </a:lnTo>
                    <a:lnTo>
                      <a:pt x="207" y="0"/>
                    </a:lnTo>
                    <a:lnTo>
                      <a:pt x="212" y="0"/>
                    </a:lnTo>
                    <a:lnTo>
                      <a:pt x="217" y="2"/>
                    </a:lnTo>
                    <a:lnTo>
                      <a:pt x="223" y="5"/>
                    </a:lnTo>
                    <a:lnTo>
                      <a:pt x="226" y="8"/>
                    </a:lnTo>
                    <a:lnTo>
                      <a:pt x="231" y="13"/>
                    </a:lnTo>
                    <a:lnTo>
                      <a:pt x="231" y="13"/>
                    </a:lnTo>
                    <a:lnTo>
                      <a:pt x="235" y="19"/>
                    </a:lnTo>
                    <a:lnTo>
                      <a:pt x="238" y="25"/>
                    </a:lnTo>
                    <a:lnTo>
                      <a:pt x="241" y="29"/>
                    </a:lnTo>
                    <a:lnTo>
                      <a:pt x="245" y="33"/>
                    </a:lnTo>
                    <a:lnTo>
                      <a:pt x="245" y="33"/>
                    </a:lnTo>
                    <a:lnTo>
                      <a:pt x="247" y="35"/>
                    </a:lnTo>
                    <a:lnTo>
                      <a:pt x="250" y="39"/>
                    </a:lnTo>
                    <a:lnTo>
                      <a:pt x="251" y="41"/>
                    </a:lnTo>
                    <a:lnTo>
                      <a:pt x="253" y="43"/>
                    </a:lnTo>
                    <a:lnTo>
                      <a:pt x="253" y="43"/>
                    </a:lnTo>
                    <a:lnTo>
                      <a:pt x="255" y="49"/>
                    </a:lnTo>
                    <a:lnTo>
                      <a:pt x="258" y="55"/>
                    </a:lnTo>
                    <a:lnTo>
                      <a:pt x="259" y="61"/>
                    </a:lnTo>
                    <a:lnTo>
                      <a:pt x="260" y="65"/>
                    </a:lnTo>
                    <a:lnTo>
                      <a:pt x="260" y="71"/>
                    </a:lnTo>
                    <a:lnTo>
                      <a:pt x="259" y="76"/>
                    </a:lnTo>
                    <a:lnTo>
                      <a:pt x="257" y="79"/>
                    </a:lnTo>
                    <a:lnTo>
                      <a:pt x="254" y="84"/>
                    </a:lnTo>
                    <a:lnTo>
                      <a:pt x="254" y="84"/>
                    </a:lnTo>
                    <a:lnTo>
                      <a:pt x="252" y="90"/>
                    </a:lnTo>
                    <a:lnTo>
                      <a:pt x="250" y="97"/>
                    </a:lnTo>
                    <a:lnTo>
                      <a:pt x="248" y="105"/>
                    </a:lnTo>
                    <a:lnTo>
                      <a:pt x="248" y="116"/>
                    </a:lnTo>
                    <a:lnTo>
                      <a:pt x="250" y="129"/>
                    </a:lnTo>
                    <a:lnTo>
                      <a:pt x="251" y="143"/>
                    </a:lnTo>
                    <a:lnTo>
                      <a:pt x="253" y="159"/>
                    </a:lnTo>
                    <a:lnTo>
                      <a:pt x="257" y="178"/>
                    </a:lnTo>
                    <a:lnTo>
                      <a:pt x="257" y="178"/>
                    </a:lnTo>
                    <a:lnTo>
                      <a:pt x="259" y="186"/>
                    </a:lnTo>
                    <a:lnTo>
                      <a:pt x="265" y="193"/>
                    </a:lnTo>
                    <a:lnTo>
                      <a:pt x="273" y="197"/>
                    </a:lnTo>
                    <a:lnTo>
                      <a:pt x="283" y="198"/>
                    </a:lnTo>
                    <a:lnTo>
                      <a:pt x="283" y="198"/>
                    </a:lnTo>
                    <a:lnTo>
                      <a:pt x="289" y="198"/>
                    </a:lnTo>
                    <a:lnTo>
                      <a:pt x="295" y="198"/>
                    </a:lnTo>
                    <a:lnTo>
                      <a:pt x="301" y="198"/>
                    </a:lnTo>
                    <a:lnTo>
                      <a:pt x="305" y="198"/>
                    </a:lnTo>
                    <a:lnTo>
                      <a:pt x="309" y="198"/>
                    </a:lnTo>
                    <a:lnTo>
                      <a:pt x="312" y="197"/>
                    </a:lnTo>
                    <a:lnTo>
                      <a:pt x="316" y="196"/>
                    </a:lnTo>
                    <a:lnTo>
                      <a:pt x="318" y="194"/>
                    </a:lnTo>
                    <a:lnTo>
                      <a:pt x="318" y="194"/>
                    </a:lnTo>
                    <a:lnTo>
                      <a:pt x="325" y="191"/>
                    </a:lnTo>
                    <a:lnTo>
                      <a:pt x="333" y="186"/>
                    </a:lnTo>
                    <a:lnTo>
                      <a:pt x="340" y="182"/>
                    </a:lnTo>
                    <a:lnTo>
                      <a:pt x="347" y="176"/>
                    </a:lnTo>
                    <a:lnTo>
                      <a:pt x="353" y="169"/>
                    </a:lnTo>
                    <a:lnTo>
                      <a:pt x="360" y="161"/>
                    </a:lnTo>
                    <a:lnTo>
                      <a:pt x="367" y="153"/>
                    </a:lnTo>
                    <a:lnTo>
                      <a:pt x="373" y="143"/>
                    </a:lnTo>
                    <a:lnTo>
                      <a:pt x="373" y="143"/>
                    </a:lnTo>
                    <a:lnTo>
                      <a:pt x="380" y="134"/>
                    </a:lnTo>
                    <a:lnTo>
                      <a:pt x="387" y="126"/>
                    </a:lnTo>
                    <a:lnTo>
                      <a:pt x="394" y="118"/>
                    </a:lnTo>
                    <a:lnTo>
                      <a:pt x="401" y="111"/>
                    </a:lnTo>
                    <a:lnTo>
                      <a:pt x="409" y="104"/>
                    </a:lnTo>
                    <a:lnTo>
                      <a:pt x="416" y="98"/>
                    </a:lnTo>
                    <a:lnTo>
                      <a:pt x="424" y="93"/>
                    </a:lnTo>
                    <a:lnTo>
                      <a:pt x="431" y="90"/>
                    </a:lnTo>
                    <a:lnTo>
                      <a:pt x="431" y="90"/>
                    </a:lnTo>
                    <a:lnTo>
                      <a:pt x="438" y="85"/>
                    </a:lnTo>
                    <a:lnTo>
                      <a:pt x="444" y="78"/>
                    </a:lnTo>
                    <a:lnTo>
                      <a:pt x="448" y="71"/>
                    </a:lnTo>
                    <a:lnTo>
                      <a:pt x="452" y="62"/>
                    </a:lnTo>
                    <a:lnTo>
                      <a:pt x="452" y="62"/>
                    </a:lnTo>
                    <a:lnTo>
                      <a:pt x="453" y="57"/>
                    </a:lnTo>
                    <a:lnTo>
                      <a:pt x="457" y="51"/>
                    </a:lnTo>
                    <a:lnTo>
                      <a:pt x="459" y="47"/>
                    </a:lnTo>
                    <a:lnTo>
                      <a:pt x="464" y="42"/>
                    </a:lnTo>
                    <a:lnTo>
                      <a:pt x="468" y="37"/>
                    </a:lnTo>
                    <a:lnTo>
                      <a:pt x="473" y="34"/>
                    </a:lnTo>
                    <a:lnTo>
                      <a:pt x="479" y="29"/>
                    </a:lnTo>
                    <a:lnTo>
                      <a:pt x="486" y="26"/>
                    </a:lnTo>
                    <a:lnTo>
                      <a:pt x="486" y="26"/>
                    </a:lnTo>
                    <a:lnTo>
                      <a:pt x="490" y="23"/>
                    </a:lnTo>
                    <a:lnTo>
                      <a:pt x="497" y="20"/>
                    </a:lnTo>
                    <a:lnTo>
                      <a:pt x="503" y="19"/>
                    </a:lnTo>
                    <a:lnTo>
                      <a:pt x="511" y="16"/>
                    </a:lnTo>
                    <a:lnTo>
                      <a:pt x="518" y="15"/>
                    </a:lnTo>
                    <a:lnTo>
                      <a:pt x="527" y="15"/>
                    </a:lnTo>
                    <a:lnTo>
                      <a:pt x="537" y="14"/>
                    </a:lnTo>
                    <a:lnTo>
                      <a:pt x="546" y="14"/>
                    </a:lnTo>
                    <a:lnTo>
                      <a:pt x="546" y="14"/>
                    </a:lnTo>
                    <a:lnTo>
                      <a:pt x="555" y="15"/>
                    </a:lnTo>
                    <a:lnTo>
                      <a:pt x="563" y="18"/>
                    </a:lnTo>
                    <a:lnTo>
                      <a:pt x="570" y="20"/>
                    </a:lnTo>
                    <a:lnTo>
                      <a:pt x="576" y="25"/>
                    </a:lnTo>
                    <a:lnTo>
                      <a:pt x="581" y="28"/>
                    </a:lnTo>
                    <a:lnTo>
                      <a:pt x="586" y="34"/>
                    </a:lnTo>
                    <a:lnTo>
                      <a:pt x="588" y="40"/>
                    </a:lnTo>
                    <a:lnTo>
                      <a:pt x="590" y="46"/>
                    </a:lnTo>
                    <a:lnTo>
                      <a:pt x="590" y="46"/>
                    </a:lnTo>
                    <a:lnTo>
                      <a:pt x="593" y="59"/>
                    </a:lnTo>
                    <a:lnTo>
                      <a:pt x="596" y="71"/>
                    </a:lnTo>
                    <a:lnTo>
                      <a:pt x="601" y="82"/>
                    </a:lnTo>
                    <a:lnTo>
                      <a:pt x="605" y="90"/>
                    </a:lnTo>
                    <a:lnTo>
                      <a:pt x="611" y="97"/>
                    </a:lnTo>
                    <a:lnTo>
                      <a:pt x="618" y="101"/>
                    </a:lnTo>
                    <a:lnTo>
                      <a:pt x="625" y="104"/>
                    </a:lnTo>
                    <a:lnTo>
                      <a:pt x="633" y="105"/>
                    </a:lnTo>
                    <a:lnTo>
                      <a:pt x="633" y="105"/>
                    </a:lnTo>
                    <a:lnTo>
                      <a:pt x="637" y="98"/>
                    </a:lnTo>
                    <a:lnTo>
                      <a:pt x="641" y="91"/>
                    </a:lnTo>
                    <a:lnTo>
                      <a:pt x="645" y="84"/>
                    </a:lnTo>
                    <a:lnTo>
                      <a:pt x="650" y="77"/>
                    </a:lnTo>
                    <a:lnTo>
                      <a:pt x="653" y="71"/>
                    </a:lnTo>
                    <a:lnTo>
                      <a:pt x="658" y="65"/>
                    </a:lnTo>
                    <a:lnTo>
                      <a:pt x="661" y="59"/>
                    </a:lnTo>
                    <a:lnTo>
                      <a:pt x="665" y="55"/>
                    </a:lnTo>
                    <a:lnTo>
                      <a:pt x="665" y="55"/>
                    </a:lnTo>
                    <a:lnTo>
                      <a:pt x="669" y="49"/>
                    </a:lnTo>
                    <a:lnTo>
                      <a:pt x="674" y="46"/>
                    </a:lnTo>
                    <a:lnTo>
                      <a:pt x="680" y="42"/>
                    </a:lnTo>
                    <a:lnTo>
                      <a:pt x="687" y="40"/>
                    </a:lnTo>
                    <a:lnTo>
                      <a:pt x="695" y="39"/>
                    </a:lnTo>
                    <a:lnTo>
                      <a:pt x="702" y="40"/>
                    </a:lnTo>
                    <a:lnTo>
                      <a:pt x="711" y="41"/>
                    </a:lnTo>
                    <a:lnTo>
                      <a:pt x="720" y="43"/>
                    </a:lnTo>
                    <a:lnTo>
                      <a:pt x="720" y="43"/>
                    </a:lnTo>
                    <a:lnTo>
                      <a:pt x="729" y="46"/>
                    </a:lnTo>
                    <a:lnTo>
                      <a:pt x="737" y="49"/>
                    </a:lnTo>
                    <a:lnTo>
                      <a:pt x="742" y="53"/>
                    </a:lnTo>
                    <a:lnTo>
                      <a:pt x="748" y="56"/>
                    </a:lnTo>
                    <a:lnTo>
                      <a:pt x="753" y="61"/>
                    </a:lnTo>
                    <a:lnTo>
                      <a:pt x="758" y="64"/>
                    </a:lnTo>
                    <a:lnTo>
                      <a:pt x="760" y="69"/>
                    </a:lnTo>
                    <a:lnTo>
                      <a:pt x="762" y="72"/>
                    </a:lnTo>
                    <a:lnTo>
                      <a:pt x="762" y="72"/>
                    </a:lnTo>
                    <a:lnTo>
                      <a:pt x="763" y="77"/>
                    </a:lnTo>
                    <a:lnTo>
                      <a:pt x="765" y="80"/>
                    </a:lnTo>
                    <a:lnTo>
                      <a:pt x="767" y="85"/>
                    </a:lnTo>
                    <a:lnTo>
                      <a:pt x="768" y="90"/>
                    </a:lnTo>
                    <a:lnTo>
                      <a:pt x="768" y="90"/>
                    </a:lnTo>
                    <a:lnTo>
                      <a:pt x="770" y="94"/>
                    </a:lnTo>
                    <a:lnTo>
                      <a:pt x="772" y="98"/>
                    </a:lnTo>
                    <a:lnTo>
                      <a:pt x="774" y="101"/>
                    </a:lnTo>
                    <a:lnTo>
                      <a:pt x="775" y="105"/>
                    </a:lnTo>
                    <a:lnTo>
                      <a:pt x="775" y="105"/>
                    </a:lnTo>
                    <a:lnTo>
                      <a:pt x="777" y="113"/>
                    </a:lnTo>
                    <a:lnTo>
                      <a:pt x="781" y="120"/>
                    </a:lnTo>
                    <a:lnTo>
                      <a:pt x="783" y="126"/>
                    </a:lnTo>
                    <a:lnTo>
                      <a:pt x="787" y="132"/>
                    </a:lnTo>
                    <a:lnTo>
                      <a:pt x="789" y="135"/>
                    </a:lnTo>
                    <a:lnTo>
                      <a:pt x="792" y="140"/>
                    </a:lnTo>
                    <a:lnTo>
                      <a:pt x="796" y="142"/>
                    </a:lnTo>
                    <a:lnTo>
                      <a:pt x="799" y="144"/>
                    </a:lnTo>
                    <a:lnTo>
                      <a:pt x="799" y="144"/>
                    </a:lnTo>
                    <a:lnTo>
                      <a:pt x="804" y="148"/>
                    </a:lnTo>
                    <a:lnTo>
                      <a:pt x="811" y="153"/>
                    </a:lnTo>
                    <a:lnTo>
                      <a:pt x="818" y="161"/>
                    </a:lnTo>
                    <a:lnTo>
                      <a:pt x="826" y="170"/>
                    </a:lnTo>
                    <a:lnTo>
                      <a:pt x="826" y="170"/>
                    </a:lnTo>
                    <a:lnTo>
                      <a:pt x="831" y="178"/>
                    </a:lnTo>
                    <a:lnTo>
                      <a:pt x="835" y="185"/>
                    </a:lnTo>
                    <a:lnTo>
                      <a:pt x="840" y="193"/>
                    </a:lnTo>
                    <a:lnTo>
                      <a:pt x="844" y="199"/>
                    </a:lnTo>
                    <a:lnTo>
                      <a:pt x="847" y="206"/>
                    </a:lnTo>
                    <a:lnTo>
                      <a:pt x="849" y="212"/>
                    </a:lnTo>
                    <a:lnTo>
                      <a:pt x="852" y="216"/>
                    </a:lnTo>
                    <a:lnTo>
                      <a:pt x="854" y="221"/>
                    </a:lnTo>
                    <a:lnTo>
                      <a:pt x="854" y="221"/>
                    </a:lnTo>
                    <a:lnTo>
                      <a:pt x="856" y="227"/>
                    </a:lnTo>
                    <a:lnTo>
                      <a:pt x="859" y="235"/>
                    </a:lnTo>
                    <a:lnTo>
                      <a:pt x="860" y="244"/>
                    </a:lnTo>
                    <a:lnTo>
                      <a:pt x="861" y="254"/>
                    </a:lnTo>
                    <a:lnTo>
                      <a:pt x="861" y="265"/>
                    </a:lnTo>
                    <a:lnTo>
                      <a:pt x="861" y="278"/>
                    </a:lnTo>
                    <a:lnTo>
                      <a:pt x="860" y="291"/>
                    </a:lnTo>
                    <a:lnTo>
                      <a:pt x="858" y="306"/>
                    </a:lnTo>
                    <a:lnTo>
                      <a:pt x="858" y="306"/>
                    </a:lnTo>
                    <a:lnTo>
                      <a:pt x="861" y="315"/>
                    </a:lnTo>
                    <a:lnTo>
                      <a:pt x="866" y="323"/>
                    </a:lnTo>
                    <a:lnTo>
                      <a:pt x="873" y="328"/>
                    </a:lnTo>
                    <a:lnTo>
                      <a:pt x="880" y="332"/>
                    </a:lnTo>
                    <a:lnTo>
                      <a:pt x="880" y="332"/>
                    </a:lnTo>
                    <a:lnTo>
                      <a:pt x="888" y="335"/>
                    </a:lnTo>
                    <a:lnTo>
                      <a:pt x="895" y="340"/>
                    </a:lnTo>
                    <a:lnTo>
                      <a:pt x="902" y="346"/>
                    </a:lnTo>
                    <a:lnTo>
                      <a:pt x="909" y="351"/>
                    </a:lnTo>
                    <a:lnTo>
                      <a:pt x="909" y="351"/>
                    </a:lnTo>
                    <a:lnTo>
                      <a:pt x="912" y="357"/>
                    </a:lnTo>
                    <a:lnTo>
                      <a:pt x="915" y="362"/>
                    </a:lnTo>
                    <a:lnTo>
                      <a:pt x="915" y="365"/>
                    </a:lnTo>
                    <a:lnTo>
                      <a:pt x="913" y="369"/>
                    </a:lnTo>
                    <a:lnTo>
                      <a:pt x="913" y="369"/>
                    </a:lnTo>
                    <a:lnTo>
                      <a:pt x="904" y="366"/>
                    </a:lnTo>
                    <a:lnTo>
                      <a:pt x="895" y="363"/>
                    </a:lnTo>
                    <a:lnTo>
                      <a:pt x="887" y="361"/>
                    </a:lnTo>
                    <a:lnTo>
                      <a:pt x="877" y="356"/>
                    </a:lnTo>
                    <a:lnTo>
                      <a:pt x="869" y="353"/>
                    </a:lnTo>
                    <a:lnTo>
                      <a:pt x="861" y="348"/>
                    </a:lnTo>
                    <a:lnTo>
                      <a:pt x="853" y="343"/>
                    </a:lnTo>
                    <a:lnTo>
                      <a:pt x="845" y="337"/>
                    </a:lnTo>
                    <a:lnTo>
                      <a:pt x="845" y="337"/>
                    </a:lnTo>
                    <a:lnTo>
                      <a:pt x="842" y="342"/>
                    </a:lnTo>
                    <a:lnTo>
                      <a:pt x="840" y="349"/>
                    </a:lnTo>
                    <a:lnTo>
                      <a:pt x="838" y="356"/>
                    </a:lnTo>
                    <a:lnTo>
                      <a:pt x="835" y="364"/>
                    </a:lnTo>
                    <a:lnTo>
                      <a:pt x="832" y="375"/>
                    </a:lnTo>
                    <a:lnTo>
                      <a:pt x="830" y="385"/>
                    </a:lnTo>
                    <a:lnTo>
                      <a:pt x="826" y="396"/>
                    </a:lnTo>
                    <a:lnTo>
                      <a:pt x="823" y="408"/>
                    </a:lnTo>
                    <a:lnTo>
                      <a:pt x="823" y="408"/>
                    </a:lnTo>
                    <a:lnTo>
                      <a:pt x="819" y="420"/>
                    </a:lnTo>
                    <a:lnTo>
                      <a:pt x="817" y="430"/>
                    </a:lnTo>
                    <a:lnTo>
                      <a:pt x="816" y="442"/>
                    </a:lnTo>
                    <a:lnTo>
                      <a:pt x="816" y="451"/>
                    </a:lnTo>
                    <a:lnTo>
                      <a:pt x="816" y="461"/>
                    </a:lnTo>
                    <a:lnTo>
                      <a:pt x="817" y="470"/>
                    </a:lnTo>
                    <a:lnTo>
                      <a:pt x="818" y="478"/>
                    </a:lnTo>
                    <a:lnTo>
                      <a:pt x="820" y="486"/>
                    </a:lnTo>
                    <a:lnTo>
                      <a:pt x="820" y="486"/>
                    </a:lnTo>
                    <a:lnTo>
                      <a:pt x="822" y="492"/>
                    </a:lnTo>
                    <a:lnTo>
                      <a:pt x="823" y="499"/>
                    </a:lnTo>
                    <a:lnTo>
                      <a:pt x="823" y="506"/>
                    </a:lnTo>
                    <a:lnTo>
                      <a:pt x="823" y="514"/>
                    </a:lnTo>
                    <a:lnTo>
                      <a:pt x="823" y="514"/>
                    </a:lnTo>
                    <a:lnTo>
                      <a:pt x="822" y="519"/>
                    </a:lnTo>
                    <a:lnTo>
                      <a:pt x="822" y="525"/>
                    </a:lnTo>
                    <a:lnTo>
                      <a:pt x="820" y="529"/>
                    </a:lnTo>
                    <a:lnTo>
                      <a:pt x="820" y="533"/>
                    </a:lnTo>
                    <a:lnTo>
                      <a:pt x="820" y="533"/>
                    </a:lnTo>
                    <a:lnTo>
                      <a:pt x="819" y="537"/>
                    </a:lnTo>
                    <a:lnTo>
                      <a:pt x="819" y="541"/>
                    </a:lnTo>
                    <a:lnTo>
                      <a:pt x="818" y="543"/>
                    </a:lnTo>
                    <a:lnTo>
                      <a:pt x="818" y="546"/>
                    </a:lnTo>
                    <a:lnTo>
                      <a:pt x="818" y="546"/>
                    </a:lnTo>
                    <a:lnTo>
                      <a:pt x="817" y="553"/>
                    </a:lnTo>
                    <a:lnTo>
                      <a:pt x="817" y="561"/>
                    </a:lnTo>
                    <a:lnTo>
                      <a:pt x="817" y="569"/>
                    </a:lnTo>
                    <a:lnTo>
                      <a:pt x="816" y="577"/>
                    </a:lnTo>
                    <a:lnTo>
                      <a:pt x="816" y="585"/>
                    </a:lnTo>
                    <a:lnTo>
                      <a:pt x="816" y="593"/>
                    </a:lnTo>
                    <a:lnTo>
                      <a:pt x="817" y="603"/>
                    </a:lnTo>
                    <a:lnTo>
                      <a:pt x="817" y="611"/>
                    </a:lnTo>
                    <a:lnTo>
                      <a:pt x="817" y="611"/>
                    </a:lnTo>
                    <a:lnTo>
                      <a:pt x="818" y="621"/>
                    </a:lnTo>
                    <a:lnTo>
                      <a:pt x="818" y="630"/>
                    </a:lnTo>
                    <a:lnTo>
                      <a:pt x="819" y="640"/>
                    </a:lnTo>
                    <a:lnTo>
                      <a:pt x="820" y="649"/>
                    </a:lnTo>
                    <a:lnTo>
                      <a:pt x="822" y="657"/>
                    </a:lnTo>
                    <a:lnTo>
                      <a:pt x="822" y="664"/>
                    </a:lnTo>
                    <a:lnTo>
                      <a:pt x="823" y="671"/>
                    </a:lnTo>
                    <a:lnTo>
                      <a:pt x="823" y="678"/>
                    </a:lnTo>
                    <a:lnTo>
                      <a:pt x="823" y="678"/>
                    </a:lnTo>
                    <a:lnTo>
                      <a:pt x="827" y="685"/>
                    </a:lnTo>
                    <a:lnTo>
                      <a:pt x="830" y="690"/>
                    </a:lnTo>
                    <a:lnTo>
                      <a:pt x="832" y="694"/>
                    </a:lnTo>
                    <a:lnTo>
                      <a:pt x="832" y="697"/>
                    </a:lnTo>
                    <a:lnTo>
                      <a:pt x="832" y="697"/>
                    </a:lnTo>
                    <a:lnTo>
                      <a:pt x="831" y="701"/>
                    </a:lnTo>
                    <a:lnTo>
                      <a:pt x="827" y="706"/>
                    </a:lnTo>
                    <a:lnTo>
                      <a:pt x="824" y="710"/>
                    </a:lnTo>
                    <a:lnTo>
                      <a:pt x="818" y="712"/>
                    </a:lnTo>
                    <a:lnTo>
                      <a:pt x="810" y="713"/>
                    </a:lnTo>
                    <a:lnTo>
                      <a:pt x="801" y="713"/>
                    </a:lnTo>
                    <a:lnTo>
                      <a:pt x="790" y="713"/>
                    </a:lnTo>
                    <a:lnTo>
                      <a:pt x="779" y="712"/>
                    </a:lnTo>
                    <a:lnTo>
                      <a:pt x="779" y="712"/>
                    </a:lnTo>
                    <a:lnTo>
                      <a:pt x="773" y="711"/>
                    </a:lnTo>
                    <a:lnTo>
                      <a:pt x="770" y="710"/>
                    </a:lnTo>
                    <a:lnTo>
                      <a:pt x="770" y="706"/>
                    </a:lnTo>
                    <a:lnTo>
                      <a:pt x="774" y="703"/>
                    </a:lnTo>
                    <a:lnTo>
                      <a:pt x="774" y="703"/>
                    </a:lnTo>
                    <a:lnTo>
                      <a:pt x="766" y="704"/>
                    </a:lnTo>
                    <a:lnTo>
                      <a:pt x="760" y="703"/>
                    </a:lnTo>
                    <a:lnTo>
                      <a:pt x="756" y="700"/>
                    </a:lnTo>
                    <a:lnTo>
                      <a:pt x="755" y="696"/>
                    </a:lnTo>
                    <a:lnTo>
                      <a:pt x="755" y="696"/>
                    </a:lnTo>
                    <a:lnTo>
                      <a:pt x="756" y="693"/>
                    </a:lnTo>
                    <a:lnTo>
                      <a:pt x="758" y="690"/>
                    </a:lnTo>
                    <a:lnTo>
                      <a:pt x="761" y="687"/>
                    </a:lnTo>
                    <a:lnTo>
                      <a:pt x="765" y="685"/>
                    </a:lnTo>
                    <a:lnTo>
                      <a:pt x="765" y="685"/>
                    </a:lnTo>
                    <a:lnTo>
                      <a:pt x="770" y="682"/>
                    </a:lnTo>
                    <a:lnTo>
                      <a:pt x="777" y="677"/>
                    </a:lnTo>
                    <a:lnTo>
                      <a:pt x="784" y="672"/>
                    </a:lnTo>
                    <a:lnTo>
                      <a:pt x="791" y="665"/>
                    </a:lnTo>
                    <a:lnTo>
                      <a:pt x="791" y="665"/>
                    </a:lnTo>
                    <a:lnTo>
                      <a:pt x="792" y="663"/>
                    </a:lnTo>
                    <a:lnTo>
                      <a:pt x="794" y="658"/>
                    </a:lnTo>
                    <a:lnTo>
                      <a:pt x="794" y="653"/>
                    </a:lnTo>
                    <a:lnTo>
                      <a:pt x="795" y="647"/>
                    </a:lnTo>
                    <a:lnTo>
                      <a:pt x="795" y="639"/>
                    </a:lnTo>
                    <a:lnTo>
                      <a:pt x="795" y="630"/>
                    </a:lnTo>
                    <a:lnTo>
                      <a:pt x="795" y="620"/>
                    </a:lnTo>
                    <a:lnTo>
                      <a:pt x="794" y="610"/>
                    </a:lnTo>
                    <a:lnTo>
                      <a:pt x="794" y="610"/>
                    </a:lnTo>
                    <a:lnTo>
                      <a:pt x="792" y="597"/>
                    </a:lnTo>
                    <a:lnTo>
                      <a:pt x="791" y="585"/>
                    </a:lnTo>
                    <a:lnTo>
                      <a:pt x="790" y="575"/>
                    </a:lnTo>
                    <a:lnTo>
                      <a:pt x="789" y="565"/>
                    </a:lnTo>
                    <a:lnTo>
                      <a:pt x="789" y="557"/>
                    </a:lnTo>
                    <a:lnTo>
                      <a:pt x="788" y="550"/>
                    </a:lnTo>
                    <a:lnTo>
                      <a:pt x="788" y="544"/>
                    </a:lnTo>
                    <a:lnTo>
                      <a:pt x="788" y="540"/>
                    </a:lnTo>
                    <a:lnTo>
                      <a:pt x="788" y="540"/>
                    </a:lnTo>
                    <a:lnTo>
                      <a:pt x="786" y="536"/>
                    </a:lnTo>
                    <a:lnTo>
                      <a:pt x="782" y="532"/>
                    </a:lnTo>
                    <a:lnTo>
                      <a:pt x="780" y="525"/>
                    </a:lnTo>
                    <a:lnTo>
                      <a:pt x="777" y="516"/>
                    </a:lnTo>
                    <a:lnTo>
                      <a:pt x="777" y="516"/>
                    </a:lnTo>
                    <a:lnTo>
                      <a:pt x="776" y="508"/>
                    </a:lnTo>
                    <a:lnTo>
                      <a:pt x="776" y="500"/>
                    </a:lnTo>
                    <a:lnTo>
                      <a:pt x="777" y="494"/>
                    </a:lnTo>
                    <a:lnTo>
                      <a:pt x="781" y="489"/>
                    </a:lnTo>
                    <a:lnTo>
                      <a:pt x="781" y="489"/>
                    </a:lnTo>
                    <a:lnTo>
                      <a:pt x="781" y="480"/>
                    </a:lnTo>
                    <a:lnTo>
                      <a:pt x="780" y="472"/>
                    </a:lnTo>
                    <a:lnTo>
                      <a:pt x="777" y="464"/>
                    </a:lnTo>
                    <a:lnTo>
                      <a:pt x="775" y="456"/>
                    </a:lnTo>
                    <a:lnTo>
                      <a:pt x="772" y="449"/>
                    </a:lnTo>
                    <a:lnTo>
                      <a:pt x="768" y="441"/>
                    </a:lnTo>
                    <a:lnTo>
                      <a:pt x="763" y="433"/>
                    </a:lnTo>
                    <a:lnTo>
                      <a:pt x="758" y="426"/>
                    </a:lnTo>
                    <a:lnTo>
                      <a:pt x="758" y="426"/>
                    </a:lnTo>
                    <a:lnTo>
                      <a:pt x="753" y="419"/>
                    </a:lnTo>
                    <a:lnTo>
                      <a:pt x="748" y="411"/>
                    </a:lnTo>
                    <a:lnTo>
                      <a:pt x="746" y="404"/>
                    </a:lnTo>
                    <a:lnTo>
                      <a:pt x="744" y="396"/>
                    </a:lnTo>
                    <a:lnTo>
                      <a:pt x="742" y="387"/>
                    </a:lnTo>
                    <a:lnTo>
                      <a:pt x="742" y="379"/>
                    </a:lnTo>
                    <a:lnTo>
                      <a:pt x="744" y="370"/>
                    </a:lnTo>
                    <a:lnTo>
                      <a:pt x="746" y="362"/>
                    </a:lnTo>
                    <a:lnTo>
                      <a:pt x="746" y="362"/>
                    </a:lnTo>
                    <a:lnTo>
                      <a:pt x="745" y="358"/>
                    </a:lnTo>
                    <a:lnTo>
                      <a:pt x="742" y="355"/>
                    </a:lnTo>
                    <a:lnTo>
                      <a:pt x="739" y="354"/>
                    </a:lnTo>
                    <a:lnTo>
                      <a:pt x="734" y="353"/>
                    </a:lnTo>
                    <a:lnTo>
                      <a:pt x="734" y="353"/>
                    </a:lnTo>
                    <a:lnTo>
                      <a:pt x="730" y="354"/>
                    </a:lnTo>
                    <a:lnTo>
                      <a:pt x="727" y="355"/>
                    </a:lnTo>
                    <a:lnTo>
                      <a:pt x="725" y="358"/>
                    </a:lnTo>
                    <a:lnTo>
                      <a:pt x="724" y="364"/>
                    </a:lnTo>
                    <a:lnTo>
                      <a:pt x="724" y="364"/>
                    </a:lnTo>
                    <a:lnTo>
                      <a:pt x="719" y="375"/>
                    </a:lnTo>
                    <a:lnTo>
                      <a:pt x="716" y="384"/>
                    </a:lnTo>
                    <a:lnTo>
                      <a:pt x="712" y="393"/>
                    </a:lnTo>
                    <a:lnTo>
                      <a:pt x="708" y="401"/>
                    </a:lnTo>
                    <a:lnTo>
                      <a:pt x="704" y="411"/>
                    </a:lnTo>
                    <a:lnTo>
                      <a:pt x="701" y="418"/>
                    </a:lnTo>
                    <a:lnTo>
                      <a:pt x="698" y="426"/>
                    </a:lnTo>
                    <a:lnTo>
                      <a:pt x="695" y="433"/>
                    </a:lnTo>
                    <a:lnTo>
                      <a:pt x="695" y="433"/>
                    </a:lnTo>
                    <a:lnTo>
                      <a:pt x="690" y="442"/>
                    </a:lnTo>
                    <a:lnTo>
                      <a:pt x="687" y="450"/>
                    </a:lnTo>
                    <a:lnTo>
                      <a:pt x="683" y="460"/>
                    </a:lnTo>
                    <a:lnTo>
                      <a:pt x="681" y="469"/>
                    </a:lnTo>
                    <a:lnTo>
                      <a:pt x="677" y="477"/>
                    </a:lnTo>
                    <a:lnTo>
                      <a:pt x="675" y="486"/>
                    </a:lnTo>
                    <a:lnTo>
                      <a:pt x="674" y="496"/>
                    </a:lnTo>
                    <a:lnTo>
                      <a:pt x="673" y="505"/>
                    </a:lnTo>
                    <a:lnTo>
                      <a:pt x="673" y="505"/>
                    </a:lnTo>
                    <a:lnTo>
                      <a:pt x="672" y="512"/>
                    </a:lnTo>
                    <a:lnTo>
                      <a:pt x="669" y="520"/>
                    </a:lnTo>
                    <a:lnTo>
                      <a:pt x="667" y="527"/>
                    </a:lnTo>
                    <a:lnTo>
                      <a:pt x="665" y="535"/>
                    </a:lnTo>
                    <a:lnTo>
                      <a:pt x="660" y="542"/>
                    </a:lnTo>
                    <a:lnTo>
                      <a:pt x="656" y="550"/>
                    </a:lnTo>
                    <a:lnTo>
                      <a:pt x="652" y="557"/>
                    </a:lnTo>
                    <a:lnTo>
                      <a:pt x="646" y="564"/>
                    </a:lnTo>
                    <a:lnTo>
                      <a:pt x="646" y="564"/>
                    </a:lnTo>
                    <a:lnTo>
                      <a:pt x="641" y="571"/>
                    </a:lnTo>
                    <a:lnTo>
                      <a:pt x="637" y="577"/>
                    </a:lnTo>
                    <a:lnTo>
                      <a:pt x="632" y="584"/>
                    </a:lnTo>
                    <a:lnTo>
                      <a:pt x="627" y="591"/>
                    </a:lnTo>
                    <a:lnTo>
                      <a:pt x="624" y="598"/>
                    </a:lnTo>
                    <a:lnTo>
                      <a:pt x="620" y="605"/>
                    </a:lnTo>
                    <a:lnTo>
                      <a:pt x="617" y="613"/>
                    </a:lnTo>
                    <a:lnTo>
                      <a:pt x="615" y="620"/>
                    </a:lnTo>
                    <a:lnTo>
                      <a:pt x="615" y="620"/>
                    </a:lnTo>
                    <a:lnTo>
                      <a:pt x="612" y="630"/>
                    </a:lnTo>
                    <a:lnTo>
                      <a:pt x="610" y="639"/>
                    </a:lnTo>
                    <a:lnTo>
                      <a:pt x="606" y="647"/>
                    </a:lnTo>
                    <a:lnTo>
                      <a:pt x="604" y="653"/>
                    </a:lnTo>
                    <a:lnTo>
                      <a:pt x="601" y="657"/>
                    </a:lnTo>
                    <a:lnTo>
                      <a:pt x="597" y="660"/>
                    </a:lnTo>
                    <a:lnTo>
                      <a:pt x="593" y="662"/>
                    </a:lnTo>
                    <a:lnTo>
                      <a:pt x="589" y="662"/>
                    </a:lnTo>
                    <a:lnTo>
                      <a:pt x="589" y="662"/>
                    </a:lnTo>
                    <a:lnTo>
                      <a:pt x="590" y="663"/>
                    </a:lnTo>
                    <a:lnTo>
                      <a:pt x="593" y="665"/>
                    </a:lnTo>
                    <a:lnTo>
                      <a:pt x="594" y="667"/>
                    </a:lnTo>
                    <a:lnTo>
                      <a:pt x="595" y="668"/>
                    </a:lnTo>
                    <a:lnTo>
                      <a:pt x="595" y="668"/>
                    </a:lnTo>
                    <a:lnTo>
                      <a:pt x="595" y="671"/>
                    </a:lnTo>
                    <a:lnTo>
                      <a:pt x="594" y="675"/>
                    </a:lnTo>
                    <a:lnTo>
                      <a:pt x="594" y="677"/>
                    </a:lnTo>
                    <a:lnTo>
                      <a:pt x="593" y="678"/>
                    </a:lnTo>
                    <a:lnTo>
                      <a:pt x="593" y="678"/>
                    </a:lnTo>
                    <a:lnTo>
                      <a:pt x="588" y="680"/>
                    </a:lnTo>
                    <a:lnTo>
                      <a:pt x="583" y="683"/>
                    </a:lnTo>
                    <a:lnTo>
                      <a:pt x="577" y="684"/>
                    </a:lnTo>
                    <a:lnTo>
                      <a:pt x="570" y="685"/>
                    </a:lnTo>
                    <a:lnTo>
                      <a:pt x="565" y="685"/>
                    </a:lnTo>
                    <a:lnTo>
                      <a:pt x="557" y="685"/>
                    </a:lnTo>
                    <a:lnTo>
                      <a:pt x="550" y="685"/>
                    </a:lnTo>
                    <a:lnTo>
                      <a:pt x="541" y="684"/>
                    </a:lnTo>
                    <a:lnTo>
                      <a:pt x="541" y="684"/>
                    </a:lnTo>
                    <a:lnTo>
                      <a:pt x="541" y="686"/>
                    </a:lnTo>
                    <a:lnTo>
                      <a:pt x="543" y="687"/>
                    </a:lnTo>
                    <a:lnTo>
                      <a:pt x="545" y="690"/>
                    </a:lnTo>
                    <a:lnTo>
                      <a:pt x="547" y="692"/>
                    </a:lnTo>
                    <a:lnTo>
                      <a:pt x="547" y="692"/>
                    </a:lnTo>
                    <a:lnTo>
                      <a:pt x="550" y="694"/>
                    </a:lnTo>
                    <a:lnTo>
                      <a:pt x="551" y="697"/>
                    </a:lnTo>
                    <a:lnTo>
                      <a:pt x="551" y="699"/>
                    </a:lnTo>
                    <a:lnTo>
                      <a:pt x="551" y="701"/>
                    </a:lnTo>
                    <a:lnTo>
                      <a:pt x="551" y="701"/>
                    </a:lnTo>
                    <a:lnTo>
                      <a:pt x="544" y="707"/>
                    </a:lnTo>
                    <a:lnTo>
                      <a:pt x="537" y="712"/>
                    </a:lnTo>
                    <a:lnTo>
                      <a:pt x="530" y="715"/>
                    </a:lnTo>
                    <a:lnTo>
                      <a:pt x="522" y="717"/>
                    </a:lnTo>
                    <a:lnTo>
                      <a:pt x="522" y="717"/>
                    </a:lnTo>
                    <a:lnTo>
                      <a:pt x="513" y="717"/>
                    </a:lnTo>
                    <a:lnTo>
                      <a:pt x="505" y="717"/>
                    </a:lnTo>
                    <a:lnTo>
                      <a:pt x="497" y="718"/>
                    </a:lnTo>
                    <a:lnTo>
                      <a:pt x="490" y="718"/>
                    </a:lnTo>
                    <a:lnTo>
                      <a:pt x="490" y="718"/>
                    </a:lnTo>
                    <a:lnTo>
                      <a:pt x="484" y="717"/>
                    </a:lnTo>
                    <a:lnTo>
                      <a:pt x="482" y="715"/>
                    </a:lnTo>
                    <a:lnTo>
                      <a:pt x="482" y="712"/>
                    </a:lnTo>
                    <a:lnTo>
                      <a:pt x="484" y="708"/>
                    </a:lnTo>
                    <a:lnTo>
                      <a:pt x="484" y="708"/>
                    </a:lnTo>
                    <a:lnTo>
                      <a:pt x="477" y="708"/>
                    </a:lnTo>
                    <a:lnTo>
                      <a:pt x="473" y="708"/>
                    </a:lnTo>
                    <a:lnTo>
                      <a:pt x="468" y="707"/>
                    </a:lnTo>
                    <a:lnTo>
                      <a:pt x="465" y="706"/>
                    </a:lnTo>
                    <a:lnTo>
                      <a:pt x="465" y="706"/>
                    </a:lnTo>
                    <a:lnTo>
                      <a:pt x="464" y="705"/>
                    </a:lnTo>
                    <a:lnTo>
                      <a:pt x="464" y="704"/>
                    </a:lnTo>
                    <a:lnTo>
                      <a:pt x="464" y="701"/>
                    </a:lnTo>
                    <a:lnTo>
                      <a:pt x="465" y="698"/>
                    </a:lnTo>
                    <a:lnTo>
                      <a:pt x="465" y="698"/>
                    </a:lnTo>
                    <a:lnTo>
                      <a:pt x="469" y="693"/>
                    </a:lnTo>
                    <a:lnTo>
                      <a:pt x="474" y="690"/>
                    </a:lnTo>
                    <a:lnTo>
                      <a:pt x="477" y="687"/>
                    </a:lnTo>
                    <a:lnTo>
                      <a:pt x="482" y="685"/>
                    </a:lnTo>
                    <a:lnTo>
                      <a:pt x="487" y="683"/>
                    </a:lnTo>
                    <a:lnTo>
                      <a:pt x="491" y="682"/>
                    </a:lnTo>
                    <a:lnTo>
                      <a:pt x="495" y="680"/>
                    </a:lnTo>
                    <a:lnTo>
                      <a:pt x="500" y="680"/>
                    </a:lnTo>
                    <a:lnTo>
                      <a:pt x="500" y="680"/>
                    </a:lnTo>
                    <a:lnTo>
                      <a:pt x="498" y="677"/>
                    </a:lnTo>
                    <a:lnTo>
                      <a:pt x="498" y="675"/>
                    </a:lnTo>
                    <a:lnTo>
                      <a:pt x="501" y="672"/>
                    </a:lnTo>
                    <a:lnTo>
                      <a:pt x="504" y="671"/>
                    </a:lnTo>
                    <a:lnTo>
                      <a:pt x="504" y="671"/>
                    </a:lnTo>
                    <a:lnTo>
                      <a:pt x="505" y="658"/>
                    </a:lnTo>
                    <a:lnTo>
                      <a:pt x="507" y="646"/>
                    </a:lnTo>
                    <a:lnTo>
                      <a:pt x="508" y="632"/>
                    </a:lnTo>
                    <a:lnTo>
                      <a:pt x="509" y="618"/>
                    </a:lnTo>
                    <a:lnTo>
                      <a:pt x="509" y="605"/>
                    </a:lnTo>
                    <a:lnTo>
                      <a:pt x="509" y="591"/>
                    </a:lnTo>
                    <a:lnTo>
                      <a:pt x="508" y="576"/>
                    </a:lnTo>
                    <a:lnTo>
                      <a:pt x="507" y="562"/>
                    </a:lnTo>
                    <a:lnTo>
                      <a:pt x="507" y="562"/>
                    </a:lnTo>
                    <a:lnTo>
                      <a:pt x="501" y="555"/>
                    </a:lnTo>
                    <a:lnTo>
                      <a:pt x="496" y="548"/>
                    </a:lnTo>
                    <a:lnTo>
                      <a:pt x="494" y="541"/>
                    </a:lnTo>
                    <a:lnTo>
                      <a:pt x="493" y="534"/>
                    </a:lnTo>
                    <a:lnTo>
                      <a:pt x="493" y="534"/>
                    </a:lnTo>
                    <a:lnTo>
                      <a:pt x="493" y="526"/>
                    </a:lnTo>
                    <a:lnTo>
                      <a:pt x="491" y="518"/>
                    </a:lnTo>
                    <a:lnTo>
                      <a:pt x="489" y="510"/>
                    </a:lnTo>
                    <a:lnTo>
                      <a:pt x="487" y="503"/>
                    </a:lnTo>
                    <a:lnTo>
                      <a:pt x="487" y="503"/>
                    </a:lnTo>
                    <a:lnTo>
                      <a:pt x="482" y="496"/>
                    </a:lnTo>
                    <a:lnTo>
                      <a:pt x="479" y="489"/>
                    </a:lnTo>
                    <a:lnTo>
                      <a:pt x="475" y="482"/>
                    </a:lnTo>
                    <a:lnTo>
                      <a:pt x="472" y="476"/>
                    </a:lnTo>
                    <a:lnTo>
                      <a:pt x="472" y="476"/>
                    </a:lnTo>
                    <a:lnTo>
                      <a:pt x="468" y="471"/>
                    </a:lnTo>
                    <a:lnTo>
                      <a:pt x="466" y="465"/>
                    </a:lnTo>
                    <a:lnTo>
                      <a:pt x="464" y="461"/>
                    </a:lnTo>
                    <a:lnTo>
                      <a:pt x="461" y="457"/>
                    </a:lnTo>
                    <a:lnTo>
                      <a:pt x="461" y="457"/>
                    </a:lnTo>
                    <a:lnTo>
                      <a:pt x="458" y="453"/>
                    </a:lnTo>
                    <a:lnTo>
                      <a:pt x="454" y="447"/>
                    </a:lnTo>
                    <a:lnTo>
                      <a:pt x="451" y="441"/>
                    </a:lnTo>
                    <a:lnTo>
                      <a:pt x="447" y="434"/>
                    </a:lnTo>
                    <a:lnTo>
                      <a:pt x="444" y="427"/>
                    </a:lnTo>
                    <a:lnTo>
                      <a:pt x="440" y="419"/>
                    </a:lnTo>
                    <a:lnTo>
                      <a:pt x="437" y="410"/>
                    </a:lnTo>
                    <a:lnTo>
                      <a:pt x="433" y="400"/>
                    </a:lnTo>
                    <a:lnTo>
                      <a:pt x="433" y="400"/>
                    </a:lnTo>
                    <a:lnTo>
                      <a:pt x="426" y="391"/>
                    </a:lnTo>
                    <a:lnTo>
                      <a:pt x="421" y="387"/>
                    </a:lnTo>
                    <a:lnTo>
                      <a:pt x="415" y="390"/>
                    </a:lnTo>
                    <a:lnTo>
                      <a:pt x="409" y="397"/>
                    </a:lnTo>
                    <a:lnTo>
                      <a:pt x="409" y="397"/>
                    </a:lnTo>
                    <a:lnTo>
                      <a:pt x="404" y="404"/>
                    </a:lnTo>
                    <a:lnTo>
                      <a:pt x="400" y="412"/>
                    </a:lnTo>
                    <a:lnTo>
                      <a:pt x="395" y="419"/>
                    </a:lnTo>
                    <a:lnTo>
                      <a:pt x="391" y="427"/>
                    </a:lnTo>
                    <a:lnTo>
                      <a:pt x="388" y="434"/>
                    </a:lnTo>
                    <a:lnTo>
                      <a:pt x="386" y="441"/>
                    </a:lnTo>
                    <a:lnTo>
                      <a:pt x="383" y="448"/>
                    </a:lnTo>
                    <a:lnTo>
                      <a:pt x="382" y="455"/>
                    </a:lnTo>
                    <a:lnTo>
                      <a:pt x="382" y="455"/>
                    </a:lnTo>
                    <a:lnTo>
                      <a:pt x="380" y="464"/>
                    </a:lnTo>
                    <a:lnTo>
                      <a:pt x="376" y="472"/>
                    </a:lnTo>
                    <a:lnTo>
                      <a:pt x="373" y="480"/>
                    </a:lnTo>
                    <a:lnTo>
                      <a:pt x="369" y="489"/>
                    </a:lnTo>
                    <a:lnTo>
                      <a:pt x="366" y="494"/>
                    </a:lnTo>
                    <a:lnTo>
                      <a:pt x="362" y="501"/>
                    </a:lnTo>
                    <a:lnTo>
                      <a:pt x="358" y="507"/>
                    </a:lnTo>
                    <a:lnTo>
                      <a:pt x="353" y="512"/>
                    </a:lnTo>
                    <a:lnTo>
                      <a:pt x="353" y="512"/>
                    </a:lnTo>
                    <a:lnTo>
                      <a:pt x="353" y="519"/>
                    </a:lnTo>
                    <a:lnTo>
                      <a:pt x="353" y="526"/>
                    </a:lnTo>
                    <a:lnTo>
                      <a:pt x="352" y="534"/>
                    </a:lnTo>
                    <a:lnTo>
                      <a:pt x="350" y="541"/>
                    </a:lnTo>
                    <a:lnTo>
                      <a:pt x="350" y="541"/>
                    </a:lnTo>
                    <a:lnTo>
                      <a:pt x="346" y="547"/>
                    </a:lnTo>
                    <a:lnTo>
                      <a:pt x="343" y="551"/>
                    </a:lnTo>
                    <a:lnTo>
                      <a:pt x="339" y="555"/>
                    </a:lnTo>
                    <a:lnTo>
                      <a:pt x="336" y="556"/>
                    </a:lnTo>
                    <a:lnTo>
                      <a:pt x="336" y="556"/>
                    </a:lnTo>
                    <a:lnTo>
                      <a:pt x="333" y="562"/>
                    </a:lnTo>
                    <a:lnTo>
                      <a:pt x="332" y="568"/>
                    </a:lnTo>
                    <a:lnTo>
                      <a:pt x="330" y="573"/>
                    </a:lnTo>
                    <a:lnTo>
                      <a:pt x="328" y="579"/>
                    </a:lnTo>
                    <a:lnTo>
                      <a:pt x="328" y="579"/>
                    </a:lnTo>
                    <a:lnTo>
                      <a:pt x="326" y="582"/>
                    </a:lnTo>
                    <a:lnTo>
                      <a:pt x="325" y="585"/>
                    </a:lnTo>
                    <a:lnTo>
                      <a:pt x="324" y="587"/>
                    </a:lnTo>
                    <a:lnTo>
                      <a:pt x="323" y="590"/>
                    </a:lnTo>
                    <a:lnTo>
                      <a:pt x="323" y="590"/>
                    </a:lnTo>
                    <a:lnTo>
                      <a:pt x="322" y="593"/>
                    </a:lnTo>
                    <a:lnTo>
                      <a:pt x="321" y="597"/>
                    </a:lnTo>
                    <a:lnTo>
                      <a:pt x="319" y="599"/>
                    </a:lnTo>
                    <a:lnTo>
                      <a:pt x="318" y="601"/>
                    </a:lnTo>
                    <a:lnTo>
                      <a:pt x="318" y="601"/>
                    </a:lnTo>
                    <a:lnTo>
                      <a:pt x="318" y="604"/>
                    </a:lnTo>
                    <a:lnTo>
                      <a:pt x="317" y="607"/>
                    </a:lnTo>
                    <a:lnTo>
                      <a:pt x="316" y="611"/>
                    </a:lnTo>
                    <a:lnTo>
                      <a:pt x="315" y="614"/>
                    </a:lnTo>
                    <a:lnTo>
                      <a:pt x="315" y="614"/>
                    </a:lnTo>
                    <a:lnTo>
                      <a:pt x="314" y="619"/>
                    </a:lnTo>
                    <a:lnTo>
                      <a:pt x="311" y="623"/>
                    </a:lnTo>
                    <a:lnTo>
                      <a:pt x="310" y="629"/>
                    </a:lnTo>
                    <a:lnTo>
                      <a:pt x="308" y="635"/>
                    </a:lnTo>
                    <a:lnTo>
                      <a:pt x="308" y="635"/>
                    </a:lnTo>
                    <a:lnTo>
                      <a:pt x="304" y="647"/>
                    </a:lnTo>
                    <a:lnTo>
                      <a:pt x="301" y="655"/>
                    </a:lnTo>
                    <a:lnTo>
                      <a:pt x="298" y="661"/>
                    </a:lnTo>
                    <a:lnTo>
                      <a:pt x="296" y="662"/>
                    </a:lnTo>
                    <a:lnTo>
                      <a:pt x="296" y="662"/>
                    </a:lnTo>
                    <a:lnTo>
                      <a:pt x="297" y="664"/>
                    </a:lnTo>
                    <a:lnTo>
                      <a:pt x="298" y="667"/>
                    </a:lnTo>
                    <a:lnTo>
                      <a:pt x="300" y="670"/>
                    </a:lnTo>
                    <a:lnTo>
                      <a:pt x="300" y="675"/>
                    </a:lnTo>
                    <a:lnTo>
                      <a:pt x="300" y="675"/>
                    </a:lnTo>
                    <a:lnTo>
                      <a:pt x="298" y="679"/>
                    </a:lnTo>
                    <a:lnTo>
                      <a:pt x="297" y="684"/>
                    </a:lnTo>
                    <a:lnTo>
                      <a:pt x="294" y="687"/>
                    </a:lnTo>
                    <a:lnTo>
                      <a:pt x="290" y="690"/>
                    </a:lnTo>
                    <a:lnTo>
                      <a:pt x="290" y="690"/>
                    </a:lnTo>
                    <a:lnTo>
                      <a:pt x="286" y="692"/>
                    </a:lnTo>
                    <a:lnTo>
                      <a:pt x="280" y="693"/>
                    </a:lnTo>
                    <a:lnTo>
                      <a:pt x="272" y="694"/>
                    </a:lnTo>
                    <a:lnTo>
                      <a:pt x="262" y="694"/>
                    </a:lnTo>
                    <a:lnTo>
                      <a:pt x="262" y="694"/>
                    </a:lnTo>
                    <a:lnTo>
                      <a:pt x="258" y="694"/>
                    </a:lnTo>
                    <a:lnTo>
                      <a:pt x="252" y="694"/>
                    </a:lnTo>
                    <a:lnTo>
                      <a:pt x="248" y="694"/>
                    </a:lnTo>
                    <a:lnTo>
                      <a:pt x="245" y="694"/>
                    </a:lnTo>
                    <a:lnTo>
                      <a:pt x="245" y="694"/>
                    </a:lnTo>
                    <a:lnTo>
                      <a:pt x="241" y="694"/>
                    </a:lnTo>
                    <a:lnTo>
                      <a:pt x="238" y="694"/>
                    </a:lnTo>
                    <a:lnTo>
                      <a:pt x="236" y="694"/>
                    </a:lnTo>
                    <a:lnTo>
                      <a:pt x="233" y="694"/>
                    </a:lnTo>
                    <a:lnTo>
                      <a:pt x="233" y="694"/>
                    </a:lnTo>
                    <a:lnTo>
                      <a:pt x="231" y="694"/>
                    </a:lnTo>
                    <a:lnTo>
                      <a:pt x="228" y="693"/>
                    </a:lnTo>
                    <a:lnTo>
                      <a:pt x="225" y="693"/>
                    </a:lnTo>
                    <a:lnTo>
                      <a:pt x="222" y="693"/>
                    </a:lnTo>
                    <a:lnTo>
                      <a:pt x="222" y="693"/>
                    </a:lnTo>
                    <a:lnTo>
                      <a:pt x="219" y="691"/>
                    </a:lnTo>
                    <a:lnTo>
                      <a:pt x="217" y="687"/>
                    </a:lnTo>
                    <a:lnTo>
                      <a:pt x="217" y="685"/>
                    </a:lnTo>
                    <a:lnTo>
                      <a:pt x="218" y="683"/>
                    </a:lnTo>
                    <a:lnTo>
                      <a:pt x="218" y="683"/>
                    </a:lnTo>
                    <a:lnTo>
                      <a:pt x="216" y="684"/>
                    </a:lnTo>
                    <a:lnTo>
                      <a:pt x="214" y="684"/>
                    </a:lnTo>
                    <a:lnTo>
                      <a:pt x="211" y="684"/>
                    </a:lnTo>
                    <a:lnTo>
                      <a:pt x="209" y="683"/>
                    </a:lnTo>
                    <a:lnTo>
                      <a:pt x="209" y="683"/>
                    </a:lnTo>
                    <a:lnTo>
                      <a:pt x="208" y="680"/>
                    </a:lnTo>
                    <a:lnTo>
                      <a:pt x="207" y="678"/>
                    </a:lnTo>
                    <a:lnTo>
                      <a:pt x="207" y="675"/>
                    </a:lnTo>
                    <a:lnTo>
                      <a:pt x="207" y="671"/>
                    </a:lnTo>
                    <a:lnTo>
                      <a:pt x="207" y="671"/>
                    </a:lnTo>
                    <a:lnTo>
                      <a:pt x="209" y="668"/>
                    </a:lnTo>
                    <a:lnTo>
                      <a:pt x="211" y="665"/>
                    </a:lnTo>
                    <a:lnTo>
                      <a:pt x="215" y="664"/>
                    </a:lnTo>
                    <a:lnTo>
                      <a:pt x="219" y="664"/>
                    </a:lnTo>
                    <a:lnTo>
                      <a:pt x="219" y="664"/>
                    </a:lnTo>
                    <a:lnTo>
                      <a:pt x="226" y="665"/>
                    </a:lnTo>
                    <a:lnTo>
                      <a:pt x="233" y="665"/>
                    </a:lnTo>
                    <a:lnTo>
                      <a:pt x="239" y="664"/>
                    </a:lnTo>
                    <a:lnTo>
                      <a:pt x="245" y="663"/>
                    </a:lnTo>
                    <a:lnTo>
                      <a:pt x="251" y="662"/>
                    </a:lnTo>
                    <a:lnTo>
                      <a:pt x="255" y="660"/>
                    </a:lnTo>
                    <a:lnTo>
                      <a:pt x="260" y="657"/>
                    </a:lnTo>
                    <a:lnTo>
                      <a:pt x="264" y="655"/>
                    </a:lnTo>
                    <a:lnTo>
                      <a:pt x="264" y="655"/>
                    </a:lnTo>
                    <a:lnTo>
                      <a:pt x="265" y="650"/>
                    </a:lnTo>
                    <a:lnTo>
                      <a:pt x="267" y="643"/>
                    </a:lnTo>
                    <a:lnTo>
                      <a:pt x="271" y="636"/>
                    </a:lnTo>
                    <a:lnTo>
                      <a:pt x="276" y="628"/>
                    </a:lnTo>
                    <a:lnTo>
                      <a:pt x="276" y="628"/>
                    </a:lnTo>
                    <a:lnTo>
                      <a:pt x="282" y="620"/>
                    </a:lnTo>
                    <a:lnTo>
                      <a:pt x="287" y="613"/>
                    </a:lnTo>
                    <a:lnTo>
                      <a:pt x="290" y="607"/>
                    </a:lnTo>
                    <a:lnTo>
                      <a:pt x="294" y="601"/>
                    </a:lnTo>
                    <a:lnTo>
                      <a:pt x="294" y="601"/>
                    </a:lnTo>
                    <a:lnTo>
                      <a:pt x="295" y="596"/>
                    </a:lnTo>
                    <a:lnTo>
                      <a:pt x="297" y="589"/>
                    </a:lnTo>
                    <a:lnTo>
                      <a:pt x="300" y="583"/>
                    </a:lnTo>
                    <a:lnTo>
                      <a:pt x="302" y="577"/>
                    </a:lnTo>
                    <a:lnTo>
                      <a:pt x="302" y="577"/>
                    </a:lnTo>
                    <a:lnTo>
                      <a:pt x="305" y="569"/>
                    </a:lnTo>
                    <a:lnTo>
                      <a:pt x="308" y="561"/>
                    </a:lnTo>
                    <a:lnTo>
                      <a:pt x="310" y="555"/>
                    </a:lnTo>
                    <a:lnTo>
                      <a:pt x="311" y="550"/>
                    </a:lnTo>
                    <a:lnTo>
                      <a:pt x="311" y="550"/>
                    </a:lnTo>
                    <a:lnTo>
                      <a:pt x="311" y="543"/>
                    </a:lnTo>
                    <a:lnTo>
                      <a:pt x="311" y="537"/>
                    </a:lnTo>
                    <a:lnTo>
                      <a:pt x="310" y="533"/>
                    </a:lnTo>
                    <a:lnTo>
                      <a:pt x="310" y="529"/>
                    </a:lnTo>
                    <a:lnTo>
                      <a:pt x="310" y="529"/>
                    </a:lnTo>
                    <a:lnTo>
                      <a:pt x="309" y="525"/>
                    </a:lnTo>
                    <a:lnTo>
                      <a:pt x="310" y="518"/>
                    </a:lnTo>
                    <a:lnTo>
                      <a:pt x="312" y="510"/>
                    </a:lnTo>
                    <a:lnTo>
                      <a:pt x="317" y="498"/>
                    </a:lnTo>
                    <a:lnTo>
                      <a:pt x="317" y="498"/>
                    </a:lnTo>
                    <a:lnTo>
                      <a:pt x="317" y="493"/>
                    </a:lnTo>
                    <a:lnTo>
                      <a:pt x="317" y="489"/>
                    </a:lnTo>
                    <a:lnTo>
                      <a:pt x="316" y="483"/>
                    </a:lnTo>
                    <a:lnTo>
                      <a:pt x="316" y="476"/>
                    </a:lnTo>
                    <a:lnTo>
                      <a:pt x="315" y="469"/>
                    </a:lnTo>
                    <a:lnTo>
                      <a:pt x="314" y="461"/>
                    </a:lnTo>
                    <a:lnTo>
                      <a:pt x="311" y="453"/>
                    </a:lnTo>
                    <a:lnTo>
                      <a:pt x="310" y="443"/>
                    </a:lnTo>
                    <a:lnTo>
                      <a:pt x="310" y="443"/>
                    </a:lnTo>
                    <a:lnTo>
                      <a:pt x="308" y="434"/>
                    </a:lnTo>
                    <a:lnTo>
                      <a:pt x="307" y="427"/>
                    </a:lnTo>
                    <a:lnTo>
                      <a:pt x="305" y="419"/>
                    </a:lnTo>
                    <a:lnTo>
                      <a:pt x="304" y="413"/>
                    </a:lnTo>
                    <a:lnTo>
                      <a:pt x="304" y="407"/>
                    </a:lnTo>
                    <a:lnTo>
                      <a:pt x="304" y="403"/>
                    </a:lnTo>
                    <a:lnTo>
                      <a:pt x="304" y="399"/>
                    </a:lnTo>
                    <a:lnTo>
                      <a:pt x="305" y="396"/>
                    </a:lnTo>
                    <a:lnTo>
                      <a:pt x="305" y="396"/>
                    </a:lnTo>
                    <a:lnTo>
                      <a:pt x="301" y="394"/>
                    </a:lnTo>
                    <a:lnTo>
                      <a:pt x="296" y="393"/>
                    </a:lnTo>
                    <a:lnTo>
                      <a:pt x="290" y="392"/>
                    </a:lnTo>
                    <a:lnTo>
                      <a:pt x="285" y="391"/>
                    </a:lnTo>
                    <a:lnTo>
                      <a:pt x="278" y="389"/>
                    </a:lnTo>
                    <a:lnTo>
                      <a:pt x="271" y="387"/>
                    </a:lnTo>
                    <a:lnTo>
                      <a:pt x="264" y="385"/>
                    </a:lnTo>
                    <a:lnTo>
                      <a:pt x="257" y="383"/>
                    </a:lnTo>
                    <a:lnTo>
                      <a:pt x="258" y="383"/>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20840" y="375840"/>
                <a:ext cx="412560" cy="618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 name="" descr=""/>
            <p:cNvPicPr/>
            <p:nvPr/>
          </p:nvPicPr>
          <p:blipFill>
            <a:blip r:embed="rId2"/>
            <a:srcRect l="2372" t="0" r="68122" b="68513"/>
            <a:stretch/>
          </p:blipFill>
          <p:spPr>
            <a:xfrm>
              <a:off x="19440" y="1843200"/>
              <a:ext cx="1003320" cy="1441440"/>
            </a:xfrm>
            <a:prstGeom prst="rect">
              <a:avLst/>
            </a:prstGeom>
            <a:ln w="0">
              <a:noFill/>
            </a:ln>
          </p:spPr>
        </p:pic>
        <p:pic>
          <p:nvPicPr>
            <p:cNvPr id="21" name="" descr=""/>
            <p:cNvPicPr/>
            <p:nvPr/>
          </p:nvPicPr>
          <p:blipFill>
            <a:blip r:embed="rId3"/>
            <a:srcRect l="35452" t="3161" r="35637" b="66946"/>
            <a:stretch/>
          </p:blipFill>
          <p:spPr>
            <a:xfrm>
              <a:off x="19440" y="3213000"/>
              <a:ext cx="982800" cy="1368360"/>
            </a:xfrm>
            <a:prstGeom prst="rect">
              <a:avLst/>
            </a:prstGeom>
            <a:ln w="0">
              <a:noFill/>
            </a:ln>
          </p:spPr>
        </p:pic>
        <p:pic>
          <p:nvPicPr>
            <p:cNvPr id="22" name="" descr=""/>
            <p:cNvPicPr/>
            <p:nvPr/>
          </p:nvPicPr>
          <p:blipFill>
            <a:blip r:embed="rId4"/>
            <a:srcRect l="1974" t="3282" r="68807" b="68591"/>
            <a:stretch/>
          </p:blipFill>
          <p:spPr>
            <a:xfrm>
              <a:off x="0" y="4459320"/>
              <a:ext cx="982800" cy="1274760"/>
            </a:xfrm>
            <a:prstGeom prst="rect">
              <a:avLst/>
            </a:prstGeom>
            <a:ln w="0">
              <a:noFill/>
            </a:ln>
          </p:spPr>
        </p:pic>
        <p:pic>
          <p:nvPicPr>
            <p:cNvPr id="23" name="" descr=""/>
            <p:cNvPicPr/>
            <p:nvPr/>
          </p:nvPicPr>
          <p:blipFill>
            <a:blip r:embed="rId5"/>
            <a:srcRect l="35508" t="3321" r="35229" b="68591"/>
            <a:stretch/>
          </p:blipFill>
          <p:spPr>
            <a:xfrm>
              <a:off x="0" y="5662440"/>
              <a:ext cx="1022760" cy="1222560"/>
            </a:xfrm>
            <a:prstGeom prst="rect">
              <a:avLst/>
            </a:prstGeom>
            <a:ln w="0">
              <a:noFill/>
            </a:ln>
          </p:spPr>
        </p:pic>
        <p:pic>
          <p:nvPicPr>
            <p:cNvPr id="24" name="" descr=""/>
            <p:cNvPicPr/>
            <p:nvPr/>
          </p:nvPicPr>
          <p:blipFill>
            <a:blip r:embed="rId6"/>
            <a:srcRect l="0" t="49548" r="74398" b="0"/>
            <a:stretch/>
          </p:blipFill>
          <p:spPr>
            <a:xfrm>
              <a:off x="60120" y="1052640"/>
              <a:ext cx="982800" cy="898560"/>
            </a:xfrm>
            <a:prstGeom prst="rect">
              <a:avLst/>
            </a:prstGeom>
            <a:ln w="0">
              <a:noFill/>
            </a:ln>
          </p:spPr>
        </p:pic>
      </p:grpSp>
      <p:sp>
        <p:nvSpPr>
          <p:cNvPr id="2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63" name="PlaceHolder 2"/>
          <p:cNvSpPr>
            <a:spLocks noGrp="1"/>
          </p:cNvSpPr>
          <p:nvPr>
            <p:ph type="dt" idx="4"/>
          </p:nvPr>
        </p:nvSpPr>
        <p:spPr>
          <a:xfrm>
            <a:off x="324000" y="6165720"/>
            <a:ext cx="2133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E201-311B-4F7E-832E-082E04A47510}"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6"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 name=""/>
          <p:cNvGrpSpPr/>
          <p:nvPr/>
        </p:nvGrpSpPr>
        <p:grpSpPr>
          <a:xfrm>
            <a:off x="0" y="44280"/>
            <a:ext cx="1871640" cy="6840720"/>
            <a:chOff x="0" y="44280"/>
            <a:chExt cx="1871640" cy="6840720"/>
          </a:xfrm>
        </p:grpSpPr>
        <p:grpSp>
          <p:nvGrpSpPr>
            <p:cNvPr id="69" name=""/>
            <p:cNvGrpSpPr/>
            <p:nvPr/>
          </p:nvGrpSpPr>
          <p:grpSpPr>
            <a:xfrm>
              <a:off x="14400" y="44280"/>
              <a:ext cx="1749240" cy="1071360"/>
              <a:chOff x="14400" y="44280"/>
              <a:chExt cx="1749240" cy="1071360"/>
            </a:xfrm>
          </p:grpSpPr>
          <p:sp>
            <p:nvSpPr>
              <p:cNvPr id="70" name=""/>
              <p:cNvSpPr/>
              <p:nvPr/>
            </p:nvSpPr>
            <p:spPr>
              <a:xfrm>
                <a:off x="14400" y="443880"/>
                <a:ext cx="1749240" cy="671760"/>
              </a:xfrm>
              <a:custGeom>
                <a:avLst/>
                <a:gdLst/>
                <a:ahLst/>
                <a:rect l="l" t="t" r="r" b="b"/>
                <a:pathLst>
                  <a:path w="5423" h="1688">
                    <a:moveTo>
                      <a:pt x="0" y="0"/>
                    </a:moveTo>
                    <a:lnTo>
                      <a:pt x="3787" y="0"/>
                    </a:lnTo>
                    <a:lnTo>
                      <a:pt x="5423" y="1688"/>
                    </a:lnTo>
                    <a:lnTo>
                      <a:pt x="1636" y="1688"/>
                    </a:lnTo>
                    <a:lnTo>
                      <a:pt x="0" y="0"/>
                    </a:lnTo>
                    <a:close/>
                  </a:path>
                </a:pathLst>
              </a:custGeom>
              <a:solidFill>
                <a:srgbClr val="665e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4400" y="443880"/>
                <a:ext cx="1749240" cy="671760"/>
              </a:xfrm>
              <a:custGeom>
                <a:avLst/>
                <a:gdLst/>
                <a:ahLst/>
                <a:rect l="l" t="t" r="r" b="b"/>
                <a:pathLst>
                  <a:path w="5423" h="1688">
                    <a:moveTo>
                      <a:pt x="0" y="0"/>
                    </a:moveTo>
                    <a:lnTo>
                      <a:pt x="3787" y="0"/>
                    </a:lnTo>
                    <a:lnTo>
                      <a:pt x="5423" y="1688"/>
                    </a:lnTo>
                    <a:lnTo>
                      <a:pt x="1636" y="1688"/>
                    </a:lnTo>
                    <a:lnTo>
                      <a:pt x="0" y="0"/>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55600" y="44280"/>
                <a:ext cx="676440" cy="560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55600" y="44280"/>
                <a:ext cx="676440" cy="560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5600" y="321120"/>
                <a:ext cx="677160" cy="284040"/>
              </a:xfrm>
              <a:custGeom>
                <a:avLst/>
                <a:gdLst/>
                <a:ahLst/>
                <a:rect l="l" t="t" r="r" b="b"/>
                <a:pathLst>
                  <a:path w="2101" h="714">
                    <a:moveTo>
                      <a:pt x="0" y="109"/>
                    </a:moveTo>
                    <a:lnTo>
                      <a:pt x="7" y="107"/>
                    </a:lnTo>
                    <a:lnTo>
                      <a:pt x="15" y="106"/>
                    </a:lnTo>
                    <a:lnTo>
                      <a:pt x="23" y="103"/>
                    </a:lnTo>
                    <a:lnTo>
                      <a:pt x="33" y="99"/>
                    </a:lnTo>
                    <a:lnTo>
                      <a:pt x="43" y="96"/>
                    </a:lnTo>
                    <a:lnTo>
                      <a:pt x="51" y="92"/>
                    </a:lnTo>
                    <a:lnTo>
                      <a:pt x="59" y="89"/>
                    </a:lnTo>
                    <a:lnTo>
                      <a:pt x="66" y="86"/>
                    </a:lnTo>
                    <a:lnTo>
                      <a:pt x="66" y="81"/>
                    </a:lnTo>
                    <a:lnTo>
                      <a:pt x="88" y="75"/>
                    </a:lnTo>
                    <a:lnTo>
                      <a:pt x="89" y="70"/>
                    </a:lnTo>
                    <a:lnTo>
                      <a:pt x="94" y="63"/>
                    </a:lnTo>
                    <a:lnTo>
                      <a:pt x="101" y="56"/>
                    </a:lnTo>
                    <a:lnTo>
                      <a:pt x="109" y="49"/>
                    </a:lnTo>
                    <a:lnTo>
                      <a:pt x="118" y="42"/>
                    </a:lnTo>
                    <a:lnTo>
                      <a:pt x="128" y="36"/>
                    </a:lnTo>
                    <a:lnTo>
                      <a:pt x="137" y="32"/>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95" y="48"/>
                    </a:lnTo>
                    <a:lnTo>
                      <a:pt x="511" y="54"/>
                    </a:lnTo>
                    <a:lnTo>
                      <a:pt x="529" y="62"/>
                    </a:lnTo>
                    <a:lnTo>
                      <a:pt x="546" y="70"/>
                    </a:lnTo>
                    <a:lnTo>
                      <a:pt x="564" y="78"/>
                    </a:lnTo>
                    <a:lnTo>
                      <a:pt x="581" y="86"/>
                    </a:lnTo>
                    <a:lnTo>
                      <a:pt x="597" y="92"/>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95" y="167"/>
                    </a:lnTo>
                    <a:lnTo>
                      <a:pt x="1313" y="168"/>
                    </a:lnTo>
                    <a:lnTo>
                      <a:pt x="1334" y="169"/>
                    </a:lnTo>
                    <a:lnTo>
                      <a:pt x="1356" y="169"/>
                    </a:lnTo>
                    <a:lnTo>
                      <a:pt x="1378" y="169"/>
                    </a:lnTo>
                    <a:lnTo>
                      <a:pt x="1398" y="168"/>
                    </a:lnTo>
                    <a:lnTo>
                      <a:pt x="1416" y="167"/>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60" y="173"/>
                    </a:lnTo>
                    <a:lnTo>
                      <a:pt x="2061" y="175"/>
                    </a:lnTo>
                    <a:lnTo>
                      <a:pt x="2062" y="176"/>
                    </a:lnTo>
                    <a:lnTo>
                      <a:pt x="2063" y="181"/>
                    </a:lnTo>
                    <a:lnTo>
                      <a:pt x="2080" y="181"/>
                    </a:lnTo>
                    <a:lnTo>
                      <a:pt x="2083" y="191"/>
                    </a:lnTo>
                    <a:lnTo>
                      <a:pt x="2087" y="196"/>
                    </a:lnTo>
                    <a:lnTo>
                      <a:pt x="2093" y="198"/>
                    </a:lnTo>
                    <a:lnTo>
                      <a:pt x="2101" y="198"/>
                    </a:lnTo>
                    <a:lnTo>
                      <a:pt x="2101" y="202"/>
                    </a:lnTo>
                    <a:lnTo>
                      <a:pt x="2101" y="205"/>
                    </a:lnTo>
                    <a:lnTo>
                      <a:pt x="2099" y="207"/>
                    </a:lnTo>
                    <a:lnTo>
                      <a:pt x="2097" y="209"/>
                    </a:lnTo>
                    <a:lnTo>
                      <a:pt x="2097" y="714"/>
                    </a:lnTo>
                    <a:lnTo>
                      <a:pt x="0" y="714"/>
                    </a:lnTo>
                    <a:lnTo>
                      <a:pt x="0" y="109"/>
                    </a:lnTo>
                    <a:close/>
                  </a:path>
                </a:pathLst>
              </a:custGeom>
              <a:solidFill>
                <a:srgbClr val="e1e1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55600" y="321120"/>
                <a:ext cx="677160" cy="284040"/>
              </a:xfrm>
              <a:custGeom>
                <a:avLst/>
                <a:gdLst/>
                <a:ahLst/>
                <a:rect l="l" t="t" r="r" b="b"/>
                <a:pathLst>
                  <a:path w="2101" h="714">
                    <a:moveTo>
                      <a:pt x="0" y="109"/>
                    </a:moveTo>
                    <a:lnTo>
                      <a:pt x="0" y="109"/>
                    </a:lnTo>
                    <a:lnTo>
                      <a:pt x="7" y="107"/>
                    </a:lnTo>
                    <a:lnTo>
                      <a:pt x="15" y="106"/>
                    </a:lnTo>
                    <a:lnTo>
                      <a:pt x="23" y="103"/>
                    </a:lnTo>
                    <a:lnTo>
                      <a:pt x="33" y="99"/>
                    </a:lnTo>
                    <a:lnTo>
                      <a:pt x="43" y="96"/>
                    </a:lnTo>
                    <a:lnTo>
                      <a:pt x="51" y="92"/>
                    </a:lnTo>
                    <a:lnTo>
                      <a:pt x="59" y="89"/>
                    </a:lnTo>
                    <a:lnTo>
                      <a:pt x="66" y="86"/>
                    </a:lnTo>
                    <a:lnTo>
                      <a:pt x="66" y="81"/>
                    </a:lnTo>
                    <a:lnTo>
                      <a:pt x="88" y="75"/>
                    </a:lnTo>
                    <a:lnTo>
                      <a:pt x="88" y="75"/>
                    </a:lnTo>
                    <a:lnTo>
                      <a:pt x="89" y="70"/>
                    </a:lnTo>
                    <a:lnTo>
                      <a:pt x="94" y="63"/>
                    </a:lnTo>
                    <a:lnTo>
                      <a:pt x="101" y="56"/>
                    </a:lnTo>
                    <a:lnTo>
                      <a:pt x="109" y="49"/>
                    </a:lnTo>
                    <a:lnTo>
                      <a:pt x="118" y="42"/>
                    </a:lnTo>
                    <a:lnTo>
                      <a:pt x="128" y="36"/>
                    </a:lnTo>
                    <a:lnTo>
                      <a:pt x="137" y="32"/>
                    </a:lnTo>
                    <a:lnTo>
                      <a:pt x="144" y="31"/>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80" y="42"/>
                    </a:lnTo>
                    <a:lnTo>
                      <a:pt x="495" y="48"/>
                    </a:lnTo>
                    <a:lnTo>
                      <a:pt x="511" y="54"/>
                    </a:lnTo>
                    <a:lnTo>
                      <a:pt x="529" y="62"/>
                    </a:lnTo>
                    <a:lnTo>
                      <a:pt x="546" y="70"/>
                    </a:lnTo>
                    <a:lnTo>
                      <a:pt x="564" y="78"/>
                    </a:lnTo>
                    <a:lnTo>
                      <a:pt x="581" y="86"/>
                    </a:lnTo>
                    <a:lnTo>
                      <a:pt x="597" y="92"/>
                    </a:lnTo>
                    <a:lnTo>
                      <a:pt x="612" y="98"/>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80" y="164"/>
                    </a:lnTo>
                    <a:lnTo>
                      <a:pt x="1295" y="167"/>
                    </a:lnTo>
                    <a:lnTo>
                      <a:pt x="1313" y="168"/>
                    </a:lnTo>
                    <a:lnTo>
                      <a:pt x="1334" y="169"/>
                    </a:lnTo>
                    <a:lnTo>
                      <a:pt x="1356" y="169"/>
                    </a:lnTo>
                    <a:lnTo>
                      <a:pt x="1378" y="169"/>
                    </a:lnTo>
                    <a:lnTo>
                      <a:pt x="1398" y="168"/>
                    </a:lnTo>
                    <a:lnTo>
                      <a:pt x="1416" y="167"/>
                    </a:lnTo>
                    <a:lnTo>
                      <a:pt x="1428" y="164"/>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58" y="164"/>
                    </a:lnTo>
                    <a:lnTo>
                      <a:pt x="2060" y="173"/>
                    </a:lnTo>
                    <a:lnTo>
                      <a:pt x="2061" y="175"/>
                    </a:lnTo>
                    <a:lnTo>
                      <a:pt x="2062" y="176"/>
                    </a:lnTo>
                    <a:lnTo>
                      <a:pt x="2063" y="181"/>
                    </a:lnTo>
                    <a:lnTo>
                      <a:pt x="2080" y="181"/>
                    </a:lnTo>
                    <a:lnTo>
                      <a:pt x="2080" y="181"/>
                    </a:lnTo>
                    <a:lnTo>
                      <a:pt x="2083" y="191"/>
                    </a:lnTo>
                    <a:lnTo>
                      <a:pt x="2087" y="196"/>
                    </a:lnTo>
                    <a:lnTo>
                      <a:pt x="2093" y="198"/>
                    </a:lnTo>
                    <a:lnTo>
                      <a:pt x="2101" y="198"/>
                    </a:lnTo>
                    <a:lnTo>
                      <a:pt x="2101" y="198"/>
                    </a:lnTo>
                    <a:lnTo>
                      <a:pt x="2101" y="202"/>
                    </a:lnTo>
                    <a:lnTo>
                      <a:pt x="2101" y="205"/>
                    </a:lnTo>
                    <a:lnTo>
                      <a:pt x="2099" y="207"/>
                    </a:lnTo>
                    <a:lnTo>
                      <a:pt x="2097" y="209"/>
                    </a:lnTo>
                    <a:lnTo>
                      <a:pt x="2097" y="714"/>
                    </a:lnTo>
                    <a:lnTo>
                      <a:pt x="0" y="714"/>
                    </a:lnTo>
                    <a:lnTo>
                      <a:pt x="0" y="1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59600" y="330840"/>
                <a:ext cx="204120" cy="367200"/>
              </a:xfrm>
              <a:custGeom>
                <a:avLst/>
                <a:gdLst/>
                <a:ahLst/>
                <a:rect l="l" t="t" r="r" b="b"/>
                <a:pathLst>
                  <a:path w="635" h="923">
                    <a:moveTo>
                      <a:pt x="428" y="277"/>
                    </a:moveTo>
                    <a:lnTo>
                      <a:pt x="422" y="285"/>
                    </a:lnTo>
                    <a:lnTo>
                      <a:pt x="416" y="292"/>
                    </a:lnTo>
                    <a:lnTo>
                      <a:pt x="410" y="300"/>
                    </a:lnTo>
                    <a:lnTo>
                      <a:pt x="407" y="309"/>
                    </a:lnTo>
                    <a:lnTo>
                      <a:pt x="416" y="305"/>
                    </a:lnTo>
                    <a:lnTo>
                      <a:pt x="424" y="299"/>
                    </a:lnTo>
                    <a:lnTo>
                      <a:pt x="434" y="292"/>
                    </a:lnTo>
                    <a:lnTo>
                      <a:pt x="443" y="284"/>
                    </a:lnTo>
                    <a:lnTo>
                      <a:pt x="452" y="278"/>
                    </a:lnTo>
                    <a:lnTo>
                      <a:pt x="463" y="273"/>
                    </a:lnTo>
                    <a:lnTo>
                      <a:pt x="474" y="271"/>
                    </a:lnTo>
                    <a:lnTo>
                      <a:pt x="486" y="272"/>
                    </a:lnTo>
                    <a:lnTo>
                      <a:pt x="478" y="270"/>
                    </a:lnTo>
                    <a:lnTo>
                      <a:pt x="470" y="267"/>
                    </a:lnTo>
                    <a:lnTo>
                      <a:pt x="460" y="265"/>
                    </a:lnTo>
                    <a:lnTo>
                      <a:pt x="452" y="264"/>
                    </a:lnTo>
                    <a:lnTo>
                      <a:pt x="445" y="265"/>
                    </a:lnTo>
                    <a:lnTo>
                      <a:pt x="438" y="266"/>
                    </a:lnTo>
                    <a:lnTo>
                      <a:pt x="432" y="270"/>
                    </a:lnTo>
                    <a:lnTo>
                      <a:pt x="428" y="277"/>
                    </a:lnTo>
                    <a:close/>
                    <a:moveTo>
                      <a:pt x="277" y="350"/>
                    </a:moveTo>
                    <a:lnTo>
                      <a:pt x="273" y="349"/>
                    </a:lnTo>
                    <a:lnTo>
                      <a:pt x="269" y="348"/>
                    </a:lnTo>
                    <a:lnTo>
                      <a:pt x="263" y="344"/>
                    </a:lnTo>
                    <a:lnTo>
                      <a:pt x="258" y="342"/>
                    </a:lnTo>
                    <a:lnTo>
                      <a:pt x="252" y="338"/>
                    </a:lnTo>
                    <a:lnTo>
                      <a:pt x="246" y="337"/>
                    </a:lnTo>
                    <a:lnTo>
                      <a:pt x="242" y="336"/>
                    </a:lnTo>
                    <a:lnTo>
                      <a:pt x="237" y="337"/>
                    </a:lnTo>
                    <a:lnTo>
                      <a:pt x="244" y="340"/>
                    </a:lnTo>
                    <a:lnTo>
                      <a:pt x="253" y="347"/>
                    </a:lnTo>
                    <a:lnTo>
                      <a:pt x="260" y="352"/>
                    </a:lnTo>
                    <a:lnTo>
                      <a:pt x="265" y="357"/>
                    </a:lnTo>
                    <a:lnTo>
                      <a:pt x="258" y="357"/>
                    </a:lnTo>
                    <a:lnTo>
                      <a:pt x="251" y="358"/>
                    </a:lnTo>
                    <a:lnTo>
                      <a:pt x="244" y="360"/>
                    </a:lnTo>
                    <a:lnTo>
                      <a:pt x="238" y="363"/>
                    </a:lnTo>
                    <a:lnTo>
                      <a:pt x="231" y="365"/>
                    </a:lnTo>
                    <a:lnTo>
                      <a:pt x="226" y="367"/>
                    </a:lnTo>
                    <a:lnTo>
                      <a:pt x="219" y="370"/>
                    </a:lnTo>
                    <a:lnTo>
                      <a:pt x="213" y="371"/>
                    </a:lnTo>
                    <a:lnTo>
                      <a:pt x="222" y="372"/>
                    </a:lnTo>
                    <a:lnTo>
                      <a:pt x="233" y="373"/>
                    </a:lnTo>
                    <a:lnTo>
                      <a:pt x="243" y="373"/>
                    </a:lnTo>
                    <a:lnTo>
                      <a:pt x="253" y="371"/>
                    </a:lnTo>
                    <a:lnTo>
                      <a:pt x="264" y="369"/>
                    </a:lnTo>
                    <a:lnTo>
                      <a:pt x="274" y="365"/>
                    </a:lnTo>
                    <a:lnTo>
                      <a:pt x="282" y="360"/>
                    </a:lnTo>
                    <a:lnTo>
                      <a:pt x="289" y="356"/>
                    </a:lnTo>
                    <a:lnTo>
                      <a:pt x="277" y="350"/>
                    </a:lnTo>
                    <a:close/>
                    <a:moveTo>
                      <a:pt x="249" y="313"/>
                    </a:moveTo>
                    <a:lnTo>
                      <a:pt x="249" y="313"/>
                    </a:lnTo>
                    <a:lnTo>
                      <a:pt x="245" y="309"/>
                    </a:lnTo>
                    <a:lnTo>
                      <a:pt x="241" y="302"/>
                    </a:lnTo>
                    <a:lnTo>
                      <a:pt x="235" y="293"/>
                    </a:lnTo>
                    <a:lnTo>
                      <a:pt x="228" y="281"/>
                    </a:lnTo>
                    <a:lnTo>
                      <a:pt x="219" y="267"/>
                    </a:lnTo>
                    <a:lnTo>
                      <a:pt x="209" y="252"/>
                    </a:lnTo>
                    <a:lnTo>
                      <a:pt x="200" y="236"/>
                    </a:lnTo>
                    <a:lnTo>
                      <a:pt x="191" y="220"/>
                    </a:lnTo>
                    <a:lnTo>
                      <a:pt x="181" y="203"/>
                    </a:lnTo>
                    <a:lnTo>
                      <a:pt x="172" y="188"/>
                    </a:lnTo>
                    <a:lnTo>
                      <a:pt x="164" y="173"/>
                    </a:lnTo>
                    <a:lnTo>
                      <a:pt x="157" y="160"/>
                    </a:lnTo>
                    <a:lnTo>
                      <a:pt x="152" y="150"/>
                    </a:lnTo>
                    <a:lnTo>
                      <a:pt x="149" y="142"/>
                    </a:lnTo>
                    <a:lnTo>
                      <a:pt x="148" y="137"/>
                    </a:lnTo>
                    <a:lnTo>
                      <a:pt x="163" y="137"/>
                    </a:lnTo>
                    <a:lnTo>
                      <a:pt x="162" y="130"/>
                    </a:lnTo>
                    <a:lnTo>
                      <a:pt x="157" y="124"/>
                    </a:lnTo>
                    <a:lnTo>
                      <a:pt x="151" y="117"/>
                    </a:lnTo>
                    <a:lnTo>
                      <a:pt x="144" y="109"/>
                    </a:lnTo>
                    <a:lnTo>
                      <a:pt x="136" y="102"/>
                    </a:lnTo>
                    <a:lnTo>
                      <a:pt x="129" y="97"/>
                    </a:lnTo>
                    <a:lnTo>
                      <a:pt x="122" y="91"/>
                    </a:lnTo>
                    <a:lnTo>
                      <a:pt x="116" y="85"/>
                    </a:lnTo>
                    <a:lnTo>
                      <a:pt x="137" y="79"/>
                    </a:lnTo>
                    <a:lnTo>
                      <a:pt x="157" y="81"/>
                    </a:lnTo>
                    <a:lnTo>
                      <a:pt x="177" y="88"/>
                    </a:lnTo>
                    <a:lnTo>
                      <a:pt x="194" y="101"/>
                    </a:lnTo>
                    <a:lnTo>
                      <a:pt x="210" y="116"/>
                    </a:lnTo>
                    <a:lnTo>
                      <a:pt x="226" y="133"/>
                    </a:lnTo>
                    <a:lnTo>
                      <a:pt x="238" y="150"/>
                    </a:lnTo>
                    <a:lnTo>
                      <a:pt x="250" y="165"/>
                    </a:lnTo>
                    <a:lnTo>
                      <a:pt x="245" y="147"/>
                    </a:lnTo>
                    <a:lnTo>
                      <a:pt x="242" y="128"/>
                    </a:lnTo>
                    <a:lnTo>
                      <a:pt x="241" y="110"/>
                    </a:lnTo>
                    <a:lnTo>
                      <a:pt x="239" y="93"/>
                    </a:lnTo>
                    <a:lnTo>
                      <a:pt x="239" y="78"/>
                    </a:lnTo>
                    <a:lnTo>
                      <a:pt x="239" y="64"/>
                    </a:lnTo>
                    <a:lnTo>
                      <a:pt x="241" y="51"/>
                    </a:lnTo>
                    <a:lnTo>
                      <a:pt x="243" y="41"/>
                    </a:lnTo>
                    <a:lnTo>
                      <a:pt x="244" y="33"/>
                    </a:lnTo>
                    <a:lnTo>
                      <a:pt x="246" y="28"/>
                    </a:lnTo>
                    <a:lnTo>
                      <a:pt x="249" y="24"/>
                    </a:lnTo>
                    <a:lnTo>
                      <a:pt x="251" y="26"/>
                    </a:lnTo>
                    <a:lnTo>
                      <a:pt x="252" y="29"/>
                    </a:lnTo>
                    <a:lnTo>
                      <a:pt x="255" y="37"/>
                    </a:lnTo>
                    <a:lnTo>
                      <a:pt x="256" y="49"/>
                    </a:lnTo>
                    <a:lnTo>
                      <a:pt x="256" y="65"/>
                    </a:lnTo>
                    <a:lnTo>
                      <a:pt x="257" y="51"/>
                    </a:lnTo>
                    <a:lnTo>
                      <a:pt x="259" y="38"/>
                    </a:lnTo>
                    <a:lnTo>
                      <a:pt x="263" y="28"/>
                    </a:lnTo>
                    <a:lnTo>
                      <a:pt x="269" y="19"/>
                    </a:lnTo>
                    <a:lnTo>
                      <a:pt x="276" y="12"/>
                    </a:lnTo>
                    <a:lnTo>
                      <a:pt x="285" y="6"/>
                    </a:lnTo>
                    <a:lnTo>
                      <a:pt x="295" y="2"/>
                    </a:lnTo>
                    <a:lnTo>
                      <a:pt x="308" y="1"/>
                    </a:lnTo>
                    <a:lnTo>
                      <a:pt x="308" y="56"/>
                    </a:lnTo>
                    <a:lnTo>
                      <a:pt x="314" y="53"/>
                    </a:lnTo>
                    <a:lnTo>
                      <a:pt x="319" y="49"/>
                    </a:lnTo>
                    <a:lnTo>
                      <a:pt x="322" y="43"/>
                    </a:lnTo>
                    <a:lnTo>
                      <a:pt x="327" y="37"/>
                    </a:lnTo>
                    <a:lnTo>
                      <a:pt x="330" y="30"/>
                    </a:lnTo>
                    <a:lnTo>
                      <a:pt x="334" y="24"/>
                    </a:lnTo>
                    <a:lnTo>
                      <a:pt x="337" y="19"/>
                    </a:lnTo>
                    <a:lnTo>
                      <a:pt x="342" y="13"/>
                    </a:lnTo>
                    <a:lnTo>
                      <a:pt x="348" y="14"/>
                    </a:lnTo>
                    <a:lnTo>
                      <a:pt x="353" y="15"/>
                    </a:lnTo>
                    <a:lnTo>
                      <a:pt x="359" y="19"/>
                    </a:lnTo>
                    <a:lnTo>
                      <a:pt x="364" y="22"/>
                    </a:lnTo>
                    <a:lnTo>
                      <a:pt x="372" y="20"/>
                    </a:lnTo>
                    <a:lnTo>
                      <a:pt x="380" y="15"/>
                    </a:lnTo>
                    <a:lnTo>
                      <a:pt x="387" y="12"/>
                    </a:lnTo>
                    <a:lnTo>
                      <a:pt x="395" y="7"/>
                    </a:lnTo>
                    <a:lnTo>
                      <a:pt x="402" y="3"/>
                    </a:lnTo>
                    <a:lnTo>
                      <a:pt x="412" y="1"/>
                    </a:lnTo>
                    <a:lnTo>
                      <a:pt x="421" y="0"/>
                    </a:lnTo>
                    <a:lnTo>
                      <a:pt x="431" y="1"/>
                    </a:lnTo>
                    <a:lnTo>
                      <a:pt x="430" y="10"/>
                    </a:lnTo>
                    <a:lnTo>
                      <a:pt x="427" y="21"/>
                    </a:lnTo>
                    <a:lnTo>
                      <a:pt x="422" y="31"/>
                    </a:lnTo>
                    <a:lnTo>
                      <a:pt x="417" y="43"/>
                    </a:lnTo>
                    <a:lnTo>
                      <a:pt x="412" y="55"/>
                    </a:lnTo>
                    <a:lnTo>
                      <a:pt x="407" y="65"/>
                    </a:lnTo>
                    <a:lnTo>
                      <a:pt x="403" y="76"/>
                    </a:lnTo>
                    <a:lnTo>
                      <a:pt x="401" y="85"/>
                    </a:lnTo>
                    <a:lnTo>
                      <a:pt x="398" y="102"/>
                    </a:lnTo>
                    <a:lnTo>
                      <a:pt x="393" y="121"/>
                    </a:lnTo>
                    <a:lnTo>
                      <a:pt x="387" y="140"/>
                    </a:lnTo>
                    <a:lnTo>
                      <a:pt x="381" y="158"/>
                    </a:lnTo>
                    <a:lnTo>
                      <a:pt x="375" y="177"/>
                    </a:lnTo>
                    <a:lnTo>
                      <a:pt x="370" y="195"/>
                    </a:lnTo>
                    <a:lnTo>
                      <a:pt x="364" y="212"/>
                    </a:lnTo>
                    <a:lnTo>
                      <a:pt x="359" y="227"/>
                    </a:lnTo>
                    <a:lnTo>
                      <a:pt x="355" y="241"/>
                    </a:lnTo>
                    <a:lnTo>
                      <a:pt x="352" y="252"/>
                    </a:lnTo>
                    <a:lnTo>
                      <a:pt x="350" y="260"/>
                    </a:lnTo>
                    <a:lnTo>
                      <a:pt x="349" y="266"/>
                    </a:lnTo>
                    <a:lnTo>
                      <a:pt x="350" y="269"/>
                    </a:lnTo>
                    <a:lnTo>
                      <a:pt x="352" y="267"/>
                    </a:lnTo>
                    <a:lnTo>
                      <a:pt x="357" y="262"/>
                    </a:lnTo>
                    <a:lnTo>
                      <a:pt x="364" y="251"/>
                    </a:lnTo>
                    <a:lnTo>
                      <a:pt x="386" y="213"/>
                    </a:lnTo>
                    <a:lnTo>
                      <a:pt x="402" y="180"/>
                    </a:lnTo>
                    <a:lnTo>
                      <a:pt x="417" y="155"/>
                    </a:lnTo>
                    <a:lnTo>
                      <a:pt x="431" y="134"/>
                    </a:lnTo>
                    <a:lnTo>
                      <a:pt x="445" y="121"/>
                    </a:lnTo>
                    <a:lnTo>
                      <a:pt x="462" y="116"/>
                    </a:lnTo>
                    <a:lnTo>
                      <a:pt x="481" y="120"/>
                    </a:lnTo>
                    <a:lnTo>
                      <a:pt x="508" y="131"/>
                    </a:lnTo>
                    <a:lnTo>
                      <a:pt x="501" y="137"/>
                    </a:lnTo>
                    <a:lnTo>
                      <a:pt x="495" y="144"/>
                    </a:lnTo>
                    <a:lnTo>
                      <a:pt x="488" y="151"/>
                    </a:lnTo>
                    <a:lnTo>
                      <a:pt x="484" y="158"/>
                    </a:lnTo>
                    <a:lnTo>
                      <a:pt x="478" y="166"/>
                    </a:lnTo>
                    <a:lnTo>
                      <a:pt x="473" y="174"/>
                    </a:lnTo>
                    <a:lnTo>
                      <a:pt x="468" y="183"/>
                    </a:lnTo>
                    <a:lnTo>
                      <a:pt x="465" y="190"/>
                    </a:lnTo>
                    <a:lnTo>
                      <a:pt x="478" y="188"/>
                    </a:lnTo>
                    <a:lnTo>
                      <a:pt x="488" y="187"/>
                    </a:lnTo>
                    <a:lnTo>
                      <a:pt x="496" y="187"/>
                    </a:lnTo>
                    <a:lnTo>
                      <a:pt x="503" y="187"/>
                    </a:lnTo>
                    <a:lnTo>
                      <a:pt x="508" y="188"/>
                    </a:lnTo>
                    <a:lnTo>
                      <a:pt x="513" y="192"/>
                    </a:lnTo>
                    <a:lnTo>
                      <a:pt x="516" y="199"/>
                    </a:lnTo>
                    <a:lnTo>
                      <a:pt x="520" y="208"/>
                    </a:lnTo>
                    <a:lnTo>
                      <a:pt x="514" y="209"/>
                    </a:lnTo>
                    <a:lnTo>
                      <a:pt x="507" y="212"/>
                    </a:lnTo>
                    <a:lnTo>
                      <a:pt x="499" y="215"/>
                    </a:lnTo>
                    <a:lnTo>
                      <a:pt x="491" y="220"/>
                    </a:lnTo>
                    <a:lnTo>
                      <a:pt x="484" y="226"/>
                    </a:lnTo>
                    <a:lnTo>
                      <a:pt x="477" y="231"/>
                    </a:lnTo>
                    <a:lnTo>
                      <a:pt x="470" y="237"/>
                    </a:lnTo>
                    <a:lnTo>
                      <a:pt x="465" y="242"/>
                    </a:lnTo>
                    <a:lnTo>
                      <a:pt x="477" y="242"/>
                    </a:lnTo>
                    <a:lnTo>
                      <a:pt x="489" y="243"/>
                    </a:lnTo>
                    <a:lnTo>
                      <a:pt x="505" y="245"/>
                    </a:lnTo>
                    <a:lnTo>
                      <a:pt x="521" y="249"/>
                    </a:lnTo>
                    <a:lnTo>
                      <a:pt x="539" y="257"/>
                    </a:lnTo>
                    <a:lnTo>
                      <a:pt x="559" y="269"/>
                    </a:lnTo>
                    <a:lnTo>
                      <a:pt x="582" y="287"/>
                    </a:lnTo>
                    <a:lnTo>
                      <a:pt x="607" y="313"/>
                    </a:lnTo>
                    <a:lnTo>
                      <a:pt x="594" y="315"/>
                    </a:lnTo>
                    <a:lnTo>
                      <a:pt x="581" y="317"/>
                    </a:lnTo>
                    <a:lnTo>
                      <a:pt x="568" y="321"/>
                    </a:lnTo>
                    <a:lnTo>
                      <a:pt x="556" y="324"/>
                    </a:lnTo>
                    <a:lnTo>
                      <a:pt x="542" y="326"/>
                    </a:lnTo>
                    <a:lnTo>
                      <a:pt x="527" y="326"/>
                    </a:lnTo>
                    <a:lnTo>
                      <a:pt x="510" y="324"/>
                    </a:lnTo>
                    <a:lnTo>
                      <a:pt x="493" y="319"/>
                    </a:lnTo>
                    <a:lnTo>
                      <a:pt x="486" y="320"/>
                    </a:lnTo>
                    <a:lnTo>
                      <a:pt x="478" y="326"/>
                    </a:lnTo>
                    <a:lnTo>
                      <a:pt x="467" y="335"/>
                    </a:lnTo>
                    <a:lnTo>
                      <a:pt x="457" y="345"/>
                    </a:lnTo>
                    <a:lnTo>
                      <a:pt x="448" y="357"/>
                    </a:lnTo>
                    <a:lnTo>
                      <a:pt x="441" y="366"/>
                    </a:lnTo>
                    <a:lnTo>
                      <a:pt x="438" y="374"/>
                    </a:lnTo>
                    <a:lnTo>
                      <a:pt x="441" y="377"/>
                    </a:lnTo>
                    <a:lnTo>
                      <a:pt x="444" y="377"/>
                    </a:lnTo>
                    <a:lnTo>
                      <a:pt x="448" y="376"/>
                    </a:lnTo>
                    <a:lnTo>
                      <a:pt x="452" y="376"/>
                    </a:lnTo>
                    <a:lnTo>
                      <a:pt x="458" y="374"/>
                    </a:lnTo>
                    <a:lnTo>
                      <a:pt x="464" y="373"/>
                    </a:lnTo>
                    <a:lnTo>
                      <a:pt x="472" y="372"/>
                    </a:lnTo>
                    <a:lnTo>
                      <a:pt x="480" y="371"/>
                    </a:lnTo>
                    <a:lnTo>
                      <a:pt x="491" y="371"/>
                    </a:lnTo>
                    <a:lnTo>
                      <a:pt x="501" y="370"/>
                    </a:lnTo>
                    <a:lnTo>
                      <a:pt x="515" y="370"/>
                    </a:lnTo>
                    <a:lnTo>
                      <a:pt x="529" y="371"/>
                    </a:lnTo>
                    <a:lnTo>
                      <a:pt x="546" y="371"/>
                    </a:lnTo>
                    <a:lnTo>
                      <a:pt x="565" y="373"/>
                    </a:lnTo>
                    <a:lnTo>
                      <a:pt x="586" y="374"/>
                    </a:lnTo>
                    <a:lnTo>
                      <a:pt x="609" y="378"/>
                    </a:lnTo>
                    <a:lnTo>
                      <a:pt x="635" y="381"/>
                    </a:lnTo>
                    <a:lnTo>
                      <a:pt x="627" y="392"/>
                    </a:lnTo>
                    <a:lnTo>
                      <a:pt x="618" y="401"/>
                    </a:lnTo>
                    <a:lnTo>
                      <a:pt x="613" y="408"/>
                    </a:lnTo>
                    <a:lnTo>
                      <a:pt x="607" y="413"/>
                    </a:lnTo>
                    <a:lnTo>
                      <a:pt x="601" y="416"/>
                    </a:lnTo>
                    <a:lnTo>
                      <a:pt x="595" y="419"/>
                    </a:lnTo>
                    <a:lnTo>
                      <a:pt x="589" y="420"/>
                    </a:lnTo>
                    <a:lnTo>
                      <a:pt x="581" y="420"/>
                    </a:lnTo>
                    <a:lnTo>
                      <a:pt x="573" y="420"/>
                    </a:lnTo>
                    <a:lnTo>
                      <a:pt x="563" y="419"/>
                    </a:lnTo>
                    <a:lnTo>
                      <a:pt x="550" y="416"/>
                    </a:lnTo>
                    <a:lnTo>
                      <a:pt x="535" y="415"/>
                    </a:lnTo>
                    <a:lnTo>
                      <a:pt x="517" y="413"/>
                    </a:lnTo>
                    <a:lnTo>
                      <a:pt x="496" y="412"/>
                    </a:lnTo>
                    <a:lnTo>
                      <a:pt x="472" y="410"/>
                    </a:lnTo>
                    <a:lnTo>
                      <a:pt x="443" y="410"/>
                    </a:lnTo>
                    <a:lnTo>
                      <a:pt x="451" y="413"/>
                    </a:lnTo>
                    <a:lnTo>
                      <a:pt x="470" y="419"/>
                    </a:lnTo>
                    <a:lnTo>
                      <a:pt x="494" y="428"/>
                    </a:lnTo>
                    <a:lnTo>
                      <a:pt x="523" y="440"/>
                    </a:lnTo>
                    <a:lnTo>
                      <a:pt x="552" y="452"/>
                    </a:lnTo>
                    <a:lnTo>
                      <a:pt x="580" y="467"/>
                    </a:lnTo>
                    <a:lnTo>
                      <a:pt x="602" y="483"/>
                    </a:lnTo>
                    <a:lnTo>
                      <a:pt x="616" y="498"/>
                    </a:lnTo>
                    <a:lnTo>
                      <a:pt x="520" y="507"/>
                    </a:lnTo>
                    <a:lnTo>
                      <a:pt x="514" y="501"/>
                    </a:lnTo>
                    <a:lnTo>
                      <a:pt x="503" y="495"/>
                    </a:lnTo>
                    <a:lnTo>
                      <a:pt x="493" y="490"/>
                    </a:lnTo>
                    <a:lnTo>
                      <a:pt x="486" y="485"/>
                    </a:lnTo>
                    <a:lnTo>
                      <a:pt x="485" y="490"/>
                    </a:lnTo>
                    <a:lnTo>
                      <a:pt x="484" y="494"/>
                    </a:lnTo>
                    <a:lnTo>
                      <a:pt x="482" y="498"/>
                    </a:lnTo>
                    <a:lnTo>
                      <a:pt x="481" y="500"/>
                    </a:lnTo>
                    <a:lnTo>
                      <a:pt x="474" y="499"/>
                    </a:lnTo>
                    <a:lnTo>
                      <a:pt x="468" y="494"/>
                    </a:lnTo>
                    <a:lnTo>
                      <a:pt x="464" y="488"/>
                    </a:lnTo>
                    <a:lnTo>
                      <a:pt x="458" y="481"/>
                    </a:lnTo>
                    <a:lnTo>
                      <a:pt x="453" y="473"/>
                    </a:lnTo>
                    <a:lnTo>
                      <a:pt x="448" y="466"/>
                    </a:lnTo>
                    <a:lnTo>
                      <a:pt x="442" y="460"/>
                    </a:lnTo>
                    <a:lnTo>
                      <a:pt x="434" y="457"/>
                    </a:lnTo>
                    <a:lnTo>
                      <a:pt x="424" y="452"/>
                    </a:lnTo>
                    <a:lnTo>
                      <a:pt x="414" y="445"/>
                    </a:lnTo>
                    <a:lnTo>
                      <a:pt x="403" y="436"/>
                    </a:lnTo>
                    <a:lnTo>
                      <a:pt x="391" y="427"/>
                    </a:lnTo>
                    <a:lnTo>
                      <a:pt x="379" y="417"/>
                    </a:lnTo>
                    <a:lnTo>
                      <a:pt x="366" y="409"/>
                    </a:lnTo>
                    <a:lnTo>
                      <a:pt x="356" y="405"/>
                    </a:lnTo>
                    <a:lnTo>
                      <a:pt x="345" y="402"/>
                    </a:lnTo>
                    <a:lnTo>
                      <a:pt x="349" y="430"/>
                    </a:lnTo>
                    <a:lnTo>
                      <a:pt x="350" y="457"/>
                    </a:lnTo>
                    <a:lnTo>
                      <a:pt x="349" y="485"/>
                    </a:lnTo>
                    <a:lnTo>
                      <a:pt x="348" y="513"/>
                    </a:lnTo>
                    <a:lnTo>
                      <a:pt x="344" y="541"/>
                    </a:lnTo>
                    <a:lnTo>
                      <a:pt x="339" y="570"/>
                    </a:lnTo>
                    <a:lnTo>
                      <a:pt x="335" y="599"/>
                    </a:lnTo>
                    <a:lnTo>
                      <a:pt x="329" y="628"/>
                    </a:lnTo>
                    <a:lnTo>
                      <a:pt x="324" y="658"/>
                    </a:lnTo>
                    <a:lnTo>
                      <a:pt x="319" y="690"/>
                    </a:lnTo>
                    <a:lnTo>
                      <a:pt x="314" y="720"/>
                    </a:lnTo>
                    <a:lnTo>
                      <a:pt x="309" y="752"/>
                    </a:lnTo>
                    <a:lnTo>
                      <a:pt x="306" y="785"/>
                    </a:lnTo>
                    <a:lnTo>
                      <a:pt x="303" y="817"/>
                    </a:lnTo>
                    <a:lnTo>
                      <a:pt x="303" y="851"/>
                    </a:lnTo>
                    <a:lnTo>
                      <a:pt x="305" y="886"/>
                    </a:lnTo>
                    <a:lnTo>
                      <a:pt x="313" y="886"/>
                    </a:lnTo>
                    <a:lnTo>
                      <a:pt x="326" y="890"/>
                    </a:lnTo>
                    <a:lnTo>
                      <a:pt x="339" y="894"/>
                    </a:lnTo>
                    <a:lnTo>
                      <a:pt x="355" y="899"/>
                    </a:lnTo>
                    <a:lnTo>
                      <a:pt x="370" y="906"/>
                    </a:lnTo>
                    <a:lnTo>
                      <a:pt x="384" y="912"/>
                    </a:lnTo>
                    <a:lnTo>
                      <a:pt x="394" y="916"/>
                    </a:lnTo>
                    <a:lnTo>
                      <a:pt x="400" y="920"/>
                    </a:lnTo>
                    <a:lnTo>
                      <a:pt x="384" y="918"/>
                    </a:lnTo>
                    <a:lnTo>
                      <a:pt x="369" y="915"/>
                    </a:lnTo>
                    <a:lnTo>
                      <a:pt x="355" y="914"/>
                    </a:lnTo>
                    <a:lnTo>
                      <a:pt x="341" y="914"/>
                    </a:lnTo>
                    <a:lnTo>
                      <a:pt x="328" y="913"/>
                    </a:lnTo>
                    <a:lnTo>
                      <a:pt x="316" y="913"/>
                    </a:lnTo>
                    <a:lnTo>
                      <a:pt x="303" y="914"/>
                    </a:lnTo>
                    <a:lnTo>
                      <a:pt x="293" y="914"/>
                    </a:lnTo>
                    <a:lnTo>
                      <a:pt x="281" y="915"/>
                    </a:lnTo>
                    <a:lnTo>
                      <a:pt x="270" y="916"/>
                    </a:lnTo>
                    <a:lnTo>
                      <a:pt x="259" y="916"/>
                    </a:lnTo>
                    <a:lnTo>
                      <a:pt x="249" y="918"/>
                    </a:lnTo>
                    <a:lnTo>
                      <a:pt x="237" y="919"/>
                    </a:lnTo>
                    <a:lnTo>
                      <a:pt x="226" y="919"/>
                    </a:lnTo>
                    <a:lnTo>
                      <a:pt x="214" y="920"/>
                    </a:lnTo>
                    <a:lnTo>
                      <a:pt x="202" y="920"/>
                    </a:lnTo>
                    <a:lnTo>
                      <a:pt x="193" y="920"/>
                    </a:lnTo>
                    <a:lnTo>
                      <a:pt x="185" y="920"/>
                    </a:lnTo>
                    <a:lnTo>
                      <a:pt x="176" y="920"/>
                    </a:lnTo>
                    <a:lnTo>
                      <a:pt x="167" y="921"/>
                    </a:lnTo>
                    <a:lnTo>
                      <a:pt x="159" y="922"/>
                    </a:lnTo>
                    <a:lnTo>
                      <a:pt x="151" y="922"/>
                    </a:lnTo>
                    <a:lnTo>
                      <a:pt x="143" y="923"/>
                    </a:lnTo>
                    <a:lnTo>
                      <a:pt x="135" y="923"/>
                    </a:lnTo>
                    <a:lnTo>
                      <a:pt x="140" y="921"/>
                    </a:lnTo>
                    <a:lnTo>
                      <a:pt x="144" y="918"/>
                    </a:lnTo>
                    <a:lnTo>
                      <a:pt x="151" y="913"/>
                    </a:lnTo>
                    <a:lnTo>
                      <a:pt x="165" y="908"/>
                    </a:lnTo>
                    <a:lnTo>
                      <a:pt x="169" y="904"/>
                    </a:lnTo>
                    <a:lnTo>
                      <a:pt x="176" y="901"/>
                    </a:lnTo>
                    <a:lnTo>
                      <a:pt x="184" y="899"/>
                    </a:lnTo>
                    <a:lnTo>
                      <a:pt x="192" y="897"/>
                    </a:lnTo>
                    <a:lnTo>
                      <a:pt x="201" y="897"/>
                    </a:lnTo>
                    <a:lnTo>
                      <a:pt x="209" y="895"/>
                    </a:lnTo>
                    <a:lnTo>
                      <a:pt x="216" y="895"/>
                    </a:lnTo>
                    <a:lnTo>
                      <a:pt x="222" y="895"/>
                    </a:lnTo>
                    <a:lnTo>
                      <a:pt x="229" y="892"/>
                    </a:lnTo>
                    <a:lnTo>
                      <a:pt x="237" y="888"/>
                    </a:lnTo>
                    <a:lnTo>
                      <a:pt x="246" y="887"/>
                    </a:lnTo>
                    <a:lnTo>
                      <a:pt x="253" y="886"/>
                    </a:lnTo>
                    <a:lnTo>
                      <a:pt x="253" y="841"/>
                    </a:lnTo>
                    <a:lnTo>
                      <a:pt x="255" y="813"/>
                    </a:lnTo>
                    <a:lnTo>
                      <a:pt x="256" y="785"/>
                    </a:lnTo>
                    <a:lnTo>
                      <a:pt x="259" y="757"/>
                    </a:lnTo>
                    <a:lnTo>
                      <a:pt x="264" y="729"/>
                    </a:lnTo>
                    <a:lnTo>
                      <a:pt x="269" y="701"/>
                    </a:lnTo>
                    <a:lnTo>
                      <a:pt x="274" y="673"/>
                    </a:lnTo>
                    <a:lnTo>
                      <a:pt x="280" y="647"/>
                    </a:lnTo>
                    <a:lnTo>
                      <a:pt x="286" y="619"/>
                    </a:lnTo>
                    <a:lnTo>
                      <a:pt x="291" y="591"/>
                    </a:lnTo>
                    <a:lnTo>
                      <a:pt x="296" y="564"/>
                    </a:lnTo>
                    <a:lnTo>
                      <a:pt x="301" y="536"/>
                    </a:lnTo>
                    <a:lnTo>
                      <a:pt x="305" y="508"/>
                    </a:lnTo>
                    <a:lnTo>
                      <a:pt x="307" y="480"/>
                    </a:lnTo>
                    <a:lnTo>
                      <a:pt x="308" y="452"/>
                    </a:lnTo>
                    <a:lnTo>
                      <a:pt x="308" y="424"/>
                    </a:lnTo>
                    <a:lnTo>
                      <a:pt x="307" y="397"/>
                    </a:lnTo>
                    <a:lnTo>
                      <a:pt x="289" y="420"/>
                    </a:lnTo>
                    <a:lnTo>
                      <a:pt x="274" y="442"/>
                    </a:lnTo>
                    <a:lnTo>
                      <a:pt x="263" y="464"/>
                    </a:lnTo>
                    <a:lnTo>
                      <a:pt x="255" y="486"/>
                    </a:lnTo>
                    <a:lnTo>
                      <a:pt x="246" y="508"/>
                    </a:lnTo>
                    <a:lnTo>
                      <a:pt x="241" y="530"/>
                    </a:lnTo>
                    <a:lnTo>
                      <a:pt x="235" y="552"/>
                    </a:lnTo>
                    <a:lnTo>
                      <a:pt x="228" y="574"/>
                    </a:lnTo>
                    <a:lnTo>
                      <a:pt x="219" y="567"/>
                    </a:lnTo>
                    <a:lnTo>
                      <a:pt x="213" y="557"/>
                    </a:lnTo>
                    <a:lnTo>
                      <a:pt x="209" y="544"/>
                    </a:lnTo>
                    <a:lnTo>
                      <a:pt x="209" y="530"/>
                    </a:lnTo>
                    <a:lnTo>
                      <a:pt x="210" y="515"/>
                    </a:lnTo>
                    <a:lnTo>
                      <a:pt x="213" y="500"/>
                    </a:lnTo>
                    <a:lnTo>
                      <a:pt x="215" y="485"/>
                    </a:lnTo>
                    <a:lnTo>
                      <a:pt x="220" y="471"/>
                    </a:lnTo>
                    <a:lnTo>
                      <a:pt x="222" y="458"/>
                    </a:lnTo>
                    <a:lnTo>
                      <a:pt x="226" y="448"/>
                    </a:lnTo>
                    <a:lnTo>
                      <a:pt x="227" y="441"/>
                    </a:lnTo>
                    <a:lnTo>
                      <a:pt x="226" y="437"/>
                    </a:lnTo>
                    <a:lnTo>
                      <a:pt x="223" y="438"/>
                    </a:lnTo>
                    <a:lnTo>
                      <a:pt x="217" y="444"/>
                    </a:lnTo>
                    <a:lnTo>
                      <a:pt x="209" y="456"/>
                    </a:lnTo>
                    <a:lnTo>
                      <a:pt x="196" y="473"/>
                    </a:lnTo>
                    <a:lnTo>
                      <a:pt x="179" y="473"/>
                    </a:lnTo>
                    <a:lnTo>
                      <a:pt x="179" y="479"/>
                    </a:lnTo>
                    <a:lnTo>
                      <a:pt x="179" y="486"/>
                    </a:lnTo>
                    <a:lnTo>
                      <a:pt x="178" y="491"/>
                    </a:lnTo>
                    <a:lnTo>
                      <a:pt x="178" y="495"/>
                    </a:lnTo>
                    <a:lnTo>
                      <a:pt x="169" y="500"/>
                    </a:lnTo>
                    <a:lnTo>
                      <a:pt x="160" y="505"/>
                    </a:lnTo>
                    <a:lnTo>
                      <a:pt x="151" y="510"/>
                    </a:lnTo>
                    <a:lnTo>
                      <a:pt x="142" y="516"/>
                    </a:lnTo>
                    <a:lnTo>
                      <a:pt x="133" y="521"/>
                    </a:lnTo>
                    <a:lnTo>
                      <a:pt x="123" y="526"/>
                    </a:lnTo>
                    <a:lnTo>
                      <a:pt x="114" y="528"/>
                    </a:lnTo>
                    <a:lnTo>
                      <a:pt x="105" y="529"/>
                    </a:lnTo>
                    <a:lnTo>
                      <a:pt x="106" y="519"/>
                    </a:lnTo>
                    <a:lnTo>
                      <a:pt x="112" y="507"/>
                    </a:lnTo>
                    <a:lnTo>
                      <a:pt x="119" y="495"/>
                    </a:lnTo>
                    <a:lnTo>
                      <a:pt x="127" y="483"/>
                    </a:lnTo>
                    <a:lnTo>
                      <a:pt x="136" y="472"/>
                    </a:lnTo>
                    <a:lnTo>
                      <a:pt x="145" y="460"/>
                    </a:lnTo>
                    <a:lnTo>
                      <a:pt x="155" y="451"/>
                    </a:lnTo>
                    <a:lnTo>
                      <a:pt x="163" y="443"/>
                    </a:lnTo>
                    <a:lnTo>
                      <a:pt x="146" y="443"/>
                    </a:lnTo>
                    <a:lnTo>
                      <a:pt x="130" y="445"/>
                    </a:lnTo>
                    <a:lnTo>
                      <a:pt x="114" y="447"/>
                    </a:lnTo>
                    <a:lnTo>
                      <a:pt x="97" y="448"/>
                    </a:lnTo>
                    <a:lnTo>
                      <a:pt x="80" y="449"/>
                    </a:lnTo>
                    <a:lnTo>
                      <a:pt x="64" y="449"/>
                    </a:lnTo>
                    <a:lnTo>
                      <a:pt x="49" y="447"/>
                    </a:lnTo>
                    <a:lnTo>
                      <a:pt x="34" y="443"/>
                    </a:lnTo>
                    <a:lnTo>
                      <a:pt x="45" y="434"/>
                    </a:lnTo>
                    <a:lnTo>
                      <a:pt x="58" y="426"/>
                    </a:lnTo>
                    <a:lnTo>
                      <a:pt x="73" y="419"/>
                    </a:lnTo>
                    <a:lnTo>
                      <a:pt x="90" y="412"/>
                    </a:lnTo>
                    <a:lnTo>
                      <a:pt x="107" y="406"/>
                    </a:lnTo>
                    <a:lnTo>
                      <a:pt x="124" y="399"/>
                    </a:lnTo>
                    <a:lnTo>
                      <a:pt x="144" y="393"/>
                    </a:lnTo>
                    <a:lnTo>
                      <a:pt x="163" y="386"/>
                    </a:lnTo>
                    <a:lnTo>
                      <a:pt x="0" y="377"/>
                    </a:lnTo>
                    <a:lnTo>
                      <a:pt x="13" y="352"/>
                    </a:lnTo>
                    <a:lnTo>
                      <a:pt x="33" y="340"/>
                    </a:lnTo>
                    <a:lnTo>
                      <a:pt x="57" y="335"/>
                    </a:lnTo>
                    <a:lnTo>
                      <a:pt x="84" y="335"/>
                    </a:lnTo>
                    <a:lnTo>
                      <a:pt x="112" y="338"/>
                    </a:lnTo>
                    <a:lnTo>
                      <a:pt x="136" y="341"/>
                    </a:lnTo>
                    <a:lnTo>
                      <a:pt x="158" y="341"/>
                    </a:lnTo>
                    <a:lnTo>
                      <a:pt x="173" y="334"/>
                    </a:lnTo>
                    <a:lnTo>
                      <a:pt x="158" y="324"/>
                    </a:lnTo>
                    <a:lnTo>
                      <a:pt x="144" y="315"/>
                    </a:lnTo>
                    <a:lnTo>
                      <a:pt x="129" y="306"/>
                    </a:lnTo>
                    <a:lnTo>
                      <a:pt x="114" y="297"/>
                    </a:lnTo>
                    <a:lnTo>
                      <a:pt x="100" y="287"/>
                    </a:lnTo>
                    <a:lnTo>
                      <a:pt x="86" y="277"/>
                    </a:lnTo>
                    <a:lnTo>
                      <a:pt x="73" y="266"/>
                    </a:lnTo>
                    <a:lnTo>
                      <a:pt x="62" y="256"/>
                    </a:lnTo>
                    <a:lnTo>
                      <a:pt x="62" y="236"/>
                    </a:lnTo>
                    <a:lnTo>
                      <a:pt x="51" y="236"/>
                    </a:lnTo>
                    <a:lnTo>
                      <a:pt x="43" y="236"/>
                    </a:lnTo>
                    <a:lnTo>
                      <a:pt x="37" y="236"/>
                    </a:lnTo>
                    <a:lnTo>
                      <a:pt x="31" y="235"/>
                    </a:lnTo>
                    <a:lnTo>
                      <a:pt x="26" y="234"/>
                    </a:lnTo>
                    <a:lnTo>
                      <a:pt x="20" y="231"/>
                    </a:lnTo>
                    <a:lnTo>
                      <a:pt x="13" y="229"/>
                    </a:lnTo>
                    <a:lnTo>
                      <a:pt x="4" y="226"/>
                    </a:lnTo>
                    <a:lnTo>
                      <a:pt x="14" y="217"/>
                    </a:lnTo>
                    <a:lnTo>
                      <a:pt x="26" y="210"/>
                    </a:lnTo>
                    <a:lnTo>
                      <a:pt x="38" y="207"/>
                    </a:lnTo>
                    <a:lnTo>
                      <a:pt x="51" y="205"/>
                    </a:lnTo>
                    <a:lnTo>
                      <a:pt x="66" y="206"/>
                    </a:lnTo>
                    <a:lnTo>
                      <a:pt x="80" y="207"/>
                    </a:lnTo>
                    <a:lnTo>
                      <a:pt x="97" y="212"/>
                    </a:lnTo>
                    <a:lnTo>
                      <a:pt x="113" y="217"/>
                    </a:lnTo>
                    <a:lnTo>
                      <a:pt x="129" y="224"/>
                    </a:lnTo>
                    <a:lnTo>
                      <a:pt x="146" y="234"/>
                    </a:lnTo>
                    <a:lnTo>
                      <a:pt x="163" y="244"/>
                    </a:lnTo>
                    <a:lnTo>
                      <a:pt x="180" y="256"/>
                    </a:lnTo>
                    <a:lnTo>
                      <a:pt x="198" y="269"/>
                    </a:lnTo>
                    <a:lnTo>
                      <a:pt x="215" y="283"/>
                    </a:lnTo>
                    <a:lnTo>
                      <a:pt x="233" y="297"/>
                    </a:lnTo>
                    <a:lnTo>
                      <a:pt x="249" y="313"/>
                    </a:lnTo>
                    <a:close/>
                    <a:moveTo>
                      <a:pt x="310" y="281"/>
                    </a:moveTo>
                    <a:lnTo>
                      <a:pt x="310" y="269"/>
                    </a:lnTo>
                    <a:lnTo>
                      <a:pt x="310" y="256"/>
                    </a:lnTo>
                    <a:lnTo>
                      <a:pt x="310" y="242"/>
                    </a:lnTo>
                    <a:lnTo>
                      <a:pt x="310" y="229"/>
                    </a:lnTo>
                    <a:lnTo>
                      <a:pt x="312" y="215"/>
                    </a:lnTo>
                    <a:lnTo>
                      <a:pt x="314" y="203"/>
                    </a:lnTo>
                    <a:lnTo>
                      <a:pt x="316" y="191"/>
                    </a:lnTo>
                    <a:lnTo>
                      <a:pt x="321" y="180"/>
                    </a:lnTo>
                    <a:lnTo>
                      <a:pt x="316" y="180"/>
                    </a:lnTo>
                    <a:lnTo>
                      <a:pt x="312" y="184"/>
                    </a:lnTo>
                    <a:lnTo>
                      <a:pt x="308" y="188"/>
                    </a:lnTo>
                    <a:lnTo>
                      <a:pt x="302" y="192"/>
                    </a:lnTo>
                    <a:lnTo>
                      <a:pt x="300" y="179"/>
                    </a:lnTo>
                    <a:lnTo>
                      <a:pt x="299" y="164"/>
                    </a:lnTo>
                    <a:lnTo>
                      <a:pt x="298" y="147"/>
                    </a:lnTo>
                    <a:lnTo>
                      <a:pt x="298" y="128"/>
                    </a:lnTo>
                    <a:lnTo>
                      <a:pt x="298" y="110"/>
                    </a:lnTo>
                    <a:lnTo>
                      <a:pt x="299" y="94"/>
                    </a:lnTo>
                    <a:lnTo>
                      <a:pt x="301" y="80"/>
                    </a:lnTo>
                    <a:lnTo>
                      <a:pt x="305" y="70"/>
                    </a:lnTo>
                    <a:lnTo>
                      <a:pt x="302" y="76"/>
                    </a:lnTo>
                    <a:lnTo>
                      <a:pt x="299" y="85"/>
                    </a:lnTo>
                    <a:lnTo>
                      <a:pt x="295" y="97"/>
                    </a:lnTo>
                    <a:lnTo>
                      <a:pt x="292" y="110"/>
                    </a:lnTo>
                    <a:lnTo>
                      <a:pt x="288" y="127"/>
                    </a:lnTo>
                    <a:lnTo>
                      <a:pt x="287" y="145"/>
                    </a:lnTo>
                    <a:lnTo>
                      <a:pt x="287" y="165"/>
                    </a:lnTo>
                    <a:lnTo>
                      <a:pt x="289" y="186"/>
                    </a:lnTo>
                    <a:lnTo>
                      <a:pt x="285" y="184"/>
                    </a:lnTo>
                    <a:lnTo>
                      <a:pt x="281" y="184"/>
                    </a:lnTo>
                    <a:lnTo>
                      <a:pt x="279" y="186"/>
                    </a:lnTo>
                    <a:lnTo>
                      <a:pt x="278" y="190"/>
                    </a:lnTo>
                    <a:lnTo>
                      <a:pt x="279" y="194"/>
                    </a:lnTo>
                    <a:lnTo>
                      <a:pt x="281" y="200"/>
                    </a:lnTo>
                    <a:lnTo>
                      <a:pt x="285" y="206"/>
                    </a:lnTo>
                    <a:lnTo>
                      <a:pt x="289" y="213"/>
                    </a:lnTo>
                    <a:lnTo>
                      <a:pt x="291" y="221"/>
                    </a:lnTo>
                    <a:lnTo>
                      <a:pt x="293" y="230"/>
                    </a:lnTo>
                    <a:lnTo>
                      <a:pt x="296" y="238"/>
                    </a:lnTo>
                    <a:lnTo>
                      <a:pt x="300" y="247"/>
                    </a:lnTo>
                    <a:lnTo>
                      <a:pt x="303" y="255"/>
                    </a:lnTo>
                    <a:lnTo>
                      <a:pt x="307" y="263"/>
                    </a:lnTo>
                    <a:lnTo>
                      <a:pt x="309" y="272"/>
                    </a:lnTo>
                    <a:lnTo>
                      <a:pt x="310" y="2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42880" y="191160"/>
                <a:ext cx="741240" cy="616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052280" y="655200"/>
                <a:ext cx="295200" cy="285120"/>
              </a:xfrm>
              <a:custGeom>
                <a:avLst/>
                <a:gdLst/>
                <a:ahLst/>
                <a:rect l="l" t="t" r="r" b="b"/>
                <a:pathLst>
                  <a:path w="915" h="718">
                    <a:moveTo>
                      <a:pt x="540" y="401"/>
                    </a:moveTo>
                    <a:lnTo>
                      <a:pt x="540" y="401"/>
                    </a:lnTo>
                    <a:lnTo>
                      <a:pt x="540" y="412"/>
                    </a:lnTo>
                    <a:lnTo>
                      <a:pt x="540" y="421"/>
                    </a:lnTo>
                    <a:lnTo>
                      <a:pt x="540" y="430"/>
                    </a:lnTo>
                    <a:lnTo>
                      <a:pt x="540" y="440"/>
                    </a:lnTo>
                    <a:lnTo>
                      <a:pt x="539" y="448"/>
                    </a:lnTo>
                    <a:lnTo>
                      <a:pt x="538" y="455"/>
                    </a:lnTo>
                    <a:lnTo>
                      <a:pt x="538" y="462"/>
                    </a:lnTo>
                    <a:lnTo>
                      <a:pt x="537" y="469"/>
                    </a:lnTo>
                    <a:lnTo>
                      <a:pt x="536" y="476"/>
                    </a:lnTo>
                    <a:lnTo>
                      <a:pt x="534" y="483"/>
                    </a:lnTo>
                    <a:lnTo>
                      <a:pt x="533" y="489"/>
                    </a:lnTo>
                    <a:lnTo>
                      <a:pt x="533" y="494"/>
                    </a:lnTo>
                    <a:lnTo>
                      <a:pt x="533" y="500"/>
                    </a:lnTo>
                    <a:lnTo>
                      <a:pt x="534" y="506"/>
                    </a:lnTo>
                    <a:lnTo>
                      <a:pt x="536" y="512"/>
                    </a:lnTo>
                    <a:lnTo>
                      <a:pt x="537" y="516"/>
                    </a:lnTo>
                    <a:lnTo>
                      <a:pt x="538" y="522"/>
                    </a:lnTo>
                    <a:lnTo>
                      <a:pt x="539" y="528"/>
                    </a:lnTo>
                    <a:lnTo>
                      <a:pt x="539" y="534"/>
                    </a:lnTo>
                    <a:lnTo>
                      <a:pt x="539" y="540"/>
                    </a:lnTo>
                    <a:lnTo>
                      <a:pt x="538" y="546"/>
                    </a:lnTo>
                    <a:lnTo>
                      <a:pt x="537" y="553"/>
                    </a:lnTo>
                    <a:lnTo>
                      <a:pt x="534" y="558"/>
                    </a:lnTo>
                    <a:lnTo>
                      <a:pt x="532" y="565"/>
                    </a:lnTo>
                    <a:lnTo>
                      <a:pt x="531" y="569"/>
                    </a:lnTo>
                    <a:lnTo>
                      <a:pt x="531" y="572"/>
                    </a:lnTo>
                    <a:lnTo>
                      <a:pt x="530" y="576"/>
                    </a:lnTo>
                    <a:lnTo>
                      <a:pt x="529" y="580"/>
                    </a:lnTo>
                    <a:lnTo>
                      <a:pt x="529" y="586"/>
                    </a:lnTo>
                    <a:lnTo>
                      <a:pt x="527" y="592"/>
                    </a:lnTo>
                    <a:lnTo>
                      <a:pt x="527" y="598"/>
                    </a:lnTo>
                    <a:lnTo>
                      <a:pt x="527" y="605"/>
                    </a:lnTo>
                    <a:lnTo>
                      <a:pt x="527" y="611"/>
                    </a:lnTo>
                    <a:lnTo>
                      <a:pt x="529" y="617"/>
                    </a:lnTo>
                    <a:lnTo>
                      <a:pt x="530" y="623"/>
                    </a:lnTo>
                    <a:lnTo>
                      <a:pt x="531" y="629"/>
                    </a:lnTo>
                    <a:lnTo>
                      <a:pt x="532" y="636"/>
                    </a:lnTo>
                    <a:lnTo>
                      <a:pt x="534" y="643"/>
                    </a:lnTo>
                    <a:lnTo>
                      <a:pt x="537" y="651"/>
                    </a:lnTo>
                    <a:lnTo>
                      <a:pt x="539" y="660"/>
                    </a:lnTo>
                    <a:lnTo>
                      <a:pt x="544" y="658"/>
                    </a:lnTo>
                    <a:lnTo>
                      <a:pt x="550" y="656"/>
                    </a:lnTo>
                    <a:lnTo>
                      <a:pt x="555" y="651"/>
                    </a:lnTo>
                    <a:lnTo>
                      <a:pt x="563" y="646"/>
                    </a:lnTo>
                    <a:lnTo>
                      <a:pt x="568" y="642"/>
                    </a:lnTo>
                    <a:lnTo>
                      <a:pt x="572" y="637"/>
                    </a:lnTo>
                    <a:lnTo>
                      <a:pt x="576" y="633"/>
                    </a:lnTo>
                    <a:lnTo>
                      <a:pt x="581" y="627"/>
                    </a:lnTo>
                    <a:lnTo>
                      <a:pt x="584" y="620"/>
                    </a:lnTo>
                    <a:lnTo>
                      <a:pt x="588" y="613"/>
                    </a:lnTo>
                    <a:lnTo>
                      <a:pt x="591" y="605"/>
                    </a:lnTo>
                    <a:lnTo>
                      <a:pt x="595" y="597"/>
                    </a:lnTo>
                    <a:lnTo>
                      <a:pt x="598" y="589"/>
                    </a:lnTo>
                    <a:lnTo>
                      <a:pt x="601" y="580"/>
                    </a:lnTo>
                    <a:lnTo>
                      <a:pt x="603" y="572"/>
                    </a:lnTo>
                    <a:lnTo>
                      <a:pt x="605" y="565"/>
                    </a:lnTo>
                    <a:lnTo>
                      <a:pt x="608" y="558"/>
                    </a:lnTo>
                    <a:lnTo>
                      <a:pt x="610" y="551"/>
                    </a:lnTo>
                    <a:lnTo>
                      <a:pt x="611" y="546"/>
                    </a:lnTo>
                    <a:lnTo>
                      <a:pt x="613" y="540"/>
                    </a:lnTo>
                    <a:lnTo>
                      <a:pt x="615" y="533"/>
                    </a:lnTo>
                    <a:lnTo>
                      <a:pt x="616" y="526"/>
                    </a:lnTo>
                    <a:lnTo>
                      <a:pt x="617" y="519"/>
                    </a:lnTo>
                    <a:lnTo>
                      <a:pt x="618" y="511"/>
                    </a:lnTo>
                    <a:lnTo>
                      <a:pt x="618" y="503"/>
                    </a:lnTo>
                    <a:lnTo>
                      <a:pt x="618" y="494"/>
                    </a:lnTo>
                    <a:lnTo>
                      <a:pt x="618" y="485"/>
                    </a:lnTo>
                    <a:lnTo>
                      <a:pt x="617" y="477"/>
                    </a:lnTo>
                    <a:lnTo>
                      <a:pt x="617" y="471"/>
                    </a:lnTo>
                    <a:lnTo>
                      <a:pt x="616" y="465"/>
                    </a:lnTo>
                    <a:lnTo>
                      <a:pt x="616" y="461"/>
                    </a:lnTo>
                    <a:lnTo>
                      <a:pt x="616" y="455"/>
                    </a:lnTo>
                    <a:lnTo>
                      <a:pt x="617" y="450"/>
                    </a:lnTo>
                    <a:lnTo>
                      <a:pt x="617" y="444"/>
                    </a:lnTo>
                    <a:lnTo>
                      <a:pt x="617" y="440"/>
                    </a:lnTo>
                    <a:lnTo>
                      <a:pt x="618" y="435"/>
                    </a:lnTo>
                    <a:lnTo>
                      <a:pt x="619" y="430"/>
                    </a:lnTo>
                    <a:lnTo>
                      <a:pt x="619" y="425"/>
                    </a:lnTo>
                    <a:lnTo>
                      <a:pt x="619" y="420"/>
                    </a:lnTo>
                    <a:lnTo>
                      <a:pt x="619" y="414"/>
                    </a:lnTo>
                    <a:lnTo>
                      <a:pt x="619" y="410"/>
                    </a:lnTo>
                    <a:lnTo>
                      <a:pt x="618" y="405"/>
                    </a:lnTo>
                    <a:lnTo>
                      <a:pt x="617" y="399"/>
                    </a:lnTo>
                    <a:lnTo>
                      <a:pt x="616" y="394"/>
                    </a:lnTo>
                    <a:lnTo>
                      <a:pt x="605" y="399"/>
                    </a:lnTo>
                    <a:lnTo>
                      <a:pt x="595" y="403"/>
                    </a:lnTo>
                    <a:lnTo>
                      <a:pt x="586" y="405"/>
                    </a:lnTo>
                    <a:lnTo>
                      <a:pt x="576" y="406"/>
                    </a:lnTo>
                    <a:lnTo>
                      <a:pt x="567" y="407"/>
                    </a:lnTo>
                    <a:lnTo>
                      <a:pt x="558" y="406"/>
                    </a:lnTo>
                    <a:lnTo>
                      <a:pt x="548" y="405"/>
                    </a:lnTo>
                    <a:lnTo>
                      <a:pt x="540" y="401"/>
                    </a:lnTo>
                    <a:close/>
                    <a:moveTo>
                      <a:pt x="258" y="383"/>
                    </a:moveTo>
                    <a:lnTo>
                      <a:pt x="257" y="383"/>
                    </a:lnTo>
                    <a:lnTo>
                      <a:pt x="239" y="378"/>
                    </a:lnTo>
                    <a:lnTo>
                      <a:pt x="223" y="371"/>
                    </a:lnTo>
                    <a:lnTo>
                      <a:pt x="209" y="362"/>
                    </a:lnTo>
                    <a:lnTo>
                      <a:pt x="195" y="351"/>
                    </a:lnTo>
                    <a:lnTo>
                      <a:pt x="182" y="339"/>
                    </a:lnTo>
                    <a:lnTo>
                      <a:pt x="172" y="323"/>
                    </a:lnTo>
                    <a:lnTo>
                      <a:pt x="161" y="306"/>
                    </a:lnTo>
                    <a:lnTo>
                      <a:pt x="153" y="287"/>
                    </a:lnTo>
                    <a:lnTo>
                      <a:pt x="146" y="268"/>
                    </a:lnTo>
                    <a:lnTo>
                      <a:pt x="139" y="249"/>
                    </a:lnTo>
                    <a:lnTo>
                      <a:pt x="135" y="230"/>
                    </a:lnTo>
                    <a:lnTo>
                      <a:pt x="131" y="213"/>
                    </a:lnTo>
                    <a:lnTo>
                      <a:pt x="128" y="196"/>
                    </a:lnTo>
                    <a:lnTo>
                      <a:pt x="125" y="179"/>
                    </a:lnTo>
                    <a:lnTo>
                      <a:pt x="125" y="164"/>
                    </a:lnTo>
                    <a:lnTo>
                      <a:pt x="125" y="150"/>
                    </a:lnTo>
                    <a:lnTo>
                      <a:pt x="123" y="146"/>
                    </a:lnTo>
                    <a:lnTo>
                      <a:pt x="119" y="140"/>
                    </a:lnTo>
                    <a:lnTo>
                      <a:pt x="115" y="134"/>
                    </a:lnTo>
                    <a:lnTo>
                      <a:pt x="110" y="127"/>
                    </a:lnTo>
                    <a:lnTo>
                      <a:pt x="104" y="120"/>
                    </a:lnTo>
                    <a:lnTo>
                      <a:pt x="101" y="114"/>
                    </a:lnTo>
                    <a:lnTo>
                      <a:pt x="99" y="108"/>
                    </a:lnTo>
                    <a:lnTo>
                      <a:pt x="97" y="103"/>
                    </a:lnTo>
                    <a:lnTo>
                      <a:pt x="95" y="103"/>
                    </a:lnTo>
                    <a:lnTo>
                      <a:pt x="93" y="101"/>
                    </a:lnTo>
                    <a:lnTo>
                      <a:pt x="90" y="100"/>
                    </a:lnTo>
                    <a:lnTo>
                      <a:pt x="87" y="99"/>
                    </a:lnTo>
                    <a:lnTo>
                      <a:pt x="83" y="98"/>
                    </a:lnTo>
                    <a:lnTo>
                      <a:pt x="80" y="97"/>
                    </a:lnTo>
                    <a:lnTo>
                      <a:pt x="76" y="96"/>
                    </a:lnTo>
                    <a:lnTo>
                      <a:pt x="74" y="94"/>
                    </a:lnTo>
                    <a:lnTo>
                      <a:pt x="66" y="92"/>
                    </a:lnTo>
                    <a:lnTo>
                      <a:pt x="59" y="89"/>
                    </a:lnTo>
                    <a:lnTo>
                      <a:pt x="54" y="85"/>
                    </a:lnTo>
                    <a:lnTo>
                      <a:pt x="51" y="82"/>
                    </a:lnTo>
                    <a:lnTo>
                      <a:pt x="46" y="84"/>
                    </a:lnTo>
                    <a:lnTo>
                      <a:pt x="40" y="86"/>
                    </a:lnTo>
                    <a:lnTo>
                      <a:pt x="36" y="87"/>
                    </a:lnTo>
                    <a:lnTo>
                      <a:pt x="30" y="89"/>
                    </a:lnTo>
                    <a:lnTo>
                      <a:pt x="24" y="89"/>
                    </a:lnTo>
                    <a:lnTo>
                      <a:pt x="18" y="87"/>
                    </a:lnTo>
                    <a:lnTo>
                      <a:pt x="12" y="86"/>
                    </a:lnTo>
                    <a:lnTo>
                      <a:pt x="7" y="84"/>
                    </a:lnTo>
                    <a:lnTo>
                      <a:pt x="3" y="82"/>
                    </a:lnTo>
                    <a:lnTo>
                      <a:pt x="1" y="79"/>
                    </a:lnTo>
                    <a:lnTo>
                      <a:pt x="1" y="76"/>
                    </a:lnTo>
                    <a:lnTo>
                      <a:pt x="2" y="72"/>
                    </a:lnTo>
                    <a:lnTo>
                      <a:pt x="2" y="71"/>
                    </a:lnTo>
                    <a:lnTo>
                      <a:pt x="4" y="69"/>
                    </a:lnTo>
                    <a:lnTo>
                      <a:pt x="7" y="68"/>
                    </a:lnTo>
                    <a:lnTo>
                      <a:pt x="10" y="68"/>
                    </a:lnTo>
                    <a:lnTo>
                      <a:pt x="7" y="68"/>
                    </a:lnTo>
                    <a:lnTo>
                      <a:pt x="4" y="66"/>
                    </a:lnTo>
                    <a:lnTo>
                      <a:pt x="2" y="65"/>
                    </a:lnTo>
                    <a:lnTo>
                      <a:pt x="0" y="64"/>
                    </a:lnTo>
                    <a:lnTo>
                      <a:pt x="0" y="56"/>
                    </a:lnTo>
                    <a:lnTo>
                      <a:pt x="2" y="50"/>
                    </a:lnTo>
                    <a:lnTo>
                      <a:pt x="7" y="44"/>
                    </a:lnTo>
                    <a:lnTo>
                      <a:pt x="15" y="41"/>
                    </a:lnTo>
                    <a:lnTo>
                      <a:pt x="19" y="33"/>
                    </a:lnTo>
                    <a:lnTo>
                      <a:pt x="23" y="26"/>
                    </a:lnTo>
                    <a:lnTo>
                      <a:pt x="28" y="22"/>
                    </a:lnTo>
                    <a:lnTo>
                      <a:pt x="31" y="20"/>
                    </a:lnTo>
                    <a:lnTo>
                      <a:pt x="35" y="20"/>
                    </a:lnTo>
                    <a:lnTo>
                      <a:pt x="39" y="19"/>
                    </a:lnTo>
                    <a:lnTo>
                      <a:pt x="44" y="19"/>
                    </a:lnTo>
                    <a:lnTo>
                      <a:pt x="49" y="19"/>
                    </a:lnTo>
                    <a:lnTo>
                      <a:pt x="53" y="18"/>
                    </a:lnTo>
                    <a:lnTo>
                      <a:pt x="59" y="18"/>
                    </a:lnTo>
                    <a:lnTo>
                      <a:pt x="64" y="18"/>
                    </a:lnTo>
                    <a:lnTo>
                      <a:pt x="69" y="18"/>
                    </a:lnTo>
                    <a:lnTo>
                      <a:pt x="75" y="18"/>
                    </a:lnTo>
                    <a:lnTo>
                      <a:pt x="81" y="19"/>
                    </a:lnTo>
                    <a:lnTo>
                      <a:pt x="87" y="19"/>
                    </a:lnTo>
                    <a:lnTo>
                      <a:pt x="93" y="18"/>
                    </a:lnTo>
                    <a:lnTo>
                      <a:pt x="99" y="18"/>
                    </a:lnTo>
                    <a:lnTo>
                      <a:pt x="104" y="18"/>
                    </a:lnTo>
                    <a:lnTo>
                      <a:pt x="110" y="16"/>
                    </a:lnTo>
                    <a:lnTo>
                      <a:pt x="116" y="15"/>
                    </a:lnTo>
                    <a:lnTo>
                      <a:pt x="121" y="15"/>
                    </a:lnTo>
                    <a:lnTo>
                      <a:pt x="124" y="14"/>
                    </a:lnTo>
                    <a:lnTo>
                      <a:pt x="128" y="12"/>
                    </a:lnTo>
                    <a:lnTo>
                      <a:pt x="130" y="11"/>
                    </a:lnTo>
                    <a:lnTo>
                      <a:pt x="132" y="8"/>
                    </a:lnTo>
                    <a:lnTo>
                      <a:pt x="135" y="7"/>
                    </a:lnTo>
                    <a:lnTo>
                      <a:pt x="138" y="5"/>
                    </a:lnTo>
                    <a:lnTo>
                      <a:pt x="142" y="4"/>
                    </a:lnTo>
                    <a:lnTo>
                      <a:pt x="144" y="2"/>
                    </a:lnTo>
                    <a:lnTo>
                      <a:pt x="150" y="2"/>
                    </a:lnTo>
                    <a:lnTo>
                      <a:pt x="158" y="4"/>
                    </a:lnTo>
                    <a:lnTo>
                      <a:pt x="168" y="5"/>
                    </a:lnTo>
                    <a:lnTo>
                      <a:pt x="176" y="6"/>
                    </a:lnTo>
                    <a:lnTo>
                      <a:pt x="183" y="7"/>
                    </a:lnTo>
                    <a:lnTo>
                      <a:pt x="187" y="7"/>
                    </a:lnTo>
                    <a:lnTo>
                      <a:pt x="188" y="6"/>
                    </a:lnTo>
                    <a:lnTo>
                      <a:pt x="195" y="2"/>
                    </a:lnTo>
                    <a:lnTo>
                      <a:pt x="201" y="1"/>
                    </a:lnTo>
                    <a:lnTo>
                      <a:pt x="207" y="0"/>
                    </a:lnTo>
                    <a:lnTo>
                      <a:pt x="212" y="0"/>
                    </a:lnTo>
                    <a:lnTo>
                      <a:pt x="217" y="2"/>
                    </a:lnTo>
                    <a:lnTo>
                      <a:pt x="223" y="5"/>
                    </a:lnTo>
                    <a:lnTo>
                      <a:pt x="226" y="8"/>
                    </a:lnTo>
                    <a:lnTo>
                      <a:pt x="231" y="13"/>
                    </a:lnTo>
                    <a:lnTo>
                      <a:pt x="235" y="19"/>
                    </a:lnTo>
                    <a:lnTo>
                      <a:pt x="238" y="25"/>
                    </a:lnTo>
                    <a:lnTo>
                      <a:pt x="241" y="29"/>
                    </a:lnTo>
                    <a:lnTo>
                      <a:pt x="245" y="33"/>
                    </a:lnTo>
                    <a:lnTo>
                      <a:pt x="247" y="35"/>
                    </a:lnTo>
                    <a:lnTo>
                      <a:pt x="250" y="39"/>
                    </a:lnTo>
                    <a:lnTo>
                      <a:pt x="251" y="41"/>
                    </a:lnTo>
                    <a:lnTo>
                      <a:pt x="253" y="43"/>
                    </a:lnTo>
                    <a:lnTo>
                      <a:pt x="255" y="49"/>
                    </a:lnTo>
                    <a:lnTo>
                      <a:pt x="258" y="55"/>
                    </a:lnTo>
                    <a:lnTo>
                      <a:pt x="259" y="61"/>
                    </a:lnTo>
                    <a:lnTo>
                      <a:pt x="260" y="65"/>
                    </a:lnTo>
                    <a:lnTo>
                      <a:pt x="260" y="71"/>
                    </a:lnTo>
                    <a:lnTo>
                      <a:pt x="259" y="76"/>
                    </a:lnTo>
                    <a:lnTo>
                      <a:pt x="257" y="79"/>
                    </a:lnTo>
                    <a:lnTo>
                      <a:pt x="254" y="84"/>
                    </a:lnTo>
                    <a:lnTo>
                      <a:pt x="252" y="90"/>
                    </a:lnTo>
                    <a:lnTo>
                      <a:pt x="250" y="97"/>
                    </a:lnTo>
                    <a:lnTo>
                      <a:pt x="248" y="105"/>
                    </a:lnTo>
                    <a:lnTo>
                      <a:pt x="248" y="116"/>
                    </a:lnTo>
                    <a:lnTo>
                      <a:pt x="250" y="129"/>
                    </a:lnTo>
                    <a:lnTo>
                      <a:pt x="251" y="143"/>
                    </a:lnTo>
                    <a:lnTo>
                      <a:pt x="253" y="159"/>
                    </a:lnTo>
                    <a:lnTo>
                      <a:pt x="257" y="178"/>
                    </a:lnTo>
                    <a:lnTo>
                      <a:pt x="259" y="186"/>
                    </a:lnTo>
                    <a:lnTo>
                      <a:pt x="265" y="193"/>
                    </a:lnTo>
                    <a:lnTo>
                      <a:pt x="273" y="197"/>
                    </a:lnTo>
                    <a:lnTo>
                      <a:pt x="283" y="198"/>
                    </a:lnTo>
                    <a:lnTo>
                      <a:pt x="289" y="198"/>
                    </a:lnTo>
                    <a:lnTo>
                      <a:pt x="295" y="198"/>
                    </a:lnTo>
                    <a:lnTo>
                      <a:pt x="301" y="198"/>
                    </a:lnTo>
                    <a:lnTo>
                      <a:pt x="305" y="198"/>
                    </a:lnTo>
                    <a:lnTo>
                      <a:pt x="309" y="198"/>
                    </a:lnTo>
                    <a:lnTo>
                      <a:pt x="312" y="197"/>
                    </a:lnTo>
                    <a:lnTo>
                      <a:pt x="316" y="196"/>
                    </a:lnTo>
                    <a:lnTo>
                      <a:pt x="318" y="194"/>
                    </a:lnTo>
                    <a:lnTo>
                      <a:pt x="325" y="191"/>
                    </a:lnTo>
                    <a:lnTo>
                      <a:pt x="333" y="186"/>
                    </a:lnTo>
                    <a:lnTo>
                      <a:pt x="340" y="182"/>
                    </a:lnTo>
                    <a:lnTo>
                      <a:pt x="347" y="176"/>
                    </a:lnTo>
                    <a:lnTo>
                      <a:pt x="353" y="169"/>
                    </a:lnTo>
                    <a:lnTo>
                      <a:pt x="360" y="161"/>
                    </a:lnTo>
                    <a:lnTo>
                      <a:pt x="367" y="153"/>
                    </a:lnTo>
                    <a:lnTo>
                      <a:pt x="373" y="143"/>
                    </a:lnTo>
                    <a:lnTo>
                      <a:pt x="380" y="134"/>
                    </a:lnTo>
                    <a:lnTo>
                      <a:pt x="387" y="126"/>
                    </a:lnTo>
                    <a:lnTo>
                      <a:pt x="394" y="118"/>
                    </a:lnTo>
                    <a:lnTo>
                      <a:pt x="401" y="111"/>
                    </a:lnTo>
                    <a:lnTo>
                      <a:pt x="409" y="104"/>
                    </a:lnTo>
                    <a:lnTo>
                      <a:pt x="416" y="98"/>
                    </a:lnTo>
                    <a:lnTo>
                      <a:pt x="424" y="93"/>
                    </a:lnTo>
                    <a:lnTo>
                      <a:pt x="431" y="90"/>
                    </a:lnTo>
                    <a:lnTo>
                      <a:pt x="438" y="85"/>
                    </a:lnTo>
                    <a:lnTo>
                      <a:pt x="444" y="78"/>
                    </a:lnTo>
                    <a:lnTo>
                      <a:pt x="448" y="71"/>
                    </a:lnTo>
                    <a:lnTo>
                      <a:pt x="452" y="62"/>
                    </a:lnTo>
                    <a:lnTo>
                      <a:pt x="453" y="57"/>
                    </a:lnTo>
                    <a:lnTo>
                      <a:pt x="457" y="51"/>
                    </a:lnTo>
                    <a:lnTo>
                      <a:pt x="459" y="47"/>
                    </a:lnTo>
                    <a:lnTo>
                      <a:pt x="464" y="42"/>
                    </a:lnTo>
                    <a:lnTo>
                      <a:pt x="468" y="37"/>
                    </a:lnTo>
                    <a:lnTo>
                      <a:pt x="473" y="34"/>
                    </a:lnTo>
                    <a:lnTo>
                      <a:pt x="479" y="29"/>
                    </a:lnTo>
                    <a:lnTo>
                      <a:pt x="486" y="26"/>
                    </a:lnTo>
                    <a:lnTo>
                      <a:pt x="490" y="23"/>
                    </a:lnTo>
                    <a:lnTo>
                      <a:pt x="497" y="20"/>
                    </a:lnTo>
                    <a:lnTo>
                      <a:pt x="503" y="19"/>
                    </a:lnTo>
                    <a:lnTo>
                      <a:pt x="511" y="16"/>
                    </a:lnTo>
                    <a:lnTo>
                      <a:pt x="518" y="15"/>
                    </a:lnTo>
                    <a:lnTo>
                      <a:pt x="527" y="15"/>
                    </a:lnTo>
                    <a:lnTo>
                      <a:pt x="537" y="14"/>
                    </a:lnTo>
                    <a:lnTo>
                      <a:pt x="546" y="14"/>
                    </a:lnTo>
                    <a:lnTo>
                      <a:pt x="555" y="15"/>
                    </a:lnTo>
                    <a:lnTo>
                      <a:pt x="563" y="18"/>
                    </a:lnTo>
                    <a:lnTo>
                      <a:pt x="570" y="20"/>
                    </a:lnTo>
                    <a:lnTo>
                      <a:pt x="576" y="25"/>
                    </a:lnTo>
                    <a:lnTo>
                      <a:pt x="581" y="28"/>
                    </a:lnTo>
                    <a:lnTo>
                      <a:pt x="586" y="34"/>
                    </a:lnTo>
                    <a:lnTo>
                      <a:pt x="588" y="40"/>
                    </a:lnTo>
                    <a:lnTo>
                      <a:pt x="590" y="46"/>
                    </a:lnTo>
                    <a:lnTo>
                      <a:pt x="593" y="59"/>
                    </a:lnTo>
                    <a:lnTo>
                      <a:pt x="596" y="71"/>
                    </a:lnTo>
                    <a:lnTo>
                      <a:pt x="601" y="82"/>
                    </a:lnTo>
                    <a:lnTo>
                      <a:pt x="605" y="90"/>
                    </a:lnTo>
                    <a:lnTo>
                      <a:pt x="611" y="97"/>
                    </a:lnTo>
                    <a:lnTo>
                      <a:pt x="618" y="101"/>
                    </a:lnTo>
                    <a:lnTo>
                      <a:pt x="625" y="104"/>
                    </a:lnTo>
                    <a:lnTo>
                      <a:pt x="633" y="105"/>
                    </a:lnTo>
                    <a:lnTo>
                      <a:pt x="637" y="98"/>
                    </a:lnTo>
                    <a:lnTo>
                      <a:pt x="641" y="91"/>
                    </a:lnTo>
                    <a:lnTo>
                      <a:pt x="645" y="84"/>
                    </a:lnTo>
                    <a:lnTo>
                      <a:pt x="650" y="77"/>
                    </a:lnTo>
                    <a:lnTo>
                      <a:pt x="653" y="71"/>
                    </a:lnTo>
                    <a:lnTo>
                      <a:pt x="658" y="65"/>
                    </a:lnTo>
                    <a:lnTo>
                      <a:pt x="661" y="59"/>
                    </a:lnTo>
                    <a:lnTo>
                      <a:pt x="665" y="55"/>
                    </a:lnTo>
                    <a:lnTo>
                      <a:pt x="669" y="49"/>
                    </a:lnTo>
                    <a:lnTo>
                      <a:pt x="674" y="46"/>
                    </a:lnTo>
                    <a:lnTo>
                      <a:pt x="680" y="42"/>
                    </a:lnTo>
                    <a:lnTo>
                      <a:pt x="687" y="40"/>
                    </a:lnTo>
                    <a:lnTo>
                      <a:pt x="695" y="39"/>
                    </a:lnTo>
                    <a:lnTo>
                      <a:pt x="702" y="40"/>
                    </a:lnTo>
                    <a:lnTo>
                      <a:pt x="711" y="41"/>
                    </a:lnTo>
                    <a:lnTo>
                      <a:pt x="720" y="43"/>
                    </a:lnTo>
                    <a:lnTo>
                      <a:pt x="729" y="46"/>
                    </a:lnTo>
                    <a:lnTo>
                      <a:pt x="737" y="49"/>
                    </a:lnTo>
                    <a:lnTo>
                      <a:pt x="742" y="53"/>
                    </a:lnTo>
                    <a:lnTo>
                      <a:pt x="748" y="56"/>
                    </a:lnTo>
                    <a:lnTo>
                      <a:pt x="753" y="61"/>
                    </a:lnTo>
                    <a:lnTo>
                      <a:pt x="758" y="64"/>
                    </a:lnTo>
                    <a:lnTo>
                      <a:pt x="760" y="69"/>
                    </a:lnTo>
                    <a:lnTo>
                      <a:pt x="762" y="72"/>
                    </a:lnTo>
                    <a:lnTo>
                      <a:pt x="763" y="77"/>
                    </a:lnTo>
                    <a:lnTo>
                      <a:pt x="765" y="80"/>
                    </a:lnTo>
                    <a:lnTo>
                      <a:pt x="767" y="85"/>
                    </a:lnTo>
                    <a:lnTo>
                      <a:pt x="768" y="90"/>
                    </a:lnTo>
                    <a:lnTo>
                      <a:pt x="770" y="94"/>
                    </a:lnTo>
                    <a:lnTo>
                      <a:pt x="772" y="98"/>
                    </a:lnTo>
                    <a:lnTo>
                      <a:pt x="774" y="101"/>
                    </a:lnTo>
                    <a:lnTo>
                      <a:pt x="775" y="105"/>
                    </a:lnTo>
                    <a:lnTo>
                      <a:pt x="777" y="113"/>
                    </a:lnTo>
                    <a:lnTo>
                      <a:pt x="781" y="120"/>
                    </a:lnTo>
                    <a:lnTo>
                      <a:pt x="783" y="126"/>
                    </a:lnTo>
                    <a:lnTo>
                      <a:pt x="787" y="132"/>
                    </a:lnTo>
                    <a:lnTo>
                      <a:pt x="789" y="135"/>
                    </a:lnTo>
                    <a:lnTo>
                      <a:pt x="792" y="140"/>
                    </a:lnTo>
                    <a:lnTo>
                      <a:pt x="796" y="142"/>
                    </a:lnTo>
                    <a:lnTo>
                      <a:pt x="799" y="144"/>
                    </a:lnTo>
                    <a:lnTo>
                      <a:pt x="804" y="148"/>
                    </a:lnTo>
                    <a:lnTo>
                      <a:pt x="811" y="153"/>
                    </a:lnTo>
                    <a:lnTo>
                      <a:pt x="818" y="161"/>
                    </a:lnTo>
                    <a:lnTo>
                      <a:pt x="826" y="170"/>
                    </a:lnTo>
                    <a:lnTo>
                      <a:pt x="831" y="178"/>
                    </a:lnTo>
                    <a:lnTo>
                      <a:pt x="835" y="185"/>
                    </a:lnTo>
                    <a:lnTo>
                      <a:pt x="840" y="193"/>
                    </a:lnTo>
                    <a:lnTo>
                      <a:pt x="844" y="199"/>
                    </a:lnTo>
                    <a:lnTo>
                      <a:pt x="847" y="206"/>
                    </a:lnTo>
                    <a:lnTo>
                      <a:pt x="849" y="212"/>
                    </a:lnTo>
                    <a:lnTo>
                      <a:pt x="852" y="216"/>
                    </a:lnTo>
                    <a:lnTo>
                      <a:pt x="854" y="221"/>
                    </a:lnTo>
                    <a:lnTo>
                      <a:pt x="856" y="227"/>
                    </a:lnTo>
                    <a:lnTo>
                      <a:pt x="859" y="235"/>
                    </a:lnTo>
                    <a:lnTo>
                      <a:pt x="860" y="244"/>
                    </a:lnTo>
                    <a:lnTo>
                      <a:pt x="861" y="254"/>
                    </a:lnTo>
                    <a:lnTo>
                      <a:pt x="861" y="265"/>
                    </a:lnTo>
                    <a:lnTo>
                      <a:pt x="861" y="278"/>
                    </a:lnTo>
                    <a:lnTo>
                      <a:pt x="860" y="291"/>
                    </a:lnTo>
                    <a:lnTo>
                      <a:pt x="858" y="306"/>
                    </a:lnTo>
                    <a:lnTo>
                      <a:pt x="861" y="315"/>
                    </a:lnTo>
                    <a:lnTo>
                      <a:pt x="866" y="323"/>
                    </a:lnTo>
                    <a:lnTo>
                      <a:pt x="873" y="328"/>
                    </a:lnTo>
                    <a:lnTo>
                      <a:pt x="880" y="332"/>
                    </a:lnTo>
                    <a:lnTo>
                      <a:pt x="888" y="335"/>
                    </a:lnTo>
                    <a:lnTo>
                      <a:pt x="895" y="340"/>
                    </a:lnTo>
                    <a:lnTo>
                      <a:pt x="902" y="346"/>
                    </a:lnTo>
                    <a:lnTo>
                      <a:pt x="909" y="351"/>
                    </a:lnTo>
                    <a:lnTo>
                      <a:pt x="912" y="357"/>
                    </a:lnTo>
                    <a:lnTo>
                      <a:pt x="915" y="362"/>
                    </a:lnTo>
                    <a:lnTo>
                      <a:pt x="915" y="365"/>
                    </a:lnTo>
                    <a:lnTo>
                      <a:pt x="913" y="369"/>
                    </a:lnTo>
                    <a:lnTo>
                      <a:pt x="904" y="366"/>
                    </a:lnTo>
                    <a:lnTo>
                      <a:pt x="895" y="363"/>
                    </a:lnTo>
                    <a:lnTo>
                      <a:pt x="887" y="361"/>
                    </a:lnTo>
                    <a:lnTo>
                      <a:pt x="877" y="356"/>
                    </a:lnTo>
                    <a:lnTo>
                      <a:pt x="869" y="353"/>
                    </a:lnTo>
                    <a:lnTo>
                      <a:pt x="861" y="348"/>
                    </a:lnTo>
                    <a:lnTo>
                      <a:pt x="853" y="343"/>
                    </a:lnTo>
                    <a:lnTo>
                      <a:pt x="845" y="337"/>
                    </a:lnTo>
                    <a:lnTo>
                      <a:pt x="842" y="342"/>
                    </a:lnTo>
                    <a:lnTo>
                      <a:pt x="840" y="349"/>
                    </a:lnTo>
                    <a:lnTo>
                      <a:pt x="838" y="356"/>
                    </a:lnTo>
                    <a:lnTo>
                      <a:pt x="835" y="364"/>
                    </a:lnTo>
                    <a:lnTo>
                      <a:pt x="832" y="375"/>
                    </a:lnTo>
                    <a:lnTo>
                      <a:pt x="830" y="385"/>
                    </a:lnTo>
                    <a:lnTo>
                      <a:pt x="826" y="396"/>
                    </a:lnTo>
                    <a:lnTo>
                      <a:pt x="823" y="408"/>
                    </a:lnTo>
                    <a:lnTo>
                      <a:pt x="819" y="420"/>
                    </a:lnTo>
                    <a:lnTo>
                      <a:pt x="817" y="430"/>
                    </a:lnTo>
                    <a:lnTo>
                      <a:pt x="816" y="442"/>
                    </a:lnTo>
                    <a:lnTo>
                      <a:pt x="816" y="451"/>
                    </a:lnTo>
                    <a:lnTo>
                      <a:pt x="816" y="461"/>
                    </a:lnTo>
                    <a:lnTo>
                      <a:pt x="817" y="470"/>
                    </a:lnTo>
                    <a:lnTo>
                      <a:pt x="818" y="478"/>
                    </a:lnTo>
                    <a:lnTo>
                      <a:pt x="820" y="486"/>
                    </a:lnTo>
                    <a:lnTo>
                      <a:pt x="822" y="492"/>
                    </a:lnTo>
                    <a:lnTo>
                      <a:pt x="823" y="499"/>
                    </a:lnTo>
                    <a:lnTo>
                      <a:pt x="823" y="506"/>
                    </a:lnTo>
                    <a:lnTo>
                      <a:pt x="823" y="514"/>
                    </a:lnTo>
                    <a:lnTo>
                      <a:pt x="822" y="519"/>
                    </a:lnTo>
                    <a:lnTo>
                      <a:pt x="822" y="525"/>
                    </a:lnTo>
                    <a:lnTo>
                      <a:pt x="820" y="529"/>
                    </a:lnTo>
                    <a:lnTo>
                      <a:pt x="820" y="533"/>
                    </a:lnTo>
                    <a:lnTo>
                      <a:pt x="819" y="537"/>
                    </a:lnTo>
                    <a:lnTo>
                      <a:pt x="819" y="541"/>
                    </a:lnTo>
                    <a:lnTo>
                      <a:pt x="818" y="543"/>
                    </a:lnTo>
                    <a:lnTo>
                      <a:pt x="818" y="546"/>
                    </a:lnTo>
                    <a:lnTo>
                      <a:pt x="817" y="553"/>
                    </a:lnTo>
                    <a:lnTo>
                      <a:pt x="817" y="561"/>
                    </a:lnTo>
                    <a:lnTo>
                      <a:pt x="817" y="569"/>
                    </a:lnTo>
                    <a:lnTo>
                      <a:pt x="816" y="577"/>
                    </a:lnTo>
                    <a:lnTo>
                      <a:pt x="816" y="585"/>
                    </a:lnTo>
                    <a:lnTo>
                      <a:pt x="816" y="593"/>
                    </a:lnTo>
                    <a:lnTo>
                      <a:pt x="817" y="603"/>
                    </a:lnTo>
                    <a:lnTo>
                      <a:pt x="817" y="611"/>
                    </a:lnTo>
                    <a:lnTo>
                      <a:pt x="818" y="621"/>
                    </a:lnTo>
                    <a:lnTo>
                      <a:pt x="818" y="630"/>
                    </a:lnTo>
                    <a:lnTo>
                      <a:pt x="819" y="640"/>
                    </a:lnTo>
                    <a:lnTo>
                      <a:pt x="820" y="649"/>
                    </a:lnTo>
                    <a:lnTo>
                      <a:pt x="822" y="657"/>
                    </a:lnTo>
                    <a:lnTo>
                      <a:pt x="822" y="664"/>
                    </a:lnTo>
                    <a:lnTo>
                      <a:pt x="823" y="671"/>
                    </a:lnTo>
                    <a:lnTo>
                      <a:pt x="823" y="678"/>
                    </a:lnTo>
                    <a:lnTo>
                      <a:pt x="827" y="685"/>
                    </a:lnTo>
                    <a:lnTo>
                      <a:pt x="830" y="690"/>
                    </a:lnTo>
                    <a:lnTo>
                      <a:pt x="832" y="694"/>
                    </a:lnTo>
                    <a:lnTo>
                      <a:pt x="832" y="697"/>
                    </a:lnTo>
                    <a:lnTo>
                      <a:pt x="831" y="701"/>
                    </a:lnTo>
                    <a:lnTo>
                      <a:pt x="827" y="706"/>
                    </a:lnTo>
                    <a:lnTo>
                      <a:pt x="824" y="710"/>
                    </a:lnTo>
                    <a:lnTo>
                      <a:pt x="818" y="712"/>
                    </a:lnTo>
                    <a:lnTo>
                      <a:pt x="810" y="713"/>
                    </a:lnTo>
                    <a:lnTo>
                      <a:pt x="801" y="713"/>
                    </a:lnTo>
                    <a:lnTo>
                      <a:pt x="790" y="713"/>
                    </a:lnTo>
                    <a:lnTo>
                      <a:pt x="779" y="712"/>
                    </a:lnTo>
                    <a:lnTo>
                      <a:pt x="773" y="711"/>
                    </a:lnTo>
                    <a:lnTo>
                      <a:pt x="770" y="710"/>
                    </a:lnTo>
                    <a:lnTo>
                      <a:pt x="770" y="706"/>
                    </a:lnTo>
                    <a:lnTo>
                      <a:pt x="774" y="703"/>
                    </a:lnTo>
                    <a:lnTo>
                      <a:pt x="766" y="704"/>
                    </a:lnTo>
                    <a:lnTo>
                      <a:pt x="760" y="703"/>
                    </a:lnTo>
                    <a:lnTo>
                      <a:pt x="756" y="700"/>
                    </a:lnTo>
                    <a:lnTo>
                      <a:pt x="755" y="696"/>
                    </a:lnTo>
                    <a:lnTo>
                      <a:pt x="756" y="693"/>
                    </a:lnTo>
                    <a:lnTo>
                      <a:pt x="758" y="690"/>
                    </a:lnTo>
                    <a:lnTo>
                      <a:pt x="761" y="687"/>
                    </a:lnTo>
                    <a:lnTo>
                      <a:pt x="765" y="685"/>
                    </a:lnTo>
                    <a:lnTo>
                      <a:pt x="770" y="682"/>
                    </a:lnTo>
                    <a:lnTo>
                      <a:pt x="777" y="677"/>
                    </a:lnTo>
                    <a:lnTo>
                      <a:pt x="784" y="672"/>
                    </a:lnTo>
                    <a:lnTo>
                      <a:pt x="791" y="665"/>
                    </a:lnTo>
                    <a:lnTo>
                      <a:pt x="792" y="663"/>
                    </a:lnTo>
                    <a:lnTo>
                      <a:pt x="794" y="658"/>
                    </a:lnTo>
                    <a:lnTo>
                      <a:pt x="794" y="653"/>
                    </a:lnTo>
                    <a:lnTo>
                      <a:pt x="795" y="647"/>
                    </a:lnTo>
                    <a:lnTo>
                      <a:pt x="795" y="639"/>
                    </a:lnTo>
                    <a:lnTo>
                      <a:pt x="795" y="630"/>
                    </a:lnTo>
                    <a:lnTo>
                      <a:pt x="795" y="620"/>
                    </a:lnTo>
                    <a:lnTo>
                      <a:pt x="794" y="610"/>
                    </a:lnTo>
                    <a:lnTo>
                      <a:pt x="792" y="597"/>
                    </a:lnTo>
                    <a:lnTo>
                      <a:pt x="791" y="585"/>
                    </a:lnTo>
                    <a:lnTo>
                      <a:pt x="790" y="575"/>
                    </a:lnTo>
                    <a:lnTo>
                      <a:pt x="789" y="565"/>
                    </a:lnTo>
                    <a:lnTo>
                      <a:pt x="789" y="557"/>
                    </a:lnTo>
                    <a:lnTo>
                      <a:pt x="788" y="550"/>
                    </a:lnTo>
                    <a:lnTo>
                      <a:pt x="788" y="544"/>
                    </a:lnTo>
                    <a:lnTo>
                      <a:pt x="788" y="540"/>
                    </a:lnTo>
                    <a:lnTo>
                      <a:pt x="786" y="536"/>
                    </a:lnTo>
                    <a:lnTo>
                      <a:pt x="782" y="532"/>
                    </a:lnTo>
                    <a:lnTo>
                      <a:pt x="780" y="525"/>
                    </a:lnTo>
                    <a:lnTo>
                      <a:pt x="777" y="516"/>
                    </a:lnTo>
                    <a:lnTo>
                      <a:pt x="776" y="508"/>
                    </a:lnTo>
                    <a:lnTo>
                      <a:pt x="776" y="500"/>
                    </a:lnTo>
                    <a:lnTo>
                      <a:pt x="777" y="494"/>
                    </a:lnTo>
                    <a:lnTo>
                      <a:pt x="781" y="489"/>
                    </a:lnTo>
                    <a:lnTo>
                      <a:pt x="781" y="480"/>
                    </a:lnTo>
                    <a:lnTo>
                      <a:pt x="780" y="472"/>
                    </a:lnTo>
                    <a:lnTo>
                      <a:pt x="777" y="464"/>
                    </a:lnTo>
                    <a:lnTo>
                      <a:pt x="775" y="456"/>
                    </a:lnTo>
                    <a:lnTo>
                      <a:pt x="772" y="449"/>
                    </a:lnTo>
                    <a:lnTo>
                      <a:pt x="768" y="441"/>
                    </a:lnTo>
                    <a:lnTo>
                      <a:pt x="763" y="433"/>
                    </a:lnTo>
                    <a:lnTo>
                      <a:pt x="758" y="426"/>
                    </a:lnTo>
                    <a:lnTo>
                      <a:pt x="753" y="419"/>
                    </a:lnTo>
                    <a:lnTo>
                      <a:pt x="748" y="411"/>
                    </a:lnTo>
                    <a:lnTo>
                      <a:pt x="746" y="404"/>
                    </a:lnTo>
                    <a:lnTo>
                      <a:pt x="744" y="396"/>
                    </a:lnTo>
                    <a:lnTo>
                      <a:pt x="742" y="387"/>
                    </a:lnTo>
                    <a:lnTo>
                      <a:pt x="742" y="379"/>
                    </a:lnTo>
                    <a:lnTo>
                      <a:pt x="744" y="370"/>
                    </a:lnTo>
                    <a:lnTo>
                      <a:pt x="746" y="362"/>
                    </a:lnTo>
                    <a:lnTo>
                      <a:pt x="745" y="358"/>
                    </a:lnTo>
                    <a:lnTo>
                      <a:pt x="742" y="355"/>
                    </a:lnTo>
                    <a:lnTo>
                      <a:pt x="739" y="354"/>
                    </a:lnTo>
                    <a:lnTo>
                      <a:pt x="734" y="353"/>
                    </a:lnTo>
                    <a:lnTo>
                      <a:pt x="730" y="354"/>
                    </a:lnTo>
                    <a:lnTo>
                      <a:pt x="727" y="355"/>
                    </a:lnTo>
                    <a:lnTo>
                      <a:pt x="725" y="358"/>
                    </a:lnTo>
                    <a:lnTo>
                      <a:pt x="724" y="364"/>
                    </a:lnTo>
                    <a:lnTo>
                      <a:pt x="719" y="375"/>
                    </a:lnTo>
                    <a:lnTo>
                      <a:pt x="716" y="384"/>
                    </a:lnTo>
                    <a:lnTo>
                      <a:pt x="712" y="393"/>
                    </a:lnTo>
                    <a:lnTo>
                      <a:pt x="708" y="401"/>
                    </a:lnTo>
                    <a:lnTo>
                      <a:pt x="704" y="411"/>
                    </a:lnTo>
                    <a:lnTo>
                      <a:pt x="701" y="418"/>
                    </a:lnTo>
                    <a:lnTo>
                      <a:pt x="698" y="426"/>
                    </a:lnTo>
                    <a:lnTo>
                      <a:pt x="695" y="433"/>
                    </a:lnTo>
                    <a:lnTo>
                      <a:pt x="690" y="442"/>
                    </a:lnTo>
                    <a:lnTo>
                      <a:pt x="687" y="450"/>
                    </a:lnTo>
                    <a:lnTo>
                      <a:pt x="683" y="460"/>
                    </a:lnTo>
                    <a:lnTo>
                      <a:pt x="681" y="469"/>
                    </a:lnTo>
                    <a:lnTo>
                      <a:pt x="677" y="477"/>
                    </a:lnTo>
                    <a:lnTo>
                      <a:pt x="675" y="486"/>
                    </a:lnTo>
                    <a:lnTo>
                      <a:pt x="674" y="496"/>
                    </a:lnTo>
                    <a:lnTo>
                      <a:pt x="673" y="505"/>
                    </a:lnTo>
                    <a:lnTo>
                      <a:pt x="672" y="512"/>
                    </a:lnTo>
                    <a:lnTo>
                      <a:pt x="669" y="520"/>
                    </a:lnTo>
                    <a:lnTo>
                      <a:pt x="667" y="527"/>
                    </a:lnTo>
                    <a:lnTo>
                      <a:pt x="665" y="535"/>
                    </a:lnTo>
                    <a:lnTo>
                      <a:pt x="660" y="542"/>
                    </a:lnTo>
                    <a:lnTo>
                      <a:pt x="656" y="550"/>
                    </a:lnTo>
                    <a:lnTo>
                      <a:pt x="652" y="557"/>
                    </a:lnTo>
                    <a:lnTo>
                      <a:pt x="646" y="564"/>
                    </a:lnTo>
                    <a:lnTo>
                      <a:pt x="641" y="571"/>
                    </a:lnTo>
                    <a:lnTo>
                      <a:pt x="637" y="577"/>
                    </a:lnTo>
                    <a:lnTo>
                      <a:pt x="632" y="584"/>
                    </a:lnTo>
                    <a:lnTo>
                      <a:pt x="627" y="591"/>
                    </a:lnTo>
                    <a:lnTo>
                      <a:pt x="624" y="598"/>
                    </a:lnTo>
                    <a:lnTo>
                      <a:pt x="620" y="605"/>
                    </a:lnTo>
                    <a:lnTo>
                      <a:pt x="617" y="613"/>
                    </a:lnTo>
                    <a:lnTo>
                      <a:pt x="615" y="620"/>
                    </a:lnTo>
                    <a:lnTo>
                      <a:pt x="612" y="630"/>
                    </a:lnTo>
                    <a:lnTo>
                      <a:pt x="610" y="639"/>
                    </a:lnTo>
                    <a:lnTo>
                      <a:pt x="606" y="647"/>
                    </a:lnTo>
                    <a:lnTo>
                      <a:pt x="604" y="653"/>
                    </a:lnTo>
                    <a:lnTo>
                      <a:pt x="601" y="657"/>
                    </a:lnTo>
                    <a:lnTo>
                      <a:pt x="597" y="660"/>
                    </a:lnTo>
                    <a:lnTo>
                      <a:pt x="593" y="662"/>
                    </a:lnTo>
                    <a:lnTo>
                      <a:pt x="589" y="662"/>
                    </a:lnTo>
                    <a:lnTo>
                      <a:pt x="590" y="663"/>
                    </a:lnTo>
                    <a:lnTo>
                      <a:pt x="593" y="665"/>
                    </a:lnTo>
                    <a:lnTo>
                      <a:pt x="594" y="667"/>
                    </a:lnTo>
                    <a:lnTo>
                      <a:pt x="595" y="668"/>
                    </a:lnTo>
                    <a:lnTo>
                      <a:pt x="595" y="671"/>
                    </a:lnTo>
                    <a:lnTo>
                      <a:pt x="594" y="675"/>
                    </a:lnTo>
                    <a:lnTo>
                      <a:pt x="594" y="677"/>
                    </a:lnTo>
                    <a:lnTo>
                      <a:pt x="593" y="678"/>
                    </a:lnTo>
                    <a:lnTo>
                      <a:pt x="588" y="680"/>
                    </a:lnTo>
                    <a:lnTo>
                      <a:pt x="583" y="683"/>
                    </a:lnTo>
                    <a:lnTo>
                      <a:pt x="577" y="684"/>
                    </a:lnTo>
                    <a:lnTo>
                      <a:pt x="570" y="685"/>
                    </a:lnTo>
                    <a:lnTo>
                      <a:pt x="565" y="685"/>
                    </a:lnTo>
                    <a:lnTo>
                      <a:pt x="557" y="685"/>
                    </a:lnTo>
                    <a:lnTo>
                      <a:pt x="550" y="685"/>
                    </a:lnTo>
                    <a:lnTo>
                      <a:pt x="541" y="684"/>
                    </a:lnTo>
                    <a:lnTo>
                      <a:pt x="541" y="686"/>
                    </a:lnTo>
                    <a:lnTo>
                      <a:pt x="543" y="687"/>
                    </a:lnTo>
                    <a:lnTo>
                      <a:pt x="545" y="690"/>
                    </a:lnTo>
                    <a:lnTo>
                      <a:pt x="547" y="692"/>
                    </a:lnTo>
                    <a:lnTo>
                      <a:pt x="550" y="694"/>
                    </a:lnTo>
                    <a:lnTo>
                      <a:pt x="551" y="697"/>
                    </a:lnTo>
                    <a:lnTo>
                      <a:pt x="551" y="699"/>
                    </a:lnTo>
                    <a:lnTo>
                      <a:pt x="551" y="701"/>
                    </a:lnTo>
                    <a:lnTo>
                      <a:pt x="544" y="707"/>
                    </a:lnTo>
                    <a:lnTo>
                      <a:pt x="537" y="712"/>
                    </a:lnTo>
                    <a:lnTo>
                      <a:pt x="530" y="715"/>
                    </a:lnTo>
                    <a:lnTo>
                      <a:pt x="522" y="717"/>
                    </a:lnTo>
                    <a:lnTo>
                      <a:pt x="513" y="717"/>
                    </a:lnTo>
                    <a:lnTo>
                      <a:pt x="505" y="717"/>
                    </a:lnTo>
                    <a:lnTo>
                      <a:pt x="497" y="718"/>
                    </a:lnTo>
                    <a:lnTo>
                      <a:pt x="490" y="718"/>
                    </a:lnTo>
                    <a:lnTo>
                      <a:pt x="484" y="717"/>
                    </a:lnTo>
                    <a:lnTo>
                      <a:pt x="482" y="715"/>
                    </a:lnTo>
                    <a:lnTo>
                      <a:pt x="482" y="712"/>
                    </a:lnTo>
                    <a:lnTo>
                      <a:pt x="484" y="708"/>
                    </a:lnTo>
                    <a:lnTo>
                      <a:pt x="477" y="708"/>
                    </a:lnTo>
                    <a:lnTo>
                      <a:pt x="473" y="708"/>
                    </a:lnTo>
                    <a:lnTo>
                      <a:pt x="468" y="707"/>
                    </a:lnTo>
                    <a:lnTo>
                      <a:pt x="465" y="706"/>
                    </a:lnTo>
                    <a:lnTo>
                      <a:pt x="464" y="705"/>
                    </a:lnTo>
                    <a:lnTo>
                      <a:pt x="464" y="704"/>
                    </a:lnTo>
                    <a:lnTo>
                      <a:pt x="464" y="701"/>
                    </a:lnTo>
                    <a:lnTo>
                      <a:pt x="465" y="698"/>
                    </a:lnTo>
                    <a:lnTo>
                      <a:pt x="469" y="693"/>
                    </a:lnTo>
                    <a:lnTo>
                      <a:pt x="474" y="690"/>
                    </a:lnTo>
                    <a:lnTo>
                      <a:pt x="477" y="687"/>
                    </a:lnTo>
                    <a:lnTo>
                      <a:pt x="482" y="685"/>
                    </a:lnTo>
                    <a:lnTo>
                      <a:pt x="487" y="683"/>
                    </a:lnTo>
                    <a:lnTo>
                      <a:pt x="491" y="682"/>
                    </a:lnTo>
                    <a:lnTo>
                      <a:pt x="495" y="680"/>
                    </a:lnTo>
                    <a:lnTo>
                      <a:pt x="500" y="680"/>
                    </a:lnTo>
                    <a:lnTo>
                      <a:pt x="498" y="677"/>
                    </a:lnTo>
                    <a:lnTo>
                      <a:pt x="498" y="675"/>
                    </a:lnTo>
                    <a:lnTo>
                      <a:pt x="501" y="672"/>
                    </a:lnTo>
                    <a:lnTo>
                      <a:pt x="504" y="671"/>
                    </a:lnTo>
                    <a:lnTo>
                      <a:pt x="505" y="658"/>
                    </a:lnTo>
                    <a:lnTo>
                      <a:pt x="507" y="646"/>
                    </a:lnTo>
                    <a:lnTo>
                      <a:pt x="508" y="632"/>
                    </a:lnTo>
                    <a:lnTo>
                      <a:pt x="509" y="618"/>
                    </a:lnTo>
                    <a:lnTo>
                      <a:pt x="509" y="605"/>
                    </a:lnTo>
                    <a:lnTo>
                      <a:pt x="509" y="591"/>
                    </a:lnTo>
                    <a:lnTo>
                      <a:pt x="508" y="576"/>
                    </a:lnTo>
                    <a:lnTo>
                      <a:pt x="507" y="562"/>
                    </a:lnTo>
                    <a:lnTo>
                      <a:pt x="501" y="555"/>
                    </a:lnTo>
                    <a:lnTo>
                      <a:pt x="496" y="548"/>
                    </a:lnTo>
                    <a:lnTo>
                      <a:pt x="494" y="541"/>
                    </a:lnTo>
                    <a:lnTo>
                      <a:pt x="493" y="534"/>
                    </a:lnTo>
                    <a:lnTo>
                      <a:pt x="493" y="526"/>
                    </a:lnTo>
                    <a:lnTo>
                      <a:pt x="491" y="518"/>
                    </a:lnTo>
                    <a:lnTo>
                      <a:pt x="489" y="510"/>
                    </a:lnTo>
                    <a:lnTo>
                      <a:pt x="487" y="503"/>
                    </a:lnTo>
                    <a:lnTo>
                      <a:pt x="482" y="496"/>
                    </a:lnTo>
                    <a:lnTo>
                      <a:pt x="479" y="489"/>
                    </a:lnTo>
                    <a:lnTo>
                      <a:pt x="475" y="482"/>
                    </a:lnTo>
                    <a:lnTo>
                      <a:pt x="472" y="476"/>
                    </a:lnTo>
                    <a:lnTo>
                      <a:pt x="468" y="471"/>
                    </a:lnTo>
                    <a:lnTo>
                      <a:pt x="466" y="465"/>
                    </a:lnTo>
                    <a:lnTo>
                      <a:pt x="464" y="461"/>
                    </a:lnTo>
                    <a:lnTo>
                      <a:pt x="461" y="457"/>
                    </a:lnTo>
                    <a:lnTo>
                      <a:pt x="458" y="453"/>
                    </a:lnTo>
                    <a:lnTo>
                      <a:pt x="454" y="447"/>
                    </a:lnTo>
                    <a:lnTo>
                      <a:pt x="451" y="441"/>
                    </a:lnTo>
                    <a:lnTo>
                      <a:pt x="447" y="434"/>
                    </a:lnTo>
                    <a:lnTo>
                      <a:pt x="444" y="427"/>
                    </a:lnTo>
                    <a:lnTo>
                      <a:pt x="440" y="419"/>
                    </a:lnTo>
                    <a:lnTo>
                      <a:pt x="437" y="410"/>
                    </a:lnTo>
                    <a:lnTo>
                      <a:pt x="433" y="400"/>
                    </a:lnTo>
                    <a:lnTo>
                      <a:pt x="426" y="391"/>
                    </a:lnTo>
                    <a:lnTo>
                      <a:pt x="421" y="387"/>
                    </a:lnTo>
                    <a:lnTo>
                      <a:pt x="415" y="390"/>
                    </a:lnTo>
                    <a:lnTo>
                      <a:pt x="409" y="397"/>
                    </a:lnTo>
                    <a:lnTo>
                      <a:pt x="404" y="404"/>
                    </a:lnTo>
                    <a:lnTo>
                      <a:pt x="400" y="412"/>
                    </a:lnTo>
                    <a:lnTo>
                      <a:pt x="395" y="419"/>
                    </a:lnTo>
                    <a:lnTo>
                      <a:pt x="391" y="427"/>
                    </a:lnTo>
                    <a:lnTo>
                      <a:pt x="388" y="434"/>
                    </a:lnTo>
                    <a:lnTo>
                      <a:pt x="386" y="441"/>
                    </a:lnTo>
                    <a:lnTo>
                      <a:pt x="383" y="448"/>
                    </a:lnTo>
                    <a:lnTo>
                      <a:pt x="382" y="455"/>
                    </a:lnTo>
                    <a:lnTo>
                      <a:pt x="380" y="464"/>
                    </a:lnTo>
                    <a:lnTo>
                      <a:pt x="376" y="472"/>
                    </a:lnTo>
                    <a:lnTo>
                      <a:pt x="373" y="480"/>
                    </a:lnTo>
                    <a:lnTo>
                      <a:pt x="369" y="489"/>
                    </a:lnTo>
                    <a:lnTo>
                      <a:pt x="366" y="494"/>
                    </a:lnTo>
                    <a:lnTo>
                      <a:pt x="362" y="501"/>
                    </a:lnTo>
                    <a:lnTo>
                      <a:pt x="358" y="507"/>
                    </a:lnTo>
                    <a:lnTo>
                      <a:pt x="353" y="512"/>
                    </a:lnTo>
                    <a:lnTo>
                      <a:pt x="353" y="519"/>
                    </a:lnTo>
                    <a:lnTo>
                      <a:pt x="353" y="526"/>
                    </a:lnTo>
                    <a:lnTo>
                      <a:pt x="352" y="534"/>
                    </a:lnTo>
                    <a:lnTo>
                      <a:pt x="350" y="541"/>
                    </a:lnTo>
                    <a:lnTo>
                      <a:pt x="346" y="547"/>
                    </a:lnTo>
                    <a:lnTo>
                      <a:pt x="343" y="551"/>
                    </a:lnTo>
                    <a:lnTo>
                      <a:pt x="339" y="555"/>
                    </a:lnTo>
                    <a:lnTo>
                      <a:pt x="336" y="556"/>
                    </a:lnTo>
                    <a:lnTo>
                      <a:pt x="333" y="562"/>
                    </a:lnTo>
                    <a:lnTo>
                      <a:pt x="332" y="568"/>
                    </a:lnTo>
                    <a:lnTo>
                      <a:pt x="330" y="573"/>
                    </a:lnTo>
                    <a:lnTo>
                      <a:pt x="328" y="579"/>
                    </a:lnTo>
                    <a:lnTo>
                      <a:pt x="326" y="582"/>
                    </a:lnTo>
                    <a:lnTo>
                      <a:pt x="325" y="585"/>
                    </a:lnTo>
                    <a:lnTo>
                      <a:pt x="324" y="587"/>
                    </a:lnTo>
                    <a:lnTo>
                      <a:pt x="323" y="590"/>
                    </a:lnTo>
                    <a:lnTo>
                      <a:pt x="322" y="593"/>
                    </a:lnTo>
                    <a:lnTo>
                      <a:pt x="321" y="597"/>
                    </a:lnTo>
                    <a:lnTo>
                      <a:pt x="319" y="599"/>
                    </a:lnTo>
                    <a:lnTo>
                      <a:pt x="318" y="601"/>
                    </a:lnTo>
                    <a:lnTo>
                      <a:pt x="318" y="604"/>
                    </a:lnTo>
                    <a:lnTo>
                      <a:pt x="317" y="607"/>
                    </a:lnTo>
                    <a:lnTo>
                      <a:pt x="316" y="611"/>
                    </a:lnTo>
                    <a:lnTo>
                      <a:pt x="315" y="614"/>
                    </a:lnTo>
                    <a:lnTo>
                      <a:pt x="314" y="619"/>
                    </a:lnTo>
                    <a:lnTo>
                      <a:pt x="311" y="623"/>
                    </a:lnTo>
                    <a:lnTo>
                      <a:pt x="310" y="629"/>
                    </a:lnTo>
                    <a:lnTo>
                      <a:pt x="308" y="635"/>
                    </a:lnTo>
                    <a:lnTo>
                      <a:pt x="304" y="647"/>
                    </a:lnTo>
                    <a:lnTo>
                      <a:pt x="301" y="655"/>
                    </a:lnTo>
                    <a:lnTo>
                      <a:pt x="298" y="661"/>
                    </a:lnTo>
                    <a:lnTo>
                      <a:pt x="296" y="662"/>
                    </a:lnTo>
                    <a:lnTo>
                      <a:pt x="297" y="664"/>
                    </a:lnTo>
                    <a:lnTo>
                      <a:pt x="298" y="667"/>
                    </a:lnTo>
                    <a:lnTo>
                      <a:pt x="300" y="670"/>
                    </a:lnTo>
                    <a:lnTo>
                      <a:pt x="300" y="675"/>
                    </a:lnTo>
                    <a:lnTo>
                      <a:pt x="298" y="679"/>
                    </a:lnTo>
                    <a:lnTo>
                      <a:pt x="297" y="684"/>
                    </a:lnTo>
                    <a:lnTo>
                      <a:pt x="294" y="687"/>
                    </a:lnTo>
                    <a:lnTo>
                      <a:pt x="290" y="690"/>
                    </a:lnTo>
                    <a:lnTo>
                      <a:pt x="286" y="692"/>
                    </a:lnTo>
                    <a:lnTo>
                      <a:pt x="280" y="693"/>
                    </a:lnTo>
                    <a:lnTo>
                      <a:pt x="272" y="694"/>
                    </a:lnTo>
                    <a:lnTo>
                      <a:pt x="262" y="694"/>
                    </a:lnTo>
                    <a:lnTo>
                      <a:pt x="258" y="694"/>
                    </a:lnTo>
                    <a:lnTo>
                      <a:pt x="252" y="694"/>
                    </a:lnTo>
                    <a:lnTo>
                      <a:pt x="248" y="694"/>
                    </a:lnTo>
                    <a:lnTo>
                      <a:pt x="245" y="694"/>
                    </a:lnTo>
                    <a:lnTo>
                      <a:pt x="241" y="694"/>
                    </a:lnTo>
                    <a:lnTo>
                      <a:pt x="238" y="694"/>
                    </a:lnTo>
                    <a:lnTo>
                      <a:pt x="236" y="694"/>
                    </a:lnTo>
                    <a:lnTo>
                      <a:pt x="233" y="694"/>
                    </a:lnTo>
                    <a:lnTo>
                      <a:pt x="231" y="694"/>
                    </a:lnTo>
                    <a:lnTo>
                      <a:pt x="228" y="693"/>
                    </a:lnTo>
                    <a:lnTo>
                      <a:pt x="225" y="693"/>
                    </a:lnTo>
                    <a:lnTo>
                      <a:pt x="222" y="693"/>
                    </a:lnTo>
                    <a:lnTo>
                      <a:pt x="219" y="691"/>
                    </a:lnTo>
                    <a:lnTo>
                      <a:pt x="217" y="687"/>
                    </a:lnTo>
                    <a:lnTo>
                      <a:pt x="217" y="685"/>
                    </a:lnTo>
                    <a:lnTo>
                      <a:pt x="218" y="683"/>
                    </a:lnTo>
                    <a:lnTo>
                      <a:pt x="216" y="684"/>
                    </a:lnTo>
                    <a:lnTo>
                      <a:pt x="214" y="684"/>
                    </a:lnTo>
                    <a:lnTo>
                      <a:pt x="211" y="684"/>
                    </a:lnTo>
                    <a:lnTo>
                      <a:pt x="209" y="683"/>
                    </a:lnTo>
                    <a:lnTo>
                      <a:pt x="208" y="680"/>
                    </a:lnTo>
                    <a:lnTo>
                      <a:pt x="207" y="678"/>
                    </a:lnTo>
                    <a:lnTo>
                      <a:pt x="207" y="675"/>
                    </a:lnTo>
                    <a:lnTo>
                      <a:pt x="207" y="671"/>
                    </a:lnTo>
                    <a:lnTo>
                      <a:pt x="209" y="668"/>
                    </a:lnTo>
                    <a:lnTo>
                      <a:pt x="211" y="665"/>
                    </a:lnTo>
                    <a:lnTo>
                      <a:pt x="215" y="664"/>
                    </a:lnTo>
                    <a:lnTo>
                      <a:pt x="219" y="664"/>
                    </a:lnTo>
                    <a:lnTo>
                      <a:pt x="226" y="665"/>
                    </a:lnTo>
                    <a:lnTo>
                      <a:pt x="233" y="665"/>
                    </a:lnTo>
                    <a:lnTo>
                      <a:pt x="239" y="664"/>
                    </a:lnTo>
                    <a:lnTo>
                      <a:pt x="245" y="663"/>
                    </a:lnTo>
                    <a:lnTo>
                      <a:pt x="251" y="662"/>
                    </a:lnTo>
                    <a:lnTo>
                      <a:pt x="255" y="660"/>
                    </a:lnTo>
                    <a:lnTo>
                      <a:pt x="260" y="657"/>
                    </a:lnTo>
                    <a:lnTo>
                      <a:pt x="264" y="655"/>
                    </a:lnTo>
                    <a:lnTo>
                      <a:pt x="265" y="650"/>
                    </a:lnTo>
                    <a:lnTo>
                      <a:pt x="267" y="643"/>
                    </a:lnTo>
                    <a:lnTo>
                      <a:pt x="271" y="636"/>
                    </a:lnTo>
                    <a:lnTo>
                      <a:pt x="276" y="628"/>
                    </a:lnTo>
                    <a:lnTo>
                      <a:pt x="282" y="620"/>
                    </a:lnTo>
                    <a:lnTo>
                      <a:pt x="287" y="613"/>
                    </a:lnTo>
                    <a:lnTo>
                      <a:pt x="290" y="607"/>
                    </a:lnTo>
                    <a:lnTo>
                      <a:pt x="294" y="601"/>
                    </a:lnTo>
                    <a:lnTo>
                      <a:pt x="295" y="596"/>
                    </a:lnTo>
                    <a:lnTo>
                      <a:pt x="297" y="589"/>
                    </a:lnTo>
                    <a:lnTo>
                      <a:pt x="300" y="583"/>
                    </a:lnTo>
                    <a:lnTo>
                      <a:pt x="302" y="577"/>
                    </a:lnTo>
                    <a:lnTo>
                      <a:pt x="305" y="569"/>
                    </a:lnTo>
                    <a:lnTo>
                      <a:pt x="308" y="561"/>
                    </a:lnTo>
                    <a:lnTo>
                      <a:pt x="310" y="555"/>
                    </a:lnTo>
                    <a:lnTo>
                      <a:pt x="311" y="550"/>
                    </a:lnTo>
                    <a:lnTo>
                      <a:pt x="311" y="543"/>
                    </a:lnTo>
                    <a:lnTo>
                      <a:pt x="311" y="537"/>
                    </a:lnTo>
                    <a:lnTo>
                      <a:pt x="310" y="533"/>
                    </a:lnTo>
                    <a:lnTo>
                      <a:pt x="310" y="529"/>
                    </a:lnTo>
                    <a:lnTo>
                      <a:pt x="309" y="525"/>
                    </a:lnTo>
                    <a:lnTo>
                      <a:pt x="310" y="518"/>
                    </a:lnTo>
                    <a:lnTo>
                      <a:pt x="312" y="510"/>
                    </a:lnTo>
                    <a:lnTo>
                      <a:pt x="317" y="498"/>
                    </a:lnTo>
                    <a:lnTo>
                      <a:pt x="317" y="493"/>
                    </a:lnTo>
                    <a:lnTo>
                      <a:pt x="317" y="489"/>
                    </a:lnTo>
                    <a:lnTo>
                      <a:pt x="316" y="483"/>
                    </a:lnTo>
                    <a:lnTo>
                      <a:pt x="316" y="476"/>
                    </a:lnTo>
                    <a:lnTo>
                      <a:pt x="315" y="469"/>
                    </a:lnTo>
                    <a:lnTo>
                      <a:pt x="314" y="461"/>
                    </a:lnTo>
                    <a:lnTo>
                      <a:pt x="311" y="453"/>
                    </a:lnTo>
                    <a:lnTo>
                      <a:pt x="310" y="443"/>
                    </a:lnTo>
                    <a:lnTo>
                      <a:pt x="308" y="434"/>
                    </a:lnTo>
                    <a:lnTo>
                      <a:pt x="307" y="427"/>
                    </a:lnTo>
                    <a:lnTo>
                      <a:pt x="305" y="419"/>
                    </a:lnTo>
                    <a:lnTo>
                      <a:pt x="304" y="413"/>
                    </a:lnTo>
                    <a:lnTo>
                      <a:pt x="304" y="407"/>
                    </a:lnTo>
                    <a:lnTo>
                      <a:pt x="304" y="403"/>
                    </a:lnTo>
                    <a:lnTo>
                      <a:pt x="304" y="399"/>
                    </a:lnTo>
                    <a:lnTo>
                      <a:pt x="305" y="396"/>
                    </a:lnTo>
                    <a:lnTo>
                      <a:pt x="301" y="394"/>
                    </a:lnTo>
                    <a:lnTo>
                      <a:pt x="296" y="393"/>
                    </a:lnTo>
                    <a:lnTo>
                      <a:pt x="290" y="392"/>
                    </a:lnTo>
                    <a:lnTo>
                      <a:pt x="285" y="391"/>
                    </a:lnTo>
                    <a:lnTo>
                      <a:pt x="278" y="389"/>
                    </a:lnTo>
                    <a:lnTo>
                      <a:pt x="271" y="387"/>
                    </a:lnTo>
                    <a:lnTo>
                      <a:pt x="264" y="385"/>
                    </a:lnTo>
                    <a:lnTo>
                      <a:pt x="257" y="383"/>
                    </a:lnTo>
                    <a:lnTo>
                      <a:pt x="258" y="383"/>
                    </a:lnTo>
                    <a:close/>
                  </a:path>
                </a:pathLst>
              </a:custGeom>
              <a:solidFill>
                <a:srgbClr val="b7a3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22560" y="811800"/>
                <a:ext cx="28800" cy="105840"/>
              </a:xfrm>
              <a:custGeom>
                <a:avLst/>
                <a:gdLst/>
                <a:ahLst/>
                <a:rect l="l" t="t" r="r" b="b"/>
                <a:pathLst>
                  <a:path w="92" h="266">
                    <a:moveTo>
                      <a:pt x="13" y="7"/>
                    </a:moveTo>
                    <a:lnTo>
                      <a:pt x="13" y="7"/>
                    </a:lnTo>
                    <a:lnTo>
                      <a:pt x="13" y="7"/>
                    </a:lnTo>
                    <a:lnTo>
                      <a:pt x="13" y="18"/>
                    </a:lnTo>
                    <a:lnTo>
                      <a:pt x="13" y="27"/>
                    </a:lnTo>
                    <a:lnTo>
                      <a:pt x="13" y="36"/>
                    </a:lnTo>
                    <a:lnTo>
                      <a:pt x="13" y="46"/>
                    </a:lnTo>
                    <a:lnTo>
                      <a:pt x="12" y="54"/>
                    </a:lnTo>
                    <a:lnTo>
                      <a:pt x="11" y="61"/>
                    </a:lnTo>
                    <a:lnTo>
                      <a:pt x="11" y="68"/>
                    </a:lnTo>
                    <a:lnTo>
                      <a:pt x="10" y="75"/>
                    </a:lnTo>
                    <a:lnTo>
                      <a:pt x="10" y="75"/>
                    </a:lnTo>
                    <a:lnTo>
                      <a:pt x="9" y="82"/>
                    </a:lnTo>
                    <a:lnTo>
                      <a:pt x="7" y="89"/>
                    </a:lnTo>
                    <a:lnTo>
                      <a:pt x="6" y="95"/>
                    </a:lnTo>
                    <a:lnTo>
                      <a:pt x="6" y="100"/>
                    </a:lnTo>
                    <a:lnTo>
                      <a:pt x="6" y="106"/>
                    </a:lnTo>
                    <a:lnTo>
                      <a:pt x="7" y="112"/>
                    </a:lnTo>
                    <a:lnTo>
                      <a:pt x="9" y="118"/>
                    </a:lnTo>
                    <a:lnTo>
                      <a:pt x="10" y="122"/>
                    </a:lnTo>
                    <a:lnTo>
                      <a:pt x="10" y="122"/>
                    </a:lnTo>
                    <a:lnTo>
                      <a:pt x="11" y="128"/>
                    </a:lnTo>
                    <a:lnTo>
                      <a:pt x="12" y="134"/>
                    </a:lnTo>
                    <a:lnTo>
                      <a:pt x="12" y="140"/>
                    </a:lnTo>
                    <a:lnTo>
                      <a:pt x="12" y="146"/>
                    </a:lnTo>
                    <a:lnTo>
                      <a:pt x="11" y="152"/>
                    </a:lnTo>
                    <a:lnTo>
                      <a:pt x="10" y="159"/>
                    </a:lnTo>
                    <a:lnTo>
                      <a:pt x="7" y="164"/>
                    </a:lnTo>
                    <a:lnTo>
                      <a:pt x="5" y="171"/>
                    </a:lnTo>
                    <a:lnTo>
                      <a:pt x="5" y="171"/>
                    </a:lnTo>
                    <a:lnTo>
                      <a:pt x="4" y="175"/>
                    </a:lnTo>
                    <a:lnTo>
                      <a:pt x="4" y="178"/>
                    </a:lnTo>
                    <a:lnTo>
                      <a:pt x="3" y="182"/>
                    </a:lnTo>
                    <a:lnTo>
                      <a:pt x="2" y="186"/>
                    </a:lnTo>
                    <a:lnTo>
                      <a:pt x="2" y="192"/>
                    </a:lnTo>
                    <a:lnTo>
                      <a:pt x="0" y="198"/>
                    </a:lnTo>
                    <a:lnTo>
                      <a:pt x="0" y="204"/>
                    </a:lnTo>
                    <a:lnTo>
                      <a:pt x="0" y="211"/>
                    </a:lnTo>
                    <a:lnTo>
                      <a:pt x="0" y="211"/>
                    </a:lnTo>
                    <a:lnTo>
                      <a:pt x="0" y="217"/>
                    </a:lnTo>
                    <a:lnTo>
                      <a:pt x="2" y="223"/>
                    </a:lnTo>
                    <a:lnTo>
                      <a:pt x="3" y="229"/>
                    </a:lnTo>
                    <a:lnTo>
                      <a:pt x="4" y="235"/>
                    </a:lnTo>
                    <a:lnTo>
                      <a:pt x="5" y="242"/>
                    </a:lnTo>
                    <a:lnTo>
                      <a:pt x="7" y="249"/>
                    </a:lnTo>
                    <a:lnTo>
                      <a:pt x="10" y="257"/>
                    </a:lnTo>
                    <a:lnTo>
                      <a:pt x="12" y="266"/>
                    </a:lnTo>
                    <a:lnTo>
                      <a:pt x="12" y="266"/>
                    </a:lnTo>
                    <a:lnTo>
                      <a:pt x="17" y="264"/>
                    </a:lnTo>
                    <a:lnTo>
                      <a:pt x="23" y="262"/>
                    </a:lnTo>
                    <a:lnTo>
                      <a:pt x="28" y="257"/>
                    </a:lnTo>
                    <a:lnTo>
                      <a:pt x="36" y="252"/>
                    </a:lnTo>
                    <a:lnTo>
                      <a:pt x="36" y="252"/>
                    </a:lnTo>
                    <a:lnTo>
                      <a:pt x="41" y="248"/>
                    </a:lnTo>
                    <a:lnTo>
                      <a:pt x="45" y="243"/>
                    </a:lnTo>
                    <a:lnTo>
                      <a:pt x="49" y="239"/>
                    </a:lnTo>
                    <a:lnTo>
                      <a:pt x="54" y="233"/>
                    </a:lnTo>
                    <a:lnTo>
                      <a:pt x="57" y="226"/>
                    </a:lnTo>
                    <a:lnTo>
                      <a:pt x="61" y="219"/>
                    </a:lnTo>
                    <a:lnTo>
                      <a:pt x="64" y="211"/>
                    </a:lnTo>
                    <a:lnTo>
                      <a:pt x="68" y="203"/>
                    </a:lnTo>
                    <a:lnTo>
                      <a:pt x="68" y="203"/>
                    </a:lnTo>
                    <a:lnTo>
                      <a:pt x="71" y="195"/>
                    </a:lnTo>
                    <a:lnTo>
                      <a:pt x="74" y="186"/>
                    </a:lnTo>
                    <a:lnTo>
                      <a:pt x="76" y="178"/>
                    </a:lnTo>
                    <a:lnTo>
                      <a:pt x="78" y="171"/>
                    </a:lnTo>
                    <a:lnTo>
                      <a:pt x="81" y="164"/>
                    </a:lnTo>
                    <a:lnTo>
                      <a:pt x="83" y="157"/>
                    </a:lnTo>
                    <a:lnTo>
                      <a:pt x="84" y="152"/>
                    </a:lnTo>
                    <a:lnTo>
                      <a:pt x="86" y="146"/>
                    </a:lnTo>
                    <a:lnTo>
                      <a:pt x="86" y="146"/>
                    </a:lnTo>
                    <a:lnTo>
                      <a:pt x="88" y="139"/>
                    </a:lnTo>
                    <a:lnTo>
                      <a:pt x="89" y="132"/>
                    </a:lnTo>
                    <a:lnTo>
                      <a:pt x="90" y="125"/>
                    </a:lnTo>
                    <a:lnTo>
                      <a:pt x="91" y="117"/>
                    </a:lnTo>
                    <a:lnTo>
                      <a:pt x="91" y="109"/>
                    </a:lnTo>
                    <a:lnTo>
                      <a:pt x="91" y="100"/>
                    </a:lnTo>
                    <a:lnTo>
                      <a:pt x="91" y="91"/>
                    </a:lnTo>
                    <a:lnTo>
                      <a:pt x="90" y="83"/>
                    </a:lnTo>
                    <a:lnTo>
                      <a:pt x="90" y="83"/>
                    </a:lnTo>
                    <a:lnTo>
                      <a:pt x="90" y="77"/>
                    </a:lnTo>
                    <a:lnTo>
                      <a:pt x="89" y="71"/>
                    </a:lnTo>
                    <a:lnTo>
                      <a:pt x="89" y="67"/>
                    </a:lnTo>
                    <a:lnTo>
                      <a:pt x="89" y="61"/>
                    </a:lnTo>
                    <a:lnTo>
                      <a:pt x="90" y="56"/>
                    </a:lnTo>
                    <a:lnTo>
                      <a:pt x="90" y="50"/>
                    </a:lnTo>
                    <a:lnTo>
                      <a:pt x="90" y="46"/>
                    </a:lnTo>
                    <a:lnTo>
                      <a:pt x="91" y="41"/>
                    </a:lnTo>
                    <a:lnTo>
                      <a:pt x="91" y="41"/>
                    </a:lnTo>
                    <a:lnTo>
                      <a:pt x="92" y="36"/>
                    </a:lnTo>
                    <a:lnTo>
                      <a:pt x="92" y="31"/>
                    </a:lnTo>
                    <a:lnTo>
                      <a:pt x="92" y="26"/>
                    </a:lnTo>
                    <a:lnTo>
                      <a:pt x="92" y="20"/>
                    </a:lnTo>
                    <a:lnTo>
                      <a:pt x="92" y="16"/>
                    </a:lnTo>
                    <a:lnTo>
                      <a:pt x="91" y="11"/>
                    </a:lnTo>
                    <a:lnTo>
                      <a:pt x="90" y="5"/>
                    </a:lnTo>
                    <a:lnTo>
                      <a:pt x="89" y="0"/>
                    </a:lnTo>
                    <a:lnTo>
                      <a:pt x="89" y="0"/>
                    </a:lnTo>
                    <a:lnTo>
                      <a:pt x="78" y="5"/>
                    </a:lnTo>
                    <a:lnTo>
                      <a:pt x="68" y="9"/>
                    </a:lnTo>
                    <a:lnTo>
                      <a:pt x="59" y="11"/>
                    </a:lnTo>
                    <a:lnTo>
                      <a:pt x="49" y="12"/>
                    </a:lnTo>
                    <a:lnTo>
                      <a:pt x="40" y="13"/>
                    </a:lnTo>
                    <a:lnTo>
                      <a:pt x="31" y="12"/>
                    </a:lnTo>
                    <a:lnTo>
                      <a:pt x="21" y="11"/>
                    </a:lnTo>
                    <a:lnTo>
                      <a:pt x="13" y="7"/>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052280" y="655200"/>
                <a:ext cx="295200" cy="285120"/>
              </a:xfrm>
              <a:custGeom>
                <a:avLst/>
                <a:gdLst/>
                <a:ahLst/>
                <a:rect l="l" t="t" r="r" b="b"/>
                <a:pathLst>
                  <a:path w="915" h="718">
                    <a:moveTo>
                      <a:pt x="258" y="383"/>
                    </a:moveTo>
                    <a:lnTo>
                      <a:pt x="257" y="383"/>
                    </a:lnTo>
                    <a:lnTo>
                      <a:pt x="257" y="383"/>
                    </a:lnTo>
                    <a:lnTo>
                      <a:pt x="239" y="378"/>
                    </a:lnTo>
                    <a:lnTo>
                      <a:pt x="223" y="371"/>
                    </a:lnTo>
                    <a:lnTo>
                      <a:pt x="209" y="362"/>
                    </a:lnTo>
                    <a:lnTo>
                      <a:pt x="195" y="351"/>
                    </a:lnTo>
                    <a:lnTo>
                      <a:pt x="182" y="339"/>
                    </a:lnTo>
                    <a:lnTo>
                      <a:pt x="172" y="323"/>
                    </a:lnTo>
                    <a:lnTo>
                      <a:pt x="161" y="306"/>
                    </a:lnTo>
                    <a:lnTo>
                      <a:pt x="153" y="287"/>
                    </a:lnTo>
                    <a:lnTo>
                      <a:pt x="153" y="287"/>
                    </a:lnTo>
                    <a:lnTo>
                      <a:pt x="146" y="268"/>
                    </a:lnTo>
                    <a:lnTo>
                      <a:pt x="139" y="249"/>
                    </a:lnTo>
                    <a:lnTo>
                      <a:pt x="135" y="230"/>
                    </a:lnTo>
                    <a:lnTo>
                      <a:pt x="131" y="213"/>
                    </a:lnTo>
                    <a:lnTo>
                      <a:pt x="128" y="196"/>
                    </a:lnTo>
                    <a:lnTo>
                      <a:pt x="125" y="179"/>
                    </a:lnTo>
                    <a:lnTo>
                      <a:pt x="125" y="164"/>
                    </a:lnTo>
                    <a:lnTo>
                      <a:pt x="125" y="150"/>
                    </a:lnTo>
                    <a:lnTo>
                      <a:pt x="125" y="150"/>
                    </a:lnTo>
                    <a:lnTo>
                      <a:pt x="123" y="146"/>
                    </a:lnTo>
                    <a:lnTo>
                      <a:pt x="119" y="140"/>
                    </a:lnTo>
                    <a:lnTo>
                      <a:pt x="115" y="134"/>
                    </a:lnTo>
                    <a:lnTo>
                      <a:pt x="110" y="127"/>
                    </a:lnTo>
                    <a:lnTo>
                      <a:pt x="110" y="127"/>
                    </a:lnTo>
                    <a:lnTo>
                      <a:pt x="104" y="120"/>
                    </a:lnTo>
                    <a:lnTo>
                      <a:pt x="101" y="114"/>
                    </a:lnTo>
                    <a:lnTo>
                      <a:pt x="99" y="108"/>
                    </a:lnTo>
                    <a:lnTo>
                      <a:pt x="97" y="103"/>
                    </a:lnTo>
                    <a:lnTo>
                      <a:pt x="97" y="103"/>
                    </a:lnTo>
                    <a:lnTo>
                      <a:pt x="95" y="103"/>
                    </a:lnTo>
                    <a:lnTo>
                      <a:pt x="93" y="101"/>
                    </a:lnTo>
                    <a:lnTo>
                      <a:pt x="90" y="100"/>
                    </a:lnTo>
                    <a:lnTo>
                      <a:pt x="87" y="99"/>
                    </a:lnTo>
                    <a:lnTo>
                      <a:pt x="87" y="99"/>
                    </a:lnTo>
                    <a:lnTo>
                      <a:pt x="83" y="98"/>
                    </a:lnTo>
                    <a:lnTo>
                      <a:pt x="80" y="97"/>
                    </a:lnTo>
                    <a:lnTo>
                      <a:pt x="76" y="96"/>
                    </a:lnTo>
                    <a:lnTo>
                      <a:pt x="74" y="94"/>
                    </a:lnTo>
                    <a:lnTo>
                      <a:pt x="74" y="94"/>
                    </a:lnTo>
                    <a:lnTo>
                      <a:pt x="66" y="92"/>
                    </a:lnTo>
                    <a:lnTo>
                      <a:pt x="59" y="89"/>
                    </a:lnTo>
                    <a:lnTo>
                      <a:pt x="54" y="85"/>
                    </a:lnTo>
                    <a:lnTo>
                      <a:pt x="51" y="82"/>
                    </a:lnTo>
                    <a:lnTo>
                      <a:pt x="51" y="82"/>
                    </a:lnTo>
                    <a:lnTo>
                      <a:pt x="46" y="84"/>
                    </a:lnTo>
                    <a:lnTo>
                      <a:pt x="40" y="86"/>
                    </a:lnTo>
                    <a:lnTo>
                      <a:pt x="36" y="87"/>
                    </a:lnTo>
                    <a:lnTo>
                      <a:pt x="30" y="89"/>
                    </a:lnTo>
                    <a:lnTo>
                      <a:pt x="24" y="89"/>
                    </a:lnTo>
                    <a:lnTo>
                      <a:pt x="18" y="87"/>
                    </a:lnTo>
                    <a:lnTo>
                      <a:pt x="12" y="86"/>
                    </a:lnTo>
                    <a:lnTo>
                      <a:pt x="7" y="84"/>
                    </a:lnTo>
                    <a:lnTo>
                      <a:pt x="7" y="84"/>
                    </a:lnTo>
                    <a:lnTo>
                      <a:pt x="3" y="82"/>
                    </a:lnTo>
                    <a:lnTo>
                      <a:pt x="1" y="79"/>
                    </a:lnTo>
                    <a:lnTo>
                      <a:pt x="1" y="76"/>
                    </a:lnTo>
                    <a:lnTo>
                      <a:pt x="2" y="72"/>
                    </a:lnTo>
                    <a:lnTo>
                      <a:pt x="2" y="72"/>
                    </a:lnTo>
                    <a:lnTo>
                      <a:pt x="2" y="71"/>
                    </a:lnTo>
                    <a:lnTo>
                      <a:pt x="4" y="69"/>
                    </a:lnTo>
                    <a:lnTo>
                      <a:pt x="7" y="68"/>
                    </a:lnTo>
                    <a:lnTo>
                      <a:pt x="10" y="68"/>
                    </a:lnTo>
                    <a:lnTo>
                      <a:pt x="10" y="68"/>
                    </a:lnTo>
                    <a:lnTo>
                      <a:pt x="7" y="68"/>
                    </a:lnTo>
                    <a:lnTo>
                      <a:pt x="4" y="66"/>
                    </a:lnTo>
                    <a:lnTo>
                      <a:pt x="2" y="65"/>
                    </a:lnTo>
                    <a:lnTo>
                      <a:pt x="0" y="64"/>
                    </a:lnTo>
                    <a:lnTo>
                      <a:pt x="0" y="64"/>
                    </a:lnTo>
                    <a:lnTo>
                      <a:pt x="0" y="56"/>
                    </a:lnTo>
                    <a:lnTo>
                      <a:pt x="2" y="50"/>
                    </a:lnTo>
                    <a:lnTo>
                      <a:pt x="7" y="44"/>
                    </a:lnTo>
                    <a:lnTo>
                      <a:pt x="15" y="41"/>
                    </a:lnTo>
                    <a:lnTo>
                      <a:pt x="15" y="41"/>
                    </a:lnTo>
                    <a:lnTo>
                      <a:pt x="19" y="33"/>
                    </a:lnTo>
                    <a:lnTo>
                      <a:pt x="23" y="26"/>
                    </a:lnTo>
                    <a:lnTo>
                      <a:pt x="28" y="22"/>
                    </a:lnTo>
                    <a:lnTo>
                      <a:pt x="31" y="20"/>
                    </a:lnTo>
                    <a:lnTo>
                      <a:pt x="31" y="20"/>
                    </a:lnTo>
                    <a:lnTo>
                      <a:pt x="35" y="20"/>
                    </a:lnTo>
                    <a:lnTo>
                      <a:pt x="39" y="19"/>
                    </a:lnTo>
                    <a:lnTo>
                      <a:pt x="44" y="19"/>
                    </a:lnTo>
                    <a:lnTo>
                      <a:pt x="49" y="19"/>
                    </a:lnTo>
                    <a:lnTo>
                      <a:pt x="53" y="18"/>
                    </a:lnTo>
                    <a:lnTo>
                      <a:pt x="59" y="18"/>
                    </a:lnTo>
                    <a:lnTo>
                      <a:pt x="64" y="18"/>
                    </a:lnTo>
                    <a:lnTo>
                      <a:pt x="69" y="18"/>
                    </a:lnTo>
                    <a:lnTo>
                      <a:pt x="69" y="18"/>
                    </a:lnTo>
                    <a:lnTo>
                      <a:pt x="75" y="18"/>
                    </a:lnTo>
                    <a:lnTo>
                      <a:pt x="81" y="19"/>
                    </a:lnTo>
                    <a:lnTo>
                      <a:pt x="87" y="19"/>
                    </a:lnTo>
                    <a:lnTo>
                      <a:pt x="93" y="18"/>
                    </a:lnTo>
                    <a:lnTo>
                      <a:pt x="99" y="18"/>
                    </a:lnTo>
                    <a:lnTo>
                      <a:pt x="104" y="18"/>
                    </a:lnTo>
                    <a:lnTo>
                      <a:pt x="110" y="16"/>
                    </a:lnTo>
                    <a:lnTo>
                      <a:pt x="116" y="15"/>
                    </a:lnTo>
                    <a:lnTo>
                      <a:pt x="116" y="15"/>
                    </a:lnTo>
                    <a:lnTo>
                      <a:pt x="121" y="15"/>
                    </a:lnTo>
                    <a:lnTo>
                      <a:pt x="124" y="14"/>
                    </a:lnTo>
                    <a:lnTo>
                      <a:pt x="128" y="12"/>
                    </a:lnTo>
                    <a:lnTo>
                      <a:pt x="130" y="11"/>
                    </a:lnTo>
                    <a:lnTo>
                      <a:pt x="130" y="11"/>
                    </a:lnTo>
                    <a:lnTo>
                      <a:pt x="132" y="8"/>
                    </a:lnTo>
                    <a:lnTo>
                      <a:pt x="135" y="7"/>
                    </a:lnTo>
                    <a:lnTo>
                      <a:pt x="138" y="5"/>
                    </a:lnTo>
                    <a:lnTo>
                      <a:pt x="142" y="4"/>
                    </a:lnTo>
                    <a:lnTo>
                      <a:pt x="142" y="4"/>
                    </a:lnTo>
                    <a:lnTo>
                      <a:pt x="144" y="2"/>
                    </a:lnTo>
                    <a:lnTo>
                      <a:pt x="150" y="2"/>
                    </a:lnTo>
                    <a:lnTo>
                      <a:pt x="158" y="4"/>
                    </a:lnTo>
                    <a:lnTo>
                      <a:pt x="168" y="5"/>
                    </a:lnTo>
                    <a:lnTo>
                      <a:pt x="168" y="5"/>
                    </a:lnTo>
                    <a:lnTo>
                      <a:pt x="176" y="6"/>
                    </a:lnTo>
                    <a:lnTo>
                      <a:pt x="183" y="7"/>
                    </a:lnTo>
                    <a:lnTo>
                      <a:pt x="187" y="7"/>
                    </a:lnTo>
                    <a:lnTo>
                      <a:pt x="188" y="6"/>
                    </a:lnTo>
                    <a:lnTo>
                      <a:pt x="188" y="6"/>
                    </a:lnTo>
                    <a:lnTo>
                      <a:pt x="195" y="2"/>
                    </a:lnTo>
                    <a:lnTo>
                      <a:pt x="201" y="1"/>
                    </a:lnTo>
                    <a:lnTo>
                      <a:pt x="207" y="0"/>
                    </a:lnTo>
                    <a:lnTo>
                      <a:pt x="212" y="0"/>
                    </a:lnTo>
                    <a:lnTo>
                      <a:pt x="217" y="2"/>
                    </a:lnTo>
                    <a:lnTo>
                      <a:pt x="223" y="5"/>
                    </a:lnTo>
                    <a:lnTo>
                      <a:pt x="226" y="8"/>
                    </a:lnTo>
                    <a:lnTo>
                      <a:pt x="231" y="13"/>
                    </a:lnTo>
                    <a:lnTo>
                      <a:pt x="231" y="13"/>
                    </a:lnTo>
                    <a:lnTo>
                      <a:pt x="235" y="19"/>
                    </a:lnTo>
                    <a:lnTo>
                      <a:pt x="238" y="25"/>
                    </a:lnTo>
                    <a:lnTo>
                      <a:pt x="241" y="29"/>
                    </a:lnTo>
                    <a:lnTo>
                      <a:pt x="245" y="33"/>
                    </a:lnTo>
                    <a:lnTo>
                      <a:pt x="245" y="33"/>
                    </a:lnTo>
                    <a:lnTo>
                      <a:pt x="247" y="35"/>
                    </a:lnTo>
                    <a:lnTo>
                      <a:pt x="250" y="39"/>
                    </a:lnTo>
                    <a:lnTo>
                      <a:pt x="251" y="41"/>
                    </a:lnTo>
                    <a:lnTo>
                      <a:pt x="253" y="43"/>
                    </a:lnTo>
                    <a:lnTo>
                      <a:pt x="253" y="43"/>
                    </a:lnTo>
                    <a:lnTo>
                      <a:pt x="255" y="49"/>
                    </a:lnTo>
                    <a:lnTo>
                      <a:pt x="258" y="55"/>
                    </a:lnTo>
                    <a:lnTo>
                      <a:pt x="259" y="61"/>
                    </a:lnTo>
                    <a:lnTo>
                      <a:pt x="260" y="65"/>
                    </a:lnTo>
                    <a:lnTo>
                      <a:pt x="260" y="71"/>
                    </a:lnTo>
                    <a:lnTo>
                      <a:pt x="259" y="76"/>
                    </a:lnTo>
                    <a:lnTo>
                      <a:pt x="257" y="79"/>
                    </a:lnTo>
                    <a:lnTo>
                      <a:pt x="254" y="84"/>
                    </a:lnTo>
                    <a:lnTo>
                      <a:pt x="254" y="84"/>
                    </a:lnTo>
                    <a:lnTo>
                      <a:pt x="252" y="90"/>
                    </a:lnTo>
                    <a:lnTo>
                      <a:pt x="250" y="97"/>
                    </a:lnTo>
                    <a:lnTo>
                      <a:pt x="248" y="105"/>
                    </a:lnTo>
                    <a:lnTo>
                      <a:pt x="248" y="116"/>
                    </a:lnTo>
                    <a:lnTo>
                      <a:pt x="250" y="129"/>
                    </a:lnTo>
                    <a:lnTo>
                      <a:pt x="251" y="143"/>
                    </a:lnTo>
                    <a:lnTo>
                      <a:pt x="253" y="159"/>
                    </a:lnTo>
                    <a:lnTo>
                      <a:pt x="257" y="178"/>
                    </a:lnTo>
                    <a:lnTo>
                      <a:pt x="257" y="178"/>
                    </a:lnTo>
                    <a:lnTo>
                      <a:pt x="259" y="186"/>
                    </a:lnTo>
                    <a:lnTo>
                      <a:pt x="265" y="193"/>
                    </a:lnTo>
                    <a:lnTo>
                      <a:pt x="273" y="197"/>
                    </a:lnTo>
                    <a:lnTo>
                      <a:pt x="283" y="198"/>
                    </a:lnTo>
                    <a:lnTo>
                      <a:pt x="283" y="198"/>
                    </a:lnTo>
                    <a:lnTo>
                      <a:pt x="289" y="198"/>
                    </a:lnTo>
                    <a:lnTo>
                      <a:pt x="295" y="198"/>
                    </a:lnTo>
                    <a:lnTo>
                      <a:pt x="301" y="198"/>
                    </a:lnTo>
                    <a:lnTo>
                      <a:pt x="305" y="198"/>
                    </a:lnTo>
                    <a:lnTo>
                      <a:pt x="309" y="198"/>
                    </a:lnTo>
                    <a:lnTo>
                      <a:pt x="312" y="197"/>
                    </a:lnTo>
                    <a:lnTo>
                      <a:pt x="316" y="196"/>
                    </a:lnTo>
                    <a:lnTo>
                      <a:pt x="318" y="194"/>
                    </a:lnTo>
                    <a:lnTo>
                      <a:pt x="318" y="194"/>
                    </a:lnTo>
                    <a:lnTo>
                      <a:pt x="325" y="191"/>
                    </a:lnTo>
                    <a:lnTo>
                      <a:pt x="333" y="186"/>
                    </a:lnTo>
                    <a:lnTo>
                      <a:pt x="340" y="182"/>
                    </a:lnTo>
                    <a:lnTo>
                      <a:pt x="347" y="176"/>
                    </a:lnTo>
                    <a:lnTo>
                      <a:pt x="353" y="169"/>
                    </a:lnTo>
                    <a:lnTo>
                      <a:pt x="360" y="161"/>
                    </a:lnTo>
                    <a:lnTo>
                      <a:pt x="367" y="153"/>
                    </a:lnTo>
                    <a:lnTo>
                      <a:pt x="373" y="143"/>
                    </a:lnTo>
                    <a:lnTo>
                      <a:pt x="373" y="143"/>
                    </a:lnTo>
                    <a:lnTo>
                      <a:pt x="380" y="134"/>
                    </a:lnTo>
                    <a:lnTo>
                      <a:pt x="387" y="126"/>
                    </a:lnTo>
                    <a:lnTo>
                      <a:pt x="394" y="118"/>
                    </a:lnTo>
                    <a:lnTo>
                      <a:pt x="401" y="111"/>
                    </a:lnTo>
                    <a:lnTo>
                      <a:pt x="409" y="104"/>
                    </a:lnTo>
                    <a:lnTo>
                      <a:pt x="416" y="98"/>
                    </a:lnTo>
                    <a:lnTo>
                      <a:pt x="424" y="93"/>
                    </a:lnTo>
                    <a:lnTo>
                      <a:pt x="431" y="90"/>
                    </a:lnTo>
                    <a:lnTo>
                      <a:pt x="431" y="90"/>
                    </a:lnTo>
                    <a:lnTo>
                      <a:pt x="438" y="85"/>
                    </a:lnTo>
                    <a:lnTo>
                      <a:pt x="444" y="78"/>
                    </a:lnTo>
                    <a:lnTo>
                      <a:pt x="448" y="71"/>
                    </a:lnTo>
                    <a:lnTo>
                      <a:pt x="452" y="62"/>
                    </a:lnTo>
                    <a:lnTo>
                      <a:pt x="452" y="62"/>
                    </a:lnTo>
                    <a:lnTo>
                      <a:pt x="453" y="57"/>
                    </a:lnTo>
                    <a:lnTo>
                      <a:pt x="457" y="51"/>
                    </a:lnTo>
                    <a:lnTo>
                      <a:pt x="459" y="47"/>
                    </a:lnTo>
                    <a:lnTo>
                      <a:pt x="464" y="42"/>
                    </a:lnTo>
                    <a:lnTo>
                      <a:pt x="468" y="37"/>
                    </a:lnTo>
                    <a:lnTo>
                      <a:pt x="473" y="34"/>
                    </a:lnTo>
                    <a:lnTo>
                      <a:pt x="479" y="29"/>
                    </a:lnTo>
                    <a:lnTo>
                      <a:pt x="486" y="26"/>
                    </a:lnTo>
                    <a:lnTo>
                      <a:pt x="486" y="26"/>
                    </a:lnTo>
                    <a:lnTo>
                      <a:pt x="490" y="23"/>
                    </a:lnTo>
                    <a:lnTo>
                      <a:pt x="497" y="20"/>
                    </a:lnTo>
                    <a:lnTo>
                      <a:pt x="503" y="19"/>
                    </a:lnTo>
                    <a:lnTo>
                      <a:pt x="511" y="16"/>
                    </a:lnTo>
                    <a:lnTo>
                      <a:pt x="518" y="15"/>
                    </a:lnTo>
                    <a:lnTo>
                      <a:pt x="527" y="15"/>
                    </a:lnTo>
                    <a:lnTo>
                      <a:pt x="537" y="14"/>
                    </a:lnTo>
                    <a:lnTo>
                      <a:pt x="546" y="14"/>
                    </a:lnTo>
                    <a:lnTo>
                      <a:pt x="546" y="14"/>
                    </a:lnTo>
                    <a:lnTo>
                      <a:pt x="555" y="15"/>
                    </a:lnTo>
                    <a:lnTo>
                      <a:pt x="563" y="18"/>
                    </a:lnTo>
                    <a:lnTo>
                      <a:pt x="570" y="20"/>
                    </a:lnTo>
                    <a:lnTo>
                      <a:pt x="576" y="25"/>
                    </a:lnTo>
                    <a:lnTo>
                      <a:pt x="581" y="28"/>
                    </a:lnTo>
                    <a:lnTo>
                      <a:pt x="586" y="34"/>
                    </a:lnTo>
                    <a:lnTo>
                      <a:pt x="588" y="40"/>
                    </a:lnTo>
                    <a:lnTo>
                      <a:pt x="590" y="46"/>
                    </a:lnTo>
                    <a:lnTo>
                      <a:pt x="590" y="46"/>
                    </a:lnTo>
                    <a:lnTo>
                      <a:pt x="593" y="59"/>
                    </a:lnTo>
                    <a:lnTo>
                      <a:pt x="596" y="71"/>
                    </a:lnTo>
                    <a:lnTo>
                      <a:pt x="601" y="82"/>
                    </a:lnTo>
                    <a:lnTo>
                      <a:pt x="605" y="90"/>
                    </a:lnTo>
                    <a:lnTo>
                      <a:pt x="611" y="97"/>
                    </a:lnTo>
                    <a:lnTo>
                      <a:pt x="618" y="101"/>
                    </a:lnTo>
                    <a:lnTo>
                      <a:pt x="625" y="104"/>
                    </a:lnTo>
                    <a:lnTo>
                      <a:pt x="633" y="105"/>
                    </a:lnTo>
                    <a:lnTo>
                      <a:pt x="633" y="105"/>
                    </a:lnTo>
                    <a:lnTo>
                      <a:pt x="637" y="98"/>
                    </a:lnTo>
                    <a:lnTo>
                      <a:pt x="641" y="91"/>
                    </a:lnTo>
                    <a:lnTo>
                      <a:pt x="645" y="84"/>
                    </a:lnTo>
                    <a:lnTo>
                      <a:pt x="650" y="77"/>
                    </a:lnTo>
                    <a:lnTo>
                      <a:pt x="653" y="71"/>
                    </a:lnTo>
                    <a:lnTo>
                      <a:pt x="658" y="65"/>
                    </a:lnTo>
                    <a:lnTo>
                      <a:pt x="661" y="59"/>
                    </a:lnTo>
                    <a:lnTo>
                      <a:pt x="665" y="55"/>
                    </a:lnTo>
                    <a:lnTo>
                      <a:pt x="665" y="55"/>
                    </a:lnTo>
                    <a:lnTo>
                      <a:pt x="669" y="49"/>
                    </a:lnTo>
                    <a:lnTo>
                      <a:pt x="674" y="46"/>
                    </a:lnTo>
                    <a:lnTo>
                      <a:pt x="680" y="42"/>
                    </a:lnTo>
                    <a:lnTo>
                      <a:pt x="687" y="40"/>
                    </a:lnTo>
                    <a:lnTo>
                      <a:pt x="695" y="39"/>
                    </a:lnTo>
                    <a:lnTo>
                      <a:pt x="702" y="40"/>
                    </a:lnTo>
                    <a:lnTo>
                      <a:pt x="711" y="41"/>
                    </a:lnTo>
                    <a:lnTo>
                      <a:pt x="720" y="43"/>
                    </a:lnTo>
                    <a:lnTo>
                      <a:pt x="720" y="43"/>
                    </a:lnTo>
                    <a:lnTo>
                      <a:pt x="729" y="46"/>
                    </a:lnTo>
                    <a:lnTo>
                      <a:pt x="737" y="49"/>
                    </a:lnTo>
                    <a:lnTo>
                      <a:pt x="742" y="53"/>
                    </a:lnTo>
                    <a:lnTo>
                      <a:pt x="748" y="56"/>
                    </a:lnTo>
                    <a:lnTo>
                      <a:pt x="753" y="61"/>
                    </a:lnTo>
                    <a:lnTo>
                      <a:pt x="758" y="64"/>
                    </a:lnTo>
                    <a:lnTo>
                      <a:pt x="760" y="69"/>
                    </a:lnTo>
                    <a:lnTo>
                      <a:pt x="762" y="72"/>
                    </a:lnTo>
                    <a:lnTo>
                      <a:pt x="762" y="72"/>
                    </a:lnTo>
                    <a:lnTo>
                      <a:pt x="763" y="77"/>
                    </a:lnTo>
                    <a:lnTo>
                      <a:pt x="765" y="80"/>
                    </a:lnTo>
                    <a:lnTo>
                      <a:pt x="767" y="85"/>
                    </a:lnTo>
                    <a:lnTo>
                      <a:pt x="768" y="90"/>
                    </a:lnTo>
                    <a:lnTo>
                      <a:pt x="768" y="90"/>
                    </a:lnTo>
                    <a:lnTo>
                      <a:pt x="770" y="94"/>
                    </a:lnTo>
                    <a:lnTo>
                      <a:pt x="772" y="98"/>
                    </a:lnTo>
                    <a:lnTo>
                      <a:pt x="774" y="101"/>
                    </a:lnTo>
                    <a:lnTo>
                      <a:pt x="775" y="105"/>
                    </a:lnTo>
                    <a:lnTo>
                      <a:pt x="775" y="105"/>
                    </a:lnTo>
                    <a:lnTo>
                      <a:pt x="777" y="113"/>
                    </a:lnTo>
                    <a:lnTo>
                      <a:pt x="781" y="120"/>
                    </a:lnTo>
                    <a:lnTo>
                      <a:pt x="783" y="126"/>
                    </a:lnTo>
                    <a:lnTo>
                      <a:pt x="787" y="132"/>
                    </a:lnTo>
                    <a:lnTo>
                      <a:pt x="789" y="135"/>
                    </a:lnTo>
                    <a:lnTo>
                      <a:pt x="792" y="140"/>
                    </a:lnTo>
                    <a:lnTo>
                      <a:pt x="796" y="142"/>
                    </a:lnTo>
                    <a:lnTo>
                      <a:pt x="799" y="144"/>
                    </a:lnTo>
                    <a:lnTo>
                      <a:pt x="799" y="144"/>
                    </a:lnTo>
                    <a:lnTo>
                      <a:pt x="804" y="148"/>
                    </a:lnTo>
                    <a:lnTo>
                      <a:pt x="811" y="153"/>
                    </a:lnTo>
                    <a:lnTo>
                      <a:pt x="818" y="161"/>
                    </a:lnTo>
                    <a:lnTo>
                      <a:pt x="826" y="170"/>
                    </a:lnTo>
                    <a:lnTo>
                      <a:pt x="826" y="170"/>
                    </a:lnTo>
                    <a:lnTo>
                      <a:pt x="831" y="178"/>
                    </a:lnTo>
                    <a:lnTo>
                      <a:pt x="835" y="185"/>
                    </a:lnTo>
                    <a:lnTo>
                      <a:pt x="840" y="193"/>
                    </a:lnTo>
                    <a:lnTo>
                      <a:pt x="844" y="199"/>
                    </a:lnTo>
                    <a:lnTo>
                      <a:pt x="847" y="206"/>
                    </a:lnTo>
                    <a:lnTo>
                      <a:pt x="849" y="212"/>
                    </a:lnTo>
                    <a:lnTo>
                      <a:pt x="852" y="216"/>
                    </a:lnTo>
                    <a:lnTo>
                      <a:pt x="854" y="221"/>
                    </a:lnTo>
                    <a:lnTo>
                      <a:pt x="854" y="221"/>
                    </a:lnTo>
                    <a:lnTo>
                      <a:pt x="856" y="227"/>
                    </a:lnTo>
                    <a:lnTo>
                      <a:pt x="859" y="235"/>
                    </a:lnTo>
                    <a:lnTo>
                      <a:pt x="860" y="244"/>
                    </a:lnTo>
                    <a:lnTo>
                      <a:pt x="861" y="254"/>
                    </a:lnTo>
                    <a:lnTo>
                      <a:pt x="861" y="265"/>
                    </a:lnTo>
                    <a:lnTo>
                      <a:pt x="861" y="278"/>
                    </a:lnTo>
                    <a:lnTo>
                      <a:pt x="860" y="291"/>
                    </a:lnTo>
                    <a:lnTo>
                      <a:pt x="858" y="306"/>
                    </a:lnTo>
                    <a:lnTo>
                      <a:pt x="858" y="306"/>
                    </a:lnTo>
                    <a:lnTo>
                      <a:pt x="861" y="315"/>
                    </a:lnTo>
                    <a:lnTo>
                      <a:pt x="866" y="323"/>
                    </a:lnTo>
                    <a:lnTo>
                      <a:pt x="873" y="328"/>
                    </a:lnTo>
                    <a:lnTo>
                      <a:pt x="880" y="332"/>
                    </a:lnTo>
                    <a:lnTo>
                      <a:pt x="880" y="332"/>
                    </a:lnTo>
                    <a:lnTo>
                      <a:pt x="888" y="335"/>
                    </a:lnTo>
                    <a:lnTo>
                      <a:pt x="895" y="340"/>
                    </a:lnTo>
                    <a:lnTo>
                      <a:pt x="902" y="346"/>
                    </a:lnTo>
                    <a:lnTo>
                      <a:pt x="909" y="351"/>
                    </a:lnTo>
                    <a:lnTo>
                      <a:pt x="909" y="351"/>
                    </a:lnTo>
                    <a:lnTo>
                      <a:pt x="912" y="357"/>
                    </a:lnTo>
                    <a:lnTo>
                      <a:pt x="915" y="362"/>
                    </a:lnTo>
                    <a:lnTo>
                      <a:pt x="915" y="365"/>
                    </a:lnTo>
                    <a:lnTo>
                      <a:pt x="913" y="369"/>
                    </a:lnTo>
                    <a:lnTo>
                      <a:pt x="913" y="369"/>
                    </a:lnTo>
                    <a:lnTo>
                      <a:pt x="904" y="366"/>
                    </a:lnTo>
                    <a:lnTo>
                      <a:pt x="895" y="363"/>
                    </a:lnTo>
                    <a:lnTo>
                      <a:pt x="887" y="361"/>
                    </a:lnTo>
                    <a:lnTo>
                      <a:pt x="877" y="356"/>
                    </a:lnTo>
                    <a:lnTo>
                      <a:pt x="869" y="353"/>
                    </a:lnTo>
                    <a:lnTo>
                      <a:pt x="861" y="348"/>
                    </a:lnTo>
                    <a:lnTo>
                      <a:pt x="853" y="343"/>
                    </a:lnTo>
                    <a:lnTo>
                      <a:pt x="845" y="337"/>
                    </a:lnTo>
                    <a:lnTo>
                      <a:pt x="845" y="337"/>
                    </a:lnTo>
                    <a:lnTo>
                      <a:pt x="842" y="342"/>
                    </a:lnTo>
                    <a:lnTo>
                      <a:pt x="840" y="349"/>
                    </a:lnTo>
                    <a:lnTo>
                      <a:pt x="838" y="356"/>
                    </a:lnTo>
                    <a:lnTo>
                      <a:pt x="835" y="364"/>
                    </a:lnTo>
                    <a:lnTo>
                      <a:pt x="832" y="375"/>
                    </a:lnTo>
                    <a:lnTo>
                      <a:pt x="830" y="385"/>
                    </a:lnTo>
                    <a:lnTo>
                      <a:pt x="826" y="396"/>
                    </a:lnTo>
                    <a:lnTo>
                      <a:pt x="823" y="408"/>
                    </a:lnTo>
                    <a:lnTo>
                      <a:pt x="823" y="408"/>
                    </a:lnTo>
                    <a:lnTo>
                      <a:pt x="819" y="420"/>
                    </a:lnTo>
                    <a:lnTo>
                      <a:pt x="817" y="430"/>
                    </a:lnTo>
                    <a:lnTo>
                      <a:pt x="816" y="442"/>
                    </a:lnTo>
                    <a:lnTo>
                      <a:pt x="816" y="451"/>
                    </a:lnTo>
                    <a:lnTo>
                      <a:pt x="816" y="461"/>
                    </a:lnTo>
                    <a:lnTo>
                      <a:pt x="817" y="470"/>
                    </a:lnTo>
                    <a:lnTo>
                      <a:pt x="818" y="478"/>
                    </a:lnTo>
                    <a:lnTo>
                      <a:pt x="820" y="486"/>
                    </a:lnTo>
                    <a:lnTo>
                      <a:pt x="820" y="486"/>
                    </a:lnTo>
                    <a:lnTo>
                      <a:pt x="822" y="492"/>
                    </a:lnTo>
                    <a:lnTo>
                      <a:pt x="823" y="499"/>
                    </a:lnTo>
                    <a:lnTo>
                      <a:pt x="823" y="506"/>
                    </a:lnTo>
                    <a:lnTo>
                      <a:pt x="823" y="514"/>
                    </a:lnTo>
                    <a:lnTo>
                      <a:pt x="823" y="514"/>
                    </a:lnTo>
                    <a:lnTo>
                      <a:pt x="822" y="519"/>
                    </a:lnTo>
                    <a:lnTo>
                      <a:pt x="822" y="525"/>
                    </a:lnTo>
                    <a:lnTo>
                      <a:pt x="820" y="529"/>
                    </a:lnTo>
                    <a:lnTo>
                      <a:pt x="820" y="533"/>
                    </a:lnTo>
                    <a:lnTo>
                      <a:pt x="820" y="533"/>
                    </a:lnTo>
                    <a:lnTo>
                      <a:pt x="819" y="537"/>
                    </a:lnTo>
                    <a:lnTo>
                      <a:pt x="819" y="541"/>
                    </a:lnTo>
                    <a:lnTo>
                      <a:pt x="818" y="543"/>
                    </a:lnTo>
                    <a:lnTo>
                      <a:pt x="818" y="546"/>
                    </a:lnTo>
                    <a:lnTo>
                      <a:pt x="818" y="546"/>
                    </a:lnTo>
                    <a:lnTo>
                      <a:pt x="817" y="553"/>
                    </a:lnTo>
                    <a:lnTo>
                      <a:pt x="817" y="561"/>
                    </a:lnTo>
                    <a:lnTo>
                      <a:pt x="817" y="569"/>
                    </a:lnTo>
                    <a:lnTo>
                      <a:pt x="816" y="577"/>
                    </a:lnTo>
                    <a:lnTo>
                      <a:pt x="816" y="585"/>
                    </a:lnTo>
                    <a:lnTo>
                      <a:pt x="816" y="593"/>
                    </a:lnTo>
                    <a:lnTo>
                      <a:pt x="817" y="603"/>
                    </a:lnTo>
                    <a:lnTo>
                      <a:pt x="817" y="611"/>
                    </a:lnTo>
                    <a:lnTo>
                      <a:pt x="817" y="611"/>
                    </a:lnTo>
                    <a:lnTo>
                      <a:pt x="818" y="621"/>
                    </a:lnTo>
                    <a:lnTo>
                      <a:pt x="818" y="630"/>
                    </a:lnTo>
                    <a:lnTo>
                      <a:pt x="819" y="640"/>
                    </a:lnTo>
                    <a:lnTo>
                      <a:pt x="820" y="649"/>
                    </a:lnTo>
                    <a:lnTo>
                      <a:pt x="822" y="657"/>
                    </a:lnTo>
                    <a:lnTo>
                      <a:pt x="822" y="664"/>
                    </a:lnTo>
                    <a:lnTo>
                      <a:pt x="823" y="671"/>
                    </a:lnTo>
                    <a:lnTo>
                      <a:pt x="823" y="678"/>
                    </a:lnTo>
                    <a:lnTo>
                      <a:pt x="823" y="678"/>
                    </a:lnTo>
                    <a:lnTo>
                      <a:pt x="827" y="685"/>
                    </a:lnTo>
                    <a:lnTo>
                      <a:pt x="830" y="690"/>
                    </a:lnTo>
                    <a:lnTo>
                      <a:pt x="832" y="694"/>
                    </a:lnTo>
                    <a:lnTo>
                      <a:pt x="832" y="697"/>
                    </a:lnTo>
                    <a:lnTo>
                      <a:pt x="832" y="697"/>
                    </a:lnTo>
                    <a:lnTo>
                      <a:pt x="831" y="701"/>
                    </a:lnTo>
                    <a:lnTo>
                      <a:pt x="827" y="706"/>
                    </a:lnTo>
                    <a:lnTo>
                      <a:pt x="824" y="710"/>
                    </a:lnTo>
                    <a:lnTo>
                      <a:pt x="818" y="712"/>
                    </a:lnTo>
                    <a:lnTo>
                      <a:pt x="810" y="713"/>
                    </a:lnTo>
                    <a:lnTo>
                      <a:pt x="801" y="713"/>
                    </a:lnTo>
                    <a:lnTo>
                      <a:pt x="790" y="713"/>
                    </a:lnTo>
                    <a:lnTo>
                      <a:pt x="779" y="712"/>
                    </a:lnTo>
                    <a:lnTo>
                      <a:pt x="779" y="712"/>
                    </a:lnTo>
                    <a:lnTo>
                      <a:pt x="773" y="711"/>
                    </a:lnTo>
                    <a:lnTo>
                      <a:pt x="770" y="710"/>
                    </a:lnTo>
                    <a:lnTo>
                      <a:pt x="770" y="706"/>
                    </a:lnTo>
                    <a:lnTo>
                      <a:pt x="774" y="703"/>
                    </a:lnTo>
                    <a:lnTo>
                      <a:pt x="774" y="703"/>
                    </a:lnTo>
                    <a:lnTo>
                      <a:pt x="766" y="704"/>
                    </a:lnTo>
                    <a:lnTo>
                      <a:pt x="760" y="703"/>
                    </a:lnTo>
                    <a:lnTo>
                      <a:pt x="756" y="700"/>
                    </a:lnTo>
                    <a:lnTo>
                      <a:pt x="755" y="696"/>
                    </a:lnTo>
                    <a:lnTo>
                      <a:pt x="755" y="696"/>
                    </a:lnTo>
                    <a:lnTo>
                      <a:pt x="756" y="693"/>
                    </a:lnTo>
                    <a:lnTo>
                      <a:pt x="758" y="690"/>
                    </a:lnTo>
                    <a:lnTo>
                      <a:pt x="761" y="687"/>
                    </a:lnTo>
                    <a:lnTo>
                      <a:pt x="765" y="685"/>
                    </a:lnTo>
                    <a:lnTo>
                      <a:pt x="765" y="685"/>
                    </a:lnTo>
                    <a:lnTo>
                      <a:pt x="770" y="682"/>
                    </a:lnTo>
                    <a:lnTo>
                      <a:pt x="777" y="677"/>
                    </a:lnTo>
                    <a:lnTo>
                      <a:pt x="784" y="672"/>
                    </a:lnTo>
                    <a:lnTo>
                      <a:pt x="791" y="665"/>
                    </a:lnTo>
                    <a:lnTo>
                      <a:pt x="791" y="665"/>
                    </a:lnTo>
                    <a:lnTo>
                      <a:pt x="792" y="663"/>
                    </a:lnTo>
                    <a:lnTo>
                      <a:pt x="794" y="658"/>
                    </a:lnTo>
                    <a:lnTo>
                      <a:pt x="794" y="653"/>
                    </a:lnTo>
                    <a:lnTo>
                      <a:pt x="795" y="647"/>
                    </a:lnTo>
                    <a:lnTo>
                      <a:pt x="795" y="639"/>
                    </a:lnTo>
                    <a:lnTo>
                      <a:pt x="795" y="630"/>
                    </a:lnTo>
                    <a:lnTo>
                      <a:pt x="795" y="620"/>
                    </a:lnTo>
                    <a:lnTo>
                      <a:pt x="794" y="610"/>
                    </a:lnTo>
                    <a:lnTo>
                      <a:pt x="794" y="610"/>
                    </a:lnTo>
                    <a:lnTo>
                      <a:pt x="792" y="597"/>
                    </a:lnTo>
                    <a:lnTo>
                      <a:pt x="791" y="585"/>
                    </a:lnTo>
                    <a:lnTo>
                      <a:pt x="790" y="575"/>
                    </a:lnTo>
                    <a:lnTo>
                      <a:pt x="789" y="565"/>
                    </a:lnTo>
                    <a:lnTo>
                      <a:pt x="789" y="557"/>
                    </a:lnTo>
                    <a:lnTo>
                      <a:pt x="788" y="550"/>
                    </a:lnTo>
                    <a:lnTo>
                      <a:pt x="788" y="544"/>
                    </a:lnTo>
                    <a:lnTo>
                      <a:pt x="788" y="540"/>
                    </a:lnTo>
                    <a:lnTo>
                      <a:pt x="788" y="540"/>
                    </a:lnTo>
                    <a:lnTo>
                      <a:pt x="786" y="536"/>
                    </a:lnTo>
                    <a:lnTo>
                      <a:pt x="782" y="532"/>
                    </a:lnTo>
                    <a:lnTo>
                      <a:pt x="780" y="525"/>
                    </a:lnTo>
                    <a:lnTo>
                      <a:pt x="777" y="516"/>
                    </a:lnTo>
                    <a:lnTo>
                      <a:pt x="777" y="516"/>
                    </a:lnTo>
                    <a:lnTo>
                      <a:pt x="776" y="508"/>
                    </a:lnTo>
                    <a:lnTo>
                      <a:pt x="776" y="500"/>
                    </a:lnTo>
                    <a:lnTo>
                      <a:pt x="777" y="494"/>
                    </a:lnTo>
                    <a:lnTo>
                      <a:pt x="781" y="489"/>
                    </a:lnTo>
                    <a:lnTo>
                      <a:pt x="781" y="489"/>
                    </a:lnTo>
                    <a:lnTo>
                      <a:pt x="781" y="480"/>
                    </a:lnTo>
                    <a:lnTo>
                      <a:pt x="780" y="472"/>
                    </a:lnTo>
                    <a:lnTo>
                      <a:pt x="777" y="464"/>
                    </a:lnTo>
                    <a:lnTo>
                      <a:pt x="775" y="456"/>
                    </a:lnTo>
                    <a:lnTo>
                      <a:pt x="772" y="449"/>
                    </a:lnTo>
                    <a:lnTo>
                      <a:pt x="768" y="441"/>
                    </a:lnTo>
                    <a:lnTo>
                      <a:pt x="763" y="433"/>
                    </a:lnTo>
                    <a:lnTo>
                      <a:pt x="758" y="426"/>
                    </a:lnTo>
                    <a:lnTo>
                      <a:pt x="758" y="426"/>
                    </a:lnTo>
                    <a:lnTo>
                      <a:pt x="753" y="419"/>
                    </a:lnTo>
                    <a:lnTo>
                      <a:pt x="748" y="411"/>
                    </a:lnTo>
                    <a:lnTo>
                      <a:pt x="746" y="404"/>
                    </a:lnTo>
                    <a:lnTo>
                      <a:pt x="744" y="396"/>
                    </a:lnTo>
                    <a:lnTo>
                      <a:pt x="742" y="387"/>
                    </a:lnTo>
                    <a:lnTo>
                      <a:pt x="742" y="379"/>
                    </a:lnTo>
                    <a:lnTo>
                      <a:pt x="744" y="370"/>
                    </a:lnTo>
                    <a:lnTo>
                      <a:pt x="746" y="362"/>
                    </a:lnTo>
                    <a:lnTo>
                      <a:pt x="746" y="362"/>
                    </a:lnTo>
                    <a:lnTo>
                      <a:pt x="745" y="358"/>
                    </a:lnTo>
                    <a:lnTo>
                      <a:pt x="742" y="355"/>
                    </a:lnTo>
                    <a:lnTo>
                      <a:pt x="739" y="354"/>
                    </a:lnTo>
                    <a:lnTo>
                      <a:pt x="734" y="353"/>
                    </a:lnTo>
                    <a:lnTo>
                      <a:pt x="734" y="353"/>
                    </a:lnTo>
                    <a:lnTo>
                      <a:pt x="730" y="354"/>
                    </a:lnTo>
                    <a:lnTo>
                      <a:pt x="727" y="355"/>
                    </a:lnTo>
                    <a:lnTo>
                      <a:pt x="725" y="358"/>
                    </a:lnTo>
                    <a:lnTo>
                      <a:pt x="724" y="364"/>
                    </a:lnTo>
                    <a:lnTo>
                      <a:pt x="724" y="364"/>
                    </a:lnTo>
                    <a:lnTo>
                      <a:pt x="719" y="375"/>
                    </a:lnTo>
                    <a:lnTo>
                      <a:pt x="716" y="384"/>
                    </a:lnTo>
                    <a:lnTo>
                      <a:pt x="712" y="393"/>
                    </a:lnTo>
                    <a:lnTo>
                      <a:pt x="708" y="401"/>
                    </a:lnTo>
                    <a:lnTo>
                      <a:pt x="704" y="411"/>
                    </a:lnTo>
                    <a:lnTo>
                      <a:pt x="701" y="418"/>
                    </a:lnTo>
                    <a:lnTo>
                      <a:pt x="698" y="426"/>
                    </a:lnTo>
                    <a:lnTo>
                      <a:pt x="695" y="433"/>
                    </a:lnTo>
                    <a:lnTo>
                      <a:pt x="695" y="433"/>
                    </a:lnTo>
                    <a:lnTo>
                      <a:pt x="690" y="442"/>
                    </a:lnTo>
                    <a:lnTo>
                      <a:pt x="687" y="450"/>
                    </a:lnTo>
                    <a:lnTo>
                      <a:pt x="683" y="460"/>
                    </a:lnTo>
                    <a:lnTo>
                      <a:pt x="681" y="469"/>
                    </a:lnTo>
                    <a:lnTo>
                      <a:pt x="677" y="477"/>
                    </a:lnTo>
                    <a:lnTo>
                      <a:pt x="675" y="486"/>
                    </a:lnTo>
                    <a:lnTo>
                      <a:pt x="674" y="496"/>
                    </a:lnTo>
                    <a:lnTo>
                      <a:pt x="673" y="505"/>
                    </a:lnTo>
                    <a:lnTo>
                      <a:pt x="673" y="505"/>
                    </a:lnTo>
                    <a:lnTo>
                      <a:pt x="672" y="512"/>
                    </a:lnTo>
                    <a:lnTo>
                      <a:pt x="669" y="520"/>
                    </a:lnTo>
                    <a:lnTo>
                      <a:pt x="667" y="527"/>
                    </a:lnTo>
                    <a:lnTo>
                      <a:pt x="665" y="535"/>
                    </a:lnTo>
                    <a:lnTo>
                      <a:pt x="660" y="542"/>
                    </a:lnTo>
                    <a:lnTo>
                      <a:pt x="656" y="550"/>
                    </a:lnTo>
                    <a:lnTo>
                      <a:pt x="652" y="557"/>
                    </a:lnTo>
                    <a:lnTo>
                      <a:pt x="646" y="564"/>
                    </a:lnTo>
                    <a:lnTo>
                      <a:pt x="646" y="564"/>
                    </a:lnTo>
                    <a:lnTo>
                      <a:pt x="641" y="571"/>
                    </a:lnTo>
                    <a:lnTo>
                      <a:pt x="637" y="577"/>
                    </a:lnTo>
                    <a:lnTo>
                      <a:pt x="632" y="584"/>
                    </a:lnTo>
                    <a:lnTo>
                      <a:pt x="627" y="591"/>
                    </a:lnTo>
                    <a:lnTo>
                      <a:pt x="624" y="598"/>
                    </a:lnTo>
                    <a:lnTo>
                      <a:pt x="620" y="605"/>
                    </a:lnTo>
                    <a:lnTo>
                      <a:pt x="617" y="613"/>
                    </a:lnTo>
                    <a:lnTo>
                      <a:pt x="615" y="620"/>
                    </a:lnTo>
                    <a:lnTo>
                      <a:pt x="615" y="620"/>
                    </a:lnTo>
                    <a:lnTo>
                      <a:pt x="612" y="630"/>
                    </a:lnTo>
                    <a:lnTo>
                      <a:pt x="610" y="639"/>
                    </a:lnTo>
                    <a:lnTo>
                      <a:pt x="606" y="647"/>
                    </a:lnTo>
                    <a:lnTo>
                      <a:pt x="604" y="653"/>
                    </a:lnTo>
                    <a:lnTo>
                      <a:pt x="601" y="657"/>
                    </a:lnTo>
                    <a:lnTo>
                      <a:pt x="597" y="660"/>
                    </a:lnTo>
                    <a:lnTo>
                      <a:pt x="593" y="662"/>
                    </a:lnTo>
                    <a:lnTo>
                      <a:pt x="589" y="662"/>
                    </a:lnTo>
                    <a:lnTo>
                      <a:pt x="589" y="662"/>
                    </a:lnTo>
                    <a:lnTo>
                      <a:pt x="590" y="663"/>
                    </a:lnTo>
                    <a:lnTo>
                      <a:pt x="593" y="665"/>
                    </a:lnTo>
                    <a:lnTo>
                      <a:pt x="594" y="667"/>
                    </a:lnTo>
                    <a:lnTo>
                      <a:pt x="595" y="668"/>
                    </a:lnTo>
                    <a:lnTo>
                      <a:pt x="595" y="668"/>
                    </a:lnTo>
                    <a:lnTo>
                      <a:pt x="595" y="671"/>
                    </a:lnTo>
                    <a:lnTo>
                      <a:pt x="594" y="675"/>
                    </a:lnTo>
                    <a:lnTo>
                      <a:pt x="594" y="677"/>
                    </a:lnTo>
                    <a:lnTo>
                      <a:pt x="593" y="678"/>
                    </a:lnTo>
                    <a:lnTo>
                      <a:pt x="593" y="678"/>
                    </a:lnTo>
                    <a:lnTo>
                      <a:pt x="588" y="680"/>
                    </a:lnTo>
                    <a:lnTo>
                      <a:pt x="583" y="683"/>
                    </a:lnTo>
                    <a:lnTo>
                      <a:pt x="577" y="684"/>
                    </a:lnTo>
                    <a:lnTo>
                      <a:pt x="570" y="685"/>
                    </a:lnTo>
                    <a:lnTo>
                      <a:pt x="565" y="685"/>
                    </a:lnTo>
                    <a:lnTo>
                      <a:pt x="557" y="685"/>
                    </a:lnTo>
                    <a:lnTo>
                      <a:pt x="550" y="685"/>
                    </a:lnTo>
                    <a:lnTo>
                      <a:pt x="541" y="684"/>
                    </a:lnTo>
                    <a:lnTo>
                      <a:pt x="541" y="684"/>
                    </a:lnTo>
                    <a:lnTo>
                      <a:pt x="541" y="686"/>
                    </a:lnTo>
                    <a:lnTo>
                      <a:pt x="543" y="687"/>
                    </a:lnTo>
                    <a:lnTo>
                      <a:pt x="545" y="690"/>
                    </a:lnTo>
                    <a:lnTo>
                      <a:pt x="547" y="692"/>
                    </a:lnTo>
                    <a:lnTo>
                      <a:pt x="547" y="692"/>
                    </a:lnTo>
                    <a:lnTo>
                      <a:pt x="550" y="694"/>
                    </a:lnTo>
                    <a:lnTo>
                      <a:pt x="551" y="697"/>
                    </a:lnTo>
                    <a:lnTo>
                      <a:pt x="551" y="699"/>
                    </a:lnTo>
                    <a:lnTo>
                      <a:pt x="551" y="701"/>
                    </a:lnTo>
                    <a:lnTo>
                      <a:pt x="551" y="701"/>
                    </a:lnTo>
                    <a:lnTo>
                      <a:pt x="544" y="707"/>
                    </a:lnTo>
                    <a:lnTo>
                      <a:pt x="537" y="712"/>
                    </a:lnTo>
                    <a:lnTo>
                      <a:pt x="530" y="715"/>
                    </a:lnTo>
                    <a:lnTo>
                      <a:pt x="522" y="717"/>
                    </a:lnTo>
                    <a:lnTo>
                      <a:pt x="522" y="717"/>
                    </a:lnTo>
                    <a:lnTo>
                      <a:pt x="513" y="717"/>
                    </a:lnTo>
                    <a:lnTo>
                      <a:pt x="505" y="717"/>
                    </a:lnTo>
                    <a:lnTo>
                      <a:pt x="497" y="718"/>
                    </a:lnTo>
                    <a:lnTo>
                      <a:pt x="490" y="718"/>
                    </a:lnTo>
                    <a:lnTo>
                      <a:pt x="490" y="718"/>
                    </a:lnTo>
                    <a:lnTo>
                      <a:pt x="484" y="717"/>
                    </a:lnTo>
                    <a:lnTo>
                      <a:pt x="482" y="715"/>
                    </a:lnTo>
                    <a:lnTo>
                      <a:pt x="482" y="712"/>
                    </a:lnTo>
                    <a:lnTo>
                      <a:pt x="484" y="708"/>
                    </a:lnTo>
                    <a:lnTo>
                      <a:pt x="484" y="708"/>
                    </a:lnTo>
                    <a:lnTo>
                      <a:pt x="477" y="708"/>
                    </a:lnTo>
                    <a:lnTo>
                      <a:pt x="473" y="708"/>
                    </a:lnTo>
                    <a:lnTo>
                      <a:pt x="468" y="707"/>
                    </a:lnTo>
                    <a:lnTo>
                      <a:pt x="465" y="706"/>
                    </a:lnTo>
                    <a:lnTo>
                      <a:pt x="465" y="706"/>
                    </a:lnTo>
                    <a:lnTo>
                      <a:pt x="464" y="705"/>
                    </a:lnTo>
                    <a:lnTo>
                      <a:pt x="464" y="704"/>
                    </a:lnTo>
                    <a:lnTo>
                      <a:pt x="464" y="701"/>
                    </a:lnTo>
                    <a:lnTo>
                      <a:pt x="465" y="698"/>
                    </a:lnTo>
                    <a:lnTo>
                      <a:pt x="465" y="698"/>
                    </a:lnTo>
                    <a:lnTo>
                      <a:pt x="469" y="693"/>
                    </a:lnTo>
                    <a:lnTo>
                      <a:pt x="474" y="690"/>
                    </a:lnTo>
                    <a:lnTo>
                      <a:pt x="477" y="687"/>
                    </a:lnTo>
                    <a:lnTo>
                      <a:pt x="482" y="685"/>
                    </a:lnTo>
                    <a:lnTo>
                      <a:pt x="487" y="683"/>
                    </a:lnTo>
                    <a:lnTo>
                      <a:pt x="491" y="682"/>
                    </a:lnTo>
                    <a:lnTo>
                      <a:pt x="495" y="680"/>
                    </a:lnTo>
                    <a:lnTo>
                      <a:pt x="500" y="680"/>
                    </a:lnTo>
                    <a:lnTo>
                      <a:pt x="500" y="680"/>
                    </a:lnTo>
                    <a:lnTo>
                      <a:pt x="498" y="677"/>
                    </a:lnTo>
                    <a:lnTo>
                      <a:pt x="498" y="675"/>
                    </a:lnTo>
                    <a:lnTo>
                      <a:pt x="501" y="672"/>
                    </a:lnTo>
                    <a:lnTo>
                      <a:pt x="504" y="671"/>
                    </a:lnTo>
                    <a:lnTo>
                      <a:pt x="504" y="671"/>
                    </a:lnTo>
                    <a:lnTo>
                      <a:pt x="505" y="658"/>
                    </a:lnTo>
                    <a:lnTo>
                      <a:pt x="507" y="646"/>
                    </a:lnTo>
                    <a:lnTo>
                      <a:pt x="508" y="632"/>
                    </a:lnTo>
                    <a:lnTo>
                      <a:pt x="509" y="618"/>
                    </a:lnTo>
                    <a:lnTo>
                      <a:pt x="509" y="605"/>
                    </a:lnTo>
                    <a:lnTo>
                      <a:pt x="509" y="591"/>
                    </a:lnTo>
                    <a:lnTo>
                      <a:pt x="508" y="576"/>
                    </a:lnTo>
                    <a:lnTo>
                      <a:pt x="507" y="562"/>
                    </a:lnTo>
                    <a:lnTo>
                      <a:pt x="507" y="562"/>
                    </a:lnTo>
                    <a:lnTo>
                      <a:pt x="501" y="555"/>
                    </a:lnTo>
                    <a:lnTo>
                      <a:pt x="496" y="548"/>
                    </a:lnTo>
                    <a:lnTo>
                      <a:pt x="494" y="541"/>
                    </a:lnTo>
                    <a:lnTo>
                      <a:pt x="493" y="534"/>
                    </a:lnTo>
                    <a:lnTo>
                      <a:pt x="493" y="534"/>
                    </a:lnTo>
                    <a:lnTo>
                      <a:pt x="493" y="526"/>
                    </a:lnTo>
                    <a:lnTo>
                      <a:pt x="491" y="518"/>
                    </a:lnTo>
                    <a:lnTo>
                      <a:pt x="489" y="510"/>
                    </a:lnTo>
                    <a:lnTo>
                      <a:pt x="487" y="503"/>
                    </a:lnTo>
                    <a:lnTo>
                      <a:pt x="487" y="503"/>
                    </a:lnTo>
                    <a:lnTo>
                      <a:pt x="482" y="496"/>
                    </a:lnTo>
                    <a:lnTo>
                      <a:pt x="479" y="489"/>
                    </a:lnTo>
                    <a:lnTo>
                      <a:pt x="475" y="482"/>
                    </a:lnTo>
                    <a:lnTo>
                      <a:pt x="472" y="476"/>
                    </a:lnTo>
                    <a:lnTo>
                      <a:pt x="472" y="476"/>
                    </a:lnTo>
                    <a:lnTo>
                      <a:pt x="468" y="471"/>
                    </a:lnTo>
                    <a:lnTo>
                      <a:pt x="466" y="465"/>
                    </a:lnTo>
                    <a:lnTo>
                      <a:pt x="464" y="461"/>
                    </a:lnTo>
                    <a:lnTo>
                      <a:pt x="461" y="457"/>
                    </a:lnTo>
                    <a:lnTo>
                      <a:pt x="461" y="457"/>
                    </a:lnTo>
                    <a:lnTo>
                      <a:pt x="458" y="453"/>
                    </a:lnTo>
                    <a:lnTo>
                      <a:pt x="454" y="447"/>
                    </a:lnTo>
                    <a:lnTo>
                      <a:pt x="451" y="441"/>
                    </a:lnTo>
                    <a:lnTo>
                      <a:pt x="447" y="434"/>
                    </a:lnTo>
                    <a:lnTo>
                      <a:pt x="444" y="427"/>
                    </a:lnTo>
                    <a:lnTo>
                      <a:pt x="440" y="419"/>
                    </a:lnTo>
                    <a:lnTo>
                      <a:pt x="437" y="410"/>
                    </a:lnTo>
                    <a:lnTo>
                      <a:pt x="433" y="400"/>
                    </a:lnTo>
                    <a:lnTo>
                      <a:pt x="433" y="400"/>
                    </a:lnTo>
                    <a:lnTo>
                      <a:pt x="426" y="391"/>
                    </a:lnTo>
                    <a:lnTo>
                      <a:pt x="421" y="387"/>
                    </a:lnTo>
                    <a:lnTo>
                      <a:pt x="415" y="390"/>
                    </a:lnTo>
                    <a:lnTo>
                      <a:pt x="409" y="397"/>
                    </a:lnTo>
                    <a:lnTo>
                      <a:pt x="409" y="397"/>
                    </a:lnTo>
                    <a:lnTo>
                      <a:pt x="404" y="404"/>
                    </a:lnTo>
                    <a:lnTo>
                      <a:pt x="400" y="412"/>
                    </a:lnTo>
                    <a:lnTo>
                      <a:pt x="395" y="419"/>
                    </a:lnTo>
                    <a:lnTo>
                      <a:pt x="391" y="427"/>
                    </a:lnTo>
                    <a:lnTo>
                      <a:pt x="388" y="434"/>
                    </a:lnTo>
                    <a:lnTo>
                      <a:pt x="386" y="441"/>
                    </a:lnTo>
                    <a:lnTo>
                      <a:pt x="383" y="448"/>
                    </a:lnTo>
                    <a:lnTo>
                      <a:pt x="382" y="455"/>
                    </a:lnTo>
                    <a:lnTo>
                      <a:pt x="382" y="455"/>
                    </a:lnTo>
                    <a:lnTo>
                      <a:pt x="380" y="464"/>
                    </a:lnTo>
                    <a:lnTo>
                      <a:pt x="376" y="472"/>
                    </a:lnTo>
                    <a:lnTo>
                      <a:pt x="373" y="480"/>
                    </a:lnTo>
                    <a:lnTo>
                      <a:pt x="369" y="489"/>
                    </a:lnTo>
                    <a:lnTo>
                      <a:pt x="366" y="494"/>
                    </a:lnTo>
                    <a:lnTo>
                      <a:pt x="362" y="501"/>
                    </a:lnTo>
                    <a:lnTo>
                      <a:pt x="358" y="507"/>
                    </a:lnTo>
                    <a:lnTo>
                      <a:pt x="353" y="512"/>
                    </a:lnTo>
                    <a:lnTo>
                      <a:pt x="353" y="512"/>
                    </a:lnTo>
                    <a:lnTo>
                      <a:pt x="353" y="519"/>
                    </a:lnTo>
                    <a:lnTo>
                      <a:pt x="353" y="526"/>
                    </a:lnTo>
                    <a:lnTo>
                      <a:pt x="352" y="534"/>
                    </a:lnTo>
                    <a:lnTo>
                      <a:pt x="350" y="541"/>
                    </a:lnTo>
                    <a:lnTo>
                      <a:pt x="350" y="541"/>
                    </a:lnTo>
                    <a:lnTo>
                      <a:pt x="346" y="547"/>
                    </a:lnTo>
                    <a:lnTo>
                      <a:pt x="343" y="551"/>
                    </a:lnTo>
                    <a:lnTo>
                      <a:pt x="339" y="555"/>
                    </a:lnTo>
                    <a:lnTo>
                      <a:pt x="336" y="556"/>
                    </a:lnTo>
                    <a:lnTo>
                      <a:pt x="336" y="556"/>
                    </a:lnTo>
                    <a:lnTo>
                      <a:pt x="333" y="562"/>
                    </a:lnTo>
                    <a:lnTo>
                      <a:pt x="332" y="568"/>
                    </a:lnTo>
                    <a:lnTo>
                      <a:pt x="330" y="573"/>
                    </a:lnTo>
                    <a:lnTo>
                      <a:pt x="328" y="579"/>
                    </a:lnTo>
                    <a:lnTo>
                      <a:pt x="328" y="579"/>
                    </a:lnTo>
                    <a:lnTo>
                      <a:pt x="326" y="582"/>
                    </a:lnTo>
                    <a:lnTo>
                      <a:pt x="325" y="585"/>
                    </a:lnTo>
                    <a:lnTo>
                      <a:pt x="324" y="587"/>
                    </a:lnTo>
                    <a:lnTo>
                      <a:pt x="323" y="590"/>
                    </a:lnTo>
                    <a:lnTo>
                      <a:pt x="323" y="590"/>
                    </a:lnTo>
                    <a:lnTo>
                      <a:pt x="322" y="593"/>
                    </a:lnTo>
                    <a:lnTo>
                      <a:pt x="321" y="597"/>
                    </a:lnTo>
                    <a:lnTo>
                      <a:pt x="319" y="599"/>
                    </a:lnTo>
                    <a:lnTo>
                      <a:pt x="318" y="601"/>
                    </a:lnTo>
                    <a:lnTo>
                      <a:pt x="318" y="601"/>
                    </a:lnTo>
                    <a:lnTo>
                      <a:pt x="318" y="604"/>
                    </a:lnTo>
                    <a:lnTo>
                      <a:pt x="317" y="607"/>
                    </a:lnTo>
                    <a:lnTo>
                      <a:pt x="316" y="611"/>
                    </a:lnTo>
                    <a:lnTo>
                      <a:pt x="315" y="614"/>
                    </a:lnTo>
                    <a:lnTo>
                      <a:pt x="315" y="614"/>
                    </a:lnTo>
                    <a:lnTo>
                      <a:pt x="314" y="619"/>
                    </a:lnTo>
                    <a:lnTo>
                      <a:pt x="311" y="623"/>
                    </a:lnTo>
                    <a:lnTo>
                      <a:pt x="310" y="629"/>
                    </a:lnTo>
                    <a:lnTo>
                      <a:pt x="308" y="635"/>
                    </a:lnTo>
                    <a:lnTo>
                      <a:pt x="308" y="635"/>
                    </a:lnTo>
                    <a:lnTo>
                      <a:pt x="304" y="647"/>
                    </a:lnTo>
                    <a:lnTo>
                      <a:pt x="301" y="655"/>
                    </a:lnTo>
                    <a:lnTo>
                      <a:pt x="298" y="661"/>
                    </a:lnTo>
                    <a:lnTo>
                      <a:pt x="296" y="662"/>
                    </a:lnTo>
                    <a:lnTo>
                      <a:pt x="296" y="662"/>
                    </a:lnTo>
                    <a:lnTo>
                      <a:pt x="297" y="664"/>
                    </a:lnTo>
                    <a:lnTo>
                      <a:pt x="298" y="667"/>
                    </a:lnTo>
                    <a:lnTo>
                      <a:pt x="300" y="670"/>
                    </a:lnTo>
                    <a:lnTo>
                      <a:pt x="300" y="675"/>
                    </a:lnTo>
                    <a:lnTo>
                      <a:pt x="300" y="675"/>
                    </a:lnTo>
                    <a:lnTo>
                      <a:pt x="298" y="679"/>
                    </a:lnTo>
                    <a:lnTo>
                      <a:pt x="297" y="684"/>
                    </a:lnTo>
                    <a:lnTo>
                      <a:pt x="294" y="687"/>
                    </a:lnTo>
                    <a:lnTo>
                      <a:pt x="290" y="690"/>
                    </a:lnTo>
                    <a:lnTo>
                      <a:pt x="290" y="690"/>
                    </a:lnTo>
                    <a:lnTo>
                      <a:pt x="286" y="692"/>
                    </a:lnTo>
                    <a:lnTo>
                      <a:pt x="280" y="693"/>
                    </a:lnTo>
                    <a:lnTo>
                      <a:pt x="272" y="694"/>
                    </a:lnTo>
                    <a:lnTo>
                      <a:pt x="262" y="694"/>
                    </a:lnTo>
                    <a:lnTo>
                      <a:pt x="262" y="694"/>
                    </a:lnTo>
                    <a:lnTo>
                      <a:pt x="258" y="694"/>
                    </a:lnTo>
                    <a:lnTo>
                      <a:pt x="252" y="694"/>
                    </a:lnTo>
                    <a:lnTo>
                      <a:pt x="248" y="694"/>
                    </a:lnTo>
                    <a:lnTo>
                      <a:pt x="245" y="694"/>
                    </a:lnTo>
                    <a:lnTo>
                      <a:pt x="245" y="694"/>
                    </a:lnTo>
                    <a:lnTo>
                      <a:pt x="241" y="694"/>
                    </a:lnTo>
                    <a:lnTo>
                      <a:pt x="238" y="694"/>
                    </a:lnTo>
                    <a:lnTo>
                      <a:pt x="236" y="694"/>
                    </a:lnTo>
                    <a:lnTo>
                      <a:pt x="233" y="694"/>
                    </a:lnTo>
                    <a:lnTo>
                      <a:pt x="233" y="694"/>
                    </a:lnTo>
                    <a:lnTo>
                      <a:pt x="231" y="694"/>
                    </a:lnTo>
                    <a:lnTo>
                      <a:pt x="228" y="693"/>
                    </a:lnTo>
                    <a:lnTo>
                      <a:pt x="225" y="693"/>
                    </a:lnTo>
                    <a:lnTo>
                      <a:pt x="222" y="693"/>
                    </a:lnTo>
                    <a:lnTo>
                      <a:pt x="222" y="693"/>
                    </a:lnTo>
                    <a:lnTo>
                      <a:pt x="219" y="691"/>
                    </a:lnTo>
                    <a:lnTo>
                      <a:pt x="217" y="687"/>
                    </a:lnTo>
                    <a:lnTo>
                      <a:pt x="217" y="685"/>
                    </a:lnTo>
                    <a:lnTo>
                      <a:pt x="218" y="683"/>
                    </a:lnTo>
                    <a:lnTo>
                      <a:pt x="218" y="683"/>
                    </a:lnTo>
                    <a:lnTo>
                      <a:pt x="216" y="684"/>
                    </a:lnTo>
                    <a:lnTo>
                      <a:pt x="214" y="684"/>
                    </a:lnTo>
                    <a:lnTo>
                      <a:pt x="211" y="684"/>
                    </a:lnTo>
                    <a:lnTo>
                      <a:pt x="209" y="683"/>
                    </a:lnTo>
                    <a:lnTo>
                      <a:pt x="209" y="683"/>
                    </a:lnTo>
                    <a:lnTo>
                      <a:pt x="208" y="680"/>
                    </a:lnTo>
                    <a:lnTo>
                      <a:pt x="207" y="678"/>
                    </a:lnTo>
                    <a:lnTo>
                      <a:pt x="207" y="675"/>
                    </a:lnTo>
                    <a:lnTo>
                      <a:pt x="207" y="671"/>
                    </a:lnTo>
                    <a:lnTo>
                      <a:pt x="207" y="671"/>
                    </a:lnTo>
                    <a:lnTo>
                      <a:pt x="209" y="668"/>
                    </a:lnTo>
                    <a:lnTo>
                      <a:pt x="211" y="665"/>
                    </a:lnTo>
                    <a:lnTo>
                      <a:pt x="215" y="664"/>
                    </a:lnTo>
                    <a:lnTo>
                      <a:pt x="219" y="664"/>
                    </a:lnTo>
                    <a:lnTo>
                      <a:pt x="219" y="664"/>
                    </a:lnTo>
                    <a:lnTo>
                      <a:pt x="226" y="665"/>
                    </a:lnTo>
                    <a:lnTo>
                      <a:pt x="233" y="665"/>
                    </a:lnTo>
                    <a:lnTo>
                      <a:pt x="239" y="664"/>
                    </a:lnTo>
                    <a:lnTo>
                      <a:pt x="245" y="663"/>
                    </a:lnTo>
                    <a:lnTo>
                      <a:pt x="251" y="662"/>
                    </a:lnTo>
                    <a:lnTo>
                      <a:pt x="255" y="660"/>
                    </a:lnTo>
                    <a:lnTo>
                      <a:pt x="260" y="657"/>
                    </a:lnTo>
                    <a:lnTo>
                      <a:pt x="264" y="655"/>
                    </a:lnTo>
                    <a:lnTo>
                      <a:pt x="264" y="655"/>
                    </a:lnTo>
                    <a:lnTo>
                      <a:pt x="265" y="650"/>
                    </a:lnTo>
                    <a:lnTo>
                      <a:pt x="267" y="643"/>
                    </a:lnTo>
                    <a:lnTo>
                      <a:pt x="271" y="636"/>
                    </a:lnTo>
                    <a:lnTo>
                      <a:pt x="276" y="628"/>
                    </a:lnTo>
                    <a:lnTo>
                      <a:pt x="276" y="628"/>
                    </a:lnTo>
                    <a:lnTo>
                      <a:pt x="282" y="620"/>
                    </a:lnTo>
                    <a:lnTo>
                      <a:pt x="287" y="613"/>
                    </a:lnTo>
                    <a:lnTo>
                      <a:pt x="290" y="607"/>
                    </a:lnTo>
                    <a:lnTo>
                      <a:pt x="294" y="601"/>
                    </a:lnTo>
                    <a:lnTo>
                      <a:pt x="294" y="601"/>
                    </a:lnTo>
                    <a:lnTo>
                      <a:pt x="295" y="596"/>
                    </a:lnTo>
                    <a:lnTo>
                      <a:pt x="297" y="589"/>
                    </a:lnTo>
                    <a:lnTo>
                      <a:pt x="300" y="583"/>
                    </a:lnTo>
                    <a:lnTo>
                      <a:pt x="302" y="577"/>
                    </a:lnTo>
                    <a:lnTo>
                      <a:pt x="302" y="577"/>
                    </a:lnTo>
                    <a:lnTo>
                      <a:pt x="305" y="569"/>
                    </a:lnTo>
                    <a:lnTo>
                      <a:pt x="308" y="561"/>
                    </a:lnTo>
                    <a:lnTo>
                      <a:pt x="310" y="555"/>
                    </a:lnTo>
                    <a:lnTo>
                      <a:pt x="311" y="550"/>
                    </a:lnTo>
                    <a:lnTo>
                      <a:pt x="311" y="550"/>
                    </a:lnTo>
                    <a:lnTo>
                      <a:pt x="311" y="543"/>
                    </a:lnTo>
                    <a:lnTo>
                      <a:pt x="311" y="537"/>
                    </a:lnTo>
                    <a:lnTo>
                      <a:pt x="310" y="533"/>
                    </a:lnTo>
                    <a:lnTo>
                      <a:pt x="310" y="529"/>
                    </a:lnTo>
                    <a:lnTo>
                      <a:pt x="310" y="529"/>
                    </a:lnTo>
                    <a:lnTo>
                      <a:pt x="309" y="525"/>
                    </a:lnTo>
                    <a:lnTo>
                      <a:pt x="310" y="518"/>
                    </a:lnTo>
                    <a:lnTo>
                      <a:pt x="312" y="510"/>
                    </a:lnTo>
                    <a:lnTo>
                      <a:pt x="317" y="498"/>
                    </a:lnTo>
                    <a:lnTo>
                      <a:pt x="317" y="498"/>
                    </a:lnTo>
                    <a:lnTo>
                      <a:pt x="317" y="493"/>
                    </a:lnTo>
                    <a:lnTo>
                      <a:pt x="317" y="489"/>
                    </a:lnTo>
                    <a:lnTo>
                      <a:pt x="316" y="483"/>
                    </a:lnTo>
                    <a:lnTo>
                      <a:pt x="316" y="476"/>
                    </a:lnTo>
                    <a:lnTo>
                      <a:pt x="315" y="469"/>
                    </a:lnTo>
                    <a:lnTo>
                      <a:pt x="314" y="461"/>
                    </a:lnTo>
                    <a:lnTo>
                      <a:pt x="311" y="453"/>
                    </a:lnTo>
                    <a:lnTo>
                      <a:pt x="310" y="443"/>
                    </a:lnTo>
                    <a:lnTo>
                      <a:pt x="310" y="443"/>
                    </a:lnTo>
                    <a:lnTo>
                      <a:pt x="308" y="434"/>
                    </a:lnTo>
                    <a:lnTo>
                      <a:pt x="307" y="427"/>
                    </a:lnTo>
                    <a:lnTo>
                      <a:pt x="305" y="419"/>
                    </a:lnTo>
                    <a:lnTo>
                      <a:pt x="304" y="413"/>
                    </a:lnTo>
                    <a:lnTo>
                      <a:pt x="304" y="407"/>
                    </a:lnTo>
                    <a:lnTo>
                      <a:pt x="304" y="403"/>
                    </a:lnTo>
                    <a:lnTo>
                      <a:pt x="304" y="399"/>
                    </a:lnTo>
                    <a:lnTo>
                      <a:pt x="305" y="396"/>
                    </a:lnTo>
                    <a:lnTo>
                      <a:pt x="305" y="396"/>
                    </a:lnTo>
                    <a:lnTo>
                      <a:pt x="301" y="394"/>
                    </a:lnTo>
                    <a:lnTo>
                      <a:pt x="296" y="393"/>
                    </a:lnTo>
                    <a:lnTo>
                      <a:pt x="290" y="392"/>
                    </a:lnTo>
                    <a:lnTo>
                      <a:pt x="285" y="391"/>
                    </a:lnTo>
                    <a:lnTo>
                      <a:pt x="278" y="389"/>
                    </a:lnTo>
                    <a:lnTo>
                      <a:pt x="271" y="387"/>
                    </a:lnTo>
                    <a:lnTo>
                      <a:pt x="264" y="385"/>
                    </a:lnTo>
                    <a:lnTo>
                      <a:pt x="257" y="383"/>
                    </a:lnTo>
                    <a:lnTo>
                      <a:pt x="258" y="383"/>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55640" y="375840"/>
                <a:ext cx="740520" cy="618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 name="" descr=""/>
            <p:cNvPicPr/>
            <p:nvPr/>
          </p:nvPicPr>
          <p:blipFill>
            <a:blip r:embed="rId2"/>
            <a:srcRect l="2372" t="0" r="68122" b="68513"/>
            <a:stretch/>
          </p:blipFill>
          <p:spPr>
            <a:xfrm>
              <a:off x="34920" y="1843200"/>
              <a:ext cx="1800360" cy="1441440"/>
            </a:xfrm>
            <a:prstGeom prst="rect">
              <a:avLst/>
            </a:prstGeom>
            <a:ln w="0">
              <a:noFill/>
            </a:ln>
          </p:spPr>
        </p:pic>
        <p:pic>
          <p:nvPicPr>
            <p:cNvPr id="83" name="" descr=""/>
            <p:cNvPicPr/>
            <p:nvPr/>
          </p:nvPicPr>
          <p:blipFill>
            <a:blip r:embed="rId3"/>
            <a:srcRect l="35452" t="3161" r="35637" b="66946"/>
            <a:stretch/>
          </p:blipFill>
          <p:spPr>
            <a:xfrm>
              <a:off x="34920" y="3213000"/>
              <a:ext cx="1763640" cy="1368360"/>
            </a:xfrm>
            <a:prstGeom prst="rect">
              <a:avLst/>
            </a:prstGeom>
            <a:ln w="0">
              <a:noFill/>
            </a:ln>
          </p:spPr>
        </p:pic>
        <p:pic>
          <p:nvPicPr>
            <p:cNvPr id="84" name="" descr=""/>
            <p:cNvPicPr/>
            <p:nvPr/>
          </p:nvPicPr>
          <p:blipFill>
            <a:blip r:embed="rId4"/>
            <a:srcRect l="1974" t="3282" r="68807" b="68591"/>
            <a:stretch/>
          </p:blipFill>
          <p:spPr>
            <a:xfrm>
              <a:off x="0" y="4459320"/>
              <a:ext cx="1763640" cy="1274760"/>
            </a:xfrm>
            <a:prstGeom prst="rect">
              <a:avLst/>
            </a:prstGeom>
            <a:ln w="0">
              <a:noFill/>
            </a:ln>
          </p:spPr>
        </p:pic>
        <p:pic>
          <p:nvPicPr>
            <p:cNvPr id="85" name="" descr=""/>
            <p:cNvPicPr/>
            <p:nvPr/>
          </p:nvPicPr>
          <p:blipFill>
            <a:blip r:embed="rId5"/>
            <a:srcRect l="35508" t="3321" r="35229" b="68591"/>
            <a:stretch/>
          </p:blipFill>
          <p:spPr>
            <a:xfrm>
              <a:off x="0" y="5662440"/>
              <a:ext cx="1835280" cy="1222560"/>
            </a:xfrm>
            <a:prstGeom prst="rect">
              <a:avLst/>
            </a:prstGeom>
            <a:ln w="0">
              <a:noFill/>
            </a:ln>
          </p:spPr>
        </p:pic>
        <p:pic>
          <p:nvPicPr>
            <p:cNvPr id="86" name="" descr=""/>
            <p:cNvPicPr/>
            <p:nvPr/>
          </p:nvPicPr>
          <p:blipFill>
            <a:blip r:embed="rId6"/>
            <a:srcRect l="0" t="49548" r="74398" b="0"/>
            <a:stretch/>
          </p:blipFill>
          <p:spPr>
            <a:xfrm>
              <a:off x="108000" y="1052640"/>
              <a:ext cx="1763640" cy="898560"/>
            </a:xfrm>
            <a:prstGeom prst="rect">
              <a:avLst/>
            </a:prstGeom>
            <a:ln w="0">
              <a:noFill/>
            </a:ln>
          </p:spPr>
        </p:pic>
      </p:gr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disney.go.com/disneyvideos/animatedfilms/cinderella/" TargetMode="External"/><Relationship Id="rId2" Type="http://schemas.openxmlformats.org/officeDocument/2006/relationships/hyperlink" Target="http://www.shrek.com/main.html" TargetMode="Externa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
        <p:nvSpPr>
          <p:cNvPr id="133" name="PlaceHolder 1"/>
          <p:cNvSpPr>
            <a:spLocks noGrp="1"/>
          </p:cNvSpPr>
          <p:nvPr>
            <p:ph type="subTitle"/>
          </p:nvPr>
        </p:nvSpPr>
        <p:spPr>
          <a:xfrm>
            <a:off x="1908000" y="3141720"/>
            <a:ext cx="6400800" cy="316872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A Animação</a:t>
            </a:r>
            <a:endParaRPr b="0" lang="en-US" sz="3100" spc="-1" strike="noStrike">
              <a:solidFill>
                <a:srgbClr val="000000"/>
              </a:solidFill>
              <a:latin typeface="Arial"/>
            </a:endParaRPr>
          </a:p>
          <a:p>
            <a:pPr algn="ctr">
              <a:lnSpc>
                <a:spcPct val="7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te I)</a:t>
            </a:r>
            <a:endParaRPr b="0" lang="en-US" sz="31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  </a:t>
            </a:r>
            <a:r>
              <a:rPr b="1" lang="pt-BR" sz="1800" spc="-1" strike="noStrike">
                <a:solidFill>
                  <a:srgbClr val="000000"/>
                </a:solidFill>
                <a:latin typeface="Tahoma"/>
              </a:rPr>
              <a:t>Prof.</a:t>
            </a:r>
            <a:r>
              <a:rPr b="1" lang="pt-BR" sz="1800" spc="-1" strike="noStrike" u="sng" baseline="30000">
                <a:solidFill>
                  <a:srgbClr val="000000"/>
                </a:solidFill>
                <a:uFillTx/>
                <a:latin typeface="Tahoma"/>
              </a:rPr>
              <a:t>a</a:t>
            </a:r>
            <a:r>
              <a:rPr b="1" lang="pt-BR" sz="1800" spc="-1" strike="noStrike">
                <a:solidFill>
                  <a:srgbClr val="000000"/>
                </a:solidFill>
                <a:latin typeface="Tahoma"/>
              </a:rPr>
              <a:t> Joseana Macêdo Fechine</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800" spc="-1" strike="noStrike">
                <a:solidFill>
                  <a:srgbClr val="000000"/>
                </a:solidFill>
                <a:latin typeface="Tahoma"/>
              </a:rPr>
              <a:t>joseana@dsc.ufcg.edu.br</a:t>
            </a:r>
            <a:endParaRPr b="0" lang="en-US" sz="18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rga Horária: 60 horas</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115640" y="1706400"/>
            <a:ext cx="7921800" cy="453096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 animação 2D ou bidimensional</a:t>
            </a:r>
            <a:endParaRPr b="0" lang="en-US" sz="24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É o tipo de animação mais comum. </a:t>
            </a:r>
            <a:endParaRPr b="0" lang="en-US" sz="2200" spc="-1" strike="noStrike">
              <a:solidFill>
                <a:srgbClr val="000000"/>
              </a:solidFill>
              <a:latin typeface="Arial"/>
            </a:endParaRPr>
          </a:p>
          <a:p>
            <a:pPr marL="332640" indent="-33264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Tem apenas largura (eixo do X) e altura (eixo do Y).</a:t>
            </a:r>
            <a:endParaRPr b="0" lang="en-US" sz="2200" spc="-1" strike="noStrike">
              <a:solidFill>
                <a:srgbClr val="000000"/>
              </a:solidFill>
              <a:latin typeface="Arial"/>
            </a:endParaRPr>
          </a:p>
          <a:p>
            <a:pPr marL="332640" indent="-33264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Tradicionalmente, as imagens (quadros) eram desenhadas à mão, uma a uma (normalmente as 24 que compõem cada segundo do filme, podendo ser outro valor até ao limite de 25). Depois de desenhadas em papel transparente, as imagens eram então pintadas à mão. </a:t>
            </a:r>
            <a:endParaRPr b="0" lang="en-US" sz="2200" spc="-1" strike="noStrike">
              <a:solidFill>
                <a:srgbClr val="000000"/>
              </a:solidFill>
              <a:latin typeface="Arial"/>
            </a:endParaRPr>
          </a:p>
          <a:p>
            <a:pPr marL="332640" indent="-33264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lém do processo ser bastante moroso, em relação à pintura, há o risco de as cores não ficarem exatamente iguais devido à necessidade de recorrer à mistura de várias cores para se obter determinados t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b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enas construídas por objetos:</a:t>
            </a:r>
            <a:endParaRPr b="0" lang="en-US" sz="24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ntidades gráficas simples ou compostas;</a:t>
            </a:r>
            <a:endParaRPr b="0" lang="en-US" sz="20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bjetos têm capacidade de movimento e deformação:</a:t>
            </a:r>
            <a:endParaRPr b="0" lang="en-US" sz="24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ntidades que compõem um objeto são transladadas, giradas ou deformada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15640" y="184428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b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formações variam incrementalmente de quadro a quadro:</a:t>
            </a:r>
            <a:endParaRPr b="0" lang="en-US" sz="24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ransmitindo ilusão de movimento.</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900000" y="2707920"/>
            <a:ext cx="1828800" cy="1219320"/>
          </a:xfrm>
          <a:prstGeom prst="rect">
            <a:avLst/>
          </a:prstGeom>
          <a:noFill/>
          <a:ln w="0">
            <a:noFill/>
          </a:ln>
        </p:spPr>
        <p:txBody>
          <a:bodyPr lIns="90360" rIns="90360" tIns="44280" bIns="44280" anchor="t">
            <a:normAutofit/>
          </a:bodyPr>
          <a:p>
            <a:pPr marL="343080" indent="-343080">
              <a:lnSpc>
                <a:spcPct val="90000"/>
              </a:lnSpc>
              <a:spcBef>
                <a:spcPts val="45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nimação construída quadro a quadro:</a:t>
            </a:r>
            <a:endParaRPr b="0" lang="en-US" sz="1800" spc="-1" strike="noStrike">
              <a:solidFill>
                <a:srgbClr val="000000"/>
              </a:solidFill>
              <a:latin typeface="Arial"/>
            </a:endParaRPr>
          </a:p>
        </p:txBody>
      </p:sp>
      <p:pic>
        <p:nvPicPr>
          <p:cNvPr id="174" name="" descr=""/>
          <p:cNvPicPr/>
          <p:nvPr/>
        </p:nvPicPr>
        <p:blipFill>
          <a:blip r:embed="rId1"/>
          <a:stretch/>
        </p:blipFill>
        <p:spPr>
          <a:xfrm>
            <a:off x="2843280" y="1700280"/>
            <a:ext cx="6099120" cy="457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115640" y="1844280"/>
            <a:ext cx="4613400" cy="75564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 de interpolação:</a:t>
            </a:r>
            <a:endParaRPr b="0" lang="en-US" sz="2400" spc="-1" strike="noStrike">
              <a:solidFill>
                <a:srgbClr val="000000"/>
              </a:solidFill>
              <a:latin typeface="Arial"/>
            </a:endParaRPr>
          </a:p>
        </p:txBody>
      </p:sp>
      <p:pic>
        <p:nvPicPr>
          <p:cNvPr id="176" name="" descr=""/>
          <p:cNvPicPr/>
          <p:nvPr/>
        </p:nvPicPr>
        <p:blipFill>
          <a:blip r:embed="rId1"/>
          <a:stretch/>
        </p:blipFill>
        <p:spPr>
          <a:xfrm>
            <a:off x="1258920" y="2852640"/>
            <a:ext cx="7315200" cy="18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0" t="0" r="0" b="3806"/>
          <a:stretch/>
        </p:blipFill>
        <p:spPr>
          <a:xfrm>
            <a:off x="1763640" y="2077920"/>
            <a:ext cx="6408720" cy="4780080"/>
          </a:xfrm>
          <a:prstGeom prst="rect">
            <a:avLst/>
          </a:prstGeom>
          <a:ln w="0">
            <a:noFill/>
          </a:ln>
        </p:spPr>
      </p:pic>
      <p:sp>
        <p:nvSpPr>
          <p:cNvPr id="178" name="PlaceHolder 1"/>
          <p:cNvSpPr>
            <a:spLocks noGrp="1"/>
          </p:cNvSpPr>
          <p:nvPr>
            <p:ph/>
          </p:nvPr>
        </p:nvSpPr>
        <p:spPr>
          <a:xfrm>
            <a:off x="1258560" y="1593720"/>
            <a:ext cx="7488360" cy="395280"/>
          </a:xfrm>
          <a:prstGeom prst="rect">
            <a:avLst/>
          </a:prstGeom>
          <a:noFill/>
          <a:ln w="0">
            <a:noFill/>
          </a:ln>
        </p:spPr>
        <p:txBody>
          <a:bodyPr lIns="90360" rIns="90360" tIns="44280" bIns="442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xemplo de ferramenta para criação de animação</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971280" y="1599840"/>
            <a:ext cx="7993080" cy="755640"/>
          </a:xfrm>
          <a:prstGeom prst="rect">
            <a:avLst/>
          </a:prstGeom>
          <a:noFill/>
          <a:ln w="0">
            <a:noFill/>
          </a:ln>
        </p:spPr>
        <p:txBody>
          <a:bodyPr lIns="90360" rIns="90360" tIns="44280" bIns="44280" anchor="t">
            <a:normAutofit/>
          </a:bodyPr>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Realização de composição com “matte” (silhuetas):</a:t>
            </a:r>
            <a:endParaRPr b="0" lang="en-US" sz="2200" spc="-1" strike="noStrike">
              <a:solidFill>
                <a:srgbClr val="000000"/>
              </a:solidFill>
              <a:latin typeface="Arial"/>
            </a:endParaRPr>
          </a:p>
        </p:txBody>
      </p:sp>
      <p:pic>
        <p:nvPicPr>
          <p:cNvPr id="180" name="" descr=""/>
          <p:cNvPicPr/>
          <p:nvPr/>
        </p:nvPicPr>
        <p:blipFill>
          <a:blip r:embed="rId1"/>
          <a:stretch/>
        </p:blipFill>
        <p:spPr>
          <a:xfrm>
            <a:off x="1979640" y="2205000"/>
            <a:ext cx="5392800" cy="3538440"/>
          </a:xfrm>
          <a:prstGeom prst="rect">
            <a:avLst/>
          </a:prstGeom>
          <a:ln w="0">
            <a:noFill/>
          </a:ln>
        </p:spPr>
      </p:pic>
      <p:sp>
        <p:nvSpPr>
          <p:cNvPr id="181" name=""/>
          <p:cNvSpPr/>
          <p:nvPr/>
        </p:nvSpPr>
        <p:spPr>
          <a:xfrm>
            <a:off x="1116000" y="6021360"/>
            <a:ext cx="777708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Mattes são utilizadas para esconder determinados objetos em uma animação, quando uma silhueta se altera ou se desloca ao longo do tempo, pode criar efeitos de animação, revelando progressivamente determinadas posições da cena.</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835280" y="2276640"/>
            <a:ext cx="6086520" cy="4343400"/>
          </a:xfrm>
          <a:prstGeom prst="rect">
            <a:avLst/>
          </a:prstGeom>
          <a:ln w="0">
            <a:noFill/>
          </a:ln>
        </p:spPr>
      </p:pic>
      <p:sp>
        <p:nvSpPr>
          <p:cNvPr id="183" name=""/>
          <p:cNvSpPr/>
          <p:nvPr/>
        </p:nvSpPr>
        <p:spPr>
          <a:xfrm>
            <a:off x="1403280" y="1700280"/>
            <a:ext cx="6400800" cy="6094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feito de “matte” digi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42920" y="1773360"/>
            <a:ext cx="685800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rPr>
              <a:t>Animação por troca de imagens acionada por script:</a:t>
            </a:r>
            <a:endParaRPr b="0" lang="en-US" sz="2100" spc="-1" strike="noStrike">
              <a:solidFill>
                <a:srgbClr val="000000"/>
              </a:solidFill>
              <a:latin typeface="Arial"/>
            </a:endParaRPr>
          </a:p>
        </p:txBody>
      </p:sp>
      <p:sp>
        <p:nvSpPr>
          <p:cNvPr id="185" name=""/>
          <p:cNvSpPr/>
          <p:nvPr/>
        </p:nvSpPr>
        <p:spPr>
          <a:xfrm>
            <a:off x="1357200" y="2611440"/>
            <a:ext cx="6947280" cy="308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notifybefore idle</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numFrames = 16 – numero de objetos</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obtem objeto atual</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curFrame = mycurframe of self</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obtem quadro que deve ser mostrado</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newFrame = curFrame mod numFrames + 1</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set bounds of rectangle "highlight" of self to \</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bounds of paintobject newFrame of self</a:t>
            </a:r>
            <a:endParaRPr b="0" lang="en-US" sz="16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set myCurFrame of self to newFrame</a:t>
            </a:r>
            <a:endParaRPr b="0" lang="en-US" sz="1600" spc="-1" strike="noStrike">
              <a:solidFill>
                <a:srgbClr val="000000"/>
              </a:solidFill>
              <a:latin typeface="Arial"/>
            </a:endParaRPr>
          </a:p>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rPr>
              <a:t>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187280" y="1844640"/>
            <a:ext cx="685800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rPr>
              <a:t>Animação por troca de imagens acionada por script:</a:t>
            </a:r>
            <a:endParaRPr b="0" lang="en-US" sz="2100" spc="-1" strike="noStrike">
              <a:solidFill>
                <a:srgbClr val="000000"/>
              </a:solidFill>
              <a:latin typeface="Arial"/>
            </a:endParaRPr>
          </a:p>
        </p:txBody>
      </p:sp>
      <p:pic>
        <p:nvPicPr>
          <p:cNvPr id="187" name="" descr=""/>
          <p:cNvPicPr/>
          <p:nvPr/>
        </p:nvPicPr>
        <p:blipFill>
          <a:blip r:embed="rId1"/>
          <a:stretch/>
        </p:blipFill>
        <p:spPr>
          <a:xfrm>
            <a:off x="3092400" y="2606760"/>
            <a:ext cx="3262320" cy="327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87280" y="2060280"/>
            <a:ext cx="7345440" cy="45306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Tópico:</a:t>
            </a:r>
            <a:endParaRPr b="0" lang="en-US" sz="2400" spc="-1" strike="noStrike">
              <a:solidFill>
                <a:srgbClr val="000000"/>
              </a:solidFill>
              <a:latin typeface="Arial"/>
            </a:endParaRPr>
          </a:p>
          <a:p>
            <a:pPr lvl="1" marL="743040" indent="-285840" algn="just">
              <a:lnSpc>
                <a:spcPct val="10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 Animação (Conceitos Básicos)</a:t>
            </a:r>
            <a:endParaRPr b="0" lang="en-US" sz="2400" spc="-1" strike="noStrike">
              <a:solidFill>
                <a:srgbClr val="000000"/>
              </a:solidFill>
              <a:latin typeface="Arial"/>
            </a:endParaRPr>
          </a:p>
          <a:p>
            <a:pPr lvl="2" marL="1143000" indent="-228600">
              <a:spcBef>
                <a:spcPts val="550"/>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nimação e computadores</a:t>
            </a:r>
            <a:endParaRPr b="0" lang="en-US" sz="2200" spc="-1" strike="noStrike">
              <a:solidFill>
                <a:srgbClr val="000000"/>
              </a:solidFill>
              <a:latin typeface="Arial"/>
            </a:endParaRPr>
          </a:p>
          <a:p>
            <a:pPr lvl="2" marL="1143000" indent="-228600">
              <a:spcBef>
                <a:spcPts val="550"/>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nimação tridimensional</a:t>
            </a:r>
            <a:endParaRPr b="0" lang="en-US" sz="2200" spc="-1" strike="noStrike">
              <a:solidFill>
                <a:srgbClr val="000000"/>
              </a:solidFill>
              <a:latin typeface="Arial"/>
            </a:endParaRPr>
          </a:p>
          <a:p>
            <a:pPr lvl="1" marL="7430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lgn="just">
              <a:lnSpc>
                <a:spcPct val="10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115640" y="191592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rfo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polações bidimensionai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ptura dos setores da imagem de origem;</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licação nos correspondentes do destino.</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258920" y="1557360"/>
            <a:ext cx="251460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rPr>
              <a:t>Edição de morfos:</a:t>
            </a:r>
            <a:endParaRPr b="0" lang="en-US" sz="2100" spc="-1" strike="noStrike">
              <a:solidFill>
                <a:srgbClr val="000000"/>
              </a:solidFill>
              <a:latin typeface="Arial"/>
            </a:endParaRPr>
          </a:p>
        </p:txBody>
      </p:sp>
      <p:pic>
        <p:nvPicPr>
          <p:cNvPr id="190" name="" descr=""/>
          <p:cNvPicPr/>
          <p:nvPr/>
        </p:nvPicPr>
        <p:blipFill>
          <a:blip r:embed="rId1"/>
          <a:stretch/>
        </p:blipFill>
        <p:spPr>
          <a:xfrm>
            <a:off x="1258920" y="2205000"/>
            <a:ext cx="7315200" cy="43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38360" y="4572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nimação e  computadores</a:t>
            </a:r>
            <a:endParaRPr b="0" lang="en-US" sz="3600" spc="-1" strike="noStrike">
              <a:solidFill>
                <a:srgbClr val="000000"/>
              </a:solidFill>
              <a:latin typeface="Arial"/>
            </a:endParaRPr>
          </a:p>
        </p:txBody>
      </p:sp>
      <p:sp>
        <p:nvSpPr>
          <p:cNvPr id="192" name=""/>
          <p:cNvSpPr/>
          <p:nvPr/>
        </p:nvSpPr>
        <p:spPr>
          <a:xfrm>
            <a:off x="3557520" y="6400800"/>
            <a:ext cx="3353040" cy="4572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rPr>
              <a:t>Resultado de morfo.</a:t>
            </a:r>
            <a:endParaRPr b="0" lang="en-US" sz="2100" spc="-1" strike="noStrike">
              <a:solidFill>
                <a:srgbClr val="000000"/>
              </a:solidFill>
              <a:latin typeface="Arial"/>
            </a:endParaRPr>
          </a:p>
        </p:txBody>
      </p:sp>
      <p:pic>
        <p:nvPicPr>
          <p:cNvPr id="193" name="" descr=""/>
          <p:cNvPicPr/>
          <p:nvPr/>
        </p:nvPicPr>
        <p:blipFill>
          <a:blip r:embed="rId1"/>
          <a:stretch/>
        </p:blipFill>
        <p:spPr>
          <a:xfrm>
            <a:off x="1116000" y="549360"/>
            <a:ext cx="7848720" cy="58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115640" y="1699920"/>
            <a:ext cx="7488360" cy="45306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 animação 3D ou tridimensional</a:t>
            </a:r>
            <a:endParaRPr b="0" lang="en-US" sz="24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Desenhar uma imagem a três dimensões implica considerar os vários ângulos sob os quais essa imagem pode ser observada. </a:t>
            </a:r>
            <a:endParaRPr b="0" lang="en-US" sz="2200" spc="-1" strike="noStrike">
              <a:solidFill>
                <a:srgbClr val="000000"/>
              </a:solidFill>
              <a:latin typeface="Arial"/>
            </a:endParaRPr>
          </a:p>
          <a:p>
            <a:pPr marL="339480" indent="-3394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s técnicas de criação de imagens 3D são utilizadas hoje frequentemente para criar efeitos especiais no cinema e nos jogos de computador. </a:t>
            </a:r>
            <a:endParaRPr b="0" lang="en-US" sz="2200" spc="-1" strike="noStrike">
              <a:solidFill>
                <a:srgbClr val="000000"/>
              </a:solidFill>
              <a:latin typeface="Arial"/>
            </a:endParaRPr>
          </a:p>
          <a:p>
            <a:pPr marL="339480" indent="-3394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A sua utilização não se restringe à área do entretenimento. Nos vários setores da indústria, a criação de protótipos baseados em modelos tridimensionais (X, Y e Z) é hoje um elemento essencial do processo de projeto e concepção de produ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971280" y="177300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tr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cura simular filmagens no mundo re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ermite a visualização de objetos 3D por todos os ângulo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odelagem requer técnicas avançad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aboração das imagens requer processamento muito intensivo.</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1042560" y="177300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licações da animação tr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ublicidade e vinhet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tretenimento: filmes, jogos e parque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isualização técnica e científica:</a:t>
            </a:r>
            <a:endParaRPr b="0" lang="en-US" sz="24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imulações;</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aquetas virtuais;</a:t>
            </a:r>
            <a:endParaRPr b="0" lang="en-US" sz="2000" spc="-1" strike="noStrike">
              <a:solidFill>
                <a:srgbClr val="000000"/>
              </a:solidFill>
              <a:latin typeface="Arial"/>
            </a:endParaRPr>
          </a:p>
          <a:p>
            <a:pPr lvl="2" marL="1143000" indent="-22860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magens médicas.</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115640" y="177300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 ciclo da animação tr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odelagem;</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abor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eografia;</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ós-produção.</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971280" y="169992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unções típicas dos editores de animação 3D:</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dição gráfica 2D;</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dição gráfica 3D;</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labor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reografia;</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ós-produção.</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971280" y="159984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reografia - técnicas básic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polação entre </a:t>
            </a:r>
            <a:r>
              <a:rPr b="1" lang="pt-BR" sz="2400" spc="-1" strike="noStrike">
                <a:solidFill>
                  <a:srgbClr val="000000"/>
                </a:solidFill>
                <a:latin typeface="Arial"/>
              </a:rPr>
              <a:t>quadros-chave</a:t>
            </a:r>
            <a:r>
              <a:rPr b="0" lang="pt-BR" sz="2400" spc="-1" strike="noStrike">
                <a:solidFill>
                  <a:srgbClr val="000000"/>
                </a:solidFill>
                <a:latin typeface="Arial"/>
              </a:rPr>
              <a:t> modelados manualmente;</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trajetórias são interpoladas por curvas cúbicas, para ter-se movimento mais suave;</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quadros-chave devem captar os movimentos essenciais.</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042920" y="1628640"/>
            <a:ext cx="7772400" cy="60984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terpolação tridimensional simples:</a:t>
            </a:r>
            <a:endParaRPr b="0" lang="en-US" sz="2400" spc="-1" strike="noStrike">
              <a:solidFill>
                <a:srgbClr val="000000"/>
              </a:solidFill>
              <a:latin typeface="Arial"/>
            </a:endParaRPr>
          </a:p>
        </p:txBody>
      </p:sp>
      <p:pic>
        <p:nvPicPr>
          <p:cNvPr id="201" name="" descr=""/>
          <p:cNvPicPr/>
          <p:nvPr/>
        </p:nvPicPr>
        <p:blipFill>
          <a:blip r:embed="rId1"/>
          <a:stretch/>
        </p:blipFill>
        <p:spPr>
          <a:xfrm>
            <a:off x="1828800" y="2133720"/>
            <a:ext cx="5791320" cy="4351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87280" y="1628640"/>
            <a:ext cx="7345440" cy="4530960"/>
          </a:xfrm>
          <a:prstGeom prst="rect">
            <a:avLst/>
          </a:prstGeom>
          <a:noFill/>
          <a:ln w="0">
            <a:noFill/>
          </a:ln>
        </p:spPr>
        <p:txBody>
          <a:bodyPr lIns="90360" rIns="90360" tIns="44280" bIns="44280" anchor="t">
            <a:normAutofit fontScale="96000"/>
          </a:bodyPr>
          <a:p>
            <a:pPr marL="329040" indent="-3290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são gráficos em seqüência.</a:t>
            </a:r>
            <a:endParaRPr b="0" lang="en-US" sz="2400" spc="-1" strike="noStrike">
              <a:solidFill>
                <a:srgbClr val="000000"/>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por computador</a:t>
            </a:r>
            <a:r>
              <a:rPr b="0" lang="pt-BR" sz="2400" spc="-1" strike="noStrike">
                <a:solidFill>
                  <a:srgbClr val="000000"/>
                </a:solidFill>
                <a:latin typeface="Arial"/>
              </a:rPr>
              <a:t> = processo de exibição de uma sucessão de objetos visuais gerados por computador (a uma taxa suficiente para provocar a sensação de movimento e sem ultrapassar as 25/s).</a:t>
            </a:r>
            <a:endParaRPr b="0" lang="en-US" sz="2400" spc="-1" strike="noStrike">
              <a:solidFill>
                <a:srgbClr val="000000"/>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uma seqüência de gráficos semelhantes que são passadas rapidamente para nos dar a ilusão de movimento. </a:t>
            </a:r>
            <a:endParaRPr b="0" lang="en-US" sz="24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esse conjunto de gráficos semelhantes, o objeto que se pretende animar varia muito pouco, de posição, tamanho e/ou forma, de gráfico para gráfico.</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042920" y="1557000"/>
            <a:ext cx="7772400" cy="60948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terpolação cúbica com quadro-chave:</a:t>
            </a:r>
            <a:endParaRPr b="0" lang="en-US" sz="2400" spc="-1" strike="noStrike">
              <a:solidFill>
                <a:srgbClr val="000000"/>
              </a:solidFill>
              <a:latin typeface="Arial"/>
            </a:endParaRPr>
          </a:p>
        </p:txBody>
      </p:sp>
      <p:pic>
        <p:nvPicPr>
          <p:cNvPr id="203" name="" descr=""/>
          <p:cNvPicPr/>
          <p:nvPr/>
        </p:nvPicPr>
        <p:blipFill>
          <a:blip r:embed="rId1"/>
          <a:stretch/>
        </p:blipFill>
        <p:spPr>
          <a:xfrm>
            <a:off x="1600200" y="2057400"/>
            <a:ext cx="5867280" cy="44053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755640" y="1557000"/>
            <a:ext cx="7772400" cy="60948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nterpolação poligonal com quadro-chave:</a:t>
            </a:r>
            <a:endParaRPr b="0" lang="en-US" sz="2400" spc="-1" strike="noStrike">
              <a:solidFill>
                <a:srgbClr val="000000"/>
              </a:solidFill>
              <a:latin typeface="Arial"/>
            </a:endParaRPr>
          </a:p>
        </p:txBody>
      </p:sp>
      <p:pic>
        <p:nvPicPr>
          <p:cNvPr id="205" name="" descr=""/>
          <p:cNvPicPr/>
          <p:nvPr/>
        </p:nvPicPr>
        <p:blipFill>
          <a:blip r:embed="rId1"/>
          <a:stretch/>
        </p:blipFill>
        <p:spPr>
          <a:xfrm>
            <a:off x="1523880" y="1981080"/>
            <a:ext cx="6248520" cy="4695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971640" y="1557000"/>
            <a:ext cx="7772400" cy="60948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reografia com movimento de câmera:</a:t>
            </a:r>
            <a:endParaRPr b="0" lang="en-US" sz="2400" spc="-1" strike="noStrike">
              <a:solidFill>
                <a:srgbClr val="000000"/>
              </a:solidFill>
              <a:latin typeface="Arial"/>
            </a:endParaRPr>
          </a:p>
        </p:txBody>
      </p:sp>
      <p:pic>
        <p:nvPicPr>
          <p:cNvPr id="207" name="" descr=""/>
          <p:cNvPicPr/>
          <p:nvPr/>
        </p:nvPicPr>
        <p:blipFill>
          <a:blip r:embed="rId1"/>
          <a:stretch/>
        </p:blipFill>
        <p:spPr>
          <a:xfrm>
            <a:off x="1752480" y="1981080"/>
            <a:ext cx="5791320" cy="4343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628640"/>
            <a:ext cx="7772400" cy="60984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reografia com variação de luzes:</a:t>
            </a:r>
            <a:endParaRPr b="0" lang="en-US" sz="2400" spc="-1" strike="noStrike">
              <a:solidFill>
                <a:srgbClr val="000000"/>
              </a:solidFill>
              <a:latin typeface="Arial"/>
            </a:endParaRPr>
          </a:p>
        </p:txBody>
      </p:sp>
      <p:pic>
        <p:nvPicPr>
          <p:cNvPr id="209" name="" descr=""/>
          <p:cNvPicPr/>
          <p:nvPr/>
        </p:nvPicPr>
        <p:blipFill>
          <a:blip r:embed="rId1"/>
          <a:stretch/>
        </p:blipFill>
        <p:spPr>
          <a:xfrm>
            <a:off x="1600200" y="1981080"/>
            <a:ext cx="6172200" cy="4640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900000" y="1628640"/>
            <a:ext cx="7772400" cy="60984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ierarquia de movimentos:</a:t>
            </a:r>
            <a:endParaRPr b="0" lang="en-US" sz="2400" spc="-1" strike="noStrike">
              <a:solidFill>
                <a:srgbClr val="000000"/>
              </a:solidFill>
              <a:latin typeface="Arial"/>
            </a:endParaRPr>
          </a:p>
        </p:txBody>
      </p:sp>
      <p:sp>
        <p:nvSpPr>
          <p:cNvPr id="211" name=""/>
          <p:cNvSpPr/>
          <p:nvPr/>
        </p:nvSpPr>
        <p:spPr>
          <a:xfrm>
            <a:off x="1547640" y="2205000"/>
            <a:ext cx="6705720" cy="446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Cintur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Torso superior</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Braço esquerdo</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Antebraço esquerdo</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Mão esquerd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Braço direito</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Antebraço direito</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Mão direit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Torso inferior</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Coxa esquerd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Perna esquerd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Pé esquerdo</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Coxa direit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Perna direita</a:t>
            </a:r>
            <a:endParaRPr b="0" lang="en-US" sz="16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	</a:t>
            </a:r>
            <a:r>
              <a:rPr b="0" sz="1600" spc="-1" strike="noStrike">
                <a:solidFill>
                  <a:srgbClr val="000000"/>
                </a:solidFill>
                <a:latin typeface="Courier New"/>
              </a:rPr>
              <a:t>Pé direito</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755640" y="1557000"/>
            <a:ext cx="7772400" cy="60948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Hierarquia de movimentos:</a:t>
            </a:r>
            <a:endParaRPr b="0" lang="en-US" sz="2400" spc="-1" strike="noStrike">
              <a:solidFill>
                <a:srgbClr val="000000"/>
              </a:solidFill>
              <a:latin typeface="Arial"/>
            </a:endParaRPr>
          </a:p>
        </p:txBody>
      </p:sp>
      <p:pic>
        <p:nvPicPr>
          <p:cNvPr id="213" name="" descr=""/>
          <p:cNvPicPr/>
          <p:nvPr/>
        </p:nvPicPr>
        <p:blipFill>
          <a:blip r:embed="rId1"/>
          <a:stretch/>
        </p:blipFill>
        <p:spPr>
          <a:xfrm>
            <a:off x="1600200" y="1981080"/>
            <a:ext cx="6248520" cy="4689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971280" y="177300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etamorfose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interpolação entre os vértices de objetos diferente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de ser conseguida de forma mais fácil do que nos morfos bidimensionais, construindo-se o objeto final por transformações de uma cópia do objeto inicial.</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600200"/>
            <a:ext cx="7715160" cy="587520"/>
          </a:xfrm>
          <a:prstGeom prst="rect">
            <a:avLst/>
          </a:prstGeom>
          <a:noFill/>
          <a:ln w="0">
            <a:noFill/>
          </a:ln>
        </p:spPr>
        <p:txBody>
          <a:bodyPr lIns="90360" rIns="90360" tIns="44280" bIns="44280" anchor="t">
            <a:normAutofit/>
          </a:bodyPr>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etamorfose:</a:t>
            </a:r>
            <a:endParaRPr b="0" lang="en-US" sz="2400" spc="-1" strike="noStrike">
              <a:solidFill>
                <a:srgbClr val="000000"/>
              </a:solidFill>
              <a:latin typeface="Arial"/>
            </a:endParaRPr>
          </a:p>
        </p:txBody>
      </p:sp>
      <p:pic>
        <p:nvPicPr>
          <p:cNvPr id="216" name="" descr=""/>
          <p:cNvPicPr/>
          <p:nvPr/>
        </p:nvPicPr>
        <p:blipFill>
          <a:blip r:embed="rId1"/>
          <a:stretch/>
        </p:blipFill>
        <p:spPr>
          <a:xfrm>
            <a:off x="1981080" y="2362320"/>
            <a:ext cx="5477040" cy="41050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115640" y="177300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reografia - técnicas avançad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ovimentos descritos por procedimento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mulação de leis física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ptura de movimentos reai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nguagens de coreografia.</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115640" y="184428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 animação em tempo re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limitada pela velocidade de processament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tilizada em aplicativos com interfaces multimídia;</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licações avançadas em simuladores e realidade virtual.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332000" y="1699920"/>
            <a:ext cx="7345440" cy="45306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Vantagen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mite grandes quantidades de informação e são, por si só, uma fonte de motivação principalmente no caso das criança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lativamente ao vídeo (conjunto de imagens) tem a vantagem de ocupar menos espaço, pois é constituída por um conjunto de gráficos.</a:t>
            </a:r>
            <a:endParaRPr b="0" lang="en-US" sz="2400" spc="-1" strike="noStrike">
              <a:solidFill>
                <a:srgbClr val="000000"/>
              </a:solidFill>
              <a:latin typeface="Arial"/>
            </a:endParaRPr>
          </a:p>
        </p:txBody>
      </p:sp>
      <p:pic>
        <p:nvPicPr>
          <p:cNvPr id="137" name="" descr=""/>
          <p:cNvPicPr/>
          <p:nvPr/>
        </p:nvPicPr>
        <p:blipFill>
          <a:blip r:embed="rId1"/>
          <a:stretch/>
        </p:blipFill>
        <p:spPr>
          <a:xfrm>
            <a:off x="7380360" y="4869000"/>
            <a:ext cx="1303200" cy="1753920"/>
          </a:xfrm>
          <a:prstGeom prst="rect">
            <a:avLst/>
          </a:prstGeom>
          <a:ln w="0">
            <a:noFill/>
          </a:ln>
        </p:spPr>
      </p:pic>
      <p:pic>
        <p:nvPicPr>
          <p:cNvPr id="138" name="" descr=""/>
          <p:cNvPicPr/>
          <p:nvPr/>
        </p:nvPicPr>
        <p:blipFill>
          <a:blip r:embed="rId2"/>
          <a:stretch/>
        </p:blipFill>
        <p:spPr>
          <a:xfrm>
            <a:off x="1763640" y="5157720"/>
            <a:ext cx="1847880" cy="13906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042560" y="1773000"/>
            <a:ext cx="771516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mplificação da elabor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ção da resolu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ção da taxa de anim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lgoritmos simplificados de elaboração;</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115640" y="1916280"/>
            <a:ext cx="7715160" cy="327168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implificação da elaboração:</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ecução em hardware de operações críticas:</a:t>
            </a:r>
            <a:endParaRPr b="0" lang="en-US" sz="2000" spc="-1" strike="noStrike">
              <a:solidFill>
                <a:srgbClr val="000000"/>
              </a:solidFill>
              <a:latin typeface="Arial"/>
            </a:endParaRPr>
          </a:p>
          <a:p>
            <a:pPr lvl="2" marL="1143000" indent="-22860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ransformações lineares;</a:t>
            </a:r>
            <a:endParaRPr b="0" lang="en-US" sz="1800" spc="-1" strike="noStrike">
              <a:solidFill>
                <a:srgbClr val="000000"/>
              </a:solidFill>
              <a:latin typeface="Arial"/>
            </a:endParaRPr>
          </a:p>
          <a:p>
            <a:pPr lvl="2" marL="1143000" indent="-22860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rojeções;</a:t>
            </a:r>
            <a:endParaRPr b="0" lang="en-US" sz="1800" spc="-1" strike="noStrike">
              <a:solidFill>
                <a:srgbClr val="000000"/>
              </a:solidFill>
              <a:latin typeface="Arial"/>
            </a:endParaRPr>
          </a:p>
          <a:p>
            <a:pPr lvl="2" marL="1143000" indent="-22860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laboração de polígonos;</a:t>
            </a:r>
            <a:endParaRPr b="0" lang="en-US" sz="1800" spc="-1" strike="noStrike">
              <a:solidFill>
                <a:srgbClr val="000000"/>
              </a:solidFill>
              <a:latin typeface="Arial"/>
            </a:endParaRPr>
          </a:p>
          <a:p>
            <a:pPr lvl="2" marL="1143000" indent="-22860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emória de profundidade;</a:t>
            </a:r>
            <a:endParaRPr b="0" lang="en-US" sz="1800" spc="-1" strike="noStrike">
              <a:solidFill>
                <a:srgbClr val="000000"/>
              </a:solidFill>
              <a:latin typeface="Arial"/>
            </a:endParaRPr>
          </a:p>
          <a:p>
            <a:pPr lvl="2" marL="1143000" indent="-22860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étodo de Gouraud. </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1402920" y="3068640"/>
            <a:ext cx="2133720" cy="1905120"/>
          </a:xfrm>
          <a:prstGeom prst="rect">
            <a:avLst/>
          </a:prstGeom>
          <a:noFill/>
          <a:ln w="0">
            <a:noFill/>
          </a:ln>
        </p:spPr>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nimação com DirectX:</a:t>
            </a:r>
            <a:endParaRPr b="0" lang="en-US" sz="2000" spc="-1" strike="noStrike">
              <a:solidFill>
                <a:srgbClr val="000000"/>
              </a:solidFill>
              <a:latin typeface="Arial"/>
            </a:endParaRPr>
          </a:p>
        </p:txBody>
      </p:sp>
      <p:grpSp>
        <p:nvGrpSpPr>
          <p:cNvPr id="222" name=""/>
          <p:cNvGrpSpPr/>
          <p:nvPr/>
        </p:nvGrpSpPr>
        <p:grpSpPr>
          <a:xfrm>
            <a:off x="3924360" y="1700280"/>
            <a:ext cx="4724280" cy="4836960"/>
            <a:chOff x="3924360" y="1700280"/>
            <a:chExt cx="4724280" cy="4836960"/>
          </a:xfrm>
        </p:grpSpPr>
        <p:pic>
          <p:nvPicPr>
            <p:cNvPr id="223" name="" descr=""/>
            <p:cNvPicPr/>
            <p:nvPr/>
          </p:nvPicPr>
          <p:blipFill>
            <a:blip r:embed="rId1"/>
            <a:stretch/>
          </p:blipFill>
          <p:spPr>
            <a:xfrm>
              <a:off x="3924360" y="1700280"/>
              <a:ext cx="2263680" cy="2363760"/>
            </a:xfrm>
            <a:prstGeom prst="rect">
              <a:avLst/>
            </a:prstGeom>
            <a:ln w="0">
              <a:noFill/>
            </a:ln>
          </p:spPr>
        </p:pic>
        <p:pic>
          <p:nvPicPr>
            <p:cNvPr id="224" name="" descr=""/>
            <p:cNvPicPr/>
            <p:nvPr/>
          </p:nvPicPr>
          <p:blipFill>
            <a:blip r:embed="rId2"/>
            <a:stretch/>
          </p:blipFill>
          <p:spPr>
            <a:xfrm>
              <a:off x="6362640" y="1700280"/>
              <a:ext cx="2286000" cy="2363760"/>
            </a:xfrm>
            <a:prstGeom prst="rect">
              <a:avLst/>
            </a:prstGeom>
            <a:ln w="0">
              <a:noFill/>
            </a:ln>
          </p:spPr>
        </p:pic>
        <p:pic>
          <p:nvPicPr>
            <p:cNvPr id="225" name="" descr=""/>
            <p:cNvPicPr/>
            <p:nvPr/>
          </p:nvPicPr>
          <p:blipFill>
            <a:blip r:embed="rId3"/>
            <a:stretch/>
          </p:blipFill>
          <p:spPr>
            <a:xfrm>
              <a:off x="3924360" y="4214880"/>
              <a:ext cx="2232000" cy="2322360"/>
            </a:xfrm>
            <a:prstGeom prst="rect">
              <a:avLst/>
            </a:prstGeom>
            <a:ln w="0">
              <a:noFill/>
            </a:ln>
          </p:spPr>
        </p:pic>
        <p:pic>
          <p:nvPicPr>
            <p:cNvPr id="226" name="" descr=""/>
            <p:cNvPicPr/>
            <p:nvPr/>
          </p:nvPicPr>
          <p:blipFill>
            <a:blip r:embed="rId4"/>
            <a:stretch/>
          </p:blipFill>
          <p:spPr>
            <a:xfrm>
              <a:off x="6362640" y="4214880"/>
              <a:ext cx="2230560" cy="2322360"/>
            </a:xfrm>
            <a:prstGeom prst="rect">
              <a:avLst/>
            </a:prstGeom>
            <a:ln w="0">
              <a:noFill/>
            </a:ln>
          </p:spPr>
        </p:pic>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042560" y="1628640"/>
            <a:ext cx="6172200" cy="533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reografia no 3D Studio:</a:t>
            </a:r>
            <a:endParaRPr b="0" lang="en-US" sz="2400" spc="-1" strike="noStrike">
              <a:solidFill>
                <a:srgbClr val="000000"/>
              </a:solidFill>
              <a:latin typeface="Arial"/>
            </a:endParaRPr>
          </a:p>
        </p:txBody>
      </p:sp>
      <p:pic>
        <p:nvPicPr>
          <p:cNvPr id="228" name="" descr=""/>
          <p:cNvPicPr/>
          <p:nvPr/>
        </p:nvPicPr>
        <p:blipFill>
          <a:blip r:embed="rId1"/>
          <a:stretch/>
        </p:blipFill>
        <p:spPr>
          <a:xfrm>
            <a:off x="1258920" y="2637000"/>
            <a:ext cx="7338960" cy="33224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ormatos Típicos</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LI</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FLC</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MMM</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SC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187280" y="1628640"/>
            <a:ext cx="7715520" cy="4530960"/>
          </a:xfrm>
          <a:prstGeom prst="rect">
            <a:avLst/>
          </a:prstGeom>
          <a:noFill/>
          <a:ln w="0">
            <a:noFill/>
          </a:ln>
        </p:spPr>
        <p:txBody>
          <a:bodyPr lIns="90000" rIns="90000" tIns="46800" bIns="46800"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ormatos Típicos</a:t>
            </a:r>
            <a:endParaRPr b="0" lang="en-US" sz="2400" spc="-1" strike="noStrike">
              <a:solidFill>
                <a:srgbClr val="000000"/>
              </a:solidFill>
              <a:latin typeface="Arial"/>
            </a:endParaRPr>
          </a:p>
          <a:p>
            <a:pPr marL="3052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5280" indent="-3052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lguns formatos foram criados especialmente para conter animações e podem ser portados para outras aplicações usando alguns tradutores.</a:t>
            </a:r>
            <a:endParaRPr b="0" lang="en-US" sz="2400" spc="-1" strike="noStrike">
              <a:solidFill>
                <a:srgbClr val="000000"/>
              </a:solidFill>
              <a:latin typeface="Arial"/>
            </a:endParaRPr>
          </a:p>
          <a:p>
            <a:pPr marL="3052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5280" indent="-3052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emplos:</a:t>
            </a:r>
            <a:endParaRPr b="0" lang="en-US" sz="24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irector (dir)</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nimator Pro (fli e flc) </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tudio Max (max)</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Windows Audio Video Interleaved (avi)</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tion Video (mpeg ou mpg) </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puServe (gif) </a:t>
            </a:r>
            <a:endParaRPr b="0" lang="en-US" sz="2000" spc="-1" strike="noStrike">
              <a:solidFill>
                <a:srgbClr val="000000"/>
              </a:solidFill>
              <a:latin typeface="Arial"/>
            </a:endParaRPr>
          </a:p>
          <a:p>
            <a:pPr lvl="1" marL="660960" indent="-2541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hockwave (dcr). </a:t>
            </a:r>
            <a:endParaRPr b="0" lang="en-US" sz="2000" spc="-1" strike="noStrike">
              <a:solidFill>
                <a:srgbClr val="000000"/>
              </a:solidFill>
              <a:latin typeface="Arial"/>
            </a:endParaRPr>
          </a:p>
          <a:p>
            <a:pPr lvl="1" marL="66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87280" y="1773000"/>
            <a:ext cx="77155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ormatos Típicos</a:t>
            </a: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o o tamanho do arquivo é um fator crucial para usar animação em páginas da Web, compressão de arquivos é uma parte essencial da criação de arquivos de animação para a Web.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filme criado pelo Director, por exemplo, deve ser pré processado e comprimido no formato Shockwave (dcr) para ser disponibilizado na Web.</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pressão para filmes do Director pode reduzir em até 75% o tamanho do arquivo o que é extremamente importante para a Inter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16000" y="1850760"/>
            <a:ext cx="79567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Ótimos Exemplos</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u="sng">
                <a:solidFill>
                  <a:srgbClr val="ffcc00"/>
                </a:solidFill>
                <a:uFillTx/>
                <a:latin typeface="Arial"/>
                <a:hlinkClick r:id="rId1"/>
              </a:rPr>
              <a:t>http://disney.go.com/disneyvideos/animatedfilms/cinderell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u="sng">
                <a:solidFill>
                  <a:srgbClr val="ffcc00"/>
                </a:solidFill>
                <a:uFillTx/>
                <a:latin typeface="Arial"/>
                <a:hlinkClick r:id="rId2"/>
              </a:rPr>
              <a:t>http://www.shrek.com/main.html</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619280" y="1915920"/>
            <a:ext cx="6192720" cy="331308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adiciona impacto visual num projeto multimídia.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de se ter um projeto todo animado ou se pode ter animações em algumas partes do projeto onde se deseja salientar alguns ponto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é mais do que "wipes", "fades" e "zoo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1187280" y="6093000"/>
            <a:ext cx="73454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emplo de animação: http://www.bulbo.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332000" y="1699920"/>
            <a:ext cx="7345440" cy="45306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Vantagen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al como os gráficos “parados”, os gráficos em seqüência (animação) são modificáveis.</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lém do seu uso em filmes, a animação por computador é muito usada em apresentações assistidas por computador para criar efeitos visuais (bullets animadas, gráficos que vão construindo se automaticamente, etc.).</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332000" y="1699920"/>
            <a:ext cx="7345440" cy="45306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Vantagens:</a:t>
            </a:r>
            <a:endParaRPr b="0" lang="en-US" sz="24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alquer filme de Walt Disney ( A Bela e a Fera, Aladim, Bambi,…) é um excelente exemplo da grandiosidade da animação. Este exemplo diz respeito à animação pura.</a:t>
            </a:r>
            <a:endParaRPr b="0" lang="en-US" sz="2400" spc="-1" strike="noStrike">
              <a:solidFill>
                <a:srgbClr val="000000"/>
              </a:solidFill>
              <a:latin typeface="Arial"/>
            </a:endParaRPr>
          </a:p>
          <a:p>
            <a:pPr lvl="3" marL="16002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prática corrente também a integração de vídeo com animaçã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1187280" y="5451480"/>
            <a:ext cx="777744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a técnica de animação que se tornou famosa pela Disney foi o uso progressivo de diferentes desenhos gráficos em cada frame de um filme (24 frames/s) chamada de animação por células (</a:t>
            </a:r>
            <a:r>
              <a:rPr b="0" i="1" lang="en-US" sz="1600" spc="-1" strike="noStrike">
                <a:solidFill>
                  <a:srgbClr val="000000"/>
                </a:solidFill>
                <a:latin typeface="Arial"/>
              </a:rPr>
              <a:t>cell animation</a:t>
            </a:r>
            <a:r>
              <a:rPr b="0" lang="en-US" sz="1600" spc="-1" strike="noStrike">
                <a:solidFill>
                  <a:srgbClr val="000000"/>
                </a:solidFill>
                <a:latin typeface="Arial"/>
              </a:rPr>
              <a:t>). Um minuto de animação requer até 1.440 frames/s. O termo célula deriva do material usado para produzir a frame – folhas de celuloide, atualmente substituídas por acetato ou plástico.</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71280" y="1699920"/>
            <a:ext cx="771516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ipos de animação por computador:</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imação convencional assistida por computador;</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imação bidimension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nimação tridimensional.</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640" y="1773000"/>
            <a:ext cx="7921440" cy="453060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nimação convencional assistida por computador:</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unção principal: armazenamento, composição e edição de desenhos;</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utras funções: colorização, efeitos especiais, sonorizaçã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ocura manter o visual de animação manual.</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042560" y="2491920"/>
            <a:ext cx="3505320" cy="1676520"/>
          </a:xfrm>
          <a:prstGeom prst="rect">
            <a:avLst/>
          </a:prstGeom>
          <a:noFill/>
          <a:ln w="0">
            <a:noFill/>
          </a:ln>
        </p:spPr>
        <p:txBody>
          <a:bodyPr lIns="90360" rIns="90360" tIns="44280" bIns="4428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nstrução de animação convencional:</a:t>
            </a:r>
            <a:endParaRPr b="0" lang="en-US" sz="2400" spc="-1" strike="noStrike">
              <a:solidFill>
                <a:srgbClr val="000000"/>
              </a:solidFill>
              <a:latin typeface="Arial"/>
            </a:endParaRPr>
          </a:p>
        </p:txBody>
      </p:sp>
      <p:grpSp>
        <p:nvGrpSpPr>
          <p:cNvPr id="145" name=""/>
          <p:cNvGrpSpPr/>
          <p:nvPr/>
        </p:nvGrpSpPr>
        <p:grpSpPr>
          <a:xfrm>
            <a:off x="4648320" y="1736640"/>
            <a:ext cx="3230280" cy="4476960"/>
            <a:chOff x="4648320" y="1736640"/>
            <a:chExt cx="3230280" cy="4476960"/>
          </a:xfrm>
        </p:grpSpPr>
        <p:sp>
          <p:nvSpPr>
            <p:cNvPr id="146" name=""/>
            <p:cNvSpPr/>
            <p:nvPr/>
          </p:nvSpPr>
          <p:spPr>
            <a:xfrm>
              <a:off x="4662360" y="4062240"/>
              <a:ext cx="3205440" cy="215136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662360" y="4062240"/>
              <a:ext cx="3205440" cy="2151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664160" y="5124600"/>
              <a:ext cx="3208320" cy="1089000"/>
            </a:xfrm>
            <a:custGeom>
              <a:avLst/>
              <a:gdLst/>
              <a:ahLst/>
              <a:rect l="l" t="t" r="r" b="b"/>
              <a:pathLst>
                <a:path w="6061" h="2058">
                  <a:moveTo>
                    <a:pt x="0" y="310"/>
                  </a:moveTo>
                  <a:lnTo>
                    <a:pt x="10" y="310"/>
                  </a:lnTo>
                  <a:lnTo>
                    <a:pt x="20" y="308"/>
                  </a:lnTo>
                  <a:lnTo>
                    <a:pt x="31" y="306"/>
                  </a:lnTo>
                  <a:lnTo>
                    <a:pt x="43" y="302"/>
                  </a:lnTo>
                  <a:lnTo>
                    <a:pt x="55" y="299"/>
                  </a:lnTo>
                  <a:lnTo>
                    <a:pt x="69" y="294"/>
                  </a:lnTo>
                  <a:lnTo>
                    <a:pt x="82" y="289"/>
                  </a:lnTo>
                  <a:lnTo>
                    <a:pt x="96" y="285"/>
                  </a:lnTo>
                  <a:lnTo>
                    <a:pt x="110" y="279"/>
                  </a:lnTo>
                  <a:lnTo>
                    <a:pt x="122" y="274"/>
                  </a:lnTo>
                  <a:lnTo>
                    <a:pt x="136" y="268"/>
                  </a:lnTo>
                  <a:lnTo>
                    <a:pt x="148" y="264"/>
                  </a:lnTo>
                  <a:lnTo>
                    <a:pt x="161" y="259"/>
                  </a:lnTo>
                  <a:lnTo>
                    <a:pt x="171" y="254"/>
                  </a:lnTo>
                  <a:lnTo>
                    <a:pt x="182" y="251"/>
                  </a:lnTo>
                  <a:lnTo>
                    <a:pt x="191" y="247"/>
                  </a:lnTo>
                  <a:lnTo>
                    <a:pt x="191" y="229"/>
                  </a:lnTo>
                  <a:lnTo>
                    <a:pt x="255" y="212"/>
                  </a:lnTo>
                  <a:lnTo>
                    <a:pt x="260" y="199"/>
                  </a:lnTo>
                  <a:lnTo>
                    <a:pt x="274" y="181"/>
                  </a:lnTo>
                  <a:lnTo>
                    <a:pt x="293" y="160"/>
                  </a:lnTo>
                  <a:lnTo>
                    <a:pt x="318" y="139"/>
                  </a:lnTo>
                  <a:lnTo>
                    <a:pt x="344" y="119"/>
                  </a:lnTo>
                  <a:lnTo>
                    <a:pt x="371" y="103"/>
                  </a:lnTo>
                  <a:lnTo>
                    <a:pt x="396" y="93"/>
                  </a:lnTo>
                  <a:lnTo>
                    <a:pt x="417" y="88"/>
                  </a:lnTo>
                  <a:lnTo>
                    <a:pt x="429" y="71"/>
                  </a:lnTo>
                  <a:lnTo>
                    <a:pt x="446" y="56"/>
                  </a:lnTo>
                  <a:lnTo>
                    <a:pt x="465" y="43"/>
                  </a:lnTo>
                  <a:lnTo>
                    <a:pt x="487" y="32"/>
                  </a:lnTo>
                  <a:lnTo>
                    <a:pt x="512" y="23"/>
                  </a:lnTo>
                  <a:lnTo>
                    <a:pt x="539" y="15"/>
                  </a:lnTo>
                  <a:lnTo>
                    <a:pt x="566" y="9"/>
                  </a:lnTo>
                  <a:lnTo>
                    <a:pt x="598" y="4"/>
                  </a:lnTo>
                  <a:lnTo>
                    <a:pt x="630" y="2"/>
                  </a:lnTo>
                  <a:lnTo>
                    <a:pt x="664" y="0"/>
                  </a:lnTo>
                  <a:lnTo>
                    <a:pt x="699" y="0"/>
                  </a:lnTo>
                  <a:lnTo>
                    <a:pt x="735" y="0"/>
                  </a:lnTo>
                  <a:lnTo>
                    <a:pt x="772" y="2"/>
                  </a:lnTo>
                  <a:lnTo>
                    <a:pt x="811" y="4"/>
                  </a:lnTo>
                  <a:lnTo>
                    <a:pt x="849" y="8"/>
                  </a:lnTo>
                  <a:lnTo>
                    <a:pt x="887" y="12"/>
                  </a:lnTo>
                  <a:lnTo>
                    <a:pt x="927" y="18"/>
                  </a:lnTo>
                  <a:lnTo>
                    <a:pt x="965" y="24"/>
                  </a:lnTo>
                  <a:lnTo>
                    <a:pt x="1004" y="30"/>
                  </a:lnTo>
                  <a:lnTo>
                    <a:pt x="1042" y="37"/>
                  </a:lnTo>
                  <a:lnTo>
                    <a:pt x="1079" y="44"/>
                  </a:lnTo>
                  <a:lnTo>
                    <a:pt x="1115" y="51"/>
                  </a:lnTo>
                  <a:lnTo>
                    <a:pt x="1150" y="58"/>
                  </a:lnTo>
                  <a:lnTo>
                    <a:pt x="1184" y="66"/>
                  </a:lnTo>
                  <a:lnTo>
                    <a:pt x="1216" y="73"/>
                  </a:lnTo>
                  <a:lnTo>
                    <a:pt x="1248" y="81"/>
                  </a:lnTo>
                  <a:lnTo>
                    <a:pt x="1277" y="88"/>
                  </a:lnTo>
                  <a:lnTo>
                    <a:pt x="1303" y="95"/>
                  </a:lnTo>
                  <a:lnTo>
                    <a:pt x="1328" y="101"/>
                  </a:lnTo>
                  <a:lnTo>
                    <a:pt x="1349" y="107"/>
                  </a:lnTo>
                  <a:lnTo>
                    <a:pt x="1369" y="112"/>
                  </a:lnTo>
                  <a:lnTo>
                    <a:pt x="1385" y="117"/>
                  </a:lnTo>
                  <a:lnTo>
                    <a:pt x="1406" y="124"/>
                  </a:lnTo>
                  <a:lnTo>
                    <a:pt x="1428" y="132"/>
                  </a:lnTo>
                  <a:lnTo>
                    <a:pt x="1451" y="143"/>
                  </a:lnTo>
                  <a:lnTo>
                    <a:pt x="1475" y="153"/>
                  </a:lnTo>
                  <a:lnTo>
                    <a:pt x="1500" y="164"/>
                  </a:lnTo>
                  <a:lnTo>
                    <a:pt x="1524" y="175"/>
                  </a:lnTo>
                  <a:lnTo>
                    <a:pt x="1550" y="187"/>
                  </a:lnTo>
                  <a:lnTo>
                    <a:pt x="1575" y="200"/>
                  </a:lnTo>
                  <a:lnTo>
                    <a:pt x="1600" y="211"/>
                  </a:lnTo>
                  <a:lnTo>
                    <a:pt x="1625" y="223"/>
                  </a:lnTo>
                  <a:lnTo>
                    <a:pt x="1651" y="235"/>
                  </a:lnTo>
                  <a:lnTo>
                    <a:pt x="1675" y="246"/>
                  </a:lnTo>
                  <a:lnTo>
                    <a:pt x="1700" y="256"/>
                  </a:lnTo>
                  <a:lnTo>
                    <a:pt x="1722" y="265"/>
                  </a:lnTo>
                  <a:lnTo>
                    <a:pt x="1745" y="273"/>
                  </a:lnTo>
                  <a:lnTo>
                    <a:pt x="1766" y="280"/>
                  </a:lnTo>
                  <a:lnTo>
                    <a:pt x="1824" y="294"/>
                  </a:lnTo>
                  <a:lnTo>
                    <a:pt x="1883" y="307"/>
                  </a:lnTo>
                  <a:lnTo>
                    <a:pt x="1943" y="318"/>
                  </a:lnTo>
                  <a:lnTo>
                    <a:pt x="2003" y="328"/>
                  </a:lnTo>
                  <a:lnTo>
                    <a:pt x="2064" y="337"/>
                  </a:lnTo>
                  <a:lnTo>
                    <a:pt x="2124" y="344"/>
                  </a:lnTo>
                  <a:lnTo>
                    <a:pt x="2185" y="351"/>
                  </a:lnTo>
                  <a:lnTo>
                    <a:pt x="2246" y="357"/>
                  </a:lnTo>
                  <a:lnTo>
                    <a:pt x="2308" y="361"/>
                  </a:lnTo>
                  <a:lnTo>
                    <a:pt x="2369" y="366"/>
                  </a:lnTo>
                  <a:lnTo>
                    <a:pt x="2431" y="369"/>
                  </a:lnTo>
                  <a:lnTo>
                    <a:pt x="2494" y="372"/>
                  </a:lnTo>
                  <a:lnTo>
                    <a:pt x="2555" y="375"/>
                  </a:lnTo>
                  <a:lnTo>
                    <a:pt x="2617" y="378"/>
                  </a:lnTo>
                  <a:lnTo>
                    <a:pt x="2680" y="379"/>
                  </a:lnTo>
                  <a:lnTo>
                    <a:pt x="2741" y="381"/>
                  </a:lnTo>
                  <a:lnTo>
                    <a:pt x="2803" y="383"/>
                  </a:lnTo>
                  <a:lnTo>
                    <a:pt x="2865" y="385"/>
                  </a:lnTo>
                  <a:lnTo>
                    <a:pt x="2926" y="387"/>
                  </a:lnTo>
                  <a:lnTo>
                    <a:pt x="2988" y="389"/>
                  </a:lnTo>
                  <a:lnTo>
                    <a:pt x="3049" y="393"/>
                  </a:lnTo>
                  <a:lnTo>
                    <a:pt x="3110" y="396"/>
                  </a:lnTo>
                  <a:lnTo>
                    <a:pt x="3170" y="400"/>
                  </a:lnTo>
                  <a:lnTo>
                    <a:pt x="3231" y="403"/>
                  </a:lnTo>
                  <a:lnTo>
                    <a:pt x="3290" y="409"/>
                  </a:lnTo>
                  <a:lnTo>
                    <a:pt x="3349" y="415"/>
                  </a:lnTo>
                  <a:lnTo>
                    <a:pt x="3407" y="422"/>
                  </a:lnTo>
                  <a:lnTo>
                    <a:pt x="3466" y="430"/>
                  </a:lnTo>
                  <a:lnTo>
                    <a:pt x="3524" y="438"/>
                  </a:lnTo>
                  <a:lnTo>
                    <a:pt x="3581" y="449"/>
                  </a:lnTo>
                  <a:lnTo>
                    <a:pt x="3636" y="460"/>
                  </a:lnTo>
                  <a:lnTo>
                    <a:pt x="3692" y="473"/>
                  </a:lnTo>
                  <a:lnTo>
                    <a:pt x="3712" y="475"/>
                  </a:lnTo>
                  <a:lnTo>
                    <a:pt x="3735" y="478"/>
                  </a:lnTo>
                  <a:lnTo>
                    <a:pt x="3761" y="480"/>
                  </a:lnTo>
                  <a:lnTo>
                    <a:pt x="3789" y="481"/>
                  </a:lnTo>
                  <a:lnTo>
                    <a:pt x="3818" y="482"/>
                  </a:lnTo>
                  <a:lnTo>
                    <a:pt x="3849" y="483"/>
                  </a:lnTo>
                  <a:lnTo>
                    <a:pt x="3881" y="485"/>
                  </a:lnTo>
                  <a:lnTo>
                    <a:pt x="3912" y="485"/>
                  </a:lnTo>
                  <a:lnTo>
                    <a:pt x="3944" y="485"/>
                  </a:lnTo>
                  <a:lnTo>
                    <a:pt x="3975" y="483"/>
                  </a:lnTo>
                  <a:lnTo>
                    <a:pt x="4005" y="482"/>
                  </a:lnTo>
                  <a:lnTo>
                    <a:pt x="4034" y="481"/>
                  </a:lnTo>
                  <a:lnTo>
                    <a:pt x="4061" y="480"/>
                  </a:lnTo>
                  <a:lnTo>
                    <a:pt x="4085" y="478"/>
                  </a:lnTo>
                  <a:lnTo>
                    <a:pt x="4106" y="475"/>
                  </a:lnTo>
                  <a:lnTo>
                    <a:pt x="4123" y="473"/>
                  </a:lnTo>
                  <a:lnTo>
                    <a:pt x="4163" y="464"/>
                  </a:lnTo>
                  <a:lnTo>
                    <a:pt x="4205" y="454"/>
                  </a:lnTo>
                  <a:lnTo>
                    <a:pt x="4248" y="446"/>
                  </a:lnTo>
                  <a:lnTo>
                    <a:pt x="4293" y="437"/>
                  </a:lnTo>
                  <a:lnTo>
                    <a:pt x="4340" y="429"/>
                  </a:lnTo>
                  <a:lnTo>
                    <a:pt x="4388" y="421"/>
                  </a:lnTo>
                  <a:lnTo>
                    <a:pt x="4437" y="413"/>
                  </a:lnTo>
                  <a:lnTo>
                    <a:pt x="4487" y="404"/>
                  </a:lnTo>
                  <a:lnTo>
                    <a:pt x="4540" y="397"/>
                  </a:lnTo>
                  <a:lnTo>
                    <a:pt x="4592" y="390"/>
                  </a:lnTo>
                  <a:lnTo>
                    <a:pt x="4645" y="385"/>
                  </a:lnTo>
                  <a:lnTo>
                    <a:pt x="4699" y="379"/>
                  </a:lnTo>
                  <a:lnTo>
                    <a:pt x="4753" y="373"/>
                  </a:lnTo>
                  <a:lnTo>
                    <a:pt x="4808" y="368"/>
                  </a:lnTo>
                  <a:lnTo>
                    <a:pt x="4863" y="364"/>
                  </a:lnTo>
                  <a:lnTo>
                    <a:pt x="4919" y="360"/>
                  </a:lnTo>
                  <a:lnTo>
                    <a:pt x="4973" y="357"/>
                  </a:lnTo>
                  <a:lnTo>
                    <a:pt x="5028" y="354"/>
                  </a:lnTo>
                  <a:lnTo>
                    <a:pt x="5082" y="352"/>
                  </a:lnTo>
                  <a:lnTo>
                    <a:pt x="5137" y="352"/>
                  </a:lnTo>
                  <a:lnTo>
                    <a:pt x="5191" y="351"/>
                  </a:lnTo>
                  <a:lnTo>
                    <a:pt x="5244" y="352"/>
                  </a:lnTo>
                  <a:lnTo>
                    <a:pt x="5296" y="353"/>
                  </a:lnTo>
                  <a:lnTo>
                    <a:pt x="5349" y="356"/>
                  </a:lnTo>
                  <a:lnTo>
                    <a:pt x="5399" y="358"/>
                  </a:lnTo>
                  <a:lnTo>
                    <a:pt x="5447" y="363"/>
                  </a:lnTo>
                  <a:lnTo>
                    <a:pt x="5496" y="367"/>
                  </a:lnTo>
                  <a:lnTo>
                    <a:pt x="5543" y="373"/>
                  </a:lnTo>
                  <a:lnTo>
                    <a:pt x="5588" y="380"/>
                  </a:lnTo>
                  <a:lnTo>
                    <a:pt x="5631" y="388"/>
                  </a:lnTo>
                  <a:lnTo>
                    <a:pt x="5673" y="396"/>
                  </a:lnTo>
                  <a:lnTo>
                    <a:pt x="5712" y="407"/>
                  </a:lnTo>
                  <a:lnTo>
                    <a:pt x="5722" y="407"/>
                  </a:lnTo>
                  <a:lnTo>
                    <a:pt x="5733" y="408"/>
                  </a:lnTo>
                  <a:lnTo>
                    <a:pt x="5745" y="410"/>
                  </a:lnTo>
                  <a:lnTo>
                    <a:pt x="5758" y="411"/>
                  </a:lnTo>
                  <a:lnTo>
                    <a:pt x="5772" y="415"/>
                  </a:lnTo>
                  <a:lnTo>
                    <a:pt x="5786" y="417"/>
                  </a:lnTo>
                  <a:lnTo>
                    <a:pt x="5800" y="421"/>
                  </a:lnTo>
                  <a:lnTo>
                    <a:pt x="5814" y="424"/>
                  </a:lnTo>
                  <a:lnTo>
                    <a:pt x="5828" y="429"/>
                  </a:lnTo>
                  <a:lnTo>
                    <a:pt x="5842" y="432"/>
                  </a:lnTo>
                  <a:lnTo>
                    <a:pt x="5854" y="436"/>
                  </a:lnTo>
                  <a:lnTo>
                    <a:pt x="5867" y="440"/>
                  </a:lnTo>
                  <a:lnTo>
                    <a:pt x="5879" y="444"/>
                  </a:lnTo>
                  <a:lnTo>
                    <a:pt x="5889" y="447"/>
                  </a:lnTo>
                  <a:lnTo>
                    <a:pt x="5898" y="451"/>
                  </a:lnTo>
                  <a:lnTo>
                    <a:pt x="5905" y="454"/>
                  </a:lnTo>
                  <a:lnTo>
                    <a:pt x="5905" y="473"/>
                  </a:lnTo>
                  <a:lnTo>
                    <a:pt x="5938" y="473"/>
                  </a:lnTo>
                  <a:lnTo>
                    <a:pt x="5938" y="487"/>
                  </a:lnTo>
                  <a:lnTo>
                    <a:pt x="5940" y="495"/>
                  </a:lnTo>
                  <a:lnTo>
                    <a:pt x="5941" y="500"/>
                  </a:lnTo>
                  <a:lnTo>
                    <a:pt x="5945" y="502"/>
                  </a:lnTo>
                  <a:lnTo>
                    <a:pt x="5947" y="503"/>
                  </a:lnTo>
                  <a:lnTo>
                    <a:pt x="5948" y="506"/>
                  </a:lnTo>
                  <a:lnTo>
                    <a:pt x="5951" y="510"/>
                  </a:lnTo>
                  <a:lnTo>
                    <a:pt x="5951" y="520"/>
                  </a:lnTo>
                  <a:lnTo>
                    <a:pt x="6003" y="520"/>
                  </a:lnTo>
                  <a:lnTo>
                    <a:pt x="6004" y="536"/>
                  </a:lnTo>
                  <a:lnTo>
                    <a:pt x="6008" y="547"/>
                  </a:lnTo>
                  <a:lnTo>
                    <a:pt x="6014" y="557"/>
                  </a:lnTo>
                  <a:lnTo>
                    <a:pt x="6021" y="563"/>
                  </a:lnTo>
                  <a:lnTo>
                    <a:pt x="6029" y="566"/>
                  </a:lnTo>
                  <a:lnTo>
                    <a:pt x="6039" y="567"/>
                  </a:lnTo>
                  <a:lnTo>
                    <a:pt x="6050" y="568"/>
                  </a:lnTo>
                  <a:lnTo>
                    <a:pt x="6061" y="568"/>
                  </a:lnTo>
                  <a:lnTo>
                    <a:pt x="6061" y="580"/>
                  </a:lnTo>
                  <a:lnTo>
                    <a:pt x="6060" y="589"/>
                  </a:lnTo>
                  <a:lnTo>
                    <a:pt x="6057" y="596"/>
                  </a:lnTo>
                  <a:lnTo>
                    <a:pt x="6051" y="599"/>
                  </a:lnTo>
                  <a:lnTo>
                    <a:pt x="6051" y="2058"/>
                  </a:lnTo>
                  <a:lnTo>
                    <a:pt x="0" y="2058"/>
                  </a:lnTo>
                  <a:lnTo>
                    <a:pt x="0" y="310"/>
                  </a:lnTo>
                  <a:close/>
                </a:path>
              </a:pathLst>
            </a:custGeom>
            <a:solidFill>
              <a:srgbClr val="e1e1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664160" y="5124600"/>
              <a:ext cx="3208320" cy="1089000"/>
            </a:xfrm>
            <a:custGeom>
              <a:avLst/>
              <a:gdLst/>
              <a:ahLst/>
              <a:rect l="l" t="t" r="r" b="b"/>
              <a:pathLst>
                <a:path w="6061" h="2058">
                  <a:moveTo>
                    <a:pt x="0" y="310"/>
                  </a:moveTo>
                  <a:lnTo>
                    <a:pt x="0" y="310"/>
                  </a:lnTo>
                  <a:lnTo>
                    <a:pt x="10" y="310"/>
                  </a:lnTo>
                  <a:lnTo>
                    <a:pt x="20" y="308"/>
                  </a:lnTo>
                  <a:lnTo>
                    <a:pt x="31" y="306"/>
                  </a:lnTo>
                  <a:lnTo>
                    <a:pt x="43" y="302"/>
                  </a:lnTo>
                  <a:lnTo>
                    <a:pt x="55" y="299"/>
                  </a:lnTo>
                  <a:lnTo>
                    <a:pt x="69" y="294"/>
                  </a:lnTo>
                  <a:lnTo>
                    <a:pt x="82" y="289"/>
                  </a:lnTo>
                  <a:lnTo>
                    <a:pt x="96" y="285"/>
                  </a:lnTo>
                  <a:lnTo>
                    <a:pt x="110" y="279"/>
                  </a:lnTo>
                  <a:lnTo>
                    <a:pt x="122" y="274"/>
                  </a:lnTo>
                  <a:lnTo>
                    <a:pt x="136" y="268"/>
                  </a:lnTo>
                  <a:lnTo>
                    <a:pt x="148" y="264"/>
                  </a:lnTo>
                  <a:lnTo>
                    <a:pt x="161" y="259"/>
                  </a:lnTo>
                  <a:lnTo>
                    <a:pt x="171" y="254"/>
                  </a:lnTo>
                  <a:lnTo>
                    <a:pt x="182" y="251"/>
                  </a:lnTo>
                  <a:lnTo>
                    <a:pt x="191" y="247"/>
                  </a:lnTo>
                  <a:lnTo>
                    <a:pt x="191" y="229"/>
                  </a:lnTo>
                  <a:lnTo>
                    <a:pt x="255" y="212"/>
                  </a:lnTo>
                  <a:lnTo>
                    <a:pt x="255" y="212"/>
                  </a:lnTo>
                  <a:lnTo>
                    <a:pt x="260" y="199"/>
                  </a:lnTo>
                  <a:lnTo>
                    <a:pt x="274" y="181"/>
                  </a:lnTo>
                  <a:lnTo>
                    <a:pt x="293" y="160"/>
                  </a:lnTo>
                  <a:lnTo>
                    <a:pt x="318" y="139"/>
                  </a:lnTo>
                  <a:lnTo>
                    <a:pt x="344" y="119"/>
                  </a:lnTo>
                  <a:lnTo>
                    <a:pt x="371" y="103"/>
                  </a:lnTo>
                  <a:lnTo>
                    <a:pt x="396" y="93"/>
                  </a:lnTo>
                  <a:lnTo>
                    <a:pt x="417" y="88"/>
                  </a:lnTo>
                  <a:lnTo>
                    <a:pt x="417" y="88"/>
                  </a:lnTo>
                  <a:lnTo>
                    <a:pt x="429" y="71"/>
                  </a:lnTo>
                  <a:lnTo>
                    <a:pt x="446" y="56"/>
                  </a:lnTo>
                  <a:lnTo>
                    <a:pt x="465" y="43"/>
                  </a:lnTo>
                  <a:lnTo>
                    <a:pt x="487" y="32"/>
                  </a:lnTo>
                  <a:lnTo>
                    <a:pt x="512" y="23"/>
                  </a:lnTo>
                  <a:lnTo>
                    <a:pt x="539" y="15"/>
                  </a:lnTo>
                  <a:lnTo>
                    <a:pt x="566" y="9"/>
                  </a:lnTo>
                  <a:lnTo>
                    <a:pt x="598" y="4"/>
                  </a:lnTo>
                  <a:lnTo>
                    <a:pt x="630" y="2"/>
                  </a:lnTo>
                  <a:lnTo>
                    <a:pt x="664" y="0"/>
                  </a:lnTo>
                  <a:lnTo>
                    <a:pt x="699" y="0"/>
                  </a:lnTo>
                  <a:lnTo>
                    <a:pt x="735" y="0"/>
                  </a:lnTo>
                  <a:lnTo>
                    <a:pt x="772" y="2"/>
                  </a:lnTo>
                  <a:lnTo>
                    <a:pt x="811" y="4"/>
                  </a:lnTo>
                  <a:lnTo>
                    <a:pt x="849" y="8"/>
                  </a:lnTo>
                  <a:lnTo>
                    <a:pt x="887" y="12"/>
                  </a:lnTo>
                  <a:lnTo>
                    <a:pt x="927" y="18"/>
                  </a:lnTo>
                  <a:lnTo>
                    <a:pt x="965" y="24"/>
                  </a:lnTo>
                  <a:lnTo>
                    <a:pt x="1004" y="30"/>
                  </a:lnTo>
                  <a:lnTo>
                    <a:pt x="1042" y="37"/>
                  </a:lnTo>
                  <a:lnTo>
                    <a:pt x="1079" y="44"/>
                  </a:lnTo>
                  <a:lnTo>
                    <a:pt x="1115" y="51"/>
                  </a:lnTo>
                  <a:lnTo>
                    <a:pt x="1150" y="58"/>
                  </a:lnTo>
                  <a:lnTo>
                    <a:pt x="1184" y="66"/>
                  </a:lnTo>
                  <a:lnTo>
                    <a:pt x="1216" y="73"/>
                  </a:lnTo>
                  <a:lnTo>
                    <a:pt x="1248" y="81"/>
                  </a:lnTo>
                  <a:lnTo>
                    <a:pt x="1277" y="88"/>
                  </a:lnTo>
                  <a:lnTo>
                    <a:pt x="1303" y="95"/>
                  </a:lnTo>
                  <a:lnTo>
                    <a:pt x="1328" y="101"/>
                  </a:lnTo>
                  <a:lnTo>
                    <a:pt x="1349" y="107"/>
                  </a:lnTo>
                  <a:lnTo>
                    <a:pt x="1369" y="112"/>
                  </a:lnTo>
                  <a:lnTo>
                    <a:pt x="1385" y="117"/>
                  </a:lnTo>
                  <a:lnTo>
                    <a:pt x="1385" y="117"/>
                  </a:lnTo>
                  <a:lnTo>
                    <a:pt x="1406" y="124"/>
                  </a:lnTo>
                  <a:lnTo>
                    <a:pt x="1428" y="132"/>
                  </a:lnTo>
                  <a:lnTo>
                    <a:pt x="1451" y="143"/>
                  </a:lnTo>
                  <a:lnTo>
                    <a:pt x="1475" y="153"/>
                  </a:lnTo>
                  <a:lnTo>
                    <a:pt x="1500" y="164"/>
                  </a:lnTo>
                  <a:lnTo>
                    <a:pt x="1524" y="175"/>
                  </a:lnTo>
                  <a:lnTo>
                    <a:pt x="1550" y="187"/>
                  </a:lnTo>
                  <a:lnTo>
                    <a:pt x="1575" y="200"/>
                  </a:lnTo>
                  <a:lnTo>
                    <a:pt x="1600" y="211"/>
                  </a:lnTo>
                  <a:lnTo>
                    <a:pt x="1625" y="223"/>
                  </a:lnTo>
                  <a:lnTo>
                    <a:pt x="1651" y="235"/>
                  </a:lnTo>
                  <a:lnTo>
                    <a:pt x="1675" y="246"/>
                  </a:lnTo>
                  <a:lnTo>
                    <a:pt x="1700" y="256"/>
                  </a:lnTo>
                  <a:lnTo>
                    <a:pt x="1722" y="265"/>
                  </a:lnTo>
                  <a:lnTo>
                    <a:pt x="1745" y="273"/>
                  </a:lnTo>
                  <a:lnTo>
                    <a:pt x="1766" y="280"/>
                  </a:lnTo>
                  <a:lnTo>
                    <a:pt x="1766" y="280"/>
                  </a:lnTo>
                  <a:lnTo>
                    <a:pt x="1824" y="294"/>
                  </a:lnTo>
                  <a:lnTo>
                    <a:pt x="1883" y="307"/>
                  </a:lnTo>
                  <a:lnTo>
                    <a:pt x="1943" y="318"/>
                  </a:lnTo>
                  <a:lnTo>
                    <a:pt x="2003" y="328"/>
                  </a:lnTo>
                  <a:lnTo>
                    <a:pt x="2064" y="337"/>
                  </a:lnTo>
                  <a:lnTo>
                    <a:pt x="2124" y="344"/>
                  </a:lnTo>
                  <a:lnTo>
                    <a:pt x="2185" y="351"/>
                  </a:lnTo>
                  <a:lnTo>
                    <a:pt x="2246" y="357"/>
                  </a:lnTo>
                  <a:lnTo>
                    <a:pt x="2308" y="361"/>
                  </a:lnTo>
                  <a:lnTo>
                    <a:pt x="2369" y="366"/>
                  </a:lnTo>
                  <a:lnTo>
                    <a:pt x="2431" y="369"/>
                  </a:lnTo>
                  <a:lnTo>
                    <a:pt x="2494" y="372"/>
                  </a:lnTo>
                  <a:lnTo>
                    <a:pt x="2555" y="375"/>
                  </a:lnTo>
                  <a:lnTo>
                    <a:pt x="2617" y="378"/>
                  </a:lnTo>
                  <a:lnTo>
                    <a:pt x="2680" y="379"/>
                  </a:lnTo>
                  <a:lnTo>
                    <a:pt x="2741" y="381"/>
                  </a:lnTo>
                  <a:lnTo>
                    <a:pt x="2803" y="383"/>
                  </a:lnTo>
                  <a:lnTo>
                    <a:pt x="2865" y="385"/>
                  </a:lnTo>
                  <a:lnTo>
                    <a:pt x="2926" y="387"/>
                  </a:lnTo>
                  <a:lnTo>
                    <a:pt x="2988" y="389"/>
                  </a:lnTo>
                  <a:lnTo>
                    <a:pt x="3049" y="393"/>
                  </a:lnTo>
                  <a:lnTo>
                    <a:pt x="3110" y="396"/>
                  </a:lnTo>
                  <a:lnTo>
                    <a:pt x="3170" y="400"/>
                  </a:lnTo>
                  <a:lnTo>
                    <a:pt x="3231" y="403"/>
                  </a:lnTo>
                  <a:lnTo>
                    <a:pt x="3290" y="409"/>
                  </a:lnTo>
                  <a:lnTo>
                    <a:pt x="3349" y="415"/>
                  </a:lnTo>
                  <a:lnTo>
                    <a:pt x="3407" y="422"/>
                  </a:lnTo>
                  <a:lnTo>
                    <a:pt x="3466" y="430"/>
                  </a:lnTo>
                  <a:lnTo>
                    <a:pt x="3524" y="438"/>
                  </a:lnTo>
                  <a:lnTo>
                    <a:pt x="3581" y="449"/>
                  </a:lnTo>
                  <a:lnTo>
                    <a:pt x="3636" y="460"/>
                  </a:lnTo>
                  <a:lnTo>
                    <a:pt x="3692" y="473"/>
                  </a:lnTo>
                  <a:lnTo>
                    <a:pt x="3692" y="473"/>
                  </a:lnTo>
                  <a:lnTo>
                    <a:pt x="3712" y="475"/>
                  </a:lnTo>
                  <a:lnTo>
                    <a:pt x="3735" y="478"/>
                  </a:lnTo>
                  <a:lnTo>
                    <a:pt x="3761" y="480"/>
                  </a:lnTo>
                  <a:lnTo>
                    <a:pt x="3789" y="481"/>
                  </a:lnTo>
                  <a:lnTo>
                    <a:pt x="3818" y="482"/>
                  </a:lnTo>
                  <a:lnTo>
                    <a:pt x="3849" y="483"/>
                  </a:lnTo>
                  <a:lnTo>
                    <a:pt x="3881" y="485"/>
                  </a:lnTo>
                  <a:lnTo>
                    <a:pt x="3912" y="485"/>
                  </a:lnTo>
                  <a:lnTo>
                    <a:pt x="3944" y="485"/>
                  </a:lnTo>
                  <a:lnTo>
                    <a:pt x="3975" y="483"/>
                  </a:lnTo>
                  <a:lnTo>
                    <a:pt x="4005" y="482"/>
                  </a:lnTo>
                  <a:lnTo>
                    <a:pt x="4034" y="481"/>
                  </a:lnTo>
                  <a:lnTo>
                    <a:pt x="4061" y="480"/>
                  </a:lnTo>
                  <a:lnTo>
                    <a:pt x="4085" y="478"/>
                  </a:lnTo>
                  <a:lnTo>
                    <a:pt x="4106" y="475"/>
                  </a:lnTo>
                  <a:lnTo>
                    <a:pt x="4123" y="473"/>
                  </a:lnTo>
                  <a:lnTo>
                    <a:pt x="4123" y="473"/>
                  </a:lnTo>
                  <a:lnTo>
                    <a:pt x="4163" y="464"/>
                  </a:lnTo>
                  <a:lnTo>
                    <a:pt x="4205" y="454"/>
                  </a:lnTo>
                  <a:lnTo>
                    <a:pt x="4248" y="446"/>
                  </a:lnTo>
                  <a:lnTo>
                    <a:pt x="4293" y="437"/>
                  </a:lnTo>
                  <a:lnTo>
                    <a:pt x="4340" y="429"/>
                  </a:lnTo>
                  <a:lnTo>
                    <a:pt x="4388" y="421"/>
                  </a:lnTo>
                  <a:lnTo>
                    <a:pt x="4437" y="413"/>
                  </a:lnTo>
                  <a:lnTo>
                    <a:pt x="4487" y="404"/>
                  </a:lnTo>
                  <a:lnTo>
                    <a:pt x="4540" y="397"/>
                  </a:lnTo>
                  <a:lnTo>
                    <a:pt x="4592" y="390"/>
                  </a:lnTo>
                  <a:lnTo>
                    <a:pt x="4645" y="385"/>
                  </a:lnTo>
                  <a:lnTo>
                    <a:pt x="4699" y="379"/>
                  </a:lnTo>
                  <a:lnTo>
                    <a:pt x="4753" y="373"/>
                  </a:lnTo>
                  <a:lnTo>
                    <a:pt x="4808" y="368"/>
                  </a:lnTo>
                  <a:lnTo>
                    <a:pt x="4863" y="364"/>
                  </a:lnTo>
                  <a:lnTo>
                    <a:pt x="4919" y="360"/>
                  </a:lnTo>
                  <a:lnTo>
                    <a:pt x="4973" y="357"/>
                  </a:lnTo>
                  <a:lnTo>
                    <a:pt x="5028" y="354"/>
                  </a:lnTo>
                  <a:lnTo>
                    <a:pt x="5082" y="352"/>
                  </a:lnTo>
                  <a:lnTo>
                    <a:pt x="5137" y="352"/>
                  </a:lnTo>
                  <a:lnTo>
                    <a:pt x="5191" y="351"/>
                  </a:lnTo>
                  <a:lnTo>
                    <a:pt x="5244" y="352"/>
                  </a:lnTo>
                  <a:lnTo>
                    <a:pt x="5296" y="353"/>
                  </a:lnTo>
                  <a:lnTo>
                    <a:pt x="5349" y="356"/>
                  </a:lnTo>
                  <a:lnTo>
                    <a:pt x="5399" y="358"/>
                  </a:lnTo>
                  <a:lnTo>
                    <a:pt x="5447" y="363"/>
                  </a:lnTo>
                  <a:lnTo>
                    <a:pt x="5496" y="367"/>
                  </a:lnTo>
                  <a:lnTo>
                    <a:pt x="5543" y="373"/>
                  </a:lnTo>
                  <a:lnTo>
                    <a:pt x="5588" y="380"/>
                  </a:lnTo>
                  <a:lnTo>
                    <a:pt x="5631" y="388"/>
                  </a:lnTo>
                  <a:lnTo>
                    <a:pt x="5673" y="396"/>
                  </a:lnTo>
                  <a:lnTo>
                    <a:pt x="5712" y="407"/>
                  </a:lnTo>
                  <a:lnTo>
                    <a:pt x="5712" y="407"/>
                  </a:lnTo>
                  <a:lnTo>
                    <a:pt x="5722" y="407"/>
                  </a:lnTo>
                  <a:lnTo>
                    <a:pt x="5733" y="408"/>
                  </a:lnTo>
                  <a:lnTo>
                    <a:pt x="5745" y="410"/>
                  </a:lnTo>
                  <a:lnTo>
                    <a:pt x="5758" y="411"/>
                  </a:lnTo>
                  <a:lnTo>
                    <a:pt x="5772" y="415"/>
                  </a:lnTo>
                  <a:lnTo>
                    <a:pt x="5786" y="417"/>
                  </a:lnTo>
                  <a:lnTo>
                    <a:pt x="5800" y="421"/>
                  </a:lnTo>
                  <a:lnTo>
                    <a:pt x="5814" y="424"/>
                  </a:lnTo>
                  <a:lnTo>
                    <a:pt x="5828" y="429"/>
                  </a:lnTo>
                  <a:lnTo>
                    <a:pt x="5842" y="432"/>
                  </a:lnTo>
                  <a:lnTo>
                    <a:pt x="5854" y="436"/>
                  </a:lnTo>
                  <a:lnTo>
                    <a:pt x="5867" y="440"/>
                  </a:lnTo>
                  <a:lnTo>
                    <a:pt x="5879" y="444"/>
                  </a:lnTo>
                  <a:lnTo>
                    <a:pt x="5889" y="447"/>
                  </a:lnTo>
                  <a:lnTo>
                    <a:pt x="5898" y="451"/>
                  </a:lnTo>
                  <a:lnTo>
                    <a:pt x="5905" y="454"/>
                  </a:lnTo>
                  <a:lnTo>
                    <a:pt x="5905" y="473"/>
                  </a:lnTo>
                  <a:lnTo>
                    <a:pt x="5938" y="473"/>
                  </a:lnTo>
                  <a:lnTo>
                    <a:pt x="5938" y="473"/>
                  </a:lnTo>
                  <a:lnTo>
                    <a:pt x="5938" y="487"/>
                  </a:lnTo>
                  <a:lnTo>
                    <a:pt x="5940" y="495"/>
                  </a:lnTo>
                  <a:lnTo>
                    <a:pt x="5941" y="500"/>
                  </a:lnTo>
                  <a:lnTo>
                    <a:pt x="5945" y="502"/>
                  </a:lnTo>
                  <a:lnTo>
                    <a:pt x="5947" y="503"/>
                  </a:lnTo>
                  <a:lnTo>
                    <a:pt x="5948" y="506"/>
                  </a:lnTo>
                  <a:lnTo>
                    <a:pt x="5951" y="510"/>
                  </a:lnTo>
                  <a:lnTo>
                    <a:pt x="5951" y="520"/>
                  </a:lnTo>
                  <a:lnTo>
                    <a:pt x="6003" y="520"/>
                  </a:lnTo>
                  <a:lnTo>
                    <a:pt x="6003" y="520"/>
                  </a:lnTo>
                  <a:lnTo>
                    <a:pt x="6004" y="536"/>
                  </a:lnTo>
                  <a:lnTo>
                    <a:pt x="6008" y="547"/>
                  </a:lnTo>
                  <a:lnTo>
                    <a:pt x="6014" y="557"/>
                  </a:lnTo>
                  <a:lnTo>
                    <a:pt x="6021" y="563"/>
                  </a:lnTo>
                  <a:lnTo>
                    <a:pt x="6029" y="566"/>
                  </a:lnTo>
                  <a:lnTo>
                    <a:pt x="6039" y="567"/>
                  </a:lnTo>
                  <a:lnTo>
                    <a:pt x="6050" y="568"/>
                  </a:lnTo>
                  <a:lnTo>
                    <a:pt x="6061" y="568"/>
                  </a:lnTo>
                  <a:lnTo>
                    <a:pt x="6061" y="568"/>
                  </a:lnTo>
                  <a:lnTo>
                    <a:pt x="6061" y="580"/>
                  </a:lnTo>
                  <a:lnTo>
                    <a:pt x="6060" y="589"/>
                  </a:lnTo>
                  <a:lnTo>
                    <a:pt x="6057" y="596"/>
                  </a:lnTo>
                  <a:lnTo>
                    <a:pt x="6051" y="599"/>
                  </a:lnTo>
                  <a:lnTo>
                    <a:pt x="6051" y="2058"/>
                  </a:lnTo>
                  <a:lnTo>
                    <a:pt x="0" y="2058"/>
                  </a:lnTo>
                  <a:lnTo>
                    <a:pt x="0" y="3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595840" y="4548240"/>
              <a:ext cx="890640" cy="1272960"/>
            </a:xfrm>
            <a:custGeom>
              <a:avLst/>
              <a:gdLst/>
              <a:ahLst/>
              <a:rect l="l" t="t" r="r" b="b"/>
              <a:pathLst>
                <a:path w="1683" h="2408">
                  <a:moveTo>
                    <a:pt x="1135" y="725"/>
                  </a:moveTo>
                  <a:lnTo>
                    <a:pt x="1127" y="735"/>
                  </a:lnTo>
                  <a:lnTo>
                    <a:pt x="1119" y="744"/>
                  </a:lnTo>
                  <a:lnTo>
                    <a:pt x="1110" y="752"/>
                  </a:lnTo>
                  <a:lnTo>
                    <a:pt x="1102" y="762"/>
                  </a:lnTo>
                  <a:lnTo>
                    <a:pt x="1095" y="771"/>
                  </a:lnTo>
                  <a:lnTo>
                    <a:pt x="1089" y="783"/>
                  </a:lnTo>
                  <a:lnTo>
                    <a:pt x="1085" y="795"/>
                  </a:lnTo>
                  <a:lnTo>
                    <a:pt x="1080" y="811"/>
                  </a:lnTo>
                  <a:lnTo>
                    <a:pt x="1092" y="805"/>
                  </a:lnTo>
                  <a:lnTo>
                    <a:pt x="1103" y="798"/>
                  </a:lnTo>
                  <a:lnTo>
                    <a:pt x="1115" y="790"/>
                  </a:lnTo>
                  <a:lnTo>
                    <a:pt x="1127" y="780"/>
                  </a:lnTo>
                  <a:lnTo>
                    <a:pt x="1138" y="771"/>
                  </a:lnTo>
                  <a:lnTo>
                    <a:pt x="1151" y="762"/>
                  </a:lnTo>
                  <a:lnTo>
                    <a:pt x="1163" y="751"/>
                  </a:lnTo>
                  <a:lnTo>
                    <a:pt x="1174" y="742"/>
                  </a:lnTo>
                  <a:lnTo>
                    <a:pt x="1187" y="734"/>
                  </a:lnTo>
                  <a:lnTo>
                    <a:pt x="1200" y="726"/>
                  </a:lnTo>
                  <a:lnTo>
                    <a:pt x="1214" y="719"/>
                  </a:lnTo>
                  <a:lnTo>
                    <a:pt x="1228" y="713"/>
                  </a:lnTo>
                  <a:lnTo>
                    <a:pt x="1242" y="709"/>
                  </a:lnTo>
                  <a:lnTo>
                    <a:pt x="1257" y="707"/>
                  </a:lnTo>
                  <a:lnTo>
                    <a:pt x="1273" y="707"/>
                  </a:lnTo>
                  <a:lnTo>
                    <a:pt x="1289" y="711"/>
                  </a:lnTo>
                  <a:lnTo>
                    <a:pt x="1267" y="705"/>
                  </a:lnTo>
                  <a:lnTo>
                    <a:pt x="1245" y="699"/>
                  </a:lnTo>
                  <a:lnTo>
                    <a:pt x="1223" y="694"/>
                  </a:lnTo>
                  <a:lnTo>
                    <a:pt x="1201" y="691"/>
                  </a:lnTo>
                  <a:lnTo>
                    <a:pt x="1180" y="692"/>
                  </a:lnTo>
                  <a:lnTo>
                    <a:pt x="1162" y="697"/>
                  </a:lnTo>
                  <a:lnTo>
                    <a:pt x="1146" y="707"/>
                  </a:lnTo>
                  <a:lnTo>
                    <a:pt x="1135" y="725"/>
                  </a:lnTo>
                  <a:close/>
                  <a:moveTo>
                    <a:pt x="735" y="915"/>
                  </a:moveTo>
                  <a:lnTo>
                    <a:pt x="724" y="913"/>
                  </a:lnTo>
                  <a:lnTo>
                    <a:pt x="712" y="907"/>
                  </a:lnTo>
                  <a:lnTo>
                    <a:pt x="698" y="900"/>
                  </a:lnTo>
                  <a:lnTo>
                    <a:pt x="684" y="892"/>
                  </a:lnTo>
                  <a:lnTo>
                    <a:pt x="670" y="884"/>
                  </a:lnTo>
                  <a:lnTo>
                    <a:pt x="656" y="878"/>
                  </a:lnTo>
                  <a:lnTo>
                    <a:pt x="642" y="876"/>
                  </a:lnTo>
                  <a:lnTo>
                    <a:pt x="630" y="878"/>
                  </a:lnTo>
                  <a:lnTo>
                    <a:pt x="638" y="880"/>
                  </a:lnTo>
                  <a:lnTo>
                    <a:pt x="649" y="886"/>
                  </a:lnTo>
                  <a:lnTo>
                    <a:pt x="659" y="894"/>
                  </a:lnTo>
                  <a:lnTo>
                    <a:pt x="671" y="904"/>
                  </a:lnTo>
                  <a:lnTo>
                    <a:pt x="681" y="913"/>
                  </a:lnTo>
                  <a:lnTo>
                    <a:pt x="691" y="921"/>
                  </a:lnTo>
                  <a:lnTo>
                    <a:pt x="699" y="927"/>
                  </a:lnTo>
                  <a:lnTo>
                    <a:pt x="704" y="929"/>
                  </a:lnTo>
                  <a:lnTo>
                    <a:pt x="685" y="930"/>
                  </a:lnTo>
                  <a:lnTo>
                    <a:pt x="666" y="934"/>
                  </a:lnTo>
                  <a:lnTo>
                    <a:pt x="649" y="939"/>
                  </a:lnTo>
                  <a:lnTo>
                    <a:pt x="631" y="944"/>
                  </a:lnTo>
                  <a:lnTo>
                    <a:pt x="614" y="950"/>
                  </a:lnTo>
                  <a:lnTo>
                    <a:pt x="598" y="957"/>
                  </a:lnTo>
                  <a:lnTo>
                    <a:pt x="580" y="962"/>
                  </a:lnTo>
                  <a:lnTo>
                    <a:pt x="564" y="966"/>
                  </a:lnTo>
                  <a:lnTo>
                    <a:pt x="576" y="970"/>
                  </a:lnTo>
                  <a:lnTo>
                    <a:pt x="588" y="972"/>
                  </a:lnTo>
                  <a:lnTo>
                    <a:pt x="601" y="973"/>
                  </a:lnTo>
                  <a:lnTo>
                    <a:pt x="615" y="973"/>
                  </a:lnTo>
                  <a:lnTo>
                    <a:pt x="629" y="973"/>
                  </a:lnTo>
                  <a:lnTo>
                    <a:pt x="644" y="972"/>
                  </a:lnTo>
                  <a:lnTo>
                    <a:pt x="658" y="971"/>
                  </a:lnTo>
                  <a:lnTo>
                    <a:pt x="673" y="969"/>
                  </a:lnTo>
                  <a:lnTo>
                    <a:pt x="687" y="965"/>
                  </a:lnTo>
                  <a:lnTo>
                    <a:pt x="701" y="962"/>
                  </a:lnTo>
                  <a:lnTo>
                    <a:pt x="715" y="958"/>
                  </a:lnTo>
                  <a:lnTo>
                    <a:pt x="727" y="954"/>
                  </a:lnTo>
                  <a:lnTo>
                    <a:pt x="740" y="948"/>
                  </a:lnTo>
                  <a:lnTo>
                    <a:pt x="750" y="942"/>
                  </a:lnTo>
                  <a:lnTo>
                    <a:pt x="759" y="936"/>
                  </a:lnTo>
                  <a:lnTo>
                    <a:pt x="767" y="929"/>
                  </a:lnTo>
                  <a:lnTo>
                    <a:pt x="735" y="915"/>
                  </a:lnTo>
                  <a:close/>
                  <a:moveTo>
                    <a:pt x="659" y="815"/>
                  </a:moveTo>
                  <a:lnTo>
                    <a:pt x="658" y="816"/>
                  </a:lnTo>
                  <a:lnTo>
                    <a:pt x="651" y="807"/>
                  </a:lnTo>
                  <a:lnTo>
                    <a:pt x="640" y="790"/>
                  </a:lnTo>
                  <a:lnTo>
                    <a:pt x="623" y="765"/>
                  </a:lnTo>
                  <a:lnTo>
                    <a:pt x="604" y="734"/>
                  </a:lnTo>
                  <a:lnTo>
                    <a:pt x="580" y="698"/>
                  </a:lnTo>
                  <a:lnTo>
                    <a:pt x="556" y="658"/>
                  </a:lnTo>
                  <a:lnTo>
                    <a:pt x="530" y="616"/>
                  </a:lnTo>
                  <a:lnTo>
                    <a:pt x="505" y="573"/>
                  </a:lnTo>
                  <a:lnTo>
                    <a:pt x="480" y="532"/>
                  </a:lnTo>
                  <a:lnTo>
                    <a:pt x="457" y="491"/>
                  </a:lnTo>
                  <a:lnTo>
                    <a:pt x="435" y="454"/>
                  </a:lnTo>
                  <a:lnTo>
                    <a:pt x="418" y="420"/>
                  </a:lnTo>
                  <a:lnTo>
                    <a:pt x="404" y="392"/>
                  </a:lnTo>
                  <a:lnTo>
                    <a:pt x="396" y="371"/>
                  </a:lnTo>
                  <a:lnTo>
                    <a:pt x="392" y="358"/>
                  </a:lnTo>
                  <a:lnTo>
                    <a:pt x="432" y="358"/>
                  </a:lnTo>
                  <a:lnTo>
                    <a:pt x="428" y="342"/>
                  </a:lnTo>
                  <a:lnTo>
                    <a:pt x="418" y="323"/>
                  </a:lnTo>
                  <a:lnTo>
                    <a:pt x="401" y="305"/>
                  </a:lnTo>
                  <a:lnTo>
                    <a:pt x="383" y="286"/>
                  </a:lnTo>
                  <a:lnTo>
                    <a:pt x="363" y="269"/>
                  </a:lnTo>
                  <a:lnTo>
                    <a:pt x="342" y="251"/>
                  </a:lnTo>
                  <a:lnTo>
                    <a:pt x="325" y="237"/>
                  </a:lnTo>
                  <a:lnTo>
                    <a:pt x="309" y="225"/>
                  </a:lnTo>
                  <a:lnTo>
                    <a:pt x="337" y="214"/>
                  </a:lnTo>
                  <a:lnTo>
                    <a:pt x="365" y="209"/>
                  </a:lnTo>
                  <a:lnTo>
                    <a:pt x="392" y="211"/>
                  </a:lnTo>
                  <a:lnTo>
                    <a:pt x="418" y="214"/>
                  </a:lnTo>
                  <a:lnTo>
                    <a:pt x="443" y="222"/>
                  </a:lnTo>
                  <a:lnTo>
                    <a:pt x="468" y="234"/>
                  </a:lnTo>
                  <a:lnTo>
                    <a:pt x="492" y="248"/>
                  </a:lnTo>
                  <a:lnTo>
                    <a:pt x="515" y="265"/>
                  </a:lnTo>
                  <a:lnTo>
                    <a:pt x="537" y="284"/>
                  </a:lnTo>
                  <a:lnTo>
                    <a:pt x="558" y="304"/>
                  </a:lnTo>
                  <a:lnTo>
                    <a:pt x="579" y="326"/>
                  </a:lnTo>
                  <a:lnTo>
                    <a:pt x="598" y="347"/>
                  </a:lnTo>
                  <a:lnTo>
                    <a:pt x="616" y="369"/>
                  </a:lnTo>
                  <a:lnTo>
                    <a:pt x="633" y="391"/>
                  </a:lnTo>
                  <a:lnTo>
                    <a:pt x="649" y="411"/>
                  </a:lnTo>
                  <a:lnTo>
                    <a:pt x="663" y="430"/>
                  </a:lnTo>
                  <a:lnTo>
                    <a:pt x="651" y="381"/>
                  </a:lnTo>
                  <a:lnTo>
                    <a:pt x="643" y="334"/>
                  </a:lnTo>
                  <a:lnTo>
                    <a:pt x="637" y="287"/>
                  </a:lnTo>
                  <a:lnTo>
                    <a:pt x="635" y="243"/>
                  </a:lnTo>
                  <a:lnTo>
                    <a:pt x="635" y="202"/>
                  </a:lnTo>
                  <a:lnTo>
                    <a:pt x="636" y="165"/>
                  </a:lnTo>
                  <a:lnTo>
                    <a:pt x="640" y="133"/>
                  </a:lnTo>
                  <a:lnTo>
                    <a:pt x="644" y="106"/>
                  </a:lnTo>
                  <a:lnTo>
                    <a:pt x="650" y="85"/>
                  </a:lnTo>
                  <a:lnTo>
                    <a:pt x="656" y="71"/>
                  </a:lnTo>
                  <a:lnTo>
                    <a:pt x="662" y="64"/>
                  </a:lnTo>
                  <a:lnTo>
                    <a:pt x="668" y="65"/>
                  </a:lnTo>
                  <a:lnTo>
                    <a:pt x="672" y="76"/>
                  </a:lnTo>
                  <a:lnTo>
                    <a:pt x="677" y="95"/>
                  </a:lnTo>
                  <a:lnTo>
                    <a:pt x="679" y="126"/>
                  </a:lnTo>
                  <a:lnTo>
                    <a:pt x="680" y="168"/>
                  </a:lnTo>
                  <a:lnTo>
                    <a:pt x="683" y="133"/>
                  </a:lnTo>
                  <a:lnTo>
                    <a:pt x="688" y="100"/>
                  </a:lnTo>
                  <a:lnTo>
                    <a:pt x="699" y="72"/>
                  </a:lnTo>
                  <a:lnTo>
                    <a:pt x="713" y="48"/>
                  </a:lnTo>
                  <a:lnTo>
                    <a:pt x="733" y="29"/>
                  </a:lnTo>
                  <a:lnTo>
                    <a:pt x="756" y="14"/>
                  </a:lnTo>
                  <a:lnTo>
                    <a:pt x="784" y="6"/>
                  </a:lnTo>
                  <a:lnTo>
                    <a:pt x="817" y="2"/>
                  </a:lnTo>
                  <a:lnTo>
                    <a:pt x="817" y="148"/>
                  </a:lnTo>
                  <a:lnTo>
                    <a:pt x="831" y="141"/>
                  </a:lnTo>
                  <a:lnTo>
                    <a:pt x="844" y="129"/>
                  </a:lnTo>
                  <a:lnTo>
                    <a:pt x="856" y="115"/>
                  </a:lnTo>
                  <a:lnTo>
                    <a:pt x="866" y="98"/>
                  </a:lnTo>
                  <a:lnTo>
                    <a:pt x="876" y="81"/>
                  </a:lnTo>
                  <a:lnTo>
                    <a:pt x="886" y="64"/>
                  </a:lnTo>
                  <a:lnTo>
                    <a:pt x="897" y="48"/>
                  </a:lnTo>
                  <a:lnTo>
                    <a:pt x="907" y="35"/>
                  </a:lnTo>
                  <a:lnTo>
                    <a:pt x="914" y="35"/>
                  </a:lnTo>
                  <a:lnTo>
                    <a:pt x="921" y="37"/>
                  </a:lnTo>
                  <a:lnTo>
                    <a:pt x="930" y="40"/>
                  </a:lnTo>
                  <a:lnTo>
                    <a:pt x="938" y="42"/>
                  </a:lnTo>
                  <a:lnTo>
                    <a:pt x="948" y="45"/>
                  </a:lnTo>
                  <a:lnTo>
                    <a:pt x="955" y="50"/>
                  </a:lnTo>
                  <a:lnTo>
                    <a:pt x="962" y="54"/>
                  </a:lnTo>
                  <a:lnTo>
                    <a:pt x="966" y="57"/>
                  </a:lnTo>
                  <a:lnTo>
                    <a:pt x="988" y="50"/>
                  </a:lnTo>
                  <a:lnTo>
                    <a:pt x="1009" y="41"/>
                  </a:lnTo>
                  <a:lnTo>
                    <a:pt x="1029" y="30"/>
                  </a:lnTo>
                  <a:lnTo>
                    <a:pt x="1049" y="19"/>
                  </a:lnTo>
                  <a:lnTo>
                    <a:pt x="1069" y="9"/>
                  </a:lnTo>
                  <a:lnTo>
                    <a:pt x="1091" y="2"/>
                  </a:lnTo>
                  <a:lnTo>
                    <a:pt x="1115" y="0"/>
                  </a:lnTo>
                  <a:lnTo>
                    <a:pt x="1144" y="2"/>
                  </a:lnTo>
                  <a:lnTo>
                    <a:pt x="1143" y="15"/>
                  </a:lnTo>
                  <a:lnTo>
                    <a:pt x="1141" y="28"/>
                  </a:lnTo>
                  <a:lnTo>
                    <a:pt x="1137" y="41"/>
                  </a:lnTo>
                  <a:lnTo>
                    <a:pt x="1132" y="55"/>
                  </a:lnTo>
                  <a:lnTo>
                    <a:pt x="1127" y="69"/>
                  </a:lnTo>
                  <a:lnTo>
                    <a:pt x="1121" y="84"/>
                  </a:lnTo>
                  <a:lnTo>
                    <a:pt x="1114" y="98"/>
                  </a:lnTo>
                  <a:lnTo>
                    <a:pt x="1107" y="113"/>
                  </a:lnTo>
                  <a:lnTo>
                    <a:pt x="1100" y="127"/>
                  </a:lnTo>
                  <a:lnTo>
                    <a:pt x="1092" y="142"/>
                  </a:lnTo>
                  <a:lnTo>
                    <a:pt x="1086" y="157"/>
                  </a:lnTo>
                  <a:lnTo>
                    <a:pt x="1079" y="171"/>
                  </a:lnTo>
                  <a:lnTo>
                    <a:pt x="1074" y="185"/>
                  </a:lnTo>
                  <a:lnTo>
                    <a:pt x="1070" y="199"/>
                  </a:lnTo>
                  <a:lnTo>
                    <a:pt x="1066" y="212"/>
                  </a:lnTo>
                  <a:lnTo>
                    <a:pt x="1064" y="225"/>
                  </a:lnTo>
                  <a:lnTo>
                    <a:pt x="1053" y="270"/>
                  </a:lnTo>
                  <a:lnTo>
                    <a:pt x="1042" y="318"/>
                  </a:lnTo>
                  <a:lnTo>
                    <a:pt x="1028" y="366"/>
                  </a:lnTo>
                  <a:lnTo>
                    <a:pt x="1013" y="415"/>
                  </a:lnTo>
                  <a:lnTo>
                    <a:pt x="998" y="464"/>
                  </a:lnTo>
                  <a:lnTo>
                    <a:pt x="983" y="511"/>
                  </a:lnTo>
                  <a:lnTo>
                    <a:pt x="967" y="555"/>
                  </a:lnTo>
                  <a:lnTo>
                    <a:pt x="955" y="594"/>
                  </a:lnTo>
                  <a:lnTo>
                    <a:pt x="943" y="630"/>
                  </a:lnTo>
                  <a:lnTo>
                    <a:pt x="935" y="659"/>
                  </a:lnTo>
                  <a:lnTo>
                    <a:pt x="929" y="682"/>
                  </a:lnTo>
                  <a:lnTo>
                    <a:pt x="927" y="697"/>
                  </a:lnTo>
                  <a:lnTo>
                    <a:pt x="929" y="702"/>
                  </a:lnTo>
                  <a:lnTo>
                    <a:pt x="936" y="698"/>
                  </a:lnTo>
                  <a:lnTo>
                    <a:pt x="948" y="683"/>
                  </a:lnTo>
                  <a:lnTo>
                    <a:pt x="966" y="656"/>
                  </a:lnTo>
                  <a:lnTo>
                    <a:pt x="996" y="605"/>
                  </a:lnTo>
                  <a:lnTo>
                    <a:pt x="1023" y="557"/>
                  </a:lnTo>
                  <a:lnTo>
                    <a:pt x="1048" y="513"/>
                  </a:lnTo>
                  <a:lnTo>
                    <a:pt x="1069" y="472"/>
                  </a:lnTo>
                  <a:lnTo>
                    <a:pt x="1088" y="435"/>
                  </a:lnTo>
                  <a:lnTo>
                    <a:pt x="1107" y="402"/>
                  </a:lnTo>
                  <a:lnTo>
                    <a:pt x="1125" y="375"/>
                  </a:lnTo>
                  <a:lnTo>
                    <a:pt x="1143" y="350"/>
                  </a:lnTo>
                  <a:lnTo>
                    <a:pt x="1162" y="331"/>
                  </a:lnTo>
                  <a:lnTo>
                    <a:pt x="1180" y="318"/>
                  </a:lnTo>
                  <a:lnTo>
                    <a:pt x="1201" y="308"/>
                  </a:lnTo>
                  <a:lnTo>
                    <a:pt x="1224" y="304"/>
                  </a:lnTo>
                  <a:lnTo>
                    <a:pt x="1250" y="305"/>
                  </a:lnTo>
                  <a:lnTo>
                    <a:pt x="1278" y="313"/>
                  </a:lnTo>
                  <a:lnTo>
                    <a:pt x="1310" y="326"/>
                  </a:lnTo>
                  <a:lnTo>
                    <a:pt x="1348" y="344"/>
                  </a:lnTo>
                  <a:lnTo>
                    <a:pt x="1330" y="359"/>
                  </a:lnTo>
                  <a:lnTo>
                    <a:pt x="1313" y="377"/>
                  </a:lnTo>
                  <a:lnTo>
                    <a:pt x="1296" y="395"/>
                  </a:lnTo>
                  <a:lnTo>
                    <a:pt x="1281" y="415"/>
                  </a:lnTo>
                  <a:lnTo>
                    <a:pt x="1267" y="436"/>
                  </a:lnTo>
                  <a:lnTo>
                    <a:pt x="1255" y="457"/>
                  </a:lnTo>
                  <a:lnTo>
                    <a:pt x="1244" y="477"/>
                  </a:lnTo>
                  <a:lnTo>
                    <a:pt x="1234" y="494"/>
                  </a:lnTo>
                  <a:lnTo>
                    <a:pt x="1267" y="493"/>
                  </a:lnTo>
                  <a:lnTo>
                    <a:pt x="1295" y="491"/>
                  </a:lnTo>
                  <a:lnTo>
                    <a:pt x="1317" y="488"/>
                  </a:lnTo>
                  <a:lnTo>
                    <a:pt x="1336" y="490"/>
                  </a:lnTo>
                  <a:lnTo>
                    <a:pt x="1350" y="493"/>
                  </a:lnTo>
                  <a:lnTo>
                    <a:pt x="1361" y="502"/>
                  </a:lnTo>
                  <a:lnTo>
                    <a:pt x="1371" y="520"/>
                  </a:lnTo>
                  <a:lnTo>
                    <a:pt x="1379" y="544"/>
                  </a:lnTo>
                  <a:lnTo>
                    <a:pt x="1363" y="547"/>
                  </a:lnTo>
                  <a:lnTo>
                    <a:pt x="1344" y="554"/>
                  </a:lnTo>
                  <a:lnTo>
                    <a:pt x="1323" y="563"/>
                  </a:lnTo>
                  <a:lnTo>
                    <a:pt x="1303" y="576"/>
                  </a:lnTo>
                  <a:lnTo>
                    <a:pt x="1282" y="590"/>
                  </a:lnTo>
                  <a:lnTo>
                    <a:pt x="1264" y="605"/>
                  </a:lnTo>
                  <a:lnTo>
                    <a:pt x="1248" y="620"/>
                  </a:lnTo>
                  <a:lnTo>
                    <a:pt x="1234" y="634"/>
                  </a:lnTo>
                  <a:lnTo>
                    <a:pt x="1248" y="634"/>
                  </a:lnTo>
                  <a:lnTo>
                    <a:pt x="1264" y="634"/>
                  </a:lnTo>
                  <a:lnTo>
                    <a:pt x="1280" y="635"/>
                  </a:lnTo>
                  <a:lnTo>
                    <a:pt x="1299" y="635"/>
                  </a:lnTo>
                  <a:lnTo>
                    <a:pt x="1317" y="636"/>
                  </a:lnTo>
                  <a:lnTo>
                    <a:pt x="1338" y="640"/>
                  </a:lnTo>
                  <a:lnTo>
                    <a:pt x="1359" y="643"/>
                  </a:lnTo>
                  <a:lnTo>
                    <a:pt x="1382" y="649"/>
                  </a:lnTo>
                  <a:lnTo>
                    <a:pt x="1406" y="658"/>
                  </a:lnTo>
                  <a:lnTo>
                    <a:pt x="1431" y="670"/>
                  </a:lnTo>
                  <a:lnTo>
                    <a:pt x="1458" y="684"/>
                  </a:lnTo>
                  <a:lnTo>
                    <a:pt x="1486" y="701"/>
                  </a:lnTo>
                  <a:lnTo>
                    <a:pt x="1515" y="723"/>
                  </a:lnTo>
                  <a:lnTo>
                    <a:pt x="1545" y="749"/>
                  </a:lnTo>
                  <a:lnTo>
                    <a:pt x="1577" y="779"/>
                  </a:lnTo>
                  <a:lnTo>
                    <a:pt x="1610" y="815"/>
                  </a:lnTo>
                  <a:lnTo>
                    <a:pt x="1594" y="818"/>
                  </a:lnTo>
                  <a:lnTo>
                    <a:pt x="1577" y="821"/>
                  </a:lnTo>
                  <a:lnTo>
                    <a:pt x="1560" y="825"/>
                  </a:lnTo>
                  <a:lnTo>
                    <a:pt x="1544" y="828"/>
                  </a:lnTo>
                  <a:lnTo>
                    <a:pt x="1527" y="833"/>
                  </a:lnTo>
                  <a:lnTo>
                    <a:pt x="1509" y="836"/>
                  </a:lnTo>
                  <a:lnTo>
                    <a:pt x="1492" y="841"/>
                  </a:lnTo>
                  <a:lnTo>
                    <a:pt x="1474" y="844"/>
                  </a:lnTo>
                  <a:lnTo>
                    <a:pt x="1456" y="847"/>
                  </a:lnTo>
                  <a:lnTo>
                    <a:pt x="1437" y="849"/>
                  </a:lnTo>
                  <a:lnTo>
                    <a:pt x="1417" y="850"/>
                  </a:lnTo>
                  <a:lnTo>
                    <a:pt x="1398" y="849"/>
                  </a:lnTo>
                  <a:lnTo>
                    <a:pt x="1377" y="848"/>
                  </a:lnTo>
                  <a:lnTo>
                    <a:pt x="1354" y="844"/>
                  </a:lnTo>
                  <a:lnTo>
                    <a:pt x="1332" y="839"/>
                  </a:lnTo>
                  <a:lnTo>
                    <a:pt x="1308" y="830"/>
                  </a:lnTo>
                  <a:lnTo>
                    <a:pt x="1291" y="833"/>
                  </a:lnTo>
                  <a:lnTo>
                    <a:pt x="1266" y="848"/>
                  </a:lnTo>
                  <a:lnTo>
                    <a:pt x="1238" y="872"/>
                  </a:lnTo>
                  <a:lnTo>
                    <a:pt x="1212" y="902"/>
                  </a:lnTo>
                  <a:lnTo>
                    <a:pt x="1187" y="932"/>
                  </a:lnTo>
                  <a:lnTo>
                    <a:pt x="1170" y="958"/>
                  </a:lnTo>
                  <a:lnTo>
                    <a:pt x="1163" y="978"/>
                  </a:lnTo>
                  <a:lnTo>
                    <a:pt x="1170" y="985"/>
                  </a:lnTo>
                  <a:lnTo>
                    <a:pt x="1179" y="985"/>
                  </a:lnTo>
                  <a:lnTo>
                    <a:pt x="1189" y="983"/>
                  </a:lnTo>
                  <a:lnTo>
                    <a:pt x="1202" y="982"/>
                  </a:lnTo>
                  <a:lnTo>
                    <a:pt x="1216" y="978"/>
                  </a:lnTo>
                  <a:lnTo>
                    <a:pt x="1232" y="976"/>
                  </a:lnTo>
                  <a:lnTo>
                    <a:pt x="1252" y="973"/>
                  </a:lnTo>
                  <a:lnTo>
                    <a:pt x="1274" y="971"/>
                  </a:lnTo>
                  <a:lnTo>
                    <a:pt x="1301" y="969"/>
                  </a:lnTo>
                  <a:lnTo>
                    <a:pt x="1331" y="968"/>
                  </a:lnTo>
                  <a:lnTo>
                    <a:pt x="1366" y="966"/>
                  </a:lnTo>
                  <a:lnTo>
                    <a:pt x="1404" y="968"/>
                  </a:lnTo>
                  <a:lnTo>
                    <a:pt x="1449" y="969"/>
                  </a:lnTo>
                  <a:lnTo>
                    <a:pt x="1499" y="973"/>
                  </a:lnTo>
                  <a:lnTo>
                    <a:pt x="1553" y="978"/>
                  </a:lnTo>
                  <a:lnTo>
                    <a:pt x="1615" y="986"/>
                  </a:lnTo>
                  <a:lnTo>
                    <a:pt x="1683" y="995"/>
                  </a:lnTo>
                  <a:lnTo>
                    <a:pt x="1661" y="1025"/>
                  </a:lnTo>
                  <a:lnTo>
                    <a:pt x="1642" y="1048"/>
                  </a:lnTo>
                  <a:lnTo>
                    <a:pt x="1625" y="1065"/>
                  </a:lnTo>
                  <a:lnTo>
                    <a:pt x="1610" y="1079"/>
                  </a:lnTo>
                  <a:lnTo>
                    <a:pt x="1595" y="1089"/>
                  </a:lnTo>
                  <a:lnTo>
                    <a:pt x="1580" y="1094"/>
                  </a:lnTo>
                  <a:lnTo>
                    <a:pt x="1563" y="1097"/>
                  </a:lnTo>
                  <a:lnTo>
                    <a:pt x="1543" y="1097"/>
                  </a:lnTo>
                  <a:lnTo>
                    <a:pt x="1521" y="1096"/>
                  </a:lnTo>
                  <a:lnTo>
                    <a:pt x="1493" y="1092"/>
                  </a:lnTo>
                  <a:lnTo>
                    <a:pt x="1459" y="1087"/>
                  </a:lnTo>
                  <a:lnTo>
                    <a:pt x="1420" y="1083"/>
                  </a:lnTo>
                  <a:lnTo>
                    <a:pt x="1373" y="1079"/>
                  </a:lnTo>
                  <a:lnTo>
                    <a:pt x="1317" y="1075"/>
                  </a:lnTo>
                  <a:lnTo>
                    <a:pt x="1251" y="1072"/>
                  </a:lnTo>
                  <a:lnTo>
                    <a:pt x="1175" y="1071"/>
                  </a:lnTo>
                  <a:lnTo>
                    <a:pt x="1182" y="1072"/>
                  </a:lnTo>
                  <a:lnTo>
                    <a:pt x="1198" y="1077"/>
                  </a:lnTo>
                  <a:lnTo>
                    <a:pt x="1220" y="1083"/>
                  </a:lnTo>
                  <a:lnTo>
                    <a:pt x="1246" y="1092"/>
                  </a:lnTo>
                  <a:lnTo>
                    <a:pt x="1277" y="1102"/>
                  </a:lnTo>
                  <a:lnTo>
                    <a:pt x="1311" y="1115"/>
                  </a:lnTo>
                  <a:lnTo>
                    <a:pt x="1349" y="1130"/>
                  </a:lnTo>
                  <a:lnTo>
                    <a:pt x="1388" y="1146"/>
                  </a:lnTo>
                  <a:lnTo>
                    <a:pt x="1427" y="1163"/>
                  </a:lnTo>
                  <a:lnTo>
                    <a:pt x="1466" y="1180"/>
                  </a:lnTo>
                  <a:lnTo>
                    <a:pt x="1503" y="1199"/>
                  </a:lnTo>
                  <a:lnTo>
                    <a:pt x="1538" y="1219"/>
                  </a:lnTo>
                  <a:lnTo>
                    <a:pt x="1570" y="1239"/>
                  </a:lnTo>
                  <a:lnTo>
                    <a:pt x="1597" y="1258"/>
                  </a:lnTo>
                  <a:lnTo>
                    <a:pt x="1620" y="1277"/>
                  </a:lnTo>
                  <a:lnTo>
                    <a:pt x="1635" y="1297"/>
                  </a:lnTo>
                  <a:lnTo>
                    <a:pt x="1379" y="1322"/>
                  </a:lnTo>
                  <a:lnTo>
                    <a:pt x="1373" y="1315"/>
                  </a:lnTo>
                  <a:lnTo>
                    <a:pt x="1364" y="1307"/>
                  </a:lnTo>
                  <a:lnTo>
                    <a:pt x="1351" y="1300"/>
                  </a:lnTo>
                  <a:lnTo>
                    <a:pt x="1336" y="1293"/>
                  </a:lnTo>
                  <a:lnTo>
                    <a:pt x="1322" y="1286"/>
                  </a:lnTo>
                  <a:lnTo>
                    <a:pt x="1308" y="1279"/>
                  </a:lnTo>
                  <a:lnTo>
                    <a:pt x="1296" y="1272"/>
                  </a:lnTo>
                  <a:lnTo>
                    <a:pt x="1289" y="1265"/>
                  </a:lnTo>
                  <a:lnTo>
                    <a:pt x="1289" y="1271"/>
                  </a:lnTo>
                  <a:lnTo>
                    <a:pt x="1287" y="1278"/>
                  </a:lnTo>
                  <a:lnTo>
                    <a:pt x="1286" y="1283"/>
                  </a:lnTo>
                  <a:lnTo>
                    <a:pt x="1284" y="1289"/>
                  </a:lnTo>
                  <a:lnTo>
                    <a:pt x="1280" y="1293"/>
                  </a:lnTo>
                  <a:lnTo>
                    <a:pt x="1279" y="1297"/>
                  </a:lnTo>
                  <a:lnTo>
                    <a:pt x="1277" y="1300"/>
                  </a:lnTo>
                  <a:lnTo>
                    <a:pt x="1277" y="1302"/>
                  </a:lnTo>
                  <a:lnTo>
                    <a:pt x="1259" y="1299"/>
                  </a:lnTo>
                  <a:lnTo>
                    <a:pt x="1243" y="1287"/>
                  </a:lnTo>
                  <a:lnTo>
                    <a:pt x="1229" y="1272"/>
                  </a:lnTo>
                  <a:lnTo>
                    <a:pt x="1216" y="1254"/>
                  </a:lnTo>
                  <a:lnTo>
                    <a:pt x="1202" y="1235"/>
                  </a:lnTo>
                  <a:lnTo>
                    <a:pt x="1187" y="1218"/>
                  </a:lnTo>
                  <a:lnTo>
                    <a:pt x="1171" y="1202"/>
                  </a:lnTo>
                  <a:lnTo>
                    <a:pt x="1151" y="1192"/>
                  </a:lnTo>
                  <a:lnTo>
                    <a:pt x="1139" y="1186"/>
                  </a:lnTo>
                  <a:lnTo>
                    <a:pt x="1128" y="1179"/>
                  </a:lnTo>
                  <a:lnTo>
                    <a:pt x="1114" y="1170"/>
                  </a:lnTo>
                  <a:lnTo>
                    <a:pt x="1100" y="1159"/>
                  </a:lnTo>
                  <a:lnTo>
                    <a:pt x="1085" y="1149"/>
                  </a:lnTo>
                  <a:lnTo>
                    <a:pt x="1069" y="1136"/>
                  </a:lnTo>
                  <a:lnTo>
                    <a:pt x="1053" y="1123"/>
                  </a:lnTo>
                  <a:lnTo>
                    <a:pt x="1037" y="1111"/>
                  </a:lnTo>
                  <a:lnTo>
                    <a:pt x="1021" y="1099"/>
                  </a:lnTo>
                  <a:lnTo>
                    <a:pt x="1005" y="1087"/>
                  </a:lnTo>
                  <a:lnTo>
                    <a:pt x="988" y="1076"/>
                  </a:lnTo>
                  <a:lnTo>
                    <a:pt x="972" y="1066"/>
                  </a:lnTo>
                  <a:lnTo>
                    <a:pt x="957" y="1058"/>
                  </a:lnTo>
                  <a:lnTo>
                    <a:pt x="943" y="1052"/>
                  </a:lnTo>
                  <a:lnTo>
                    <a:pt x="929" y="1048"/>
                  </a:lnTo>
                  <a:lnTo>
                    <a:pt x="916" y="1047"/>
                  </a:lnTo>
                  <a:lnTo>
                    <a:pt x="921" y="1083"/>
                  </a:lnTo>
                  <a:lnTo>
                    <a:pt x="924" y="1119"/>
                  </a:lnTo>
                  <a:lnTo>
                    <a:pt x="927" y="1155"/>
                  </a:lnTo>
                  <a:lnTo>
                    <a:pt x="928" y="1191"/>
                  </a:lnTo>
                  <a:lnTo>
                    <a:pt x="928" y="1227"/>
                  </a:lnTo>
                  <a:lnTo>
                    <a:pt x="926" y="1263"/>
                  </a:lnTo>
                  <a:lnTo>
                    <a:pt x="923" y="1300"/>
                  </a:lnTo>
                  <a:lnTo>
                    <a:pt x="921" y="1337"/>
                  </a:lnTo>
                  <a:lnTo>
                    <a:pt x="916" y="1373"/>
                  </a:lnTo>
                  <a:lnTo>
                    <a:pt x="912" y="1411"/>
                  </a:lnTo>
                  <a:lnTo>
                    <a:pt x="906" y="1448"/>
                  </a:lnTo>
                  <a:lnTo>
                    <a:pt x="900" y="1486"/>
                  </a:lnTo>
                  <a:lnTo>
                    <a:pt x="894" y="1523"/>
                  </a:lnTo>
                  <a:lnTo>
                    <a:pt x="887" y="1562"/>
                  </a:lnTo>
                  <a:lnTo>
                    <a:pt x="880" y="1600"/>
                  </a:lnTo>
                  <a:lnTo>
                    <a:pt x="873" y="1639"/>
                  </a:lnTo>
                  <a:lnTo>
                    <a:pt x="866" y="1678"/>
                  </a:lnTo>
                  <a:lnTo>
                    <a:pt x="858" y="1718"/>
                  </a:lnTo>
                  <a:lnTo>
                    <a:pt x="851" y="1757"/>
                  </a:lnTo>
                  <a:lnTo>
                    <a:pt x="844" y="1797"/>
                  </a:lnTo>
                  <a:lnTo>
                    <a:pt x="838" y="1837"/>
                  </a:lnTo>
                  <a:lnTo>
                    <a:pt x="831" y="1878"/>
                  </a:lnTo>
                  <a:lnTo>
                    <a:pt x="826" y="1920"/>
                  </a:lnTo>
                  <a:lnTo>
                    <a:pt x="820" y="1962"/>
                  </a:lnTo>
                  <a:lnTo>
                    <a:pt x="815" y="2004"/>
                  </a:lnTo>
                  <a:lnTo>
                    <a:pt x="812" y="2046"/>
                  </a:lnTo>
                  <a:lnTo>
                    <a:pt x="808" y="2089"/>
                  </a:lnTo>
                  <a:lnTo>
                    <a:pt x="806" y="2133"/>
                  </a:lnTo>
                  <a:lnTo>
                    <a:pt x="805" y="2177"/>
                  </a:lnTo>
                  <a:lnTo>
                    <a:pt x="805" y="2221"/>
                  </a:lnTo>
                  <a:lnTo>
                    <a:pt x="806" y="2267"/>
                  </a:lnTo>
                  <a:lnTo>
                    <a:pt x="808" y="2312"/>
                  </a:lnTo>
                  <a:lnTo>
                    <a:pt x="817" y="2312"/>
                  </a:lnTo>
                  <a:lnTo>
                    <a:pt x="830" y="2313"/>
                  </a:lnTo>
                  <a:lnTo>
                    <a:pt x="845" y="2315"/>
                  </a:lnTo>
                  <a:lnTo>
                    <a:pt x="863" y="2320"/>
                  </a:lnTo>
                  <a:lnTo>
                    <a:pt x="881" y="2326"/>
                  </a:lnTo>
                  <a:lnTo>
                    <a:pt x="901" y="2332"/>
                  </a:lnTo>
                  <a:lnTo>
                    <a:pt x="921" y="2339"/>
                  </a:lnTo>
                  <a:lnTo>
                    <a:pt x="942" y="2346"/>
                  </a:lnTo>
                  <a:lnTo>
                    <a:pt x="962" y="2354"/>
                  </a:lnTo>
                  <a:lnTo>
                    <a:pt x="981" y="2362"/>
                  </a:lnTo>
                  <a:lnTo>
                    <a:pt x="1000" y="2369"/>
                  </a:lnTo>
                  <a:lnTo>
                    <a:pt x="1017" y="2377"/>
                  </a:lnTo>
                  <a:lnTo>
                    <a:pt x="1033" y="2384"/>
                  </a:lnTo>
                  <a:lnTo>
                    <a:pt x="1045" y="2390"/>
                  </a:lnTo>
                  <a:lnTo>
                    <a:pt x="1055" y="2394"/>
                  </a:lnTo>
                  <a:lnTo>
                    <a:pt x="1062" y="2399"/>
                  </a:lnTo>
                  <a:lnTo>
                    <a:pt x="1019" y="2392"/>
                  </a:lnTo>
                  <a:lnTo>
                    <a:pt x="979" y="2387"/>
                  </a:lnTo>
                  <a:lnTo>
                    <a:pt x="941" y="2384"/>
                  </a:lnTo>
                  <a:lnTo>
                    <a:pt x="905" y="2382"/>
                  </a:lnTo>
                  <a:lnTo>
                    <a:pt x="871" y="2380"/>
                  </a:lnTo>
                  <a:lnTo>
                    <a:pt x="838" y="2382"/>
                  </a:lnTo>
                  <a:lnTo>
                    <a:pt x="806" y="2382"/>
                  </a:lnTo>
                  <a:lnTo>
                    <a:pt x="776" y="2384"/>
                  </a:lnTo>
                  <a:lnTo>
                    <a:pt x="745" y="2386"/>
                  </a:lnTo>
                  <a:lnTo>
                    <a:pt x="716" y="2389"/>
                  </a:lnTo>
                  <a:lnTo>
                    <a:pt x="687" y="2391"/>
                  </a:lnTo>
                  <a:lnTo>
                    <a:pt x="658" y="2393"/>
                  </a:lnTo>
                  <a:lnTo>
                    <a:pt x="629" y="2396"/>
                  </a:lnTo>
                  <a:lnTo>
                    <a:pt x="599" y="2398"/>
                  </a:lnTo>
                  <a:lnTo>
                    <a:pt x="568" y="2399"/>
                  </a:lnTo>
                  <a:lnTo>
                    <a:pt x="536" y="2399"/>
                  </a:lnTo>
                  <a:lnTo>
                    <a:pt x="513" y="2398"/>
                  </a:lnTo>
                  <a:lnTo>
                    <a:pt x="490" y="2399"/>
                  </a:lnTo>
                  <a:lnTo>
                    <a:pt x="468" y="2400"/>
                  </a:lnTo>
                  <a:lnTo>
                    <a:pt x="445" y="2403"/>
                  </a:lnTo>
                  <a:lnTo>
                    <a:pt x="423" y="2405"/>
                  </a:lnTo>
                  <a:lnTo>
                    <a:pt x="402" y="2406"/>
                  </a:lnTo>
                  <a:lnTo>
                    <a:pt x="380" y="2408"/>
                  </a:lnTo>
                  <a:lnTo>
                    <a:pt x="358" y="2408"/>
                  </a:lnTo>
                  <a:lnTo>
                    <a:pt x="364" y="2406"/>
                  </a:lnTo>
                  <a:lnTo>
                    <a:pt x="370" y="2401"/>
                  </a:lnTo>
                  <a:lnTo>
                    <a:pt x="376" y="2397"/>
                  </a:lnTo>
                  <a:lnTo>
                    <a:pt x="383" y="2391"/>
                  </a:lnTo>
                  <a:lnTo>
                    <a:pt x="391" y="2385"/>
                  </a:lnTo>
                  <a:lnTo>
                    <a:pt x="402" y="2379"/>
                  </a:lnTo>
                  <a:lnTo>
                    <a:pt x="418" y="2372"/>
                  </a:lnTo>
                  <a:lnTo>
                    <a:pt x="437" y="2368"/>
                  </a:lnTo>
                  <a:lnTo>
                    <a:pt x="448" y="2357"/>
                  </a:lnTo>
                  <a:lnTo>
                    <a:pt x="465" y="2349"/>
                  </a:lnTo>
                  <a:lnTo>
                    <a:pt x="486" y="2344"/>
                  </a:lnTo>
                  <a:lnTo>
                    <a:pt x="509" y="2340"/>
                  </a:lnTo>
                  <a:lnTo>
                    <a:pt x="533" y="2337"/>
                  </a:lnTo>
                  <a:lnTo>
                    <a:pt x="556" y="2336"/>
                  </a:lnTo>
                  <a:lnTo>
                    <a:pt x="575" y="2336"/>
                  </a:lnTo>
                  <a:lnTo>
                    <a:pt x="590" y="2336"/>
                  </a:lnTo>
                  <a:lnTo>
                    <a:pt x="598" y="2330"/>
                  </a:lnTo>
                  <a:lnTo>
                    <a:pt x="607" y="2326"/>
                  </a:lnTo>
                  <a:lnTo>
                    <a:pt x="618" y="2322"/>
                  </a:lnTo>
                  <a:lnTo>
                    <a:pt x="629" y="2319"/>
                  </a:lnTo>
                  <a:lnTo>
                    <a:pt x="641" y="2315"/>
                  </a:lnTo>
                  <a:lnTo>
                    <a:pt x="652" y="2313"/>
                  </a:lnTo>
                  <a:lnTo>
                    <a:pt x="663" y="2312"/>
                  </a:lnTo>
                  <a:lnTo>
                    <a:pt x="672" y="2312"/>
                  </a:lnTo>
                  <a:lnTo>
                    <a:pt x="672" y="2191"/>
                  </a:lnTo>
                  <a:lnTo>
                    <a:pt x="672" y="2155"/>
                  </a:lnTo>
                  <a:lnTo>
                    <a:pt x="674" y="2119"/>
                  </a:lnTo>
                  <a:lnTo>
                    <a:pt x="677" y="2083"/>
                  </a:lnTo>
                  <a:lnTo>
                    <a:pt x="680" y="2047"/>
                  </a:lnTo>
                  <a:lnTo>
                    <a:pt x="684" y="2010"/>
                  </a:lnTo>
                  <a:lnTo>
                    <a:pt x="688" y="1973"/>
                  </a:lnTo>
                  <a:lnTo>
                    <a:pt x="694" y="1939"/>
                  </a:lnTo>
                  <a:lnTo>
                    <a:pt x="700" y="1903"/>
                  </a:lnTo>
                  <a:lnTo>
                    <a:pt x="706" y="1866"/>
                  </a:lnTo>
                  <a:lnTo>
                    <a:pt x="713" y="1830"/>
                  </a:lnTo>
                  <a:lnTo>
                    <a:pt x="720" y="1794"/>
                  </a:lnTo>
                  <a:lnTo>
                    <a:pt x="727" y="1758"/>
                  </a:lnTo>
                  <a:lnTo>
                    <a:pt x="735" y="1722"/>
                  </a:lnTo>
                  <a:lnTo>
                    <a:pt x="742" y="1686"/>
                  </a:lnTo>
                  <a:lnTo>
                    <a:pt x="750" y="1650"/>
                  </a:lnTo>
                  <a:lnTo>
                    <a:pt x="757" y="1614"/>
                  </a:lnTo>
                  <a:lnTo>
                    <a:pt x="765" y="1578"/>
                  </a:lnTo>
                  <a:lnTo>
                    <a:pt x="772" y="1543"/>
                  </a:lnTo>
                  <a:lnTo>
                    <a:pt x="779" y="1507"/>
                  </a:lnTo>
                  <a:lnTo>
                    <a:pt x="786" y="1471"/>
                  </a:lnTo>
                  <a:lnTo>
                    <a:pt x="792" y="1435"/>
                  </a:lnTo>
                  <a:lnTo>
                    <a:pt x="798" y="1398"/>
                  </a:lnTo>
                  <a:lnTo>
                    <a:pt x="804" y="1362"/>
                  </a:lnTo>
                  <a:lnTo>
                    <a:pt x="808" y="1326"/>
                  </a:lnTo>
                  <a:lnTo>
                    <a:pt x="812" y="1290"/>
                  </a:lnTo>
                  <a:lnTo>
                    <a:pt x="815" y="1254"/>
                  </a:lnTo>
                  <a:lnTo>
                    <a:pt x="817" y="1216"/>
                  </a:lnTo>
                  <a:lnTo>
                    <a:pt x="819" y="1180"/>
                  </a:lnTo>
                  <a:lnTo>
                    <a:pt x="820" y="1144"/>
                  </a:lnTo>
                  <a:lnTo>
                    <a:pt x="819" y="1107"/>
                  </a:lnTo>
                  <a:lnTo>
                    <a:pt x="817" y="1071"/>
                  </a:lnTo>
                  <a:lnTo>
                    <a:pt x="814" y="1034"/>
                  </a:lnTo>
                  <a:lnTo>
                    <a:pt x="788" y="1064"/>
                  </a:lnTo>
                  <a:lnTo>
                    <a:pt x="766" y="1094"/>
                  </a:lnTo>
                  <a:lnTo>
                    <a:pt x="747" y="1123"/>
                  </a:lnTo>
                  <a:lnTo>
                    <a:pt x="728" y="1152"/>
                  </a:lnTo>
                  <a:lnTo>
                    <a:pt x="713" y="1182"/>
                  </a:lnTo>
                  <a:lnTo>
                    <a:pt x="699" y="1211"/>
                  </a:lnTo>
                  <a:lnTo>
                    <a:pt x="686" y="1240"/>
                  </a:lnTo>
                  <a:lnTo>
                    <a:pt x="674" y="1269"/>
                  </a:lnTo>
                  <a:lnTo>
                    <a:pt x="664" y="1297"/>
                  </a:lnTo>
                  <a:lnTo>
                    <a:pt x="655" y="1326"/>
                  </a:lnTo>
                  <a:lnTo>
                    <a:pt x="647" y="1354"/>
                  </a:lnTo>
                  <a:lnTo>
                    <a:pt x="638" y="1383"/>
                  </a:lnTo>
                  <a:lnTo>
                    <a:pt x="630" y="1411"/>
                  </a:lnTo>
                  <a:lnTo>
                    <a:pt x="622" y="1440"/>
                  </a:lnTo>
                  <a:lnTo>
                    <a:pt x="614" y="1468"/>
                  </a:lnTo>
                  <a:lnTo>
                    <a:pt x="605" y="1497"/>
                  </a:lnTo>
                  <a:lnTo>
                    <a:pt x="580" y="1478"/>
                  </a:lnTo>
                  <a:lnTo>
                    <a:pt x="565" y="1451"/>
                  </a:lnTo>
                  <a:lnTo>
                    <a:pt x="557" y="1419"/>
                  </a:lnTo>
                  <a:lnTo>
                    <a:pt x="555" y="1383"/>
                  </a:lnTo>
                  <a:lnTo>
                    <a:pt x="558" y="1343"/>
                  </a:lnTo>
                  <a:lnTo>
                    <a:pt x="564" y="1302"/>
                  </a:lnTo>
                  <a:lnTo>
                    <a:pt x="573" y="1264"/>
                  </a:lnTo>
                  <a:lnTo>
                    <a:pt x="583" y="1227"/>
                  </a:lnTo>
                  <a:lnTo>
                    <a:pt x="591" y="1194"/>
                  </a:lnTo>
                  <a:lnTo>
                    <a:pt x="598" y="1169"/>
                  </a:lnTo>
                  <a:lnTo>
                    <a:pt x="601" y="1150"/>
                  </a:lnTo>
                  <a:lnTo>
                    <a:pt x="600" y="1141"/>
                  </a:lnTo>
                  <a:lnTo>
                    <a:pt x="593" y="1142"/>
                  </a:lnTo>
                  <a:lnTo>
                    <a:pt x="578" y="1157"/>
                  </a:lnTo>
                  <a:lnTo>
                    <a:pt x="555" y="1187"/>
                  </a:lnTo>
                  <a:lnTo>
                    <a:pt x="522" y="1233"/>
                  </a:lnTo>
                  <a:lnTo>
                    <a:pt x="476" y="1233"/>
                  </a:lnTo>
                  <a:lnTo>
                    <a:pt x="476" y="1242"/>
                  </a:lnTo>
                  <a:lnTo>
                    <a:pt x="476" y="1250"/>
                  </a:lnTo>
                  <a:lnTo>
                    <a:pt x="475" y="1259"/>
                  </a:lnTo>
                  <a:lnTo>
                    <a:pt x="475" y="1268"/>
                  </a:lnTo>
                  <a:lnTo>
                    <a:pt x="473" y="1275"/>
                  </a:lnTo>
                  <a:lnTo>
                    <a:pt x="472" y="1282"/>
                  </a:lnTo>
                  <a:lnTo>
                    <a:pt x="472" y="1287"/>
                  </a:lnTo>
                  <a:lnTo>
                    <a:pt x="472" y="1291"/>
                  </a:lnTo>
                  <a:lnTo>
                    <a:pt x="461" y="1297"/>
                  </a:lnTo>
                  <a:lnTo>
                    <a:pt x="449" y="1302"/>
                  </a:lnTo>
                  <a:lnTo>
                    <a:pt x="436" y="1309"/>
                  </a:lnTo>
                  <a:lnTo>
                    <a:pt x="425" y="1316"/>
                  </a:lnTo>
                  <a:lnTo>
                    <a:pt x="412" y="1323"/>
                  </a:lnTo>
                  <a:lnTo>
                    <a:pt x="400" y="1332"/>
                  </a:lnTo>
                  <a:lnTo>
                    <a:pt x="387" y="1339"/>
                  </a:lnTo>
                  <a:lnTo>
                    <a:pt x="376" y="1346"/>
                  </a:lnTo>
                  <a:lnTo>
                    <a:pt x="363" y="1353"/>
                  </a:lnTo>
                  <a:lnTo>
                    <a:pt x="351" y="1358"/>
                  </a:lnTo>
                  <a:lnTo>
                    <a:pt x="339" y="1364"/>
                  </a:lnTo>
                  <a:lnTo>
                    <a:pt x="327" y="1369"/>
                  </a:lnTo>
                  <a:lnTo>
                    <a:pt x="314" y="1373"/>
                  </a:lnTo>
                  <a:lnTo>
                    <a:pt x="303" y="1377"/>
                  </a:lnTo>
                  <a:lnTo>
                    <a:pt x="290" y="1378"/>
                  </a:lnTo>
                  <a:lnTo>
                    <a:pt x="278" y="1379"/>
                  </a:lnTo>
                  <a:lnTo>
                    <a:pt x="279" y="1365"/>
                  </a:lnTo>
                  <a:lnTo>
                    <a:pt x="283" y="1350"/>
                  </a:lnTo>
                  <a:lnTo>
                    <a:pt x="289" y="1336"/>
                  </a:lnTo>
                  <a:lnTo>
                    <a:pt x="296" y="1321"/>
                  </a:lnTo>
                  <a:lnTo>
                    <a:pt x="304" y="1306"/>
                  </a:lnTo>
                  <a:lnTo>
                    <a:pt x="314" y="1290"/>
                  </a:lnTo>
                  <a:lnTo>
                    <a:pt x="325" y="1275"/>
                  </a:lnTo>
                  <a:lnTo>
                    <a:pt x="336" y="1259"/>
                  </a:lnTo>
                  <a:lnTo>
                    <a:pt x="349" y="1246"/>
                  </a:lnTo>
                  <a:lnTo>
                    <a:pt x="362" y="1230"/>
                  </a:lnTo>
                  <a:lnTo>
                    <a:pt x="375" y="1216"/>
                  </a:lnTo>
                  <a:lnTo>
                    <a:pt x="387" y="1204"/>
                  </a:lnTo>
                  <a:lnTo>
                    <a:pt x="399" y="1191"/>
                  </a:lnTo>
                  <a:lnTo>
                    <a:pt x="411" y="1179"/>
                  </a:lnTo>
                  <a:lnTo>
                    <a:pt x="422" y="1169"/>
                  </a:lnTo>
                  <a:lnTo>
                    <a:pt x="432" y="1159"/>
                  </a:lnTo>
                  <a:lnTo>
                    <a:pt x="411" y="1159"/>
                  </a:lnTo>
                  <a:lnTo>
                    <a:pt x="390" y="1161"/>
                  </a:lnTo>
                  <a:lnTo>
                    <a:pt x="369" y="1162"/>
                  </a:lnTo>
                  <a:lnTo>
                    <a:pt x="347" y="1164"/>
                  </a:lnTo>
                  <a:lnTo>
                    <a:pt x="325" y="1166"/>
                  </a:lnTo>
                  <a:lnTo>
                    <a:pt x="301" y="1168"/>
                  </a:lnTo>
                  <a:lnTo>
                    <a:pt x="279" y="1170"/>
                  </a:lnTo>
                  <a:lnTo>
                    <a:pt x="257" y="1171"/>
                  </a:lnTo>
                  <a:lnTo>
                    <a:pt x="235" y="1173"/>
                  </a:lnTo>
                  <a:lnTo>
                    <a:pt x="213" y="1173"/>
                  </a:lnTo>
                  <a:lnTo>
                    <a:pt x="191" y="1173"/>
                  </a:lnTo>
                  <a:lnTo>
                    <a:pt x="170" y="1173"/>
                  </a:lnTo>
                  <a:lnTo>
                    <a:pt x="149" y="1171"/>
                  </a:lnTo>
                  <a:lnTo>
                    <a:pt x="129" y="1169"/>
                  </a:lnTo>
                  <a:lnTo>
                    <a:pt x="110" y="1165"/>
                  </a:lnTo>
                  <a:lnTo>
                    <a:pt x="91" y="1159"/>
                  </a:lnTo>
                  <a:lnTo>
                    <a:pt x="105" y="1147"/>
                  </a:lnTo>
                  <a:lnTo>
                    <a:pt x="120" y="1135"/>
                  </a:lnTo>
                  <a:lnTo>
                    <a:pt x="136" y="1123"/>
                  </a:lnTo>
                  <a:lnTo>
                    <a:pt x="155" y="1113"/>
                  </a:lnTo>
                  <a:lnTo>
                    <a:pt x="173" y="1102"/>
                  </a:lnTo>
                  <a:lnTo>
                    <a:pt x="193" y="1093"/>
                  </a:lnTo>
                  <a:lnTo>
                    <a:pt x="215" y="1084"/>
                  </a:lnTo>
                  <a:lnTo>
                    <a:pt x="237" y="1075"/>
                  </a:lnTo>
                  <a:lnTo>
                    <a:pt x="259" y="1065"/>
                  </a:lnTo>
                  <a:lnTo>
                    <a:pt x="283" y="1057"/>
                  </a:lnTo>
                  <a:lnTo>
                    <a:pt x="307" y="1049"/>
                  </a:lnTo>
                  <a:lnTo>
                    <a:pt x="332" y="1041"/>
                  </a:lnTo>
                  <a:lnTo>
                    <a:pt x="356" y="1033"/>
                  </a:lnTo>
                  <a:lnTo>
                    <a:pt x="382" y="1023"/>
                  </a:lnTo>
                  <a:lnTo>
                    <a:pt x="406" y="1015"/>
                  </a:lnTo>
                  <a:lnTo>
                    <a:pt x="432" y="1007"/>
                  </a:lnTo>
                  <a:lnTo>
                    <a:pt x="0" y="985"/>
                  </a:lnTo>
                  <a:lnTo>
                    <a:pt x="15" y="949"/>
                  </a:lnTo>
                  <a:lnTo>
                    <a:pt x="35" y="921"/>
                  </a:lnTo>
                  <a:lnTo>
                    <a:pt x="60" y="900"/>
                  </a:lnTo>
                  <a:lnTo>
                    <a:pt x="87" y="886"/>
                  </a:lnTo>
                  <a:lnTo>
                    <a:pt x="119" y="878"/>
                  </a:lnTo>
                  <a:lnTo>
                    <a:pt x="153" y="873"/>
                  </a:lnTo>
                  <a:lnTo>
                    <a:pt x="187" y="872"/>
                  </a:lnTo>
                  <a:lnTo>
                    <a:pt x="223" y="873"/>
                  </a:lnTo>
                  <a:lnTo>
                    <a:pt x="259" y="877"/>
                  </a:lnTo>
                  <a:lnTo>
                    <a:pt x="296" y="882"/>
                  </a:lnTo>
                  <a:lnTo>
                    <a:pt x="329" y="885"/>
                  </a:lnTo>
                  <a:lnTo>
                    <a:pt x="362" y="889"/>
                  </a:lnTo>
                  <a:lnTo>
                    <a:pt x="392" y="890"/>
                  </a:lnTo>
                  <a:lnTo>
                    <a:pt x="419" y="887"/>
                  </a:lnTo>
                  <a:lnTo>
                    <a:pt x="441" y="882"/>
                  </a:lnTo>
                  <a:lnTo>
                    <a:pt x="459" y="871"/>
                  </a:lnTo>
                  <a:lnTo>
                    <a:pt x="441" y="859"/>
                  </a:lnTo>
                  <a:lnTo>
                    <a:pt x="421" y="848"/>
                  </a:lnTo>
                  <a:lnTo>
                    <a:pt x="401" y="836"/>
                  </a:lnTo>
                  <a:lnTo>
                    <a:pt x="382" y="825"/>
                  </a:lnTo>
                  <a:lnTo>
                    <a:pt x="362" y="813"/>
                  </a:lnTo>
                  <a:lnTo>
                    <a:pt x="343" y="800"/>
                  </a:lnTo>
                  <a:lnTo>
                    <a:pt x="323" y="789"/>
                  </a:lnTo>
                  <a:lnTo>
                    <a:pt x="304" y="776"/>
                  </a:lnTo>
                  <a:lnTo>
                    <a:pt x="285" y="763"/>
                  </a:lnTo>
                  <a:lnTo>
                    <a:pt x="266" y="750"/>
                  </a:lnTo>
                  <a:lnTo>
                    <a:pt x="248" y="736"/>
                  </a:lnTo>
                  <a:lnTo>
                    <a:pt x="230" y="723"/>
                  </a:lnTo>
                  <a:lnTo>
                    <a:pt x="213" y="709"/>
                  </a:lnTo>
                  <a:lnTo>
                    <a:pt x="196" y="695"/>
                  </a:lnTo>
                  <a:lnTo>
                    <a:pt x="179" y="682"/>
                  </a:lnTo>
                  <a:lnTo>
                    <a:pt x="164" y="668"/>
                  </a:lnTo>
                  <a:lnTo>
                    <a:pt x="164" y="615"/>
                  </a:lnTo>
                  <a:lnTo>
                    <a:pt x="137" y="615"/>
                  </a:lnTo>
                  <a:lnTo>
                    <a:pt x="115" y="615"/>
                  </a:lnTo>
                  <a:lnTo>
                    <a:pt x="99" y="614"/>
                  </a:lnTo>
                  <a:lnTo>
                    <a:pt x="84" y="612"/>
                  </a:lnTo>
                  <a:lnTo>
                    <a:pt x="69" y="608"/>
                  </a:lnTo>
                  <a:lnTo>
                    <a:pt x="53" y="604"/>
                  </a:lnTo>
                  <a:lnTo>
                    <a:pt x="34" y="598"/>
                  </a:lnTo>
                  <a:lnTo>
                    <a:pt x="10" y="588"/>
                  </a:lnTo>
                  <a:lnTo>
                    <a:pt x="37" y="566"/>
                  </a:lnTo>
                  <a:lnTo>
                    <a:pt x="68" y="551"/>
                  </a:lnTo>
                  <a:lnTo>
                    <a:pt x="101" y="541"/>
                  </a:lnTo>
                  <a:lnTo>
                    <a:pt x="137" y="536"/>
                  </a:lnTo>
                  <a:lnTo>
                    <a:pt x="176" y="537"/>
                  </a:lnTo>
                  <a:lnTo>
                    <a:pt x="215" y="542"/>
                  </a:lnTo>
                  <a:lnTo>
                    <a:pt x="257" y="552"/>
                  </a:lnTo>
                  <a:lnTo>
                    <a:pt x="300" y="568"/>
                  </a:lnTo>
                  <a:lnTo>
                    <a:pt x="343" y="586"/>
                  </a:lnTo>
                  <a:lnTo>
                    <a:pt x="389" y="609"/>
                  </a:lnTo>
                  <a:lnTo>
                    <a:pt x="434" y="636"/>
                  </a:lnTo>
                  <a:lnTo>
                    <a:pt x="479" y="666"/>
                  </a:lnTo>
                  <a:lnTo>
                    <a:pt x="525" y="699"/>
                  </a:lnTo>
                  <a:lnTo>
                    <a:pt x="570" y="735"/>
                  </a:lnTo>
                  <a:lnTo>
                    <a:pt x="615" y="775"/>
                  </a:lnTo>
                  <a:lnTo>
                    <a:pt x="659" y="815"/>
                  </a:lnTo>
                  <a:close/>
                  <a:moveTo>
                    <a:pt x="823" y="735"/>
                  </a:moveTo>
                  <a:lnTo>
                    <a:pt x="823" y="719"/>
                  </a:lnTo>
                  <a:lnTo>
                    <a:pt x="823" y="701"/>
                  </a:lnTo>
                  <a:lnTo>
                    <a:pt x="822" y="684"/>
                  </a:lnTo>
                  <a:lnTo>
                    <a:pt x="822" y="666"/>
                  </a:lnTo>
                  <a:lnTo>
                    <a:pt x="822" y="649"/>
                  </a:lnTo>
                  <a:lnTo>
                    <a:pt x="822" y="632"/>
                  </a:lnTo>
                  <a:lnTo>
                    <a:pt x="823" y="614"/>
                  </a:lnTo>
                  <a:lnTo>
                    <a:pt x="823" y="598"/>
                  </a:lnTo>
                  <a:lnTo>
                    <a:pt x="824" y="580"/>
                  </a:lnTo>
                  <a:lnTo>
                    <a:pt x="827" y="563"/>
                  </a:lnTo>
                  <a:lnTo>
                    <a:pt x="829" y="547"/>
                  </a:lnTo>
                  <a:lnTo>
                    <a:pt x="831" y="530"/>
                  </a:lnTo>
                  <a:lnTo>
                    <a:pt x="835" y="515"/>
                  </a:lnTo>
                  <a:lnTo>
                    <a:pt x="840" y="500"/>
                  </a:lnTo>
                  <a:lnTo>
                    <a:pt x="845" y="485"/>
                  </a:lnTo>
                  <a:lnTo>
                    <a:pt x="852" y="471"/>
                  </a:lnTo>
                  <a:lnTo>
                    <a:pt x="845" y="470"/>
                  </a:lnTo>
                  <a:lnTo>
                    <a:pt x="840" y="471"/>
                  </a:lnTo>
                  <a:lnTo>
                    <a:pt x="834" y="475"/>
                  </a:lnTo>
                  <a:lnTo>
                    <a:pt x="828" y="479"/>
                  </a:lnTo>
                  <a:lnTo>
                    <a:pt x="822" y="486"/>
                  </a:lnTo>
                  <a:lnTo>
                    <a:pt x="816" y="492"/>
                  </a:lnTo>
                  <a:lnTo>
                    <a:pt x="809" y="498"/>
                  </a:lnTo>
                  <a:lnTo>
                    <a:pt x="802" y="501"/>
                  </a:lnTo>
                  <a:lnTo>
                    <a:pt x="799" y="486"/>
                  </a:lnTo>
                  <a:lnTo>
                    <a:pt x="797" y="469"/>
                  </a:lnTo>
                  <a:lnTo>
                    <a:pt x="794" y="449"/>
                  </a:lnTo>
                  <a:lnTo>
                    <a:pt x="793" y="428"/>
                  </a:lnTo>
                  <a:lnTo>
                    <a:pt x="791" y="405"/>
                  </a:lnTo>
                  <a:lnTo>
                    <a:pt x="791" y="381"/>
                  </a:lnTo>
                  <a:lnTo>
                    <a:pt x="790" y="358"/>
                  </a:lnTo>
                  <a:lnTo>
                    <a:pt x="790" y="334"/>
                  </a:lnTo>
                  <a:lnTo>
                    <a:pt x="791" y="311"/>
                  </a:lnTo>
                  <a:lnTo>
                    <a:pt x="792" y="287"/>
                  </a:lnTo>
                  <a:lnTo>
                    <a:pt x="793" y="265"/>
                  </a:lnTo>
                  <a:lnTo>
                    <a:pt x="795" y="244"/>
                  </a:lnTo>
                  <a:lnTo>
                    <a:pt x="798" y="226"/>
                  </a:lnTo>
                  <a:lnTo>
                    <a:pt x="800" y="209"/>
                  </a:lnTo>
                  <a:lnTo>
                    <a:pt x="804" y="195"/>
                  </a:lnTo>
                  <a:lnTo>
                    <a:pt x="808" y="184"/>
                  </a:lnTo>
                  <a:lnTo>
                    <a:pt x="805" y="191"/>
                  </a:lnTo>
                  <a:lnTo>
                    <a:pt x="801" y="200"/>
                  </a:lnTo>
                  <a:lnTo>
                    <a:pt x="797" y="211"/>
                  </a:lnTo>
                  <a:lnTo>
                    <a:pt x="792" y="223"/>
                  </a:lnTo>
                  <a:lnTo>
                    <a:pt x="787" y="237"/>
                  </a:lnTo>
                  <a:lnTo>
                    <a:pt x="783" y="254"/>
                  </a:lnTo>
                  <a:lnTo>
                    <a:pt x="778" y="271"/>
                  </a:lnTo>
                  <a:lnTo>
                    <a:pt x="773" y="290"/>
                  </a:lnTo>
                  <a:lnTo>
                    <a:pt x="770" y="311"/>
                  </a:lnTo>
                  <a:lnTo>
                    <a:pt x="766" y="331"/>
                  </a:lnTo>
                  <a:lnTo>
                    <a:pt x="764" y="355"/>
                  </a:lnTo>
                  <a:lnTo>
                    <a:pt x="762" y="379"/>
                  </a:lnTo>
                  <a:lnTo>
                    <a:pt x="762" y="405"/>
                  </a:lnTo>
                  <a:lnTo>
                    <a:pt x="762" y="430"/>
                  </a:lnTo>
                  <a:lnTo>
                    <a:pt x="764" y="457"/>
                  </a:lnTo>
                  <a:lnTo>
                    <a:pt x="767" y="485"/>
                  </a:lnTo>
                  <a:lnTo>
                    <a:pt x="755" y="479"/>
                  </a:lnTo>
                  <a:lnTo>
                    <a:pt x="745" y="480"/>
                  </a:lnTo>
                  <a:lnTo>
                    <a:pt x="740" y="485"/>
                  </a:lnTo>
                  <a:lnTo>
                    <a:pt x="738" y="494"/>
                  </a:lnTo>
                  <a:lnTo>
                    <a:pt x="740" y="508"/>
                  </a:lnTo>
                  <a:lnTo>
                    <a:pt x="745" y="523"/>
                  </a:lnTo>
                  <a:lnTo>
                    <a:pt x="755" y="540"/>
                  </a:lnTo>
                  <a:lnTo>
                    <a:pt x="767" y="557"/>
                  </a:lnTo>
                  <a:lnTo>
                    <a:pt x="770" y="579"/>
                  </a:lnTo>
                  <a:lnTo>
                    <a:pt x="777" y="600"/>
                  </a:lnTo>
                  <a:lnTo>
                    <a:pt x="785" y="621"/>
                  </a:lnTo>
                  <a:lnTo>
                    <a:pt x="795" y="642"/>
                  </a:lnTo>
                  <a:lnTo>
                    <a:pt x="806" y="664"/>
                  </a:lnTo>
                  <a:lnTo>
                    <a:pt x="815" y="687"/>
                  </a:lnTo>
                  <a:lnTo>
                    <a:pt x="821" y="711"/>
                  </a:lnTo>
                  <a:lnTo>
                    <a:pt x="823" y="735"/>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54440" y="4062240"/>
              <a:ext cx="3224160" cy="2141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937120" y="5032440"/>
              <a:ext cx="1284480" cy="995400"/>
            </a:xfrm>
            <a:custGeom>
              <a:avLst/>
              <a:gdLst/>
              <a:ahLst/>
              <a:rect l="l" t="t" r="r" b="b"/>
              <a:pathLst>
                <a:path w="2429" h="1882">
                  <a:moveTo>
                    <a:pt x="1435" y="1053"/>
                  </a:moveTo>
                  <a:lnTo>
                    <a:pt x="1435" y="1053"/>
                  </a:lnTo>
                  <a:lnTo>
                    <a:pt x="1436" y="1079"/>
                  </a:lnTo>
                  <a:lnTo>
                    <a:pt x="1436" y="1105"/>
                  </a:lnTo>
                  <a:lnTo>
                    <a:pt x="1435" y="1129"/>
                  </a:lnTo>
                  <a:lnTo>
                    <a:pt x="1434" y="1153"/>
                  </a:lnTo>
                  <a:lnTo>
                    <a:pt x="1432" y="1175"/>
                  </a:lnTo>
                  <a:lnTo>
                    <a:pt x="1430" y="1195"/>
                  </a:lnTo>
                  <a:lnTo>
                    <a:pt x="1428" y="1213"/>
                  </a:lnTo>
                  <a:lnTo>
                    <a:pt x="1425" y="1231"/>
                  </a:lnTo>
                  <a:lnTo>
                    <a:pt x="1421" y="1248"/>
                  </a:lnTo>
                  <a:lnTo>
                    <a:pt x="1418" y="1265"/>
                  </a:lnTo>
                  <a:lnTo>
                    <a:pt x="1416" y="1282"/>
                  </a:lnTo>
                  <a:lnTo>
                    <a:pt x="1416" y="1298"/>
                  </a:lnTo>
                  <a:lnTo>
                    <a:pt x="1416" y="1313"/>
                  </a:lnTo>
                  <a:lnTo>
                    <a:pt x="1418" y="1327"/>
                  </a:lnTo>
                  <a:lnTo>
                    <a:pt x="1421" y="1341"/>
                  </a:lnTo>
                  <a:lnTo>
                    <a:pt x="1425" y="1354"/>
                  </a:lnTo>
                  <a:lnTo>
                    <a:pt x="1429" y="1368"/>
                  </a:lnTo>
                  <a:lnTo>
                    <a:pt x="1431" y="1383"/>
                  </a:lnTo>
                  <a:lnTo>
                    <a:pt x="1432" y="1399"/>
                  </a:lnTo>
                  <a:lnTo>
                    <a:pt x="1431" y="1415"/>
                  </a:lnTo>
                  <a:lnTo>
                    <a:pt x="1428" y="1432"/>
                  </a:lnTo>
                  <a:lnTo>
                    <a:pt x="1424" y="1449"/>
                  </a:lnTo>
                  <a:lnTo>
                    <a:pt x="1420" y="1467"/>
                  </a:lnTo>
                  <a:lnTo>
                    <a:pt x="1413" y="1484"/>
                  </a:lnTo>
                  <a:lnTo>
                    <a:pt x="1410" y="1491"/>
                  </a:lnTo>
                  <a:lnTo>
                    <a:pt x="1408" y="1500"/>
                  </a:lnTo>
                  <a:lnTo>
                    <a:pt x="1407" y="1512"/>
                  </a:lnTo>
                  <a:lnTo>
                    <a:pt x="1404" y="1524"/>
                  </a:lnTo>
                  <a:lnTo>
                    <a:pt x="1403" y="1538"/>
                  </a:lnTo>
                  <a:lnTo>
                    <a:pt x="1402" y="1553"/>
                  </a:lnTo>
                  <a:lnTo>
                    <a:pt x="1401" y="1568"/>
                  </a:lnTo>
                  <a:lnTo>
                    <a:pt x="1401" y="1585"/>
                  </a:lnTo>
                  <a:lnTo>
                    <a:pt x="1401" y="1600"/>
                  </a:lnTo>
                  <a:lnTo>
                    <a:pt x="1403" y="1617"/>
                  </a:lnTo>
                  <a:lnTo>
                    <a:pt x="1406" y="1633"/>
                  </a:lnTo>
                  <a:lnTo>
                    <a:pt x="1409" y="1650"/>
                  </a:lnTo>
                  <a:lnTo>
                    <a:pt x="1414" y="1669"/>
                  </a:lnTo>
                  <a:lnTo>
                    <a:pt x="1418" y="1688"/>
                  </a:lnTo>
                  <a:lnTo>
                    <a:pt x="1424" y="1709"/>
                  </a:lnTo>
                  <a:lnTo>
                    <a:pt x="1431" y="1729"/>
                  </a:lnTo>
                  <a:lnTo>
                    <a:pt x="1437" y="1728"/>
                  </a:lnTo>
                  <a:lnTo>
                    <a:pt x="1443" y="1727"/>
                  </a:lnTo>
                  <a:lnTo>
                    <a:pt x="1451" y="1724"/>
                  </a:lnTo>
                  <a:lnTo>
                    <a:pt x="1459" y="1720"/>
                  </a:lnTo>
                  <a:lnTo>
                    <a:pt x="1467" y="1716"/>
                  </a:lnTo>
                  <a:lnTo>
                    <a:pt x="1478" y="1709"/>
                  </a:lnTo>
                  <a:lnTo>
                    <a:pt x="1487" y="1702"/>
                  </a:lnTo>
                  <a:lnTo>
                    <a:pt x="1497" y="1693"/>
                  </a:lnTo>
                  <a:lnTo>
                    <a:pt x="1509" y="1684"/>
                  </a:lnTo>
                  <a:lnTo>
                    <a:pt x="1520" y="1672"/>
                  </a:lnTo>
                  <a:lnTo>
                    <a:pt x="1531" y="1659"/>
                  </a:lnTo>
                  <a:lnTo>
                    <a:pt x="1542" y="1643"/>
                  </a:lnTo>
                  <a:lnTo>
                    <a:pt x="1552" y="1626"/>
                  </a:lnTo>
                  <a:lnTo>
                    <a:pt x="1563" y="1606"/>
                  </a:lnTo>
                  <a:lnTo>
                    <a:pt x="1572" y="1585"/>
                  </a:lnTo>
                  <a:lnTo>
                    <a:pt x="1580" y="1563"/>
                  </a:lnTo>
                  <a:lnTo>
                    <a:pt x="1588" y="1542"/>
                  </a:lnTo>
                  <a:lnTo>
                    <a:pt x="1595" y="1521"/>
                  </a:lnTo>
                  <a:lnTo>
                    <a:pt x="1602" y="1502"/>
                  </a:lnTo>
                  <a:lnTo>
                    <a:pt x="1608" y="1482"/>
                  </a:lnTo>
                  <a:lnTo>
                    <a:pt x="1614" y="1464"/>
                  </a:lnTo>
                  <a:lnTo>
                    <a:pt x="1618" y="1447"/>
                  </a:lnTo>
                  <a:lnTo>
                    <a:pt x="1624" y="1431"/>
                  </a:lnTo>
                  <a:lnTo>
                    <a:pt x="1629" y="1415"/>
                  </a:lnTo>
                  <a:lnTo>
                    <a:pt x="1633" y="1398"/>
                  </a:lnTo>
                  <a:lnTo>
                    <a:pt x="1637" y="1379"/>
                  </a:lnTo>
                  <a:lnTo>
                    <a:pt x="1639" y="1360"/>
                  </a:lnTo>
                  <a:lnTo>
                    <a:pt x="1640" y="1339"/>
                  </a:lnTo>
                  <a:lnTo>
                    <a:pt x="1642" y="1318"/>
                  </a:lnTo>
                  <a:lnTo>
                    <a:pt x="1640" y="1296"/>
                  </a:lnTo>
                  <a:lnTo>
                    <a:pt x="1640" y="1275"/>
                  </a:lnTo>
                  <a:lnTo>
                    <a:pt x="1638" y="1253"/>
                  </a:lnTo>
                  <a:lnTo>
                    <a:pt x="1637" y="1238"/>
                  </a:lnTo>
                  <a:lnTo>
                    <a:pt x="1636" y="1222"/>
                  </a:lnTo>
                  <a:lnTo>
                    <a:pt x="1636" y="1208"/>
                  </a:lnTo>
                  <a:lnTo>
                    <a:pt x="1636" y="1195"/>
                  </a:lnTo>
                  <a:lnTo>
                    <a:pt x="1637" y="1181"/>
                  </a:lnTo>
                  <a:lnTo>
                    <a:pt x="1638" y="1167"/>
                  </a:lnTo>
                  <a:lnTo>
                    <a:pt x="1639" y="1153"/>
                  </a:lnTo>
                  <a:lnTo>
                    <a:pt x="1642" y="1140"/>
                  </a:lnTo>
                  <a:lnTo>
                    <a:pt x="1644" y="1126"/>
                  </a:lnTo>
                  <a:lnTo>
                    <a:pt x="1645" y="1113"/>
                  </a:lnTo>
                  <a:lnTo>
                    <a:pt x="1645" y="1100"/>
                  </a:lnTo>
                  <a:lnTo>
                    <a:pt x="1645" y="1086"/>
                  </a:lnTo>
                  <a:lnTo>
                    <a:pt x="1644" y="1074"/>
                  </a:lnTo>
                  <a:lnTo>
                    <a:pt x="1642" y="1061"/>
                  </a:lnTo>
                  <a:lnTo>
                    <a:pt x="1639" y="1048"/>
                  </a:lnTo>
                  <a:lnTo>
                    <a:pt x="1635" y="1034"/>
                  </a:lnTo>
                  <a:lnTo>
                    <a:pt x="1621" y="1041"/>
                  </a:lnTo>
                  <a:lnTo>
                    <a:pt x="1608" y="1046"/>
                  </a:lnTo>
                  <a:lnTo>
                    <a:pt x="1594" y="1052"/>
                  </a:lnTo>
                  <a:lnTo>
                    <a:pt x="1581" y="1055"/>
                  </a:lnTo>
                  <a:lnTo>
                    <a:pt x="1567" y="1058"/>
                  </a:lnTo>
                  <a:lnTo>
                    <a:pt x="1554" y="1062"/>
                  </a:lnTo>
                  <a:lnTo>
                    <a:pt x="1542" y="1064"/>
                  </a:lnTo>
                  <a:lnTo>
                    <a:pt x="1529" y="1065"/>
                  </a:lnTo>
                  <a:lnTo>
                    <a:pt x="1516" y="1067"/>
                  </a:lnTo>
                  <a:lnTo>
                    <a:pt x="1504" y="1067"/>
                  </a:lnTo>
                  <a:lnTo>
                    <a:pt x="1492" y="1065"/>
                  </a:lnTo>
                  <a:lnTo>
                    <a:pt x="1480" y="1064"/>
                  </a:lnTo>
                  <a:lnTo>
                    <a:pt x="1468" y="1063"/>
                  </a:lnTo>
                  <a:lnTo>
                    <a:pt x="1457" y="1060"/>
                  </a:lnTo>
                  <a:lnTo>
                    <a:pt x="1445" y="1056"/>
                  </a:lnTo>
                  <a:lnTo>
                    <a:pt x="1435" y="1053"/>
                  </a:lnTo>
                  <a:close/>
                  <a:moveTo>
                    <a:pt x="686" y="1005"/>
                  </a:moveTo>
                  <a:lnTo>
                    <a:pt x="681" y="1005"/>
                  </a:lnTo>
                  <a:lnTo>
                    <a:pt x="658" y="999"/>
                  </a:lnTo>
                  <a:lnTo>
                    <a:pt x="636" y="992"/>
                  </a:lnTo>
                  <a:lnTo>
                    <a:pt x="614" y="984"/>
                  </a:lnTo>
                  <a:lnTo>
                    <a:pt x="593" y="974"/>
                  </a:lnTo>
                  <a:lnTo>
                    <a:pt x="573" y="963"/>
                  </a:lnTo>
                  <a:lnTo>
                    <a:pt x="554" y="950"/>
                  </a:lnTo>
                  <a:lnTo>
                    <a:pt x="535" y="936"/>
                  </a:lnTo>
                  <a:lnTo>
                    <a:pt x="518" y="921"/>
                  </a:lnTo>
                  <a:lnTo>
                    <a:pt x="501" y="905"/>
                  </a:lnTo>
                  <a:lnTo>
                    <a:pt x="485" y="888"/>
                  </a:lnTo>
                  <a:lnTo>
                    <a:pt x="470" y="869"/>
                  </a:lnTo>
                  <a:lnTo>
                    <a:pt x="456" y="848"/>
                  </a:lnTo>
                  <a:lnTo>
                    <a:pt x="443" y="826"/>
                  </a:lnTo>
                  <a:lnTo>
                    <a:pt x="430" y="803"/>
                  </a:lnTo>
                  <a:lnTo>
                    <a:pt x="419" y="778"/>
                  </a:lnTo>
                  <a:lnTo>
                    <a:pt x="408" y="753"/>
                  </a:lnTo>
                  <a:lnTo>
                    <a:pt x="398" y="727"/>
                  </a:lnTo>
                  <a:lnTo>
                    <a:pt x="390" y="701"/>
                  </a:lnTo>
                  <a:lnTo>
                    <a:pt x="380" y="676"/>
                  </a:lnTo>
                  <a:lnTo>
                    <a:pt x="372" y="651"/>
                  </a:lnTo>
                  <a:lnTo>
                    <a:pt x="365" y="627"/>
                  </a:lnTo>
                  <a:lnTo>
                    <a:pt x="359" y="603"/>
                  </a:lnTo>
                  <a:lnTo>
                    <a:pt x="354" y="579"/>
                  </a:lnTo>
                  <a:lnTo>
                    <a:pt x="348" y="557"/>
                  </a:lnTo>
                  <a:lnTo>
                    <a:pt x="344" y="535"/>
                  </a:lnTo>
                  <a:lnTo>
                    <a:pt x="340" y="513"/>
                  </a:lnTo>
                  <a:lnTo>
                    <a:pt x="337" y="492"/>
                  </a:lnTo>
                  <a:lnTo>
                    <a:pt x="335" y="471"/>
                  </a:lnTo>
                  <a:lnTo>
                    <a:pt x="333" y="451"/>
                  </a:lnTo>
                  <a:lnTo>
                    <a:pt x="333" y="432"/>
                  </a:lnTo>
                  <a:lnTo>
                    <a:pt x="333" y="413"/>
                  </a:lnTo>
                  <a:lnTo>
                    <a:pt x="333" y="394"/>
                  </a:lnTo>
                  <a:lnTo>
                    <a:pt x="330" y="389"/>
                  </a:lnTo>
                  <a:lnTo>
                    <a:pt x="327" y="382"/>
                  </a:lnTo>
                  <a:lnTo>
                    <a:pt x="323" y="375"/>
                  </a:lnTo>
                  <a:lnTo>
                    <a:pt x="319" y="367"/>
                  </a:lnTo>
                  <a:lnTo>
                    <a:pt x="313" y="360"/>
                  </a:lnTo>
                  <a:lnTo>
                    <a:pt x="307" y="351"/>
                  </a:lnTo>
                  <a:lnTo>
                    <a:pt x="301" y="342"/>
                  </a:lnTo>
                  <a:lnTo>
                    <a:pt x="294" y="333"/>
                  </a:lnTo>
                  <a:lnTo>
                    <a:pt x="286" y="324"/>
                  </a:lnTo>
                  <a:lnTo>
                    <a:pt x="279" y="315"/>
                  </a:lnTo>
                  <a:lnTo>
                    <a:pt x="273" y="306"/>
                  </a:lnTo>
                  <a:lnTo>
                    <a:pt x="269" y="298"/>
                  </a:lnTo>
                  <a:lnTo>
                    <a:pt x="264" y="290"/>
                  </a:lnTo>
                  <a:lnTo>
                    <a:pt x="262" y="283"/>
                  </a:lnTo>
                  <a:lnTo>
                    <a:pt x="261" y="275"/>
                  </a:lnTo>
                  <a:lnTo>
                    <a:pt x="259" y="268"/>
                  </a:lnTo>
                  <a:lnTo>
                    <a:pt x="255" y="267"/>
                  </a:lnTo>
                  <a:lnTo>
                    <a:pt x="249" y="264"/>
                  </a:lnTo>
                  <a:lnTo>
                    <a:pt x="242" y="262"/>
                  </a:lnTo>
                  <a:lnTo>
                    <a:pt x="233" y="258"/>
                  </a:lnTo>
                  <a:lnTo>
                    <a:pt x="223" y="256"/>
                  </a:lnTo>
                  <a:lnTo>
                    <a:pt x="214" y="253"/>
                  </a:lnTo>
                  <a:lnTo>
                    <a:pt x="206" y="249"/>
                  </a:lnTo>
                  <a:lnTo>
                    <a:pt x="199" y="246"/>
                  </a:lnTo>
                  <a:lnTo>
                    <a:pt x="187" y="242"/>
                  </a:lnTo>
                  <a:lnTo>
                    <a:pt x="177" y="239"/>
                  </a:lnTo>
                  <a:lnTo>
                    <a:pt x="168" y="234"/>
                  </a:lnTo>
                  <a:lnTo>
                    <a:pt x="160" y="229"/>
                  </a:lnTo>
                  <a:lnTo>
                    <a:pt x="151" y="226"/>
                  </a:lnTo>
                  <a:lnTo>
                    <a:pt x="146" y="221"/>
                  </a:lnTo>
                  <a:lnTo>
                    <a:pt x="141" y="217"/>
                  </a:lnTo>
                  <a:lnTo>
                    <a:pt x="136" y="213"/>
                  </a:lnTo>
                  <a:lnTo>
                    <a:pt x="123" y="220"/>
                  </a:lnTo>
                  <a:lnTo>
                    <a:pt x="110" y="225"/>
                  </a:lnTo>
                  <a:lnTo>
                    <a:pt x="96" y="228"/>
                  </a:lnTo>
                  <a:lnTo>
                    <a:pt x="82" y="229"/>
                  </a:lnTo>
                  <a:lnTo>
                    <a:pt x="67" y="229"/>
                  </a:lnTo>
                  <a:lnTo>
                    <a:pt x="51" y="228"/>
                  </a:lnTo>
                  <a:lnTo>
                    <a:pt x="35" y="225"/>
                  </a:lnTo>
                  <a:lnTo>
                    <a:pt x="19" y="219"/>
                  </a:lnTo>
                  <a:lnTo>
                    <a:pt x="11" y="213"/>
                  </a:lnTo>
                  <a:lnTo>
                    <a:pt x="6" y="206"/>
                  </a:lnTo>
                  <a:lnTo>
                    <a:pt x="4" y="198"/>
                  </a:lnTo>
                  <a:lnTo>
                    <a:pt x="6" y="191"/>
                  </a:lnTo>
                  <a:lnTo>
                    <a:pt x="7" y="186"/>
                  </a:lnTo>
                  <a:lnTo>
                    <a:pt x="12" y="183"/>
                  </a:lnTo>
                  <a:lnTo>
                    <a:pt x="19" y="179"/>
                  </a:lnTo>
                  <a:lnTo>
                    <a:pt x="28" y="178"/>
                  </a:lnTo>
                  <a:lnTo>
                    <a:pt x="19" y="178"/>
                  </a:lnTo>
                  <a:lnTo>
                    <a:pt x="12" y="176"/>
                  </a:lnTo>
                  <a:lnTo>
                    <a:pt x="6" y="174"/>
                  </a:lnTo>
                  <a:lnTo>
                    <a:pt x="1" y="169"/>
                  </a:lnTo>
                  <a:lnTo>
                    <a:pt x="0" y="157"/>
                  </a:lnTo>
                  <a:lnTo>
                    <a:pt x="0" y="148"/>
                  </a:lnTo>
                  <a:lnTo>
                    <a:pt x="3" y="139"/>
                  </a:lnTo>
                  <a:lnTo>
                    <a:pt x="6" y="131"/>
                  </a:lnTo>
                  <a:lnTo>
                    <a:pt x="12" y="124"/>
                  </a:lnTo>
                  <a:lnTo>
                    <a:pt x="19" y="118"/>
                  </a:lnTo>
                  <a:lnTo>
                    <a:pt x="29" y="113"/>
                  </a:lnTo>
                  <a:lnTo>
                    <a:pt x="41" y="108"/>
                  </a:lnTo>
                  <a:lnTo>
                    <a:pt x="47" y="96"/>
                  </a:lnTo>
                  <a:lnTo>
                    <a:pt x="53" y="85"/>
                  </a:lnTo>
                  <a:lnTo>
                    <a:pt x="58" y="76"/>
                  </a:lnTo>
                  <a:lnTo>
                    <a:pt x="64" y="68"/>
                  </a:lnTo>
                  <a:lnTo>
                    <a:pt x="69" y="62"/>
                  </a:lnTo>
                  <a:lnTo>
                    <a:pt x="75" y="57"/>
                  </a:lnTo>
                  <a:lnTo>
                    <a:pt x="79" y="54"/>
                  </a:lnTo>
                  <a:lnTo>
                    <a:pt x="84" y="51"/>
                  </a:lnTo>
                  <a:lnTo>
                    <a:pt x="96" y="50"/>
                  </a:lnTo>
                  <a:lnTo>
                    <a:pt x="106" y="49"/>
                  </a:lnTo>
                  <a:lnTo>
                    <a:pt x="119" y="49"/>
                  </a:lnTo>
                  <a:lnTo>
                    <a:pt x="130" y="48"/>
                  </a:lnTo>
                  <a:lnTo>
                    <a:pt x="143" y="47"/>
                  </a:lnTo>
                  <a:lnTo>
                    <a:pt x="157" y="46"/>
                  </a:lnTo>
                  <a:lnTo>
                    <a:pt x="171" y="46"/>
                  </a:lnTo>
                  <a:lnTo>
                    <a:pt x="186" y="46"/>
                  </a:lnTo>
                  <a:lnTo>
                    <a:pt x="201" y="47"/>
                  </a:lnTo>
                  <a:lnTo>
                    <a:pt x="216" y="48"/>
                  </a:lnTo>
                  <a:lnTo>
                    <a:pt x="233" y="48"/>
                  </a:lnTo>
                  <a:lnTo>
                    <a:pt x="248" y="48"/>
                  </a:lnTo>
                  <a:lnTo>
                    <a:pt x="263" y="47"/>
                  </a:lnTo>
                  <a:lnTo>
                    <a:pt x="279" y="46"/>
                  </a:lnTo>
                  <a:lnTo>
                    <a:pt x="294" y="43"/>
                  </a:lnTo>
                  <a:lnTo>
                    <a:pt x="309" y="40"/>
                  </a:lnTo>
                  <a:lnTo>
                    <a:pt x="315" y="40"/>
                  </a:lnTo>
                  <a:lnTo>
                    <a:pt x="320" y="39"/>
                  </a:lnTo>
                  <a:lnTo>
                    <a:pt x="326" y="37"/>
                  </a:lnTo>
                  <a:lnTo>
                    <a:pt x="332" y="35"/>
                  </a:lnTo>
                  <a:lnTo>
                    <a:pt x="336" y="34"/>
                  </a:lnTo>
                  <a:lnTo>
                    <a:pt x="340" y="32"/>
                  </a:lnTo>
                  <a:lnTo>
                    <a:pt x="343" y="29"/>
                  </a:lnTo>
                  <a:lnTo>
                    <a:pt x="345" y="27"/>
                  </a:lnTo>
                  <a:lnTo>
                    <a:pt x="352" y="22"/>
                  </a:lnTo>
                  <a:lnTo>
                    <a:pt x="359" y="18"/>
                  </a:lnTo>
                  <a:lnTo>
                    <a:pt x="368" y="13"/>
                  </a:lnTo>
                  <a:lnTo>
                    <a:pt x="377" y="10"/>
                  </a:lnTo>
                  <a:lnTo>
                    <a:pt x="380" y="8"/>
                  </a:lnTo>
                  <a:lnTo>
                    <a:pt x="384" y="7"/>
                  </a:lnTo>
                  <a:lnTo>
                    <a:pt x="391" y="6"/>
                  </a:lnTo>
                  <a:lnTo>
                    <a:pt x="399" y="6"/>
                  </a:lnTo>
                  <a:lnTo>
                    <a:pt x="408" y="7"/>
                  </a:lnTo>
                  <a:lnTo>
                    <a:pt x="420" y="8"/>
                  </a:lnTo>
                  <a:lnTo>
                    <a:pt x="434" y="11"/>
                  </a:lnTo>
                  <a:lnTo>
                    <a:pt x="449" y="13"/>
                  </a:lnTo>
                  <a:lnTo>
                    <a:pt x="461" y="15"/>
                  </a:lnTo>
                  <a:lnTo>
                    <a:pt x="471" y="17"/>
                  </a:lnTo>
                  <a:lnTo>
                    <a:pt x="479" y="18"/>
                  </a:lnTo>
                  <a:lnTo>
                    <a:pt x="487" y="18"/>
                  </a:lnTo>
                  <a:lnTo>
                    <a:pt x="492" y="18"/>
                  </a:lnTo>
                  <a:lnTo>
                    <a:pt x="497" y="17"/>
                  </a:lnTo>
                  <a:lnTo>
                    <a:pt x="499" y="15"/>
                  </a:lnTo>
                  <a:lnTo>
                    <a:pt x="500" y="14"/>
                  </a:lnTo>
                  <a:lnTo>
                    <a:pt x="518" y="7"/>
                  </a:lnTo>
                  <a:lnTo>
                    <a:pt x="534" y="3"/>
                  </a:lnTo>
                  <a:lnTo>
                    <a:pt x="549" y="0"/>
                  </a:lnTo>
                  <a:lnTo>
                    <a:pt x="564" y="1"/>
                  </a:lnTo>
                  <a:lnTo>
                    <a:pt x="578" y="5"/>
                  </a:lnTo>
                  <a:lnTo>
                    <a:pt x="591" y="12"/>
                  </a:lnTo>
                  <a:lnTo>
                    <a:pt x="604" y="21"/>
                  </a:lnTo>
                  <a:lnTo>
                    <a:pt x="614" y="33"/>
                  </a:lnTo>
                  <a:lnTo>
                    <a:pt x="619" y="41"/>
                  </a:lnTo>
                  <a:lnTo>
                    <a:pt x="624" y="49"/>
                  </a:lnTo>
                  <a:lnTo>
                    <a:pt x="629" y="56"/>
                  </a:lnTo>
                  <a:lnTo>
                    <a:pt x="634" y="63"/>
                  </a:lnTo>
                  <a:lnTo>
                    <a:pt x="638" y="70"/>
                  </a:lnTo>
                  <a:lnTo>
                    <a:pt x="643" y="76"/>
                  </a:lnTo>
                  <a:lnTo>
                    <a:pt x="648" y="82"/>
                  </a:lnTo>
                  <a:lnTo>
                    <a:pt x="651" y="86"/>
                  </a:lnTo>
                  <a:lnTo>
                    <a:pt x="658" y="93"/>
                  </a:lnTo>
                  <a:lnTo>
                    <a:pt x="664" y="101"/>
                  </a:lnTo>
                  <a:lnTo>
                    <a:pt x="669" y="108"/>
                  </a:lnTo>
                  <a:lnTo>
                    <a:pt x="673" y="114"/>
                  </a:lnTo>
                  <a:lnTo>
                    <a:pt x="680" y="129"/>
                  </a:lnTo>
                  <a:lnTo>
                    <a:pt x="686" y="144"/>
                  </a:lnTo>
                  <a:lnTo>
                    <a:pt x="690" y="160"/>
                  </a:lnTo>
                  <a:lnTo>
                    <a:pt x="691" y="174"/>
                  </a:lnTo>
                  <a:lnTo>
                    <a:pt x="691" y="186"/>
                  </a:lnTo>
                  <a:lnTo>
                    <a:pt x="688" y="198"/>
                  </a:lnTo>
                  <a:lnTo>
                    <a:pt x="684" y="210"/>
                  </a:lnTo>
                  <a:lnTo>
                    <a:pt x="677" y="219"/>
                  </a:lnTo>
                  <a:lnTo>
                    <a:pt x="673" y="226"/>
                  </a:lnTo>
                  <a:lnTo>
                    <a:pt x="670" y="233"/>
                  </a:lnTo>
                  <a:lnTo>
                    <a:pt x="667" y="242"/>
                  </a:lnTo>
                  <a:lnTo>
                    <a:pt x="665" y="253"/>
                  </a:lnTo>
                  <a:lnTo>
                    <a:pt x="663" y="263"/>
                  </a:lnTo>
                  <a:lnTo>
                    <a:pt x="663" y="276"/>
                  </a:lnTo>
                  <a:lnTo>
                    <a:pt x="662" y="290"/>
                  </a:lnTo>
                  <a:lnTo>
                    <a:pt x="662" y="305"/>
                  </a:lnTo>
                  <a:lnTo>
                    <a:pt x="663" y="321"/>
                  </a:lnTo>
                  <a:lnTo>
                    <a:pt x="664" y="337"/>
                  </a:lnTo>
                  <a:lnTo>
                    <a:pt x="665" y="356"/>
                  </a:lnTo>
                  <a:lnTo>
                    <a:pt x="667" y="376"/>
                  </a:lnTo>
                  <a:lnTo>
                    <a:pt x="671" y="397"/>
                  </a:lnTo>
                  <a:lnTo>
                    <a:pt x="673" y="420"/>
                  </a:lnTo>
                  <a:lnTo>
                    <a:pt x="677" y="443"/>
                  </a:lnTo>
                  <a:lnTo>
                    <a:pt x="681" y="468"/>
                  </a:lnTo>
                  <a:lnTo>
                    <a:pt x="684" y="479"/>
                  </a:lnTo>
                  <a:lnTo>
                    <a:pt x="688" y="489"/>
                  </a:lnTo>
                  <a:lnTo>
                    <a:pt x="694" y="497"/>
                  </a:lnTo>
                  <a:lnTo>
                    <a:pt x="702" y="505"/>
                  </a:lnTo>
                  <a:lnTo>
                    <a:pt x="713" y="511"/>
                  </a:lnTo>
                  <a:lnTo>
                    <a:pt x="724" y="514"/>
                  </a:lnTo>
                  <a:lnTo>
                    <a:pt x="738" y="517"/>
                  </a:lnTo>
                  <a:lnTo>
                    <a:pt x="754" y="518"/>
                  </a:lnTo>
                  <a:lnTo>
                    <a:pt x="770" y="519"/>
                  </a:lnTo>
                  <a:lnTo>
                    <a:pt x="785" y="519"/>
                  </a:lnTo>
                  <a:lnTo>
                    <a:pt x="799" y="519"/>
                  </a:lnTo>
                  <a:lnTo>
                    <a:pt x="810" y="518"/>
                  </a:lnTo>
                  <a:lnTo>
                    <a:pt x="822" y="517"/>
                  </a:lnTo>
                  <a:lnTo>
                    <a:pt x="831" y="514"/>
                  </a:lnTo>
                  <a:lnTo>
                    <a:pt x="838" y="512"/>
                  </a:lnTo>
                  <a:lnTo>
                    <a:pt x="845" y="508"/>
                  </a:lnTo>
                  <a:lnTo>
                    <a:pt x="865" y="499"/>
                  </a:lnTo>
                  <a:lnTo>
                    <a:pt x="885" y="488"/>
                  </a:lnTo>
                  <a:lnTo>
                    <a:pt x="903" y="475"/>
                  </a:lnTo>
                  <a:lnTo>
                    <a:pt x="922" y="460"/>
                  </a:lnTo>
                  <a:lnTo>
                    <a:pt x="939" y="442"/>
                  </a:lnTo>
                  <a:lnTo>
                    <a:pt x="957" y="422"/>
                  </a:lnTo>
                  <a:lnTo>
                    <a:pt x="974" y="400"/>
                  </a:lnTo>
                  <a:lnTo>
                    <a:pt x="991" y="376"/>
                  </a:lnTo>
                  <a:lnTo>
                    <a:pt x="1008" y="351"/>
                  </a:lnTo>
                  <a:lnTo>
                    <a:pt x="1027" y="328"/>
                  </a:lnTo>
                  <a:lnTo>
                    <a:pt x="1045" y="307"/>
                  </a:lnTo>
                  <a:lnTo>
                    <a:pt x="1065" y="289"/>
                  </a:lnTo>
                  <a:lnTo>
                    <a:pt x="1085" y="271"/>
                  </a:lnTo>
                  <a:lnTo>
                    <a:pt x="1105" y="256"/>
                  </a:lnTo>
                  <a:lnTo>
                    <a:pt x="1124" y="243"/>
                  </a:lnTo>
                  <a:lnTo>
                    <a:pt x="1144" y="233"/>
                  </a:lnTo>
                  <a:lnTo>
                    <a:pt x="1153" y="227"/>
                  </a:lnTo>
                  <a:lnTo>
                    <a:pt x="1163" y="221"/>
                  </a:lnTo>
                  <a:lnTo>
                    <a:pt x="1171" y="213"/>
                  </a:lnTo>
                  <a:lnTo>
                    <a:pt x="1178" y="205"/>
                  </a:lnTo>
                  <a:lnTo>
                    <a:pt x="1185" y="197"/>
                  </a:lnTo>
                  <a:lnTo>
                    <a:pt x="1191" y="186"/>
                  </a:lnTo>
                  <a:lnTo>
                    <a:pt x="1196" y="175"/>
                  </a:lnTo>
                  <a:lnTo>
                    <a:pt x="1200" y="163"/>
                  </a:lnTo>
                  <a:lnTo>
                    <a:pt x="1205" y="149"/>
                  </a:lnTo>
                  <a:lnTo>
                    <a:pt x="1211" y="136"/>
                  </a:lnTo>
                  <a:lnTo>
                    <a:pt x="1220" y="124"/>
                  </a:lnTo>
                  <a:lnTo>
                    <a:pt x="1230" y="111"/>
                  </a:lnTo>
                  <a:lnTo>
                    <a:pt x="1242" y="99"/>
                  </a:lnTo>
                  <a:lnTo>
                    <a:pt x="1256" y="87"/>
                  </a:lnTo>
                  <a:lnTo>
                    <a:pt x="1272" y="77"/>
                  </a:lnTo>
                  <a:lnTo>
                    <a:pt x="1289" y="68"/>
                  </a:lnTo>
                  <a:lnTo>
                    <a:pt x="1303" y="60"/>
                  </a:lnTo>
                  <a:lnTo>
                    <a:pt x="1320" y="54"/>
                  </a:lnTo>
                  <a:lnTo>
                    <a:pt x="1337" y="48"/>
                  </a:lnTo>
                  <a:lnTo>
                    <a:pt x="1357" y="43"/>
                  </a:lnTo>
                  <a:lnTo>
                    <a:pt x="1378" y="41"/>
                  </a:lnTo>
                  <a:lnTo>
                    <a:pt x="1400" y="39"/>
                  </a:lnTo>
                  <a:lnTo>
                    <a:pt x="1424" y="36"/>
                  </a:lnTo>
                  <a:lnTo>
                    <a:pt x="1451" y="36"/>
                  </a:lnTo>
                  <a:lnTo>
                    <a:pt x="1475" y="40"/>
                  </a:lnTo>
                  <a:lnTo>
                    <a:pt x="1496" y="46"/>
                  </a:lnTo>
                  <a:lnTo>
                    <a:pt x="1515" y="53"/>
                  </a:lnTo>
                  <a:lnTo>
                    <a:pt x="1531" y="63"/>
                  </a:lnTo>
                  <a:lnTo>
                    <a:pt x="1544" y="75"/>
                  </a:lnTo>
                  <a:lnTo>
                    <a:pt x="1554" y="87"/>
                  </a:lnTo>
                  <a:lnTo>
                    <a:pt x="1563" y="103"/>
                  </a:lnTo>
                  <a:lnTo>
                    <a:pt x="1567" y="119"/>
                  </a:lnTo>
                  <a:lnTo>
                    <a:pt x="1574" y="155"/>
                  </a:lnTo>
                  <a:lnTo>
                    <a:pt x="1583" y="186"/>
                  </a:lnTo>
                  <a:lnTo>
                    <a:pt x="1595" y="213"/>
                  </a:lnTo>
                  <a:lnTo>
                    <a:pt x="1609" y="235"/>
                  </a:lnTo>
                  <a:lnTo>
                    <a:pt x="1624" y="251"/>
                  </a:lnTo>
                  <a:lnTo>
                    <a:pt x="1642" y="264"/>
                  </a:lnTo>
                  <a:lnTo>
                    <a:pt x="1661" y="271"/>
                  </a:lnTo>
                  <a:lnTo>
                    <a:pt x="1682" y="274"/>
                  </a:lnTo>
                  <a:lnTo>
                    <a:pt x="1693" y="255"/>
                  </a:lnTo>
                  <a:lnTo>
                    <a:pt x="1703" y="236"/>
                  </a:lnTo>
                  <a:lnTo>
                    <a:pt x="1714" y="219"/>
                  </a:lnTo>
                  <a:lnTo>
                    <a:pt x="1724" y="203"/>
                  </a:lnTo>
                  <a:lnTo>
                    <a:pt x="1735" y="186"/>
                  </a:lnTo>
                  <a:lnTo>
                    <a:pt x="1745" y="171"/>
                  </a:lnTo>
                  <a:lnTo>
                    <a:pt x="1756" y="157"/>
                  </a:lnTo>
                  <a:lnTo>
                    <a:pt x="1765" y="144"/>
                  </a:lnTo>
                  <a:lnTo>
                    <a:pt x="1776" y="129"/>
                  </a:lnTo>
                  <a:lnTo>
                    <a:pt x="1790" y="119"/>
                  </a:lnTo>
                  <a:lnTo>
                    <a:pt x="1807" y="111"/>
                  </a:lnTo>
                  <a:lnTo>
                    <a:pt x="1824" y="105"/>
                  </a:lnTo>
                  <a:lnTo>
                    <a:pt x="1844" y="103"/>
                  </a:lnTo>
                  <a:lnTo>
                    <a:pt x="1866" y="104"/>
                  </a:lnTo>
                  <a:lnTo>
                    <a:pt x="1889" y="107"/>
                  </a:lnTo>
                  <a:lnTo>
                    <a:pt x="1914" y="114"/>
                  </a:lnTo>
                  <a:lnTo>
                    <a:pt x="1936" y="121"/>
                  </a:lnTo>
                  <a:lnTo>
                    <a:pt x="1954" y="129"/>
                  </a:lnTo>
                  <a:lnTo>
                    <a:pt x="1972" y="139"/>
                  </a:lnTo>
                  <a:lnTo>
                    <a:pt x="1987" y="149"/>
                  </a:lnTo>
                  <a:lnTo>
                    <a:pt x="2000" y="160"/>
                  </a:lnTo>
                  <a:lnTo>
                    <a:pt x="2010" y="170"/>
                  </a:lnTo>
                  <a:lnTo>
                    <a:pt x="2018" y="181"/>
                  </a:lnTo>
                  <a:lnTo>
                    <a:pt x="2024" y="191"/>
                  </a:lnTo>
                  <a:lnTo>
                    <a:pt x="2025" y="196"/>
                  </a:lnTo>
                  <a:lnTo>
                    <a:pt x="2028" y="201"/>
                  </a:lnTo>
                  <a:lnTo>
                    <a:pt x="2029" y="206"/>
                  </a:lnTo>
                  <a:lnTo>
                    <a:pt x="2031" y="212"/>
                  </a:lnTo>
                  <a:lnTo>
                    <a:pt x="2032" y="217"/>
                  </a:lnTo>
                  <a:lnTo>
                    <a:pt x="2034" y="222"/>
                  </a:lnTo>
                  <a:lnTo>
                    <a:pt x="2036" y="227"/>
                  </a:lnTo>
                  <a:lnTo>
                    <a:pt x="2038" y="233"/>
                  </a:lnTo>
                  <a:lnTo>
                    <a:pt x="2041" y="239"/>
                  </a:lnTo>
                  <a:lnTo>
                    <a:pt x="2044" y="246"/>
                  </a:lnTo>
                  <a:lnTo>
                    <a:pt x="2047" y="250"/>
                  </a:lnTo>
                  <a:lnTo>
                    <a:pt x="2050" y="256"/>
                  </a:lnTo>
                  <a:lnTo>
                    <a:pt x="2052" y="261"/>
                  </a:lnTo>
                  <a:lnTo>
                    <a:pt x="2054" y="265"/>
                  </a:lnTo>
                  <a:lnTo>
                    <a:pt x="2055" y="270"/>
                  </a:lnTo>
                  <a:lnTo>
                    <a:pt x="2057" y="274"/>
                  </a:lnTo>
                  <a:lnTo>
                    <a:pt x="2065" y="294"/>
                  </a:lnTo>
                  <a:lnTo>
                    <a:pt x="2072" y="313"/>
                  </a:lnTo>
                  <a:lnTo>
                    <a:pt x="2080" y="331"/>
                  </a:lnTo>
                  <a:lnTo>
                    <a:pt x="2088" y="344"/>
                  </a:lnTo>
                  <a:lnTo>
                    <a:pt x="2096" y="356"/>
                  </a:lnTo>
                  <a:lnTo>
                    <a:pt x="2104" y="365"/>
                  </a:lnTo>
                  <a:lnTo>
                    <a:pt x="2114" y="374"/>
                  </a:lnTo>
                  <a:lnTo>
                    <a:pt x="2123" y="378"/>
                  </a:lnTo>
                  <a:lnTo>
                    <a:pt x="2129" y="382"/>
                  </a:lnTo>
                  <a:lnTo>
                    <a:pt x="2136" y="386"/>
                  </a:lnTo>
                  <a:lnTo>
                    <a:pt x="2144" y="393"/>
                  </a:lnTo>
                  <a:lnTo>
                    <a:pt x="2153" y="401"/>
                  </a:lnTo>
                  <a:lnTo>
                    <a:pt x="2162" y="411"/>
                  </a:lnTo>
                  <a:lnTo>
                    <a:pt x="2172" y="421"/>
                  </a:lnTo>
                  <a:lnTo>
                    <a:pt x="2182" y="433"/>
                  </a:lnTo>
                  <a:lnTo>
                    <a:pt x="2193" y="446"/>
                  </a:lnTo>
                  <a:lnTo>
                    <a:pt x="2207" y="467"/>
                  </a:lnTo>
                  <a:lnTo>
                    <a:pt x="2219" y="486"/>
                  </a:lnTo>
                  <a:lnTo>
                    <a:pt x="2230" y="505"/>
                  </a:lnTo>
                  <a:lnTo>
                    <a:pt x="2240" y="522"/>
                  </a:lnTo>
                  <a:lnTo>
                    <a:pt x="2248" y="539"/>
                  </a:lnTo>
                  <a:lnTo>
                    <a:pt x="2257" y="554"/>
                  </a:lnTo>
                  <a:lnTo>
                    <a:pt x="2262" y="568"/>
                  </a:lnTo>
                  <a:lnTo>
                    <a:pt x="2268" y="581"/>
                  </a:lnTo>
                  <a:lnTo>
                    <a:pt x="2272" y="589"/>
                  </a:lnTo>
                  <a:lnTo>
                    <a:pt x="2275" y="597"/>
                  </a:lnTo>
                  <a:lnTo>
                    <a:pt x="2277" y="606"/>
                  </a:lnTo>
                  <a:lnTo>
                    <a:pt x="2280" y="617"/>
                  </a:lnTo>
                  <a:lnTo>
                    <a:pt x="2282" y="627"/>
                  </a:lnTo>
                  <a:lnTo>
                    <a:pt x="2283" y="640"/>
                  </a:lnTo>
                  <a:lnTo>
                    <a:pt x="2284" y="653"/>
                  </a:lnTo>
                  <a:lnTo>
                    <a:pt x="2286" y="665"/>
                  </a:lnTo>
                  <a:lnTo>
                    <a:pt x="2286" y="681"/>
                  </a:lnTo>
                  <a:lnTo>
                    <a:pt x="2286" y="696"/>
                  </a:lnTo>
                  <a:lnTo>
                    <a:pt x="2286" y="712"/>
                  </a:lnTo>
                  <a:lnTo>
                    <a:pt x="2284" y="728"/>
                  </a:lnTo>
                  <a:lnTo>
                    <a:pt x="2283" y="746"/>
                  </a:lnTo>
                  <a:lnTo>
                    <a:pt x="2282" y="764"/>
                  </a:lnTo>
                  <a:lnTo>
                    <a:pt x="2280" y="783"/>
                  </a:lnTo>
                  <a:lnTo>
                    <a:pt x="2277" y="803"/>
                  </a:lnTo>
                  <a:lnTo>
                    <a:pt x="2282" y="815"/>
                  </a:lnTo>
                  <a:lnTo>
                    <a:pt x="2287" y="827"/>
                  </a:lnTo>
                  <a:lnTo>
                    <a:pt x="2293" y="838"/>
                  </a:lnTo>
                  <a:lnTo>
                    <a:pt x="2300" y="847"/>
                  </a:lnTo>
                  <a:lnTo>
                    <a:pt x="2308" y="855"/>
                  </a:lnTo>
                  <a:lnTo>
                    <a:pt x="2317" y="862"/>
                  </a:lnTo>
                  <a:lnTo>
                    <a:pt x="2326" y="867"/>
                  </a:lnTo>
                  <a:lnTo>
                    <a:pt x="2336" y="870"/>
                  </a:lnTo>
                  <a:lnTo>
                    <a:pt x="2346" y="874"/>
                  </a:lnTo>
                  <a:lnTo>
                    <a:pt x="2356" y="879"/>
                  </a:lnTo>
                  <a:lnTo>
                    <a:pt x="2367" y="885"/>
                  </a:lnTo>
                  <a:lnTo>
                    <a:pt x="2376" y="891"/>
                  </a:lnTo>
                  <a:lnTo>
                    <a:pt x="2387" y="898"/>
                  </a:lnTo>
                  <a:lnTo>
                    <a:pt x="2396" y="906"/>
                  </a:lnTo>
                  <a:lnTo>
                    <a:pt x="2405" y="913"/>
                  </a:lnTo>
                  <a:lnTo>
                    <a:pt x="2413" y="921"/>
                  </a:lnTo>
                  <a:lnTo>
                    <a:pt x="2418" y="929"/>
                  </a:lnTo>
                  <a:lnTo>
                    <a:pt x="2423" y="936"/>
                  </a:lnTo>
                  <a:lnTo>
                    <a:pt x="2425" y="943"/>
                  </a:lnTo>
                  <a:lnTo>
                    <a:pt x="2427" y="949"/>
                  </a:lnTo>
                  <a:lnTo>
                    <a:pt x="2429" y="955"/>
                  </a:lnTo>
                  <a:lnTo>
                    <a:pt x="2429" y="960"/>
                  </a:lnTo>
                  <a:lnTo>
                    <a:pt x="2426" y="964"/>
                  </a:lnTo>
                  <a:lnTo>
                    <a:pt x="2424" y="968"/>
                  </a:lnTo>
                  <a:lnTo>
                    <a:pt x="2399" y="962"/>
                  </a:lnTo>
                  <a:lnTo>
                    <a:pt x="2376" y="954"/>
                  </a:lnTo>
                  <a:lnTo>
                    <a:pt x="2353" y="946"/>
                  </a:lnTo>
                  <a:lnTo>
                    <a:pt x="2330" y="936"/>
                  </a:lnTo>
                  <a:lnTo>
                    <a:pt x="2308" y="925"/>
                  </a:lnTo>
                  <a:lnTo>
                    <a:pt x="2284" y="913"/>
                  </a:lnTo>
                  <a:lnTo>
                    <a:pt x="2263" y="900"/>
                  </a:lnTo>
                  <a:lnTo>
                    <a:pt x="2243" y="885"/>
                  </a:lnTo>
                  <a:lnTo>
                    <a:pt x="2238" y="899"/>
                  </a:lnTo>
                  <a:lnTo>
                    <a:pt x="2232" y="915"/>
                  </a:lnTo>
                  <a:lnTo>
                    <a:pt x="2225" y="935"/>
                  </a:lnTo>
                  <a:lnTo>
                    <a:pt x="2218" y="957"/>
                  </a:lnTo>
                  <a:lnTo>
                    <a:pt x="2210" y="982"/>
                  </a:lnTo>
                  <a:lnTo>
                    <a:pt x="2202" y="1010"/>
                  </a:lnTo>
                  <a:lnTo>
                    <a:pt x="2193" y="1039"/>
                  </a:lnTo>
                  <a:lnTo>
                    <a:pt x="2183" y="1070"/>
                  </a:lnTo>
                  <a:lnTo>
                    <a:pt x="2179" y="1085"/>
                  </a:lnTo>
                  <a:lnTo>
                    <a:pt x="2175" y="1100"/>
                  </a:lnTo>
                  <a:lnTo>
                    <a:pt x="2173" y="1115"/>
                  </a:lnTo>
                  <a:lnTo>
                    <a:pt x="2170" y="1129"/>
                  </a:lnTo>
                  <a:lnTo>
                    <a:pt x="2168" y="1145"/>
                  </a:lnTo>
                  <a:lnTo>
                    <a:pt x="2167" y="1158"/>
                  </a:lnTo>
                  <a:lnTo>
                    <a:pt x="2166" y="1171"/>
                  </a:lnTo>
                  <a:lnTo>
                    <a:pt x="2165" y="1185"/>
                  </a:lnTo>
                  <a:lnTo>
                    <a:pt x="2165" y="1198"/>
                  </a:lnTo>
                  <a:lnTo>
                    <a:pt x="2166" y="1210"/>
                  </a:lnTo>
                  <a:lnTo>
                    <a:pt x="2166" y="1222"/>
                  </a:lnTo>
                  <a:lnTo>
                    <a:pt x="2168" y="1234"/>
                  </a:lnTo>
                  <a:lnTo>
                    <a:pt x="2169" y="1245"/>
                  </a:lnTo>
                  <a:lnTo>
                    <a:pt x="2172" y="1256"/>
                  </a:lnTo>
                  <a:lnTo>
                    <a:pt x="2174" y="1267"/>
                  </a:lnTo>
                  <a:lnTo>
                    <a:pt x="2177" y="1276"/>
                  </a:lnTo>
                  <a:lnTo>
                    <a:pt x="2180" y="1283"/>
                  </a:lnTo>
                  <a:lnTo>
                    <a:pt x="2181" y="1291"/>
                  </a:lnTo>
                  <a:lnTo>
                    <a:pt x="2183" y="1299"/>
                  </a:lnTo>
                  <a:lnTo>
                    <a:pt x="2184" y="1309"/>
                  </a:lnTo>
                  <a:lnTo>
                    <a:pt x="2184" y="1318"/>
                  </a:lnTo>
                  <a:lnTo>
                    <a:pt x="2184" y="1327"/>
                  </a:lnTo>
                  <a:lnTo>
                    <a:pt x="2184" y="1338"/>
                  </a:lnTo>
                  <a:lnTo>
                    <a:pt x="2183" y="1348"/>
                  </a:lnTo>
                  <a:lnTo>
                    <a:pt x="2182" y="1355"/>
                  </a:lnTo>
                  <a:lnTo>
                    <a:pt x="2182" y="1362"/>
                  </a:lnTo>
                  <a:lnTo>
                    <a:pt x="2181" y="1368"/>
                  </a:lnTo>
                  <a:lnTo>
                    <a:pt x="2180" y="1375"/>
                  </a:lnTo>
                  <a:lnTo>
                    <a:pt x="2179" y="1381"/>
                  </a:lnTo>
                  <a:lnTo>
                    <a:pt x="2179" y="1386"/>
                  </a:lnTo>
                  <a:lnTo>
                    <a:pt x="2177" y="1392"/>
                  </a:lnTo>
                  <a:lnTo>
                    <a:pt x="2177" y="1397"/>
                  </a:lnTo>
                  <a:lnTo>
                    <a:pt x="2175" y="1407"/>
                  </a:lnTo>
                  <a:lnTo>
                    <a:pt x="2174" y="1417"/>
                  </a:lnTo>
                  <a:lnTo>
                    <a:pt x="2173" y="1425"/>
                  </a:lnTo>
                  <a:lnTo>
                    <a:pt x="2173" y="1431"/>
                  </a:lnTo>
                  <a:lnTo>
                    <a:pt x="2170" y="1450"/>
                  </a:lnTo>
                  <a:lnTo>
                    <a:pt x="2168" y="1471"/>
                  </a:lnTo>
                  <a:lnTo>
                    <a:pt x="2167" y="1492"/>
                  </a:lnTo>
                  <a:lnTo>
                    <a:pt x="2166" y="1514"/>
                  </a:lnTo>
                  <a:lnTo>
                    <a:pt x="2166" y="1535"/>
                  </a:lnTo>
                  <a:lnTo>
                    <a:pt x="2167" y="1557"/>
                  </a:lnTo>
                  <a:lnTo>
                    <a:pt x="2168" y="1579"/>
                  </a:lnTo>
                  <a:lnTo>
                    <a:pt x="2169" y="1602"/>
                  </a:lnTo>
                  <a:lnTo>
                    <a:pt x="2172" y="1628"/>
                  </a:lnTo>
                  <a:lnTo>
                    <a:pt x="2173" y="1654"/>
                  </a:lnTo>
                  <a:lnTo>
                    <a:pt x="2175" y="1679"/>
                  </a:lnTo>
                  <a:lnTo>
                    <a:pt x="2177" y="1703"/>
                  </a:lnTo>
                  <a:lnTo>
                    <a:pt x="2180" y="1724"/>
                  </a:lnTo>
                  <a:lnTo>
                    <a:pt x="2181" y="1745"/>
                  </a:lnTo>
                  <a:lnTo>
                    <a:pt x="2182" y="1763"/>
                  </a:lnTo>
                  <a:lnTo>
                    <a:pt x="2183" y="1779"/>
                  </a:lnTo>
                  <a:lnTo>
                    <a:pt x="2190" y="1789"/>
                  </a:lnTo>
                  <a:lnTo>
                    <a:pt x="2195" y="1797"/>
                  </a:lnTo>
                  <a:lnTo>
                    <a:pt x="2200" y="1805"/>
                  </a:lnTo>
                  <a:lnTo>
                    <a:pt x="2203" y="1811"/>
                  </a:lnTo>
                  <a:lnTo>
                    <a:pt x="2205" y="1817"/>
                  </a:lnTo>
                  <a:lnTo>
                    <a:pt x="2208" y="1821"/>
                  </a:lnTo>
                  <a:lnTo>
                    <a:pt x="2209" y="1824"/>
                  </a:lnTo>
                  <a:lnTo>
                    <a:pt x="2209" y="1825"/>
                  </a:lnTo>
                  <a:lnTo>
                    <a:pt x="2205" y="1839"/>
                  </a:lnTo>
                  <a:lnTo>
                    <a:pt x="2197" y="1850"/>
                  </a:lnTo>
                  <a:lnTo>
                    <a:pt x="2186" y="1859"/>
                  </a:lnTo>
                  <a:lnTo>
                    <a:pt x="2170" y="1866"/>
                  </a:lnTo>
                  <a:lnTo>
                    <a:pt x="2150" y="1869"/>
                  </a:lnTo>
                  <a:lnTo>
                    <a:pt x="2126" y="1870"/>
                  </a:lnTo>
                  <a:lnTo>
                    <a:pt x="2100" y="1869"/>
                  </a:lnTo>
                  <a:lnTo>
                    <a:pt x="2068" y="1866"/>
                  </a:lnTo>
                  <a:lnTo>
                    <a:pt x="2053" y="1864"/>
                  </a:lnTo>
                  <a:lnTo>
                    <a:pt x="2046" y="1859"/>
                  </a:lnTo>
                  <a:lnTo>
                    <a:pt x="2046" y="1852"/>
                  </a:lnTo>
                  <a:lnTo>
                    <a:pt x="2055" y="1842"/>
                  </a:lnTo>
                  <a:lnTo>
                    <a:pt x="2044" y="1843"/>
                  </a:lnTo>
                  <a:lnTo>
                    <a:pt x="2034" y="1843"/>
                  </a:lnTo>
                  <a:lnTo>
                    <a:pt x="2026" y="1843"/>
                  </a:lnTo>
                  <a:lnTo>
                    <a:pt x="2018" y="1842"/>
                  </a:lnTo>
                  <a:lnTo>
                    <a:pt x="2012" y="1839"/>
                  </a:lnTo>
                  <a:lnTo>
                    <a:pt x="2009" y="1835"/>
                  </a:lnTo>
                  <a:lnTo>
                    <a:pt x="2007" y="1831"/>
                  </a:lnTo>
                  <a:lnTo>
                    <a:pt x="2005" y="1825"/>
                  </a:lnTo>
                  <a:lnTo>
                    <a:pt x="2007" y="1818"/>
                  </a:lnTo>
                  <a:lnTo>
                    <a:pt x="2012" y="1811"/>
                  </a:lnTo>
                  <a:lnTo>
                    <a:pt x="2019" y="1804"/>
                  </a:lnTo>
                  <a:lnTo>
                    <a:pt x="2030" y="1798"/>
                  </a:lnTo>
                  <a:lnTo>
                    <a:pt x="2038" y="1795"/>
                  </a:lnTo>
                  <a:lnTo>
                    <a:pt x="2046" y="1790"/>
                  </a:lnTo>
                  <a:lnTo>
                    <a:pt x="2055" y="1784"/>
                  </a:lnTo>
                  <a:lnTo>
                    <a:pt x="2065" y="1777"/>
                  </a:lnTo>
                  <a:lnTo>
                    <a:pt x="2074" y="1771"/>
                  </a:lnTo>
                  <a:lnTo>
                    <a:pt x="2083" y="1763"/>
                  </a:lnTo>
                  <a:lnTo>
                    <a:pt x="2091" y="1755"/>
                  </a:lnTo>
                  <a:lnTo>
                    <a:pt x="2101" y="1747"/>
                  </a:lnTo>
                  <a:lnTo>
                    <a:pt x="2104" y="1739"/>
                  </a:lnTo>
                  <a:lnTo>
                    <a:pt x="2107" y="1727"/>
                  </a:lnTo>
                  <a:lnTo>
                    <a:pt x="2109" y="1713"/>
                  </a:lnTo>
                  <a:lnTo>
                    <a:pt x="2110" y="1696"/>
                  </a:lnTo>
                  <a:lnTo>
                    <a:pt x="2110" y="1676"/>
                  </a:lnTo>
                  <a:lnTo>
                    <a:pt x="2110" y="1653"/>
                  </a:lnTo>
                  <a:lnTo>
                    <a:pt x="2109" y="1627"/>
                  </a:lnTo>
                  <a:lnTo>
                    <a:pt x="2107" y="1598"/>
                  </a:lnTo>
                  <a:lnTo>
                    <a:pt x="2103" y="1566"/>
                  </a:lnTo>
                  <a:lnTo>
                    <a:pt x="2101" y="1535"/>
                  </a:lnTo>
                  <a:lnTo>
                    <a:pt x="2097" y="1507"/>
                  </a:lnTo>
                  <a:lnTo>
                    <a:pt x="2096" y="1483"/>
                  </a:lnTo>
                  <a:lnTo>
                    <a:pt x="2094" y="1462"/>
                  </a:lnTo>
                  <a:lnTo>
                    <a:pt x="2093" y="1443"/>
                  </a:lnTo>
                  <a:lnTo>
                    <a:pt x="2091" y="1427"/>
                  </a:lnTo>
                  <a:lnTo>
                    <a:pt x="2091" y="1415"/>
                  </a:lnTo>
                  <a:lnTo>
                    <a:pt x="2088" y="1411"/>
                  </a:lnTo>
                  <a:lnTo>
                    <a:pt x="2084" y="1406"/>
                  </a:lnTo>
                  <a:lnTo>
                    <a:pt x="2080" y="1400"/>
                  </a:lnTo>
                  <a:lnTo>
                    <a:pt x="2076" y="1392"/>
                  </a:lnTo>
                  <a:lnTo>
                    <a:pt x="2073" y="1384"/>
                  </a:lnTo>
                  <a:lnTo>
                    <a:pt x="2069" y="1375"/>
                  </a:lnTo>
                  <a:lnTo>
                    <a:pt x="2067" y="1364"/>
                  </a:lnTo>
                  <a:lnTo>
                    <a:pt x="2065" y="1354"/>
                  </a:lnTo>
                  <a:lnTo>
                    <a:pt x="2061" y="1342"/>
                  </a:lnTo>
                  <a:lnTo>
                    <a:pt x="2060" y="1332"/>
                  </a:lnTo>
                  <a:lnTo>
                    <a:pt x="2059" y="1321"/>
                  </a:lnTo>
                  <a:lnTo>
                    <a:pt x="2059" y="1312"/>
                  </a:lnTo>
                  <a:lnTo>
                    <a:pt x="2061" y="1304"/>
                  </a:lnTo>
                  <a:lnTo>
                    <a:pt x="2064" y="1297"/>
                  </a:lnTo>
                  <a:lnTo>
                    <a:pt x="2067" y="1290"/>
                  </a:lnTo>
                  <a:lnTo>
                    <a:pt x="2073" y="1284"/>
                  </a:lnTo>
                  <a:lnTo>
                    <a:pt x="2072" y="1262"/>
                  </a:lnTo>
                  <a:lnTo>
                    <a:pt x="2069" y="1240"/>
                  </a:lnTo>
                  <a:lnTo>
                    <a:pt x="2064" y="1219"/>
                  </a:lnTo>
                  <a:lnTo>
                    <a:pt x="2057" y="1197"/>
                  </a:lnTo>
                  <a:lnTo>
                    <a:pt x="2048" y="1176"/>
                  </a:lnTo>
                  <a:lnTo>
                    <a:pt x="2038" y="1156"/>
                  </a:lnTo>
                  <a:lnTo>
                    <a:pt x="2025" y="1136"/>
                  </a:lnTo>
                  <a:lnTo>
                    <a:pt x="2011" y="1117"/>
                  </a:lnTo>
                  <a:lnTo>
                    <a:pt x="1997" y="1098"/>
                  </a:lnTo>
                  <a:lnTo>
                    <a:pt x="1987" y="1078"/>
                  </a:lnTo>
                  <a:lnTo>
                    <a:pt x="1979" y="1058"/>
                  </a:lnTo>
                  <a:lnTo>
                    <a:pt x="1973" y="1038"/>
                  </a:lnTo>
                  <a:lnTo>
                    <a:pt x="1971" y="1017"/>
                  </a:lnTo>
                  <a:lnTo>
                    <a:pt x="1972" y="995"/>
                  </a:lnTo>
                  <a:lnTo>
                    <a:pt x="1974" y="972"/>
                  </a:lnTo>
                  <a:lnTo>
                    <a:pt x="1980" y="949"/>
                  </a:lnTo>
                  <a:lnTo>
                    <a:pt x="1976" y="940"/>
                  </a:lnTo>
                  <a:lnTo>
                    <a:pt x="1969" y="932"/>
                  </a:lnTo>
                  <a:lnTo>
                    <a:pt x="1961" y="927"/>
                  </a:lnTo>
                  <a:lnTo>
                    <a:pt x="1951" y="926"/>
                  </a:lnTo>
                  <a:lnTo>
                    <a:pt x="1939" y="928"/>
                  </a:lnTo>
                  <a:lnTo>
                    <a:pt x="1930" y="933"/>
                  </a:lnTo>
                  <a:lnTo>
                    <a:pt x="1925" y="942"/>
                  </a:lnTo>
                  <a:lnTo>
                    <a:pt x="1923" y="956"/>
                  </a:lnTo>
                  <a:lnTo>
                    <a:pt x="1911" y="982"/>
                  </a:lnTo>
                  <a:lnTo>
                    <a:pt x="1901" y="1006"/>
                  </a:lnTo>
                  <a:lnTo>
                    <a:pt x="1890" y="1031"/>
                  </a:lnTo>
                  <a:lnTo>
                    <a:pt x="1880" y="1053"/>
                  </a:lnTo>
                  <a:lnTo>
                    <a:pt x="1871" y="1075"/>
                  </a:lnTo>
                  <a:lnTo>
                    <a:pt x="1862" y="1096"/>
                  </a:lnTo>
                  <a:lnTo>
                    <a:pt x="1854" y="1115"/>
                  </a:lnTo>
                  <a:lnTo>
                    <a:pt x="1846" y="1135"/>
                  </a:lnTo>
                  <a:lnTo>
                    <a:pt x="1840" y="1147"/>
                  </a:lnTo>
                  <a:lnTo>
                    <a:pt x="1835" y="1158"/>
                  </a:lnTo>
                  <a:lnTo>
                    <a:pt x="1830" y="1170"/>
                  </a:lnTo>
                  <a:lnTo>
                    <a:pt x="1824" y="1182"/>
                  </a:lnTo>
                  <a:lnTo>
                    <a:pt x="1819" y="1193"/>
                  </a:lnTo>
                  <a:lnTo>
                    <a:pt x="1815" y="1206"/>
                  </a:lnTo>
                  <a:lnTo>
                    <a:pt x="1811" y="1218"/>
                  </a:lnTo>
                  <a:lnTo>
                    <a:pt x="1807" y="1229"/>
                  </a:lnTo>
                  <a:lnTo>
                    <a:pt x="1803" y="1241"/>
                  </a:lnTo>
                  <a:lnTo>
                    <a:pt x="1800" y="1253"/>
                  </a:lnTo>
                  <a:lnTo>
                    <a:pt x="1797" y="1264"/>
                  </a:lnTo>
                  <a:lnTo>
                    <a:pt x="1794" y="1276"/>
                  </a:lnTo>
                  <a:lnTo>
                    <a:pt x="1792" y="1288"/>
                  </a:lnTo>
                  <a:lnTo>
                    <a:pt x="1790" y="1299"/>
                  </a:lnTo>
                  <a:lnTo>
                    <a:pt x="1788" y="1311"/>
                  </a:lnTo>
                  <a:lnTo>
                    <a:pt x="1787" y="1322"/>
                  </a:lnTo>
                  <a:lnTo>
                    <a:pt x="1783" y="1342"/>
                  </a:lnTo>
                  <a:lnTo>
                    <a:pt x="1779" y="1363"/>
                  </a:lnTo>
                  <a:lnTo>
                    <a:pt x="1772" y="1383"/>
                  </a:lnTo>
                  <a:lnTo>
                    <a:pt x="1764" y="1403"/>
                  </a:lnTo>
                  <a:lnTo>
                    <a:pt x="1753" y="1422"/>
                  </a:lnTo>
                  <a:lnTo>
                    <a:pt x="1743" y="1442"/>
                  </a:lnTo>
                  <a:lnTo>
                    <a:pt x="1729" y="1462"/>
                  </a:lnTo>
                  <a:lnTo>
                    <a:pt x="1715" y="1481"/>
                  </a:lnTo>
                  <a:lnTo>
                    <a:pt x="1702" y="1498"/>
                  </a:lnTo>
                  <a:lnTo>
                    <a:pt x="1689" y="1515"/>
                  </a:lnTo>
                  <a:lnTo>
                    <a:pt x="1678" y="1533"/>
                  </a:lnTo>
                  <a:lnTo>
                    <a:pt x="1667" y="1550"/>
                  </a:lnTo>
                  <a:lnTo>
                    <a:pt x="1657" y="1569"/>
                  </a:lnTo>
                  <a:lnTo>
                    <a:pt x="1647" y="1588"/>
                  </a:lnTo>
                  <a:lnTo>
                    <a:pt x="1639" y="1606"/>
                  </a:lnTo>
                  <a:lnTo>
                    <a:pt x="1632" y="1625"/>
                  </a:lnTo>
                  <a:lnTo>
                    <a:pt x="1625" y="1652"/>
                  </a:lnTo>
                  <a:lnTo>
                    <a:pt x="1618" y="1676"/>
                  </a:lnTo>
                  <a:lnTo>
                    <a:pt x="1611" y="1695"/>
                  </a:lnTo>
                  <a:lnTo>
                    <a:pt x="1603" y="1711"/>
                  </a:lnTo>
                  <a:lnTo>
                    <a:pt x="1594" y="1722"/>
                  </a:lnTo>
                  <a:lnTo>
                    <a:pt x="1585" y="1732"/>
                  </a:lnTo>
                  <a:lnTo>
                    <a:pt x="1575" y="1736"/>
                  </a:lnTo>
                  <a:lnTo>
                    <a:pt x="1565" y="1738"/>
                  </a:lnTo>
                  <a:lnTo>
                    <a:pt x="1568" y="1741"/>
                  </a:lnTo>
                  <a:lnTo>
                    <a:pt x="1573" y="1745"/>
                  </a:lnTo>
                  <a:lnTo>
                    <a:pt x="1576" y="1748"/>
                  </a:lnTo>
                  <a:lnTo>
                    <a:pt x="1580" y="1752"/>
                  </a:lnTo>
                  <a:lnTo>
                    <a:pt x="1579" y="1761"/>
                  </a:lnTo>
                  <a:lnTo>
                    <a:pt x="1578" y="1769"/>
                  </a:lnTo>
                  <a:lnTo>
                    <a:pt x="1575" y="1776"/>
                  </a:lnTo>
                  <a:lnTo>
                    <a:pt x="1574" y="1779"/>
                  </a:lnTo>
                  <a:lnTo>
                    <a:pt x="1561" y="1786"/>
                  </a:lnTo>
                  <a:lnTo>
                    <a:pt x="1549" y="1791"/>
                  </a:lnTo>
                  <a:lnTo>
                    <a:pt x="1533" y="1796"/>
                  </a:lnTo>
                  <a:lnTo>
                    <a:pt x="1517" y="1798"/>
                  </a:lnTo>
                  <a:lnTo>
                    <a:pt x="1499" y="1799"/>
                  </a:lnTo>
                  <a:lnTo>
                    <a:pt x="1480" y="1799"/>
                  </a:lnTo>
                  <a:lnTo>
                    <a:pt x="1460" y="1798"/>
                  </a:lnTo>
                  <a:lnTo>
                    <a:pt x="1438" y="1795"/>
                  </a:lnTo>
                  <a:lnTo>
                    <a:pt x="1439" y="1799"/>
                  </a:lnTo>
                  <a:lnTo>
                    <a:pt x="1443" y="1805"/>
                  </a:lnTo>
                  <a:lnTo>
                    <a:pt x="1447" y="1810"/>
                  </a:lnTo>
                  <a:lnTo>
                    <a:pt x="1453" y="1817"/>
                  </a:lnTo>
                  <a:lnTo>
                    <a:pt x="1459" y="1823"/>
                  </a:lnTo>
                  <a:lnTo>
                    <a:pt x="1461" y="1828"/>
                  </a:lnTo>
                  <a:lnTo>
                    <a:pt x="1463" y="1833"/>
                  </a:lnTo>
                  <a:lnTo>
                    <a:pt x="1463" y="1838"/>
                  </a:lnTo>
                  <a:lnTo>
                    <a:pt x="1454" y="1847"/>
                  </a:lnTo>
                  <a:lnTo>
                    <a:pt x="1445" y="1854"/>
                  </a:lnTo>
                  <a:lnTo>
                    <a:pt x="1436" y="1861"/>
                  </a:lnTo>
                  <a:lnTo>
                    <a:pt x="1427" y="1867"/>
                  </a:lnTo>
                  <a:lnTo>
                    <a:pt x="1416" y="1871"/>
                  </a:lnTo>
                  <a:lnTo>
                    <a:pt x="1406" y="1875"/>
                  </a:lnTo>
                  <a:lnTo>
                    <a:pt x="1395" y="1877"/>
                  </a:lnTo>
                  <a:lnTo>
                    <a:pt x="1385" y="1878"/>
                  </a:lnTo>
                  <a:lnTo>
                    <a:pt x="1374" y="1878"/>
                  </a:lnTo>
                  <a:lnTo>
                    <a:pt x="1364" y="1878"/>
                  </a:lnTo>
                  <a:lnTo>
                    <a:pt x="1353" y="1879"/>
                  </a:lnTo>
                  <a:lnTo>
                    <a:pt x="1343" y="1879"/>
                  </a:lnTo>
                  <a:lnTo>
                    <a:pt x="1332" y="1881"/>
                  </a:lnTo>
                  <a:lnTo>
                    <a:pt x="1322" y="1882"/>
                  </a:lnTo>
                  <a:lnTo>
                    <a:pt x="1311" y="1882"/>
                  </a:lnTo>
                  <a:lnTo>
                    <a:pt x="1302" y="1882"/>
                  </a:lnTo>
                  <a:lnTo>
                    <a:pt x="1287" y="1879"/>
                  </a:lnTo>
                  <a:lnTo>
                    <a:pt x="1279" y="1875"/>
                  </a:lnTo>
                  <a:lnTo>
                    <a:pt x="1279" y="1867"/>
                  </a:lnTo>
                  <a:lnTo>
                    <a:pt x="1288" y="1856"/>
                  </a:lnTo>
                  <a:lnTo>
                    <a:pt x="1279" y="1857"/>
                  </a:lnTo>
                  <a:lnTo>
                    <a:pt x="1270" y="1857"/>
                  </a:lnTo>
                  <a:lnTo>
                    <a:pt x="1261" y="1857"/>
                  </a:lnTo>
                  <a:lnTo>
                    <a:pt x="1255" y="1857"/>
                  </a:lnTo>
                  <a:lnTo>
                    <a:pt x="1249" y="1856"/>
                  </a:lnTo>
                  <a:lnTo>
                    <a:pt x="1243" y="1855"/>
                  </a:lnTo>
                  <a:lnTo>
                    <a:pt x="1238" y="1853"/>
                  </a:lnTo>
                  <a:lnTo>
                    <a:pt x="1235" y="1852"/>
                  </a:lnTo>
                  <a:lnTo>
                    <a:pt x="1231" y="1850"/>
                  </a:lnTo>
                  <a:lnTo>
                    <a:pt x="1230" y="1846"/>
                  </a:lnTo>
                  <a:lnTo>
                    <a:pt x="1231" y="1839"/>
                  </a:lnTo>
                  <a:lnTo>
                    <a:pt x="1235" y="1829"/>
                  </a:lnTo>
                  <a:lnTo>
                    <a:pt x="1246" y="1819"/>
                  </a:lnTo>
                  <a:lnTo>
                    <a:pt x="1258" y="1811"/>
                  </a:lnTo>
                  <a:lnTo>
                    <a:pt x="1270" y="1803"/>
                  </a:lnTo>
                  <a:lnTo>
                    <a:pt x="1281" y="1797"/>
                  </a:lnTo>
                  <a:lnTo>
                    <a:pt x="1293" y="1792"/>
                  </a:lnTo>
                  <a:lnTo>
                    <a:pt x="1303" y="1789"/>
                  </a:lnTo>
                  <a:lnTo>
                    <a:pt x="1315" y="1786"/>
                  </a:lnTo>
                  <a:lnTo>
                    <a:pt x="1327" y="1785"/>
                  </a:lnTo>
                  <a:lnTo>
                    <a:pt x="1324" y="1777"/>
                  </a:lnTo>
                  <a:lnTo>
                    <a:pt x="1325" y="1770"/>
                  </a:lnTo>
                  <a:lnTo>
                    <a:pt x="1330" y="1764"/>
                  </a:lnTo>
                  <a:lnTo>
                    <a:pt x="1339" y="1761"/>
                  </a:lnTo>
                  <a:lnTo>
                    <a:pt x="1342" y="1743"/>
                  </a:lnTo>
                  <a:lnTo>
                    <a:pt x="1344" y="1727"/>
                  </a:lnTo>
                  <a:lnTo>
                    <a:pt x="1345" y="1710"/>
                  </a:lnTo>
                  <a:lnTo>
                    <a:pt x="1346" y="1692"/>
                  </a:lnTo>
                  <a:lnTo>
                    <a:pt x="1347" y="1675"/>
                  </a:lnTo>
                  <a:lnTo>
                    <a:pt x="1349" y="1657"/>
                  </a:lnTo>
                  <a:lnTo>
                    <a:pt x="1350" y="1639"/>
                  </a:lnTo>
                  <a:lnTo>
                    <a:pt x="1350" y="1621"/>
                  </a:lnTo>
                  <a:lnTo>
                    <a:pt x="1350" y="1603"/>
                  </a:lnTo>
                  <a:lnTo>
                    <a:pt x="1350" y="1585"/>
                  </a:lnTo>
                  <a:lnTo>
                    <a:pt x="1350" y="1567"/>
                  </a:lnTo>
                  <a:lnTo>
                    <a:pt x="1349" y="1548"/>
                  </a:lnTo>
                  <a:lnTo>
                    <a:pt x="1349" y="1531"/>
                  </a:lnTo>
                  <a:lnTo>
                    <a:pt x="1347" y="1512"/>
                  </a:lnTo>
                  <a:lnTo>
                    <a:pt x="1345" y="1493"/>
                  </a:lnTo>
                  <a:lnTo>
                    <a:pt x="1344" y="1475"/>
                  </a:lnTo>
                  <a:lnTo>
                    <a:pt x="1336" y="1467"/>
                  </a:lnTo>
                  <a:lnTo>
                    <a:pt x="1329" y="1457"/>
                  </a:lnTo>
                  <a:lnTo>
                    <a:pt x="1322" y="1448"/>
                  </a:lnTo>
                  <a:lnTo>
                    <a:pt x="1317" y="1439"/>
                  </a:lnTo>
                  <a:lnTo>
                    <a:pt x="1314" y="1428"/>
                  </a:lnTo>
                  <a:lnTo>
                    <a:pt x="1310" y="1419"/>
                  </a:lnTo>
                  <a:lnTo>
                    <a:pt x="1309" y="1409"/>
                  </a:lnTo>
                  <a:lnTo>
                    <a:pt x="1308" y="1399"/>
                  </a:lnTo>
                  <a:lnTo>
                    <a:pt x="1308" y="1389"/>
                  </a:lnTo>
                  <a:lnTo>
                    <a:pt x="1307" y="1377"/>
                  </a:lnTo>
                  <a:lnTo>
                    <a:pt x="1306" y="1367"/>
                  </a:lnTo>
                  <a:lnTo>
                    <a:pt x="1304" y="1356"/>
                  </a:lnTo>
                  <a:lnTo>
                    <a:pt x="1302" y="1347"/>
                  </a:lnTo>
                  <a:lnTo>
                    <a:pt x="1299" y="1336"/>
                  </a:lnTo>
                  <a:lnTo>
                    <a:pt x="1296" y="1326"/>
                  </a:lnTo>
                  <a:lnTo>
                    <a:pt x="1293" y="1317"/>
                  </a:lnTo>
                  <a:lnTo>
                    <a:pt x="1287" y="1307"/>
                  </a:lnTo>
                  <a:lnTo>
                    <a:pt x="1281" y="1299"/>
                  </a:lnTo>
                  <a:lnTo>
                    <a:pt x="1277" y="1290"/>
                  </a:lnTo>
                  <a:lnTo>
                    <a:pt x="1272" y="1282"/>
                  </a:lnTo>
                  <a:lnTo>
                    <a:pt x="1267" y="1274"/>
                  </a:lnTo>
                  <a:lnTo>
                    <a:pt x="1263" y="1265"/>
                  </a:lnTo>
                  <a:lnTo>
                    <a:pt x="1258" y="1257"/>
                  </a:lnTo>
                  <a:lnTo>
                    <a:pt x="1253" y="1249"/>
                  </a:lnTo>
                  <a:lnTo>
                    <a:pt x="1249" y="1242"/>
                  </a:lnTo>
                  <a:lnTo>
                    <a:pt x="1244" y="1235"/>
                  </a:lnTo>
                  <a:lnTo>
                    <a:pt x="1239" y="1228"/>
                  </a:lnTo>
                  <a:lnTo>
                    <a:pt x="1236" y="1222"/>
                  </a:lnTo>
                  <a:lnTo>
                    <a:pt x="1234" y="1215"/>
                  </a:lnTo>
                  <a:lnTo>
                    <a:pt x="1230" y="1210"/>
                  </a:lnTo>
                  <a:lnTo>
                    <a:pt x="1228" y="1204"/>
                  </a:lnTo>
                  <a:lnTo>
                    <a:pt x="1225" y="1199"/>
                  </a:lnTo>
                  <a:lnTo>
                    <a:pt x="1217" y="1186"/>
                  </a:lnTo>
                  <a:lnTo>
                    <a:pt x="1208" y="1172"/>
                  </a:lnTo>
                  <a:lnTo>
                    <a:pt x="1199" y="1156"/>
                  </a:lnTo>
                  <a:lnTo>
                    <a:pt x="1189" y="1138"/>
                  </a:lnTo>
                  <a:lnTo>
                    <a:pt x="1180" y="1118"/>
                  </a:lnTo>
                  <a:lnTo>
                    <a:pt x="1171" y="1096"/>
                  </a:lnTo>
                  <a:lnTo>
                    <a:pt x="1162" y="1072"/>
                  </a:lnTo>
                  <a:lnTo>
                    <a:pt x="1152" y="1048"/>
                  </a:lnTo>
                  <a:lnTo>
                    <a:pt x="1143" y="1036"/>
                  </a:lnTo>
                  <a:lnTo>
                    <a:pt x="1134" y="1027"/>
                  </a:lnTo>
                  <a:lnTo>
                    <a:pt x="1125" y="1021"/>
                  </a:lnTo>
                  <a:lnTo>
                    <a:pt x="1116" y="1019"/>
                  </a:lnTo>
                  <a:lnTo>
                    <a:pt x="1108" y="1019"/>
                  </a:lnTo>
                  <a:lnTo>
                    <a:pt x="1101" y="1022"/>
                  </a:lnTo>
                  <a:lnTo>
                    <a:pt x="1093" y="1029"/>
                  </a:lnTo>
                  <a:lnTo>
                    <a:pt x="1086" y="1040"/>
                  </a:lnTo>
                  <a:lnTo>
                    <a:pt x="1073" y="1060"/>
                  </a:lnTo>
                  <a:lnTo>
                    <a:pt x="1060" y="1079"/>
                  </a:lnTo>
                  <a:lnTo>
                    <a:pt x="1050" y="1099"/>
                  </a:lnTo>
                  <a:lnTo>
                    <a:pt x="1041" y="1119"/>
                  </a:lnTo>
                  <a:lnTo>
                    <a:pt x="1032" y="1139"/>
                  </a:lnTo>
                  <a:lnTo>
                    <a:pt x="1026" y="1157"/>
                  </a:lnTo>
                  <a:lnTo>
                    <a:pt x="1021" y="1176"/>
                  </a:lnTo>
                  <a:lnTo>
                    <a:pt x="1016" y="1193"/>
                  </a:lnTo>
                  <a:lnTo>
                    <a:pt x="1009" y="1218"/>
                  </a:lnTo>
                  <a:lnTo>
                    <a:pt x="1001" y="1241"/>
                  </a:lnTo>
                  <a:lnTo>
                    <a:pt x="992" y="1262"/>
                  </a:lnTo>
                  <a:lnTo>
                    <a:pt x="982" y="1281"/>
                  </a:lnTo>
                  <a:lnTo>
                    <a:pt x="973" y="1298"/>
                  </a:lnTo>
                  <a:lnTo>
                    <a:pt x="962" y="1314"/>
                  </a:lnTo>
                  <a:lnTo>
                    <a:pt x="951" y="1328"/>
                  </a:lnTo>
                  <a:lnTo>
                    <a:pt x="938" y="1342"/>
                  </a:lnTo>
                  <a:lnTo>
                    <a:pt x="939" y="1352"/>
                  </a:lnTo>
                  <a:lnTo>
                    <a:pt x="939" y="1361"/>
                  </a:lnTo>
                  <a:lnTo>
                    <a:pt x="939" y="1370"/>
                  </a:lnTo>
                  <a:lnTo>
                    <a:pt x="938" y="1381"/>
                  </a:lnTo>
                  <a:lnTo>
                    <a:pt x="937" y="1390"/>
                  </a:lnTo>
                  <a:lnTo>
                    <a:pt x="935" y="1399"/>
                  </a:lnTo>
                  <a:lnTo>
                    <a:pt x="933" y="1410"/>
                  </a:lnTo>
                  <a:lnTo>
                    <a:pt x="930" y="1419"/>
                  </a:lnTo>
                  <a:lnTo>
                    <a:pt x="926" y="1427"/>
                  </a:lnTo>
                  <a:lnTo>
                    <a:pt x="921" y="1435"/>
                  </a:lnTo>
                  <a:lnTo>
                    <a:pt x="915" y="1442"/>
                  </a:lnTo>
                  <a:lnTo>
                    <a:pt x="910" y="1448"/>
                  </a:lnTo>
                  <a:lnTo>
                    <a:pt x="906" y="1453"/>
                  </a:lnTo>
                  <a:lnTo>
                    <a:pt x="901" y="1456"/>
                  </a:lnTo>
                  <a:lnTo>
                    <a:pt x="898" y="1457"/>
                  </a:lnTo>
                  <a:lnTo>
                    <a:pt x="893" y="1459"/>
                  </a:lnTo>
                  <a:lnTo>
                    <a:pt x="891" y="1467"/>
                  </a:lnTo>
                  <a:lnTo>
                    <a:pt x="887" y="1475"/>
                  </a:lnTo>
                  <a:lnTo>
                    <a:pt x="885" y="1483"/>
                  </a:lnTo>
                  <a:lnTo>
                    <a:pt x="881" y="1491"/>
                  </a:lnTo>
                  <a:lnTo>
                    <a:pt x="879" y="1498"/>
                  </a:lnTo>
                  <a:lnTo>
                    <a:pt x="876" y="1506"/>
                  </a:lnTo>
                  <a:lnTo>
                    <a:pt x="873" y="1513"/>
                  </a:lnTo>
                  <a:lnTo>
                    <a:pt x="871" y="1520"/>
                  </a:lnTo>
                  <a:lnTo>
                    <a:pt x="866" y="1527"/>
                  </a:lnTo>
                  <a:lnTo>
                    <a:pt x="863" y="1535"/>
                  </a:lnTo>
                  <a:lnTo>
                    <a:pt x="860" y="1542"/>
                  </a:lnTo>
                  <a:lnTo>
                    <a:pt x="858" y="1548"/>
                  </a:lnTo>
                  <a:lnTo>
                    <a:pt x="855" y="1555"/>
                  </a:lnTo>
                  <a:lnTo>
                    <a:pt x="851" y="1563"/>
                  </a:lnTo>
                  <a:lnTo>
                    <a:pt x="848" y="1570"/>
                  </a:lnTo>
                  <a:lnTo>
                    <a:pt x="845" y="1576"/>
                  </a:lnTo>
                  <a:lnTo>
                    <a:pt x="845" y="1579"/>
                  </a:lnTo>
                  <a:lnTo>
                    <a:pt x="845" y="1584"/>
                  </a:lnTo>
                  <a:lnTo>
                    <a:pt x="844" y="1588"/>
                  </a:lnTo>
                  <a:lnTo>
                    <a:pt x="843" y="1592"/>
                  </a:lnTo>
                  <a:lnTo>
                    <a:pt x="842" y="1597"/>
                  </a:lnTo>
                  <a:lnTo>
                    <a:pt x="841" y="1602"/>
                  </a:lnTo>
                  <a:lnTo>
                    <a:pt x="838" y="1606"/>
                  </a:lnTo>
                  <a:lnTo>
                    <a:pt x="836" y="1611"/>
                  </a:lnTo>
                  <a:lnTo>
                    <a:pt x="835" y="1617"/>
                  </a:lnTo>
                  <a:lnTo>
                    <a:pt x="834" y="1622"/>
                  </a:lnTo>
                  <a:lnTo>
                    <a:pt x="831" y="1628"/>
                  </a:lnTo>
                  <a:lnTo>
                    <a:pt x="829" y="1635"/>
                  </a:lnTo>
                  <a:lnTo>
                    <a:pt x="827" y="1642"/>
                  </a:lnTo>
                  <a:lnTo>
                    <a:pt x="823" y="1649"/>
                  </a:lnTo>
                  <a:lnTo>
                    <a:pt x="821" y="1657"/>
                  </a:lnTo>
                  <a:lnTo>
                    <a:pt x="817" y="1666"/>
                  </a:lnTo>
                  <a:lnTo>
                    <a:pt x="813" y="1682"/>
                  </a:lnTo>
                  <a:lnTo>
                    <a:pt x="808" y="1697"/>
                  </a:lnTo>
                  <a:lnTo>
                    <a:pt x="803" y="1709"/>
                  </a:lnTo>
                  <a:lnTo>
                    <a:pt x="800" y="1719"/>
                  </a:lnTo>
                  <a:lnTo>
                    <a:pt x="797" y="1727"/>
                  </a:lnTo>
                  <a:lnTo>
                    <a:pt x="793" y="1733"/>
                  </a:lnTo>
                  <a:lnTo>
                    <a:pt x="790" y="1736"/>
                  </a:lnTo>
                  <a:lnTo>
                    <a:pt x="786" y="1738"/>
                  </a:lnTo>
                  <a:lnTo>
                    <a:pt x="791" y="1742"/>
                  </a:lnTo>
                  <a:lnTo>
                    <a:pt x="794" y="1750"/>
                  </a:lnTo>
                  <a:lnTo>
                    <a:pt x="795" y="1760"/>
                  </a:lnTo>
                  <a:lnTo>
                    <a:pt x="795" y="1770"/>
                  </a:lnTo>
                  <a:lnTo>
                    <a:pt x="795" y="1777"/>
                  </a:lnTo>
                  <a:lnTo>
                    <a:pt x="794" y="1784"/>
                  </a:lnTo>
                  <a:lnTo>
                    <a:pt x="792" y="1790"/>
                  </a:lnTo>
                  <a:lnTo>
                    <a:pt x="790" y="1796"/>
                  </a:lnTo>
                  <a:lnTo>
                    <a:pt x="786" y="1800"/>
                  </a:lnTo>
                  <a:lnTo>
                    <a:pt x="781" y="1805"/>
                  </a:lnTo>
                  <a:lnTo>
                    <a:pt x="777" y="1809"/>
                  </a:lnTo>
                  <a:lnTo>
                    <a:pt x="772" y="1811"/>
                  </a:lnTo>
                  <a:lnTo>
                    <a:pt x="766" y="1814"/>
                  </a:lnTo>
                  <a:lnTo>
                    <a:pt x="760" y="1817"/>
                  </a:lnTo>
                  <a:lnTo>
                    <a:pt x="752" y="1819"/>
                  </a:lnTo>
                  <a:lnTo>
                    <a:pt x="744" y="1820"/>
                  </a:lnTo>
                  <a:lnTo>
                    <a:pt x="735" y="1823"/>
                  </a:lnTo>
                  <a:lnTo>
                    <a:pt x="723" y="1823"/>
                  </a:lnTo>
                  <a:lnTo>
                    <a:pt x="712" y="1824"/>
                  </a:lnTo>
                  <a:lnTo>
                    <a:pt x="699" y="1824"/>
                  </a:lnTo>
                  <a:lnTo>
                    <a:pt x="692" y="1824"/>
                  </a:lnTo>
                  <a:lnTo>
                    <a:pt x="685" y="1824"/>
                  </a:lnTo>
                  <a:lnTo>
                    <a:pt x="678" y="1824"/>
                  </a:lnTo>
                  <a:lnTo>
                    <a:pt x="672" y="1824"/>
                  </a:lnTo>
                  <a:lnTo>
                    <a:pt x="666" y="1824"/>
                  </a:lnTo>
                  <a:lnTo>
                    <a:pt x="661" y="1824"/>
                  </a:lnTo>
                  <a:lnTo>
                    <a:pt x="656" y="1824"/>
                  </a:lnTo>
                  <a:lnTo>
                    <a:pt x="651" y="1824"/>
                  </a:lnTo>
                  <a:lnTo>
                    <a:pt x="642" y="1824"/>
                  </a:lnTo>
                  <a:lnTo>
                    <a:pt x="634" y="1824"/>
                  </a:lnTo>
                  <a:lnTo>
                    <a:pt x="627" y="1824"/>
                  </a:lnTo>
                  <a:lnTo>
                    <a:pt x="621" y="1824"/>
                  </a:lnTo>
                  <a:lnTo>
                    <a:pt x="614" y="1824"/>
                  </a:lnTo>
                  <a:lnTo>
                    <a:pt x="607" y="1821"/>
                  </a:lnTo>
                  <a:lnTo>
                    <a:pt x="599" y="1820"/>
                  </a:lnTo>
                  <a:lnTo>
                    <a:pt x="590" y="1820"/>
                  </a:lnTo>
                  <a:lnTo>
                    <a:pt x="581" y="1813"/>
                  </a:lnTo>
                  <a:lnTo>
                    <a:pt x="578" y="1806"/>
                  </a:lnTo>
                  <a:lnTo>
                    <a:pt x="578" y="1799"/>
                  </a:lnTo>
                  <a:lnTo>
                    <a:pt x="581" y="1792"/>
                  </a:lnTo>
                  <a:lnTo>
                    <a:pt x="574" y="1793"/>
                  </a:lnTo>
                  <a:lnTo>
                    <a:pt x="568" y="1793"/>
                  </a:lnTo>
                  <a:lnTo>
                    <a:pt x="561" y="1793"/>
                  </a:lnTo>
                  <a:lnTo>
                    <a:pt x="555" y="1792"/>
                  </a:lnTo>
                  <a:lnTo>
                    <a:pt x="552" y="1786"/>
                  </a:lnTo>
                  <a:lnTo>
                    <a:pt x="551" y="1778"/>
                  </a:lnTo>
                  <a:lnTo>
                    <a:pt x="550" y="1770"/>
                  </a:lnTo>
                  <a:lnTo>
                    <a:pt x="550" y="1761"/>
                  </a:lnTo>
                  <a:lnTo>
                    <a:pt x="552" y="1756"/>
                  </a:lnTo>
                  <a:lnTo>
                    <a:pt x="555" y="1753"/>
                  </a:lnTo>
                  <a:lnTo>
                    <a:pt x="559" y="1749"/>
                  </a:lnTo>
                  <a:lnTo>
                    <a:pt x="563" y="1747"/>
                  </a:lnTo>
                  <a:lnTo>
                    <a:pt x="568" y="1745"/>
                  </a:lnTo>
                  <a:lnTo>
                    <a:pt x="573" y="1743"/>
                  </a:lnTo>
                  <a:lnTo>
                    <a:pt x="579" y="1742"/>
                  </a:lnTo>
                  <a:lnTo>
                    <a:pt x="585" y="1742"/>
                  </a:lnTo>
                  <a:lnTo>
                    <a:pt x="604" y="1743"/>
                  </a:lnTo>
                  <a:lnTo>
                    <a:pt x="621" y="1743"/>
                  </a:lnTo>
                  <a:lnTo>
                    <a:pt x="637" y="1742"/>
                  </a:lnTo>
                  <a:lnTo>
                    <a:pt x="654" y="1740"/>
                  </a:lnTo>
                  <a:lnTo>
                    <a:pt x="666" y="1736"/>
                  </a:lnTo>
                  <a:lnTo>
                    <a:pt x="679" y="1731"/>
                  </a:lnTo>
                  <a:lnTo>
                    <a:pt x="691" y="1725"/>
                  </a:lnTo>
                  <a:lnTo>
                    <a:pt x="700" y="1717"/>
                  </a:lnTo>
                  <a:lnTo>
                    <a:pt x="701" y="1711"/>
                  </a:lnTo>
                  <a:lnTo>
                    <a:pt x="702" y="1704"/>
                  </a:lnTo>
                  <a:lnTo>
                    <a:pt x="705" y="1697"/>
                  </a:lnTo>
                  <a:lnTo>
                    <a:pt x="709" y="1689"/>
                  </a:lnTo>
                  <a:lnTo>
                    <a:pt x="714" y="1679"/>
                  </a:lnTo>
                  <a:lnTo>
                    <a:pt x="720" y="1669"/>
                  </a:lnTo>
                  <a:lnTo>
                    <a:pt x="727" y="1659"/>
                  </a:lnTo>
                  <a:lnTo>
                    <a:pt x="735" y="1647"/>
                  </a:lnTo>
                  <a:lnTo>
                    <a:pt x="743" y="1636"/>
                  </a:lnTo>
                  <a:lnTo>
                    <a:pt x="750" y="1627"/>
                  </a:lnTo>
                  <a:lnTo>
                    <a:pt x="757" y="1618"/>
                  </a:lnTo>
                  <a:lnTo>
                    <a:pt x="763" y="1607"/>
                  </a:lnTo>
                  <a:lnTo>
                    <a:pt x="769" y="1599"/>
                  </a:lnTo>
                  <a:lnTo>
                    <a:pt x="773" y="1591"/>
                  </a:lnTo>
                  <a:lnTo>
                    <a:pt x="778" y="1583"/>
                  </a:lnTo>
                  <a:lnTo>
                    <a:pt x="781" y="1576"/>
                  </a:lnTo>
                  <a:lnTo>
                    <a:pt x="783" y="1568"/>
                  </a:lnTo>
                  <a:lnTo>
                    <a:pt x="785" y="1560"/>
                  </a:lnTo>
                  <a:lnTo>
                    <a:pt x="787" y="1553"/>
                  </a:lnTo>
                  <a:lnTo>
                    <a:pt x="791" y="1545"/>
                  </a:lnTo>
                  <a:lnTo>
                    <a:pt x="793" y="1538"/>
                  </a:lnTo>
                  <a:lnTo>
                    <a:pt x="797" y="1531"/>
                  </a:lnTo>
                  <a:lnTo>
                    <a:pt x="800" y="1522"/>
                  </a:lnTo>
                  <a:lnTo>
                    <a:pt x="803" y="1515"/>
                  </a:lnTo>
                  <a:lnTo>
                    <a:pt x="808" y="1504"/>
                  </a:lnTo>
                  <a:lnTo>
                    <a:pt x="813" y="1492"/>
                  </a:lnTo>
                  <a:lnTo>
                    <a:pt x="816" y="1482"/>
                  </a:lnTo>
                  <a:lnTo>
                    <a:pt x="820" y="1472"/>
                  </a:lnTo>
                  <a:lnTo>
                    <a:pt x="822" y="1463"/>
                  </a:lnTo>
                  <a:lnTo>
                    <a:pt x="824" y="1456"/>
                  </a:lnTo>
                  <a:lnTo>
                    <a:pt x="826" y="1449"/>
                  </a:lnTo>
                  <a:lnTo>
                    <a:pt x="827" y="1443"/>
                  </a:lnTo>
                  <a:lnTo>
                    <a:pt x="827" y="1434"/>
                  </a:lnTo>
                  <a:lnTo>
                    <a:pt x="827" y="1426"/>
                  </a:lnTo>
                  <a:lnTo>
                    <a:pt x="827" y="1418"/>
                  </a:lnTo>
                  <a:lnTo>
                    <a:pt x="827" y="1411"/>
                  </a:lnTo>
                  <a:lnTo>
                    <a:pt x="826" y="1404"/>
                  </a:lnTo>
                  <a:lnTo>
                    <a:pt x="826" y="1398"/>
                  </a:lnTo>
                  <a:lnTo>
                    <a:pt x="826" y="1393"/>
                  </a:lnTo>
                  <a:lnTo>
                    <a:pt x="826" y="1389"/>
                  </a:lnTo>
                  <a:lnTo>
                    <a:pt x="823" y="1383"/>
                  </a:lnTo>
                  <a:lnTo>
                    <a:pt x="822" y="1376"/>
                  </a:lnTo>
                  <a:lnTo>
                    <a:pt x="823" y="1368"/>
                  </a:lnTo>
                  <a:lnTo>
                    <a:pt x="824" y="1359"/>
                  </a:lnTo>
                  <a:lnTo>
                    <a:pt x="828" y="1347"/>
                  </a:lnTo>
                  <a:lnTo>
                    <a:pt x="831" y="1334"/>
                  </a:lnTo>
                  <a:lnTo>
                    <a:pt x="837" y="1320"/>
                  </a:lnTo>
                  <a:lnTo>
                    <a:pt x="843" y="1304"/>
                  </a:lnTo>
                  <a:lnTo>
                    <a:pt x="843" y="1293"/>
                  </a:lnTo>
                  <a:lnTo>
                    <a:pt x="842" y="1281"/>
                  </a:lnTo>
                  <a:lnTo>
                    <a:pt x="841" y="1267"/>
                  </a:lnTo>
                  <a:lnTo>
                    <a:pt x="838" y="1249"/>
                  </a:lnTo>
                  <a:lnTo>
                    <a:pt x="836" y="1231"/>
                  </a:lnTo>
                  <a:lnTo>
                    <a:pt x="833" y="1210"/>
                  </a:lnTo>
                  <a:lnTo>
                    <a:pt x="829" y="1186"/>
                  </a:lnTo>
                  <a:lnTo>
                    <a:pt x="826" y="1162"/>
                  </a:lnTo>
                  <a:lnTo>
                    <a:pt x="820" y="1139"/>
                  </a:lnTo>
                  <a:lnTo>
                    <a:pt x="815" y="1118"/>
                  </a:lnTo>
                  <a:lnTo>
                    <a:pt x="812" y="1099"/>
                  </a:lnTo>
                  <a:lnTo>
                    <a:pt x="809" y="1082"/>
                  </a:lnTo>
                  <a:lnTo>
                    <a:pt x="808" y="1067"/>
                  </a:lnTo>
                  <a:lnTo>
                    <a:pt x="809" y="1054"/>
                  </a:lnTo>
                  <a:lnTo>
                    <a:pt x="810" y="1043"/>
                  </a:lnTo>
                  <a:lnTo>
                    <a:pt x="813" y="1035"/>
                  </a:lnTo>
                  <a:lnTo>
                    <a:pt x="800" y="1033"/>
                  </a:lnTo>
                  <a:lnTo>
                    <a:pt x="786" y="1031"/>
                  </a:lnTo>
                  <a:lnTo>
                    <a:pt x="772" y="1027"/>
                  </a:lnTo>
                  <a:lnTo>
                    <a:pt x="756" y="1024"/>
                  </a:lnTo>
                  <a:lnTo>
                    <a:pt x="738" y="1019"/>
                  </a:lnTo>
                  <a:lnTo>
                    <a:pt x="720" y="1014"/>
                  </a:lnTo>
                  <a:lnTo>
                    <a:pt x="701" y="1010"/>
                  </a:lnTo>
                  <a:lnTo>
                    <a:pt x="681" y="1005"/>
                  </a:lnTo>
                  <a:lnTo>
                    <a:pt x="686" y="1005"/>
                  </a:lnTo>
                  <a:close/>
                </a:path>
              </a:pathLst>
            </a:custGeom>
            <a:solidFill>
              <a:srgbClr val="b7a3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678720" y="5578560"/>
              <a:ext cx="128520" cy="368280"/>
            </a:xfrm>
            <a:custGeom>
              <a:avLst/>
              <a:gdLst/>
              <a:ahLst/>
              <a:rect l="l" t="t" r="r" b="b"/>
              <a:pathLst>
                <a:path w="244" h="695">
                  <a:moveTo>
                    <a:pt x="34" y="19"/>
                  </a:moveTo>
                  <a:lnTo>
                    <a:pt x="34" y="19"/>
                  </a:lnTo>
                  <a:lnTo>
                    <a:pt x="34" y="19"/>
                  </a:lnTo>
                  <a:lnTo>
                    <a:pt x="35" y="45"/>
                  </a:lnTo>
                  <a:lnTo>
                    <a:pt x="35" y="71"/>
                  </a:lnTo>
                  <a:lnTo>
                    <a:pt x="34" y="95"/>
                  </a:lnTo>
                  <a:lnTo>
                    <a:pt x="33" y="119"/>
                  </a:lnTo>
                  <a:lnTo>
                    <a:pt x="31" y="141"/>
                  </a:lnTo>
                  <a:lnTo>
                    <a:pt x="29" y="161"/>
                  </a:lnTo>
                  <a:lnTo>
                    <a:pt x="27" y="179"/>
                  </a:lnTo>
                  <a:lnTo>
                    <a:pt x="24" y="197"/>
                  </a:lnTo>
                  <a:lnTo>
                    <a:pt x="24" y="197"/>
                  </a:lnTo>
                  <a:lnTo>
                    <a:pt x="20" y="214"/>
                  </a:lnTo>
                  <a:lnTo>
                    <a:pt x="17" y="231"/>
                  </a:lnTo>
                  <a:lnTo>
                    <a:pt x="15" y="248"/>
                  </a:lnTo>
                  <a:lnTo>
                    <a:pt x="15" y="264"/>
                  </a:lnTo>
                  <a:lnTo>
                    <a:pt x="15" y="279"/>
                  </a:lnTo>
                  <a:lnTo>
                    <a:pt x="17" y="293"/>
                  </a:lnTo>
                  <a:lnTo>
                    <a:pt x="20" y="307"/>
                  </a:lnTo>
                  <a:lnTo>
                    <a:pt x="24" y="320"/>
                  </a:lnTo>
                  <a:lnTo>
                    <a:pt x="24" y="320"/>
                  </a:lnTo>
                  <a:lnTo>
                    <a:pt x="28" y="334"/>
                  </a:lnTo>
                  <a:lnTo>
                    <a:pt x="30" y="349"/>
                  </a:lnTo>
                  <a:lnTo>
                    <a:pt x="31" y="365"/>
                  </a:lnTo>
                  <a:lnTo>
                    <a:pt x="30" y="381"/>
                  </a:lnTo>
                  <a:lnTo>
                    <a:pt x="27" y="398"/>
                  </a:lnTo>
                  <a:lnTo>
                    <a:pt x="23" y="415"/>
                  </a:lnTo>
                  <a:lnTo>
                    <a:pt x="19" y="433"/>
                  </a:lnTo>
                  <a:lnTo>
                    <a:pt x="12" y="450"/>
                  </a:lnTo>
                  <a:lnTo>
                    <a:pt x="12" y="450"/>
                  </a:lnTo>
                  <a:lnTo>
                    <a:pt x="9" y="457"/>
                  </a:lnTo>
                  <a:lnTo>
                    <a:pt x="7" y="466"/>
                  </a:lnTo>
                  <a:lnTo>
                    <a:pt x="6" y="478"/>
                  </a:lnTo>
                  <a:lnTo>
                    <a:pt x="3" y="490"/>
                  </a:lnTo>
                  <a:lnTo>
                    <a:pt x="2" y="504"/>
                  </a:lnTo>
                  <a:lnTo>
                    <a:pt x="1" y="519"/>
                  </a:lnTo>
                  <a:lnTo>
                    <a:pt x="0" y="534"/>
                  </a:lnTo>
                  <a:lnTo>
                    <a:pt x="0" y="551"/>
                  </a:lnTo>
                  <a:lnTo>
                    <a:pt x="0" y="551"/>
                  </a:lnTo>
                  <a:lnTo>
                    <a:pt x="0" y="566"/>
                  </a:lnTo>
                  <a:lnTo>
                    <a:pt x="2" y="583"/>
                  </a:lnTo>
                  <a:lnTo>
                    <a:pt x="5" y="599"/>
                  </a:lnTo>
                  <a:lnTo>
                    <a:pt x="8" y="616"/>
                  </a:lnTo>
                  <a:lnTo>
                    <a:pt x="13" y="635"/>
                  </a:lnTo>
                  <a:lnTo>
                    <a:pt x="17" y="654"/>
                  </a:lnTo>
                  <a:lnTo>
                    <a:pt x="23" y="675"/>
                  </a:lnTo>
                  <a:lnTo>
                    <a:pt x="30" y="695"/>
                  </a:lnTo>
                  <a:lnTo>
                    <a:pt x="30" y="695"/>
                  </a:lnTo>
                  <a:lnTo>
                    <a:pt x="36" y="694"/>
                  </a:lnTo>
                  <a:lnTo>
                    <a:pt x="42" y="693"/>
                  </a:lnTo>
                  <a:lnTo>
                    <a:pt x="50" y="690"/>
                  </a:lnTo>
                  <a:lnTo>
                    <a:pt x="58" y="686"/>
                  </a:lnTo>
                  <a:lnTo>
                    <a:pt x="66" y="682"/>
                  </a:lnTo>
                  <a:lnTo>
                    <a:pt x="77" y="675"/>
                  </a:lnTo>
                  <a:lnTo>
                    <a:pt x="86" y="668"/>
                  </a:lnTo>
                  <a:lnTo>
                    <a:pt x="96" y="659"/>
                  </a:lnTo>
                  <a:lnTo>
                    <a:pt x="96" y="659"/>
                  </a:lnTo>
                  <a:lnTo>
                    <a:pt x="108" y="650"/>
                  </a:lnTo>
                  <a:lnTo>
                    <a:pt x="119" y="638"/>
                  </a:lnTo>
                  <a:lnTo>
                    <a:pt x="130" y="625"/>
                  </a:lnTo>
                  <a:lnTo>
                    <a:pt x="141" y="609"/>
                  </a:lnTo>
                  <a:lnTo>
                    <a:pt x="151" y="592"/>
                  </a:lnTo>
                  <a:lnTo>
                    <a:pt x="162" y="572"/>
                  </a:lnTo>
                  <a:lnTo>
                    <a:pt x="171" y="551"/>
                  </a:lnTo>
                  <a:lnTo>
                    <a:pt x="179" y="529"/>
                  </a:lnTo>
                  <a:lnTo>
                    <a:pt x="179" y="529"/>
                  </a:lnTo>
                  <a:lnTo>
                    <a:pt x="187" y="508"/>
                  </a:lnTo>
                  <a:lnTo>
                    <a:pt x="194" y="487"/>
                  </a:lnTo>
                  <a:lnTo>
                    <a:pt x="201" y="468"/>
                  </a:lnTo>
                  <a:lnTo>
                    <a:pt x="207" y="448"/>
                  </a:lnTo>
                  <a:lnTo>
                    <a:pt x="213" y="430"/>
                  </a:lnTo>
                  <a:lnTo>
                    <a:pt x="217" y="413"/>
                  </a:lnTo>
                  <a:lnTo>
                    <a:pt x="223" y="397"/>
                  </a:lnTo>
                  <a:lnTo>
                    <a:pt x="228" y="381"/>
                  </a:lnTo>
                  <a:lnTo>
                    <a:pt x="228" y="381"/>
                  </a:lnTo>
                  <a:lnTo>
                    <a:pt x="232" y="364"/>
                  </a:lnTo>
                  <a:lnTo>
                    <a:pt x="236" y="345"/>
                  </a:lnTo>
                  <a:lnTo>
                    <a:pt x="238" y="326"/>
                  </a:lnTo>
                  <a:lnTo>
                    <a:pt x="239" y="305"/>
                  </a:lnTo>
                  <a:lnTo>
                    <a:pt x="241" y="284"/>
                  </a:lnTo>
                  <a:lnTo>
                    <a:pt x="239" y="262"/>
                  </a:lnTo>
                  <a:lnTo>
                    <a:pt x="239" y="241"/>
                  </a:lnTo>
                  <a:lnTo>
                    <a:pt x="237" y="219"/>
                  </a:lnTo>
                  <a:lnTo>
                    <a:pt x="237" y="219"/>
                  </a:lnTo>
                  <a:lnTo>
                    <a:pt x="236" y="204"/>
                  </a:lnTo>
                  <a:lnTo>
                    <a:pt x="235" y="188"/>
                  </a:lnTo>
                  <a:lnTo>
                    <a:pt x="235" y="174"/>
                  </a:lnTo>
                  <a:lnTo>
                    <a:pt x="235" y="161"/>
                  </a:lnTo>
                  <a:lnTo>
                    <a:pt x="236" y="147"/>
                  </a:lnTo>
                  <a:lnTo>
                    <a:pt x="237" y="133"/>
                  </a:lnTo>
                  <a:lnTo>
                    <a:pt x="238" y="119"/>
                  </a:lnTo>
                  <a:lnTo>
                    <a:pt x="241" y="106"/>
                  </a:lnTo>
                  <a:lnTo>
                    <a:pt x="241" y="106"/>
                  </a:lnTo>
                  <a:lnTo>
                    <a:pt x="243" y="92"/>
                  </a:lnTo>
                  <a:lnTo>
                    <a:pt x="244" y="79"/>
                  </a:lnTo>
                  <a:lnTo>
                    <a:pt x="244" y="66"/>
                  </a:lnTo>
                  <a:lnTo>
                    <a:pt x="244" y="52"/>
                  </a:lnTo>
                  <a:lnTo>
                    <a:pt x="243" y="40"/>
                  </a:lnTo>
                  <a:lnTo>
                    <a:pt x="241" y="27"/>
                  </a:lnTo>
                  <a:lnTo>
                    <a:pt x="238" y="14"/>
                  </a:lnTo>
                  <a:lnTo>
                    <a:pt x="234" y="0"/>
                  </a:lnTo>
                  <a:lnTo>
                    <a:pt x="234" y="0"/>
                  </a:lnTo>
                  <a:lnTo>
                    <a:pt x="220" y="7"/>
                  </a:lnTo>
                  <a:lnTo>
                    <a:pt x="207" y="12"/>
                  </a:lnTo>
                  <a:lnTo>
                    <a:pt x="193" y="18"/>
                  </a:lnTo>
                  <a:lnTo>
                    <a:pt x="180" y="21"/>
                  </a:lnTo>
                  <a:lnTo>
                    <a:pt x="166" y="24"/>
                  </a:lnTo>
                  <a:lnTo>
                    <a:pt x="153" y="28"/>
                  </a:lnTo>
                  <a:lnTo>
                    <a:pt x="141" y="30"/>
                  </a:lnTo>
                  <a:lnTo>
                    <a:pt x="128" y="31"/>
                  </a:lnTo>
                  <a:lnTo>
                    <a:pt x="115" y="33"/>
                  </a:lnTo>
                  <a:lnTo>
                    <a:pt x="103" y="33"/>
                  </a:lnTo>
                  <a:lnTo>
                    <a:pt x="91" y="31"/>
                  </a:lnTo>
                  <a:lnTo>
                    <a:pt x="79" y="30"/>
                  </a:lnTo>
                  <a:lnTo>
                    <a:pt x="67" y="29"/>
                  </a:lnTo>
                  <a:lnTo>
                    <a:pt x="56" y="26"/>
                  </a:lnTo>
                  <a:lnTo>
                    <a:pt x="44" y="22"/>
                  </a:lnTo>
                  <a:lnTo>
                    <a:pt x="34" y="19"/>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937120" y="5032440"/>
              <a:ext cx="1284480" cy="995400"/>
            </a:xfrm>
            <a:custGeom>
              <a:avLst/>
              <a:gdLst/>
              <a:ahLst/>
              <a:rect l="l" t="t" r="r" b="b"/>
              <a:pathLst>
                <a:path w="2429" h="1882">
                  <a:moveTo>
                    <a:pt x="686" y="1005"/>
                  </a:moveTo>
                  <a:lnTo>
                    <a:pt x="681" y="1005"/>
                  </a:lnTo>
                  <a:lnTo>
                    <a:pt x="681" y="1005"/>
                  </a:lnTo>
                  <a:lnTo>
                    <a:pt x="658" y="999"/>
                  </a:lnTo>
                  <a:lnTo>
                    <a:pt x="636" y="992"/>
                  </a:lnTo>
                  <a:lnTo>
                    <a:pt x="614" y="984"/>
                  </a:lnTo>
                  <a:lnTo>
                    <a:pt x="593" y="974"/>
                  </a:lnTo>
                  <a:lnTo>
                    <a:pt x="573" y="963"/>
                  </a:lnTo>
                  <a:lnTo>
                    <a:pt x="554" y="950"/>
                  </a:lnTo>
                  <a:lnTo>
                    <a:pt x="535" y="936"/>
                  </a:lnTo>
                  <a:lnTo>
                    <a:pt x="518" y="921"/>
                  </a:lnTo>
                  <a:lnTo>
                    <a:pt x="501" y="905"/>
                  </a:lnTo>
                  <a:lnTo>
                    <a:pt x="485" y="888"/>
                  </a:lnTo>
                  <a:lnTo>
                    <a:pt x="470" y="869"/>
                  </a:lnTo>
                  <a:lnTo>
                    <a:pt x="456" y="848"/>
                  </a:lnTo>
                  <a:lnTo>
                    <a:pt x="443" y="826"/>
                  </a:lnTo>
                  <a:lnTo>
                    <a:pt x="430" y="803"/>
                  </a:lnTo>
                  <a:lnTo>
                    <a:pt x="419" y="778"/>
                  </a:lnTo>
                  <a:lnTo>
                    <a:pt x="408" y="753"/>
                  </a:lnTo>
                  <a:lnTo>
                    <a:pt x="408" y="753"/>
                  </a:lnTo>
                  <a:lnTo>
                    <a:pt x="398" y="727"/>
                  </a:lnTo>
                  <a:lnTo>
                    <a:pt x="390" y="701"/>
                  </a:lnTo>
                  <a:lnTo>
                    <a:pt x="380" y="676"/>
                  </a:lnTo>
                  <a:lnTo>
                    <a:pt x="372" y="651"/>
                  </a:lnTo>
                  <a:lnTo>
                    <a:pt x="365" y="627"/>
                  </a:lnTo>
                  <a:lnTo>
                    <a:pt x="359" y="603"/>
                  </a:lnTo>
                  <a:lnTo>
                    <a:pt x="354" y="579"/>
                  </a:lnTo>
                  <a:lnTo>
                    <a:pt x="348" y="557"/>
                  </a:lnTo>
                  <a:lnTo>
                    <a:pt x="344" y="535"/>
                  </a:lnTo>
                  <a:lnTo>
                    <a:pt x="340" y="513"/>
                  </a:lnTo>
                  <a:lnTo>
                    <a:pt x="337" y="492"/>
                  </a:lnTo>
                  <a:lnTo>
                    <a:pt x="335" y="471"/>
                  </a:lnTo>
                  <a:lnTo>
                    <a:pt x="333" y="451"/>
                  </a:lnTo>
                  <a:lnTo>
                    <a:pt x="333" y="432"/>
                  </a:lnTo>
                  <a:lnTo>
                    <a:pt x="333" y="413"/>
                  </a:lnTo>
                  <a:lnTo>
                    <a:pt x="333" y="394"/>
                  </a:lnTo>
                  <a:lnTo>
                    <a:pt x="333" y="394"/>
                  </a:lnTo>
                  <a:lnTo>
                    <a:pt x="330" y="389"/>
                  </a:lnTo>
                  <a:lnTo>
                    <a:pt x="327" y="382"/>
                  </a:lnTo>
                  <a:lnTo>
                    <a:pt x="323" y="375"/>
                  </a:lnTo>
                  <a:lnTo>
                    <a:pt x="319" y="367"/>
                  </a:lnTo>
                  <a:lnTo>
                    <a:pt x="313" y="360"/>
                  </a:lnTo>
                  <a:lnTo>
                    <a:pt x="307" y="351"/>
                  </a:lnTo>
                  <a:lnTo>
                    <a:pt x="301" y="342"/>
                  </a:lnTo>
                  <a:lnTo>
                    <a:pt x="294" y="333"/>
                  </a:lnTo>
                  <a:lnTo>
                    <a:pt x="294" y="333"/>
                  </a:lnTo>
                  <a:lnTo>
                    <a:pt x="286" y="324"/>
                  </a:lnTo>
                  <a:lnTo>
                    <a:pt x="279" y="315"/>
                  </a:lnTo>
                  <a:lnTo>
                    <a:pt x="273" y="306"/>
                  </a:lnTo>
                  <a:lnTo>
                    <a:pt x="269" y="298"/>
                  </a:lnTo>
                  <a:lnTo>
                    <a:pt x="264" y="290"/>
                  </a:lnTo>
                  <a:lnTo>
                    <a:pt x="262" y="283"/>
                  </a:lnTo>
                  <a:lnTo>
                    <a:pt x="261" y="275"/>
                  </a:lnTo>
                  <a:lnTo>
                    <a:pt x="259" y="268"/>
                  </a:lnTo>
                  <a:lnTo>
                    <a:pt x="259" y="268"/>
                  </a:lnTo>
                  <a:lnTo>
                    <a:pt x="255" y="267"/>
                  </a:lnTo>
                  <a:lnTo>
                    <a:pt x="249" y="264"/>
                  </a:lnTo>
                  <a:lnTo>
                    <a:pt x="242" y="262"/>
                  </a:lnTo>
                  <a:lnTo>
                    <a:pt x="233" y="258"/>
                  </a:lnTo>
                  <a:lnTo>
                    <a:pt x="233" y="258"/>
                  </a:lnTo>
                  <a:lnTo>
                    <a:pt x="223" y="256"/>
                  </a:lnTo>
                  <a:lnTo>
                    <a:pt x="214" y="253"/>
                  </a:lnTo>
                  <a:lnTo>
                    <a:pt x="206" y="249"/>
                  </a:lnTo>
                  <a:lnTo>
                    <a:pt x="199" y="246"/>
                  </a:lnTo>
                  <a:lnTo>
                    <a:pt x="199" y="246"/>
                  </a:lnTo>
                  <a:lnTo>
                    <a:pt x="187" y="242"/>
                  </a:lnTo>
                  <a:lnTo>
                    <a:pt x="177" y="239"/>
                  </a:lnTo>
                  <a:lnTo>
                    <a:pt x="168" y="234"/>
                  </a:lnTo>
                  <a:lnTo>
                    <a:pt x="160" y="229"/>
                  </a:lnTo>
                  <a:lnTo>
                    <a:pt x="151" y="226"/>
                  </a:lnTo>
                  <a:lnTo>
                    <a:pt x="146" y="221"/>
                  </a:lnTo>
                  <a:lnTo>
                    <a:pt x="141" y="217"/>
                  </a:lnTo>
                  <a:lnTo>
                    <a:pt x="136" y="213"/>
                  </a:lnTo>
                  <a:lnTo>
                    <a:pt x="136" y="213"/>
                  </a:lnTo>
                  <a:lnTo>
                    <a:pt x="123" y="220"/>
                  </a:lnTo>
                  <a:lnTo>
                    <a:pt x="110" y="225"/>
                  </a:lnTo>
                  <a:lnTo>
                    <a:pt x="96" y="228"/>
                  </a:lnTo>
                  <a:lnTo>
                    <a:pt x="82" y="229"/>
                  </a:lnTo>
                  <a:lnTo>
                    <a:pt x="67" y="229"/>
                  </a:lnTo>
                  <a:lnTo>
                    <a:pt x="51" y="228"/>
                  </a:lnTo>
                  <a:lnTo>
                    <a:pt x="35" y="225"/>
                  </a:lnTo>
                  <a:lnTo>
                    <a:pt x="19" y="219"/>
                  </a:lnTo>
                  <a:lnTo>
                    <a:pt x="19" y="219"/>
                  </a:lnTo>
                  <a:lnTo>
                    <a:pt x="11" y="213"/>
                  </a:lnTo>
                  <a:lnTo>
                    <a:pt x="6" y="206"/>
                  </a:lnTo>
                  <a:lnTo>
                    <a:pt x="4" y="198"/>
                  </a:lnTo>
                  <a:lnTo>
                    <a:pt x="6" y="191"/>
                  </a:lnTo>
                  <a:lnTo>
                    <a:pt x="6" y="191"/>
                  </a:lnTo>
                  <a:lnTo>
                    <a:pt x="7" y="186"/>
                  </a:lnTo>
                  <a:lnTo>
                    <a:pt x="12" y="183"/>
                  </a:lnTo>
                  <a:lnTo>
                    <a:pt x="19" y="179"/>
                  </a:lnTo>
                  <a:lnTo>
                    <a:pt x="28" y="178"/>
                  </a:lnTo>
                  <a:lnTo>
                    <a:pt x="28" y="178"/>
                  </a:lnTo>
                  <a:lnTo>
                    <a:pt x="19" y="178"/>
                  </a:lnTo>
                  <a:lnTo>
                    <a:pt x="12" y="176"/>
                  </a:lnTo>
                  <a:lnTo>
                    <a:pt x="6" y="174"/>
                  </a:lnTo>
                  <a:lnTo>
                    <a:pt x="1" y="169"/>
                  </a:lnTo>
                  <a:lnTo>
                    <a:pt x="1" y="169"/>
                  </a:lnTo>
                  <a:lnTo>
                    <a:pt x="0" y="157"/>
                  </a:lnTo>
                  <a:lnTo>
                    <a:pt x="0" y="148"/>
                  </a:lnTo>
                  <a:lnTo>
                    <a:pt x="3" y="139"/>
                  </a:lnTo>
                  <a:lnTo>
                    <a:pt x="6" y="131"/>
                  </a:lnTo>
                  <a:lnTo>
                    <a:pt x="12" y="124"/>
                  </a:lnTo>
                  <a:lnTo>
                    <a:pt x="19" y="118"/>
                  </a:lnTo>
                  <a:lnTo>
                    <a:pt x="29" y="113"/>
                  </a:lnTo>
                  <a:lnTo>
                    <a:pt x="41" y="108"/>
                  </a:lnTo>
                  <a:lnTo>
                    <a:pt x="41" y="108"/>
                  </a:lnTo>
                  <a:lnTo>
                    <a:pt x="47" y="96"/>
                  </a:lnTo>
                  <a:lnTo>
                    <a:pt x="53" y="85"/>
                  </a:lnTo>
                  <a:lnTo>
                    <a:pt x="58" y="76"/>
                  </a:lnTo>
                  <a:lnTo>
                    <a:pt x="64" y="68"/>
                  </a:lnTo>
                  <a:lnTo>
                    <a:pt x="69" y="62"/>
                  </a:lnTo>
                  <a:lnTo>
                    <a:pt x="75" y="57"/>
                  </a:lnTo>
                  <a:lnTo>
                    <a:pt x="79" y="54"/>
                  </a:lnTo>
                  <a:lnTo>
                    <a:pt x="84" y="51"/>
                  </a:lnTo>
                  <a:lnTo>
                    <a:pt x="84" y="51"/>
                  </a:lnTo>
                  <a:lnTo>
                    <a:pt x="96" y="50"/>
                  </a:lnTo>
                  <a:lnTo>
                    <a:pt x="106" y="49"/>
                  </a:lnTo>
                  <a:lnTo>
                    <a:pt x="119" y="49"/>
                  </a:lnTo>
                  <a:lnTo>
                    <a:pt x="130" y="48"/>
                  </a:lnTo>
                  <a:lnTo>
                    <a:pt x="143" y="47"/>
                  </a:lnTo>
                  <a:lnTo>
                    <a:pt x="157" y="46"/>
                  </a:lnTo>
                  <a:lnTo>
                    <a:pt x="171" y="46"/>
                  </a:lnTo>
                  <a:lnTo>
                    <a:pt x="186" y="46"/>
                  </a:lnTo>
                  <a:lnTo>
                    <a:pt x="186" y="46"/>
                  </a:lnTo>
                  <a:lnTo>
                    <a:pt x="201" y="47"/>
                  </a:lnTo>
                  <a:lnTo>
                    <a:pt x="216" y="48"/>
                  </a:lnTo>
                  <a:lnTo>
                    <a:pt x="233" y="48"/>
                  </a:lnTo>
                  <a:lnTo>
                    <a:pt x="248" y="48"/>
                  </a:lnTo>
                  <a:lnTo>
                    <a:pt x="263" y="47"/>
                  </a:lnTo>
                  <a:lnTo>
                    <a:pt x="279" y="46"/>
                  </a:lnTo>
                  <a:lnTo>
                    <a:pt x="294" y="43"/>
                  </a:lnTo>
                  <a:lnTo>
                    <a:pt x="309" y="40"/>
                  </a:lnTo>
                  <a:lnTo>
                    <a:pt x="309" y="40"/>
                  </a:lnTo>
                  <a:lnTo>
                    <a:pt x="315" y="40"/>
                  </a:lnTo>
                  <a:lnTo>
                    <a:pt x="320" y="39"/>
                  </a:lnTo>
                  <a:lnTo>
                    <a:pt x="326" y="37"/>
                  </a:lnTo>
                  <a:lnTo>
                    <a:pt x="332" y="35"/>
                  </a:lnTo>
                  <a:lnTo>
                    <a:pt x="336" y="34"/>
                  </a:lnTo>
                  <a:lnTo>
                    <a:pt x="340" y="32"/>
                  </a:lnTo>
                  <a:lnTo>
                    <a:pt x="343" y="29"/>
                  </a:lnTo>
                  <a:lnTo>
                    <a:pt x="345" y="27"/>
                  </a:lnTo>
                  <a:lnTo>
                    <a:pt x="345" y="27"/>
                  </a:lnTo>
                  <a:lnTo>
                    <a:pt x="352" y="22"/>
                  </a:lnTo>
                  <a:lnTo>
                    <a:pt x="359" y="18"/>
                  </a:lnTo>
                  <a:lnTo>
                    <a:pt x="368" y="13"/>
                  </a:lnTo>
                  <a:lnTo>
                    <a:pt x="377" y="10"/>
                  </a:lnTo>
                  <a:lnTo>
                    <a:pt x="377" y="10"/>
                  </a:lnTo>
                  <a:lnTo>
                    <a:pt x="380" y="8"/>
                  </a:lnTo>
                  <a:lnTo>
                    <a:pt x="384" y="7"/>
                  </a:lnTo>
                  <a:lnTo>
                    <a:pt x="391" y="6"/>
                  </a:lnTo>
                  <a:lnTo>
                    <a:pt x="399" y="6"/>
                  </a:lnTo>
                  <a:lnTo>
                    <a:pt x="408" y="7"/>
                  </a:lnTo>
                  <a:lnTo>
                    <a:pt x="420" y="8"/>
                  </a:lnTo>
                  <a:lnTo>
                    <a:pt x="434" y="11"/>
                  </a:lnTo>
                  <a:lnTo>
                    <a:pt x="449" y="13"/>
                  </a:lnTo>
                  <a:lnTo>
                    <a:pt x="449" y="13"/>
                  </a:lnTo>
                  <a:lnTo>
                    <a:pt x="461" y="15"/>
                  </a:lnTo>
                  <a:lnTo>
                    <a:pt x="471" y="17"/>
                  </a:lnTo>
                  <a:lnTo>
                    <a:pt x="479" y="18"/>
                  </a:lnTo>
                  <a:lnTo>
                    <a:pt x="487" y="18"/>
                  </a:lnTo>
                  <a:lnTo>
                    <a:pt x="492" y="18"/>
                  </a:lnTo>
                  <a:lnTo>
                    <a:pt x="497" y="17"/>
                  </a:lnTo>
                  <a:lnTo>
                    <a:pt x="499" y="15"/>
                  </a:lnTo>
                  <a:lnTo>
                    <a:pt x="500" y="14"/>
                  </a:lnTo>
                  <a:lnTo>
                    <a:pt x="500" y="14"/>
                  </a:lnTo>
                  <a:lnTo>
                    <a:pt x="518" y="7"/>
                  </a:lnTo>
                  <a:lnTo>
                    <a:pt x="534" y="3"/>
                  </a:lnTo>
                  <a:lnTo>
                    <a:pt x="549" y="0"/>
                  </a:lnTo>
                  <a:lnTo>
                    <a:pt x="564" y="1"/>
                  </a:lnTo>
                  <a:lnTo>
                    <a:pt x="578" y="5"/>
                  </a:lnTo>
                  <a:lnTo>
                    <a:pt x="591" y="12"/>
                  </a:lnTo>
                  <a:lnTo>
                    <a:pt x="604" y="21"/>
                  </a:lnTo>
                  <a:lnTo>
                    <a:pt x="614" y="33"/>
                  </a:lnTo>
                  <a:lnTo>
                    <a:pt x="614" y="33"/>
                  </a:lnTo>
                  <a:lnTo>
                    <a:pt x="619" y="41"/>
                  </a:lnTo>
                  <a:lnTo>
                    <a:pt x="624" y="49"/>
                  </a:lnTo>
                  <a:lnTo>
                    <a:pt x="629" y="56"/>
                  </a:lnTo>
                  <a:lnTo>
                    <a:pt x="634" y="63"/>
                  </a:lnTo>
                  <a:lnTo>
                    <a:pt x="638" y="70"/>
                  </a:lnTo>
                  <a:lnTo>
                    <a:pt x="643" y="76"/>
                  </a:lnTo>
                  <a:lnTo>
                    <a:pt x="648" y="82"/>
                  </a:lnTo>
                  <a:lnTo>
                    <a:pt x="651" y="86"/>
                  </a:lnTo>
                  <a:lnTo>
                    <a:pt x="651" y="86"/>
                  </a:lnTo>
                  <a:lnTo>
                    <a:pt x="658" y="93"/>
                  </a:lnTo>
                  <a:lnTo>
                    <a:pt x="664" y="101"/>
                  </a:lnTo>
                  <a:lnTo>
                    <a:pt x="669" y="108"/>
                  </a:lnTo>
                  <a:lnTo>
                    <a:pt x="673" y="114"/>
                  </a:lnTo>
                  <a:lnTo>
                    <a:pt x="673" y="114"/>
                  </a:lnTo>
                  <a:lnTo>
                    <a:pt x="680" y="129"/>
                  </a:lnTo>
                  <a:lnTo>
                    <a:pt x="686" y="144"/>
                  </a:lnTo>
                  <a:lnTo>
                    <a:pt x="690" y="160"/>
                  </a:lnTo>
                  <a:lnTo>
                    <a:pt x="691" y="174"/>
                  </a:lnTo>
                  <a:lnTo>
                    <a:pt x="691" y="186"/>
                  </a:lnTo>
                  <a:lnTo>
                    <a:pt x="688" y="198"/>
                  </a:lnTo>
                  <a:lnTo>
                    <a:pt x="684" y="210"/>
                  </a:lnTo>
                  <a:lnTo>
                    <a:pt x="677" y="219"/>
                  </a:lnTo>
                  <a:lnTo>
                    <a:pt x="677" y="219"/>
                  </a:lnTo>
                  <a:lnTo>
                    <a:pt x="673" y="226"/>
                  </a:lnTo>
                  <a:lnTo>
                    <a:pt x="670" y="233"/>
                  </a:lnTo>
                  <a:lnTo>
                    <a:pt x="667" y="242"/>
                  </a:lnTo>
                  <a:lnTo>
                    <a:pt x="665" y="253"/>
                  </a:lnTo>
                  <a:lnTo>
                    <a:pt x="663" y="263"/>
                  </a:lnTo>
                  <a:lnTo>
                    <a:pt x="663" y="276"/>
                  </a:lnTo>
                  <a:lnTo>
                    <a:pt x="662" y="290"/>
                  </a:lnTo>
                  <a:lnTo>
                    <a:pt x="662" y="305"/>
                  </a:lnTo>
                  <a:lnTo>
                    <a:pt x="663" y="321"/>
                  </a:lnTo>
                  <a:lnTo>
                    <a:pt x="664" y="337"/>
                  </a:lnTo>
                  <a:lnTo>
                    <a:pt x="665" y="356"/>
                  </a:lnTo>
                  <a:lnTo>
                    <a:pt x="667" y="376"/>
                  </a:lnTo>
                  <a:lnTo>
                    <a:pt x="671" y="397"/>
                  </a:lnTo>
                  <a:lnTo>
                    <a:pt x="673" y="420"/>
                  </a:lnTo>
                  <a:lnTo>
                    <a:pt x="677" y="443"/>
                  </a:lnTo>
                  <a:lnTo>
                    <a:pt x="681" y="468"/>
                  </a:lnTo>
                  <a:lnTo>
                    <a:pt x="681" y="468"/>
                  </a:lnTo>
                  <a:lnTo>
                    <a:pt x="684" y="479"/>
                  </a:lnTo>
                  <a:lnTo>
                    <a:pt x="688" y="489"/>
                  </a:lnTo>
                  <a:lnTo>
                    <a:pt x="694" y="497"/>
                  </a:lnTo>
                  <a:lnTo>
                    <a:pt x="702" y="505"/>
                  </a:lnTo>
                  <a:lnTo>
                    <a:pt x="713" y="511"/>
                  </a:lnTo>
                  <a:lnTo>
                    <a:pt x="724" y="514"/>
                  </a:lnTo>
                  <a:lnTo>
                    <a:pt x="738" y="517"/>
                  </a:lnTo>
                  <a:lnTo>
                    <a:pt x="754" y="518"/>
                  </a:lnTo>
                  <a:lnTo>
                    <a:pt x="754" y="518"/>
                  </a:lnTo>
                  <a:lnTo>
                    <a:pt x="770" y="519"/>
                  </a:lnTo>
                  <a:lnTo>
                    <a:pt x="785" y="519"/>
                  </a:lnTo>
                  <a:lnTo>
                    <a:pt x="799" y="519"/>
                  </a:lnTo>
                  <a:lnTo>
                    <a:pt x="810" y="518"/>
                  </a:lnTo>
                  <a:lnTo>
                    <a:pt x="822" y="517"/>
                  </a:lnTo>
                  <a:lnTo>
                    <a:pt x="831" y="514"/>
                  </a:lnTo>
                  <a:lnTo>
                    <a:pt x="838" y="512"/>
                  </a:lnTo>
                  <a:lnTo>
                    <a:pt x="845" y="508"/>
                  </a:lnTo>
                  <a:lnTo>
                    <a:pt x="845" y="508"/>
                  </a:lnTo>
                  <a:lnTo>
                    <a:pt x="865" y="499"/>
                  </a:lnTo>
                  <a:lnTo>
                    <a:pt x="885" y="488"/>
                  </a:lnTo>
                  <a:lnTo>
                    <a:pt x="903" y="475"/>
                  </a:lnTo>
                  <a:lnTo>
                    <a:pt x="922" y="460"/>
                  </a:lnTo>
                  <a:lnTo>
                    <a:pt x="939" y="442"/>
                  </a:lnTo>
                  <a:lnTo>
                    <a:pt x="957" y="422"/>
                  </a:lnTo>
                  <a:lnTo>
                    <a:pt x="974" y="400"/>
                  </a:lnTo>
                  <a:lnTo>
                    <a:pt x="991" y="376"/>
                  </a:lnTo>
                  <a:lnTo>
                    <a:pt x="991" y="376"/>
                  </a:lnTo>
                  <a:lnTo>
                    <a:pt x="1008" y="351"/>
                  </a:lnTo>
                  <a:lnTo>
                    <a:pt x="1027" y="328"/>
                  </a:lnTo>
                  <a:lnTo>
                    <a:pt x="1045" y="307"/>
                  </a:lnTo>
                  <a:lnTo>
                    <a:pt x="1065" y="289"/>
                  </a:lnTo>
                  <a:lnTo>
                    <a:pt x="1085" y="271"/>
                  </a:lnTo>
                  <a:lnTo>
                    <a:pt x="1105" y="256"/>
                  </a:lnTo>
                  <a:lnTo>
                    <a:pt x="1124" y="243"/>
                  </a:lnTo>
                  <a:lnTo>
                    <a:pt x="1144" y="233"/>
                  </a:lnTo>
                  <a:lnTo>
                    <a:pt x="1144" y="233"/>
                  </a:lnTo>
                  <a:lnTo>
                    <a:pt x="1153" y="227"/>
                  </a:lnTo>
                  <a:lnTo>
                    <a:pt x="1163" y="221"/>
                  </a:lnTo>
                  <a:lnTo>
                    <a:pt x="1171" y="213"/>
                  </a:lnTo>
                  <a:lnTo>
                    <a:pt x="1178" y="205"/>
                  </a:lnTo>
                  <a:lnTo>
                    <a:pt x="1185" y="197"/>
                  </a:lnTo>
                  <a:lnTo>
                    <a:pt x="1191" y="186"/>
                  </a:lnTo>
                  <a:lnTo>
                    <a:pt x="1196" y="175"/>
                  </a:lnTo>
                  <a:lnTo>
                    <a:pt x="1200" y="163"/>
                  </a:lnTo>
                  <a:lnTo>
                    <a:pt x="1200" y="163"/>
                  </a:lnTo>
                  <a:lnTo>
                    <a:pt x="1205" y="149"/>
                  </a:lnTo>
                  <a:lnTo>
                    <a:pt x="1211" y="136"/>
                  </a:lnTo>
                  <a:lnTo>
                    <a:pt x="1220" y="124"/>
                  </a:lnTo>
                  <a:lnTo>
                    <a:pt x="1230" y="111"/>
                  </a:lnTo>
                  <a:lnTo>
                    <a:pt x="1242" y="99"/>
                  </a:lnTo>
                  <a:lnTo>
                    <a:pt x="1256" y="87"/>
                  </a:lnTo>
                  <a:lnTo>
                    <a:pt x="1272" y="77"/>
                  </a:lnTo>
                  <a:lnTo>
                    <a:pt x="1289" y="68"/>
                  </a:lnTo>
                  <a:lnTo>
                    <a:pt x="1289" y="68"/>
                  </a:lnTo>
                  <a:lnTo>
                    <a:pt x="1303" y="60"/>
                  </a:lnTo>
                  <a:lnTo>
                    <a:pt x="1320" y="54"/>
                  </a:lnTo>
                  <a:lnTo>
                    <a:pt x="1337" y="48"/>
                  </a:lnTo>
                  <a:lnTo>
                    <a:pt x="1357" y="43"/>
                  </a:lnTo>
                  <a:lnTo>
                    <a:pt x="1378" y="41"/>
                  </a:lnTo>
                  <a:lnTo>
                    <a:pt x="1400" y="39"/>
                  </a:lnTo>
                  <a:lnTo>
                    <a:pt x="1424" y="36"/>
                  </a:lnTo>
                  <a:lnTo>
                    <a:pt x="1451" y="36"/>
                  </a:lnTo>
                  <a:lnTo>
                    <a:pt x="1451" y="36"/>
                  </a:lnTo>
                  <a:lnTo>
                    <a:pt x="1475" y="40"/>
                  </a:lnTo>
                  <a:lnTo>
                    <a:pt x="1496" y="46"/>
                  </a:lnTo>
                  <a:lnTo>
                    <a:pt x="1515" y="53"/>
                  </a:lnTo>
                  <a:lnTo>
                    <a:pt x="1531" y="63"/>
                  </a:lnTo>
                  <a:lnTo>
                    <a:pt x="1544" y="75"/>
                  </a:lnTo>
                  <a:lnTo>
                    <a:pt x="1554" y="87"/>
                  </a:lnTo>
                  <a:lnTo>
                    <a:pt x="1563" y="103"/>
                  </a:lnTo>
                  <a:lnTo>
                    <a:pt x="1567" y="119"/>
                  </a:lnTo>
                  <a:lnTo>
                    <a:pt x="1567" y="119"/>
                  </a:lnTo>
                  <a:lnTo>
                    <a:pt x="1574" y="155"/>
                  </a:lnTo>
                  <a:lnTo>
                    <a:pt x="1583" y="186"/>
                  </a:lnTo>
                  <a:lnTo>
                    <a:pt x="1595" y="213"/>
                  </a:lnTo>
                  <a:lnTo>
                    <a:pt x="1609" y="235"/>
                  </a:lnTo>
                  <a:lnTo>
                    <a:pt x="1624" y="251"/>
                  </a:lnTo>
                  <a:lnTo>
                    <a:pt x="1642" y="264"/>
                  </a:lnTo>
                  <a:lnTo>
                    <a:pt x="1661" y="271"/>
                  </a:lnTo>
                  <a:lnTo>
                    <a:pt x="1682" y="274"/>
                  </a:lnTo>
                  <a:lnTo>
                    <a:pt x="1682" y="274"/>
                  </a:lnTo>
                  <a:lnTo>
                    <a:pt x="1693" y="255"/>
                  </a:lnTo>
                  <a:lnTo>
                    <a:pt x="1703" y="236"/>
                  </a:lnTo>
                  <a:lnTo>
                    <a:pt x="1714" y="219"/>
                  </a:lnTo>
                  <a:lnTo>
                    <a:pt x="1724" y="203"/>
                  </a:lnTo>
                  <a:lnTo>
                    <a:pt x="1735" y="186"/>
                  </a:lnTo>
                  <a:lnTo>
                    <a:pt x="1745" y="171"/>
                  </a:lnTo>
                  <a:lnTo>
                    <a:pt x="1756" y="157"/>
                  </a:lnTo>
                  <a:lnTo>
                    <a:pt x="1765" y="144"/>
                  </a:lnTo>
                  <a:lnTo>
                    <a:pt x="1765" y="144"/>
                  </a:lnTo>
                  <a:lnTo>
                    <a:pt x="1776" y="129"/>
                  </a:lnTo>
                  <a:lnTo>
                    <a:pt x="1790" y="119"/>
                  </a:lnTo>
                  <a:lnTo>
                    <a:pt x="1807" y="111"/>
                  </a:lnTo>
                  <a:lnTo>
                    <a:pt x="1824" y="105"/>
                  </a:lnTo>
                  <a:lnTo>
                    <a:pt x="1844" y="103"/>
                  </a:lnTo>
                  <a:lnTo>
                    <a:pt x="1866" y="104"/>
                  </a:lnTo>
                  <a:lnTo>
                    <a:pt x="1889" y="107"/>
                  </a:lnTo>
                  <a:lnTo>
                    <a:pt x="1914" y="114"/>
                  </a:lnTo>
                  <a:lnTo>
                    <a:pt x="1914" y="114"/>
                  </a:lnTo>
                  <a:lnTo>
                    <a:pt x="1936" y="121"/>
                  </a:lnTo>
                  <a:lnTo>
                    <a:pt x="1954" y="129"/>
                  </a:lnTo>
                  <a:lnTo>
                    <a:pt x="1972" y="139"/>
                  </a:lnTo>
                  <a:lnTo>
                    <a:pt x="1987" y="149"/>
                  </a:lnTo>
                  <a:lnTo>
                    <a:pt x="2000" y="160"/>
                  </a:lnTo>
                  <a:lnTo>
                    <a:pt x="2010" y="170"/>
                  </a:lnTo>
                  <a:lnTo>
                    <a:pt x="2018" y="181"/>
                  </a:lnTo>
                  <a:lnTo>
                    <a:pt x="2024" y="191"/>
                  </a:lnTo>
                  <a:lnTo>
                    <a:pt x="2024" y="191"/>
                  </a:lnTo>
                  <a:lnTo>
                    <a:pt x="2025" y="196"/>
                  </a:lnTo>
                  <a:lnTo>
                    <a:pt x="2028" y="201"/>
                  </a:lnTo>
                  <a:lnTo>
                    <a:pt x="2029" y="206"/>
                  </a:lnTo>
                  <a:lnTo>
                    <a:pt x="2031" y="212"/>
                  </a:lnTo>
                  <a:lnTo>
                    <a:pt x="2032" y="217"/>
                  </a:lnTo>
                  <a:lnTo>
                    <a:pt x="2034" y="222"/>
                  </a:lnTo>
                  <a:lnTo>
                    <a:pt x="2036" y="227"/>
                  </a:lnTo>
                  <a:lnTo>
                    <a:pt x="2038" y="233"/>
                  </a:lnTo>
                  <a:lnTo>
                    <a:pt x="2038" y="233"/>
                  </a:lnTo>
                  <a:lnTo>
                    <a:pt x="2041" y="239"/>
                  </a:lnTo>
                  <a:lnTo>
                    <a:pt x="2044" y="246"/>
                  </a:lnTo>
                  <a:lnTo>
                    <a:pt x="2047" y="250"/>
                  </a:lnTo>
                  <a:lnTo>
                    <a:pt x="2050" y="256"/>
                  </a:lnTo>
                  <a:lnTo>
                    <a:pt x="2052" y="261"/>
                  </a:lnTo>
                  <a:lnTo>
                    <a:pt x="2054" y="265"/>
                  </a:lnTo>
                  <a:lnTo>
                    <a:pt x="2055" y="270"/>
                  </a:lnTo>
                  <a:lnTo>
                    <a:pt x="2057" y="274"/>
                  </a:lnTo>
                  <a:lnTo>
                    <a:pt x="2057" y="274"/>
                  </a:lnTo>
                  <a:lnTo>
                    <a:pt x="2065" y="294"/>
                  </a:lnTo>
                  <a:lnTo>
                    <a:pt x="2072" y="313"/>
                  </a:lnTo>
                  <a:lnTo>
                    <a:pt x="2080" y="331"/>
                  </a:lnTo>
                  <a:lnTo>
                    <a:pt x="2088" y="344"/>
                  </a:lnTo>
                  <a:lnTo>
                    <a:pt x="2096" y="356"/>
                  </a:lnTo>
                  <a:lnTo>
                    <a:pt x="2104" y="365"/>
                  </a:lnTo>
                  <a:lnTo>
                    <a:pt x="2114" y="374"/>
                  </a:lnTo>
                  <a:lnTo>
                    <a:pt x="2123" y="378"/>
                  </a:lnTo>
                  <a:lnTo>
                    <a:pt x="2123" y="378"/>
                  </a:lnTo>
                  <a:lnTo>
                    <a:pt x="2129" y="382"/>
                  </a:lnTo>
                  <a:lnTo>
                    <a:pt x="2136" y="386"/>
                  </a:lnTo>
                  <a:lnTo>
                    <a:pt x="2144" y="393"/>
                  </a:lnTo>
                  <a:lnTo>
                    <a:pt x="2153" y="401"/>
                  </a:lnTo>
                  <a:lnTo>
                    <a:pt x="2162" y="411"/>
                  </a:lnTo>
                  <a:lnTo>
                    <a:pt x="2172" y="421"/>
                  </a:lnTo>
                  <a:lnTo>
                    <a:pt x="2182" y="433"/>
                  </a:lnTo>
                  <a:lnTo>
                    <a:pt x="2193" y="446"/>
                  </a:lnTo>
                  <a:lnTo>
                    <a:pt x="2193" y="446"/>
                  </a:lnTo>
                  <a:lnTo>
                    <a:pt x="2207" y="467"/>
                  </a:lnTo>
                  <a:lnTo>
                    <a:pt x="2219" y="486"/>
                  </a:lnTo>
                  <a:lnTo>
                    <a:pt x="2230" y="505"/>
                  </a:lnTo>
                  <a:lnTo>
                    <a:pt x="2240" y="522"/>
                  </a:lnTo>
                  <a:lnTo>
                    <a:pt x="2248" y="539"/>
                  </a:lnTo>
                  <a:lnTo>
                    <a:pt x="2257" y="554"/>
                  </a:lnTo>
                  <a:lnTo>
                    <a:pt x="2262" y="568"/>
                  </a:lnTo>
                  <a:lnTo>
                    <a:pt x="2268" y="581"/>
                  </a:lnTo>
                  <a:lnTo>
                    <a:pt x="2268" y="581"/>
                  </a:lnTo>
                  <a:lnTo>
                    <a:pt x="2272" y="589"/>
                  </a:lnTo>
                  <a:lnTo>
                    <a:pt x="2275" y="597"/>
                  </a:lnTo>
                  <a:lnTo>
                    <a:pt x="2277" y="606"/>
                  </a:lnTo>
                  <a:lnTo>
                    <a:pt x="2280" y="617"/>
                  </a:lnTo>
                  <a:lnTo>
                    <a:pt x="2282" y="627"/>
                  </a:lnTo>
                  <a:lnTo>
                    <a:pt x="2283" y="640"/>
                  </a:lnTo>
                  <a:lnTo>
                    <a:pt x="2284" y="653"/>
                  </a:lnTo>
                  <a:lnTo>
                    <a:pt x="2286" y="665"/>
                  </a:lnTo>
                  <a:lnTo>
                    <a:pt x="2286" y="681"/>
                  </a:lnTo>
                  <a:lnTo>
                    <a:pt x="2286" y="696"/>
                  </a:lnTo>
                  <a:lnTo>
                    <a:pt x="2286" y="712"/>
                  </a:lnTo>
                  <a:lnTo>
                    <a:pt x="2284" y="728"/>
                  </a:lnTo>
                  <a:lnTo>
                    <a:pt x="2283" y="746"/>
                  </a:lnTo>
                  <a:lnTo>
                    <a:pt x="2282" y="764"/>
                  </a:lnTo>
                  <a:lnTo>
                    <a:pt x="2280" y="783"/>
                  </a:lnTo>
                  <a:lnTo>
                    <a:pt x="2277" y="803"/>
                  </a:lnTo>
                  <a:lnTo>
                    <a:pt x="2277" y="803"/>
                  </a:lnTo>
                  <a:lnTo>
                    <a:pt x="2282" y="815"/>
                  </a:lnTo>
                  <a:lnTo>
                    <a:pt x="2287" y="827"/>
                  </a:lnTo>
                  <a:lnTo>
                    <a:pt x="2293" y="838"/>
                  </a:lnTo>
                  <a:lnTo>
                    <a:pt x="2300" y="847"/>
                  </a:lnTo>
                  <a:lnTo>
                    <a:pt x="2308" y="855"/>
                  </a:lnTo>
                  <a:lnTo>
                    <a:pt x="2317" y="862"/>
                  </a:lnTo>
                  <a:lnTo>
                    <a:pt x="2326" y="867"/>
                  </a:lnTo>
                  <a:lnTo>
                    <a:pt x="2336" y="870"/>
                  </a:lnTo>
                  <a:lnTo>
                    <a:pt x="2336" y="870"/>
                  </a:lnTo>
                  <a:lnTo>
                    <a:pt x="2346" y="874"/>
                  </a:lnTo>
                  <a:lnTo>
                    <a:pt x="2356" y="879"/>
                  </a:lnTo>
                  <a:lnTo>
                    <a:pt x="2367" y="885"/>
                  </a:lnTo>
                  <a:lnTo>
                    <a:pt x="2376" y="891"/>
                  </a:lnTo>
                  <a:lnTo>
                    <a:pt x="2387" y="898"/>
                  </a:lnTo>
                  <a:lnTo>
                    <a:pt x="2396" y="906"/>
                  </a:lnTo>
                  <a:lnTo>
                    <a:pt x="2405" y="913"/>
                  </a:lnTo>
                  <a:lnTo>
                    <a:pt x="2413" y="921"/>
                  </a:lnTo>
                  <a:lnTo>
                    <a:pt x="2413" y="921"/>
                  </a:lnTo>
                  <a:lnTo>
                    <a:pt x="2418" y="929"/>
                  </a:lnTo>
                  <a:lnTo>
                    <a:pt x="2423" y="936"/>
                  </a:lnTo>
                  <a:lnTo>
                    <a:pt x="2425" y="943"/>
                  </a:lnTo>
                  <a:lnTo>
                    <a:pt x="2427" y="949"/>
                  </a:lnTo>
                  <a:lnTo>
                    <a:pt x="2429" y="955"/>
                  </a:lnTo>
                  <a:lnTo>
                    <a:pt x="2429" y="960"/>
                  </a:lnTo>
                  <a:lnTo>
                    <a:pt x="2426" y="964"/>
                  </a:lnTo>
                  <a:lnTo>
                    <a:pt x="2424" y="968"/>
                  </a:lnTo>
                  <a:lnTo>
                    <a:pt x="2424" y="968"/>
                  </a:lnTo>
                  <a:lnTo>
                    <a:pt x="2399" y="962"/>
                  </a:lnTo>
                  <a:lnTo>
                    <a:pt x="2376" y="954"/>
                  </a:lnTo>
                  <a:lnTo>
                    <a:pt x="2353" y="946"/>
                  </a:lnTo>
                  <a:lnTo>
                    <a:pt x="2330" y="936"/>
                  </a:lnTo>
                  <a:lnTo>
                    <a:pt x="2308" y="925"/>
                  </a:lnTo>
                  <a:lnTo>
                    <a:pt x="2284" y="913"/>
                  </a:lnTo>
                  <a:lnTo>
                    <a:pt x="2263" y="900"/>
                  </a:lnTo>
                  <a:lnTo>
                    <a:pt x="2243" y="885"/>
                  </a:lnTo>
                  <a:lnTo>
                    <a:pt x="2243" y="885"/>
                  </a:lnTo>
                  <a:lnTo>
                    <a:pt x="2238" y="899"/>
                  </a:lnTo>
                  <a:lnTo>
                    <a:pt x="2232" y="915"/>
                  </a:lnTo>
                  <a:lnTo>
                    <a:pt x="2225" y="935"/>
                  </a:lnTo>
                  <a:lnTo>
                    <a:pt x="2218" y="957"/>
                  </a:lnTo>
                  <a:lnTo>
                    <a:pt x="2210" y="982"/>
                  </a:lnTo>
                  <a:lnTo>
                    <a:pt x="2202" y="1010"/>
                  </a:lnTo>
                  <a:lnTo>
                    <a:pt x="2193" y="1039"/>
                  </a:lnTo>
                  <a:lnTo>
                    <a:pt x="2183" y="1070"/>
                  </a:lnTo>
                  <a:lnTo>
                    <a:pt x="2183" y="1070"/>
                  </a:lnTo>
                  <a:lnTo>
                    <a:pt x="2179" y="1085"/>
                  </a:lnTo>
                  <a:lnTo>
                    <a:pt x="2175" y="1100"/>
                  </a:lnTo>
                  <a:lnTo>
                    <a:pt x="2173" y="1115"/>
                  </a:lnTo>
                  <a:lnTo>
                    <a:pt x="2170" y="1129"/>
                  </a:lnTo>
                  <a:lnTo>
                    <a:pt x="2168" y="1145"/>
                  </a:lnTo>
                  <a:lnTo>
                    <a:pt x="2167" y="1158"/>
                  </a:lnTo>
                  <a:lnTo>
                    <a:pt x="2166" y="1171"/>
                  </a:lnTo>
                  <a:lnTo>
                    <a:pt x="2165" y="1185"/>
                  </a:lnTo>
                  <a:lnTo>
                    <a:pt x="2165" y="1198"/>
                  </a:lnTo>
                  <a:lnTo>
                    <a:pt x="2166" y="1210"/>
                  </a:lnTo>
                  <a:lnTo>
                    <a:pt x="2166" y="1222"/>
                  </a:lnTo>
                  <a:lnTo>
                    <a:pt x="2168" y="1234"/>
                  </a:lnTo>
                  <a:lnTo>
                    <a:pt x="2169" y="1245"/>
                  </a:lnTo>
                  <a:lnTo>
                    <a:pt x="2172" y="1256"/>
                  </a:lnTo>
                  <a:lnTo>
                    <a:pt x="2174" y="1267"/>
                  </a:lnTo>
                  <a:lnTo>
                    <a:pt x="2177" y="1276"/>
                  </a:lnTo>
                  <a:lnTo>
                    <a:pt x="2177" y="1276"/>
                  </a:lnTo>
                  <a:lnTo>
                    <a:pt x="2180" y="1283"/>
                  </a:lnTo>
                  <a:lnTo>
                    <a:pt x="2181" y="1291"/>
                  </a:lnTo>
                  <a:lnTo>
                    <a:pt x="2183" y="1299"/>
                  </a:lnTo>
                  <a:lnTo>
                    <a:pt x="2184" y="1309"/>
                  </a:lnTo>
                  <a:lnTo>
                    <a:pt x="2184" y="1318"/>
                  </a:lnTo>
                  <a:lnTo>
                    <a:pt x="2184" y="1327"/>
                  </a:lnTo>
                  <a:lnTo>
                    <a:pt x="2184" y="1338"/>
                  </a:lnTo>
                  <a:lnTo>
                    <a:pt x="2183" y="1348"/>
                  </a:lnTo>
                  <a:lnTo>
                    <a:pt x="2183" y="1348"/>
                  </a:lnTo>
                  <a:lnTo>
                    <a:pt x="2182" y="1355"/>
                  </a:lnTo>
                  <a:lnTo>
                    <a:pt x="2182" y="1362"/>
                  </a:lnTo>
                  <a:lnTo>
                    <a:pt x="2181" y="1368"/>
                  </a:lnTo>
                  <a:lnTo>
                    <a:pt x="2180" y="1375"/>
                  </a:lnTo>
                  <a:lnTo>
                    <a:pt x="2179" y="1381"/>
                  </a:lnTo>
                  <a:lnTo>
                    <a:pt x="2179" y="1386"/>
                  </a:lnTo>
                  <a:lnTo>
                    <a:pt x="2177" y="1392"/>
                  </a:lnTo>
                  <a:lnTo>
                    <a:pt x="2177" y="1397"/>
                  </a:lnTo>
                  <a:lnTo>
                    <a:pt x="2177" y="1397"/>
                  </a:lnTo>
                  <a:lnTo>
                    <a:pt x="2175" y="1407"/>
                  </a:lnTo>
                  <a:lnTo>
                    <a:pt x="2174" y="1417"/>
                  </a:lnTo>
                  <a:lnTo>
                    <a:pt x="2173" y="1425"/>
                  </a:lnTo>
                  <a:lnTo>
                    <a:pt x="2173" y="1431"/>
                  </a:lnTo>
                  <a:lnTo>
                    <a:pt x="2173" y="1431"/>
                  </a:lnTo>
                  <a:lnTo>
                    <a:pt x="2170" y="1450"/>
                  </a:lnTo>
                  <a:lnTo>
                    <a:pt x="2168" y="1471"/>
                  </a:lnTo>
                  <a:lnTo>
                    <a:pt x="2167" y="1492"/>
                  </a:lnTo>
                  <a:lnTo>
                    <a:pt x="2166" y="1514"/>
                  </a:lnTo>
                  <a:lnTo>
                    <a:pt x="2166" y="1535"/>
                  </a:lnTo>
                  <a:lnTo>
                    <a:pt x="2167" y="1557"/>
                  </a:lnTo>
                  <a:lnTo>
                    <a:pt x="2168" y="1579"/>
                  </a:lnTo>
                  <a:lnTo>
                    <a:pt x="2169" y="1602"/>
                  </a:lnTo>
                  <a:lnTo>
                    <a:pt x="2169" y="1602"/>
                  </a:lnTo>
                  <a:lnTo>
                    <a:pt x="2172" y="1628"/>
                  </a:lnTo>
                  <a:lnTo>
                    <a:pt x="2173" y="1654"/>
                  </a:lnTo>
                  <a:lnTo>
                    <a:pt x="2175" y="1679"/>
                  </a:lnTo>
                  <a:lnTo>
                    <a:pt x="2177" y="1703"/>
                  </a:lnTo>
                  <a:lnTo>
                    <a:pt x="2180" y="1724"/>
                  </a:lnTo>
                  <a:lnTo>
                    <a:pt x="2181" y="1745"/>
                  </a:lnTo>
                  <a:lnTo>
                    <a:pt x="2182" y="1763"/>
                  </a:lnTo>
                  <a:lnTo>
                    <a:pt x="2183" y="1779"/>
                  </a:lnTo>
                  <a:lnTo>
                    <a:pt x="2183" y="1779"/>
                  </a:lnTo>
                  <a:lnTo>
                    <a:pt x="2190" y="1789"/>
                  </a:lnTo>
                  <a:lnTo>
                    <a:pt x="2195" y="1797"/>
                  </a:lnTo>
                  <a:lnTo>
                    <a:pt x="2200" y="1805"/>
                  </a:lnTo>
                  <a:lnTo>
                    <a:pt x="2203" y="1811"/>
                  </a:lnTo>
                  <a:lnTo>
                    <a:pt x="2205" y="1817"/>
                  </a:lnTo>
                  <a:lnTo>
                    <a:pt x="2208" y="1821"/>
                  </a:lnTo>
                  <a:lnTo>
                    <a:pt x="2209" y="1824"/>
                  </a:lnTo>
                  <a:lnTo>
                    <a:pt x="2209" y="1825"/>
                  </a:lnTo>
                  <a:lnTo>
                    <a:pt x="2209" y="1825"/>
                  </a:lnTo>
                  <a:lnTo>
                    <a:pt x="2205" y="1839"/>
                  </a:lnTo>
                  <a:lnTo>
                    <a:pt x="2197" y="1850"/>
                  </a:lnTo>
                  <a:lnTo>
                    <a:pt x="2186" y="1859"/>
                  </a:lnTo>
                  <a:lnTo>
                    <a:pt x="2170" y="1866"/>
                  </a:lnTo>
                  <a:lnTo>
                    <a:pt x="2150" y="1869"/>
                  </a:lnTo>
                  <a:lnTo>
                    <a:pt x="2126" y="1870"/>
                  </a:lnTo>
                  <a:lnTo>
                    <a:pt x="2100" y="1869"/>
                  </a:lnTo>
                  <a:lnTo>
                    <a:pt x="2068" y="1866"/>
                  </a:lnTo>
                  <a:lnTo>
                    <a:pt x="2068" y="1866"/>
                  </a:lnTo>
                  <a:lnTo>
                    <a:pt x="2053" y="1864"/>
                  </a:lnTo>
                  <a:lnTo>
                    <a:pt x="2046" y="1859"/>
                  </a:lnTo>
                  <a:lnTo>
                    <a:pt x="2046" y="1852"/>
                  </a:lnTo>
                  <a:lnTo>
                    <a:pt x="2055" y="1842"/>
                  </a:lnTo>
                  <a:lnTo>
                    <a:pt x="2055" y="1842"/>
                  </a:lnTo>
                  <a:lnTo>
                    <a:pt x="2044" y="1843"/>
                  </a:lnTo>
                  <a:lnTo>
                    <a:pt x="2034" y="1843"/>
                  </a:lnTo>
                  <a:lnTo>
                    <a:pt x="2026" y="1843"/>
                  </a:lnTo>
                  <a:lnTo>
                    <a:pt x="2018" y="1842"/>
                  </a:lnTo>
                  <a:lnTo>
                    <a:pt x="2012" y="1839"/>
                  </a:lnTo>
                  <a:lnTo>
                    <a:pt x="2009" y="1835"/>
                  </a:lnTo>
                  <a:lnTo>
                    <a:pt x="2007" y="1831"/>
                  </a:lnTo>
                  <a:lnTo>
                    <a:pt x="2005" y="1825"/>
                  </a:lnTo>
                  <a:lnTo>
                    <a:pt x="2005" y="1825"/>
                  </a:lnTo>
                  <a:lnTo>
                    <a:pt x="2007" y="1818"/>
                  </a:lnTo>
                  <a:lnTo>
                    <a:pt x="2012" y="1811"/>
                  </a:lnTo>
                  <a:lnTo>
                    <a:pt x="2019" y="1804"/>
                  </a:lnTo>
                  <a:lnTo>
                    <a:pt x="2030" y="1798"/>
                  </a:lnTo>
                  <a:lnTo>
                    <a:pt x="2030" y="1798"/>
                  </a:lnTo>
                  <a:lnTo>
                    <a:pt x="2038" y="1795"/>
                  </a:lnTo>
                  <a:lnTo>
                    <a:pt x="2046" y="1790"/>
                  </a:lnTo>
                  <a:lnTo>
                    <a:pt x="2055" y="1784"/>
                  </a:lnTo>
                  <a:lnTo>
                    <a:pt x="2065" y="1777"/>
                  </a:lnTo>
                  <a:lnTo>
                    <a:pt x="2074" y="1771"/>
                  </a:lnTo>
                  <a:lnTo>
                    <a:pt x="2083" y="1763"/>
                  </a:lnTo>
                  <a:lnTo>
                    <a:pt x="2091" y="1755"/>
                  </a:lnTo>
                  <a:lnTo>
                    <a:pt x="2101" y="1747"/>
                  </a:lnTo>
                  <a:lnTo>
                    <a:pt x="2101" y="1747"/>
                  </a:lnTo>
                  <a:lnTo>
                    <a:pt x="2104" y="1739"/>
                  </a:lnTo>
                  <a:lnTo>
                    <a:pt x="2107" y="1727"/>
                  </a:lnTo>
                  <a:lnTo>
                    <a:pt x="2109" y="1713"/>
                  </a:lnTo>
                  <a:lnTo>
                    <a:pt x="2110" y="1696"/>
                  </a:lnTo>
                  <a:lnTo>
                    <a:pt x="2110" y="1676"/>
                  </a:lnTo>
                  <a:lnTo>
                    <a:pt x="2110" y="1653"/>
                  </a:lnTo>
                  <a:lnTo>
                    <a:pt x="2109" y="1627"/>
                  </a:lnTo>
                  <a:lnTo>
                    <a:pt x="2107" y="1598"/>
                  </a:lnTo>
                  <a:lnTo>
                    <a:pt x="2107" y="1598"/>
                  </a:lnTo>
                  <a:lnTo>
                    <a:pt x="2103" y="1566"/>
                  </a:lnTo>
                  <a:lnTo>
                    <a:pt x="2101" y="1535"/>
                  </a:lnTo>
                  <a:lnTo>
                    <a:pt x="2097" y="1507"/>
                  </a:lnTo>
                  <a:lnTo>
                    <a:pt x="2096" y="1483"/>
                  </a:lnTo>
                  <a:lnTo>
                    <a:pt x="2094" y="1462"/>
                  </a:lnTo>
                  <a:lnTo>
                    <a:pt x="2093" y="1443"/>
                  </a:lnTo>
                  <a:lnTo>
                    <a:pt x="2091" y="1427"/>
                  </a:lnTo>
                  <a:lnTo>
                    <a:pt x="2091" y="1415"/>
                  </a:lnTo>
                  <a:lnTo>
                    <a:pt x="2091" y="1415"/>
                  </a:lnTo>
                  <a:lnTo>
                    <a:pt x="2088" y="1411"/>
                  </a:lnTo>
                  <a:lnTo>
                    <a:pt x="2084" y="1406"/>
                  </a:lnTo>
                  <a:lnTo>
                    <a:pt x="2080" y="1400"/>
                  </a:lnTo>
                  <a:lnTo>
                    <a:pt x="2076" y="1392"/>
                  </a:lnTo>
                  <a:lnTo>
                    <a:pt x="2073" y="1384"/>
                  </a:lnTo>
                  <a:lnTo>
                    <a:pt x="2069" y="1375"/>
                  </a:lnTo>
                  <a:lnTo>
                    <a:pt x="2067" y="1364"/>
                  </a:lnTo>
                  <a:lnTo>
                    <a:pt x="2065" y="1354"/>
                  </a:lnTo>
                  <a:lnTo>
                    <a:pt x="2065" y="1354"/>
                  </a:lnTo>
                  <a:lnTo>
                    <a:pt x="2061" y="1342"/>
                  </a:lnTo>
                  <a:lnTo>
                    <a:pt x="2060" y="1332"/>
                  </a:lnTo>
                  <a:lnTo>
                    <a:pt x="2059" y="1321"/>
                  </a:lnTo>
                  <a:lnTo>
                    <a:pt x="2059" y="1312"/>
                  </a:lnTo>
                  <a:lnTo>
                    <a:pt x="2061" y="1304"/>
                  </a:lnTo>
                  <a:lnTo>
                    <a:pt x="2064" y="1297"/>
                  </a:lnTo>
                  <a:lnTo>
                    <a:pt x="2067" y="1290"/>
                  </a:lnTo>
                  <a:lnTo>
                    <a:pt x="2073" y="1284"/>
                  </a:lnTo>
                  <a:lnTo>
                    <a:pt x="2073" y="1284"/>
                  </a:lnTo>
                  <a:lnTo>
                    <a:pt x="2072" y="1262"/>
                  </a:lnTo>
                  <a:lnTo>
                    <a:pt x="2069" y="1240"/>
                  </a:lnTo>
                  <a:lnTo>
                    <a:pt x="2064" y="1219"/>
                  </a:lnTo>
                  <a:lnTo>
                    <a:pt x="2057" y="1197"/>
                  </a:lnTo>
                  <a:lnTo>
                    <a:pt x="2048" y="1176"/>
                  </a:lnTo>
                  <a:lnTo>
                    <a:pt x="2038" y="1156"/>
                  </a:lnTo>
                  <a:lnTo>
                    <a:pt x="2025" y="1136"/>
                  </a:lnTo>
                  <a:lnTo>
                    <a:pt x="2011" y="1117"/>
                  </a:lnTo>
                  <a:lnTo>
                    <a:pt x="2011" y="1117"/>
                  </a:lnTo>
                  <a:lnTo>
                    <a:pt x="1997" y="1098"/>
                  </a:lnTo>
                  <a:lnTo>
                    <a:pt x="1987" y="1078"/>
                  </a:lnTo>
                  <a:lnTo>
                    <a:pt x="1979" y="1058"/>
                  </a:lnTo>
                  <a:lnTo>
                    <a:pt x="1973" y="1038"/>
                  </a:lnTo>
                  <a:lnTo>
                    <a:pt x="1971" y="1017"/>
                  </a:lnTo>
                  <a:lnTo>
                    <a:pt x="1972" y="995"/>
                  </a:lnTo>
                  <a:lnTo>
                    <a:pt x="1974" y="972"/>
                  </a:lnTo>
                  <a:lnTo>
                    <a:pt x="1980" y="949"/>
                  </a:lnTo>
                  <a:lnTo>
                    <a:pt x="1980" y="949"/>
                  </a:lnTo>
                  <a:lnTo>
                    <a:pt x="1976" y="940"/>
                  </a:lnTo>
                  <a:lnTo>
                    <a:pt x="1969" y="932"/>
                  </a:lnTo>
                  <a:lnTo>
                    <a:pt x="1961" y="927"/>
                  </a:lnTo>
                  <a:lnTo>
                    <a:pt x="1951" y="926"/>
                  </a:lnTo>
                  <a:lnTo>
                    <a:pt x="1951" y="926"/>
                  </a:lnTo>
                  <a:lnTo>
                    <a:pt x="1939" y="928"/>
                  </a:lnTo>
                  <a:lnTo>
                    <a:pt x="1930" y="933"/>
                  </a:lnTo>
                  <a:lnTo>
                    <a:pt x="1925" y="942"/>
                  </a:lnTo>
                  <a:lnTo>
                    <a:pt x="1923" y="956"/>
                  </a:lnTo>
                  <a:lnTo>
                    <a:pt x="1923" y="956"/>
                  </a:lnTo>
                  <a:lnTo>
                    <a:pt x="1911" y="982"/>
                  </a:lnTo>
                  <a:lnTo>
                    <a:pt x="1901" y="1006"/>
                  </a:lnTo>
                  <a:lnTo>
                    <a:pt x="1890" y="1031"/>
                  </a:lnTo>
                  <a:lnTo>
                    <a:pt x="1880" y="1053"/>
                  </a:lnTo>
                  <a:lnTo>
                    <a:pt x="1871" y="1075"/>
                  </a:lnTo>
                  <a:lnTo>
                    <a:pt x="1862" y="1096"/>
                  </a:lnTo>
                  <a:lnTo>
                    <a:pt x="1854" y="1115"/>
                  </a:lnTo>
                  <a:lnTo>
                    <a:pt x="1846" y="1135"/>
                  </a:lnTo>
                  <a:lnTo>
                    <a:pt x="1846" y="1135"/>
                  </a:lnTo>
                  <a:lnTo>
                    <a:pt x="1840" y="1147"/>
                  </a:lnTo>
                  <a:lnTo>
                    <a:pt x="1835" y="1158"/>
                  </a:lnTo>
                  <a:lnTo>
                    <a:pt x="1830" y="1170"/>
                  </a:lnTo>
                  <a:lnTo>
                    <a:pt x="1824" y="1182"/>
                  </a:lnTo>
                  <a:lnTo>
                    <a:pt x="1819" y="1193"/>
                  </a:lnTo>
                  <a:lnTo>
                    <a:pt x="1815" y="1206"/>
                  </a:lnTo>
                  <a:lnTo>
                    <a:pt x="1811" y="1218"/>
                  </a:lnTo>
                  <a:lnTo>
                    <a:pt x="1807" y="1229"/>
                  </a:lnTo>
                  <a:lnTo>
                    <a:pt x="1803" y="1241"/>
                  </a:lnTo>
                  <a:lnTo>
                    <a:pt x="1800" y="1253"/>
                  </a:lnTo>
                  <a:lnTo>
                    <a:pt x="1797" y="1264"/>
                  </a:lnTo>
                  <a:lnTo>
                    <a:pt x="1794" y="1276"/>
                  </a:lnTo>
                  <a:lnTo>
                    <a:pt x="1792" y="1288"/>
                  </a:lnTo>
                  <a:lnTo>
                    <a:pt x="1790" y="1299"/>
                  </a:lnTo>
                  <a:lnTo>
                    <a:pt x="1788" y="1311"/>
                  </a:lnTo>
                  <a:lnTo>
                    <a:pt x="1787" y="1322"/>
                  </a:lnTo>
                  <a:lnTo>
                    <a:pt x="1787" y="1322"/>
                  </a:lnTo>
                  <a:lnTo>
                    <a:pt x="1783" y="1342"/>
                  </a:lnTo>
                  <a:lnTo>
                    <a:pt x="1779" y="1363"/>
                  </a:lnTo>
                  <a:lnTo>
                    <a:pt x="1772" y="1383"/>
                  </a:lnTo>
                  <a:lnTo>
                    <a:pt x="1764" y="1403"/>
                  </a:lnTo>
                  <a:lnTo>
                    <a:pt x="1753" y="1422"/>
                  </a:lnTo>
                  <a:lnTo>
                    <a:pt x="1743" y="1442"/>
                  </a:lnTo>
                  <a:lnTo>
                    <a:pt x="1729" y="1462"/>
                  </a:lnTo>
                  <a:lnTo>
                    <a:pt x="1715" y="1481"/>
                  </a:lnTo>
                  <a:lnTo>
                    <a:pt x="1715" y="1481"/>
                  </a:lnTo>
                  <a:lnTo>
                    <a:pt x="1702" y="1498"/>
                  </a:lnTo>
                  <a:lnTo>
                    <a:pt x="1689" y="1515"/>
                  </a:lnTo>
                  <a:lnTo>
                    <a:pt x="1678" y="1533"/>
                  </a:lnTo>
                  <a:lnTo>
                    <a:pt x="1667" y="1550"/>
                  </a:lnTo>
                  <a:lnTo>
                    <a:pt x="1657" y="1569"/>
                  </a:lnTo>
                  <a:lnTo>
                    <a:pt x="1647" y="1588"/>
                  </a:lnTo>
                  <a:lnTo>
                    <a:pt x="1639" y="1606"/>
                  </a:lnTo>
                  <a:lnTo>
                    <a:pt x="1632" y="1625"/>
                  </a:lnTo>
                  <a:lnTo>
                    <a:pt x="1632" y="1625"/>
                  </a:lnTo>
                  <a:lnTo>
                    <a:pt x="1625" y="1652"/>
                  </a:lnTo>
                  <a:lnTo>
                    <a:pt x="1618" y="1676"/>
                  </a:lnTo>
                  <a:lnTo>
                    <a:pt x="1611" y="1695"/>
                  </a:lnTo>
                  <a:lnTo>
                    <a:pt x="1603" y="1711"/>
                  </a:lnTo>
                  <a:lnTo>
                    <a:pt x="1594" y="1722"/>
                  </a:lnTo>
                  <a:lnTo>
                    <a:pt x="1585" y="1732"/>
                  </a:lnTo>
                  <a:lnTo>
                    <a:pt x="1575" y="1736"/>
                  </a:lnTo>
                  <a:lnTo>
                    <a:pt x="1565" y="1738"/>
                  </a:lnTo>
                  <a:lnTo>
                    <a:pt x="1565" y="1738"/>
                  </a:lnTo>
                  <a:lnTo>
                    <a:pt x="1568" y="1741"/>
                  </a:lnTo>
                  <a:lnTo>
                    <a:pt x="1573" y="1745"/>
                  </a:lnTo>
                  <a:lnTo>
                    <a:pt x="1576" y="1748"/>
                  </a:lnTo>
                  <a:lnTo>
                    <a:pt x="1580" y="1752"/>
                  </a:lnTo>
                  <a:lnTo>
                    <a:pt x="1580" y="1752"/>
                  </a:lnTo>
                  <a:lnTo>
                    <a:pt x="1579" y="1761"/>
                  </a:lnTo>
                  <a:lnTo>
                    <a:pt x="1578" y="1769"/>
                  </a:lnTo>
                  <a:lnTo>
                    <a:pt x="1575" y="1776"/>
                  </a:lnTo>
                  <a:lnTo>
                    <a:pt x="1574" y="1779"/>
                  </a:lnTo>
                  <a:lnTo>
                    <a:pt x="1574" y="1779"/>
                  </a:lnTo>
                  <a:lnTo>
                    <a:pt x="1561" y="1786"/>
                  </a:lnTo>
                  <a:lnTo>
                    <a:pt x="1549" y="1791"/>
                  </a:lnTo>
                  <a:lnTo>
                    <a:pt x="1533" y="1796"/>
                  </a:lnTo>
                  <a:lnTo>
                    <a:pt x="1517" y="1798"/>
                  </a:lnTo>
                  <a:lnTo>
                    <a:pt x="1499" y="1799"/>
                  </a:lnTo>
                  <a:lnTo>
                    <a:pt x="1480" y="1799"/>
                  </a:lnTo>
                  <a:lnTo>
                    <a:pt x="1460" y="1798"/>
                  </a:lnTo>
                  <a:lnTo>
                    <a:pt x="1438" y="1795"/>
                  </a:lnTo>
                  <a:lnTo>
                    <a:pt x="1438" y="1795"/>
                  </a:lnTo>
                  <a:lnTo>
                    <a:pt x="1439" y="1799"/>
                  </a:lnTo>
                  <a:lnTo>
                    <a:pt x="1443" y="1805"/>
                  </a:lnTo>
                  <a:lnTo>
                    <a:pt x="1447" y="1810"/>
                  </a:lnTo>
                  <a:lnTo>
                    <a:pt x="1453" y="1817"/>
                  </a:lnTo>
                  <a:lnTo>
                    <a:pt x="1453" y="1817"/>
                  </a:lnTo>
                  <a:lnTo>
                    <a:pt x="1459" y="1823"/>
                  </a:lnTo>
                  <a:lnTo>
                    <a:pt x="1461" y="1828"/>
                  </a:lnTo>
                  <a:lnTo>
                    <a:pt x="1463" y="1833"/>
                  </a:lnTo>
                  <a:lnTo>
                    <a:pt x="1463" y="1838"/>
                  </a:lnTo>
                  <a:lnTo>
                    <a:pt x="1463" y="1838"/>
                  </a:lnTo>
                  <a:lnTo>
                    <a:pt x="1454" y="1847"/>
                  </a:lnTo>
                  <a:lnTo>
                    <a:pt x="1445" y="1854"/>
                  </a:lnTo>
                  <a:lnTo>
                    <a:pt x="1436" y="1861"/>
                  </a:lnTo>
                  <a:lnTo>
                    <a:pt x="1427" y="1867"/>
                  </a:lnTo>
                  <a:lnTo>
                    <a:pt x="1416" y="1871"/>
                  </a:lnTo>
                  <a:lnTo>
                    <a:pt x="1406" y="1875"/>
                  </a:lnTo>
                  <a:lnTo>
                    <a:pt x="1395" y="1877"/>
                  </a:lnTo>
                  <a:lnTo>
                    <a:pt x="1385" y="1878"/>
                  </a:lnTo>
                  <a:lnTo>
                    <a:pt x="1385" y="1878"/>
                  </a:lnTo>
                  <a:lnTo>
                    <a:pt x="1374" y="1878"/>
                  </a:lnTo>
                  <a:lnTo>
                    <a:pt x="1364" y="1878"/>
                  </a:lnTo>
                  <a:lnTo>
                    <a:pt x="1353" y="1879"/>
                  </a:lnTo>
                  <a:lnTo>
                    <a:pt x="1343" y="1879"/>
                  </a:lnTo>
                  <a:lnTo>
                    <a:pt x="1332" y="1881"/>
                  </a:lnTo>
                  <a:lnTo>
                    <a:pt x="1322" y="1882"/>
                  </a:lnTo>
                  <a:lnTo>
                    <a:pt x="1311" y="1882"/>
                  </a:lnTo>
                  <a:lnTo>
                    <a:pt x="1302" y="1882"/>
                  </a:lnTo>
                  <a:lnTo>
                    <a:pt x="1302" y="1882"/>
                  </a:lnTo>
                  <a:lnTo>
                    <a:pt x="1287" y="1879"/>
                  </a:lnTo>
                  <a:lnTo>
                    <a:pt x="1279" y="1875"/>
                  </a:lnTo>
                  <a:lnTo>
                    <a:pt x="1279" y="1867"/>
                  </a:lnTo>
                  <a:lnTo>
                    <a:pt x="1288" y="1856"/>
                  </a:lnTo>
                  <a:lnTo>
                    <a:pt x="1288" y="1856"/>
                  </a:lnTo>
                  <a:lnTo>
                    <a:pt x="1279" y="1857"/>
                  </a:lnTo>
                  <a:lnTo>
                    <a:pt x="1270" y="1857"/>
                  </a:lnTo>
                  <a:lnTo>
                    <a:pt x="1261" y="1857"/>
                  </a:lnTo>
                  <a:lnTo>
                    <a:pt x="1255" y="1857"/>
                  </a:lnTo>
                  <a:lnTo>
                    <a:pt x="1249" y="1856"/>
                  </a:lnTo>
                  <a:lnTo>
                    <a:pt x="1243" y="1855"/>
                  </a:lnTo>
                  <a:lnTo>
                    <a:pt x="1238" y="1853"/>
                  </a:lnTo>
                  <a:lnTo>
                    <a:pt x="1235" y="1852"/>
                  </a:lnTo>
                  <a:lnTo>
                    <a:pt x="1235" y="1852"/>
                  </a:lnTo>
                  <a:lnTo>
                    <a:pt x="1231" y="1850"/>
                  </a:lnTo>
                  <a:lnTo>
                    <a:pt x="1230" y="1846"/>
                  </a:lnTo>
                  <a:lnTo>
                    <a:pt x="1231" y="1839"/>
                  </a:lnTo>
                  <a:lnTo>
                    <a:pt x="1235" y="1829"/>
                  </a:lnTo>
                  <a:lnTo>
                    <a:pt x="1235" y="1829"/>
                  </a:lnTo>
                  <a:lnTo>
                    <a:pt x="1246" y="1819"/>
                  </a:lnTo>
                  <a:lnTo>
                    <a:pt x="1258" y="1811"/>
                  </a:lnTo>
                  <a:lnTo>
                    <a:pt x="1270" y="1803"/>
                  </a:lnTo>
                  <a:lnTo>
                    <a:pt x="1281" y="1797"/>
                  </a:lnTo>
                  <a:lnTo>
                    <a:pt x="1293" y="1792"/>
                  </a:lnTo>
                  <a:lnTo>
                    <a:pt x="1303" y="1789"/>
                  </a:lnTo>
                  <a:lnTo>
                    <a:pt x="1315" y="1786"/>
                  </a:lnTo>
                  <a:lnTo>
                    <a:pt x="1327" y="1785"/>
                  </a:lnTo>
                  <a:lnTo>
                    <a:pt x="1327" y="1785"/>
                  </a:lnTo>
                  <a:lnTo>
                    <a:pt x="1324" y="1777"/>
                  </a:lnTo>
                  <a:lnTo>
                    <a:pt x="1325" y="1770"/>
                  </a:lnTo>
                  <a:lnTo>
                    <a:pt x="1330" y="1764"/>
                  </a:lnTo>
                  <a:lnTo>
                    <a:pt x="1339" y="1761"/>
                  </a:lnTo>
                  <a:lnTo>
                    <a:pt x="1339" y="1761"/>
                  </a:lnTo>
                  <a:lnTo>
                    <a:pt x="1342" y="1743"/>
                  </a:lnTo>
                  <a:lnTo>
                    <a:pt x="1344" y="1727"/>
                  </a:lnTo>
                  <a:lnTo>
                    <a:pt x="1345" y="1710"/>
                  </a:lnTo>
                  <a:lnTo>
                    <a:pt x="1346" y="1692"/>
                  </a:lnTo>
                  <a:lnTo>
                    <a:pt x="1347" y="1675"/>
                  </a:lnTo>
                  <a:lnTo>
                    <a:pt x="1349" y="1657"/>
                  </a:lnTo>
                  <a:lnTo>
                    <a:pt x="1350" y="1639"/>
                  </a:lnTo>
                  <a:lnTo>
                    <a:pt x="1350" y="1621"/>
                  </a:lnTo>
                  <a:lnTo>
                    <a:pt x="1350" y="1603"/>
                  </a:lnTo>
                  <a:lnTo>
                    <a:pt x="1350" y="1585"/>
                  </a:lnTo>
                  <a:lnTo>
                    <a:pt x="1350" y="1567"/>
                  </a:lnTo>
                  <a:lnTo>
                    <a:pt x="1349" y="1548"/>
                  </a:lnTo>
                  <a:lnTo>
                    <a:pt x="1349" y="1531"/>
                  </a:lnTo>
                  <a:lnTo>
                    <a:pt x="1347" y="1512"/>
                  </a:lnTo>
                  <a:lnTo>
                    <a:pt x="1345" y="1493"/>
                  </a:lnTo>
                  <a:lnTo>
                    <a:pt x="1344" y="1475"/>
                  </a:lnTo>
                  <a:lnTo>
                    <a:pt x="1344" y="1475"/>
                  </a:lnTo>
                  <a:lnTo>
                    <a:pt x="1336" y="1467"/>
                  </a:lnTo>
                  <a:lnTo>
                    <a:pt x="1329" y="1457"/>
                  </a:lnTo>
                  <a:lnTo>
                    <a:pt x="1322" y="1448"/>
                  </a:lnTo>
                  <a:lnTo>
                    <a:pt x="1317" y="1439"/>
                  </a:lnTo>
                  <a:lnTo>
                    <a:pt x="1314" y="1428"/>
                  </a:lnTo>
                  <a:lnTo>
                    <a:pt x="1310" y="1419"/>
                  </a:lnTo>
                  <a:lnTo>
                    <a:pt x="1309" y="1409"/>
                  </a:lnTo>
                  <a:lnTo>
                    <a:pt x="1308" y="1399"/>
                  </a:lnTo>
                  <a:lnTo>
                    <a:pt x="1308" y="1399"/>
                  </a:lnTo>
                  <a:lnTo>
                    <a:pt x="1308" y="1389"/>
                  </a:lnTo>
                  <a:lnTo>
                    <a:pt x="1307" y="1377"/>
                  </a:lnTo>
                  <a:lnTo>
                    <a:pt x="1306" y="1367"/>
                  </a:lnTo>
                  <a:lnTo>
                    <a:pt x="1304" y="1356"/>
                  </a:lnTo>
                  <a:lnTo>
                    <a:pt x="1302" y="1347"/>
                  </a:lnTo>
                  <a:lnTo>
                    <a:pt x="1299" y="1336"/>
                  </a:lnTo>
                  <a:lnTo>
                    <a:pt x="1296" y="1326"/>
                  </a:lnTo>
                  <a:lnTo>
                    <a:pt x="1293" y="1317"/>
                  </a:lnTo>
                  <a:lnTo>
                    <a:pt x="1293" y="1317"/>
                  </a:lnTo>
                  <a:lnTo>
                    <a:pt x="1287" y="1307"/>
                  </a:lnTo>
                  <a:lnTo>
                    <a:pt x="1281" y="1299"/>
                  </a:lnTo>
                  <a:lnTo>
                    <a:pt x="1277" y="1290"/>
                  </a:lnTo>
                  <a:lnTo>
                    <a:pt x="1272" y="1282"/>
                  </a:lnTo>
                  <a:lnTo>
                    <a:pt x="1267" y="1274"/>
                  </a:lnTo>
                  <a:lnTo>
                    <a:pt x="1263" y="1265"/>
                  </a:lnTo>
                  <a:lnTo>
                    <a:pt x="1258" y="1257"/>
                  </a:lnTo>
                  <a:lnTo>
                    <a:pt x="1253" y="1249"/>
                  </a:lnTo>
                  <a:lnTo>
                    <a:pt x="1253" y="1249"/>
                  </a:lnTo>
                  <a:lnTo>
                    <a:pt x="1249" y="1242"/>
                  </a:lnTo>
                  <a:lnTo>
                    <a:pt x="1244" y="1235"/>
                  </a:lnTo>
                  <a:lnTo>
                    <a:pt x="1239" y="1228"/>
                  </a:lnTo>
                  <a:lnTo>
                    <a:pt x="1236" y="1222"/>
                  </a:lnTo>
                  <a:lnTo>
                    <a:pt x="1234" y="1215"/>
                  </a:lnTo>
                  <a:lnTo>
                    <a:pt x="1230" y="1210"/>
                  </a:lnTo>
                  <a:lnTo>
                    <a:pt x="1228" y="1204"/>
                  </a:lnTo>
                  <a:lnTo>
                    <a:pt x="1225" y="1199"/>
                  </a:lnTo>
                  <a:lnTo>
                    <a:pt x="1225" y="1199"/>
                  </a:lnTo>
                  <a:lnTo>
                    <a:pt x="1217" y="1186"/>
                  </a:lnTo>
                  <a:lnTo>
                    <a:pt x="1208" y="1172"/>
                  </a:lnTo>
                  <a:lnTo>
                    <a:pt x="1199" y="1156"/>
                  </a:lnTo>
                  <a:lnTo>
                    <a:pt x="1189" y="1138"/>
                  </a:lnTo>
                  <a:lnTo>
                    <a:pt x="1180" y="1118"/>
                  </a:lnTo>
                  <a:lnTo>
                    <a:pt x="1171" y="1096"/>
                  </a:lnTo>
                  <a:lnTo>
                    <a:pt x="1162" y="1072"/>
                  </a:lnTo>
                  <a:lnTo>
                    <a:pt x="1152" y="1048"/>
                  </a:lnTo>
                  <a:lnTo>
                    <a:pt x="1152" y="1048"/>
                  </a:lnTo>
                  <a:lnTo>
                    <a:pt x="1143" y="1036"/>
                  </a:lnTo>
                  <a:lnTo>
                    <a:pt x="1134" y="1027"/>
                  </a:lnTo>
                  <a:lnTo>
                    <a:pt x="1125" y="1021"/>
                  </a:lnTo>
                  <a:lnTo>
                    <a:pt x="1116" y="1019"/>
                  </a:lnTo>
                  <a:lnTo>
                    <a:pt x="1108" y="1019"/>
                  </a:lnTo>
                  <a:lnTo>
                    <a:pt x="1101" y="1022"/>
                  </a:lnTo>
                  <a:lnTo>
                    <a:pt x="1093" y="1029"/>
                  </a:lnTo>
                  <a:lnTo>
                    <a:pt x="1086" y="1040"/>
                  </a:lnTo>
                  <a:lnTo>
                    <a:pt x="1086" y="1040"/>
                  </a:lnTo>
                  <a:lnTo>
                    <a:pt x="1073" y="1060"/>
                  </a:lnTo>
                  <a:lnTo>
                    <a:pt x="1060" y="1079"/>
                  </a:lnTo>
                  <a:lnTo>
                    <a:pt x="1050" y="1099"/>
                  </a:lnTo>
                  <a:lnTo>
                    <a:pt x="1041" y="1119"/>
                  </a:lnTo>
                  <a:lnTo>
                    <a:pt x="1032" y="1139"/>
                  </a:lnTo>
                  <a:lnTo>
                    <a:pt x="1026" y="1157"/>
                  </a:lnTo>
                  <a:lnTo>
                    <a:pt x="1021" y="1176"/>
                  </a:lnTo>
                  <a:lnTo>
                    <a:pt x="1016" y="1193"/>
                  </a:lnTo>
                  <a:lnTo>
                    <a:pt x="1016" y="1193"/>
                  </a:lnTo>
                  <a:lnTo>
                    <a:pt x="1009" y="1218"/>
                  </a:lnTo>
                  <a:lnTo>
                    <a:pt x="1001" y="1241"/>
                  </a:lnTo>
                  <a:lnTo>
                    <a:pt x="992" y="1262"/>
                  </a:lnTo>
                  <a:lnTo>
                    <a:pt x="982" y="1281"/>
                  </a:lnTo>
                  <a:lnTo>
                    <a:pt x="973" y="1298"/>
                  </a:lnTo>
                  <a:lnTo>
                    <a:pt x="962" y="1314"/>
                  </a:lnTo>
                  <a:lnTo>
                    <a:pt x="951" y="1328"/>
                  </a:lnTo>
                  <a:lnTo>
                    <a:pt x="938" y="1342"/>
                  </a:lnTo>
                  <a:lnTo>
                    <a:pt x="938" y="1342"/>
                  </a:lnTo>
                  <a:lnTo>
                    <a:pt x="939" y="1352"/>
                  </a:lnTo>
                  <a:lnTo>
                    <a:pt x="939" y="1361"/>
                  </a:lnTo>
                  <a:lnTo>
                    <a:pt x="939" y="1370"/>
                  </a:lnTo>
                  <a:lnTo>
                    <a:pt x="938" y="1381"/>
                  </a:lnTo>
                  <a:lnTo>
                    <a:pt x="937" y="1390"/>
                  </a:lnTo>
                  <a:lnTo>
                    <a:pt x="935" y="1399"/>
                  </a:lnTo>
                  <a:lnTo>
                    <a:pt x="933" y="1410"/>
                  </a:lnTo>
                  <a:lnTo>
                    <a:pt x="930" y="1419"/>
                  </a:lnTo>
                  <a:lnTo>
                    <a:pt x="930" y="1419"/>
                  </a:lnTo>
                  <a:lnTo>
                    <a:pt x="926" y="1427"/>
                  </a:lnTo>
                  <a:lnTo>
                    <a:pt x="921" y="1435"/>
                  </a:lnTo>
                  <a:lnTo>
                    <a:pt x="915" y="1442"/>
                  </a:lnTo>
                  <a:lnTo>
                    <a:pt x="910" y="1448"/>
                  </a:lnTo>
                  <a:lnTo>
                    <a:pt x="906" y="1453"/>
                  </a:lnTo>
                  <a:lnTo>
                    <a:pt x="901" y="1456"/>
                  </a:lnTo>
                  <a:lnTo>
                    <a:pt x="898" y="1457"/>
                  </a:lnTo>
                  <a:lnTo>
                    <a:pt x="893" y="1459"/>
                  </a:lnTo>
                  <a:lnTo>
                    <a:pt x="893" y="1459"/>
                  </a:lnTo>
                  <a:lnTo>
                    <a:pt x="891" y="1467"/>
                  </a:lnTo>
                  <a:lnTo>
                    <a:pt x="887" y="1475"/>
                  </a:lnTo>
                  <a:lnTo>
                    <a:pt x="885" y="1483"/>
                  </a:lnTo>
                  <a:lnTo>
                    <a:pt x="881" y="1491"/>
                  </a:lnTo>
                  <a:lnTo>
                    <a:pt x="879" y="1498"/>
                  </a:lnTo>
                  <a:lnTo>
                    <a:pt x="876" y="1506"/>
                  </a:lnTo>
                  <a:lnTo>
                    <a:pt x="873" y="1513"/>
                  </a:lnTo>
                  <a:lnTo>
                    <a:pt x="871" y="1520"/>
                  </a:lnTo>
                  <a:lnTo>
                    <a:pt x="871" y="1520"/>
                  </a:lnTo>
                  <a:lnTo>
                    <a:pt x="866" y="1527"/>
                  </a:lnTo>
                  <a:lnTo>
                    <a:pt x="863" y="1535"/>
                  </a:lnTo>
                  <a:lnTo>
                    <a:pt x="860" y="1542"/>
                  </a:lnTo>
                  <a:lnTo>
                    <a:pt x="858" y="1548"/>
                  </a:lnTo>
                  <a:lnTo>
                    <a:pt x="858" y="1548"/>
                  </a:lnTo>
                  <a:lnTo>
                    <a:pt x="855" y="1555"/>
                  </a:lnTo>
                  <a:lnTo>
                    <a:pt x="851" y="1563"/>
                  </a:lnTo>
                  <a:lnTo>
                    <a:pt x="848" y="1570"/>
                  </a:lnTo>
                  <a:lnTo>
                    <a:pt x="845" y="1576"/>
                  </a:lnTo>
                  <a:lnTo>
                    <a:pt x="845" y="1576"/>
                  </a:lnTo>
                  <a:lnTo>
                    <a:pt x="845" y="1579"/>
                  </a:lnTo>
                  <a:lnTo>
                    <a:pt x="845" y="1584"/>
                  </a:lnTo>
                  <a:lnTo>
                    <a:pt x="844" y="1588"/>
                  </a:lnTo>
                  <a:lnTo>
                    <a:pt x="843" y="1592"/>
                  </a:lnTo>
                  <a:lnTo>
                    <a:pt x="842" y="1597"/>
                  </a:lnTo>
                  <a:lnTo>
                    <a:pt x="841" y="1602"/>
                  </a:lnTo>
                  <a:lnTo>
                    <a:pt x="838" y="1606"/>
                  </a:lnTo>
                  <a:lnTo>
                    <a:pt x="836" y="1611"/>
                  </a:lnTo>
                  <a:lnTo>
                    <a:pt x="836" y="1611"/>
                  </a:lnTo>
                  <a:lnTo>
                    <a:pt x="835" y="1617"/>
                  </a:lnTo>
                  <a:lnTo>
                    <a:pt x="834" y="1622"/>
                  </a:lnTo>
                  <a:lnTo>
                    <a:pt x="831" y="1628"/>
                  </a:lnTo>
                  <a:lnTo>
                    <a:pt x="829" y="1635"/>
                  </a:lnTo>
                  <a:lnTo>
                    <a:pt x="827" y="1642"/>
                  </a:lnTo>
                  <a:lnTo>
                    <a:pt x="823" y="1649"/>
                  </a:lnTo>
                  <a:lnTo>
                    <a:pt x="821" y="1657"/>
                  </a:lnTo>
                  <a:lnTo>
                    <a:pt x="817" y="1666"/>
                  </a:lnTo>
                  <a:lnTo>
                    <a:pt x="817" y="1666"/>
                  </a:lnTo>
                  <a:lnTo>
                    <a:pt x="813" y="1682"/>
                  </a:lnTo>
                  <a:lnTo>
                    <a:pt x="808" y="1697"/>
                  </a:lnTo>
                  <a:lnTo>
                    <a:pt x="803" y="1709"/>
                  </a:lnTo>
                  <a:lnTo>
                    <a:pt x="800" y="1719"/>
                  </a:lnTo>
                  <a:lnTo>
                    <a:pt x="797" y="1727"/>
                  </a:lnTo>
                  <a:lnTo>
                    <a:pt x="793" y="1733"/>
                  </a:lnTo>
                  <a:lnTo>
                    <a:pt x="790" y="1736"/>
                  </a:lnTo>
                  <a:lnTo>
                    <a:pt x="786" y="1738"/>
                  </a:lnTo>
                  <a:lnTo>
                    <a:pt x="786" y="1738"/>
                  </a:lnTo>
                  <a:lnTo>
                    <a:pt x="791" y="1742"/>
                  </a:lnTo>
                  <a:lnTo>
                    <a:pt x="794" y="1750"/>
                  </a:lnTo>
                  <a:lnTo>
                    <a:pt x="795" y="1760"/>
                  </a:lnTo>
                  <a:lnTo>
                    <a:pt x="795" y="1770"/>
                  </a:lnTo>
                  <a:lnTo>
                    <a:pt x="795" y="1770"/>
                  </a:lnTo>
                  <a:lnTo>
                    <a:pt x="795" y="1777"/>
                  </a:lnTo>
                  <a:lnTo>
                    <a:pt x="794" y="1784"/>
                  </a:lnTo>
                  <a:lnTo>
                    <a:pt x="792" y="1790"/>
                  </a:lnTo>
                  <a:lnTo>
                    <a:pt x="790" y="1796"/>
                  </a:lnTo>
                  <a:lnTo>
                    <a:pt x="786" y="1800"/>
                  </a:lnTo>
                  <a:lnTo>
                    <a:pt x="781" y="1805"/>
                  </a:lnTo>
                  <a:lnTo>
                    <a:pt x="777" y="1809"/>
                  </a:lnTo>
                  <a:lnTo>
                    <a:pt x="772" y="1811"/>
                  </a:lnTo>
                  <a:lnTo>
                    <a:pt x="772" y="1811"/>
                  </a:lnTo>
                  <a:lnTo>
                    <a:pt x="766" y="1814"/>
                  </a:lnTo>
                  <a:lnTo>
                    <a:pt x="760" y="1817"/>
                  </a:lnTo>
                  <a:lnTo>
                    <a:pt x="752" y="1819"/>
                  </a:lnTo>
                  <a:lnTo>
                    <a:pt x="744" y="1820"/>
                  </a:lnTo>
                  <a:lnTo>
                    <a:pt x="735" y="1823"/>
                  </a:lnTo>
                  <a:lnTo>
                    <a:pt x="723" y="1823"/>
                  </a:lnTo>
                  <a:lnTo>
                    <a:pt x="712" y="1824"/>
                  </a:lnTo>
                  <a:lnTo>
                    <a:pt x="699" y="1824"/>
                  </a:lnTo>
                  <a:lnTo>
                    <a:pt x="699" y="1824"/>
                  </a:lnTo>
                  <a:lnTo>
                    <a:pt x="692" y="1824"/>
                  </a:lnTo>
                  <a:lnTo>
                    <a:pt x="685" y="1824"/>
                  </a:lnTo>
                  <a:lnTo>
                    <a:pt x="678" y="1824"/>
                  </a:lnTo>
                  <a:lnTo>
                    <a:pt x="672" y="1824"/>
                  </a:lnTo>
                  <a:lnTo>
                    <a:pt x="666" y="1824"/>
                  </a:lnTo>
                  <a:lnTo>
                    <a:pt x="661" y="1824"/>
                  </a:lnTo>
                  <a:lnTo>
                    <a:pt x="656" y="1824"/>
                  </a:lnTo>
                  <a:lnTo>
                    <a:pt x="651" y="1824"/>
                  </a:lnTo>
                  <a:lnTo>
                    <a:pt x="651" y="1824"/>
                  </a:lnTo>
                  <a:lnTo>
                    <a:pt x="642" y="1824"/>
                  </a:lnTo>
                  <a:lnTo>
                    <a:pt x="634" y="1824"/>
                  </a:lnTo>
                  <a:lnTo>
                    <a:pt x="627" y="1824"/>
                  </a:lnTo>
                  <a:lnTo>
                    <a:pt x="621" y="1824"/>
                  </a:lnTo>
                  <a:lnTo>
                    <a:pt x="621" y="1824"/>
                  </a:lnTo>
                  <a:lnTo>
                    <a:pt x="614" y="1824"/>
                  </a:lnTo>
                  <a:lnTo>
                    <a:pt x="607" y="1821"/>
                  </a:lnTo>
                  <a:lnTo>
                    <a:pt x="599" y="1820"/>
                  </a:lnTo>
                  <a:lnTo>
                    <a:pt x="590" y="1820"/>
                  </a:lnTo>
                  <a:lnTo>
                    <a:pt x="590" y="1820"/>
                  </a:lnTo>
                  <a:lnTo>
                    <a:pt x="581" y="1813"/>
                  </a:lnTo>
                  <a:lnTo>
                    <a:pt x="578" y="1806"/>
                  </a:lnTo>
                  <a:lnTo>
                    <a:pt x="578" y="1799"/>
                  </a:lnTo>
                  <a:lnTo>
                    <a:pt x="581" y="1792"/>
                  </a:lnTo>
                  <a:lnTo>
                    <a:pt x="581" y="1792"/>
                  </a:lnTo>
                  <a:lnTo>
                    <a:pt x="574" y="1793"/>
                  </a:lnTo>
                  <a:lnTo>
                    <a:pt x="568" y="1793"/>
                  </a:lnTo>
                  <a:lnTo>
                    <a:pt x="561" y="1793"/>
                  </a:lnTo>
                  <a:lnTo>
                    <a:pt x="555" y="1792"/>
                  </a:lnTo>
                  <a:lnTo>
                    <a:pt x="555" y="1792"/>
                  </a:lnTo>
                  <a:lnTo>
                    <a:pt x="552" y="1786"/>
                  </a:lnTo>
                  <a:lnTo>
                    <a:pt x="551" y="1778"/>
                  </a:lnTo>
                  <a:lnTo>
                    <a:pt x="550" y="1770"/>
                  </a:lnTo>
                  <a:lnTo>
                    <a:pt x="550" y="1761"/>
                  </a:lnTo>
                  <a:lnTo>
                    <a:pt x="550" y="1761"/>
                  </a:lnTo>
                  <a:lnTo>
                    <a:pt x="552" y="1756"/>
                  </a:lnTo>
                  <a:lnTo>
                    <a:pt x="555" y="1753"/>
                  </a:lnTo>
                  <a:lnTo>
                    <a:pt x="559" y="1749"/>
                  </a:lnTo>
                  <a:lnTo>
                    <a:pt x="563" y="1747"/>
                  </a:lnTo>
                  <a:lnTo>
                    <a:pt x="568" y="1745"/>
                  </a:lnTo>
                  <a:lnTo>
                    <a:pt x="573" y="1743"/>
                  </a:lnTo>
                  <a:lnTo>
                    <a:pt x="579" y="1742"/>
                  </a:lnTo>
                  <a:lnTo>
                    <a:pt x="585" y="1742"/>
                  </a:lnTo>
                  <a:lnTo>
                    <a:pt x="585" y="1742"/>
                  </a:lnTo>
                  <a:lnTo>
                    <a:pt x="604" y="1743"/>
                  </a:lnTo>
                  <a:lnTo>
                    <a:pt x="621" y="1743"/>
                  </a:lnTo>
                  <a:lnTo>
                    <a:pt x="637" y="1742"/>
                  </a:lnTo>
                  <a:lnTo>
                    <a:pt x="654" y="1740"/>
                  </a:lnTo>
                  <a:lnTo>
                    <a:pt x="666" y="1736"/>
                  </a:lnTo>
                  <a:lnTo>
                    <a:pt x="679" y="1731"/>
                  </a:lnTo>
                  <a:lnTo>
                    <a:pt x="691" y="1725"/>
                  </a:lnTo>
                  <a:lnTo>
                    <a:pt x="700" y="1717"/>
                  </a:lnTo>
                  <a:lnTo>
                    <a:pt x="700" y="1717"/>
                  </a:lnTo>
                  <a:lnTo>
                    <a:pt x="701" y="1711"/>
                  </a:lnTo>
                  <a:lnTo>
                    <a:pt x="702" y="1704"/>
                  </a:lnTo>
                  <a:lnTo>
                    <a:pt x="705" y="1697"/>
                  </a:lnTo>
                  <a:lnTo>
                    <a:pt x="709" y="1689"/>
                  </a:lnTo>
                  <a:lnTo>
                    <a:pt x="714" y="1679"/>
                  </a:lnTo>
                  <a:lnTo>
                    <a:pt x="720" y="1669"/>
                  </a:lnTo>
                  <a:lnTo>
                    <a:pt x="727" y="1659"/>
                  </a:lnTo>
                  <a:lnTo>
                    <a:pt x="735" y="1647"/>
                  </a:lnTo>
                  <a:lnTo>
                    <a:pt x="735" y="1647"/>
                  </a:lnTo>
                  <a:lnTo>
                    <a:pt x="743" y="1636"/>
                  </a:lnTo>
                  <a:lnTo>
                    <a:pt x="750" y="1627"/>
                  </a:lnTo>
                  <a:lnTo>
                    <a:pt x="757" y="1618"/>
                  </a:lnTo>
                  <a:lnTo>
                    <a:pt x="763" y="1607"/>
                  </a:lnTo>
                  <a:lnTo>
                    <a:pt x="769" y="1599"/>
                  </a:lnTo>
                  <a:lnTo>
                    <a:pt x="773" y="1591"/>
                  </a:lnTo>
                  <a:lnTo>
                    <a:pt x="778" y="1583"/>
                  </a:lnTo>
                  <a:lnTo>
                    <a:pt x="781" y="1576"/>
                  </a:lnTo>
                  <a:lnTo>
                    <a:pt x="781" y="1576"/>
                  </a:lnTo>
                  <a:lnTo>
                    <a:pt x="783" y="1568"/>
                  </a:lnTo>
                  <a:lnTo>
                    <a:pt x="785" y="1560"/>
                  </a:lnTo>
                  <a:lnTo>
                    <a:pt x="787" y="1553"/>
                  </a:lnTo>
                  <a:lnTo>
                    <a:pt x="791" y="1545"/>
                  </a:lnTo>
                  <a:lnTo>
                    <a:pt x="793" y="1538"/>
                  </a:lnTo>
                  <a:lnTo>
                    <a:pt x="797" y="1531"/>
                  </a:lnTo>
                  <a:lnTo>
                    <a:pt x="800" y="1522"/>
                  </a:lnTo>
                  <a:lnTo>
                    <a:pt x="803" y="1515"/>
                  </a:lnTo>
                  <a:lnTo>
                    <a:pt x="803" y="1515"/>
                  </a:lnTo>
                  <a:lnTo>
                    <a:pt x="808" y="1504"/>
                  </a:lnTo>
                  <a:lnTo>
                    <a:pt x="813" y="1492"/>
                  </a:lnTo>
                  <a:lnTo>
                    <a:pt x="816" y="1482"/>
                  </a:lnTo>
                  <a:lnTo>
                    <a:pt x="820" y="1472"/>
                  </a:lnTo>
                  <a:lnTo>
                    <a:pt x="822" y="1463"/>
                  </a:lnTo>
                  <a:lnTo>
                    <a:pt x="824" y="1456"/>
                  </a:lnTo>
                  <a:lnTo>
                    <a:pt x="826" y="1449"/>
                  </a:lnTo>
                  <a:lnTo>
                    <a:pt x="827" y="1443"/>
                  </a:lnTo>
                  <a:lnTo>
                    <a:pt x="827" y="1443"/>
                  </a:lnTo>
                  <a:lnTo>
                    <a:pt x="827" y="1434"/>
                  </a:lnTo>
                  <a:lnTo>
                    <a:pt x="827" y="1426"/>
                  </a:lnTo>
                  <a:lnTo>
                    <a:pt x="827" y="1418"/>
                  </a:lnTo>
                  <a:lnTo>
                    <a:pt x="827" y="1411"/>
                  </a:lnTo>
                  <a:lnTo>
                    <a:pt x="826" y="1404"/>
                  </a:lnTo>
                  <a:lnTo>
                    <a:pt x="826" y="1398"/>
                  </a:lnTo>
                  <a:lnTo>
                    <a:pt x="826" y="1393"/>
                  </a:lnTo>
                  <a:lnTo>
                    <a:pt x="826" y="1389"/>
                  </a:lnTo>
                  <a:lnTo>
                    <a:pt x="826" y="1389"/>
                  </a:lnTo>
                  <a:lnTo>
                    <a:pt x="823" y="1383"/>
                  </a:lnTo>
                  <a:lnTo>
                    <a:pt x="822" y="1376"/>
                  </a:lnTo>
                  <a:lnTo>
                    <a:pt x="823" y="1368"/>
                  </a:lnTo>
                  <a:lnTo>
                    <a:pt x="824" y="1359"/>
                  </a:lnTo>
                  <a:lnTo>
                    <a:pt x="828" y="1347"/>
                  </a:lnTo>
                  <a:lnTo>
                    <a:pt x="831" y="1334"/>
                  </a:lnTo>
                  <a:lnTo>
                    <a:pt x="837" y="1320"/>
                  </a:lnTo>
                  <a:lnTo>
                    <a:pt x="843" y="1304"/>
                  </a:lnTo>
                  <a:lnTo>
                    <a:pt x="843" y="1304"/>
                  </a:lnTo>
                  <a:lnTo>
                    <a:pt x="843" y="1293"/>
                  </a:lnTo>
                  <a:lnTo>
                    <a:pt x="842" y="1281"/>
                  </a:lnTo>
                  <a:lnTo>
                    <a:pt x="841" y="1267"/>
                  </a:lnTo>
                  <a:lnTo>
                    <a:pt x="838" y="1249"/>
                  </a:lnTo>
                  <a:lnTo>
                    <a:pt x="836" y="1231"/>
                  </a:lnTo>
                  <a:lnTo>
                    <a:pt x="833" y="1210"/>
                  </a:lnTo>
                  <a:lnTo>
                    <a:pt x="829" y="1186"/>
                  </a:lnTo>
                  <a:lnTo>
                    <a:pt x="826" y="1162"/>
                  </a:lnTo>
                  <a:lnTo>
                    <a:pt x="826" y="1162"/>
                  </a:lnTo>
                  <a:lnTo>
                    <a:pt x="820" y="1139"/>
                  </a:lnTo>
                  <a:lnTo>
                    <a:pt x="815" y="1118"/>
                  </a:lnTo>
                  <a:lnTo>
                    <a:pt x="812" y="1099"/>
                  </a:lnTo>
                  <a:lnTo>
                    <a:pt x="809" y="1082"/>
                  </a:lnTo>
                  <a:lnTo>
                    <a:pt x="808" y="1067"/>
                  </a:lnTo>
                  <a:lnTo>
                    <a:pt x="809" y="1054"/>
                  </a:lnTo>
                  <a:lnTo>
                    <a:pt x="810" y="1043"/>
                  </a:lnTo>
                  <a:lnTo>
                    <a:pt x="813" y="1035"/>
                  </a:lnTo>
                  <a:lnTo>
                    <a:pt x="813" y="1035"/>
                  </a:lnTo>
                  <a:lnTo>
                    <a:pt x="800" y="1033"/>
                  </a:lnTo>
                  <a:lnTo>
                    <a:pt x="786" y="1031"/>
                  </a:lnTo>
                  <a:lnTo>
                    <a:pt x="772" y="1027"/>
                  </a:lnTo>
                  <a:lnTo>
                    <a:pt x="756" y="1024"/>
                  </a:lnTo>
                  <a:lnTo>
                    <a:pt x="738" y="1019"/>
                  </a:lnTo>
                  <a:lnTo>
                    <a:pt x="720" y="1014"/>
                  </a:lnTo>
                  <a:lnTo>
                    <a:pt x="701" y="1010"/>
                  </a:lnTo>
                  <a:lnTo>
                    <a:pt x="681" y="1005"/>
                  </a:lnTo>
                  <a:lnTo>
                    <a:pt x="686" y="1005"/>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648320" y="4059360"/>
              <a:ext cx="3224160" cy="2154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48040" y="2268360"/>
              <a:ext cx="2868840" cy="893880"/>
            </a:xfrm>
            <a:custGeom>
              <a:avLst/>
              <a:gdLst/>
              <a:ahLst/>
              <a:rect l="l" t="t" r="r" b="b"/>
              <a:pathLst>
                <a:path w="5423" h="1688">
                  <a:moveTo>
                    <a:pt x="0" y="0"/>
                  </a:moveTo>
                  <a:lnTo>
                    <a:pt x="3787" y="0"/>
                  </a:lnTo>
                  <a:lnTo>
                    <a:pt x="5423" y="1688"/>
                  </a:lnTo>
                  <a:lnTo>
                    <a:pt x="1636" y="1688"/>
                  </a:lnTo>
                  <a:lnTo>
                    <a:pt x="0" y="0"/>
                  </a:lnTo>
                  <a:close/>
                </a:path>
              </a:pathLst>
            </a:custGeom>
            <a:solidFill>
              <a:srgbClr val="665e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748040" y="2268360"/>
              <a:ext cx="2868840" cy="893880"/>
            </a:xfrm>
            <a:custGeom>
              <a:avLst/>
              <a:gdLst/>
              <a:ahLst/>
              <a:rect l="l" t="t" r="r" b="b"/>
              <a:pathLst>
                <a:path w="5423" h="1688">
                  <a:moveTo>
                    <a:pt x="0" y="0"/>
                  </a:moveTo>
                  <a:lnTo>
                    <a:pt x="3787" y="0"/>
                  </a:lnTo>
                  <a:lnTo>
                    <a:pt x="5423" y="1688"/>
                  </a:lnTo>
                  <a:lnTo>
                    <a:pt x="1636" y="1688"/>
                  </a:lnTo>
                  <a:lnTo>
                    <a:pt x="0" y="0"/>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143680" y="1736640"/>
              <a:ext cx="1109520" cy="7462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143680" y="1736640"/>
              <a:ext cx="1109520" cy="746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143680" y="2104920"/>
              <a:ext cx="1110960" cy="378000"/>
            </a:xfrm>
            <a:custGeom>
              <a:avLst/>
              <a:gdLst/>
              <a:ahLst/>
              <a:rect l="l" t="t" r="r" b="b"/>
              <a:pathLst>
                <a:path w="2101" h="714">
                  <a:moveTo>
                    <a:pt x="0" y="109"/>
                  </a:moveTo>
                  <a:lnTo>
                    <a:pt x="7" y="107"/>
                  </a:lnTo>
                  <a:lnTo>
                    <a:pt x="15" y="106"/>
                  </a:lnTo>
                  <a:lnTo>
                    <a:pt x="23" y="103"/>
                  </a:lnTo>
                  <a:lnTo>
                    <a:pt x="33" y="99"/>
                  </a:lnTo>
                  <a:lnTo>
                    <a:pt x="43" y="96"/>
                  </a:lnTo>
                  <a:lnTo>
                    <a:pt x="51" y="92"/>
                  </a:lnTo>
                  <a:lnTo>
                    <a:pt x="59" y="89"/>
                  </a:lnTo>
                  <a:lnTo>
                    <a:pt x="66" y="86"/>
                  </a:lnTo>
                  <a:lnTo>
                    <a:pt x="66" y="81"/>
                  </a:lnTo>
                  <a:lnTo>
                    <a:pt x="88" y="75"/>
                  </a:lnTo>
                  <a:lnTo>
                    <a:pt x="89" y="70"/>
                  </a:lnTo>
                  <a:lnTo>
                    <a:pt x="94" y="63"/>
                  </a:lnTo>
                  <a:lnTo>
                    <a:pt x="101" y="56"/>
                  </a:lnTo>
                  <a:lnTo>
                    <a:pt x="109" y="49"/>
                  </a:lnTo>
                  <a:lnTo>
                    <a:pt x="118" y="42"/>
                  </a:lnTo>
                  <a:lnTo>
                    <a:pt x="128" y="36"/>
                  </a:lnTo>
                  <a:lnTo>
                    <a:pt x="137" y="32"/>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95" y="48"/>
                  </a:lnTo>
                  <a:lnTo>
                    <a:pt x="511" y="54"/>
                  </a:lnTo>
                  <a:lnTo>
                    <a:pt x="529" y="62"/>
                  </a:lnTo>
                  <a:lnTo>
                    <a:pt x="546" y="70"/>
                  </a:lnTo>
                  <a:lnTo>
                    <a:pt x="564" y="78"/>
                  </a:lnTo>
                  <a:lnTo>
                    <a:pt x="581" y="86"/>
                  </a:lnTo>
                  <a:lnTo>
                    <a:pt x="597" y="92"/>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95" y="167"/>
                  </a:lnTo>
                  <a:lnTo>
                    <a:pt x="1313" y="168"/>
                  </a:lnTo>
                  <a:lnTo>
                    <a:pt x="1334" y="169"/>
                  </a:lnTo>
                  <a:lnTo>
                    <a:pt x="1356" y="169"/>
                  </a:lnTo>
                  <a:lnTo>
                    <a:pt x="1378" y="169"/>
                  </a:lnTo>
                  <a:lnTo>
                    <a:pt x="1398" y="168"/>
                  </a:lnTo>
                  <a:lnTo>
                    <a:pt x="1416" y="167"/>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60" y="173"/>
                  </a:lnTo>
                  <a:lnTo>
                    <a:pt x="2061" y="175"/>
                  </a:lnTo>
                  <a:lnTo>
                    <a:pt x="2062" y="176"/>
                  </a:lnTo>
                  <a:lnTo>
                    <a:pt x="2063" y="181"/>
                  </a:lnTo>
                  <a:lnTo>
                    <a:pt x="2080" y="181"/>
                  </a:lnTo>
                  <a:lnTo>
                    <a:pt x="2083" y="191"/>
                  </a:lnTo>
                  <a:lnTo>
                    <a:pt x="2087" y="196"/>
                  </a:lnTo>
                  <a:lnTo>
                    <a:pt x="2093" y="198"/>
                  </a:lnTo>
                  <a:lnTo>
                    <a:pt x="2101" y="198"/>
                  </a:lnTo>
                  <a:lnTo>
                    <a:pt x="2101" y="202"/>
                  </a:lnTo>
                  <a:lnTo>
                    <a:pt x="2101" y="205"/>
                  </a:lnTo>
                  <a:lnTo>
                    <a:pt x="2099" y="207"/>
                  </a:lnTo>
                  <a:lnTo>
                    <a:pt x="2097" y="209"/>
                  </a:lnTo>
                  <a:lnTo>
                    <a:pt x="2097" y="714"/>
                  </a:lnTo>
                  <a:lnTo>
                    <a:pt x="0" y="714"/>
                  </a:lnTo>
                  <a:lnTo>
                    <a:pt x="0" y="109"/>
                  </a:lnTo>
                  <a:close/>
                </a:path>
              </a:pathLst>
            </a:custGeom>
            <a:solidFill>
              <a:srgbClr val="e1e1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143680" y="2104920"/>
              <a:ext cx="1110960" cy="378000"/>
            </a:xfrm>
            <a:custGeom>
              <a:avLst/>
              <a:gdLst/>
              <a:ahLst/>
              <a:rect l="l" t="t" r="r" b="b"/>
              <a:pathLst>
                <a:path w="2101" h="714">
                  <a:moveTo>
                    <a:pt x="0" y="109"/>
                  </a:moveTo>
                  <a:lnTo>
                    <a:pt x="0" y="109"/>
                  </a:lnTo>
                  <a:lnTo>
                    <a:pt x="7" y="107"/>
                  </a:lnTo>
                  <a:lnTo>
                    <a:pt x="15" y="106"/>
                  </a:lnTo>
                  <a:lnTo>
                    <a:pt x="23" y="103"/>
                  </a:lnTo>
                  <a:lnTo>
                    <a:pt x="33" y="99"/>
                  </a:lnTo>
                  <a:lnTo>
                    <a:pt x="43" y="96"/>
                  </a:lnTo>
                  <a:lnTo>
                    <a:pt x="51" y="92"/>
                  </a:lnTo>
                  <a:lnTo>
                    <a:pt x="59" y="89"/>
                  </a:lnTo>
                  <a:lnTo>
                    <a:pt x="66" y="86"/>
                  </a:lnTo>
                  <a:lnTo>
                    <a:pt x="66" y="81"/>
                  </a:lnTo>
                  <a:lnTo>
                    <a:pt x="88" y="75"/>
                  </a:lnTo>
                  <a:lnTo>
                    <a:pt x="88" y="75"/>
                  </a:lnTo>
                  <a:lnTo>
                    <a:pt x="89" y="70"/>
                  </a:lnTo>
                  <a:lnTo>
                    <a:pt x="94" y="63"/>
                  </a:lnTo>
                  <a:lnTo>
                    <a:pt x="101" y="56"/>
                  </a:lnTo>
                  <a:lnTo>
                    <a:pt x="109" y="49"/>
                  </a:lnTo>
                  <a:lnTo>
                    <a:pt x="118" y="42"/>
                  </a:lnTo>
                  <a:lnTo>
                    <a:pt x="128" y="36"/>
                  </a:lnTo>
                  <a:lnTo>
                    <a:pt x="137" y="32"/>
                  </a:lnTo>
                  <a:lnTo>
                    <a:pt x="144" y="31"/>
                  </a:lnTo>
                  <a:lnTo>
                    <a:pt x="144" y="31"/>
                  </a:lnTo>
                  <a:lnTo>
                    <a:pt x="154" y="20"/>
                  </a:lnTo>
                  <a:lnTo>
                    <a:pt x="168" y="11"/>
                  </a:lnTo>
                  <a:lnTo>
                    <a:pt x="186" y="6"/>
                  </a:lnTo>
                  <a:lnTo>
                    <a:pt x="207" y="3"/>
                  </a:lnTo>
                  <a:lnTo>
                    <a:pt x="230" y="0"/>
                  </a:lnTo>
                  <a:lnTo>
                    <a:pt x="254" y="0"/>
                  </a:lnTo>
                  <a:lnTo>
                    <a:pt x="281" y="3"/>
                  </a:lnTo>
                  <a:lnTo>
                    <a:pt x="308" y="5"/>
                  </a:lnTo>
                  <a:lnTo>
                    <a:pt x="335" y="10"/>
                  </a:lnTo>
                  <a:lnTo>
                    <a:pt x="361" y="14"/>
                  </a:lnTo>
                  <a:lnTo>
                    <a:pt x="387" y="19"/>
                  </a:lnTo>
                  <a:lnTo>
                    <a:pt x="410" y="25"/>
                  </a:lnTo>
                  <a:lnTo>
                    <a:pt x="432" y="29"/>
                  </a:lnTo>
                  <a:lnTo>
                    <a:pt x="452" y="34"/>
                  </a:lnTo>
                  <a:lnTo>
                    <a:pt x="467" y="39"/>
                  </a:lnTo>
                  <a:lnTo>
                    <a:pt x="480" y="42"/>
                  </a:lnTo>
                  <a:lnTo>
                    <a:pt x="480" y="42"/>
                  </a:lnTo>
                  <a:lnTo>
                    <a:pt x="495" y="48"/>
                  </a:lnTo>
                  <a:lnTo>
                    <a:pt x="511" y="54"/>
                  </a:lnTo>
                  <a:lnTo>
                    <a:pt x="529" y="62"/>
                  </a:lnTo>
                  <a:lnTo>
                    <a:pt x="546" y="70"/>
                  </a:lnTo>
                  <a:lnTo>
                    <a:pt x="564" y="78"/>
                  </a:lnTo>
                  <a:lnTo>
                    <a:pt x="581" y="86"/>
                  </a:lnTo>
                  <a:lnTo>
                    <a:pt x="597" y="92"/>
                  </a:lnTo>
                  <a:lnTo>
                    <a:pt x="612" y="98"/>
                  </a:lnTo>
                  <a:lnTo>
                    <a:pt x="612" y="98"/>
                  </a:lnTo>
                  <a:lnTo>
                    <a:pt x="653" y="107"/>
                  </a:lnTo>
                  <a:lnTo>
                    <a:pt x="695" y="114"/>
                  </a:lnTo>
                  <a:lnTo>
                    <a:pt x="737" y="120"/>
                  </a:lnTo>
                  <a:lnTo>
                    <a:pt x="779" y="125"/>
                  </a:lnTo>
                  <a:lnTo>
                    <a:pt x="822" y="127"/>
                  </a:lnTo>
                  <a:lnTo>
                    <a:pt x="865" y="129"/>
                  </a:lnTo>
                  <a:lnTo>
                    <a:pt x="908" y="132"/>
                  </a:lnTo>
                  <a:lnTo>
                    <a:pt x="951" y="133"/>
                  </a:lnTo>
                  <a:lnTo>
                    <a:pt x="994" y="134"/>
                  </a:lnTo>
                  <a:lnTo>
                    <a:pt x="1035" y="135"/>
                  </a:lnTo>
                  <a:lnTo>
                    <a:pt x="1078" y="138"/>
                  </a:lnTo>
                  <a:lnTo>
                    <a:pt x="1120" y="141"/>
                  </a:lnTo>
                  <a:lnTo>
                    <a:pt x="1161" y="145"/>
                  </a:lnTo>
                  <a:lnTo>
                    <a:pt x="1202" y="149"/>
                  </a:lnTo>
                  <a:lnTo>
                    <a:pt x="1241" y="156"/>
                  </a:lnTo>
                  <a:lnTo>
                    <a:pt x="1280" y="164"/>
                  </a:lnTo>
                  <a:lnTo>
                    <a:pt x="1280" y="164"/>
                  </a:lnTo>
                  <a:lnTo>
                    <a:pt x="1295" y="167"/>
                  </a:lnTo>
                  <a:lnTo>
                    <a:pt x="1313" y="168"/>
                  </a:lnTo>
                  <a:lnTo>
                    <a:pt x="1334" y="169"/>
                  </a:lnTo>
                  <a:lnTo>
                    <a:pt x="1356" y="169"/>
                  </a:lnTo>
                  <a:lnTo>
                    <a:pt x="1378" y="169"/>
                  </a:lnTo>
                  <a:lnTo>
                    <a:pt x="1398" y="168"/>
                  </a:lnTo>
                  <a:lnTo>
                    <a:pt x="1416" y="167"/>
                  </a:lnTo>
                  <a:lnTo>
                    <a:pt x="1428" y="164"/>
                  </a:lnTo>
                  <a:lnTo>
                    <a:pt x="1428" y="164"/>
                  </a:lnTo>
                  <a:lnTo>
                    <a:pt x="1456" y="159"/>
                  </a:lnTo>
                  <a:lnTo>
                    <a:pt x="1488" y="152"/>
                  </a:lnTo>
                  <a:lnTo>
                    <a:pt x="1520" y="147"/>
                  </a:lnTo>
                  <a:lnTo>
                    <a:pt x="1555" y="141"/>
                  </a:lnTo>
                  <a:lnTo>
                    <a:pt x="1591" y="136"/>
                  </a:lnTo>
                  <a:lnTo>
                    <a:pt x="1628" y="132"/>
                  </a:lnTo>
                  <a:lnTo>
                    <a:pt x="1667" y="128"/>
                  </a:lnTo>
                  <a:lnTo>
                    <a:pt x="1705" y="126"/>
                  </a:lnTo>
                  <a:lnTo>
                    <a:pt x="1743" y="124"/>
                  </a:lnTo>
                  <a:lnTo>
                    <a:pt x="1781" y="123"/>
                  </a:lnTo>
                  <a:lnTo>
                    <a:pt x="1818" y="123"/>
                  </a:lnTo>
                  <a:lnTo>
                    <a:pt x="1854" y="125"/>
                  </a:lnTo>
                  <a:lnTo>
                    <a:pt x="1889" y="127"/>
                  </a:lnTo>
                  <a:lnTo>
                    <a:pt x="1921" y="131"/>
                  </a:lnTo>
                  <a:lnTo>
                    <a:pt x="1953" y="135"/>
                  </a:lnTo>
                  <a:lnTo>
                    <a:pt x="1980" y="142"/>
                  </a:lnTo>
                  <a:lnTo>
                    <a:pt x="1980" y="142"/>
                  </a:lnTo>
                  <a:lnTo>
                    <a:pt x="1987" y="142"/>
                  </a:lnTo>
                  <a:lnTo>
                    <a:pt x="1996" y="143"/>
                  </a:lnTo>
                  <a:lnTo>
                    <a:pt x="2006" y="146"/>
                  </a:lnTo>
                  <a:lnTo>
                    <a:pt x="2015" y="148"/>
                  </a:lnTo>
                  <a:lnTo>
                    <a:pt x="2025" y="150"/>
                  </a:lnTo>
                  <a:lnTo>
                    <a:pt x="2034" y="154"/>
                  </a:lnTo>
                  <a:lnTo>
                    <a:pt x="2041" y="156"/>
                  </a:lnTo>
                  <a:lnTo>
                    <a:pt x="2047" y="159"/>
                  </a:lnTo>
                  <a:lnTo>
                    <a:pt x="2047" y="164"/>
                  </a:lnTo>
                  <a:lnTo>
                    <a:pt x="2058" y="164"/>
                  </a:lnTo>
                  <a:lnTo>
                    <a:pt x="2058" y="164"/>
                  </a:lnTo>
                  <a:lnTo>
                    <a:pt x="2060" y="173"/>
                  </a:lnTo>
                  <a:lnTo>
                    <a:pt x="2061" y="175"/>
                  </a:lnTo>
                  <a:lnTo>
                    <a:pt x="2062" y="176"/>
                  </a:lnTo>
                  <a:lnTo>
                    <a:pt x="2063" y="181"/>
                  </a:lnTo>
                  <a:lnTo>
                    <a:pt x="2080" y="181"/>
                  </a:lnTo>
                  <a:lnTo>
                    <a:pt x="2080" y="181"/>
                  </a:lnTo>
                  <a:lnTo>
                    <a:pt x="2083" y="191"/>
                  </a:lnTo>
                  <a:lnTo>
                    <a:pt x="2087" y="196"/>
                  </a:lnTo>
                  <a:lnTo>
                    <a:pt x="2093" y="198"/>
                  </a:lnTo>
                  <a:lnTo>
                    <a:pt x="2101" y="198"/>
                  </a:lnTo>
                  <a:lnTo>
                    <a:pt x="2101" y="198"/>
                  </a:lnTo>
                  <a:lnTo>
                    <a:pt x="2101" y="202"/>
                  </a:lnTo>
                  <a:lnTo>
                    <a:pt x="2101" y="205"/>
                  </a:lnTo>
                  <a:lnTo>
                    <a:pt x="2099" y="207"/>
                  </a:lnTo>
                  <a:lnTo>
                    <a:pt x="2097" y="209"/>
                  </a:lnTo>
                  <a:lnTo>
                    <a:pt x="2097" y="714"/>
                  </a:lnTo>
                  <a:lnTo>
                    <a:pt x="0" y="714"/>
                  </a:lnTo>
                  <a:lnTo>
                    <a:pt x="0" y="1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970600" y="2117880"/>
              <a:ext cx="334800" cy="488880"/>
            </a:xfrm>
            <a:custGeom>
              <a:avLst/>
              <a:gdLst/>
              <a:ahLst/>
              <a:rect l="l" t="t" r="r" b="b"/>
              <a:pathLst>
                <a:path w="635" h="923">
                  <a:moveTo>
                    <a:pt x="428" y="277"/>
                  </a:moveTo>
                  <a:lnTo>
                    <a:pt x="422" y="285"/>
                  </a:lnTo>
                  <a:lnTo>
                    <a:pt x="416" y="292"/>
                  </a:lnTo>
                  <a:lnTo>
                    <a:pt x="410" y="300"/>
                  </a:lnTo>
                  <a:lnTo>
                    <a:pt x="407" y="309"/>
                  </a:lnTo>
                  <a:lnTo>
                    <a:pt x="416" y="305"/>
                  </a:lnTo>
                  <a:lnTo>
                    <a:pt x="424" y="299"/>
                  </a:lnTo>
                  <a:lnTo>
                    <a:pt x="434" y="292"/>
                  </a:lnTo>
                  <a:lnTo>
                    <a:pt x="443" y="284"/>
                  </a:lnTo>
                  <a:lnTo>
                    <a:pt x="452" y="278"/>
                  </a:lnTo>
                  <a:lnTo>
                    <a:pt x="463" y="273"/>
                  </a:lnTo>
                  <a:lnTo>
                    <a:pt x="474" y="271"/>
                  </a:lnTo>
                  <a:lnTo>
                    <a:pt x="486" y="272"/>
                  </a:lnTo>
                  <a:lnTo>
                    <a:pt x="478" y="270"/>
                  </a:lnTo>
                  <a:lnTo>
                    <a:pt x="470" y="267"/>
                  </a:lnTo>
                  <a:lnTo>
                    <a:pt x="460" y="265"/>
                  </a:lnTo>
                  <a:lnTo>
                    <a:pt x="452" y="264"/>
                  </a:lnTo>
                  <a:lnTo>
                    <a:pt x="445" y="265"/>
                  </a:lnTo>
                  <a:lnTo>
                    <a:pt x="438" y="266"/>
                  </a:lnTo>
                  <a:lnTo>
                    <a:pt x="432" y="270"/>
                  </a:lnTo>
                  <a:lnTo>
                    <a:pt x="428" y="277"/>
                  </a:lnTo>
                  <a:close/>
                  <a:moveTo>
                    <a:pt x="277" y="350"/>
                  </a:moveTo>
                  <a:lnTo>
                    <a:pt x="273" y="349"/>
                  </a:lnTo>
                  <a:lnTo>
                    <a:pt x="269" y="348"/>
                  </a:lnTo>
                  <a:lnTo>
                    <a:pt x="263" y="344"/>
                  </a:lnTo>
                  <a:lnTo>
                    <a:pt x="258" y="342"/>
                  </a:lnTo>
                  <a:lnTo>
                    <a:pt x="252" y="338"/>
                  </a:lnTo>
                  <a:lnTo>
                    <a:pt x="246" y="337"/>
                  </a:lnTo>
                  <a:lnTo>
                    <a:pt x="242" y="336"/>
                  </a:lnTo>
                  <a:lnTo>
                    <a:pt x="237" y="337"/>
                  </a:lnTo>
                  <a:lnTo>
                    <a:pt x="244" y="340"/>
                  </a:lnTo>
                  <a:lnTo>
                    <a:pt x="253" y="347"/>
                  </a:lnTo>
                  <a:lnTo>
                    <a:pt x="260" y="352"/>
                  </a:lnTo>
                  <a:lnTo>
                    <a:pt x="265" y="357"/>
                  </a:lnTo>
                  <a:lnTo>
                    <a:pt x="258" y="357"/>
                  </a:lnTo>
                  <a:lnTo>
                    <a:pt x="251" y="358"/>
                  </a:lnTo>
                  <a:lnTo>
                    <a:pt x="244" y="360"/>
                  </a:lnTo>
                  <a:lnTo>
                    <a:pt x="238" y="363"/>
                  </a:lnTo>
                  <a:lnTo>
                    <a:pt x="231" y="365"/>
                  </a:lnTo>
                  <a:lnTo>
                    <a:pt x="226" y="367"/>
                  </a:lnTo>
                  <a:lnTo>
                    <a:pt x="219" y="370"/>
                  </a:lnTo>
                  <a:lnTo>
                    <a:pt x="213" y="371"/>
                  </a:lnTo>
                  <a:lnTo>
                    <a:pt x="222" y="372"/>
                  </a:lnTo>
                  <a:lnTo>
                    <a:pt x="233" y="373"/>
                  </a:lnTo>
                  <a:lnTo>
                    <a:pt x="243" y="373"/>
                  </a:lnTo>
                  <a:lnTo>
                    <a:pt x="253" y="371"/>
                  </a:lnTo>
                  <a:lnTo>
                    <a:pt x="264" y="369"/>
                  </a:lnTo>
                  <a:lnTo>
                    <a:pt x="274" y="365"/>
                  </a:lnTo>
                  <a:lnTo>
                    <a:pt x="282" y="360"/>
                  </a:lnTo>
                  <a:lnTo>
                    <a:pt x="289" y="356"/>
                  </a:lnTo>
                  <a:lnTo>
                    <a:pt x="277" y="350"/>
                  </a:lnTo>
                  <a:close/>
                  <a:moveTo>
                    <a:pt x="249" y="313"/>
                  </a:moveTo>
                  <a:lnTo>
                    <a:pt x="249" y="313"/>
                  </a:lnTo>
                  <a:lnTo>
                    <a:pt x="245" y="309"/>
                  </a:lnTo>
                  <a:lnTo>
                    <a:pt x="241" y="302"/>
                  </a:lnTo>
                  <a:lnTo>
                    <a:pt x="235" y="293"/>
                  </a:lnTo>
                  <a:lnTo>
                    <a:pt x="228" y="281"/>
                  </a:lnTo>
                  <a:lnTo>
                    <a:pt x="219" y="267"/>
                  </a:lnTo>
                  <a:lnTo>
                    <a:pt x="209" y="252"/>
                  </a:lnTo>
                  <a:lnTo>
                    <a:pt x="200" y="236"/>
                  </a:lnTo>
                  <a:lnTo>
                    <a:pt x="191" y="220"/>
                  </a:lnTo>
                  <a:lnTo>
                    <a:pt x="181" y="203"/>
                  </a:lnTo>
                  <a:lnTo>
                    <a:pt x="172" y="188"/>
                  </a:lnTo>
                  <a:lnTo>
                    <a:pt x="164" y="173"/>
                  </a:lnTo>
                  <a:lnTo>
                    <a:pt x="157" y="160"/>
                  </a:lnTo>
                  <a:lnTo>
                    <a:pt x="152" y="150"/>
                  </a:lnTo>
                  <a:lnTo>
                    <a:pt x="149" y="142"/>
                  </a:lnTo>
                  <a:lnTo>
                    <a:pt x="148" y="137"/>
                  </a:lnTo>
                  <a:lnTo>
                    <a:pt x="163" y="137"/>
                  </a:lnTo>
                  <a:lnTo>
                    <a:pt x="162" y="130"/>
                  </a:lnTo>
                  <a:lnTo>
                    <a:pt x="157" y="124"/>
                  </a:lnTo>
                  <a:lnTo>
                    <a:pt x="151" y="117"/>
                  </a:lnTo>
                  <a:lnTo>
                    <a:pt x="144" y="109"/>
                  </a:lnTo>
                  <a:lnTo>
                    <a:pt x="136" y="102"/>
                  </a:lnTo>
                  <a:lnTo>
                    <a:pt x="129" y="97"/>
                  </a:lnTo>
                  <a:lnTo>
                    <a:pt x="122" y="91"/>
                  </a:lnTo>
                  <a:lnTo>
                    <a:pt x="116" y="85"/>
                  </a:lnTo>
                  <a:lnTo>
                    <a:pt x="137" y="79"/>
                  </a:lnTo>
                  <a:lnTo>
                    <a:pt x="157" y="81"/>
                  </a:lnTo>
                  <a:lnTo>
                    <a:pt x="177" y="88"/>
                  </a:lnTo>
                  <a:lnTo>
                    <a:pt x="194" y="101"/>
                  </a:lnTo>
                  <a:lnTo>
                    <a:pt x="210" y="116"/>
                  </a:lnTo>
                  <a:lnTo>
                    <a:pt x="226" y="133"/>
                  </a:lnTo>
                  <a:lnTo>
                    <a:pt x="238" y="150"/>
                  </a:lnTo>
                  <a:lnTo>
                    <a:pt x="250" y="165"/>
                  </a:lnTo>
                  <a:lnTo>
                    <a:pt x="245" y="147"/>
                  </a:lnTo>
                  <a:lnTo>
                    <a:pt x="242" y="128"/>
                  </a:lnTo>
                  <a:lnTo>
                    <a:pt x="241" y="110"/>
                  </a:lnTo>
                  <a:lnTo>
                    <a:pt x="239" y="93"/>
                  </a:lnTo>
                  <a:lnTo>
                    <a:pt x="239" y="78"/>
                  </a:lnTo>
                  <a:lnTo>
                    <a:pt x="239" y="64"/>
                  </a:lnTo>
                  <a:lnTo>
                    <a:pt x="241" y="51"/>
                  </a:lnTo>
                  <a:lnTo>
                    <a:pt x="243" y="41"/>
                  </a:lnTo>
                  <a:lnTo>
                    <a:pt x="244" y="33"/>
                  </a:lnTo>
                  <a:lnTo>
                    <a:pt x="246" y="28"/>
                  </a:lnTo>
                  <a:lnTo>
                    <a:pt x="249" y="24"/>
                  </a:lnTo>
                  <a:lnTo>
                    <a:pt x="251" y="26"/>
                  </a:lnTo>
                  <a:lnTo>
                    <a:pt x="252" y="29"/>
                  </a:lnTo>
                  <a:lnTo>
                    <a:pt x="255" y="37"/>
                  </a:lnTo>
                  <a:lnTo>
                    <a:pt x="256" y="49"/>
                  </a:lnTo>
                  <a:lnTo>
                    <a:pt x="256" y="65"/>
                  </a:lnTo>
                  <a:lnTo>
                    <a:pt x="257" y="51"/>
                  </a:lnTo>
                  <a:lnTo>
                    <a:pt x="259" y="38"/>
                  </a:lnTo>
                  <a:lnTo>
                    <a:pt x="263" y="28"/>
                  </a:lnTo>
                  <a:lnTo>
                    <a:pt x="269" y="19"/>
                  </a:lnTo>
                  <a:lnTo>
                    <a:pt x="276" y="12"/>
                  </a:lnTo>
                  <a:lnTo>
                    <a:pt x="285" y="6"/>
                  </a:lnTo>
                  <a:lnTo>
                    <a:pt x="295" y="2"/>
                  </a:lnTo>
                  <a:lnTo>
                    <a:pt x="308" y="1"/>
                  </a:lnTo>
                  <a:lnTo>
                    <a:pt x="308" y="56"/>
                  </a:lnTo>
                  <a:lnTo>
                    <a:pt x="314" y="53"/>
                  </a:lnTo>
                  <a:lnTo>
                    <a:pt x="319" y="49"/>
                  </a:lnTo>
                  <a:lnTo>
                    <a:pt x="322" y="43"/>
                  </a:lnTo>
                  <a:lnTo>
                    <a:pt x="327" y="37"/>
                  </a:lnTo>
                  <a:lnTo>
                    <a:pt x="330" y="30"/>
                  </a:lnTo>
                  <a:lnTo>
                    <a:pt x="334" y="24"/>
                  </a:lnTo>
                  <a:lnTo>
                    <a:pt x="337" y="19"/>
                  </a:lnTo>
                  <a:lnTo>
                    <a:pt x="342" y="13"/>
                  </a:lnTo>
                  <a:lnTo>
                    <a:pt x="348" y="14"/>
                  </a:lnTo>
                  <a:lnTo>
                    <a:pt x="353" y="15"/>
                  </a:lnTo>
                  <a:lnTo>
                    <a:pt x="359" y="19"/>
                  </a:lnTo>
                  <a:lnTo>
                    <a:pt x="364" y="22"/>
                  </a:lnTo>
                  <a:lnTo>
                    <a:pt x="372" y="20"/>
                  </a:lnTo>
                  <a:lnTo>
                    <a:pt x="380" y="15"/>
                  </a:lnTo>
                  <a:lnTo>
                    <a:pt x="387" y="12"/>
                  </a:lnTo>
                  <a:lnTo>
                    <a:pt x="395" y="7"/>
                  </a:lnTo>
                  <a:lnTo>
                    <a:pt x="402" y="3"/>
                  </a:lnTo>
                  <a:lnTo>
                    <a:pt x="412" y="1"/>
                  </a:lnTo>
                  <a:lnTo>
                    <a:pt x="421" y="0"/>
                  </a:lnTo>
                  <a:lnTo>
                    <a:pt x="431" y="1"/>
                  </a:lnTo>
                  <a:lnTo>
                    <a:pt x="430" y="10"/>
                  </a:lnTo>
                  <a:lnTo>
                    <a:pt x="427" y="21"/>
                  </a:lnTo>
                  <a:lnTo>
                    <a:pt x="422" y="31"/>
                  </a:lnTo>
                  <a:lnTo>
                    <a:pt x="417" y="43"/>
                  </a:lnTo>
                  <a:lnTo>
                    <a:pt x="412" y="55"/>
                  </a:lnTo>
                  <a:lnTo>
                    <a:pt x="407" y="65"/>
                  </a:lnTo>
                  <a:lnTo>
                    <a:pt x="403" y="76"/>
                  </a:lnTo>
                  <a:lnTo>
                    <a:pt x="401" y="85"/>
                  </a:lnTo>
                  <a:lnTo>
                    <a:pt x="398" y="102"/>
                  </a:lnTo>
                  <a:lnTo>
                    <a:pt x="393" y="121"/>
                  </a:lnTo>
                  <a:lnTo>
                    <a:pt x="387" y="140"/>
                  </a:lnTo>
                  <a:lnTo>
                    <a:pt x="381" y="158"/>
                  </a:lnTo>
                  <a:lnTo>
                    <a:pt x="375" y="177"/>
                  </a:lnTo>
                  <a:lnTo>
                    <a:pt x="370" y="195"/>
                  </a:lnTo>
                  <a:lnTo>
                    <a:pt x="364" y="212"/>
                  </a:lnTo>
                  <a:lnTo>
                    <a:pt x="359" y="227"/>
                  </a:lnTo>
                  <a:lnTo>
                    <a:pt x="355" y="241"/>
                  </a:lnTo>
                  <a:lnTo>
                    <a:pt x="352" y="252"/>
                  </a:lnTo>
                  <a:lnTo>
                    <a:pt x="350" y="260"/>
                  </a:lnTo>
                  <a:lnTo>
                    <a:pt x="349" y="266"/>
                  </a:lnTo>
                  <a:lnTo>
                    <a:pt x="350" y="269"/>
                  </a:lnTo>
                  <a:lnTo>
                    <a:pt x="352" y="267"/>
                  </a:lnTo>
                  <a:lnTo>
                    <a:pt x="357" y="262"/>
                  </a:lnTo>
                  <a:lnTo>
                    <a:pt x="364" y="251"/>
                  </a:lnTo>
                  <a:lnTo>
                    <a:pt x="386" y="213"/>
                  </a:lnTo>
                  <a:lnTo>
                    <a:pt x="402" y="180"/>
                  </a:lnTo>
                  <a:lnTo>
                    <a:pt x="417" y="155"/>
                  </a:lnTo>
                  <a:lnTo>
                    <a:pt x="431" y="134"/>
                  </a:lnTo>
                  <a:lnTo>
                    <a:pt x="445" y="121"/>
                  </a:lnTo>
                  <a:lnTo>
                    <a:pt x="462" y="116"/>
                  </a:lnTo>
                  <a:lnTo>
                    <a:pt x="481" y="120"/>
                  </a:lnTo>
                  <a:lnTo>
                    <a:pt x="508" y="131"/>
                  </a:lnTo>
                  <a:lnTo>
                    <a:pt x="501" y="137"/>
                  </a:lnTo>
                  <a:lnTo>
                    <a:pt x="495" y="144"/>
                  </a:lnTo>
                  <a:lnTo>
                    <a:pt x="488" y="151"/>
                  </a:lnTo>
                  <a:lnTo>
                    <a:pt x="484" y="158"/>
                  </a:lnTo>
                  <a:lnTo>
                    <a:pt x="478" y="166"/>
                  </a:lnTo>
                  <a:lnTo>
                    <a:pt x="473" y="174"/>
                  </a:lnTo>
                  <a:lnTo>
                    <a:pt x="468" y="183"/>
                  </a:lnTo>
                  <a:lnTo>
                    <a:pt x="465" y="190"/>
                  </a:lnTo>
                  <a:lnTo>
                    <a:pt x="478" y="188"/>
                  </a:lnTo>
                  <a:lnTo>
                    <a:pt x="488" y="187"/>
                  </a:lnTo>
                  <a:lnTo>
                    <a:pt x="496" y="187"/>
                  </a:lnTo>
                  <a:lnTo>
                    <a:pt x="503" y="187"/>
                  </a:lnTo>
                  <a:lnTo>
                    <a:pt x="508" y="188"/>
                  </a:lnTo>
                  <a:lnTo>
                    <a:pt x="513" y="192"/>
                  </a:lnTo>
                  <a:lnTo>
                    <a:pt x="516" y="199"/>
                  </a:lnTo>
                  <a:lnTo>
                    <a:pt x="520" y="208"/>
                  </a:lnTo>
                  <a:lnTo>
                    <a:pt x="514" y="209"/>
                  </a:lnTo>
                  <a:lnTo>
                    <a:pt x="507" y="212"/>
                  </a:lnTo>
                  <a:lnTo>
                    <a:pt x="499" y="215"/>
                  </a:lnTo>
                  <a:lnTo>
                    <a:pt x="491" y="220"/>
                  </a:lnTo>
                  <a:lnTo>
                    <a:pt x="484" y="226"/>
                  </a:lnTo>
                  <a:lnTo>
                    <a:pt x="477" y="231"/>
                  </a:lnTo>
                  <a:lnTo>
                    <a:pt x="470" y="237"/>
                  </a:lnTo>
                  <a:lnTo>
                    <a:pt x="465" y="242"/>
                  </a:lnTo>
                  <a:lnTo>
                    <a:pt x="477" y="242"/>
                  </a:lnTo>
                  <a:lnTo>
                    <a:pt x="489" y="243"/>
                  </a:lnTo>
                  <a:lnTo>
                    <a:pt x="505" y="245"/>
                  </a:lnTo>
                  <a:lnTo>
                    <a:pt x="521" y="249"/>
                  </a:lnTo>
                  <a:lnTo>
                    <a:pt x="539" y="257"/>
                  </a:lnTo>
                  <a:lnTo>
                    <a:pt x="559" y="269"/>
                  </a:lnTo>
                  <a:lnTo>
                    <a:pt x="582" y="287"/>
                  </a:lnTo>
                  <a:lnTo>
                    <a:pt x="607" y="313"/>
                  </a:lnTo>
                  <a:lnTo>
                    <a:pt x="594" y="315"/>
                  </a:lnTo>
                  <a:lnTo>
                    <a:pt x="581" y="317"/>
                  </a:lnTo>
                  <a:lnTo>
                    <a:pt x="568" y="321"/>
                  </a:lnTo>
                  <a:lnTo>
                    <a:pt x="556" y="324"/>
                  </a:lnTo>
                  <a:lnTo>
                    <a:pt x="542" y="326"/>
                  </a:lnTo>
                  <a:lnTo>
                    <a:pt x="527" y="326"/>
                  </a:lnTo>
                  <a:lnTo>
                    <a:pt x="510" y="324"/>
                  </a:lnTo>
                  <a:lnTo>
                    <a:pt x="493" y="319"/>
                  </a:lnTo>
                  <a:lnTo>
                    <a:pt x="486" y="320"/>
                  </a:lnTo>
                  <a:lnTo>
                    <a:pt x="478" y="326"/>
                  </a:lnTo>
                  <a:lnTo>
                    <a:pt x="467" y="335"/>
                  </a:lnTo>
                  <a:lnTo>
                    <a:pt x="457" y="345"/>
                  </a:lnTo>
                  <a:lnTo>
                    <a:pt x="448" y="357"/>
                  </a:lnTo>
                  <a:lnTo>
                    <a:pt x="441" y="366"/>
                  </a:lnTo>
                  <a:lnTo>
                    <a:pt x="438" y="374"/>
                  </a:lnTo>
                  <a:lnTo>
                    <a:pt x="441" y="377"/>
                  </a:lnTo>
                  <a:lnTo>
                    <a:pt x="444" y="377"/>
                  </a:lnTo>
                  <a:lnTo>
                    <a:pt x="448" y="376"/>
                  </a:lnTo>
                  <a:lnTo>
                    <a:pt x="452" y="376"/>
                  </a:lnTo>
                  <a:lnTo>
                    <a:pt x="458" y="374"/>
                  </a:lnTo>
                  <a:lnTo>
                    <a:pt x="464" y="373"/>
                  </a:lnTo>
                  <a:lnTo>
                    <a:pt x="472" y="372"/>
                  </a:lnTo>
                  <a:lnTo>
                    <a:pt x="480" y="371"/>
                  </a:lnTo>
                  <a:lnTo>
                    <a:pt x="491" y="371"/>
                  </a:lnTo>
                  <a:lnTo>
                    <a:pt x="501" y="370"/>
                  </a:lnTo>
                  <a:lnTo>
                    <a:pt x="515" y="370"/>
                  </a:lnTo>
                  <a:lnTo>
                    <a:pt x="529" y="371"/>
                  </a:lnTo>
                  <a:lnTo>
                    <a:pt x="546" y="371"/>
                  </a:lnTo>
                  <a:lnTo>
                    <a:pt x="565" y="373"/>
                  </a:lnTo>
                  <a:lnTo>
                    <a:pt x="586" y="374"/>
                  </a:lnTo>
                  <a:lnTo>
                    <a:pt x="609" y="378"/>
                  </a:lnTo>
                  <a:lnTo>
                    <a:pt x="635" y="381"/>
                  </a:lnTo>
                  <a:lnTo>
                    <a:pt x="627" y="392"/>
                  </a:lnTo>
                  <a:lnTo>
                    <a:pt x="618" y="401"/>
                  </a:lnTo>
                  <a:lnTo>
                    <a:pt x="613" y="408"/>
                  </a:lnTo>
                  <a:lnTo>
                    <a:pt x="607" y="413"/>
                  </a:lnTo>
                  <a:lnTo>
                    <a:pt x="601" y="416"/>
                  </a:lnTo>
                  <a:lnTo>
                    <a:pt x="595" y="419"/>
                  </a:lnTo>
                  <a:lnTo>
                    <a:pt x="589" y="420"/>
                  </a:lnTo>
                  <a:lnTo>
                    <a:pt x="581" y="420"/>
                  </a:lnTo>
                  <a:lnTo>
                    <a:pt x="573" y="420"/>
                  </a:lnTo>
                  <a:lnTo>
                    <a:pt x="563" y="419"/>
                  </a:lnTo>
                  <a:lnTo>
                    <a:pt x="550" y="416"/>
                  </a:lnTo>
                  <a:lnTo>
                    <a:pt x="535" y="415"/>
                  </a:lnTo>
                  <a:lnTo>
                    <a:pt x="517" y="413"/>
                  </a:lnTo>
                  <a:lnTo>
                    <a:pt x="496" y="412"/>
                  </a:lnTo>
                  <a:lnTo>
                    <a:pt x="472" y="410"/>
                  </a:lnTo>
                  <a:lnTo>
                    <a:pt x="443" y="410"/>
                  </a:lnTo>
                  <a:lnTo>
                    <a:pt x="451" y="413"/>
                  </a:lnTo>
                  <a:lnTo>
                    <a:pt x="470" y="419"/>
                  </a:lnTo>
                  <a:lnTo>
                    <a:pt x="494" y="428"/>
                  </a:lnTo>
                  <a:lnTo>
                    <a:pt x="523" y="440"/>
                  </a:lnTo>
                  <a:lnTo>
                    <a:pt x="552" y="452"/>
                  </a:lnTo>
                  <a:lnTo>
                    <a:pt x="580" y="467"/>
                  </a:lnTo>
                  <a:lnTo>
                    <a:pt x="602" y="483"/>
                  </a:lnTo>
                  <a:lnTo>
                    <a:pt x="616" y="498"/>
                  </a:lnTo>
                  <a:lnTo>
                    <a:pt x="520" y="507"/>
                  </a:lnTo>
                  <a:lnTo>
                    <a:pt x="514" y="501"/>
                  </a:lnTo>
                  <a:lnTo>
                    <a:pt x="503" y="495"/>
                  </a:lnTo>
                  <a:lnTo>
                    <a:pt x="493" y="490"/>
                  </a:lnTo>
                  <a:lnTo>
                    <a:pt x="486" y="485"/>
                  </a:lnTo>
                  <a:lnTo>
                    <a:pt x="485" y="490"/>
                  </a:lnTo>
                  <a:lnTo>
                    <a:pt x="484" y="494"/>
                  </a:lnTo>
                  <a:lnTo>
                    <a:pt x="482" y="498"/>
                  </a:lnTo>
                  <a:lnTo>
                    <a:pt x="481" y="500"/>
                  </a:lnTo>
                  <a:lnTo>
                    <a:pt x="474" y="499"/>
                  </a:lnTo>
                  <a:lnTo>
                    <a:pt x="468" y="494"/>
                  </a:lnTo>
                  <a:lnTo>
                    <a:pt x="464" y="488"/>
                  </a:lnTo>
                  <a:lnTo>
                    <a:pt x="458" y="481"/>
                  </a:lnTo>
                  <a:lnTo>
                    <a:pt x="453" y="473"/>
                  </a:lnTo>
                  <a:lnTo>
                    <a:pt x="448" y="466"/>
                  </a:lnTo>
                  <a:lnTo>
                    <a:pt x="442" y="460"/>
                  </a:lnTo>
                  <a:lnTo>
                    <a:pt x="434" y="457"/>
                  </a:lnTo>
                  <a:lnTo>
                    <a:pt x="424" y="452"/>
                  </a:lnTo>
                  <a:lnTo>
                    <a:pt x="414" y="445"/>
                  </a:lnTo>
                  <a:lnTo>
                    <a:pt x="403" y="436"/>
                  </a:lnTo>
                  <a:lnTo>
                    <a:pt x="391" y="427"/>
                  </a:lnTo>
                  <a:lnTo>
                    <a:pt x="379" y="417"/>
                  </a:lnTo>
                  <a:lnTo>
                    <a:pt x="366" y="409"/>
                  </a:lnTo>
                  <a:lnTo>
                    <a:pt x="356" y="405"/>
                  </a:lnTo>
                  <a:lnTo>
                    <a:pt x="345" y="402"/>
                  </a:lnTo>
                  <a:lnTo>
                    <a:pt x="349" y="430"/>
                  </a:lnTo>
                  <a:lnTo>
                    <a:pt x="350" y="457"/>
                  </a:lnTo>
                  <a:lnTo>
                    <a:pt x="349" y="485"/>
                  </a:lnTo>
                  <a:lnTo>
                    <a:pt x="348" y="513"/>
                  </a:lnTo>
                  <a:lnTo>
                    <a:pt x="344" y="541"/>
                  </a:lnTo>
                  <a:lnTo>
                    <a:pt x="339" y="570"/>
                  </a:lnTo>
                  <a:lnTo>
                    <a:pt x="335" y="599"/>
                  </a:lnTo>
                  <a:lnTo>
                    <a:pt x="329" y="628"/>
                  </a:lnTo>
                  <a:lnTo>
                    <a:pt x="324" y="658"/>
                  </a:lnTo>
                  <a:lnTo>
                    <a:pt x="319" y="690"/>
                  </a:lnTo>
                  <a:lnTo>
                    <a:pt x="314" y="720"/>
                  </a:lnTo>
                  <a:lnTo>
                    <a:pt x="309" y="752"/>
                  </a:lnTo>
                  <a:lnTo>
                    <a:pt x="306" y="785"/>
                  </a:lnTo>
                  <a:lnTo>
                    <a:pt x="303" y="817"/>
                  </a:lnTo>
                  <a:lnTo>
                    <a:pt x="303" y="851"/>
                  </a:lnTo>
                  <a:lnTo>
                    <a:pt x="305" y="886"/>
                  </a:lnTo>
                  <a:lnTo>
                    <a:pt x="313" y="886"/>
                  </a:lnTo>
                  <a:lnTo>
                    <a:pt x="326" y="890"/>
                  </a:lnTo>
                  <a:lnTo>
                    <a:pt x="339" y="894"/>
                  </a:lnTo>
                  <a:lnTo>
                    <a:pt x="355" y="899"/>
                  </a:lnTo>
                  <a:lnTo>
                    <a:pt x="370" y="906"/>
                  </a:lnTo>
                  <a:lnTo>
                    <a:pt x="384" y="912"/>
                  </a:lnTo>
                  <a:lnTo>
                    <a:pt x="394" y="916"/>
                  </a:lnTo>
                  <a:lnTo>
                    <a:pt x="400" y="920"/>
                  </a:lnTo>
                  <a:lnTo>
                    <a:pt x="384" y="918"/>
                  </a:lnTo>
                  <a:lnTo>
                    <a:pt x="369" y="915"/>
                  </a:lnTo>
                  <a:lnTo>
                    <a:pt x="355" y="914"/>
                  </a:lnTo>
                  <a:lnTo>
                    <a:pt x="341" y="914"/>
                  </a:lnTo>
                  <a:lnTo>
                    <a:pt x="328" y="913"/>
                  </a:lnTo>
                  <a:lnTo>
                    <a:pt x="316" y="913"/>
                  </a:lnTo>
                  <a:lnTo>
                    <a:pt x="303" y="914"/>
                  </a:lnTo>
                  <a:lnTo>
                    <a:pt x="293" y="914"/>
                  </a:lnTo>
                  <a:lnTo>
                    <a:pt x="281" y="915"/>
                  </a:lnTo>
                  <a:lnTo>
                    <a:pt x="270" y="916"/>
                  </a:lnTo>
                  <a:lnTo>
                    <a:pt x="259" y="916"/>
                  </a:lnTo>
                  <a:lnTo>
                    <a:pt x="249" y="918"/>
                  </a:lnTo>
                  <a:lnTo>
                    <a:pt x="237" y="919"/>
                  </a:lnTo>
                  <a:lnTo>
                    <a:pt x="226" y="919"/>
                  </a:lnTo>
                  <a:lnTo>
                    <a:pt x="214" y="920"/>
                  </a:lnTo>
                  <a:lnTo>
                    <a:pt x="202" y="920"/>
                  </a:lnTo>
                  <a:lnTo>
                    <a:pt x="193" y="920"/>
                  </a:lnTo>
                  <a:lnTo>
                    <a:pt x="185" y="920"/>
                  </a:lnTo>
                  <a:lnTo>
                    <a:pt x="176" y="920"/>
                  </a:lnTo>
                  <a:lnTo>
                    <a:pt x="167" y="921"/>
                  </a:lnTo>
                  <a:lnTo>
                    <a:pt x="159" y="922"/>
                  </a:lnTo>
                  <a:lnTo>
                    <a:pt x="151" y="922"/>
                  </a:lnTo>
                  <a:lnTo>
                    <a:pt x="143" y="923"/>
                  </a:lnTo>
                  <a:lnTo>
                    <a:pt x="135" y="923"/>
                  </a:lnTo>
                  <a:lnTo>
                    <a:pt x="140" y="921"/>
                  </a:lnTo>
                  <a:lnTo>
                    <a:pt x="144" y="918"/>
                  </a:lnTo>
                  <a:lnTo>
                    <a:pt x="151" y="913"/>
                  </a:lnTo>
                  <a:lnTo>
                    <a:pt x="165" y="908"/>
                  </a:lnTo>
                  <a:lnTo>
                    <a:pt x="169" y="904"/>
                  </a:lnTo>
                  <a:lnTo>
                    <a:pt x="176" y="901"/>
                  </a:lnTo>
                  <a:lnTo>
                    <a:pt x="184" y="899"/>
                  </a:lnTo>
                  <a:lnTo>
                    <a:pt x="192" y="897"/>
                  </a:lnTo>
                  <a:lnTo>
                    <a:pt x="201" y="897"/>
                  </a:lnTo>
                  <a:lnTo>
                    <a:pt x="209" y="895"/>
                  </a:lnTo>
                  <a:lnTo>
                    <a:pt x="216" y="895"/>
                  </a:lnTo>
                  <a:lnTo>
                    <a:pt x="222" y="895"/>
                  </a:lnTo>
                  <a:lnTo>
                    <a:pt x="229" y="892"/>
                  </a:lnTo>
                  <a:lnTo>
                    <a:pt x="237" y="888"/>
                  </a:lnTo>
                  <a:lnTo>
                    <a:pt x="246" y="887"/>
                  </a:lnTo>
                  <a:lnTo>
                    <a:pt x="253" y="886"/>
                  </a:lnTo>
                  <a:lnTo>
                    <a:pt x="253" y="841"/>
                  </a:lnTo>
                  <a:lnTo>
                    <a:pt x="255" y="813"/>
                  </a:lnTo>
                  <a:lnTo>
                    <a:pt x="256" y="785"/>
                  </a:lnTo>
                  <a:lnTo>
                    <a:pt x="259" y="757"/>
                  </a:lnTo>
                  <a:lnTo>
                    <a:pt x="264" y="729"/>
                  </a:lnTo>
                  <a:lnTo>
                    <a:pt x="269" y="701"/>
                  </a:lnTo>
                  <a:lnTo>
                    <a:pt x="274" y="673"/>
                  </a:lnTo>
                  <a:lnTo>
                    <a:pt x="280" y="647"/>
                  </a:lnTo>
                  <a:lnTo>
                    <a:pt x="286" y="619"/>
                  </a:lnTo>
                  <a:lnTo>
                    <a:pt x="291" y="591"/>
                  </a:lnTo>
                  <a:lnTo>
                    <a:pt x="296" y="564"/>
                  </a:lnTo>
                  <a:lnTo>
                    <a:pt x="301" y="536"/>
                  </a:lnTo>
                  <a:lnTo>
                    <a:pt x="305" y="508"/>
                  </a:lnTo>
                  <a:lnTo>
                    <a:pt x="307" y="480"/>
                  </a:lnTo>
                  <a:lnTo>
                    <a:pt x="308" y="452"/>
                  </a:lnTo>
                  <a:lnTo>
                    <a:pt x="308" y="424"/>
                  </a:lnTo>
                  <a:lnTo>
                    <a:pt x="307" y="397"/>
                  </a:lnTo>
                  <a:lnTo>
                    <a:pt x="289" y="420"/>
                  </a:lnTo>
                  <a:lnTo>
                    <a:pt x="274" y="442"/>
                  </a:lnTo>
                  <a:lnTo>
                    <a:pt x="263" y="464"/>
                  </a:lnTo>
                  <a:lnTo>
                    <a:pt x="255" y="486"/>
                  </a:lnTo>
                  <a:lnTo>
                    <a:pt x="246" y="508"/>
                  </a:lnTo>
                  <a:lnTo>
                    <a:pt x="241" y="530"/>
                  </a:lnTo>
                  <a:lnTo>
                    <a:pt x="235" y="552"/>
                  </a:lnTo>
                  <a:lnTo>
                    <a:pt x="228" y="574"/>
                  </a:lnTo>
                  <a:lnTo>
                    <a:pt x="219" y="567"/>
                  </a:lnTo>
                  <a:lnTo>
                    <a:pt x="213" y="557"/>
                  </a:lnTo>
                  <a:lnTo>
                    <a:pt x="209" y="544"/>
                  </a:lnTo>
                  <a:lnTo>
                    <a:pt x="209" y="530"/>
                  </a:lnTo>
                  <a:lnTo>
                    <a:pt x="210" y="515"/>
                  </a:lnTo>
                  <a:lnTo>
                    <a:pt x="213" y="500"/>
                  </a:lnTo>
                  <a:lnTo>
                    <a:pt x="215" y="485"/>
                  </a:lnTo>
                  <a:lnTo>
                    <a:pt x="220" y="471"/>
                  </a:lnTo>
                  <a:lnTo>
                    <a:pt x="222" y="458"/>
                  </a:lnTo>
                  <a:lnTo>
                    <a:pt x="226" y="448"/>
                  </a:lnTo>
                  <a:lnTo>
                    <a:pt x="227" y="441"/>
                  </a:lnTo>
                  <a:lnTo>
                    <a:pt x="226" y="437"/>
                  </a:lnTo>
                  <a:lnTo>
                    <a:pt x="223" y="438"/>
                  </a:lnTo>
                  <a:lnTo>
                    <a:pt x="217" y="444"/>
                  </a:lnTo>
                  <a:lnTo>
                    <a:pt x="209" y="456"/>
                  </a:lnTo>
                  <a:lnTo>
                    <a:pt x="196" y="473"/>
                  </a:lnTo>
                  <a:lnTo>
                    <a:pt x="179" y="473"/>
                  </a:lnTo>
                  <a:lnTo>
                    <a:pt x="179" y="479"/>
                  </a:lnTo>
                  <a:lnTo>
                    <a:pt x="179" y="486"/>
                  </a:lnTo>
                  <a:lnTo>
                    <a:pt x="178" y="491"/>
                  </a:lnTo>
                  <a:lnTo>
                    <a:pt x="178" y="495"/>
                  </a:lnTo>
                  <a:lnTo>
                    <a:pt x="169" y="500"/>
                  </a:lnTo>
                  <a:lnTo>
                    <a:pt x="160" y="505"/>
                  </a:lnTo>
                  <a:lnTo>
                    <a:pt x="151" y="510"/>
                  </a:lnTo>
                  <a:lnTo>
                    <a:pt x="142" y="516"/>
                  </a:lnTo>
                  <a:lnTo>
                    <a:pt x="133" y="521"/>
                  </a:lnTo>
                  <a:lnTo>
                    <a:pt x="123" y="526"/>
                  </a:lnTo>
                  <a:lnTo>
                    <a:pt x="114" y="528"/>
                  </a:lnTo>
                  <a:lnTo>
                    <a:pt x="105" y="529"/>
                  </a:lnTo>
                  <a:lnTo>
                    <a:pt x="106" y="519"/>
                  </a:lnTo>
                  <a:lnTo>
                    <a:pt x="112" y="507"/>
                  </a:lnTo>
                  <a:lnTo>
                    <a:pt x="119" y="495"/>
                  </a:lnTo>
                  <a:lnTo>
                    <a:pt x="127" y="483"/>
                  </a:lnTo>
                  <a:lnTo>
                    <a:pt x="136" y="472"/>
                  </a:lnTo>
                  <a:lnTo>
                    <a:pt x="145" y="460"/>
                  </a:lnTo>
                  <a:lnTo>
                    <a:pt x="155" y="451"/>
                  </a:lnTo>
                  <a:lnTo>
                    <a:pt x="163" y="443"/>
                  </a:lnTo>
                  <a:lnTo>
                    <a:pt x="146" y="443"/>
                  </a:lnTo>
                  <a:lnTo>
                    <a:pt x="130" y="445"/>
                  </a:lnTo>
                  <a:lnTo>
                    <a:pt x="114" y="447"/>
                  </a:lnTo>
                  <a:lnTo>
                    <a:pt x="97" y="448"/>
                  </a:lnTo>
                  <a:lnTo>
                    <a:pt x="80" y="449"/>
                  </a:lnTo>
                  <a:lnTo>
                    <a:pt x="64" y="449"/>
                  </a:lnTo>
                  <a:lnTo>
                    <a:pt x="49" y="447"/>
                  </a:lnTo>
                  <a:lnTo>
                    <a:pt x="34" y="443"/>
                  </a:lnTo>
                  <a:lnTo>
                    <a:pt x="45" y="434"/>
                  </a:lnTo>
                  <a:lnTo>
                    <a:pt x="58" y="426"/>
                  </a:lnTo>
                  <a:lnTo>
                    <a:pt x="73" y="419"/>
                  </a:lnTo>
                  <a:lnTo>
                    <a:pt x="90" y="412"/>
                  </a:lnTo>
                  <a:lnTo>
                    <a:pt x="107" y="406"/>
                  </a:lnTo>
                  <a:lnTo>
                    <a:pt x="124" y="399"/>
                  </a:lnTo>
                  <a:lnTo>
                    <a:pt x="144" y="393"/>
                  </a:lnTo>
                  <a:lnTo>
                    <a:pt x="163" y="386"/>
                  </a:lnTo>
                  <a:lnTo>
                    <a:pt x="0" y="377"/>
                  </a:lnTo>
                  <a:lnTo>
                    <a:pt x="13" y="352"/>
                  </a:lnTo>
                  <a:lnTo>
                    <a:pt x="33" y="340"/>
                  </a:lnTo>
                  <a:lnTo>
                    <a:pt x="57" y="335"/>
                  </a:lnTo>
                  <a:lnTo>
                    <a:pt x="84" y="335"/>
                  </a:lnTo>
                  <a:lnTo>
                    <a:pt x="112" y="338"/>
                  </a:lnTo>
                  <a:lnTo>
                    <a:pt x="136" y="341"/>
                  </a:lnTo>
                  <a:lnTo>
                    <a:pt x="158" y="341"/>
                  </a:lnTo>
                  <a:lnTo>
                    <a:pt x="173" y="334"/>
                  </a:lnTo>
                  <a:lnTo>
                    <a:pt x="158" y="324"/>
                  </a:lnTo>
                  <a:lnTo>
                    <a:pt x="144" y="315"/>
                  </a:lnTo>
                  <a:lnTo>
                    <a:pt x="129" y="306"/>
                  </a:lnTo>
                  <a:lnTo>
                    <a:pt x="114" y="297"/>
                  </a:lnTo>
                  <a:lnTo>
                    <a:pt x="100" y="287"/>
                  </a:lnTo>
                  <a:lnTo>
                    <a:pt x="86" y="277"/>
                  </a:lnTo>
                  <a:lnTo>
                    <a:pt x="73" y="266"/>
                  </a:lnTo>
                  <a:lnTo>
                    <a:pt x="62" y="256"/>
                  </a:lnTo>
                  <a:lnTo>
                    <a:pt x="62" y="236"/>
                  </a:lnTo>
                  <a:lnTo>
                    <a:pt x="51" y="236"/>
                  </a:lnTo>
                  <a:lnTo>
                    <a:pt x="43" y="236"/>
                  </a:lnTo>
                  <a:lnTo>
                    <a:pt x="37" y="236"/>
                  </a:lnTo>
                  <a:lnTo>
                    <a:pt x="31" y="235"/>
                  </a:lnTo>
                  <a:lnTo>
                    <a:pt x="26" y="234"/>
                  </a:lnTo>
                  <a:lnTo>
                    <a:pt x="20" y="231"/>
                  </a:lnTo>
                  <a:lnTo>
                    <a:pt x="13" y="229"/>
                  </a:lnTo>
                  <a:lnTo>
                    <a:pt x="4" y="226"/>
                  </a:lnTo>
                  <a:lnTo>
                    <a:pt x="14" y="217"/>
                  </a:lnTo>
                  <a:lnTo>
                    <a:pt x="26" y="210"/>
                  </a:lnTo>
                  <a:lnTo>
                    <a:pt x="38" y="207"/>
                  </a:lnTo>
                  <a:lnTo>
                    <a:pt x="51" y="205"/>
                  </a:lnTo>
                  <a:lnTo>
                    <a:pt x="66" y="206"/>
                  </a:lnTo>
                  <a:lnTo>
                    <a:pt x="80" y="207"/>
                  </a:lnTo>
                  <a:lnTo>
                    <a:pt x="97" y="212"/>
                  </a:lnTo>
                  <a:lnTo>
                    <a:pt x="113" y="217"/>
                  </a:lnTo>
                  <a:lnTo>
                    <a:pt x="129" y="224"/>
                  </a:lnTo>
                  <a:lnTo>
                    <a:pt x="146" y="234"/>
                  </a:lnTo>
                  <a:lnTo>
                    <a:pt x="163" y="244"/>
                  </a:lnTo>
                  <a:lnTo>
                    <a:pt x="180" y="256"/>
                  </a:lnTo>
                  <a:lnTo>
                    <a:pt x="198" y="269"/>
                  </a:lnTo>
                  <a:lnTo>
                    <a:pt x="215" y="283"/>
                  </a:lnTo>
                  <a:lnTo>
                    <a:pt x="233" y="297"/>
                  </a:lnTo>
                  <a:lnTo>
                    <a:pt x="249" y="313"/>
                  </a:lnTo>
                  <a:close/>
                  <a:moveTo>
                    <a:pt x="310" y="281"/>
                  </a:moveTo>
                  <a:lnTo>
                    <a:pt x="310" y="269"/>
                  </a:lnTo>
                  <a:lnTo>
                    <a:pt x="310" y="256"/>
                  </a:lnTo>
                  <a:lnTo>
                    <a:pt x="310" y="242"/>
                  </a:lnTo>
                  <a:lnTo>
                    <a:pt x="310" y="229"/>
                  </a:lnTo>
                  <a:lnTo>
                    <a:pt x="312" y="215"/>
                  </a:lnTo>
                  <a:lnTo>
                    <a:pt x="314" y="203"/>
                  </a:lnTo>
                  <a:lnTo>
                    <a:pt x="316" y="191"/>
                  </a:lnTo>
                  <a:lnTo>
                    <a:pt x="321" y="180"/>
                  </a:lnTo>
                  <a:lnTo>
                    <a:pt x="316" y="180"/>
                  </a:lnTo>
                  <a:lnTo>
                    <a:pt x="312" y="184"/>
                  </a:lnTo>
                  <a:lnTo>
                    <a:pt x="308" y="188"/>
                  </a:lnTo>
                  <a:lnTo>
                    <a:pt x="302" y="192"/>
                  </a:lnTo>
                  <a:lnTo>
                    <a:pt x="300" y="179"/>
                  </a:lnTo>
                  <a:lnTo>
                    <a:pt x="299" y="164"/>
                  </a:lnTo>
                  <a:lnTo>
                    <a:pt x="298" y="147"/>
                  </a:lnTo>
                  <a:lnTo>
                    <a:pt x="298" y="128"/>
                  </a:lnTo>
                  <a:lnTo>
                    <a:pt x="298" y="110"/>
                  </a:lnTo>
                  <a:lnTo>
                    <a:pt x="299" y="94"/>
                  </a:lnTo>
                  <a:lnTo>
                    <a:pt x="301" y="80"/>
                  </a:lnTo>
                  <a:lnTo>
                    <a:pt x="305" y="70"/>
                  </a:lnTo>
                  <a:lnTo>
                    <a:pt x="302" y="76"/>
                  </a:lnTo>
                  <a:lnTo>
                    <a:pt x="299" y="85"/>
                  </a:lnTo>
                  <a:lnTo>
                    <a:pt x="295" y="97"/>
                  </a:lnTo>
                  <a:lnTo>
                    <a:pt x="292" y="110"/>
                  </a:lnTo>
                  <a:lnTo>
                    <a:pt x="288" y="127"/>
                  </a:lnTo>
                  <a:lnTo>
                    <a:pt x="287" y="145"/>
                  </a:lnTo>
                  <a:lnTo>
                    <a:pt x="287" y="165"/>
                  </a:lnTo>
                  <a:lnTo>
                    <a:pt x="289" y="186"/>
                  </a:lnTo>
                  <a:lnTo>
                    <a:pt x="285" y="184"/>
                  </a:lnTo>
                  <a:lnTo>
                    <a:pt x="281" y="184"/>
                  </a:lnTo>
                  <a:lnTo>
                    <a:pt x="279" y="186"/>
                  </a:lnTo>
                  <a:lnTo>
                    <a:pt x="278" y="190"/>
                  </a:lnTo>
                  <a:lnTo>
                    <a:pt x="279" y="194"/>
                  </a:lnTo>
                  <a:lnTo>
                    <a:pt x="281" y="200"/>
                  </a:lnTo>
                  <a:lnTo>
                    <a:pt x="285" y="206"/>
                  </a:lnTo>
                  <a:lnTo>
                    <a:pt x="289" y="213"/>
                  </a:lnTo>
                  <a:lnTo>
                    <a:pt x="291" y="221"/>
                  </a:lnTo>
                  <a:lnTo>
                    <a:pt x="293" y="230"/>
                  </a:lnTo>
                  <a:lnTo>
                    <a:pt x="296" y="238"/>
                  </a:lnTo>
                  <a:lnTo>
                    <a:pt x="300" y="247"/>
                  </a:lnTo>
                  <a:lnTo>
                    <a:pt x="303" y="255"/>
                  </a:lnTo>
                  <a:lnTo>
                    <a:pt x="307" y="263"/>
                  </a:lnTo>
                  <a:lnTo>
                    <a:pt x="309" y="272"/>
                  </a:lnTo>
                  <a:lnTo>
                    <a:pt x="310" y="281"/>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14920" y="1932120"/>
              <a:ext cx="1216080" cy="8204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14960" y="3397320"/>
              <a:ext cx="49320" cy="228600"/>
            </a:xfrm>
            <a:custGeom>
              <a:avLst/>
              <a:gdLst/>
              <a:ahLst/>
              <a:rect l="l" t="t" r="r" b="b"/>
              <a:pathLst>
                <a:path w="93" h="432">
                  <a:moveTo>
                    <a:pt x="47" y="432"/>
                  </a:moveTo>
                  <a:lnTo>
                    <a:pt x="93" y="432"/>
                  </a:lnTo>
                  <a:lnTo>
                    <a:pt x="93" y="0"/>
                  </a:lnTo>
                  <a:lnTo>
                    <a:pt x="0" y="0"/>
                  </a:lnTo>
                  <a:lnTo>
                    <a:pt x="0" y="432"/>
                  </a:lnTo>
                  <a:lnTo>
                    <a:pt x="47" y="4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89680" y="3610080"/>
              <a:ext cx="301680" cy="301680"/>
            </a:xfrm>
            <a:custGeom>
              <a:avLst/>
              <a:gdLst/>
              <a:ahLst/>
              <a:rect l="l" t="t" r="r" b="b"/>
              <a:pathLst>
                <a:path w="570" h="570">
                  <a:moveTo>
                    <a:pt x="285" y="570"/>
                  </a:moveTo>
                  <a:lnTo>
                    <a:pt x="285" y="570"/>
                  </a:lnTo>
                  <a:lnTo>
                    <a:pt x="570" y="0"/>
                  </a:lnTo>
                  <a:lnTo>
                    <a:pt x="0" y="0"/>
                  </a:lnTo>
                  <a:lnTo>
                    <a:pt x="285" y="570"/>
                  </a:lnTo>
                  <a:lnTo>
                    <a:pt x="285" y="5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450120" y="2549520"/>
              <a:ext cx="484200" cy="379440"/>
            </a:xfrm>
            <a:custGeom>
              <a:avLst/>
              <a:gdLst/>
              <a:ahLst/>
              <a:rect l="l" t="t" r="r" b="b"/>
              <a:pathLst>
                <a:path w="915" h="718">
                  <a:moveTo>
                    <a:pt x="540" y="401"/>
                  </a:moveTo>
                  <a:lnTo>
                    <a:pt x="540" y="401"/>
                  </a:lnTo>
                  <a:lnTo>
                    <a:pt x="540" y="412"/>
                  </a:lnTo>
                  <a:lnTo>
                    <a:pt x="540" y="421"/>
                  </a:lnTo>
                  <a:lnTo>
                    <a:pt x="540" y="430"/>
                  </a:lnTo>
                  <a:lnTo>
                    <a:pt x="540" y="440"/>
                  </a:lnTo>
                  <a:lnTo>
                    <a:pt x="539" y="448"/>
                  </a:lnTo>
                  <a:lnTo>
                    <a:pt x="538" y="455"/>
                  </a:lnTo>
                  <a:lnTo>
                    <a:pt x="538" y="462"/>
                  </a:lnTo>
                  <a:lnTo>
                    <a:pt x="537" y="469"/>
                  </a:lnTo>
                  <a:lnTo>
                    <a:pt x="536" y="476"/>
                  </a:lnTo>
                  <a:lnTo>
                    <a:pt x="534" y="483"/>
                  </a:lnTo>
                  <a:lnTo>
                    <a:pt x="533" y="489"/>
                  </a:lnTo>
                  <a:lnTo>
                    <a:pt x="533" y="494"/>
                  </a:lnTo>
                  <a:lnTo>
                    <a:pt x="533" y="500"/>
                  </a:lnTo>
                  <a:lnTo>
                    <a:pt x="534" y="506"/>
                  </a:lnTo>
                  <a:lnTo>
                    <a:pt x="536" y="512"/>
                  </a:lnTo>
                  <a:lnTo>
                    <a:pt x="537" y="516"/>
                  </a:lnTo>
                  <a:lnTo>
                    <a:pt x="538" y="522"/>
                  </a:lnTo>
                  <a:lnTo>
                    <a:pt x="539" y="528"/>
                  </a:lnTo>
                  <a:lnTo>
                    <a:pt x="539" y="534"/>
                  </a:lnTo>
                  <a:lnTo>
                    <a:pt x="539" y="540"/>
                  </a:lnTo>
                  <a:lnTo>
                    <a:pt x="538" y="546"/>
                  </a:lnTo>
                  <a:lnTo>
                    <a:pt x="537" y="553"/>
                  </a:lnTo>
                  <a:lnTo>
                    <a:pt x="534" y="558"/>
                  </a:lnTo>
                  <a:lnTo>
                    <a:pt x="532" y="565"/>
                  </a:lnTo>
                  <a:lnTo>
                    <a:pt x="531" y="569"/>
                  </a:lnTo>
                  <a:lnTo>
                    <a:pt x="531" y="572"/>
                  </a:lnTo>
                  <a:lnTo>
                    <a:pt x="530" y="576"/>
                  </a:lnTo>
                  <a:lnTo>
                    <a:pt x="529" y="580"/>
                  </a:lnTo>
                  <a:lnTo>
                    <a:pt x="529" y="586"/>
                  </a:lnTo>
                  <a:lnTo>
                    <a:pt x="527" y="592"/>
                  </a:lnTo>
                  <a:lnTo>
                    <a:pt x="527" y="598"/>
                  </a:lnTo>
                  <a:lnTo>
                    <a:pt x="527" y="605"/>
                  </a:lnTo>
                  <a:lnTo>
                    <a:pt x="527" y="611"/>
                  </a:lnTo>
                  <a:lnTo>
                    <a:pt x="529" y="617"/>
                  </a:lnTo>
                  <a:lnTo>
                    <a:pt x="530" y="623"/>
                  </a:lnTo>
                  <a:lnTo>
                    <a:pt x="531" y="629"/>
                  </a:lnTo>
                  <a:lnTo>
                    <a:pt x="532" y="636"/>
                  </a:lnTo>
                  <a:lnTo>
                    <a:pt x="534" y="643"/>
                  </a:lnTo>
                  <a:lnTo>
                    <a:pt x="537" y="651"/>
                  </a:lnTo>
                  <a:lnTo>
                    <a:pt x="539" y="660"/>
                  </a:lnTo>
                  <a:lnTo>
                    <a:pt x="544" y="658"/>
                  </a:lnTo>
                  <a:lnTo>
                    <a:pt x="550" y="656"/>
                  </a:lnTo>
                  <a:lnTo>
                    <a:pt x="555" y="651"/>
                  </a:lnTo>
                  <a:lnTo>
                    <a:pt x="563" y="646"/>
                  </a:lnTo>
                  <a:lnTo>
                    <a:pt x="568" y="642"/>
                  </a:lnTo>
                  <a:lnTo>
                    <a:pt x="572" y="637"/>
                  </a:lnTo>
                  <a:lnTo>
                    <a:pt x="576" y="633"/>
                  </a:lnTo>
                  <a:lnTo>
                    <a:pt x="581" y="627"/>
                  </a:lnTo>
                  <a:lnTo>
                    <a:pt x="584" y="620"/>
                  </a:lnTo>
                  <a:lnTo>
                    <a:pt x="588" y="613"/>
                  </a:lnTo>
                  <a:lnTo>
                    <a:pt x="591" y="605"/>
                  </a:lnTo>
                  <a:lnTo>
                    <a:pt x="595" y="597"/>
                  </a:lnTo>
                  <a:lnTo>
                    <a:pt x="598" y="589"/>
                  </a:lnTo>
                  <a:lnTo>
                    <a:pt x="601" y="580"/>
                  </a:lnTo>
                  <a:lnTo>
                    <a:pt x="603" y="572"/>
                  </a:lnTo>
                  <a:lnTo>
                    <a:pt x="605" y="565"/>
                  </a:lnTo>
                  <a:lnTo>
                    <a:pt x="608" y="558"/>
                  </a:lnTo>
                  <a:lnTo>
                    <a:pt x="610" y="551"/>
                  </a:lnTo>
                  <a:lnTo>
                    <a:pt x="611" y="546"/>
                  </a:lnTo>
                  <a:lnTo>
                    <a:pt x="613" y="540"/>
                  </a:lnTo>
                  <a:lnTo>
                    <a:pt x="615" y="533"/>
                  </a:lnTo>
                  <a:lnTo>
                    <a:pt x="616" y="526"/>
                  </a:lnTo>
                  <a:lnTo>
                    <a:pt x="617" y="519"/>
                  </a:lnTo>
                  <a:lnTo>
                    <a:pt x="618" y="511"/>
                  </a:lnTo>
                  <a:lnTo>
                    <a:pt x="618" y="503"/>
                  </a:lnTo>
                  <a:lnTo>
                    <a:pt x="618" y="494"/>
                  </a:lnTo>
                  <a:lnTo>
                    <a:pt x="618" y="485"/>
                  </a:lnTo>
                  <a:lnTo>
                    <a:pt x="617" y="477"/>
                  </a:lnTo>
                  <a:lnTo>
                    <a:pt x="617" y="471"/>
                  </a:lnTo>
                  <a:lnTo>
                    <a:pt x="616" y="465"/>
                  </a:lnTo>
                  <a:lnTo>
                    <a:pt x="616" y="461"/>
                  </a:lnTo>
                  <a:lnTo>
                    <a:pt x="616" y="455"/>
                  </a:lnTo>
                  <a:lnTo>
                    <a:pt x="617" y="450"/>
                  </a:lnTo>
                  <a:lnTo>
                    <a:pt x="617" y="444"/>
                  </a:lnTo>
                  <a:lnTo>
                    <a:pt x="617" y="440"/>
                  </a:lnTo>
                  <a:lnTo>
                    <a:pt x="618" y="435"/>
                  </a:lnTo>
                  <a:lnTo>
                    <a:pt x="619" y="430"/>
                  </a:lnTo>
                  <a:lnTo>
                    <a:pt x="619" y="425"/>
                  </a:lnTo>
                  <a:lnTo>
                    <a:pt x="619" y="420"/>
                  </a:lnTo>
                  <a:lnTo>
                    <a:pt x="619" y="414"/>
                  </a:lnTo>
                  <a:lnTo>
                    <a:pt x="619" y="410"/>
                  </a:lnTo>
                  <a:lnTo>
                    <a:pt x="618" y="405"/>
                  </a:lnTo>
                  <a:lnTo>
                    <a:pt x="617" y="399"/>
                  </a:lnTo>
                  <a:lnTo>
                    <a:pt x="616" y="394"/>
                  </a:lnTo>
                  <a:lnTo>
                    <a:pt x="605" y="399"/>
                  </a:lnTo>
                  <a:lnTo>
                    <a:pt x="595" y="403"/>
                  </a:lnTo>
                  <a:lnTo>
                    <a:pt x="586" y="405"/>
                  </a:lnTo>
                  <a:lnTo>
                    <a:pt x="576" y="406"/>
                  </a:lnTo>
                  <a:lnTo>
                    <a:pt x="567" y="407"/>
                  </a:lnTo>
                  <a:lnTo>
                    <a:pt x="558" y="406"/>
                  </a:lnTo>
                  <a:lnTo>
                    <a:pt x="548" y="405"/>
                  </a:lnTo>
                  <a:lnTo>
                    <a:pt x="540" y="401"/>
                  </a:lnTo>
                  <a:close/>
                  <a:moveTo>
                    <a:pt x="258" y="383"/>
                  </a:moveTo>
                  <a:lnTo>
                    <a:pt x="257" y="383"/>
                  </a:lnTo>
                  <a:lnTo>
                    <a:pt x="239" y="378"/>
                  </a:lnTo>
                  <a:lnTo>
                    <a:pt x="223" y="371"/>
                  </a:lnTo>
                  <a:lnTo>
                    <a:pt x="209" y="362"/>
                  </a:lnTo>
                  <a:lnTo>
                    <a:pt x="195" y="351"/>
                  </a:lnTo>
                  <a:lnTo>
                    <a:pt x="182" y="339"/>
                  </a:lnTo>
                  <a:lnTo>
                    <a:pt x="172" y="323"/>
                  </a:lnTo>
                  <a:lnTo>
                    <a:pt x="161" y="306"/>
                  </a:lnTo>
                  <a:lnTo>
                    <a:pt x="153" y="287"/>
                  </a:lnTo>
                  <a:lnTo>
                    <a:pt x="146" y="268"/>
                  </a:lnTo>
                  <a:lnTo>
                    <a:pt x="139" y="249"/>
                  </a:lnTo>
                  <a:lnTo>
                    <a:pt x="135" y="230"/>
                  </a:lnTo>
                  <a:lnTo>
                    <a:pt x="131" y="213"/>
                  </a:lnTo>
                  <a:lnTo>
                    <a:pt x="128" y="196"/>
                  </a:lnTo>
                  <a:lnTo>
                    <a:pt x="125" y="179"/>
                  </a:lnTo>
                  <a:lnTo>
                    <a:pt x="125" y="164"/>
                  </a:lnTo>
                  <a:lnTo>
                    <a:pt x="125" y="150"/>
                  </a:lnTo>
                  <a:lnTo>
                    <a:pt x="123" y="146"/>
                  </a:lnTo>
                  <a:lnTo>
                    <a:pt x="119" y="140"/>
                  </a:lnTo>
                  <a:lnTo>
                    <a:pt x="115" y="134"/>
                  </a:lnTo>
                  <a:lnTo>
                    <a:pt x="110" y="127"/>
                  </a:lnTo>
                  <a:lnTo>
                    <a:pt x="104" y="120"/>
                  </a:lnTo>
                  <a:lnTo>
                    <a:pt x="101" y="114"/>
                  </a:lnTo>
                  <a:lnTo>
                    <a:pt x="99" y="108"/>
                  </a:lnTo>
                  <a:lnTo>
                    <a:pt x="97" y="103"/>
                  </a:lnTo>
                  <a:lnTo>
                    <a:pt x="95" y="103"/>
                  </a:lnTo>
                  <a:lnTo>
                    <a:pt x="93" y="101"/>
                  </a:lnTo>
                  <a:lnTo>
                    <a:pt x="90" y="100"/>
                  </a:lnTo>
                  <a:lnTo>
                    <a:pt x="87" y="99"/>
                  </a:lnTo>
                  <a:lnTo>
                    <a:pt x="83" y="98"/>
                  </a:lnTo>
                  <a:lnTo>
                    <a:pt x="80" y="97"/>
                  </a:lnTo>
                  <a:lnTo>
                    <a:pt x="76" y="96"/>
                  </a:lnTo>
                  <a:lnTo>
                    <a:pt x="74" y="94"/>
                  </a:lnTo>
                  <a:lnTo>
                    <a:pt x="66" y="92"/>
                  </a:lnTo>
                  <a:lnTo>
                    <a:pt x="59" y="89"/>
                  </a:lnTo>
                  <a:lnTo>
                    <a:pt x="54" y="85"/>
                  </a:lnTo>
                  <a:lnTo>
                    <a:pt x="51" y="82"/>
                  </a:lnTo>
                  <a:lnTo>
                    <a:pt x="46" y="84"/>
                  </a:lnTo>
                  <a:lnTo>
                    <a:pt x="40" y="86"/>
                  </a:lnTo>
                  <a:lnTo>
                    <a:pt x="36" y="87"/>
                  </a:lnTo>
                  <a:lnTo>
                    <a:pt x="30" y="89"/>
                  </a:lnTo>
                  <a:lnTo>
                    <a:pt x="24" y="89"/>
                  </a:lnTo>
                  <a:lnTo>
                    <a:pt x="18" y="87"/>
                  </a:lnTo>
                  <a:lnTo>
                    <a:pt x="12" y="86"/>
                  </a:lnTo>
                  <a:lnTo>
                    <a:pt x="7" y="84"/>
                  </a:lnTo>
                  <a:lnTo>
                    <a:pt x="3" y="82"/>
                  </a:lnTo>
                  <a:lnTo>
                    <a:pt x="1" y="79"/>
                  </a:lnTo>
                  <a:lnTo>
                    <a:pt x="1" y="76"/>
                  </a:lnTo>
                  <a:lnTo>
                    <a:pt x="2" y="72"/>
                  </a:lnTo>
                  <a:lnTo>
                    <a:pt x="2" y="71"/>
                  </a:lnTo>
                  <a:lnTo>
                    <a:pt x="4" y="69"/>
                  </a:lnTo>
                  <a:lnTo>
                    <a:pt x="7" y="68"/>
                  </a:lnTo>
                  <a:lnTo>
                    <a:pt x="10" y="68"/>
                  </a:lnTo>
                  <a:lnTo>
                    <a:pt x="7" y="68"/>
                  </a:lnTo>
                  <a:lnTo>
                    <a:pt x="4" y="66"/>
                  </a:lnTo>
                  <a:lnTo>
                    <a:pt x="2" y="65"/>
                  </a:lnTo>
                  <a:lnTo>
                    <a:pt x="0" y="64"/>
                  </a:lnTo>
                  <a:lnTo>
                    <a:pt x="0" y="56"/>
                  </a:lnTo>
                  <a:lnTo>
                    <a:pt x="2" y="50"/>
                  </a:lnTo>
                  <a:lnTo>
                    <a:pt x="7" y="44"/>
                  </a:lnTo>
                  <a:lnTo>
                    <a:pt x="15" y="41"/>
                  </a:lnTo>
                  <a:lnTo>
                    <a:pt x="19" y="33"/>
                  </a:lnTo>
                  <a:lnTo>
                    <a:pt x="23" y="26"/>
                  </a:lnTo>
                  <a:lnTo>
                    <a:pt x="28" y="22"/>
                  </a:lnTo>
                  <a:lnTo>
                    <a:pt x="31" y="20"/>
                  </a:lnTo>
                  <a:lnTo>
                    <a:pt x="35" y="20"/>
                  </a:lnTo>
                  <a:lnTo>
                    <a:pt x="39" y="19"/>
                  </a:lnTo>
                  <a:lnTo>
                    <a:pt x="44" y="19"/>
                  </a:lnTo>
                  <a:lnTo>
                    <a:pt x="49" y="19"/>
                  </a:lnTo>
                  <a:lnTo>
                    <a:pt x="53" y="18"/>
                  </a:lnTo>
                  <a:lnTo>
                    <a:pt x="59" y="18"/>
                  </a:lnTo>
                  <a:lnTo>
                    <a:pt x="64" y="18"/>
                  </a:lnTo>
                  <a:lnTo>
                    <a:pt x="69" y="18"/>
                  </a:lnTo>
                  <a:lnTo>
                    <a:pt x="75" y="18"/>
                  </a:lnTo>
                  <a:lnTo>
                    <a:pt x="81" y="19"/>
                  </a:lnTo>
                  <a:lnTo>
                    <a:pt x="87" y="19"/>
                  </a:lnTo>
                  <a:lnTo>
                    <a:pt x="93" y="18"/>
                  </a:lnTo>
                  <a:lnTo>
                    <a:pt x="99" y="18"/>
                  </a:lnTo>
                  <a:lnTo>
                    <a:pt x="104" y="18"/>
                  </a:lnTo>
                  <a:lnTo>
                    <a:pt x="110" y="16"/>
                  </a:lnTo>
                  <a:lnTo>
                    <a:pt x="116" y="15"/>
                  </a:lnTo>
                  <a:lnTo>
                    <a:pt x="121" y="15"/>
                  </a:lnTo>
                  <a:lnTo>
                    <a:pt x="124" y="14"/>
                  </a:lnTo>
                  <a:lnTo>
                    <a:pt x="128" y="12"/>
                  </a:lnTo>
                  <a:lnTo>
                    <a:pt x="130" y="11"/>
                  </a:lnTo>
                  <a:lnTo>
                    <a:pt x="132" y="8"/>
                  </a:lnTo>
                  <a:lnTo>
                    <a:pt x="135" y="7"/>
                  </a:lnTo>
                  <a:lnTo>
                    <a:pt x="138" y="5"/>
                  </a:lnTo>
                  <a:lnTo>
                    <a:pt x="142" y="4"/>
                  </a:lnTo>
                  <a:lnTo>
                    <a:pt x="144" y="2"/>
                  </a:lnTo>
                  <a:lnTo>
                    <a:pt x="150" y="2"/>
                  </a:lnTo>
                  <a:lnTo>
                    <a:pt x="158" y="4"/>
                  </a:lnTo>
                  <a:lnTo>
                    <a:pt x="168" y="5"/>
                  </a:lnTo>
                  <a:lnTo>
                    <a:pt x="176" y="6"/>
                  </a:lnTo>
                  <a:lnTo>
                    <a:pt x="183" y="7"/>
                  </a:lnTo>
                  <a:lnTo>
                    <a:pt x="187" y="7"/>
                  </a:lnTo>
                  <a:lnTo>
                    <a:pt x="188" y="6"/>
                  </a:lnTo>
                  <a:lnTo>
                    <a:pt x="195" y="2"/>
                  </a:lnTo>
                  <a:lnTo>
                    <a:pt x="201" y="1"/>
                  </a:lnTo>
                  <a:lnTo>
                    <a:pt x="207" y="0"/>
                  </a:lnTo>
                  <a:lnTo>
                    <a:pt x="212" y="0"/>
                  </a:lnTo>
                  <a:lnTo>
                    <a:pt x="217" y="2"/>
                  </a:lnTo>
                  <a:lnTo>
                    <a:pt x="223" y="5"/>
                  </a:lnTo>
                  <a:lnTo>
                    <a:pt x="226" y="8"/>
                  </a:lnTo>
                  <a:lnTo>
                    <a:pt x="231" y="13"/>
                  </a:lnTo>
                  <a:lnTo>
                    <a:pt x="235" y="19"/>
                  </a:lnTo>
                  <a:lnTo>
                    <a:pt x="238" y="25"/>
                  </a:lnTo>
                  <a:lnTo>
                    <a:pt x="241" y="29"/>
                  </a:lnTo>
                  <a:lnTo>
                    <a:pt x="245" y="33"/>
                  </a:lnTo>
                  <a:lnTo>
                    <a:pt x="247" y="35"/>
                  </a:lnTo>
                  <a:lnTo>
                    <a:pt x="250" y="39"/>
                  </a:lnTo>
                  <a:lnTo>
                    <a:pt x="251" y="41"/>
                  </a:lnTo>
                  <a:lnTo>
                    <a:pt x="253" y="43"/>
                  </a:lnTo>
                  <a:lnTo>
                    <a:pt x="255" y="49"/>
                  </a:lnTo>
                  <a:lnTo>
                    <a:pt x="258" y="55"/>
                  </a:lnTo>
                  <a:lnTo>
                    <a:pt x="259" y="61"/>
                  </a:lnTo>
                  <a:lnTo>
                    <a:pt x="260" y="65"/>
                  </a:lnTo>
                  <a:lnTo>
                    <a:pt x="260" y="71"/>
                  </a:lnTo>
                  <a:lnTo>
                    <a:pt x="259" y="76"/>
                  </a:lnTo>
                  <a:lnTo>
                    <a:pt x="257" y="79"/>
                  </a:lnTo>
                  <a:lnTo>
                    <a:pt x="254" y="84"/>
                  </a:lnTo>
                  <a:lnTo>
                    <a:pt x="252" y="90"/>
                  </a:lnTo>
                  <a:lnTo>
                    <a:pt x="250" y="97"/>
                  </a:lnTo>
                  <a:lnTo>
                    <a:pt x="248" y="105"/>
                  </a:lnTo>
                  <a:lnTo>
                    <a:pt x="248" y="116"/>
                  </a:lnTo>
                  <a:lnTo>
                    <a:pt x="250" y="129"/>
                  </a:lnTo>
                  <a:lnTo>
                    <a:pt x="251" y="143"/>
                  </a:lnTo>
                  <a:lnTo>
                    <a:pt x="253" y="159"/>
                  </a:lnTo>
                  <a:lnTo>
                    <a:pt x="257" y="178"/>
                  </a:lnTo>
                  <a:lnTo>
                    <a:pt x="259" y="186"/>
                  </a:lnTo>
                  <a:lnTo>
                    <a:pt x="265" y="193"/>
                  </a:lnTo>
                  <a:lnTo>
                    <a:pt x="273" y="197"/>
                  </a:lnTo>
                  <a:lnTo>
                    <a:pt x="283" y="198"/>
                  </a:lnTo>
                  <a:lnTo>
                    <a:pt x="289" y="198"/>
                  </a:lnTo>
                  <a:lnTo>
                    <a:pt x="295" y="198"/>
                  </a:lnTo>
                  <a:lnTo>
                    <a:pt x="301" y="198"/>
                  </a:lnTo>
                  <a:lnTo>
                    <a:pt x="305" y="198"/>
                  </a:lnTo>
                  <a:lnTo>
                    <a:pt x="309" y="198"/>
                  </a:lnTo>
                  <a:lnTo>
                    <a:pt x="312" y="197"/>
                  </a:lnTo>
                  <a:lnTo>
                    <a:pt x="316" y="196"/>
                  </a:lnTo>
                  <a:lnTo>
                    <a:pt x="318" y="194"/>
                  </a:lnTo>
                  <a:lnTo>
                    <a:pt x="325" y="191"/>
                  </a:lnTo>
                  <a:lnTo>
                    <a:pt x="333" y="186"/>
                  </a:lnTo>
                  <a:lnTo>
                    <a:pt x="340" y="182"/>
                  </a:lnTo>
                  <a:lnTo>
                    <a:pt x="347" y="176"/>
                  </a:lnTo>
                  <a:lnTo>
                    <a:pt x="353" y="169"/>
                  </a:lnTo>
                  <a:lnTo>
                    <a:pt x="360" y="161"/>
                  </a:lnTo>
                  <a:lnTo>
                    <a:pt x="367" y="153"/>
                  </a:lnTo>
                  <a:lnTo>
                    <a:pt x="373" y="143"/>
                  </a:lnTo>
                  <a:lnTo>
                    <a:pt x="380" y="134"/>
                  </a:lnTo>
                  <a:lnTo>
                    <a:pt x="387" y="126"/>
                  </a:lnTo>
                  <a:lnTo>
                    <a:pt x="394" y="118"/>
                  </a:lnTo>
                  <a:lnTo>
                    <a:pt x="401" y="111"/>
                  </a:lnTo>
                  <a:lnTo>
                    <a:pt x="409" y="104"/>
                  </a:lnTo>
                  <a:lnTo>
                    <a:pt x="416" y="98"/>
                  </a:lnTo>
                  <a:lnTo>
                    <a:pt x="424" y="93"/>
                  </a:lnTo>
                  <a:lnTo>
                    <a:pt x="431" y="90"/>
                  </a:lnTo>
                  <a:lnTo>
                    <a:pt x="438" y="85"/>
                  </a:lnTo>
                  <a:lnTo>
                    <a:pt x="444" y="78"/>
                  </a:lnTo>
                  <a:lnTo>
                    <a:pt x="448" y="71"/>
                  </a:lnTo>
                  <a:lnTo>
                    <a:pt x="452" y="62"/>
                  </a:lnTo>
                  <a:lnTo>
                    <a:pt x="453" y="57"/>
                  </a:lnTo>
                  <a:lnTo>
                    <a:pt x="457" y="51"/>
                  </a:lnTo>
                  <a:lnTo>
                    <a:pt x="459" y="47"/>
                  </a:lnTo>
                  <a:lnTo>
                    <a:pt x="464" y="42"/>
                  </a:lnTo>
                  <a:lnTo>
                    <a:pt x="468" y="37"/>
                  </a:lnTo>
                  <a:lnTo>
                    <a:pt x="473" y="34"/>
                  </a:lnTo>
                  <a:lnTo>
                    <a:pt x="479" y="29"/>
                  </a:lnTo>
                  <a:lnTo>
                    <a:pt x="486" y="26"/>
                  </a:lnTo>
                  <a:lnTo>
                    <a:pt x="490" y="23"/>
                  </a:lnTo>
                  <a:lnTo>
                    <a:pt x="497" y="20"/>
                  </a:lnTo>
                  <a:lnTo>
                    <a:pt x="503" y="19"/>
                  </a:lnTo>
                  <a:lnTo>
                    <a:pt x="511" y="16"/>
                  </a:lnTo>
                  <a:lnTo>
                    <a:pt x="518" y="15"/>
                  </a:lnTo>
                  <a:lnTo>
                    <a:pt x="527" y="15"/>
                  </a:lnTo>
                  <a:lnTo>
                    <a:pt x="537" y="14"/>
                  </a:lnTo>
                  <a:lnTo>
                    <a:pt x="546" y="14"/>
                  </a:lnTo>
                  <a:lnTo>
                    <a:pt x="555" y="15"/>
                  </a:lnTo>
                  <a:lnTo>
                    <a:pt x="563" y="18"/>
                  </a:lnTo>
                  <a:lnTo>
                    <a:pt x="570" y="20"/>
                  </a:lnTo>
                  <a:lnTo>
                    <a:pt x="576" y="25"/>
                  </a:lnTo>
                  <a:lnTo>
                    <a:pt x="581" y="28"/>
                  </a:lnTo>
                  <a:lnTo>
                    <a:pt x="586" y="34"/>
                  </a:lnTo>
                  <a:lnTo>
                    <a:pt x="588" y="40"/>
                  </a:lnTo>
                  <a:lnTo>
                    <a:pt x="590" y="46"/>
                  </a:lnTo>
                  <a:lnTo>
                    <a:pt x="593" y="59"/>
                  </a:lnTo>
                  <a:lnTo>
                    <a:pt x="596" y="71"/>
                  </a:lnTo>
                  <a:lnTo>
                    <a:pt x="601" y="82"/>
                  </a:lnTo>
                  <a:lnTo>
                    <a:pt x="605" y="90"/>
                  </a:lnTo>
                  <a:lnTo>
                    <a:pt x="611" y="97"/>
                  </a:lnTo>
                  <a:lnTo>
                    <a:pt x="618" y="101"/>
                  </a:lnTo>
                  <a:lnTo>
                    <a:pt x="625" y="104"/>
                  </a:lnTo>
                  <a:lnTo>
                    <a:pt x="633" y="105"/>
                  </a:lnTo>
                  <a:lnTo>
                    <a:pt x="637" y="98"/>
                  </a:lnTo>
                  <a:lnTo>
                    <a:pt x="641" y="91"/>
                  </a:lnTo>
                  <a:lnTo>
                    <a:pt x="645" y="84"/>
                  </a:lnTo>
                  <a:lnTo>
                    <a:pt x="650" y="77"/>
                  </a:lnTo>
                  <a:lnTo>
                    <a:pt x="653" y="71"/>
                  </a:lnTo>
                  <a:lnTo>
                    <a:pt x="658" y="65"/>
                  </a:lnTo>
                  <a:lnTo>
                    <a:pt x="661" y="59"/>
                  </a:lnTo>
                  <a:lnTo>
                    <a:pt x="665" y="55"/>
                  </a:lnTo>
                  <a:lnTo>
                    <a:pt x="669" y="49"/>
                  </a:lnTo>
                  <a:lnTo>
                    <a:pt x="674" y="46"/>
                  </a:lnTo>
                  <a:lnTo>
                    <a:pt x="680" y="42"/>
                  </a:lnTo>
                  <a:lnTo>
                    <a:pt x="687" y="40"/>
                  </a:lnTo>
                  <a:lnTo>
                    <a:pt x="695" y="39"/>
                  </a:lnTo>
                  <a:lnTo>
                    <a:pt x="702" y="40"/>
                  </a:lnTo>
                  <a:lnTo>
                    <a:pt x="711" y="41"/>
                  </a:lnTo>
                  <a:lnTo>
                    <a:pt x="720" y="43"/>
                  </a:lnTo>
                  <a:lnTo>
                    <a:pt x="729" y="46"/>
                  </a:lnTo>
                  <a:lnTo>
                    <a:pt x="737" y="49"/>
                  </a:lnTo>
                  <a:lnTo>
                    <a:pt x="742" y="53"/>
                  </a:lnTo>
                  <a:lnTo>
                    <a:pt x="748" y="56"/>
                  </a:lnTo>
                  <a:lnTo>
                    <a:pt x="753" y="61"/>
                  </a:lnTo>
                  <a:lnTo>
                    <a:pt x="758" y="64"/>
                  </a:lnTo>
                  <a:lnTo>
                    <a:pt x="760" y="69"/>
                  </a:lnTo>
                  <a:lnTo>
                    <a:pt x="762" y="72"/>
                  </a:lnTo>
                  <a:lnTo>
                    <a:pt x="763" y="77"/>
                  </a:lnTo>
                  <a:lnTo>
                    <a:pt x="765" y="80"/>
                  </a:lnTo>
                  <a:lnTo>
                    <a:pt x="767" y="85"/>
                  </a:lnTo>
                  <a:lnTo>
                    <a:pt x="768" y="90"/>
                  </a:lnTo>
                  <a:lnTo>
                    <a:pt x="770" y="94"/>
                  </a:lnTo>
                  <a:lnTo>
                    <a:pt x="772" y="98"/>
                  </a:lnTo>
                  <a:lnTo>
                    <a:pt x="774" y="101"/>
                  </a:lnTo>
                  <a:lnTo>
                    <a:pt x="775" y="105"/>
                  </a:lnTo>
                  <a:lnTo>
                    <a:pt x="777" y="113"/>
                  </a:lnTo>
                  <a:lnTo>
                    <a:pt x="781" y="120"/>
                  </a:lnTo>
                  <a:lnTo>
                    <a:pt x="783" y="126"/>
                  </a:lnTo>
                  <a:lnTo>
                    <a:pt x="787" y="132"/>
                  </a:lnTo>
                  <a:lnTo>
                    <a:pt x="789" y="135"/>
                  </a:lnTo>
                  <a:lnTo>
                    <a:pt x="792" y="140"/>
                  </a:lnTo>
                  <a:lnTo>
                    <a:pt x="796" y="142"/>
                  </a:lnTo>
                  <a:lnTo>
                    <a:pt x="799" y="144"/>
                  </a:lnTo>
                  <a:lnTo>
                    <a:pt x="804" y="148"/>
                  </a:lnTo>
                  <a:lnTo>
                    <a:pt x="811" y="153"/>
                  </a:lnTo>
                  <a:lnTo>
                    <a:pt x="818" y="161"/>
                  </a:lnTo>
                  <a:lnTo>
                    <a:pt x="826" y="170"/>
                  </a:lnTo>
                  <a:lnTo>
                    <a:pt x="831" y="178"/>
                  </a:lnTo>
                  <a:lnTo>
                    <a:pt x="835" y="185"/>
                  </a:lnTo>
                  <a:lnTo>
                    <a:pt x="840" y="193"/>
                  </a:lnTo>
                  <a:lnTo>
                    <a:pt x="844" y="199"/>
                  </a:lnTo>
                  <a:lnTo>
                    <a:pt x="847" y="206"/>
                  </a:lnTo>
                  <a:lnTo>
                    <a:pt x="849" y="212"/>
                  </a:lnTo>
                  <a:lnTo>
                    <a:pt x="852" y="216"/>
                  </a:lnTo>
                  <a:lnTo>
                    <a:pt x="854" y="221"/>
                  </a:lnTo>
                  <a:lnTo>
                    <a:pt x="856" y="227"/>
                  </a:lnTo>
                  <a:lnTo>
                    <a:pt x="859" y="235"/>
                  </a:lnTo>
                  <a:lnTo>
                    <a:pt x="860" y="244"/>
                  </a:lnTo>
                  <a:lnTo>
                    <a:pt x="861" y="254"/>
                  </a:lnTo>
                  <a:lnTo>
                    <a:pt x="861" y="265"/>
                  </a:lnTo>
                  <a:lnTo>
                    <a:pt x="861" y="278"/>
                  </a:lnTo>
                  <a:lnTo>
                    <a:pt x="860" y="291"/>
                  </a:lnTo>
                  <a:lnTo>
                    <a:pt x="858" y="306"/>
                  </a:lnTo>
                  <a:lnTo>
                    <a:pt x="861" y="315"/>
                  </a:lnTo>
                  <a:lnTo>
                    <a:pt x="866" y="323"/>
                  </a:lnTo>
                  <a:lnTo>
                    <a:pt x="873" y="328"/>
                  </a:lnTo>
                  <a:lnTo>
                    <a:pt x="880" y="332"/>
                  </a:lnTo>
                  <a:lnTo>
                    <a:pt x="888" y="335"/>
                  </a:lnTo>
                  <a:lnTo>
                    <a:pt x="895" y="340"/>
                  </a:lnTo>
                  <a:lnTo>
                    <a:pt x="902" y="346"/>
                  </a:lnTo>
                  <a:lnTo>
                    <a:pt x="909" y="351"/>
                  </a:lnTo>
                  <a:lnTo>
                    <a:pt x="912" y="357"/>
                  </a:lnTo>
                  <a:lnTo>
                    <a:pt x="915" y="362"/>
                  </a:lnTo>
                  <a:lnTo>
                    <a:pt x="915" y="365"/>
                  </a:lnTo>
                  <a:lnTo>
                    <a:pt x="913" y="369"/>
                  </a:lnTo>
                  <a:lnTo>
                    <a:pt x="904" y="366"/>
                  </a:lnTo>
                  <a:lnTo>
                    <a:pt x="895" y="363"/>
                  </a:lnTo>
                  <a:lnTo>
                    <a:pt x="887" y="361"/>
                  </a:lnTo>
                  <a:lnTo>
                    <a:pt x="877" y="356"/>
                  </a:lnTo>
                  <a:lnTo>
                    <a:pt x="869" y="353"/>
                  </a:lnTo>
                  <a:lnTo>
                    <a:pt x="861" y="348"/>
                  </a:lnTo>
                  <a:lnTo>
                    <a:pt x="853" y="343"/>
                  </a:lnTo>
                  <a:lnTo>
                    <a:pt x="845" y="337"/>
                  </a:lnTo>
                  <a:lnTo>
                    <a:pt x="842" y="342"/>
                  </a:lnTo>
                  <a:lnTo>
                    <a:pt x="840" y="349"/>
                  </a:lnTo>
                  <a:lnTo>
                    <a:pt x="838" y="356"/>
                  </a:lnTo>
                  <a:lnTo>
                    <a:pt x="835" y="364"/>
                  </a:lnTo>
                  <a:lnTo>
                    <a:pt x="832" y="375"/>
                  </a:lnTo>
                  <a:lnTo>
                    <a:pt x="830" y="385"/>
                  </a:lnTo>
                  <a:lnTo>
                    <a:pt x="826" y="396"/>
                  </a:lnTo>
                  <a:lnTo>
                    <a:pt x="823" y="408"/>
                  </a:lnTo>
                  <a:lnTo>
                    <a:pt x="819" y="420"/>
                  </a:lnTo>
                  <a:lnTo>
                    <a:pt x="817" y="430"/>
                  </a:lnTo>
                  <a:lnTo>
                    <a:pt x="816" y="442"/>
                  </a:lnTo>
                  <a:lnTo>
                    <a:pt x="816" y="451"/>
                  </a:lnTo>
                  <a:lnTo>
                    <a:pt x="816" y="461"/>
                  </a:lnTo>
                  <a:lnTo>
                    <a:pt x="817" y="470"/>
                  </a:lnTo>
                  <a:lnTo>
                    <a:pt x="818" y="478"/>
                  </a:lnTo>
                  <a:lnTo>
                    <a:pt x="820" y="486"/>
                  </a:lnTo>
                  <a:lnTo>
                    <a:pt x="822" y="492"/>
                  </a:lnTo>
                  <a:lnTo>
                    <a:pt x="823" y="499"/>
                  </a:lnTo>
                  <a:lnTo>
                    <a:pt x="823" y="506"/>
                  </a:lnTo>
                  <a:lnTo>
                    <a:pt x="823" y="514"/>
                  </a:lnTo>
                  <a:lnTo>
                    <a:pt x="822" y="519"/>
                  </a:lnTo>
                  <a:lnTo>
                    <a:pt x="822" y="525"/>
                  </a:lnTo>
                  <a:lnTo>
                    <a:pt x="820" y="529"/>
                  </a:lnTo>
                  <a:lnTo>
                    <a:pt x="820" y="533"/>
                  </a:lnTo>
                  <a:lnTo>
                    <a:pt x="819" y="537"/>
                  </a:lnTo>
                  <a:lnTo>
                    <a:pt x="819" y="541"/>
                  </a:lnTo>
                  <a:lnTo>
                    <a:pt x="818" y="543"/>
                  </a:lnTo>
                  <a:lnTo>
                    <a:pt x="818" y="546"/>
                  </a:lnTo>
                  <a:lnTo>
                    <a:pt x="817" y="553"/>
                  </a:lnTo>
                  <a:lnTo>
                    <a:pt x="817" y="561"/>
                  </a:lnTo>
                  <a:lnTo>
                    <a:pt x="817" y="569"/>
                  </a:lnTo>
                  <a:lnTo>
                    <a:pt x="816" y="577"/>
                  </a:lnTo>
                  <a:lnTo>
                    <a:pt x="816" y="585"/>
                  </a:lnTo>
                  <a:lnTo>
                    <a:pt x="816" y="593"/>
                  </a:lnTo>
                  <a:lnTo>
                    <a:pt x="817" y="603"/>
                  </a:lnTo>
                  <a:lnTo>
                    <a:pt x="817" y="611"/>
                  </a:lnTo>
                  <a:lnTo>
                    <a:pt x="818" y="621"/>
                  </a:lnTo>
                  <a:lnTo>
                    <a:pt x="818" y="630"/>
                  </a:lnTo>
                  <a:lnTo>
                    <a:pt x="819" y="640"/>
                  </a:lnTo>
                  <a:lnTo>
                    <a:pt x="820" y="649"/>
                  </a:lnTo>
                  <a:lnTo>
                    <a:pt x="822" y="657"/>
                  </a:lnTo>
                  <a:lnTo>
                    <a:pt x="822" y="664"/>
                  </a:lnTo>
                  <a:lnTo>
                    <a:pt x="823" y="671"/>
                  </a:lnTo>
                  <a:lnTo>
                    <a:pt x="823" y="678"/>
                  </a:lnTo>
                  <a:lnTo>
                    <a:pt x="827" y="685"/>
                  </a:lnTo>
                  <a:lnTo>
                    <a:pt x="830" y="690"/>
                  </a:lnTo>
                  <a:lnTo>
                    <a:pt x="832" y="694"/>
                  </a:lnTo>
                  <a:lnTo>
                    <a:pt x="832" y="697"/>
                  </a:lnTo>
                  <a:lnTo>
                    <a:pt x="831" y="701"/>
                  </a:lnTo>
                  <a:lnTo>
                    <a:pt x="827" y="706"/>
                  </a:lnTo>
                  <a:lnTo>
                    <a:pt x="824" y="710"/>
                  </a:lnTo>
                  <a:lnTo>
                    <a:pt x="818" y="712"/>
                  </a:lnTo>
                  <a:lnTo>
                    <a:pt x="810" y="713"/>
                  </a:lnTo>
                  <a:lnTo>
                    <a:pt x="801" y="713"/>
                  </a:lnTo>
                  <a:lnTo>
                    <a:pt x="790" y="713"/>
                  </a:lnTo>
                  <a:lnTo>
                    <a:pt x="779" y="712"/>
                  </a:lnTo>
                  <a:lnTo>
                    <a:pt x="773" y="711"/>
                  </a:lnTo>
                  <a:lnTo>
                    <a:pt x="770" y="710"/>
                  </a:lnTo>
                  <a:lnTo>
                    <a:pt x="770" y="706"/>
                  </a:lnTo>
                  <a:lnTo>
                    <a:pt x="774" y="703"/>
                  </a:lnTo>
                  <a:lnTo>
                    <a:pt x="766" y="704"/>
                  </a:lnTo>
                  <a:lnTo>
                    <a:pt x="760" y="703"/>
                  </a:lnTo>
                  <a:lnTo>
                    <a:pt x="756" y="700"/>
                  </a:lnTo>
                  <a:lnTo>
                    <a:pt x="755" y="696"/>
                  </a:lnTo>
                  <a:lnTo>
                    <a:pt x="756" y="693"/>
                  </a:lnTo>
                  <a:lnTo>
                    <a:pt x="758" y="690"/>
                  </a:lnTo>
                  <a:lnTo>
                    <a:pt x="761" y="687"/>
                  </a:lnTo>
                  <a:lnTo>
                    <a:pt x="765" y="685"/>
                  </a:lnTo>
                  <a:lnTo>
                    <a:pt x="770" y="682"/>
                  </a:lnTo>
                  <a:lnTo>
                    <a:pt x="777" y="677"/>
                  </a:lnTo>
                  <a:lnTo>
                    <a:pt x="784" y="672"/>
                  </a:lnTo>
                  <a:lnTo>
                    <a:pt x="791" y="665"/>
                  </a:lnTo>
                  <a:lnTo>
                    <a:pt x="792" y="663"/>
                  </a:lnTo>
                  <a:lnTo>
                    <a:pt x="794" y="658"/>
                  </a:lnTo>
                  <a:lnTo>
                    <a:pt x="794" y="653"/>
                  </a:lnTo>
                  <a:lnTo>
                    <a:pt x="795" y="647"/>
                  </a:lnTo>
                  <a:lnTo>
                    <a:pt x="795" y="639"/>
                  </a:lnTo>
                  <a:lnTo>
                    <a:pt x="795" y="630"/>
                  </a:lnTo>
                  <a:lnTo>
                    <a:pt x="795" y="620"/>
                  </a:lnTo>
                  <a:lnTo>
                    <a:pt x="794" y="610"/>
                  </a:lnTo>
                  <a:lnTo>
                    <a:pt x="792" y="597"/>
                  </a:lnTo>
                  <a:lnTo>
                    <a:pt x="791" y="585"/>
                  </a:lnTo>
                  <a:lnTo>
                    <a:pt x="790" y="575"/>
                  </a:lnTo>
                  <a:lnTo>
                    <a:pt x="789" y="565"/>
                  </a:lnTo>
                  <a:lnTo>
                    <a:pt x="789" y="557"/>
                  </a:lnTo>
                  <a:lnTo>
                    <a:pt x="788" y="550"/>
                  </a:lnTo>
                  <a:lnTo>
                    <a:pt x="788" y="544"/>
                  </a:lnTo>
                  <a:lnTo>
                    <a:pt x="788" y="540"/>
                  </a:lnTo>
                  <a:lnTo>
                    <a:pt x="786" y="536"/>
                  </a:lnTo>
                  <a:lnTo>
                    <a:pt x="782" y="532"/>
                  </a:lnTo>
                  <a:lnTo>
                    <a:pt x="780" y="525"/>
                  </a:lnTo>
                  <a:lnTo>
                    <a:pt x="777" y="516"/>
                  </a:lnTo>
                  <a:lnTo>
                    <a:pt x="776" y="508"/>
                  </a:lnTo>
                  <a:lnTo>
                    <a:pt x="776" y="500"/>
                  </a:lnTo>
                  <a:lnTo>
                    <a:pt x="777" y="494"/>
                  </a:lnTo>
                  <a:lnTo>
                    <a:pt x="781" y="489"/>
                  </a:lnTo>
                  <a:lnTo>
                    <a:pt x="781" y="480"/>
                  </a:lnTo>
                  <a:lnTo>
                    <a:pt x="780" y="472"/>
                  </a:lnTo>
                  <a:lnTo>
                    <a:pt x="777" y="464"/>
                  </a:lnTo>
                  <a:lnTo>
                    <a:pt x="775" y="456"/>
                  </a:lnTo>
                  <a:lnTo>
                    <a:pt x="772" y="449"/>
                  </a:lnTo>
                  <a:lnTo>
                    <a:pt x="768" y="441"/>
                  </a:lnTo>
                  <a:lnTo>
                    <a:pt x="763" y="433"/>
                  </a:lnTo>
                  <a:lnTo>
                    <a:pt x="758" y="426"/>
                  </a:lnTo>
                  <a:lnTo>
                    <a:pt x="753" y="419"/>
                  </a:lnTo>
                  <a:lnTo>
                    <a:pt x="748" y="411"/>
                  </a:lnTo>
                  <a:lnTo>
                    <a:pt x="746" y="404"/>
                  </a:lnTo>
                  <a:lnTo>
                    <a:pt x="744" y="396"/>
                  </a:lnTo>
                  <a:lnTo>
                    <a:pt x="742" y="387"/>
                  </a:lnTo>
                  <a:lnTo>
                    <a:pt x="742" y="379"/>
                  </a:lnTo>
                  <a:lnTo>
                    <a:pt x="744" y="370"/>
                  </a:lnTo>
                  <a:lnTo>
                    <a:pt x="746" y="362"/>
                  </a:lnTo>
                  <a:lnTo>
                    <a:pt x="745" y="358"/>
                  </a:lnTo>
                  <a:lnTo>
                    <a:pt x="742" y="355"/>
                  </a:lnTo>
                  <a:lnTo>
                    <a:pt x="739" y="354"/>
                  </a:lnTo>
                  <a:lnTo>
                    <a:pt x="734" y="353"/>
                  </a:lnTo>
                  <a:lnTo>
                    <a:pt x="730" y="354"/>
                  </a:lnTo>
                  <a:lnTo>
                    <a:pt x="727" y="355"/>
                  </a:lnTo>
                  <a:lnTo>
                    <a:pt x="725" y="358"/>
                  </a:lnTo>
                  <a:lnTo>
                    <a:pt x="724" y="364"/>
                  </a:lnTo>
                  <a:lnTo>
                    <a:pt x="719" y="375"/>
                  </a:lnTo>
                  <a:lnTo>
                    <a:pt x="716" y="384"/>
                  </a:lnTo>
                  <a:lnTo>
                    <a:pt x="712" y="393"/>
                  </a:lnTo>
                  <a:lnTo>
                    <a:pt x="708" y="401"/>
                  </a:lnTo>
                  <a:lnTo>
                    <a:pt x="704" y="411"/>
                  </a:lnTo>
                  <a:lnTo>
                    <a:pt x="701" y="418"/>
                  </a:lnTo>
                  <a:lnTo>
                    <a:pt x="698" y="426"/>
                  </a:lnTo>
                  <a:lnTo>
                    <a:pt x="695" y="433"/>
                  </a:lnTo>
                  <a:lnTo>
                    <a:pt x="690" y="442"/>
                  </a:lnTo>
                  <a:lnTo>
                    <a:pt x="687" y="450"/>
                  </a:lnTo>
                  <a:lnTo>
                    <a:pt x="683" y="460"/>
                  </a:lnTo>
                  <a:lnTo>
                    <a:pt x="681" y="469"/>
                  </a:lnTo>
                  <a:lnTo>
                    <a:pt x="677" y="477"/>
                  </a:lnTo>
                  <a:lnTo>
                    <a:pt x="675" y="486"/>
                  </a:lnTo>
                  <a:lnTo>
                    <a:pt x="674" y="496"/>
                  </a:lnTo>
                  <a:lnTo>
                    <a:pt x="673" y="505"/>
                  </a:lnTo>
                  <a:lnTo>
                    <a:pt x="672" y="512"/>
                  </a:lnTo>
                  <a:lnTo>
                    <a:pt x="669" y="520"/>
                  </a:lnTo>
                  <a:lnTo>
                    <a:pt x="667" y="527"/>
                  </a:lnTo>
                  <a:lnTo>
                    <a:pt x="665" y="535"/>
                  </a:lnTo>
                  <a:lnTo>
                    <a:pt x="660" y="542"/>
                  </a:lnTo>
                  <a:lnTo>
                    <a:pt x="656" y="550"/>
                  </a:lnTo>
                  <a:lnTo>
                    <a:pt x="652" y="557"/>
                  </a:lnTo>
                  <a:lnTo>
                    <a:pt x="646" y="564"/>
                  </a:lnTo>
                  <a:lnTo>
                    <a:pt x="641" y="571"/>
                  </a:lnTo>
                  <a:lnTo>
                    <a:pt x="637" y="577"/>
                  </a:lnTo>
                  <a:lnTo>
                    <a:pt x="632" y="584"/>
                  </a:lnTo>
                  <a:lnTo>
                    <a:pt x="627" y="591"/>
                  </a:lnTo>
                  <a:lnTo>
                    <a:pt x="624" y="598"/>
                  </a:lnTo>
                  <a:lnTo>
                    <a:pt x="620" y="605"/>
                  </a:lnTo>
                  <a:lnTo>
                    <a:pt x="617" y="613"/>
                  </a:lnTo>
                  <a:lnTo>
                    <a:pt x="615" y="620"/>
                  </a:lnTo>
                  <a:lnTo>
                    <a:pt x="612" y="630"/>
                  </a:lnTo>
                  <a:lnTo>
                    <a:pt x="610" y="639"/>
                  </a:lnTo>
                  <a:lnTo>
                    <a:pt x="606" y="647"/>
                  </a:lnTo>
                  <a:lnTo>
                    <a:pt x="604" y="653"/>
                  </a:lnTo>
                  <a:lnTo>
                    <a:pt x="601" y="657"/>
                  </a:lnTo>
                  <a:lnTo>
                    <a:pt x="597" y="660"/>
                  </a:lnTo>
                  <a:lnTo>
                    <a:pt x="593" y="662"/>
                  </a:lnTo>
                  <a:lnTo>
                    <a:pt x="589" y="662"/>
                  </a:lnTo>
                  <a:lnTo>
                    <a:pt x="590" y="663"/>
                  </a:lnTo>
                  <a:lnTo>
                    <a:pt x="593" y="665"/>
                  </a:lnTo>
                  <a:lnTo>
                    <a:pt x="594" y="667"/>
                  </a:lnTo>
                  <a:lnTo>
                    <a:pt x="595" y="668"/>
                  </a:lnTo>
                  <a:lnTo>
                    <a:pt x="595" y="671"/>
                  </a:lnTo>
                  <a:lnTo>
                    <a:pt x="594" y="675"/>
                  </a:lnTo>
                  <a:lnTo>
                    <a:pt x="594" y="677"/>
                  </a:lnTo>
                  <a:lnTo>
                    <a:pt x="593" y="678"/>
                  </a:lnTo>
                  <a:lnTo>
                    <a:pt x="588" y="680"/>
                  </a:lnTo>
                  <a:lnTo>
                    <a:pt x="583" y="683"/>
                  </a:lnTo>
                  <a:lnTo>
                    <a:pt x="577" y="684"/>
                  </a:lnTo>
                  <a:lnTo>
                    <a:pt x="570" y="685"/>
                  </a:lnTo>
                  <a:lnTo>
                    <a:pt x="565" y="685"/>
                  </a:lnTo>
                  <a:lnTo>
                    <a:pt x="557" y="685"/>
                  </a:lnTo>
                  <a:lnTo>
                    <a:pt x="550" y="685"/>
                  </a:lnTo>
                  <a:lnTo>
                    <a:pt x="541" y="684"/>
                  </a:lnTo>
                  <a:lnTo>
                    <a:pt x="541" y="686"/>
                  </a:lnTo>
                  <a:lnTo>
                    <a:pt x="543" y="687"/>
                  </a:lnTo>
                  <a:lnTo>
                    <a:pt x="545" y="690"/>
                  </a:lnTo>
                  <a:lnTo>
                    <a:pt x="547" y="692"/>
                  </a:lnTo>
                  <a:lnTo>
                    <a:pt x="550" y="694"/>
                  </a:lnTo>
                  <a:lnTo>
                    <a:pt x="551" y="697"/>
                  </a:lnTo>
                  <a:lnTo>
                    <a:pt x="551" y="699"/>
                  </a:lnTo>
                  <a:lnTo>
                    <a:pt x="551" y="701"/>
                  </a:lnTo>
                  <a:lnTo>
                    <a:pt x="544" y="707"/>
                  </a:lnTo>
                  <a:lnTo>
                    <a:pt x="537" y="712"/>
                  </a:lnTo>
                  <a:lnTo>
                    <a:pt x="530" y="715"/>
                  </a:lnTo>
                  <a:lnTo>
                    <a:pt x="522" y="717"/>
                  </a:lnTo>
                  <a:lnTo>
                    <a:pt x="513" y="717"/>
                  </a:lnTo>
                  <a:lnTo>
                    <a:pt x="505" y="717"/>
                  </a:lnTo>
                  <a:lnTo>
                    <a:pt x="497" y="718"/>
                  </a:lnTo>
                  <a:lnTo>
                    <a:pt x="490" y="718"/>
                  </a:lnTo>
                  <a:lnTo>
                    <a:pt x="484" y="717"/>
                  </a:lnTo>
                  <a:lnTo>
                    <a:pt x="482" y="715"/>
                  </a:lnTo>
                  <a:lnTo>
                    <a:pt x="482" y="712"/>
                  </a:lnTo>
                  <a:lnTo>
                    <a:pt x="484" y="708"/>
                  </a:lnTo>
                  <a:lnTo>
                    <a:pt x="477" y="708"/>
                  </a:lnTo>
                  <a:lnTo>
                    <a:pt x="473" y="708"/>
                  </a:lnTo>
                  <a:lnTo>
                    <a:pt x="468" y="707"/>
                  </a:lnTo>
                  <a:lnTo>
                    <a:pt x="465" y="706"/>
                  </a:lnTo>
                  <a:lnTo>
                    <a:pt x="464" y="705"/>
                  </a:lnTo>
                  <a:lnTo>
                    <a:pt x="464" y="704"/>
                  </a:lnTo>
                  <a:lnTo>
                    <a:pt x="464" y="701"/>
                  </a:lnTo>
                  <a:lnTo>
                    <a:pt x="465" y="698"/>
                  </a:lnTo>
                  <a:lnTo>
                    <a:pt x="469" y="693"/>
                  </a:lnTo>
                  <a:lnTo>
                    <a:pt x="474" y="690"/>
                  </a:lnTo>
                  <a:lnTo>
                    <a:pt x="477" y="687"/>
                  </a:lnTo>
                  <a:lnTo>
                    <a:pt x="482" y="685"/>
                  </a:lnTo>
                  <a:lnTo>
                    <a:pt x="487" y="683"/>
                  </a:lnTo>
                  <a:lnTo>
                    <a:pt x="491" y="682"/>
                  </a:lnTo>
                  <a:lnTo>
                    <a:pt x="495" y="680"/>
                  </a:lnTo>
                  <a:lnTo>
                    <a:pt x="500" y="680"/>
                  </a:lnTo>
                  <a:lnTo>
                    <a:pt x="498" y="677"/>
                  </a:lnTo>
                  <a:lnTo>
                    <a:pt x="498" y="675"/>
                  </a:lnTo>
                  <a:lnTo>
                    <a:pt x="501" y="672"/>
                  </a:lnTo>
                  <a:lnTo>
                    <a:pt x="504" y="671"/>
                  </a:lnTo>
                  <a:lnTo>
                    <a:pt x="505" y="658"/>
                  </a:lnTo>
                  <a:lnTo>
                    <a:pt x="507" y="646"/>
                  </a:lnTo>
                  <a:lnTo>
                    <a:pt x="508" y="632"/>
                  </a:lnTo>
                  <a:lnTo>
                    <a:pt x="509" y="618"/>
                  </a:lnTo>
                  <a:lnTo>
                    <a:pt x="509" y="605"/>
                  </a:lnTo>
                  <a:lnTo>
                    <a:pt x="509" y="591"/>
                  </a:lnTo>
                  <a:lnTo>
                    <a:pt x="508" y="576"/>
                  </a:lnTo>
                  <a:lnTo>
                    <a:pt x="507" y="562"/>
                  </a:lnTo>
                  <a:lnTo>
                    <a:pt x="501" y="555"/>
                  </a:lnTo>
                  <a:lnTo>
                    <a:pt x="496" y="548"/>
                  </a:lnTo>
                  <a:lnTo>
                    <a:pt x="494" y="541"/>
                  </a:lnTo>
                  <a:lnTo>
                    <a:pt x="493" y="534"/>
                  </a:lnTo>
                  <a:lnTo>
                    <a:pt x="493" y="526"/>
                  </a:lnTo>
                  <a:lnTo>
                    <a:pt x="491" y="518"/>
                  </a:lnTo>
                  <a:lnTo>
                    <a:pt x="489" y="510"/>
                  </a:lnTo>
                  <a:lnTo>
                    <a:pt x="487" y="503"/>
                  </a:lnTo>
                  <a:lnTo>
                    <a:pt x="482" y="496"/>
                  </a:lnTo>
                  <a:lnTo>
                    <a:pt x="479" y="489"/>
                  </a:lnTo>
                  <a:lnTo>
                    <a:pt x="475" y="482"/>
                  </a:lnTo>
                  <a:lnTo>
                    <a:pt x="472" y="476"/>
                  </a:lnTo>
                  <a:lnTo>
                    <a:pt x="468" y="471"/>
                  </a:lnTo>
                  <a:lnTo>
                    <a:pt x="466" y="465"/>
                  </a:lnTo>
                  <a:lnTo>
                    <a:pt x="464" y="461"/>
                  </a:lnTo>
                  <a:lnTo>
                    <a:pt x="461" y="457"/>
                  </a:lnTo>
                  <a:lnTo>
                    <a:pt x="458" y="453"/>
                  </a:lnTo>
                  <a:lnTo>
                    <a:pt x="454" y="447"/>
                  </a:lnTo>
                  <a:lnTo>
                    <a:pt x="451" y="441"/>
                  </a:lnTo>
                  <a:lnTo>
                    <a:pt x="447" y="434"/>
                  </a:lnTo>
                  <a:lnTo>
                    <a:pt x="444" y="427"/>
                  </a:lnTo>
                  <a:lnTo>
                    <a:pt x="440" y="419"/>
                  </a:lnTo>
                  <a:lnTo>
                    <a:pt x="437" y="410"/>
                  </a:lnTo>
                  <a:lnTo>
                    <a:pt x="433" y="400"/>
                  </a:lnTo>
                  <a:lnTo>
                    <a:pt x="426" y="391"/>
                  </a:lnTo>
                  <a:lnTo>
                    <a:pt x="421" y="387"/>
                  </a:lnTo>
                  <a:lnTo>
                    <a:pt x="415" y="390"/>
                  </a:lnTo>
                  <a:lnTo>
                    <a:pt x="409" y="397"/>
                  </a:lnTo>
                  <a:lnTo>
                    <a:pt x="404" y="404"/>
                  </a:lnTo>
                  <a:lnTo>
                    <a:pt x="400" y="412"/>
                  </a:lnTo>
                  <a:lnTo>
                    <a:pt x="395" y="419"/>
                  </a:lnTo>
                  <a:lnTo>
                    <a:pt x="391" y="427"/>
                  </a:lnTo>
                  <a:lnTo>
                    <a:pt x="388" y="434"/>
                  </a:lnTo>
                  <a:lnTo>
                    <a:pt x="386" y="441"/>
                  </a:lnTo>
                  <a:lnTo>
                    <a:pt x="383" y="448"/>
                  </a:lnTo>
                  <a:lnTo>
                    <a:pt x="382" y="455"/>
                  </a:lnTo>
                  <a:lnTo>
                    <a:pt x="380" y="464"/>
                  </a:lnTo>
                  <a:lnTo>
                    <a:pt x="376" y="472"/>
                  </a:lnTo>
                  <a:lnTo>
                    <a:pt x="373" y="480"/>
                  </a:lnTo>
                  <a:lnTo>
                    <a:pt x="369" y="489"/>
                  </a:lnTo>
                  <a:lnTo>
                    <a:pt x="366" y="494"/>
                  </a:lnTo>
                  <a:lnTo>
                    <a:pt x="362" y="501"/>
                  </a:lnTo>
                  <a:lnTo>
                    <a:pt x="358" y="507"/>
                  </a:lnTo>
                  <a:lnTo>
                    <a:pt x="353" y="512"/>
                  </a:lnTo>
                  <a:lnTo>
                    <a:pt x="353" y="519"/>
                  </a:lnTo>
                  <a:lnTo>
                    <a:pt x="353" y="526"/>
                  </a:lnTo>
                  <a:lnTo>
                    <a:pt x="352" y="534"/>
                  </a:lnTo>
                  <a:lnTo>
                    <a:pt x="350" y="541"/>
                  </a:lnTo>
                  <a:lnTo>
                    <a:pt x="346" y="547"/>
                  </a:lnTo>
                  <a:lnTo>
                    <a:pt x="343" y="551"/>
                  </a:lnTo>
                  <a:lnTo>
                    <a:pt x="339" y="555"/>
                  </a:lnTo>
                  <a:lnTo>
                    <a:pt x="336" y="556"/>
                  </a:lnTo>
                  <a:lnTo>
                    <a:pt x="333" y="562"/>
                  </a:lnTo>
                  <a:lnTo>
                    <a:pt x="332" y="568"/>
                  </a:lnTo>
                  <a:lnTo>
                    <a:pt x="330" y="573"/>
                  </a:lnTo>
                  <a:lnTo>
                    <a:pt x="328" y="579"/>
                  </a:lnTo>
                  <a:lnTo>
                    <a:pt x="326" y="582"/>
                  </a:lnTo>
                  <a:lnTo>
                    <a:pt x="325" y="585"/>
                  </a:lnTo>
                  <a:lnTo>
                    <a:pt x="324" y="587"/>
                  </a:lnTo>
                  <a:lnTo>
                    <a:pt x="323" y="590"/>
                  </a:lnTo>
                  <a:lnTo>
                    <a:pt x="322" y="593"/>
                  </a:lnTo>
                  <a:lnTo>
                    <a:pt x="321" y="597"/>
                  </a:lnTo>
                  <a:lnTo>
                    <a:pt x="319" y="599"/>
                  </a:lnTo>
                  <a:lnTo>
                    <a:pt x="318" y="601"/>
                  </a:lnTo>
                  <a:lnTo>
                    <a:pt x="318" y="604"/>
                  </a:lnTo>
                  <a:lnTo>
                    <a:pt x="317" y="607"/>
                  </a:lnTo>
                  <a:lnTo>
                    <a:pt x="316" y="611"/>
                  </a:lnTo>
                  <a:lnTo>
                    <a:pt x="315" y="614"/>
                  </a:lnTo>
                  <a:lnTo>
                    <a:pt x="314" y="619"/>
                  </a:lnTo>
                  <a:lnTo>
                    <a:pt x="311" y="623"/>
                  </a:lnTo>
                  <a:lnTo>
                    <a:pt x="310" y="629"/>
                  </a:lnTo>
                  <a:lnTo>
                    <a:pt x="308" y="635"/>
                  </a:lnTo>
                  <a:lnTo>
                    <a:pt x="304" y="647"/>
                  </a:lnTo>
                  <a:lnTo>
                    <a:pt x="301" y="655"/>
                  </a:lnTo>
                  <a:lnTo>
                    <a:pt x="298" y="661"/>
                  </a:lnTo>
                  <a:lnTo>
                    <a:pt x="296" y="662"/>
                  </a:lnTo>
                  <a:lnTo>
                    <a:pt x="297" y="664"/>
                  </a:lnTo>
                  <a:lnTo>
                    <a:pt x="298" y="667"/>
                  </a:lnTo>
                  <a:lnTo>
                    <a:pt x="300" y="670"/>
                  </a:lnTo>
                  <a:lnTo>
                    <a:pt x="300" y="675"/>
                  </a:lnTo>
                  <a:lnTo>
                    <a:pt x="298" y="679"/>
                  </a:lnTo>
                  <a:lnTo>
                    <a:pt x="297" y="684"/>
                  </a:lnTo>
                  <a:lnTo>
                    <a:pt x="294" y="687"/>
                  </a:lnTo>
                  <a:lnTo>
                    <a:pt x="290" y="690"/>
                  </a:lnTo>
                  <a:lnTo>
                    <a:pt x="286" y="692"/>
                  </a:lnTo>
                  <a:lnTo>
                    <a:pt x="280" y="693"/>
                  </a:lnTo>
                  <a:lnTo>
                    <a:pt x="272" y="694"/>
                  </a:lnTo>
                  <a:lnTo>
                    <a:pt x="262" y="694"/>
                  </a:lnTo>
                  <a:lnTo>
                    <a:pt x="258" y="694"/>
                  </a:lnTo>
                  <a:lnTo>
                    <a:pt x="252" y="694"/>
                  </a:lnTo>
                  <a:lnTo>
                    <a:pt x="248" y="694"/>
                  </a:lnTo>
                  <a:lnTo>
                    <a:pt x="245" y="694"/>
                  </a:lnTo>
                  <a:lnTo>
                    <a:pt x="241" y="694"/>
                  </a:lnTo>
                  <a:lnTo>
                    <a:pt x="238" y="694"/>
                  </a:lnTo>
                  <a:lnTo>
                    <a:pt x="236" y="694"/>
                  </a:lnTo>
                  <a:lnTo>
                    <a:pt x="233" y="694"/>
                  </a:lnTo>
                  <a:lnTo>
                    <a:pt x="231" y="694"/>
                  </a:lnTo>
                  <a:lnTo>
                    <a:pt x="228" y="693"/>
                  </a:lnTo>
                  <a:lnTo>
                    <a:pt x="225" y="693"/>
                  </a:lnTo>
                  <a:lnTo>
                    <a:pt x="222" y="693"/>
                  </a:lnTo>
                  <a:lnTo>
                    <a:pt x="219" y="691"/>
                  </a:lnTo>
                  <a:lnTo>
                    <a:pt x="217" y="687"/>
                  </a:lnTo>
                  <a:lnTo>
                    <a:pt x="217" y="685"/>
                  </a:lnTo>
                  <a:lnTo>
                    <a:pt x="218" y="683"/>
                  </a:lnTo>
                  <a:lnTo>
                    <a:pt x="216" y="684"/>
                  </a:lnTo>
                  <a:lnTo>
                    <a:pt x="214" y="684"/>
                  </a:lnTo>
                  <a:lnTo>
                    <a:pt x="211" y="684"/>
                  </a:lnTo>
                  <a:lnTo>
                    <a:pt x="209" y="683"/>
                  </a:lnTo>
                  <a:lnTo>
                    <a:pt x="208" y="680"/>
                  </a:lnTo>
                  <a:lnTo>
                    <a:pt x="207" y="678"/>
                  </a:lnTo>
                  <a:lnTo>
                    <a:pt x="207" y="675"/>
                  </a:lnTo>
                  <a:lnTo>
                    <a:pt x="207" y="671"/>
                  </a:lnTo>
                  <a:lnTo>
                    <a:pt x="209" y="668"/>
                  </a:lnTo>
                  <a:lnTo>
                    <a:pt x="211" y="665"/>
                  </a:lnTo>
                  <a:lnTo>
                    <a:pt x="215" y="664"/>
                  </a:lnTo>
                  <a:lnTo>
                    <a:pt x="219" y="664"/>
                  </a:lnTo>
                  <a:lnTo>
                    <a:pt x="226" y="665"/>
                  </a:lnTo>
                  <a:lnTo>
                    <a:pt x="233" y="665"/>
                  </a:lnTo>
                  <a:lnTo>
                    <a:pt x="239" y="664"/>
                  </a:lnTo>
                  <a:lnTo>
                    <a:pt x="245" y="663"/>
                  </a:lnTo>
                  <a:lnTo>
                    <a:pt x="251" y="662"/>
                  </a:lnTo>
                  <a:lnTo>
                    <a:pt x="255" y="660"/>
                  </a:lnTo>
                  <a:lnTo>
                    <a:pt x="260" y="657"/>
                  </a:lnTo>
                  <a:lnTo>
                    <a:pt x="264" y="655"/>
                  </a:lnTo>
                  <a:lnTo>
                    <a:pt x="265" y="650"/>
                  </a:lnTo>
                  <a:lnTo>
                    <a:pt x="267" y="643"/>
                  </a:lnTo>
                  <a:lnTo>
                    <a:pt x="271" y="636"/>
                  </a:lnTo>
                  <a:lnTo>
                    <a:pt x="276" y="628"/>
                  </a:lnTo>
                  <a:lnTo>
                    <a:pt x="282" y="620"/>
                  </a:lnTo>
                  <a:lnTo>
                    <a:pt x="287" y="613"/>
                  </a:lnTo>
                  <a:lnTo>
                    <a:pt x="290" y="607"/>
                  </a:lnTo>
                  <a:lnTo>
                    <a:pt x="294" y="601"/>
                  </a:lnTo>
                  <a:lnTo>
                    <a:pt x="295" y="596"/>
                  </a:lnTo>
                  <a:lnTo>
                    <a:pt x="297" y="589"/>
                  </a:lnTo>
                  <a:lnTo>
                    <a:pt x="300" y="583"/>
                  </a:lnTo>
                  <a:lnTo>
                    <a:pt x="302" y="577"/>
                  </a:lnTo>
                  <a:lnTo>
                    <a:pt x="305" y="569"/>
                  </a:lnTo>
                  <a:lnTo>
                    <a:pt x="308" y="561"/>
                  </a:lnTo>
                  <a:lnTo>
                    <a:pt x="310" y="555"/>
                  </a:lnTo>
                  <a:lnTo>
                    <a:pt x="311" y="550"/>
                  </a:lnTo>
                  <a:lnTo>
                    <a:pt x="311" y="543"/>
                  </a:lnTo>
                  <a:lnTo>
                    <a:pt x="311" y="537"/>
                  </a:lnTo>
                  <a:lnTo>
                    <a:pt x="310" y="533"/>
                  </a:lnTo>
                  <a:lnTo>
                    <a:pt x="310" y="529"/>
                  </a:lnTo>
                  <a:lnTo>
                    <a:pt x="309" y="525"/>
                  </a:lnTo>
                  <a:lnTo>
                    <a:pt x="310" y="518"/>
                  </a:lnTo>
                  <a:lnTo>
                    <a:pt x="312" y="510"/>
                  </a:lnTo>
                  <a:lnTo>
                    <a:pt x="317" y="498"/>
                  </a:lnTo>
                  <a:lnTo>
                    <a:pt x="317" y="493"/>
                  </a:lnTo>
                  <a:lnTo>
                    <a:pt x="317" y="489"/>
                  </a:lnTo>
                  <a:lnTo>
                    <a:pt x="316" y="483"/>
                  </a:lnTo>
                  <a:lnTo>
                    <a:pt x="316" y="476"/>
                  </a:lnTo>
                  <a:lnTo>
                    <a:pt x="315" y="469"/>
                  </a:lnTo>
                  <a:lnTo>
                    <a:pt x="314" y="461"/>
                  </a:lnTo>
                  <a:lnTo>
                    <a:pt x="311" y="453"/>
                  </a:lnTo>
                  <a:lnTo>
                    <a:pt x="310" y="443"/>
                  </a:lnTo>
                  <a:lnTo>
                    <a:pt x="308" y="434"/>
                  </a:lnTo>
                  <a:lnTo>
                    <a:pt x="307" y="427"/>
                  </a:lnTo>
                  <a:lnTo>
                    <a:pt x="305" y="419"/>
                  </a:lnTo>
                  <a:lnTo>
                    <a:pt x="304" y="413"/>
                  </a:lnTo>
                  <a:lnTo>
                    <a:pt x="304" y="407"/>
                  </a:lnTo>
                  <a:lnTo>
                    <a:pt x="304" y="403"/>
                  </a:lnTo>
                  <a:lnTo>
                    <a:pt x="304" y="399"/>
                  </a:lnTo>
                  <a:lnTo>
                    <a:pt x="305" y="396"/>
                  </a:lnTo>
                  <a:lnTo>
                    <a:pt x="301" y="394"/>
                  </a:lnTo>
                  <a:lnTo>
                    <a:pt x="296" y="393"/>
                  </a:lnTo>
                  <a:lnTo>
                    <a:pt x="290" y="392"/>
                  </a:lnTo>
                  <a:lnTo>
                    <a:pt x="285" y="391"/>
                  </a:lnTo>
                  <a:lnTo>
                    <a:pt x="278" y="389"/>
                  </a:lnTo>
                  <a:lnTo>
                    <a:pt x="271" y="387"/>
                  </a:lnTo>
                  <a:lnTo>
                    <a:pt x="264" y="385"/>
                  </a:lnTo>
                  <a:lnTo>
                    <a:pt x="257" y="383"/>
                  </a:lnTo>
                  <a:lnTo>
                    <a:pt x="258" y="383"/>
                  </a:lnTo>
                  <a:close/>
                </a:path>
              </a:pathLst>
            </a:custGeom>
            <a:solidFill>
              <a:srgbClr val="b7a3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729480" y="2757600"/>
              <a:ext cx="47520" cy="141120"/>
            </a:xfrm>
            <a:custGeom>
              <a:avLst/>
              <a:gdLst/>
              <a:ahLst/>
              <a:rect l="l" t="t" r="r" b="b"/>
              <a:pathLst>
                <a:path w="92" h="266">
                  <a:moveTo>
                    <a:pt x="13" y="7"/>
                  </a:moveTo>
                  <a:lnTo>
                    <a:pt x="13" y="7"/>
                  </a:lnTo>
                  <a:lnTo>
                    <a:pt x="13" y="7"/>
                  </a:lnTo>
                  <a:lnTo>
                    <a:pt x="13" y="18"/>
                  </a:lnTo>
                  <a:lnTo>
                    <a:pt x="13" y="27"/>
                  </a:lnTo>
                  <a:lnTo>
                    <a:pt x="13" y="36"/>
                  </a:lnTo>
                  <a:lnTo>
                    <a:pt x="13" y="46"/>
                  </a:lnTo>
                  <a:lnTo>
                    <a:pt x="12" y="54"/>
                  </a:lnTo>
                  <a:lnTo>
                    <a:pt x="11" y="61"/>
                  </a:lnTo>
                  <a:lnTo>
                    <a:pt x="11" y="68"/>
                  </a:lnTo>
                  <a:lnTo>
                    <a:pt x="10" y="75"/>
                  </a:lnTo>
                  <a:lnTo>
                    <a:pt x="10" y="75"/>
                  </a:lnTo>
                  <a:lnTo>
                    <a:pt x="9" y="82"/>
                  </a:lnTo>
                  <a:lnTo>
                    <a:pt x="7" y="89"/>
                  </a:lnTo>
                  <a:lnTo>
                    <a:pt x="6" y="95"/>
                  </a:lnTo>
                  <a:lnTo>
                    <a:pt x="6" y="100"/>
                  </a:lnTo>
                  <a:lnTo>
                    <a:pt x="6" y="106"/>
                  </a:lnTo>
                  <a:lnTo>
                    <a:pt x="7" y="112"/>
                  </a:lnTo>
                  <a:lnTo>
                    <a:pt x="9" y="118"/>
                  </a:lnTo>
                  <a:lnTo>
                    <a:pt x="10" y="122"/>
                  </a:lnTo>
                  <a:lnTo>
                    <a:pt x="10" y="122"/>
                  </a:lnTo>
                  <a:lnTo>
                    <a:pt x="11" y="128"/>
                  </a:lnTo>
                  <a:lnTo>
                    <a:pt x="12" y="134"/>
                  </a:lnTo>
                  <a:lnTo>
                    <a:pt x="12" y="140"/>
                  </a:lnTo>
                  <a:lnTo>
                    <a:pt x="12" y="146"/>
                  </a:lnTo>
                  <a:lnTo>
                    <a:pt x="11" y="152"/>
                  </a:lnTo>
                  <a:lnTo>
                    <a:pt x="10" y="159"/>
                  </a:lnTo>
                  <a:lnTo>
                    <a:pt x="7" y="164"/>
                  </a:lnTo>
                  <a:lnTo>
                    <a:pt x="5" y="171"/>
                  </a:lnTo>
                  <a:lnTo>
                    <a:pt x="5" y="171"/>
                  </a:lnTo>
                  <a:lnTo>
                    <a:pt x="4" y="175"/>
                  </a:lnTo>
                  <a:lnTo>
                    <a:pt x="4" y="178"/>
                  </a:lnTo>
                  <a:lnTo>
                    <a:pt x="3" y="182"/>
                  </a:lnTo>
                  <a:lnTo>
                    <a:pt x="2" y="186"/>
                  </a:lnTo>
                  <a:lnTo>
                    <a:pt x="2" y="192"/>
                  </a:lnTo>
                  <a:lnTo>
                    <a:pt x="0" y="198"/>
                  </a:lnTo>
                  <a:lnTo>
                    <a:pt x="0" y="204"/>
                  </a:lnTo>
                  <a:lnTo>
                    <a:pt x="0" y="211"/>
                  </a:lnTo>
                  <a:lnTo>
                    <a:pt x="0" y="211"/>
                  </a:lnTo>
                  <a:lnTo>
                    <a:pt x="0" y="217"/>
                  </a:lnTo>
                  <a:lnTo>
                    <a:pt x="2" y="223"/>
                  </a:lnTo>
                  <a:lnTo>
                    <a:pt x="3" y="229"/>
                  </a:lnTo>
                  <a:lnTo>
                    <a:pt x="4" y="235"/>
                  </a:lnTo>
                  <a:lnTo>
                    <a:pt x="5" y="242"/>
                  </a:lnTo>
                  <a:lnTo>
                    <a:pt x="7" y="249"/>
                  </a:lnTo>
                  <a:lnTo>
                    <a:pt x="10" y="257"/>
                  </a:lnTo>
                  <a:lnTo>
                    <a:pt x="12" y="266"/>
                  </a:lnTo>
                  <a:lnTo>
                    <a:pt x="12" y="266"/>
                  </a:lnTo>
                  <a:lnTo>
                    <a:pt x="17" y="264"/>
                  </a:lnTo>
                  <a:lnTo>
                    <a:pt x="23" y="262"/>
                  </a:lnTo>
                  <a:lnTo>
                    <a:pt x="28" y="257"/>
                  </a:lnTo>
                  <a:lnTo>
                    <a:pt x="36" y="252"/>
                  </a:lnTo>
                  <a:lnTo>
                    <a:pt x="36" y="252"/>
                  </a:lnTo>
                  <a:lnTo>
                    <a:pt x="41" y="248"/>
                  </a:lnTo>
                  <a:lnTo>
                    <a:pt x="45" y="243"/>
                  </a:lnTo>
                  <a:lnTo>
                    <a:pt x="49" y="239"/>
                  </a:lnTo>
                  <a:lnTo>
                    <a:pt x="54" y="233"/>
                  </a:lnTo>
                  <a:lnTo>
                    <a:pt x="57" y="226"/>
                  </a:lnTo>
                  <a:lnTo>
                    <a:pt x="61" y="219"/>
                  </a:lnTo>
                  <a:lnTo>
                    <a:pt x="64" y="211"/>
                  </a:lnTo>
                  <a:lnTo>
                    <a:pt x="68" y="203"/>
                  </a:lnTo>
                  <a:lnTo>
                    <a:pt x="68" y="203"/>
                  </a:lnTo>
                  <a:lnTo>
                    <a:pt x="71" y="195"/>
                  </a:lnTo>
                  <a:lnTo>
                    <a:pt x="74" y="186"/>
                  </a:lnTo>
                  <a:lnTo>
                    <a:pt x="76" y="178"/>
                  </a:lnTo>
                  <a:lnTo>
                    <a:pt x="78" y="171"/>
                  </a:lnTo>
                  <a:lnTo>
                    <a:pt x="81" y="164"/>
                  </a:lnTo>
                  <a:lnTo>
                    <a:pt x="83" y="157"/>
                  </a:lnTo>
                  <a:lnTo>
                    <a:pt x="84" y="152"/>
                  </a:lnTo>
                  <a:lnTo>
                    <a:pt x="86" y="146"/>
                  </a:lnTo>
                  <a:lnTo>
                    <a:pt x="86" y="146"/>
                  </a:lnTo>
                  <a:lnTo>
                    <a:pt x="88" y="139"/>
                  </a:lnTo>
                  <a:lnTo>
                    <a:pt x="89" y="132"/>
                  </a:lnTo>
                  <a:lnTo>
                    <a:pt x="90" y="125"/>
                  </a:lnTo>
                  <a:lnTo>
                    <a:pt x="91" y="117"/>
                  </a:lnTo>
                  <a:lnTo>
                    <a:pt x="91" y="109"/>
                  </a:lnTo>
                  <a:lnTo>
                    <a:pt x="91" y="100"/>
                  </a:lnTo>
                  <a:lnTo>
                    <a:pt x="91" y="91"/>
                  </a:lnTo>
                  <a:lnTo>
                    <a:pt x="90" y="83"/>
                  </a:lnTo>
                  <a:lnTo>
                    <a:pt x="90" y="83"/>
                  </a:lnTo>
                  <a:lnTo>
                    <a:pt x="90" y="77"/>
                  </a:lnTo>
                  <a:lnTo>
                    <a:pt x="89" y="71"/>
                  </a:lnTo>
                  <a:lnTo>
                    <a:pt x="89" y="67"/>
                  </a:lnTo>
                  <a:lnTo>
                    <a:pt x="89" y="61"/>
                  </a:lnTo>
                  <a:lnTo>
                    <a:pt x="90" y="56"/>
                  </a:lnTo>
                  <a:lnTo>
                    <a:pt x="90" y="50"/>
                  </a:lnTo>
                  <a:lnTo>
                    <a:pt x="90" y="46"/>
                  </a:lnTo>
                  <a:lnTo>
                    <a:pt x="91" y="41"/>
                  </a:lnTo>
                  <a:lnTo>
                    <a:pt x="91" y="41"/>
                  </a:lnTo>
                  <a:lnTo>
                    <a:pt x="92" y="36"/>
                  </a:lnTo>
                  <a:lnTo>
                    <a:pt x="92" y="31"/>
                  </a:lnTo>
                  <a:lnTo>
                    <a:pt x="92" y="26"/>
                  </a:lnTo>
                  <a:lnTo>
                    <a:pt x="92" y="20"/>
                  </a:lnTo>
                  <a:lnTo>
                    <a:pt x="92" y="16"/>
                  </a:lnTo>
                  <a:lnTo>
                    <a:pt x="91" y="11"/>
                  </a:lnTo>
                  <a:lnTo>
                    <a:pt x="90" y="5"/>
                  </a:lnTo>
                  <a:lnTo>
                    <a:pt x="89" y="0"/>
                  </a:lnTo>
                  <a:lnTo>
                    <a:pt x="89" y="0"/>
                  </a:lnTo>
                  <a:lnTo>
                    <a:pt x="78" y="5"/>
                  </a:lnTo>
                  <a:lnTo>
                    <a:pt x="68" y="9"/>
                  </a:lnTo>
                  <a:lnTo>
                    <a:pt x="59" y="11"/>
                  </a:lnTo>
                  <a:lnTo>
                    <a:pt x="49" y="12"/>
                  </a:lnTo>
                  <a:lnTo>
                    <a:pt x="40" y="13"/>
                  </a:lnTo>
                  <a:lnTo>
                    <a:pt x="31" y="12"/>
                  </a:lnTo>
                  <a:lnTo>
                    <a:pt x="21" y="11"/>
                  </a:lnTo>
                  <a:lnTo>
                    <a:pt x="13" y="7"/>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50120" y="2549520"/>
              <a:ext cx="484200" cy="379440"/>
            </a:xfrm>
            <a:custGeom>
              <a:avLst/>
              <a:gdLst/>
              <a:ahLst/>
              <a:rect l="l" t="t" r="r" b="b"/>
              <a:pathLst>
                <a:path w="915" h="718">
                  <a:moveTo>
                    <a:pt x="258" y="383"/>
                  </a:moveTo>
                  <a:lnTo>
                    <a:pt x="257" y="383"/>
                  </a:lnTo>
                  <a:lnTo>
                    <a:pt x="257" y="383"/>
                  </a:lnTo>
                  <a:lnTo>
                    <a:pt x="239" y="378"/>
                  </a:lnTo>
                  <a:lnTo>
                    <a:pt x="223" y="371"/>
                  </a:lnTo>
                  <a:lnTo>
                    <a:pt x="209" y="362"/>
                  </a:lnTo>
                  <a:lnTo>
                    <a:pt x="195" y="351"/>
                  </a:lnTo>
                  <a:lnTo>
                    <a:pt x="182" y="339"/>
                  </a:lnTo>
                  <a:lnTo>
                    <a:pt x="172" y="323"/>
                  </a:lnTo>
                  <a:lnTo>
                    <a:pt x="161" y="306"/>
                  </a:lnTo>
                  <a:lnTo>
                    <a:pt x="153" y="287"/>
                  </a:lnTo>
                  <a:lnTo>
                    <a:pt x="153" y="287"/>
                  </a:lnTo>
                  <a:lnTo>
                    <a:pt x="146" y="268"/>
                  </a:lnTo>
                  <a:lnTo>
                    <a:pt x="139" y="249"/>
                  </a:lnTo>
                  <a:lnTo>
                    <a:pt x="135" y="230"/>
                  </a:lnTo>
                  <a:lnTo>
                    <a:pt x="131" y="213"/>
                  </a:lnTo>
                  <a:lnTo>
                    <a:pt x="128" y="196"/>
                  </a:lnTo>
                  <a:lnTo>
                    <a:pt x="125" y="179"/>
                  </a:lnTo>
                  <a:lnTo>
                    <a:pt x="125" y="164"/>
                  </a:lnTo>
                  <a:lnTo>
                    <a:pt x="125" y="150"/>
                  </a:lnTo>
                  <a:lnTo>
                    <a:pt x="125" y="150"/>
                  </a:lnTo>
                  <a:lnTo>
                    <a:pt x="123" y="146"/>
                  </a:lnTo>
                  <a:lnTo>
                    <a:pt x="119" y="140"/>
                  </a:lnTo>
                  <a:lnTo>
                    <a:pt x="115" y="134"/>
                  </a:lnTo>
                  <a:lnTo>
                    <a:pt x="110" y="127"/>
                  </a:lnTo>
                  <a:lnTo>
                    <a:pt x="110" y="127"/>
                  </a:lnTo>
                  <a:lnTo>
                    <a:pt x="104" y="120"/>
                  </a:lnTo>
                  <a:lnTo>
                    <a:pt x="101" y="114"/>
                  </a:lnTo>
                  <a:lnTo>
                    <a:pt x="99" y="108"/>
                  </a:lnTo>
                  <a:lnTo>
                    <a:pt x="97" y="103"/>
                  </a:lnTo>
                  <a:lnTo>
                    <a:pt x="97" y="103"/>
                  </a:lnTo>
                  <a:lnTo>
                    <a:pt x="95" y="103"/>
                  </a:lnTo>
                  <a:lnTo>
                    <a:pt x="93" y="101"/>
                  </a:lnTo>
                  <a:lnTo>
                    <a:pt x="90" y="100"/>
                  </a:lnTo>
                  <a:lnTo>
                    <a:pt x="87" y="99"/>
                  </a:lnTo>
                  <a:lnTo>
                    <a:pt x="87" y="99"/>
                  </a:lnTo>
                  <a:lnTo>
                    <a:pt x="83" y="98"/>
                  </a:lnTo>
                  <a:lnTo>
                    <a:pt x="80" y="97"/>
                  </a:lnTo>
                  <a:lnTo>
                    <a:pt x="76" y="96"/>
                  </a:lnTo>
                  <a:lnTo>
                    <a:pt x="74" y="94"/>
                  </a:lnTo>
                  <a:lnTo>
                    <a:pt x="74" y="94"/>
                  </a:lnTo>
                  <a:lnTo>
                    <a:pt x="66" y="92"/>
                  </a:lnTo>
                  <a:lnTo>
                    <a:pt x="59" y="89"/>
                  </a:lnTo>
                  <a:lnTo>
                    <a:pt x="54" y="85"/>
                  </a:lnTo>
                  <a:lnTo>
                    <a:pt x="51" y="82"/>
                  </a:lnTo>
                  <a:lnTo>
                    <a:pt x="51" y="82"/>
                  </a:lnTo>
                  <a:lnTo>
                    <a:pt x="46" y="84"/>
                  </a:lnTo>
                  <a:lnTo>
                    <a:pt x="40" y="86"/>
                  </a:lnTo>
                  <a:lnTo>
                    <a:pt x="36" y="87"/>
                  </a:lnTo>
                  <a:lnTo>
                    <a:pt x="30" y="89"/>
                  </a:lnTo>
                  <a:lnTo>
                    <a:pt x="24" y="89"/>
                  </a:lnTo>
                  <a:lnTo>
                    <a:pt x="18" y="87"/>
                  </a:lnTo>
                  <a:lnTo>
                    <a:pt x="12" y="86"/>
                  </a:lnTo>
                  <a:lnTo>
                    <a:pt x="7" y="84"/>
                  </a:lnTo>
                  <a:lnTo>
                    <a:pt x="7" y="84"/>
                  </a:lnTo>
                  <a:lnTo>
                    <a:pt x="3" y="82"/>
                  </a:lnTo>
                  <a:lnTo>
                    <a:pt x="1" y="79"/>
                  </a:lnTo>
                  <a:lnTo>
                    <a:pt x="1" y="76"/>
                  </a:lnTo>
                  <a:lnTo>
                    <a:pt x="2" y="72"/>
                  </a:lnTo>
                  <a:lnTo>
                    <a:pt x="2" y="72"/>
                  </a:lnTo>
                  <a:lnTo>
                    <a:pt x="2" y="71"/>
                  </a:lnTo>
                  <a:lnTo>
                    <a:pt x="4" y="69"/>
                  </a:lnTo>
                  <a:lnTo>
                    <a:pt x="7" y="68"/>
                  </a:lnTo>
                  <a:lnTo>
                    <a:pt x="10" y="68"/>
                  </a:lnTo>
                  <a:lnTo>
                    <a:pt x="10" y="68"/>
                  </a:lnTo>
                  <a:lnTo>
                    <a:pt x="7" y="68"/>
                  </a:lnTo>
                  <a:lnTo>
                    <a:pt x="4" y="66"/>
                  </a:lnTo>
                  <a:lnTo>
                    <a:pt x="2" y="65"/>
                  </a:lnTo>
                  <a:lnTo>
                    <a:pt x="0" y="64"/>
                  </a:lnTo>
                  <a:lnTo>
                    <a:pt x="0" y="64"/>
                  </a:lnTo>
                  <a:lnTo>
                    <a:pt x="0" y="56"/>
                  </a:lnTo>
                  <a:lnTo>
                    <a:pt x="2" y="50"/>
                  </a:lnTo>
                  <a:lnTo>
                    <a:pt x="7" y="44"/>
                  </a:lnTo>
                  <a:lnTo>
                    <a:pt x="15" y="41"/>
                  </a:lnTo>
                  <a:lnTo>
                    <a:pt x="15" y="41"/>
                  </a:lnTo>
                  <a:lnTo>
                    <a:pt x="19" y="33"/>
                  </a:lnTo>
                  <a:lnTo>
                    <a:pt x="23" y="26"/>
                  </a:lnTo>
                  <a:lnTo>
                    <a:pt x="28" y="22"/>
                  </a:lnTo>
                  <a:lnTo>
                    <a:pt x="31" y="20"/>
                  </a:lnTo>
                  <a:lnTo>
                    <a:pt x="31" y="20"/>
                  </a:lnTo>
                  <a:lnTo>
                    <a:pt x="35" y="20"/>
                  </a:lnTo>
                  <a:lnTo>
                    <a:pt x="39" y="19"/>
                  </a:lnTo>
                  <a:lnTo>
                    <a:pt x="44" y="19"/>
                  </a:lnTo>
                  <a:lnTo>
                    <a:pt x="49" y="19"/>
                  </a:lnTo>
                  <a:lnTo>
                    <a:pt x="53" y="18"/>
                  </a:lnTo>
                  <a:lnTo>
                    <a:pt x="59" y="18"/>
                  </a:lnTo>
                  <a:lnTo>
                    <a:pt x="64" y="18"/>
                  </a:lnTo>
                  <a:lnTo>
                    <a:pt x="69" y="18"/>
                  </a:lnTo>
                  <a:lnTo>
                    <a:pt x="69" y="18"/>
                  </a:lnTo>
                  <a:lnTo>
                    <a:pt x="75" y="18"/>
                  </a:lnTo>
                  <a:lnTo>
                    <a:pt x="81" y="19"/>
                  </a:lnTo>
                  <a:lnTo>
                    <a:pt x="87" y="19"/>
                  </a:lnTo>
                  <a:lnTo>
                    <a:pt x="93" y="18"/>
                  </a:lnTo>
                  <a:lnTo>
                    <a:pt x="99" y="18"/>
                  </a:lnTo>
                  <a:lnTo>
                    <a:pt x="104" y="18"/>
                  </a:lnTo>
                  <a:lnTo>
                    <a:pt x="110" y="16"/>
                  </a:lnTo>
                  <a:lnTo>
                    <a:pt x="116" y="15"/>
                  </a:lnTo>
                  <a:lnTo>
                    <a:pt x="116" y="15"/>
                  </a:lnTo>
                  <a:lnTo>
                    <a:pt x="121" y="15"/>
                  </a:lnTo>
                  <a:lnTo>
                    <a:pt x="124" y="14"/>
                  </a:lnTo>
                  <a:lnTo>
                    <a:pt x="128" y="12"/>
                  </a:lnTo>
                  <a:lnTo>
                    <a:pt x="130" y="11"/>
                  </a:lnTo>
                  <a:lnTo>
                    <a:pt x="130" y="11"/>
                  </a:lnTo>
                  <a:lnTo>
                    <a:pt x="132" y="8"/>
                  </a:lnTo>
                  <a:lnTo>
                    <a:pt x="135" y="7"/>
                  </a:lnTo>
                  <a:lnTo>
                    <a:pt x="138" y="5"/>
                  </a:lnTo>
                  <a:lnTo>
                    <a:pt x="142" y="4"/>
                  </a:lnTo>
                  <a:lnTo>
                    <a:pt x="142" y="4"/>
                  </a:lnTo>
                  <a:lnTo>
                    <a:pt x="144" y="2"/>
                  </a:lnTo>
                  <a:lnTo>
                    <a:pt x="150" y="2"/>
                  </a:lnTo>
                  <a:lnTo>
                    <a:pt x="158" y="4"/>
                  </a:lnTo>
                  <a:lnTo>
                    <a:pt x="168" y="5"/>
                  </a:lnTo>
                  <a:lnTo>
                    <a:pt x="168" y="5"/>
                  </a:lnTo>
                  <a:lnTo>
                    <a:pt x="176" y="6"/>
                  </a:lnTo>
                  <a:lnTo>
                    <a:pt x="183" y="7"/>
                  </a:lnTo>
                  <a:lnTo>
                    <a:pt x="187" y="7"/>
                  </a:lnTo>
                  <a:lnTo>
                    <a:pt x="188" y="6"/>
                  </a:lnTo>
                  <a:lnTo>
                    <a:pt x="188" y="6"/>
                  </a:lnTo>
                  <a:lnTo>
                    <a:pt x="195" y="2"/>
                  </a:lnTo>
                  <a:lnTo>
                    <a:pt x="201" y="1"/>
                  </a:lnTo>
                  <a:lnTo>
                    <a:pt x="207" y="0"/>
                  </a:lnTo>
                  <a:lnTo>
                    <a:pt x="212" y="0"/>
                  </a:lnTo>
                  <a:lnTo>
                    <a:pt x="217" y="2"/>
                  </a:lnTo>
                  <a:lnTo>
                    <a:pt x="223" y="5"/>
                  </a:lnTo>
                  <a:lnTo>
                    <a:pt x="226" y="8"/>
                  </a:lnTo>
                  <a:lnTo>
                    <a:pt x="231" y="13"/>
                  </a:lnTo>
                  <a:lnTo>
                    <a:pt x="231" y="13"/>
                  </a:lnTo>
                  <a:lnTo>
                    <a:pt x="235" y="19"/>
                  </a:lnTo>
                  <a:lnTo>
                    <a:pt x="238" y="25"/>
                  </a:lnTo>
                  <a:lnTo>
                    <a:pt x="241" y="29"/>
                  </a:lnTo>
                  <a:lnTo>
                    <a:pt x="245" y="33"/>
                  </a:lnTo>
                  <a:lnTo>
                    <a:pt x="245" y="33"/>
                  </a:lnTo>
                  <a:lnTo>
                    <a:pt x="247" y="35"/>
                  </a:lnTo>
                  <a:lnTo>
                    <a:pt x="250" y="39"/>
                  </a:lnTo>
                  <a:lnTo>
                    <a:pt x="251" y="41"/>
                  </a:lnTo>
                  <a:lnTo>
                    <a:pt x="253" y="43"/>
                  </a:lnTo>
                  <a:lnTo>
                    <a:pt x="253" y="43"/>
                  </a:lnTo>
                  <a:lnTo>
                    <a:pt x="255" y="49"/>
                  </a:lnTo>
                  <a:lnTo>
                    <a:pt x="258" y="55"/>
                  </a:lnTo>
                  <a:lnTo>
                    <a:pt x="259" y="61"/>
                  </a:lnTo>
                  <a:lnTo>
                    <a:pt x="260" y="65"/>
                  </a:lnTo>
                  <a:lnTo>
                    <a:pt x="260" y="71"/>
                  </a:lnTo>
                  <a:lnTo>
                    <a:pt x="259" y="76"/>
                  </a:lnTo>
                  <a:lnTo>
                    <a:pt x="257" y="79"/>
                  </a:lnTo>
                  <a:lnTo>
                    <a:pt x="254" y="84"/>
                  </a:lnTo>
                  <a:lnTo>
                    <a:pt x="254" y="84"/>
                  </a:lnTo>
                  <a:lnTo>
                    <a:pt x="252" y="90"/>
                  </a:lnTo>
                  <a:lnTo>
                    <a:pt x="250" y="97"/>
                  </a:lnTo>
                  <a:lnTo>
                    <a:pt x="248" y="105"/>
                  </a:lnTo>
                  <a:lnTo>
                    <a:pt x="248" y="116"/>
                  </a:lnTo>
                  <a:lnTo>
                    <a:pt x="250" y="129"/>
                  </a:lnTo>
                  <a:lnTo>
                    <a:pt x="251" y="143"/>
                  </a:lnTo>
                  <a:lnTo>
                    <a:pt x="253" y="159"/>
                  </a:lnTo>
                  <a:lnTo>
                    <a:pt x="257" y="178"/>
                  </a:lnTo>
                  <a:lnTo>
                    <a:pt x="257" y="178"/>
                  </a:lnTo>
                  <a:lnTo>
                    <a:pt x="259" y="186"/>
                  </a:lnTo>
                  <a:lnTo>
                    <a:pt x="265" y="193"/>
                  </a:lnTo>
                  <a:lnTo>
                    <a:pt x="273" y="197"/>
                  </a:lnTo>
                  <a:lnTo>
                    <a:pt x="283" y="198"/>
                  </a:lnTo>
                  <a:lnTo>
                    <a:pt x="283" y="198"/>
                  </a:lnTo>
                  <a:lnTo>
                    <a:pt x="289" y="198"/>
                  </a:lnTo>
                  <a:lnTo>
                    <a:pt x="295" y="198"/>
                  </a:lnTo>
                  <a:lnTo>
                    <a:pt x="301" y="198"/>
                  </a:lnTo>
                  <a:lnTo>
                    <a:pt x="305" y="198"/>
                  </a:lnTo>
                  <a:lnTo>
                    <a:pt x="309" y="198"/>
                  </a:lnTo>
                  <a:lnTo>
                    <a:pt x="312" y="197"/>
                  </a:lnTo>
                  <a:lnTo>
                    <a:pt x="316" y="196"/>
                  </a:lnTo>
                  <a:lnTo>
                    <a:pt x="318" y="194"/>
                  </a:lnTo>
                  <a:lnTo>
                    <a:pt x="318" y="194"/>
                  </a:lnTo>
                  <a:lnTo>
                    <a:pt x="325" y="191"/>
                  </a:lnTo>
                  <a:lnTo>
                    <a:pt x="333" y="186"/>
                  </a:lnTo>
                  <a:lnTo>
                    <a:pt x="340" y="182"/>
                  </a:lnTo>
                  <a:lnTo>
                    <a:pt x="347" y="176"/>
                  </a:lnTo>
                  <a:lnTo>
                    <a:pt x="353" y="169"/>
                  </a:lnTo>
                  <a:lnTo>
                    <a:pt x="360" y="161"/>
                  </a:lnTo>
                  <a:lnTo>
                    <a:pt x="367" y="153"/>
                  </a:lnTo>
                  <a:lnTo>
                    <a:pt x="373" y="143"/>
                  </a:lnTo>
                  <a:lnTo>
                    <a:pt x="373" y="143"/>
                  </a:lnTo>
                  <a:lnTo>
                    <a:pt x="380" y="134"/>
                  </a:lnTo>
                  <a:lnTo>
                    <a:pt x="387" y="126"/>
                  </a:lnTo>
                  <a:lnTo>
                    <a:pt x="394" y="118"/>
                  </a:lnTo>
                  <a:lnTo>
                    <a:pt x="401" y="111"/>
                  </a:lnTo>
                  <a:lnTo>
                    <a:pt x="409" y="104"/>
                  </a:lnTo>
                  <a:lnTo>
                    <a:pt x="416" y="98"/>
                  </a:lnTo>
                  <a:lnTo>
                    <a:pt x="424" y="93"/>
                  </a:lnTo>
                  <a:lnTo>
                    <a:pt x="431" y="90"/>
                  </a:lnTo>
                  <a:lnTo>
                    <a:pt x="431" y="90"/>
                  </a:lnTo>
                  <a:lnTo>
                    <a:pt x="438" y="85"/>
                  </a:lnTo>
                  <a:lnTo>
                    <a:pt x="444" y="78"/>
                  </a:lnTo>
                  <a:lnTo>
                    <a:pt x="448" y="71"/>
                  </a:lnTo>
                  <a:lnTo>
                    <a:pt x="452" y="62"/>
                  </a:lnTo>
                  <a:lnTo>
                    <a:pt x="452" y="62"/>
                  </a:lnTo>
                  <a:lnTo>
                    <a:pt x="453" y="57"/>
                  </a:lnTo>
                  <a:lnTo>
                    <a:pt x="457" y="51"/>
                  </a:lnTo>
                  <a:lnTo>
                    <a:pt x="459" y="47"/>
                  </a:lnTo>
                  <a:lnTo>
                    <a:pt x="464" y="42"/>
                  </a:lnTo>
                  <a:lnTo>
                    <a:pt x="468" y="37"/>
                  </a:lnTo>
                  <a:lnTo>
                    <a:pt x="473" y="34"/>
                  </a:lnTo>
                  <a:lnTo>
                    <a:pt x="479" y="29"/>
                  </a:lnTo>
                  <a:lnTo>
                    <a:pt x="486" y="26"/>
                  </a:lnTo>
                  <a:lnTo>
                    <a:pt x="486" y="26"/>
                  </a:lnTo>
                  <a:lnTo>
                    <a:pt x="490" y="23"/>
                  </a:lnTo>
                  <a:lnTo>
                    <a:pt x="497" y="20"/>
                  </a:lnTo>
                  <a:lnTo>
                    <a:pt x="503" y="19"/>
                  </a:lnTo>
                  <a:lnTo>
                    <a:pt x="511" y="16"/>
                  </a:lnTo>
                  <a:lnTo>
                    <a:pt x="518" y="15"/>
                  </a:lnTo>
                  <a:lnTo>
                    <a:pt x="527" y="15"/>
                  </a:lnTo>
                  <a:lnTo>
                    <a:pt x="537" y="14"/>
                  </a:lnTo>
                  <a:lnTo>
                    <a:pt x="546" y="14"/>
                  </a:lnTo>
                  <a:lnTo>
                    <a:pt x="546" y="14"/>
                  </a:lnTo>
                  <a:lnTo>
                    <a:pt x="555" y="15"/>
                  </a:lnTo>
                  <a:lnTo>
                    <a:pt x="563" y="18"/>
                  </a:lnTo>
                  <a:lnTo>
                    <a:pt x="570" y="20"/>
                  </a:lnTo>
                  <a:lnTo>
                    <a:pt x="576" y="25"/>
                  </a:lnTo>
                  <a:lnTo>
                    <a:pt x="581" y="28"/>
                  </a:lnTo>
                  <a:lnTo>
                    <a:pt x="586" y="34"/>
                  </a:lnTo>
                  <a:lnTo>
                    <a:pt x="588" y="40"/>
                  </a:lnTo>
                  <a:lnTo>
                    <a:pt x="590" y="46"/>
                  </a:lnTo>
                  <a:lnTo>
                    <a:pt x="590" y="46"/>
                  </a:lnTo>
                  <a:lnTo>
                    <a:pt x="593" y="59"/>
                  </a:lnTo>
                  <a:lnTo>
                    <a:pt x="596" y="71"/>
                  </a:lnTo>
                  <a:lnTo>
                    <a:pt x="601" y="82"/>
                  </a:lnTo>
                  <a:lnTo>
                    <a:pt x="605" y="90"/>
                  </a:lnTo>
                  <a:lnTo>
                    <a:pt x="611" y="97"/>
                  </a:lnTo>
                  <a:lnTo>
                    <a:pt x="618" y="101"/>
                  </a:lnTo>
                  <a:lnTo>
                    <a:pt x="625" y="104"/>
                  </a:lnTo>
                  <a:lnTo>
                    <a:pt x="633" y="105"/>
                  </a:lnTo>
                  <a:lnTo>
                    <a:pt x="633" y="105"/>
                  </a:lnTo>
                  <a:lnTo>
                    <a:pt x="637" y="98"/>
                  </a:lnTo>
                  <a:lnTo>
                    <a:pt x="641" y="91"/>
                  </a:lnTo>
                  <a:lnTo>
                    <a:pt x="645" y="84"/>
                  </a:lnTo>
                  <a:lnTo>
                    <a:pt x="650" y="77"/>
                  </a:lnTo>
                  <a:lnTo>
                    <a:pt x="653" y="71"/>
                  </a:lnTo>
                  <a:lnTo>
                    <a:pt x="658" y="65"/>
                  </a:lnTo>
                  <a:lnTo>
                    <a:pt x="661" y="59"/>
                  </a:lnTo>
                  <a:lnTo>
                    <a:pt x="665" y="55"/>
                  </a:lnTo>
                  <a:lnTo>
                    <a:pt x="665" y="55"/>
                  </a:lnTo>
                  <a:lnTo>
                    <a:pt x="669" y="49"/>
                  </a:lnTo>
                  <a:lnTo>
                    <a:pt x="674" y="46"/>
                  </a:lnTo>
                  <a:lnTo>
                    <a:pt x="680" y="42"/>
                  </a:lnTo>
                  <a:lnTo>
                    <a:pt x="687" y="40"/>
                  </a:lnTo>
                  <a:lnTo>
                    <a:pt x="695" y="39"/>
                  </a:lnTo>
                  <a:lnTo>
                    <a:pt x="702" y="40"/>
                  </a:lnTo>
                  <a:lnTo>
                    <a:pt x="711" y="41"/>
                  </a:lnTo>
                  <a:lnTo>
                    <a:pt x="720" y="43"/>
                  </a:lnTo>
                  <a:lnTo>
                    <a:pt x="720" y="43"/>
                  </a:lnTo>
                  <a:lnTo>
                    <a:pt x="729" y="46"/>
                  </a:lnTo>
                  <a:lnTo>
                    <a:pt x="737" y="49"/>
                  </a:lnTo>
                  <a:lnTo>
                    <a:pt x="742" y="53"/>
                  </a:lnTo>
                  <a:lnTo>
                    <a:pt x="748" y="56"/>
                  </a:lnTo>
                  <a:lnTo>
                    <a:pt x="753" y="61"/>
                  </a:lnTo>
                  <a:lnTo>
                    <a:pt x="758" y="64"/>
                  </a:lnTo>
                  <a:lnTo>
                    <a:pt x="760" y="69"/>
                  </a:lnTo>
                  <a:lnTo>
                    <a:pt x="762" y="72"/>
                  </a:lnTo>
                  <a:lnTo>
                    <a:pt x="762" y="72"/>
                  </a:lnTo>
                  <a:lnTo>
                    <a:pt x="763" y="77"/>
                  </a:lnTo>
                  <a:lnTo>
                    <a:pt x="765" y="80"/>
                  </a:lnTo>
                  <a:lnTo>
                    <a:pt x="767" y="85"/>
                  </a:lnTo>
                  <a:lnTo>
                    <a:pt x="768" y="90"/>
                  </a:lnTo>
                  <a:lnTo>
                    <a:pt x="768" y="90"/>
                  </a:lnTo>
                  <a:lnTo>
                    <a:pt x="770" y="94"/>
                  </a:lnTo>
                  <a:lnTo>
                    <a:pt x="772" y="98"/>
                  </a:lnTo>
                  <a:lnTo>
                    <a:pt x="774" y="101"/>
                  </a:lnTo>
                  <a:lnTo>
                    <a:pt x="775" y="105"/>
                  </a:lnTo>
                  <a:lnTo>
                    <a:pt x="775" y="105"/>
                  </a:lnTo>
                  <a:lnTo>
                    <a:pt x="777" y="113"/>
                  </a:lnTo>
                  <a:lnTo>
                    <a:pt x="781" y="120"/>
                  </a:lnTo>
                  <a:lnTo>
                    <a:pt x="783" y="126"/>
                  </a:lnTo>
                  <a:lnTo>
                    <a:pt x="787" y="132"/>
                  </a:lnTo>
                  <a:lnTo>
                    <a:pt x="789" y="135"/>
                  </a:lnTo>
                  <a:lnTo>
                    <a:pt x="792" y="140"/>
                  </a:lnTo>
                  <a:lnTo>
                    <a:pt x="796" y="142"/>
                  </a:lnTo>
                  <a:lnTo>
                    <a:pt x="799" y="144"/>
                  </a:lnTo>
                  <a:lnTo>
                    <a:pt x="799" y="144"/>
                  </a:lnTo>
                  <a:lnTo>
                    <a:pt x="804" y="148"/>
                  </a:lnTo>
                  <a:lnTo>
                    <a:pt x="811" y="153"/>
                  </a:lnTo>
                  <a:lnTo>
                    <a:pt x="818" y="161"/>
                  </a:lnTo>
                  <a:lnTo>
                    <a:pt x="826" y="170"/>
                  </a:lnTo>
                  <a:lnTo>
                    <a:pt x="826" y="170"/>
                  </a:lnTo>
                  <a:lnTo>
                    <a:pt x="831" y="178"/>
                  </a:lnTo>
                  <a:lnTo>
                    <a:pt x="835" y="185"/>
                  </a:lnTo>
                  <a:lnTo>
                    <a:pt x="840" y="193"/>
                  </a:lnTo>
                  <a:lnTo>
                    <a:pt x="844" y="199"/>
                  </a:lnTo>
                  <a:lnTo>
                    <a:pt x="847" y="206"/>
                  </a:lnTo>
                  <a:lnTo>
                    <a:pt x="849" y="212"/>
                  </a:lnTo>
                  <a:lnTo>
                    <a:pt x="852" y="216"/>
                  </a:lnTo>
                  <a:lnTo>
                    <a:pt x="854" y="221"/>
                  </a:lnTo>
                  <a:lnTo>
                    <a:pt x="854" y="221"/>
                  </a:lnTo>
                  <a:lnTo>
                    <a:pt x="856" y="227"/>
                  </a:lnTo>
                  <a:lnTo>
                    <a:pt x="859" y="235"/>
                  </a:lnTo>
                  <a:lnTo>
                    <a:pt x="860" y="244"/>
                  </a:lnTo>
                  <a:lnTo>
                    <a:pt x="861" y="254"/>
                  </a:lnTo>
                  <a:lnTo>
                    <a:pt x="861" y="265"/>
                  </a:lnTo>
                  <a:lnTo>
                    <a:pt x="861" y="278"/>
                  </a:lnTo>
                  <a:lnTo>
                    <a:pt x="860" y="291"/>
                  </a:lnTo>
                  <a:lnTo>
                    <a:pt x="858" y="306"/>
                  </a:lnTo>
                  <a:lnTo>
                    <a:pt x="858" y="306"/>
                  </a:lnTo>
                  <a:lnTo>
                    <a:pt x="861" y="315"/>
                  </a:lnTo>
                  <a:lnTo>
                    <a:pt x="866" y="323"/>
                  </a:lnTo>
                  <a:lnTo>
                    <a:pt x="873" y="328"/>
                  </a:lnTo>
                  <a:lnTo>
                    <a:pt x="880" y="332"/>
                  </a:lnTo>
                  <a:lnTo>
                    <a:pt x="880" y="332"/>
                  </a:lnTo>
                  <a:lnTo>
                    <a:pt x="888" y="335"/>
                  </a:lnTo>
                  <a:lnTo>
                    <a:pt x="895" y="340"/>
                  </a:lnTo>
                  <a:lnTo>
                    <a:pt x="902" y="346"/>
                  </a:lnTo>
                  <a:lnTo>
                    <a:pt x="909" y="351"/>
                  </a:lnTo>
                  <a:lnTo>
                    <a:pt x="909" y="351"/>
                  </a:lnTo>
                  <a:lnTo>
                    <a:pt x="912" y="357"/>
                  </a:lnTo>
                  <a:lnTo>
                    <a:pt x="915" y="362"/>
                  </a:lnTo>
                  <a:lnTo>
                    <a:pt x="915" y="365"/>
                  </a:lnTo>
                  <a:lnTo>
                    <a:pt x="913" y="369"/>
                  </a:lnTo>
                  <a:lnTo>
                    <a:pt x="913" y="369"/>
                  </a:lnTo>
                  <a:lnTo>
                    <a:pt x="904" y="366"/>
                  </a:lnTo>
                  <a:lnTo>
                    <a:pt x="895" y="363"/>
                  </a:lnTo>
                  <a:lnTo>
                    <a:pt x="887" y="361"/>
                  </a:lnTo>
                  <a:lnTo>
                    <a:pt x="877" y="356"/>
                  </a:lnTo>
                  <a:lnTo>
                    <a:pt x="869" y="353"/>
                  </a:lnTo>
                  <a:lnTo>
                    <a:pt x="861" y="348"/>
                  </a:lnTo>
                  <a:lnTo>
                    <a:pt x="853" y="343"/>
                  </a:lnTo>
                  <a:lnTo>
                    <a:pt x="845" y="337"/>
                  </a:lnTo>
                  <a:lnTo>
                    <a:pt x="845" y="337"/>
                  </a:lnTo>
                  <a:lnTo>
                    <a:pt x="842" y="342"/>
                  </a:lnTo>
                  <a:lnTo>
                    <a:pt x="840" y="349"/>
                  </a:lnTo>
                  <a:lnTo>
                    <a:pt x="838" y="356"/>
                  </a:lnTo>
                  <a:lnTo>
                    <a:pt x="835" y="364"/>
                  </a:lnTo>
                  <a:lnTo>
                    <a:pt x="832" y="375"/>
                  </a:lnTo>
                  <a:lnTo>
                    <a:pt x="830" y="385"/>
                  </a:lnTo>
                  <a:lnTo>
                    <a:pt x="826" y="396"/>
                  </a:lnTo>
                  <a:lnTo>
                    <a:pt x="823" y="408"/>
                  </a:lnTo>
                  <a:lnTo>
                    <a:pt x="823" y="408"/>
                  </a:lnTo>
                  <a:lnTo>
                    <a:pt x="819" y="420"/>
                  </a:lnTo>
                  <a:lnTo>
                    <a:pt x="817" y="430"/>
                  </a:lnTo>
                  <a:lnTo>
                    <a:pt x="816" y="442"/>
                  </a:lnTo>
                  <a:lnTo>
                    <a:pt x="816" y="451"/>
                  </a:lnTo>
                  <a:lnTo>
                    <a:pt x="816" y="461"/>
                  </a:lnTo>
                  <a:lnTo>
                    <a:pt x="817" y="470"/>
                  </a:lnTo>
                  <a:lnTo>
                    <a:pt x="818" y="478"/>
                  </a:lnTo>
                  <a:lnTo>
                    <a:pt x="820" y="486"/>
                  </a:lnTo>
                  <a:lnTo>
                    <a:pt x="820" y="486"/>
                  </a:lnTo>
                  <a:lnTo>
                    <a:pt x="822" y="492"/>
                  </a:lnTo>
                  <a:lnTo>
                    <a:pt x="823" y="499"/>
                  </a:lnTo>
                  <a:lnTo>
                    <a:pt x="823" y="506"/>
                  </a:lnTo>
                  <a:lnTo>
                    <a:pt x="823" y="514"/>
                  </a:lnTo>
                  <a:lnTo>
                    <a:pt x="823" y="514"/>
                  </a:lnTo>
                  <a:lnTo>
                    <a:pt x="822" y="519"/>
                  </a:lnTo>
                  <a:lnTo>
                    <a:pt x="822" y="525"/>
                  </a:lnTo>
                  <a:lnTo>
                    <a:pt x="820" y="529"/>
                  </a:lnTo>
                  <a:lnTo>
                    <a:pt x="820" y="533"/>
                  </a:lnTo>
                  <a:lnTo>
                    <a:pt x="820" y="533"/>
                  </a:lnTo>
                  <a:lnTo>
                    <a:pt x="819" y="537"/>
                  </a:lnTo>
                  <a:lnTo>
                    <a:pt x="819" y="541"/>
                  </a:lnTo>
                  <a:lnTo>
                    <a:pt x="818" y="543"/>
                  </a:lnTo>
                  <a:lnTo>
                    <a:pt x="818" y="546"/>
                  </a:lnTo>
                  <a:lnTo>
                    <a:pt x="818" y="546"/>
                  </a:lnTo>
                  <a:lnTo>
                    <a:pt x="817" y="553"/>
                  </a:lnTo>
                  <a:lnTo>
                    <a:pt x="817" y="561"/>
                  </a:lnTo>
                  <a:lnTo>
                    <a:pt x="817" y="569"/>
                  </a:lnTo>
                  <a:lnTo>
                    <a:pt x="816" y="577"/>
                  </a:lnTo>
                  <a:lnTo>
                    <a:pt x="816" y="585"/>
                  </a:lnTo>
                  <a:lnTo>
                    <a:pt x="816" y="593"/>
                  </a:lnTo>
                  <a:lnTo>
                    <a:pt x="817" y="603"/>
                  </a:lnTo>
                  <a:lnTo>
                    <a:pt x="817" y="611"/>
                  </a:lnTo>
                  <a:lnTo>
                    <a:pt x="817" y="611"/>
                  </a:lnTo>
                  <a:lnTo>
                    <a:pt x="818" y="621"/>
                  </a:lnTo>
                  <a:lnTo>
                    <a:pt x="818" y="630"/>
                  </a:lnTo>
                  <a:lnTo>
                    <a:pt x="819" y="640"/>
                  </a:lnTo>
                  <a:lnTo>
                    <a:pt x="820" y="649"/>
                  </a:lnTo>
                  <a:lnTo>
                    <a:pt x="822" y="657"/>
                  </a:lnTo>
                  <a:lnTo>
                    <a:pt x="822" y="664"/>
                  </a:lnTo>
                  <a:lnTo>
                    <a:pt x="823" y="671"/>
                  </a:lnTo>
                  <a:lnTo>
                    <a:pt x="823" y="678"/>
                  </a:lnTo>
                  <a:lnTo>
                    <a:pt x="823" y="678"/>
                  </a:lnTo>
                  <a:lnTo>
                    <a:pt x="827" y="685"/>
                  </a:lnTo>
                  <a:lnTo>
                    <a:pt x="830" y="690"/>
                  </a:lnTo>
                  <a:lnTo>
                    <a:pt x="832" y="694"/>
                  </a:lnTo>
                  <a:lnTo>
                    <a:pt x="832" y="697"/>
                  </a:lnTo>
                  <a:lnTo>
                    <a:pt x="832" y="697"/>
                  </a:lnTo>
                  <a:lnTo>
                    <a:pt x="831" y="701"/>
                  </a:lnTo>
                  <a:lnTo>
                    <a:pt x="827" y="706"/>
                  </a:lnTo>
                  <a:lnTo>
                    <a:pt x="824" y="710"/>
                  </a:lnTo>
                  <a:lnTo>
                    <a:pt x="818" y="712"/>
                  </a:lnTo>
                  <a:lnTo>
                    <a:pt x="810" y="713"/>
                  </a:lnTo>
                  <a:lnTo>
                    <a:pt x="801" y="713"/>
                  </a:lnTo>
                  <a:lnTo>
                    <a:pt x="790" y="713"/>
                  </a:lnTo>
                  <a:lnTo>
                    <a:pt x="779" y="712"/>
                  </a:lnTo>
                  <a:lnTo>
                    <a:pt x="779" y="712"/>
                  </a:lnTo>
                  <a:lnTo>
                    <a:pt x="773" y="711"/>
                  </a:lnTo>
                  <a:lnTo>
                    <a:pt x="770" y="710"/>
                  </a:lnTo>
                  <a:lnTo>
                    <a:pt x="770" y="706"/>
                  </a:lnTo>
                  <a:lnTo>
                    <a:pt x="774" y="703"/>
                  </a:lnTo>
                  <a:lnTo>
                    <a:pt x="774" y="703"/>
                  </a:lnTo>
                  <a:lnTo>
                    <a:pt x="766" y="704"/>
                  </a:lnTo>
                  <a:lnTo>
                    <a:pt x="760" y="703"/>
                  </a:lnTo>
                  <a:lnTo>
                    <a:pt x="756" y="700"/>
                  </a:lnTo>
                  <a:lnTo>
                    <a:pt x="755" y="696"/>
                  </a:lnTo>
                  <a:lnTo>
                    <a:pt x="755" y="696"/>
                  </a:lnTo>
                  <a:lnTo>
                    <a:pt x="756" y="693"/>
                  </a:lnTo>
                  <a:lnTo>
                    <a:pt x="758" y="690"/>
                  </a:lnTo>
                  <a:lnTo>
                    <a:pt x="761" y="687"/>
                  </a:lnTo>
                  <a:lnTo>
                    <a:pt x="765" y="685"/>
                  </a:lnTo>
                  <a:lnTo>
                    <a:pt x="765" y="685"/>
                  </a:lnTo>
                  <a:lnTo>
                    <a:pt x="770" y="682"/>
                  </a:lnTo>
                  <a:lnTo>
                    <a:pt x="777" y="677"/>
                  </a:lnTo>
                  <a:lnTo>
                    <a:pt x="784" y="672"/>
                  </a:lnTo>
                  <a:lnTo>
                    <a:pt x="791" y="665"/>
                  </a:lnTo>
                  <a:lnTo>
                    <a:pt x="791" y="665"/>
                  </a:lnTo>
                  <a:lnTo>
                    <a:pt x="792" y="663"/>
                  </a:lnTo>
                  <a:lnTo>
                    <a:pt x="794" y="658"/>
                  </a:lnTo>
                  <a:lnTo>
                    <a:pt x="794" y="653"/>
                  </a:lnTo>
                  <a:lnTo>
                    <a:pt x="795" y="647"/>
                  </a:lnTo>
                  <a:lnTo>
                    <a:pt x="795" y="639"/>
                  </a:lnTo>
                  <a:lnTo>
                    <a:pt x="795" y="630"/>
                  </a:lnTo>
                  <a:lnTo>
                    <a:pt x="795" y="620"/>
                  </a:lnTo>
                  <a:lnTo>
                    <a:pt x="794" y="610"/>
                  </a:lnTo>
                  <a:lnTo>
                    <a:pt x="794" y="610"/>
                  </a:lnTo>
                  <a:lnTo>
                    <a:pt x="792" y="597"/>
                  </a:lnTo>
                  <a:lnTo>
                    <a:pt x="791" y="585"/>
                  </a:lnTo>
                  <a:lnTo>
                    <a:pt x="790" y="575"/>
                  </a:lnTo>
                  <a:lnTo>
                    <a:pt x="789" y="565"/>
                  </a:lnTo>
                  <a:lnTo>
                    <a:pt x="789" y="557"/>
                  </a:lnTo>
                  <a:lnTo>
                    <a:pt x="788" y="550"/>
                  </a:lnTo>
                  <a:lnTo>
                    <a:pt x="788" y="544"/>
                  </a:lnTo>
                  <a:lnTo>
                    <a:pt x="788" y="540"/>
                  </a:lnTo>
                  <a:lnTo>
                    <a:pt x="788" y="540"/>
                  </a:lnTo>
                  <a:lnTo>
                    <a:pt x="786" y="536"/>
                  </a:lnTo>
                  <a:lnTo>
                    <a:pt x="782" y="532"/>
                  </a:lnTo>
                  <a:lnTo>
                    <a:pt x="780" y="525"/>
                  </a:lnTo>
                  <a:lnTo>
                    <a:pt x="777" y="516"/>
                  </a:lnTo>
                  <a:lnTo>
                    <a:pt x="777" y="516"/>
                  </a:lnTo>
                  <a:lnTo>
                    <a:pt x="776" y="508"/>
                  </a:lnTo>
                  <a:lnTo>
                    <a:pt x="776" y="500"/>
                  </a:lnTo>
                  <a:lnTo>
                    <a:pt x="777" y="494"/>
                  </a:lnTo>
                  <a:lnTo>
                    <a:pt x="781" y="489"/>
                  </a:lnTo>
                  <a:lnTo>
                    <a:pt x="781" y="489"/>
                  </a:lnTo>
                  <a:lnTo>
                    <a:pt x="781" y="480"/>
                  </a:lnTo>
                  <a:lnTo>
                    <a:pt x="780" y="472"/>
                  </a:lnTo>
                  <a:lnTo>
                    <a:pt x="777" y="464"/>
                  </a:lnTo>
                  <a:lnTo>
                    <a:pt x="775" y="456"/>
                  </a:lnTo>
                  <a:lnTo>
                    <a:pt x="772" y="449"/>
                  </a:lnTo>
                  <a:lnTo>
                    <a:pt x="768" y="441"/>
                  </a:lnTo>
                  <a:lnTo>
                    <a:pt x="763" y="433"/>
                  </a:lnTo>
                  <a:lnTo>
                    <a:pt x="758" y="426"/>
                  </a:lnTo>
                  <a:lnTo>
                    <a:pt x="758" y="426"/>
                  </a:lnTo>
                  <a:lnTo>
                    <a:pt x="753" y="419"/>
                  </a:lnTo>
                  <a:lnTo>
                    <a:pt x="748" y="411"/>
                  </a:lnTo>
                  <a:lnTo>
                    <a:pt x="746" y="404"/>
                  </a:lnTo>
                  <a:lnTo>
                    <a:pt x="744" y="396"/>
                  </a:lnTo>
                  <a:lnTo>
                    <a:pt x="742" y="387"/>
                  </a:lnTo>
                  <a:lnTo>
                    <a:pt x="742" y="379"/>
                  </a:lnTo>
                  <a:lnTo>
                    <a:pt x="744" y="370"/>
                  </a:lnTo>
                  <a:lnTo>
                    <a:pt x="746" y="362"/>
                  </a:lnTo>
                  <a:lnTo>
                    <a:pt x="746" y="362"/>
                  </a:lnTo>
                  <a:lnTo>
                    <a:pt x="745" y="358"/>
                  </a:lnTo>
                  <a:lnTo>
                    <a:pt x="742" y="355"/>
                  </a:lnTo>
                  <a:lnTo>
                    <a:pt x="739" y="354"/>
                  </a:lnTo>
                  <a:lnTo>
                    <a:pt x="734" y="353"/>
                  </a:lnTo>
                  <a:lnTo>
                    <a:pt x="734" y="353"/>
                  </a:lnTo>
                  <a:lnTo>
                    <a:pt x="730" y="354"/>
                  </a:lnTo>
                  <a:lnTo>
                    <a:pt x="727" y="355"/>
                  </a:lnTo>
                  <a:lnTo>
                    <a:pt x="725" y="358"/>
                  </a:lnTo>
                  <a:lnTo>
                    <a:pt x="724" y="364"/>
                  </a:lnTo>
                  <a:lnTo>
                    <a:pt x="724" y="364"/>
                  </a:lnTo>
                  <a:lnTo>
                    <a:pt x="719" y="375"/>
                  </a:lnTo>
                  <a:lnTo>
                    <a:pt x="716" y="384"/>
                  </a:lnTo>
                  <a:lnTo>
                    <a:pt x="712" y="393"/>
                  </a:lnTo>
                  <a:lnTo>
                    <a:pt x="708" y="401"/>
                  </a:lnTo>
                  <a:lnTo>
                    <a:pt x="704" y="411"/>
                  </a:lnTo>
                  <a:lnTo>
                    <a:pt x="701" y="418"/>
                  </a:lnTo>
                  <a:lnTo>
                    <a:pt x="698" y="426"/>
                  </a:lnTo>
                  <a:lnTo>
                    <a:pt x="695" y="433"/>
                  </a:lnTo>
                  <a:lnTo>
                    <a:pt x="695" y="433"/>
                  </a:lnTo>
                  <a:lnTo>
                    <a:pt x="690" y="442"/>
                  </a:lnTo>
                  <a:lnTo>
                    <a:pt x="687" y="450"/>
                  </a:lnTo>
                  <a:lnTo>
                    <a:pt x="683" y="460"/>
                  </a:lnTo>
                  <a:lnTo>
                    <a:pt x="681" y="469"/>
                  </a:lnTo>
                  <a:lnTo>
                    <a:pt x="677" y="477"/>
                  </a:lnTo>
                  <a:lnTo>
                    <a:pt x="675" y="486"/>
                  </a:lnTo>
                  <a:lnTo>
                    <a:pt x="674" y="496"/>
                  </a:lnTo>
                  <a:lnTo>
                    <a:pt x="673" y="505"/>
                  </a:lnTo>
                  <a:lnTo>
                    <a:pt x="673" y="505"/>
                  </a:lnTo>
                  <a:lnTo>
                    <a:pt x="672" y="512"/>
                  </a:lnTo>
                  <a:lnTo>
                    <a:pt x="669" y="520"/>
                  </a:lnTo>
                  <a:lnTo>
                    <a:pt x="667" y="527"/>
                  </a:lnTo>
                  <a:lnTo>
                    <a:pt x="665" y="535"/>
                  </a:lnTo>
                  <a:lnTo>
                    <a:pt x="660" y="542"/>
                  </a:lnTo>
                  <a:lnTo>
                    <a:pt x="656" y="550"/>
                  </a:lnTo>
                  <a:lnTo>
                    <a:pt x="652" y="557"/>
                  </a:lnTo>
                  <a:lnTo>
                    <a:pt x="646" y="564"/>
                  </a:lnTo>
                  <a:lnTo>
                    <a:pt x="646" y="564"/>
                  </a:lnTo>
                  <a:lnTo>
                    <a:pt x="641" y="571"/>
                  </a:lnTo>
                  <a:lnTo>
                    <a:pt x="637" y="577"/>
                  </a:lnTo>
                  <a:lnTo>
                    <a:pt x="632" y="584"/>
                  </a:lnTo>
                  <a:lnTo>
                    <a:pt x="627" y="591"/>
                  </a:lnTo>
                  <a:lnTo>
                    <a:pt x="624" y="598"/>
                  </a:lnTo>
                  <a:lnTo>
                    <a:pt x="620" y="605"/>
                  </a:lnTo>
                  <a:lnTo>
                    <a:pt x="617" y="613"/>
                  </a:lnTo>
                  <a:lnTo>
                    <a:pt x="615" y="620"/>
                  </a:lnTo>
                  <a:lnTo>
                    <a:pt x="615" y="620"/>
                  </a:lnTo>
                  <a:lnTo>
                    <a:pt x="612" y="630"/>
                  </a:lnTo>
                  <a:lnTo>
                    <a:pt x="610" y="639"/>
                  </a:lnTo>
                  <a:lnTo>
                    <a:pt x="606" y="647"/>
                  </a:lnTo>
                  <a:lnTo>
                    <a:pt x="604" y="653"/>
                  </a:lnTo>
                  <a:lnTo>
                    <a:pt x="601" y="657"/>
                  </a:lnTo>
                  <a:lnTo>
                    <a:pt x="597" y="660"/>
                  </a:lnTo>
                  <a:lnTo>
                    <a:pt x="593" y="662"/>
                  </a:lnTo>
                  <a:lnTo>
                    <a:pt x="589" y="662"/>
                  </a:lnTo>
                  <a:lnTo>
                    <a:pt x="589" y="662"/>
                  </a:lnTo>
                  <a:lnTo>
                    <a:pt x="590" y="663"/>
                  </a:lnTo>
                  <a:lnTo>
                    <a:pt x="593" y="665"/>
                  </a:lnTo>
                  <a:lnTo>
                    <a:pt x="594" y="667"/>
                  </a:lnTo>
                  <a:lnTo>
                    <a:pt x="595" y="668"/>
                  </a:lnTo>
                  <a:lnTo>
                    <a:pt x="595" y="668"/>
                  </a:lnTo>
                  <a:lnTo>
                    <a:pt x="595" y="671"/>
                  </a:lnTo>
                  <a:lnTo>
                    <a:pt x="594" y="675"/>
                  </a:lnTo>
                  <a:lnTo>
                    <a:pt x="594" y="677"/>
                  </a:lnTo>
                  <a:lnTo>
                    <a:pt x="593" y="678"/>
                  </a:lnTo>
                  <a:lnTo>
                    <a:pt x="593" y="678"/>
                  </a:lnTo>
                  <a:lnTo>
                    <a:pt x="588" y="680"/>
                  </a:lnTo>
                  <a:lnTo>
                    <a:pt x="583" y="683"/>
                  </a:lnTo>
                  <a:lnTo>
                    <a:pt x="577" y="684"/>
                  </a:lnTo>
                  <a:lnTo>
                    <a:pt x="570" y="685"/>
                  </a:lnTo>
                  <a:lnTo>
                    <a:pt x="565" y="685"/>
                  </a:lnTo>
                  <a:lnTo>
                    <a:pt x="557" y="685"/>
                  </a:lnTo>
                  <a:lnTo>
                    <a:pt x="550" y="685"/>
                  </a:lnTo>
                  <a:lnTo>
                    <a:pt x="541" y="684"/>
                  </a:lnTo>
                  <a:lnTo>
                    <a:pt x="541" y="684"/>
                  </a:lnTo>
                  <a:lnTo>
                    <a:pt x="541" y="686"/>
                  </a:lnTo>
                  <a:lnTo>
                    <a:pt x="543" y="687"/>
                  </a:lnTo>
                  <a:lnTo>
                    <a:pt x="545" y="690"/>
                  </a:lnTo>
                  <a:lnTo>
                    <a:pt x="547" y="692"/>
                  </a:lnTo>
                  <a:lnTo>
                    <a:pt x="547" y="692"/>
                  </a:lnTo>
                  <a:lnTo>
                    <a:pt x="550" y="694"/>
                  </a:lnTo>
                  <a:lnTo>
                    <a:pt x="551" y="697"/>
                  </a:lnTo>
                  <a:lnTo>
                    <a:pt x="551" y="699"/>
                  </a:lnTo>
                  <a:lnTo>
                    <a:pt x="551" y="701"/>
                  </a:lnTo>
                  <a:lnTo>
                    <a:pt x="551" y="701"/>
                  </a:lnTo>
                  <a:lnTo>
                    <a:pt x="544" y="707"/>
                  </a:lnTo>
                  <a:lnTo>
                    <a:pt x="537" y="712"/>
                  </a:lnTo>
                  <a:lnTo>
                    <a:pt x="530" y="715"/>
                  </a:lnTo>
                  <a:lnTo>
                    <a:pt x="522" y="717"/>
                  </a:lnTo>
                  <a:lnTo>
                    <a:pt x="522" y="717"/>
                  </a:lnTo>
                  <a:lnTo>
                    <a:pt x="513" y="717"/>
                  </a:lnTo>
                  <a:lnTo>
                    <a:pt x="505" y="717"/>
                  </a:lnTo>
                  <a:lnTo>
                    <a:pt x="497" y="718"/>
                  </a:lnTo>
                  <a:lnTo>
                    <a:pt x="490" y="718"/>
                  </a:lnTo>
                  <a:lnTo>
                    <a:pt x="490" y="718"/>
                  </a:lnTo>
                  <a:lnTo>
                    <a:pt x="484" y="717"/>
                  </a:lnTo>
                  <a:lnTo>
                    <a:pt x="482" y="715"/>
                  </a:lnTo>
                  <a:lnTo>
                    <a:pt x="482" y="712"/>
                  </a:lnTo>
                  <a:lnTo>
                    <a:pt x="484" y="708"/>
                  </a:lnTo>
                  <a:lnTo>
                    <a:pt x="484" y="708"/>
                  </a:lnTo>
                  <a:lnTo>
                    <a:pt x="477" y="708"/>
                  </a:lnTo>
                  <a:lnTo>
                    <a:pt x="473" y="708"/>
                  </a:lnTo>
                  <a:lnTo>
                    <a:pt x="468" y="707"/>
                  </a:lnTo>
                  <a:lnTo>
                    <a:pt x="465" y="706"/>
                  </a:lnTo>
                  <a:lnTo>
                    <a:pt x="465" y="706"/>
                  </a:lnTo>
                  <a:lnTo>
                    <a:pt x="464" y="705"/>
                  </a:lnTo>
                  <a:lnTo>
                    <a:pt x="464" y="704"/>
                  </a:lnTo>
                  <a:lnTo>
                    <a:pt x="464" y="701"/>
                  </a:lnTo>
                  <a:lnTo>
                    <a:pt x="465" y="698"/>
                  </a:lnTo>
                  <a:lnTo>
                    <a:pt x="465" y="698"/>
                  </a:lnTo>
                  <a:lnTo>
                    <a:pt x="469" y="693"/>
                  </a:lnTo>
                  <a:lnTo>
                    <a:pt x="474" y="690"/>
                  </a:lnTo>
                  <a:lnTo>
                    <a:pt x="477" y="687"/>
                  </a:lnTo>
                  <a:lnTo>
                    <a:pt x="482" y="685"/>
                  </a:lnTo>
                  <a:lnTo>
                    <a:pt x="487" y="683"/>
                  </a:lnTo>
                  <a:lnTo>
                    <a:pt x="491" y="682"/>
                  </a:lnTo>
                  <a:lnTo>
                    <a:pt x="495" y="680"/>
                  </a:lnTo>
                  <a:lnTo>
                    <a:pt x="500" y="680"/>
                  </a:lnTo>
                  <a:lnTo>
                    <a:pt x="500" y="680"/>
                  </a:lnTo>
                  <a:lnTo>
                    <a:pt x="498" y="677"/>
                  </a:lnTo>
                  <a:lnTo>
                    <a:pt x="498" y="675"/>
                  </a:lnTo>
                  <a:lnTo>
                    <a:pt x="501" y="672"/>
                  </a:lnTo>
                  <a:lnTo>
                    <a:pt x="504" y="671"/>
                  </a:lnTo>
                  <a:lnTo>
                    <a:pt x="504" y="671"/>
                  </a:lnTo>
                  <a:lnTo>
                    <a:pt x="505" y="658"/>
                  </a:lnTo>
                  <a:lnTo>
                    <a:pt x="507" y="646"/>
                  </a:lnTo>
                  <a:lnTo>
                    <a:pt x="508" y="632"/>
                  </a:lnTo>
                  <a:lnTo>
                    <a:pt x="509" y="618"/>
                  </a:lnTo>
                  <a:lnTo>
                    <a:pt x="509" y="605"/>
                  </a:lnTo>
                  <a:lnTo>
                    <a:pt x="509" y="591"/>
                  </a:lnTo>
                  <a:lnTo>
                    <a:pt x="508" y="576"/>
                  </a:lnTo>
                  <a:lnTo>
                    <a:pt x="507" y="562"/>
                  </a:lnTo>
                  <a:lnTo>
                    <a:pt x="507" y="562"/>
                  </a:lnTo>
                  <a:lnTo>
                    <a:pt x="501" y="555"/>
                  </a:lnTo>
                  <a:lnTo>
                    <a:pt x="496" y="548"/>
                  </a:lnTo>
                  <a:lnTo>
                    <a:pt x="494" y="541"/>
                  </a:lnTo>
                  <a:lnTo>
                    <a:pt x="493" y="534"/>
                  </a:lnTo>
                  <a:lnTo>
                    <a:pt x="493" y="534"/>
                  </a:lnTo>
                  <a:lnTo>
                    <a:pt x="493" y="526"/>
                  </a:lnTo>
                  <a:lnTo>
                    <a:pt x="491" y="518"/>
                  </a:lnTo>
                  <a:lnTo>
                    <a:pt x="489" y="510"/>
                  </a:lnTo>
                  <a:lnTo>
                    <a:pt x="487" y="503"/>
                  </a:lnTo>
                  <a:lnTo>
                    <a:pt x="487" y="503"/>
                  </a:lnTo>
                  <a:lnTo>
                    <a:pt x="482" y="496"/>
                  </a:lnTo>
                  <a:lnTo>
                    <a:pt x="479" y="489"/>
                  </a:lnTo>
                  <a:lnTo>
                    <a:pt x="475" y="482"/>
                  </a:lnTo>
                  <a:lnTo>
                    <a:pt x="472" y="476"/>
                  </a:lnTo>
                  <a:lnTo>
                    <a:pt x="472" y="476"/>
                  </a:lnTo>
                  <a:lnTo>
                    <a:pt x="468" y="471"/>
                  </a:lnTo>
                  <a:lnTo>
                    <a:pt x="466" y="465"/>
                  </a:lnTo>
                  <a:lnTo>
                    <a:pt x="464" y="461"/>
                  </a:lnTo>
                  <a:lnTo>
                    <a:pt x="461" y="457"/>
                  </a:lnTo>
                  <a:lnTo>
                    <a:pt x="461" y="457"/>
                  </a:lnTo>
                  <a:lnTo>
                    <a:pt x="458" y="453"/>
                  </a:lnTo>
                  <a:lnTo>
                    <a:pt x="454" y="447"/>
                  </a:lnTo>
                  <a:lnTo>
                    <a:pt x="451" y="441"/>
                  </a:lnTo>
                  <a:lnTo>
                    <a:pt x="447" y="434"/>
                  </a:lnTo>
                  <a:lnTo>
                    <a:pt x="444" y="427"/>
                  </a:lnTo>
                  <a:lnTo>
                    <a:pt x="440" y="419"/>
                  </a:lnTo>
                  <a:lnTo>
                    <a:pt x="437" y="410"/>
                  </a:lnTo>
                  <a:lnTo>
                    <a:pt x="433" y="400"/>
                  </a:lnTo>
                  <a:lnTo>
                    <a:pt x="433" y="400"/>
                  </a:lnTo>
                  <a:lnTo>
                    <a:pt x="426" y="391"/>
                  </a:lnTo>
                  <a:lnTo>
                    <a:pt x="421" y="387"/>
                  </a:lnTo>
                  <a:lnTo>
                    <a:pt x="415" y="390"/>
                  </a:lnTo>
                  <a:lnTo>
                    <a:pt x="409" y="397"/>
                  </a:lnTo>
                  <a:lnTo>
                    <a:pt x="409" y="397"/>
                  </a:lnTo>
                  <a:lnTo>
                    <a:pt x="404" y="404"/>
                  </a:lnTo>
                  <a:lnTo>
                    <a:pt x="400" y="412"/>
                  </a:lnTo>
                  <a:lnTo>
                    <a:pt x="395" y="419"/>
                  </a:lnTo>
                  <a:lnTo>
                    <a:pt x="391" y="427"/>
                  </a:lnTo>
                  <a:lnTo>
                    <a:pt x="388" y="434"/>
                  </a:lnTo>
                  <a:lnTo>
                    <a:pt x="386" y="441"/>
                  </a:lnTo>
                  <a:lnTo>
                    <a:pt x="383" y="448"/>
                  </a:lnTo>
                  <a:lnTo>
                    <a:pt x="382" y="455"/>
                  </a:lnTo>
                  <a:lnTo>
                    <a:pt x="382" y="455"/>
                  </a:lnTo>
                  <a:lnTo>
                    <a:pt x="380" y="464"/>
                  </a:lnTo>
                  <a:lnTo>
                    <a:pt x="376" y="472"/>
                  </a:lnTo>
                  <a:lnTo>
                    <a:pt x="373" y="480"/>
                  </a:lnTo>
                  <a:lnTo>
                    <a:pt x="369" y="489"/>
                  </a:lnTo>
                  <a:lnTo>
                    <a:pt x="366" y="494"/>
                  </a:lnTo>
                  <a:lnTo>
                    <a:pt x="362" y="501"/>
                  </a:lnTo>
                  <a:lnTo>
                    <a:pt x="358" y="507"/>
                  </a:lnTo>
                  <a:lnTo>
                    <a:pt x="353" y="512"/>
                  </a:lnTo>
                  <a:lnTo>
                    <a:pt x="353" y="512"/>
                  </a:lnTo>
                  <a:lnTo>
                    <a:pt x="353" y="519"/>
                  </a:lnTo>
                  <a:lnTo>
                    <a:pt x="353" y="526"/>
                  </a:lnTo>
                  <a:lnTo>
                    <a:pt x="352" y="534"/>
                  </a:lnTo>
                  <a:lnTo>
                    <a:pt x="350" y="541"/>
                  </a:lnTo>
                  <a:lnTo>
                    <a:pt x="350" y="541"/>
                  </a:lnTo>
                  <a:lnTo>
                    <a:pt x="346" y="547"/>
                  </a:lnTo>
                  <a:lnTo>
                    <a:pt x="343" y="551"/>
                  </a:lnTo>
                  <a:lnTo>
                    <a:pt x="339" y="555"/>
                  </a:lnTo>
                  <a:lnTo>
                    <a:pt x="336" y="556"/>
                  </a:lnTo>
                  <a:lnTo>
                    <a:pt x="336" y="556"/>
                  </a:lnTo>
                  <a:lnTo>
                    <a:pt x="333" y="562"/>
                  </a:lnTo>
                  <a:lnTo>
                    <a:pt x="332" y="568"/>
                  </a:lnTo>
                  <a:lnTo>
                    <a:pt x="330" y="573"/>
                  </a:lnTo>
                  <a:lnTo>
                    <a:pt x="328" y="579"/>
                  </a:lnTo>
                  <a:lnTo>
                    <a:pt x="328" y="579"/>
                  </a:lnTo>
                  <a:lnTo>
                    <a:pt x="326" y="582"/>
                  </a:lnTo>
                  <a:lnTo>
                    <a:pt x="325" y="585"/>
                  </a:lnTo>
                  <a:lnTo>
                    <a:pt x="324" y="587"/>
                  </a:lnTo>
                  <a:lnTo>
                    <a:pt x="323" y="590"/>
                  </a:lnTo>
                  <a:lnTo>
                    <a:pt x="323" y="590"/>
                  </a:lnTo>
                  <a:lnTo>
                    <a:pt x="322" y="593"/>
                  </a:lnTo>
                  <a:lnTo>
                    <a:pt x="321" y="597"/>
                  </a:lnTo>
                  <a:lnTo>
                    <a:pt x="319" y="599"/>
                  </a:lnTo>
                  <a:lnTo>
                    <a:pt x="318" y="601"/>
                  </a:lnTo>
                  <a:lnTo>
                    <a:pt x="318" y="601"/>
                  </a:lnTo>
                  <a:lnTo>
                    <a:pt x="318" y="604"/>
                  </a:lnTo>
                  <a:lnTo>
                    <a:pt x="317" y="607"/>
                  </a:lnTo>
                  <a:lnTo>
                    <a:pt x="316" y="611"/>
                  </a:lnTo>
                  <a:lnTo>
                    <a:pt x="315" y="614"/>
                  </a:lnTo>
                  <a:lnTo>
                    <a:pt x="315" y="614"/>
                  </a:lnTo>
                  <a:lnTo>
                    <a:pt x="314" y="619"/>
                  </a:lnTo>
                  <a:lnTo>
                    <a:pt x="311" y="623"/>
                  </a:lnTo>
                  <a:lnTo>
                    <a:pt x="310" y="629"/>
                  </a:lnTo>
                  <a:lnTo>
                    <a:pt x="308" y="635"/>
                  </a:lnTo>
                  <a:lnTo>
                    <a:pt x="308" y="635"/>
                  </a:lnTo>
                  <a:lnTo>
                    <a:pt x="304" y="647"/>
                  </a:lnTo>
                  <a:lnTo>
                    <a:pt x="301" y="655"/>
                  </a:lnTo>
                  <a:lnTo>
                    <a:pt x="298" y="661"/>
                  </a:lnTo>
                  <a:lnTo>
                    <a:pt x="296" y="662"/>
                  </a:lnTo>
                  <a:lnTo>
                    <a:pt x="296" y="662"/>
                  </a:lnTo>
                  <a:lnTo>
                    <a:pt x="297" y="664"/>
                  </a:lnTo>
                  <a:lnTo>
                    <a:pt x="298" y="667"/>
                  </a:lnTo>
                  <a:lnTo>
                    <a:pt x="300" y="670"/>
                  </a:lnTo>
                  <a:lnTo>
                    <a:pt x="300" y="675"/>
                  </a:lnTo>
                  <a:lnTo>
                    <a:pt x="300" y="675"/>
                  </a:lnTo>
                  <a:lnTo>
                    <a:pt x="298" y="679"/>
                  </a:lnTo>
                  <a:lnTo>
                    <a:pt x="297" y="684"/>
                  </a:lnTo>
                  <a:lnTo>
                    <a:pt x="294" y="687"/>
                  </a:lnTo>
                  <a:lnTo>
                    <a:pt x="290" y="690"/>
                  </a:lnTo>
                  <a:lnTo>
                    <a:pt x="290" y="690"/>
                  </a:lnTo>
                  <a:lnTo>
                    <a:pt x="286" y="692"/>
                  </a:lnTo>
                  <a:lnTo>
                    <a:pt x="280" y="693"/>
                  </a:lnTo>
                  <a:lnTo>
                    <a:pt x="272" y="694"/>
                  </a:lnTo>
                  <a:lnTo>
                    <a:pt x="262" y="694"/>
                  </a:lnTo>
                  <a:lnTo>
                    <a:pt x="262" y="694"/>
                  </a:lnTo>
                  <a:lnTo>
                    <a:pt x="258" y="694"/>
                  </a:lnTo>
                  <a:lnTo>
                    <a:pt x="252" y="694"/>
                  </a:lnTo>
                  <a:lnTo>
                    <a:pt x="248" y="694"/>
                  </a:lnTo>
                  <a:lnTo>
                    <a:pt x="245" y="694"/>
                  </a:lnTo>
                  <a:lnTo>
                    <a:pt x="245" y="694"/>
                  </a:lnTo>
                  <a:lnTo>
                    <a:pt x="241" y="694"/>
                  </a:lnTo>
                  <a:lnTo>
                    <a:pt x="238" y="694"/>
                  </a:lnTo>
                  <a:lnTo>
                    <a:pt x="236" y="694"/>
                  </a:lnTo>
                  <a:lnTo>
                    <a:pt x="233" y="694"/>
                  </a:lnTo>
                  <a:lnTo>
                    <a:pt x="233" y="694"/>
                  </a:lnTo>
                  <a:lnTo>
                    <a:pt x="231" y="694"/>
                  </a:lnTo>
                  <a:lnTo>
                    <a:pt x="228" y="693"/>
                  </a:lnTo>
                  <a:lnTo>
                    <a:pt x="225" y="693"/>
                  </a:lnTo>
                  <a:lnTo>
                    <a:pt x="222" y="693"/>
                  </a:lnTo>
                  <a:lnTo>
                    <a:pt x="222" y="693"/>
                  </a:lnTo>
                  <a:lnTo>
                    <a:pt x="219" y="691"/>
                  </a:lnTo>
                  <a:lnTo>
                    <a:pt x="217" y="687"/>
                  </a:lnTo>
                  <a:lnTo>
                    <a:pt x="217" y="685"/>
                  </a:lnTo>
                  <a:lnTo>
                    <a:pt x="218" y="683"/>
                  </a:lnTo>
                  <a:lnTo>
                    <a:pt x="218" y="683"/>
                  </a:lnTo>
                  <a:lnTo>
                    <a:pt x="216" y="684"/>
                  </a:lnTo>
                  <a:lnTo>
                    <a:pt x="214" y="684"/>
                  </a:lnTo>
                  <a:lnTo>
                    <a:pt x="211" y="684"/>
                  </a:lnTo>
                  <a:lnTo>
                    <a:pt x="209" y="683"/>
                  </a:lnTo>
                  <a:lnTo>
                    <a:pt x="209" y="683"/>
                  </a:lnTo>
                  <a:lnTo>
                    <a:pt x="208" y="680"/>
                  </a:lnTo>
                  <a:lnTo>
                    <a:pt x="207" y="678"/>
                  </a:lnTo>
                  <a:lnTo>
                    <a:pt x="207" y="675"/>
                  </a:lnTo>
                  <a:lnTo>
                    <a:pt x="207" y="671"/>
                  </a:lnTo>
                  <a:lnTo>
                    <a:pt x="207" y="671"/>
                  </a:lnTo>
                  <a:lnTo>
                    <a:pt x="209" y="668"/>
                  </a:lnTo>
                  <a:lnTo>
                    <a:pt x="211" y="665"/>
                  </a:lnTo>
                  <a:lnTo>
                    <a:pt x="215" y="664"/>
                  </a:lnTo>
                  <a:lnTo>
                    <a:pt x="219" y="664"/>
                  </a:lnTo>
                  <a:lnTo>
                    <a:pt x="219" y="664"/>
                  </a:lnTo>
                  <a:lnTo>
                    <a:pt x="226" y="665"/>
                  </a:lnTo>
                  <a:lnTo>
                    <a:pt x="233" y="665"/>
                  </a:lnTo>
                  <a:lnTo>
                    <a:pt x="239" y="664"/>
                  </a:lnTo>
                  <a:lnTo>
                    <a:pt x="245" y="663"/>
                  </a:lnTo>
                  <a:lnTo>
                    <a:pt x="251" y="662"/>
                  </a:lnTo>
                  <a:lnTo>
                    <a:pt x="255" y="660"/>
                  </a:lnTo>
                  <a:lnTo>
                    <a:pt x="260" y="657"/>
                  </a:lnTo>
                  <a:lnTo>
                    <a:pt x="264" y="655"/>
                  </a:lnTo>
                  <a:lnTo>
                    <a:pt x="264" y="655"/>
                  </a:lnTo>
                  <a:lnTo>
                    <a:pt x="265" y="650"/>
                  </a:lnTo>
                  <a:lnTo>
                    <a:pt x="267" y="643"/>
                  </a:lnTo>
                  <a:lnTo>
                    <a:pt x="271" y="636"/>
                  </a:lnTo>
                  <a:lnTo>
                    <a:pt x="276" y="628"/>
                  </a:lnTo>
                  <a:lnTo>
                    <a:pt x="276" y="628"/>
                  </a:lnTo>
                  <a:lnTo>
                    <a:pt x="282" y="620"/>
                  </a:lnTo>
                  <a:lnTo>
                    <a:pt x="287" y="613"/>
                  </a:lnTo>
                  <a:lnTo>
                    <a:pt x="290" y="607"/>
                  </a:lnTo>
                  <a:lnTo>
                    <a:pt x="294" y="601"/>
                  </a:lnTo>
                  <a:lnTo>
                    <a:pt x="294" y="601"/>
                  </a:lnTo>
                  <a:lnTo>
                    <a:pt x="295" y="596"/>
                  </a:lnTo>
                  <a:lnTo>
                    <a:pt x="297" y="589"/>
                  </a:lnTo>
                  <a:lnTo>
                    <a:pt x="300" y="583"/>
                  </a:lnTo>
                  <a:lnTo>
                    <a:pt x="302" y="577"/>
                  </a:lnTo>
                  <a:lnTo>
                    <a:pt x="302" y="577"/>
                  </a:lnTo>
                  <a:lnTo>
                    <a:pt x="305" y="569"/>
                  </a:lnTo>
                  <a:lnTo>
                    <a:pt x="308" y="561"/>
                  </a:lnTo>
                  <a:lnTo>
                    <a:pt x="310" y="555"/>
                  </a:lnTo>
                  <a:lnTo>
                    <a:pt x="311" y="550"/>
                  </a:lnTo>
                  <a:lnTo>
                    <a:pt x="311" y="550"/>
                  </a:lnTo>
                  <a:lnTo>
                    <a:pt x="311" y="543"/>
                  </a:lnTo>
                  <a:lnTo>
                    <a:pt x="311" y="537"/>
                  </a:lnTo>
                  <a:lnTo>
                    <a:pt x="310" y="533"/>
                  </a:lnTo>
                  <a:lnTo>
                    <a:pt x="310" y="529"/>
                  </a:lnTo>
                  <a:lnTo>
                    <a:pt x="310" y="529"/>
                  </a:lnTo>
                  <a:lnTo>
                    <a:pt x="309" y="525"/>
                  </a:lnTo>
                  <a:lnTo>
                    <a:pt x="310" y="518"/>
                  </a:lnTo>
                  <a:lnTo>
                    <a:pt x="312" y="510"/>
                  </a:lnTo>
                  <a:lnTo>
                    <a:pt x="317" y="498"/>
                  </a:lnTo>
                  <a:lnTo>
                    <a:pt x="317" y="498"/>
                  </a:lnTo>
                  <a:lnTo>
                    <a:pt x="317" y="493"/>
                  </a:lnTo>
                  <a:lnTo>
                    <a:pt x="317" y="489"/>
                  </a:lnTo>
                  <a:lnTo>
                    <a:pt x="316" y="483"/>
                  </a:lnTo>
                  <a:lnTo>
                    <a:pt x="316" y="476"/>
                  </a:lnTo>
                  <a:lnTo>
                    <a:pt x="315" y="469"/>
                  </a:lnTo>
                  <a:lnTo>
                    <a:pt x="314" y="461"/>
                  </a:lnTo>
                  <a:lnTo>
                    <a:pt x="311" y="453"/>
                  </a:lnTo>
                  <a:lnTo>
                    <a:pt x="310" y="443"/>
                  </a:lnTo>
                  <a:lnTo>
                    <a:pt x="310" y="443"/>
                  </a:lnTo>
                  <a:lnTo>
                    <a:pt x="308" y="434"/>
                  </a:lnTo>
                  <a:lnTo>
                    <a:pt x="307" y="427"/>
                  </a:lnTo>
                  <a:lnTo>
                    <a:pt x="305" y="419"/>
                  </a:lnTo>
                  <a:lnTo>
                    <a:pt x="304" y="413"/>
                  </a:lnTo>
                  <a:lnTo>
                    <a:pt x="304" y="407"/>
                  </a:lnTo>
                  <a:lnTo>
                    <a:pt x="304" y="403"/>
                  </a:lnTo>
                  <a:lnTo>
                    <a:pt x="304" y="399"/>
                  </a:lnTo>
                  <a:lnTo>
                    <a:pt x="305" y="396"/>
                  </a:lnTo>
                  <a:lnTo>
                    <a:pt x="305" y="396"/>
                  </a:lnTo>
                  <a:lnTo>
                    <a:pt x="301" y="394"/>
                  </a:lnTo>
                  <a:lnTo>
                    <a:pt x="296" y="393"/>
                  </a:lnTo>
                  <a:lnTo>
                    <a:pt x="290" y="392"/>
                  </a:lnTo>
                  <a:lnTo>
                    <a:pt x="285" y="391"/>
                  </a:lnTo>
                  <a:lnTo>
                    <a:pt x="278" y="389"/>
                  </a:lnTo>
                  <a:lnTo>
                    <a:pt x="271" y="387"/>
                  </a:lnTo>
                  <a:lnTo>
                    <a:pt x="264" y="385"/>
                  </a:lnTo>
                  <a:lnTo>
                    <a:pt x="257" y="383"/>
                  </a:lnTo>
                  <a:lnTo>
                    <a:pt x="258" y="383"/>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964120" y="2178000"/>
              <a:ext cx="1214640" cy="82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cp:lastModifiedBy>
  <dcterms:modified xsi:type="dcterms:W3CDTF">2007-05-10T03:57:34Z</dcterms:modified>
  <cp:revision>487</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