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1BA-F5E7-4C15-8C64-23DFCFAE81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EE4C-2D54-41D8-BFE9-AC4B6BDF68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4FDB-47DD-44C4-8D72-4DD9D4E596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DF6-BE5A-4CD6-9F37-AC323264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437-E247-42C2-B936-57E88FE3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7F1-3494-46F5-8417-5F466F10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915-9FF7-4AE6-9D6A-75C641E3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784C-D820-4244-B052-B1177AB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B71-353F-4328-A9F3-3E41A7D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86A7-CDA7-4072-9F35-DB00E38B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2CD8-41D7-4FC7-8076-3B07903E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1398-7570-4C5B-A6A3-DBBA22AA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2A3-69B2-47C1-85C6-E5930C0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287-D96A-4C1C-BE72-66D8470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F32-8BAC-4D35-80F8-0FBE522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C3A2-E502-42AC-9107-36EECA4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5E11-DFA2-4ED7-BA62-C6E199A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1E6F-90F2-4CF5-BEC3-D1771657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F1B-A944-4218-A85D-A158DC04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11E7-7F07-4B34-8C2C-6AF38AA8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7C0-BD2D-425D-BE77-71D18F5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D24-061E-4F85-B64C-EFC3E39E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A90-1DE2-4434-B62F-6C652FD9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489-7FAB-462C-8EA8-CB134FB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F83-3534-47A1-AC09-D5FCAE1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545-4EE2-4395-8DD8-C137F9D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94A-2270-45A9-81D8-12DEEF1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F5DC-D4A8-4B17-950C-3428B230B91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Terceira Dim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26920" cy="4005000"/>
            <a:chOff x="0" y="0"/>
            <a:chExt cx="826920" cy="4005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2120" y="1847160"/>
              <a:ext cx="7848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166680" y="0"/>
              <a:ext cx="37368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80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42120" y="768960"/>
              <a:ext cx="74808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0" y="3833640"/>
            <a:ext cx="971640" cy="3024360"/>
            <a:chOff x="0" y="3833640"/>
            <a:chExt cx="971640" cy="3024360"/>
          </a:xfrm>
        </p:grpSpPr>
        <p:pic>
          <p:nvPicPr>
            <p:cNvPr id="12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971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952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952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8DD-7560-489B-AF88-CC56B1EEEA3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432080" cy="4005000"/>
            <a:chOff x="0" y="0"/>
            <a:chExt cx="1432080" cy="400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73080" y="1847160"/>
              <a:ext cx="13590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289080" y="0"/>
              <a:ext cx="64764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13874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3080" y="768960"/>
              <a:ext cx="129564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0" y="3833640"/>
            <a:ext cx="1402920" cy="3024360"/>
            <a:chOff x="0" y="3833640"/>
            <a:chExt cx="1402920" cy="30243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1402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1375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1375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Terceira Dimensã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Normais nos extremos de cada linha são interpoladas ao longo d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da cor dos pontos internos da face é feita a partir da Normal para cada p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2646360"/>
            <a:ext cx="5078160" cy="337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 curvas em objetos que não as possu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16048"/>
          <a:stretch/>
        </p:blipFill>
        <p:spPr>
          <a:xfrm>
            <a:off x="1258920" y="2349360"/>
            <a:ext cx="30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4251240"/>
            <a:ext cx="36007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8101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&gt; representa a geração de imagens com a inclusão de procedimentos específicos para torná-las mais real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deve ser criada considerando as características físicas do objeto, sua interação com as fontes de iluminação da cena e com os demai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4581360"/>
            <a:ext cx="2089440" cy="181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56360" y="4365720"/>
            <a:ext cx="15685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posta do algoritm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ouraud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suavizar a transição entre a coloração de faces adjac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e uma face, portanto, não pode ser constante. Ela deve variar de modo que nas fronteiras entre faces as cores possam ser “combinada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sa forma a aresta que marca a passagem de uma face para outra ficará “escondida” pela variação das 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bter suavidade na exibição de objetos com superfícies curvas quando representados por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vértice é calculado um novo Vetor Normal que é a média das normais das faces que compartilham o vér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r é calculada em cada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álculo da cor dos pontos internos da face é feita por interpolaç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polated shad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42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ntos de brilho especular são atenu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tentar suavizar as transições entre as faces da intensidade de luz refletida, efeitos associados a variações abruptas dessa intensidade são elimin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, as imagens geradas pelo algoritmo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Gourau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êm como “assinatura” a aparência fosca, típica de superfícies em que a componente difusa da luz refletida é predomin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: Coloração de Gou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3573"/>
          <a:stretch/>
        </p:blipFill>
        <p:spPr>
          <a:xfrm>
            <a:off x="1258920" y="2421000"/>
            <a:ext cx="3025800" cy="203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1950" b="11235"/>
          <a:stretch/>
        </p:blipFill>
        <p:spPr>
          <a:xfrm>
            <a:off x="4788000" y="4116240"/>
            <a:ext cx="3960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empírico introduzido em 1975 por B. Ph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três tipos de interação luz-ob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difusa: luz incidente refletida em todas as direções. Em superfícies difusoras perfeitas, a intensidade é igual em todas essas dire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especular: luz incidente é refletida em direções com ângulos próximos da direção de reflexão que um espelho proporcionaria. Em superfícies especulares perfeitas, toda a reflexão se dá num ângulo igual ao de incid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lexão da luz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bter suavidade na exibição de objetos com superfícies curvas quando representados por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ém o brilho espe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vértice é calculado um novo Vetor Normal que é a média das normais das faces que compartilham o vértice. Este Vetor é interpolado ao longo das ar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3:55:21Z</dcterms:modified>
  <cp:revision>48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