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3.wmf" ContentType="image/x-wmf"/>
  <Override PartName="/ppt/media/image1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5.png" ContentType="image/png"/>
  <Override PartName="/ppt/media/image11.wmf" ContentType="image/x-wmf"/>
  <Override PartName="/ppt/media/image26.png" ContentType="image/png"/>
  <Override PartName="/ppt/media/image36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3.png" ContentType="image/png"/>
  <Override PartName="/ppt/media/image33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2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9423-DC3D-4759-B4FE-61708980A4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C228-A2CD-43CC-AE0C-3E7FB3D6DA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A66-6880-4B13-ACA9-54974F65ED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A4A-DEE9-462C-B4F9-27810E8C9F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E117-3EC1-4954-8D03-8532A03DD8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7A5-23DE-451E-BB2F-FF6120A0F4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4094-EA3C-45F0-B46A-FC54E85378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A55-D3EE-4B46-BCA0-967F74EF0C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D4B3-8607-46A6-8358-E28411B52A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9B8A-0192-4E8E-B969-7D07C07E7B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919-5F38-4035-81C8-DA995625A9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3F4-53B6-4662-B0DE-5962FAEDF4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1AC-1F8A-49A4-BCB1-CCF68FB05D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934E-2C9C-4415-AD55-2A6DCDD711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CE35-AD64-4BD9-BFFD-919F3350D0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DF3-0002-4D5C-824F-1D527A95ED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FE1-CF30-435B-90E7-0D2416B4A5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6CE3-7B4E-4B87-ACE2-B7ED42BBB6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9FD-1409-40C2-A8D3-0621DFCA10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64D-25B2-4D46-BDEB-4298B69DC6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ED5B-79DF-450C-B1F7-2834AC7887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97A-F0D0-4824-97FD-38464FCB6A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429-E7B3-4D5F-8C83-4CB00367E3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483-ED35-4B08-B8FA-376B7DEA0E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6794-4899-4F61-8CF0-ACAA4B92E6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DA9-80C4-4F69-AAAD-675060FC64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670-744D-4D12-AACA-B24D9EBF6A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718-8F50-4AC3-8B21-97DC3D741A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AE1-EEB5-4477-8137-B13F48EBE8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745-3901-4F20-BEE5-6E26250BD1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7F1-4D18-4705-A5FC-5A59D5CEDC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186-32B2-479D-A79A-6B12235C04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087-29FB-47E1-A628-114679389A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40F-4541-486A-ACEE-CFD98A173E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137-ABB4-42BE-8171-01FDBA9230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369C-11EB-45C1-8389-C3843721FD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C8F-85EB-496C-9CD4-B43E232B77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9B53-48DA-42F7-9C48-45FBA3EF0E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060-B539-480D-9C10-CCF85BBDA5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91D-3CE8-4209-A1DB-F1D42E593B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0989-4669-457E-B561-5083B0DCBA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289-9297-4A39-BB71-034B7CA76F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9EE-0D91-469A-97EF-6D50CA0D35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592-FA4F-4A3A-A141-0A83FF3A1B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1297-F7B3-42E8-9FE2-D589320181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51A-99AC-48BB-BEB4-F7A33CB1DE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379-C416-475D-93C1-99E2F5A9D3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288-85C5-403F-BB95-38742EC8DB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BCD8-F670-46A7-A9B3-DD1636A5B8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3C4-706E-4688-8F8D-2DCD9F1FC8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90FB-86E1-4D48-AE06-1C09A40304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14F-2B32-4911-AD96-57A38B42FA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0F0F-9FF9-4AB4-A281-E42DAE457F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02C6-8BBE-4C84-AF19-156D80176D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8D2F-AD60-4574-8D55-70065BAE68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4810-25A4-4DC6-92EC-396EB9092B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B603-BDB1-4C0A-8F9A-6AD11067D4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33EC-F3F2-4D94-94D5-35710A13EE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084-8BE1-4CF3-83EE-B18C2113DD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51AE-29DC-449B-B2B8-B2DEA564AC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99DF-E363-48E2-A4B8-7B8D64357F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D71C-59C6-4058-8F36-8FCB0A3738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21AF-2FA7-400A-9804-E0FAD687A7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7C9-A4B9-49B9-8135-3086B770B3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F072-3CF0-40A5-88E4-04A84885E6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229-ED77-4C54-B49A-7B0AABAE47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E82-4413-4CD5-912A-658CB6DFE2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81F-9989-4327-B00B-CB6976E37A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506-F41A-472F-8B99-B984597E55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619-B514-4F53-AE6C-47699F7D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4D6-CFA0-4EB2-B8A9-2BD13836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4CC-6BC2-4831-AB21-E38FEBCD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C23-3DBB-4BE0-9AC5-CB30C3A0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2577-0A89-44AC-B95F-646BD59E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1DE9-E2C8-4F54-B124-692D9F8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5CB-83D7-4D96-BF60-13D0C5F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7728-2A6E-4D5E-A122-17152E61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1779-5184-400B-A510-4AA591F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9B36-84E9-4225-8F50-A31EB959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A65D-8198-4582-B9BE-6709C49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72C-E52C-4E91-99A7-25C1358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A9A5-081C-4502-ACC0-A1D3858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CE01-DFF2-461B-99B8-87ECE47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36FF-35D0-457F-9EA0-DBA73C2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28C-7932-4545-8E0E-9435BAF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986-673F-4541-847A-1A2084BA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CEF-7DD3-4332-B58C-9856F895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67-6DC8-4390-8FC9-574F6C4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AB7-9D4C-44D6-B76C-6673D74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B93-C1F4-46A3-8A04-95E8104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5FE-886F-46B3-92A5-5DD1E66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EB5-79E8-4BEF-B0AF-5CFB792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91E-082B-4D4F-BAB4-856F4AA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6E01-7AE0-4226-8791-7E45B785AA1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Terceira Dim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26920" cy="4005000"/>
            <a:chOff x="0" y="0"/>
            <a:chExt cx="826920" cy="4005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2120" y="1847160"/>
              <a:ext cx="7848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166680" y="0"/>
              <a:ext cx="37368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80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42120" y="768960"/>
              <a:ext cx="74808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0" y="3833640"/>
            <a:ext cx="971640" cy="3024360"/>
            <a:chOff x="0" y="3833640"/>
            <a:chExt cx="971640" cy="3024360"/>
          </a:xfrm>
        </p:grpSpPr>
        <p:pic>
          <p:nvPicPr>
            <p:cNvPr id="12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971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952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952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87B-16CB-411C-B8D9-834DDFCA5A7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432080" cy="4005000"/>
            <a:chOff x="0" y="0"/>
            <a:chExt cx="1432080" cy="400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73080" y="1847160"/>
              <a:ext cx="13590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289080" y="0"/>
              <a:ext cx="64764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13874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3080" y="768960"/>
              <a:ext cx="129564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0" y="3833640"/>
            <a:ext cx="1402920" cy="3024360"/>
            <a:chOff x="0" y="3833640"/>
            <a:chExt cx="1402920" cy="30243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1402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1375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1375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jurema-sampaio.pro.br/VRML/teste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Terceira Dimensã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polig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sta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érti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es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has polig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erfícies poligonais aber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ied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erfícies poligonais fech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reções perpendiculares às 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ha poli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39756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is às faces de um cu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5720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l a um vér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57200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curvas - moti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nversão para polígonos só é feita no instante de elabor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adaptar a resolução poligonal à resolução d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ervam a geometria exata dos obj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ante para gerar dados para a fabr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também ser mais efic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guras que teriam que ser representadas por modelos poligonais muito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cur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fícies cô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feras, elipses, cilindros, con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fícies cúb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de Bézier, “splines”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alho cúb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695680"/>
            <a:ext cx="682956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 cúb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7703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ometria sólida constru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booleanas sobre sólidos bás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conceitualmente fác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sempre produz resultados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sonância com modelos baseados em superfí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ção de geometria sólida constru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Terceira Dimensão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ação gráfica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e imagens tridimens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0000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ões de varre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as por deslocamento de uma forma 2D ao longo de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jetó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mento parale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ru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olução em torno de um eixo: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de rev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4537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extru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95680" y="1484280"/>
            <a:ext cx="302904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3D - Modelos procediment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m objetos de geometria muito complex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são descritos por algoritm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dos para imitar muitos fenômenos natur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rau de detalhe pode ser controlado para evitar tempos excessivos de elab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modelos procediment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ctais: relevo, hidrografia, formas abstra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ftais: plan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partículas: fogo, névoa, vap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físicos: baseadas nas propriedades físicas de objeto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tanha fra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2400480"/>
            <a:ext cx="60199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2852280"/>
            <a:ext cx="3240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ftal em forma de samamb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486320" cy="38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3D - Modelos volumét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m tanto a superfície como o interior dos obje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paço é dividido em cubos elementar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oxel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com cor e transparência individu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dos para a reconstituição de objetos naturais: tomografias, subs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âmeras virtu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m como a cena 3D será projetada em imagens 2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baseado na imitação de câmeras verdadei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típicos: posição, alvo, aber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vimentos das câmeras virtu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zoom - mudança da aber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35160" y="2286000"/>
            <a:ext cx="517068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tr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XF, padrão tridimensional AutoC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ES, padrão de CAD independente de fabric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DS, formato binário do 3D Stu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RML, para modelos de realidade vir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l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08080" y="2209680"/>
            <a:ext cx="53737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09960" y="2362320"/>
            <a:ext cx="557676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a ab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57400" y="2343240"/>
            <a:ext cx="540072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t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1703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tridimensi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e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569124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em fio de a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ostra as arestas, com as faces transpar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com linhas ocul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ostras as arestas, com as faces opa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tenção de imagem fotore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em fio-de-a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2836800"/>
            <a:ext cx="72392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com linhas oc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639880"/>
            <a:ext cx="74674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3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 de esca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de imagen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ção de imagens representativas de projeções da cena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i normalmente a etapa de produção mais intensiva em processamento, mas não precisa de intervenção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03640" y="4149720"/>
            <a:ext cx="3241800" cy="2424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76360" y="48679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paisagem renderizada computacionalmen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de um editor gráfico 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primitiva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estruturas gráfica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lineares e não-lineare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ualização básica 3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ementos da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da cena, incluindo geometria e mater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âmeras e lu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a imagem: resolução, canais, grau de fotore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alidades de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-de-a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vistas da geometria para fins de model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prelimi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imagens para aval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defini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imagens para pós-produção e gra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 de a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85920" y="2438280"/>
            <a:ext cx="4967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 de arame com antipseudoní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9676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preli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0" y="2629080"/>
            <a:ext cx="4581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lumin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 a intensidade de cada canal, de cada pixel e de cada imagem 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geometria e materiais da c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câme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luz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im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origi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7707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reduz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18148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de refle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0227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42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tridimensi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4864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5120" y="2646360"/>
            <a:ext cx="5078160" cy="3375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chap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2228760"/>
            <a:ext cx="524844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85920" y="2286000"/>
            <a:ext cx="52722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36680" y="2362320"/>
            <a:ext cx="50691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ação de técnicas de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20840" y="2655720"/>
          <a:ext cx="8548560" cy="26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2655720"/>
                    <a:ext cx="854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m detalhes complexos através da projeção de imagens 2D sobre uma superfíc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efeitos atraentes, mas aumentam muito o tempo de elabo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imagens 2D podem também ser usadas para simular a rugosidade 3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e tex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13000" y="2362320"/>
            <a:ext cx="50688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pla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84400" y="2219400"/>
            <a:ext cx="53737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cilínd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36680" y="2286000"/>
            <a:ext cx="50691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e imag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85920" y="2362320"/>
            <a:ext cx="52722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35280" y="623736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a de editor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68348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a de rugos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79132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bras, reflexos e refr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em em muito para o realismo apar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calculadas por métodos aproxim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segundo as leis da ótica requer o rastreamento de ra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a com dois ob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77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par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77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alidade vir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artificial apresentado a um usuário de forma a que se assemelhe o máximo possível a um ambiente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ais avançados são imers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para grupos: mundos virtu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tares: representações d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: V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6021360"/>
            <a:ext cx="76327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mplo de extrusão em VRM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jurema-sampaio.pro.br/VRML/teste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ers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es gráficos miniaturiz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óculos especiais ou capace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m uma imagem para cada olho, criando tridimension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que monitoram as ações do usuá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culos e capacetes que sentem os movimentos da cabeç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ers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sores de tato (dispositivos háptic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uvas e trajes senso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velmente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força para dar ilusão de soli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217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ualização em naveg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03640" y="1608120"/>
            <a:ext cx="55785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or de 3DS para VRML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7913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2374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 exibido em um naveg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75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editores tr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DStudio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ftimage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todos de representação tr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geomét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poligo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cur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ões de varredu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metria sólida constru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procedim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volumét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geomét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êm informação da geometria de uma cena: objetos, facetas, arestas, vér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struídos com editores 3D internos ou externos a um sistema de animação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êm informação adicional sobre a natureza das superfícies (cor, material, textura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17:46:17Z</dcterms:modified>
  <cp:revision>46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