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C23-69FC-4BC1-A548-DFC988CF6E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BD50-1F87-4626-95A4-750EACD949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F493-5CC3-4903-A7E9-4E319153130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EC7A-6279-4221-ADDE-F1F9EC0028B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0670-F889-40DF-BDF9-90FA7BCE1AE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9F4D-E70A-41C0-922F-D91EEA8BEA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03C0-FB59-4301-8123-D982F23375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BA2D-88AF-455C-8FE9-D2376B05C0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831-6747-4EB7-A23D-9B04C06843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7336-DC00-41EC-90FA-08350A12FC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C4F-1BE1-49DC-A7FB-1B654CC7BD9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DB0D-FF37-4718-B070-E6C16102A3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ADE3-E22C-47ED-87A3-96037DD639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9C85-72C3-4E3C-AA0D-E5DC9FE35F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48D-C19C-4579-8B52-D853B99A88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967B-8F70-41CB-A65C-2A32A7D7E2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163-7F1E-43E7-85E2-9249F746EC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A97E-F84F-4F5A-AE9F-4F990BA443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9D34-90D9-4BEE-9FAD-379C1AA99A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3467-135B-4A14-A275-DB62AB60397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3FEC-2EA1-40E2-8993-4471C9D872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33D3-4E74-42D9-985E-07006C03975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6FDB-1AC2-4C6E-A39A-99FFD859B9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6C5-6A4C-4FD6-B76D-688547155E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565-D42F-4DEB-AE3D-35AD0809C5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1762-CA18-4330-B283-F20C8C5302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5DE-BFBD-4606-893A-F9615DCF883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EC8-DBC5-45C8-8525-62FF2777C4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B431-2E35-4B4F-BA11-DB02C0C708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AF98-3C9E-43F3-A31A-073A96F9DC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8478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AFB-233E-4032-9785-2AA395F3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982-68E4-46E8-A994-C0E05EA0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6F3-0549-4419-9335-06F6C26A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C75-7519-4373-BB05-17EF7DBC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45F7-2B32-4D43-9BA8-82DAE5E4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00BD-49CB-4E6F-8857-7A16A516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6BA1-C7C7-4324-B85F-9C3D263B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E90A-35C8-4A94-A981-D4846657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007-C9DD-4EF7-B062-F3238B6F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3AB4-E9B2-46F2-87E1-06342027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60F9-40D4-4181-BE45-DB0D6960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42B-29EB-4DD4-8A18-EA838959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A9E9-1DF9-4C58-80CE-7F3D0BF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2733-0B8F-46D9-8121-B196D77A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792F-5BA2-4A83-BDB2-D20604B0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FA49-5717-477E-9D5F-78865A0E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624-F91C-4F58-86CC-CB3CB6F3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F1A-8FC1-4300-939E-AA22A506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537-6440-4E9A-8808-98DF5485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C9A-D1EE-43E1-A312-9A87ED51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FF12-4711-4D44-BAB0-E7F21169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423-1BB1-44DB-9896-14C4AC0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72A-7B4C-4C5F-AAF9-5421D051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6AF-353A-4631-836B-C303D0D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B74-921D-4530-852E-79EC9BAAFFE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e Desen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611280" cy="6741720"/>
            <a:chOff x="0" y="0"/>
            <a:chExt cx="611280" cy="674172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1182600" y="1182600"/>
              <a:ext cx="29462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 rot="5400000">
              <a:off x="-972360" y="5188320"/>
              <a:ext cx="2555280" cy="5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3018600"/>
              <a:ext cx="611280" cy="102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611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95C4-46DE-4DC7-95D7-CFB66B4A9B95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-360" y="189000"/>
            <a:ext cx="1403640" cy="6481440"/>
            <a:chOff x="-360" y="189000"/>
            <a:chExt cx="1403640" cy="64814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 rot="5400000">
              <a:off x="-749520" y="938160"/>
              <a:ext cx="2832480" cy="13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 rot="5400000">
              <a:off x="-527760" y="4809240"/>
              <a:ext cx="2456640" cy="12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0" y="3090960"/>
              <a:ext cx="1403280" cy="98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403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s Desenho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geométricas - descritíveis por fórmulas matem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 primeiro gra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dr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 segundo gra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úb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 terceiro gra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não-geométr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e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apas de pixels embutidos nos desenh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riados como texto artístico ou importados de processadores de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não-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71294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bidimensionais 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ar de po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igon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 aberta de po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ígo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qüência fechada de pontos (pode ter interi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âng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aso particular de políg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71280" y="1700280"/>
            <a:ext cx="771516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840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s bidimensionais quadr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itiva básica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ip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írc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aso particular da elip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ções de formas lineares e quadráticas  (por exemplo, retângulo arredond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6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rvas cúb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das por concatenação de trechos de curva descritos por polinômios do terceiro gra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mais comun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rvas de Bézi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plin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plin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uma curva paramétrica definida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ntos de contr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urvas de Bézi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Segmento de curva definido por quatro pon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rvam a curvatura nas ampli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m modelagem rápida e flexível de contornos arbitrários e desenhados à mão liv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093000"/>
            <a:ext cx="7775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term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p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vem da área de desenho em engenharia, em que uma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p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pedaço de madeira ou metal flexível usado para desenhar curvas sua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priedades das curvas de Bézi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trechos são separados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orma de cada trecho é determinada pel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ntos de contro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s de controle: nodos e extremidades das tangentes à curva nos no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rva de Béz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84360" y="2708280"/>
            <a:ext cx="42354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77300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s dos textos (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 ser tratado posteriorm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s das 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ilos (negrito, itálico, sublinha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inh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e orien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s Desenhos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bidimen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ear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descritíveis por fórmulas matemáticas do primeiro gra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ão-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ão-descritíveis por fórmulas matemáticas do primeiro gr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line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s de esca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salh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l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47600" y="2590920"/>
            <a:ext cx="73882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e escala unifor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72007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e escala diferen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64785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708012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salh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2795760"/>
            <a:ext cx="650700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das transformações 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ção do aspecto de primitivas e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etição de primitivas e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mov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de visu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bidimen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redução e ampli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cor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liminação das partes da figura externas a uma figura de recor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é-visual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visualização mais aproximada da figura impre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não-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s para efeitos espe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pseudotridimensionai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ru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lsa perspectiv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ormações não-lineares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voltór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amorfos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de desenh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no espaço de objetos = representação vetorial (geométri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mitiva gráf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unidade de dado geométr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idade gráf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rimitiva ou coleção de prim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não-linea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60674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31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 de modelos geomét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tarquivos gráf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rquivos de desenho acessíveis a aplicat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são de varred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senh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m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toriz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magem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de meta-arquivos gráf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G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drão independente de fabric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X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formato 3D  do  Autocad, com subconjunto 2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M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drão do Windo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formato avançado do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de arquivos de impres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ra dispositivos Postscrip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 versão   encapsulada  da linguagem Postscrip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PG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ou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 para  “plotters” compatíveis com H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dos arquivos veto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menor que o dos arquivos de im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rvação da precisão nas ampli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ia das operações de processamento é feita de forma muito mais fácil e e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os arquivos veto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adequação para imagens natur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ecto dependente do programa e do dispositivo de exibi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 para exibição proporcional à complexidade do mod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de um editor gráfico 2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de primitiv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ção de atribu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ção de estruturas gráf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lineares e não-linea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u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7T16:38:42Z</dcterms:modified>
  <cp:revision>466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