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573F-5318-41A0-AD90-CFD6BF98BFC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5C65-6287-4822-9995-88442C36D1C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049400" y="770040"/>
            <a:ext cx="4821120" cy="3616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42840" y="4618080"/>
            <a:ext cx="50342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5753-24B3-41B7-9500-5EE2C4E98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0842-B37A-490B-AAE7-4F51EA2A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79CD-109A-4380-A076-CD901BABA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F3B7-A1A8-46F7-BE99-771C19DF2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7369-36F5-4BBB-B268-12B8D4683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31C42-CD13-427B-9CEA-1606165A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1A3C-4395-4ABB-902F-753D790B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60E1-C291-4414-B9FA-751BEEFE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A89E-832D-4DC3-9828-F8A58265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1A98-EC93-488C-8813-67941368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DAEB-D605-4449-91E1-0E57C759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A917-24AB-463A-B5FA-AE36AD39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E84A-F5AD-4186-9988-A364F1BE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CA0D-D175-4752-831A-7CE077B5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D919-488C-4E7A-9325-0175BC2C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F1372-14CA-45BE-A6E4-F5D04B6D5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A56F-4028-4456-A323-CDDFAE270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C2E0-0666-4863-8B18-2783056A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3DE0-7B49-4E3D-B65C-EA8141A0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B919-2B6D-4F2F-9617-3D2CC017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383F-0C9E-40EC-9245-5F55C522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C8F3-2C52-4686-80E5-CD169DA6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5DCB-2B7C-4833-9FBD-52A1509F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3C2F-5533-4F95-9799-4BB0B85B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wmf"/><Relationship Id="rId8" Type="http://schemas.openxmlformats.org/officeDocument/2006/relationships/image" Target="../media/image6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3.png"/><Relationship Id="rId14" Type="http://schemas.openxmlformats.org/officeDocument/2006/relationships/image" Target="../media/image5.wmf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1.xml"/><Relationship Id="rId17" Type="http://schemas.openxmlformats.org/officeDocument/2006/relationships/slideLayout" Target="../slideLayouts/slideLayout2.xml"/><Relationship Id="rId18" Type="http://schemas.openxmlformats.org/officeDocument/2006/relationships/slideLayout" Target="../slideLayouts/slideLayout3.xml"/><Relationship Id="rId19" Type="http://schemas.openxmlformats.org/officeDocument/2006/relationships/slideLayout" Target="../slideLayouts/slideLayout4.xml"/><Relationship Id="rId20" Type="http://schemas.openxmlformats.org/officeDocument/2006/relationships/slideLayout" Target="../slideLayouts/slideLayout5.xml"/><Relationship Id="rId21" Type="http://schemas.openxmlformats.org/officeDocument/2006/relationships/slideLayout" Target="../slideLayouts/slideLayout6.xml"/><Relationship Id="rId22" Type="http://schemas.openxmlformats.org/officeDocument/2006/relationships/slideLayout" Target="../slideLayouts/slideLayout7.xml"/><Relationship Id="rId23" Type="http://schemas.openxmlformats.org/officeDocument/2006/relationships/slideLayout" Target="../slideLayouts/slideLayout8.xml"/><Relationship Id="rId24" Type="http://schemas.openxmlformats.org/officeDocument/2006/relationships/slideLayout" Target="../slideLayouts/slideLayout9.xml"/><Relationship Id="rId25" Type="http://schemas.openxmlformats.org/officeDocument/2006/relationships/slideLayout" Target="../slideLayouts/slideLayout10.xml"/><Relationship Id="rId26" Type="http://schemas.openxmlformats.org/officeDocument/2006/relationships/slideLayout" Target="../slideLayouts/slideLayout11.xml"/><Relationship Id="rId2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wmf"/><Relationship Id="rId8" Type="http://schemas.openxmlformats.org/officeDocument/2006/relationships/image" Target="../media/image6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3.png"/><Relationship Id="rId14" Type="http://schemas.openxmlformats.org/officeDocument/2006/relationships/image" Target="../media/image5.wmf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13.xml"/><Relationship Id="rId17" Type="http://schemas.openxmlformats.org/officeDocument/2006/relationships/slideLayout" Target="../slideLayouts/slideLayout14.xml"/><Relationship Id="rId18" Type="http://schemas.openxmlformats.org/officeDocument/2006/relationships/slideLayout" Target="../slideLayouts/slideLayout15.xml"/><Relationship Id="rId19" Type="http://schemas.openxmlformats.org/officeDocument/2006/relationships/slideLayout" Target="../slideLayouts/slideLayout16.xml"/><Relationship Id="rId20" Type="http://schemas.openxmlformats.org/officeDocument/2006/relationships/slideLayout" Target="../slideLayouts/slideLayout17.xml"/><Relationship Id="rId21" Type="http://schemas.openxmlformats.org/officeDocument/2006/relationships/slideLayout" Target="../slideLayouts/slideLayout18.xml"/><Relationship Id="rId22" Type="http://schemas.openxmlformats.org/officeDocument/2006/relationships/slideLayout" Target="../slideLayouts/slideLayout19.xml"/><Relationship Id="rId23" Type="http://schemas.openxmlformats.org/officeDocument/2006/relationships/slideLayout" Target="../slideLayouts/slideLayout20.xml"/><Relationship Id="rId24" Type="http://schemas.openxmlformats.org/officeDocument/2006/relationships/slideLayout" Target="../slideLayouts/slideLayout21.xml"/><Relationship Id="rId25" Type="http://schemas.openxmlformats.org/officeDocument/2006/relationships/slideLayout" Target="../slideLayouts/slideLayout22.xml"/><Relationship Id="rId26" Type="http://schemas.openxmlformats.org/officeDocument/2006/relationships/slideLayout" Target="../slideLayouts/slideLayout23.xml"/><Relationship Id="rId2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3029-1D3D-499A-9AF2-B362A3737BF3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755640" cy="6858000"/>
            <a:chOff x="0" y="0"/>
            <a:chExt cx="755640" cy="685800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0" y="447840"/>
              <a:ext cx="755640" cy="92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vid5" descr=""/>
            <p:cNvPicPr/>
            <p:nvPr/>
          </p:nvPicPr>
          <p:blipFill>
            <a:blip r:embed="rId3"/>
            <a:srcRect l="0" t="0" r="0" b="29904"/>
            <a:stretch/>
          </p:blipFill>
          <p:spPr>
            <a:xfrm>
              <a:off x="0" y="1284120"/>
              <a:ext cx="755640" cy="1113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" name=""/>
            <p:cNvGrpSpPr/>
            <p:nvPr/>
          </p:nvGrpSpPr>
          <p:grpSpPr>
            <a:xfrm>
              <a:off x="0" y="2292480"/>
              <a:ext cx="755280" cy="360000"/>
              <a:chOff x="0" y="2292480"/>
              <a:chExt cx="755280" cy="360000"/>
            </a:xfrm>
          </p:grpSpPr>
          <p:pic>
            <p:nvPicPr>
              <p:cNvPr id="9" name="" descr=""/>
              <p:cNvPicPr/>
              <p:nvPr/>
            </p:nvPicPr>
            <p:blipFill>
              <a:blip r:embed="rId4"/>
              <a:stretch/>
            </p:blipFill>
            <p:spPr>
              <a:xfrm flipH="1">
                <a:off x="0" y="2292480"/>
                <a:ext cx="252000" cy="36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5"/>
              <a:stretch/>
            </p:blipFill>
            <p:spPr>
              <a:xfrm flipH="1">
                <a:off x="251640" y="2292480"/>
                <a:ext cx="253080" cy="36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" name="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502560" y="2292480"/>
                <a:ext cx="252720" cy="360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" name="" descr=""/>
            <p:cNvPicPr/>
            <p:nvPr/>
          </p:nvPicPr>
          <p:blipFill>
            <a:blip r:embed="rId7"/>
            <a:stretch/>
          </p:blipFill>
          <p:spPr>
            <a:xfrm>
              <a:off x="0" y="2652840"/>
              <a:ext cx="755640" cy="84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" name="" descr=""/>
            <p:cNvPicPr/>
            <p:nvPr/>
          </p:nvPicPr>
          <p:blipFill>
            <a:blip r:embed="rId8"/>
            <a:stretch/>
          </p:blipFill>
          <p:spPr>
            <a:xfrm>
              <a:off x="0" y="6546960"/>
              <a:ext cx="755640" cy="31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" name="" descr=""/>
            <p:cNvPicPr/>
            <p:nvPr/>
          </p:nvPicPr>
          <p:blipFill>
            <a:blip r:embed="rId9"/>
            <a:stretch/>
          </p:blipFill>
          <p:spPr>
            <a:xfrm>
              <a:off x="0" y="3471840"/>
              <a:ext cx="755640" cy="9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" name="vid5" descr=""/>
            <p:cNvPicPr/>
            <p:nvPr/>
          </p:nvPicPr>
          <p:blipFill>
            <a:blip r:embed="rId10"/>
            <a:srcRect l="0" t="0" r="0" b="29904"/>
            <a:stretch/>
          </p:blipFill>
          <p:spPr>
            <a:xfrm>
              <a:off x="0" y="4308480"/>
              <a:ext cx="755640" cy="1112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" name=""/>
            <p:cNvGrpSpPr/>
            <p:nvPr/>
          </p:nvGrpSpPr>
          <p:grpSpPr>
            <a:xfrm>
              <a:off x="0" y="5316480"/>
              <a:ext cx="755280" cy="360000"/>
              <a:chOff x="0" y="5316480"/>
              <a:chExt cx="755280" cy="360000"/>
            </a:xfrm>
          </p:grpSpPr>
          <p:pic>
            <p:nvPicPr>
              <p:cNvPr id="17" name="" descr=""/>
              <p:cNvPicPr/>
              <p:nvPr/>
            </p:nvPicPr>
            <p:blipFill>
              <a:blip r:embed="rId11"/>
              <a:stretch/>
            </p:blipFill>
            <p:spPr>
              <a:xfrm flipH="1">
                <a:off x="0" y="5316480"/>
                <a:ext cx="252000" cy="36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" name="" descr=""/>
              <p:cNvPicPr/>
              <p:nvPr/>
            </p:nvPicPr>
            <p:blipFill>
              <a:blip r:embed="rId12"/>
              <a:stretch/>
            </p:blipFill>
            <p:spPr>
              <a:xfrm flipH="1">
                <a:off x="251640" y="5316480"/>
                <a:ext cx="253080" cy="36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" name="" descr=""/>
              <p:cNvPicPr/>
              <p:nvPr/>
            </p:nvPicPr>
            <p:blipFill>
              <a:blip r:embed="rId13"/>
              <a:stretch/>
            </p:blipFill>
            <p:spPr>
              <a:xfrm flipH="1">
                <a:off x="502560" y="5316480"/>
                <a:ext cx="252720" cy="360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0" name="" descr=""/>
            <p:cNvPicPr/>
            <p:nvPr/>
          </p:nvPicPr>
          <p:blipFill>
            <a:blip r:embed="rId14"/>
            <a:stretch/>
          </p:blipFill>
          <p:spPr>
            <a:xfrm>
              <a:off x="0" y="5676840"/>
              <a:ext cx="75564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" descr=""/>
            <p:cNvPicPr/>
            <p:nvPr/>
          </p:nvPicPr>
          <p:blipFill>
            <a:blip r:embed="rId15"/>
            <a:stretch/>
          </p:blipFill>
          <p:spPr>
            <a:xfrm>
              <a:off x="0" y="0"/>
              <a:ext cx="755640" cy="47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" name=""/>
          <p:cNvSpPr/>
          <p:nvPr/>
        </p:nvSpPr>
        <p:spPr>
          <a:xfrm>
            <a:off x="900000" y="115920"/>
            <a:ext cx="799308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odificação/Compressão de Ví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6"/>
    <p:sldLayoutId id="2147483650" r:id="rId17"/>
    <p:sldLayoutId id="2147483651" r:id="rId18"/>
    <p:sldLayoutId id="2147483652" r:id="rId19"/>
    <p:sldLayoutId id="2147483653" r:id="rId20"/>
    <p:sldLayoutId id="2147483654" r:id="rId21"/>
    <p:sldLayoutId id="2147483655" r:id="rId22"/>
    <p:sldLayoutId id="2147483656" r:id="rId23"/>
    <p:sldLayoutId id="2147483657" r:id="rId24"/>
    <p:sldLayoutId id="2147483658" r:id="rId25"/>
    <p:sldLayoutId id="2147483659" r:id="rId26"/>
    <p:sldLayoutId id="2147483660" r:id="rId2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324000" y="6165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678B-1326-45B0-8E4A-14BAF7BF3350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03280" y="2997360"/>
            <a:ext cx="37450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48360" y="2997360"/>
            <a:ext cx="3995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0" y="0"/>
            <a:ext cx="1403280" cy="6858000"/>
            <a:chOff x="0" y="0"/>
            <a:chExt cx="1403280" cy="6858000"/>
          </a:xfrm>
        </p:grpSpPr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0" y="447840"/>
              <a:ext cx="1403280" cy="92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vid5" descr=""/>
            <p:cNvPicPr/>
            <p:nvPr/>
          </p:nvPicPr>
          <p:blipFill>
            <a:blip r:embed="rId3"/>
            <a:srcRect l="0" t="0" r="0" b="29904"/>
            <a:stretch/>
          </p:blipFill>
          <p:spPr>
            <a:xfrm>
              <a:off x="0" y="1284120"/>
              <a:ext cx="1403280" cy="1113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" name=""/>
            <p:cNvGrpSpPr/>
            <p:nvPr/>
          </p:nvGrpSpPr>
          <p:grpSpPr>
            <a:xfrm>
              <a:off x="0" y="2292480"/>
              <a:ext cx="1402560" cy="360000"/>
              <a:chOff x="0" y="2292480"/>
              <a:chExt cx="1402560" cy="360000"/>
            </a:xfrm>
          </p:grpSpPr>
          <p:pic>
            <p:nvPicPr>
              <p:cNvPr id="70" name="" descr=""/>
              <p:cNvPicPr/>
              <p:nvPr/>
            </p:nvPicPr>
            <p:blipFill>
              <a:blip r:embed="rId4"/>
              <a:stretch/>
            </p:blipFill>
            <p:spPr>
              <a:xfrm flipH="1">
                <a:off x="0" y="2292480"/>
                <a:ext cx="468000" cy="36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" descr=""/>
              <p:cNvPicPr/>
              <p:nvPr/>
            </p:nvPicPr>
            <p:blipFill>
              <a:blip r:embed="rId5"/>
              <a:stretch/>
            </p:blipFill>
            <p:spPr>
              <a:xfrm flipH="1">
                <a:off x="468000" y="2292480"/>
                <a:ext cx="470160" cy="36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932760" y="2292480"/>
                <a:ext cx="469800" cy="360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3" name="" descr=""/>
            <p:cNvPicPr/>
            <p:nvPr/>
          </p:nvPicPr>
          <p:blipFill>
            <a:blip r:embed="rId7"/>
            <a:stretch/>
          </p:blipFill>
          <p:spPr>
            <a:xfrm>
              <a:off x="0" y="2652840"/>
              <a:ext cx="1403280" cy="84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8"/>
            <a:stretch/>
          </p:blipFill>
          <p:spPr>
            <a:xfrm>
              <a:off x="0" y="6546960"/>
              <a:ext cx="1403280" cy="31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9"/>
            <a:stretch/>
          </p:blipFill>
          <p:spPr>
            <a:xfrm>
              <a:off x="0" y="3471840"/>
              <a:ext cx="1403280" cy="9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vid5" descr=""/>
            <p:cNvPicPr/>
            <p:nvPr/>
          </p:nvPicPr>
          <p:blipFill>
            <a:blip r:embed="rId10"/>
            <a:srcRect l="0" t="0" r="0" b="29904"/>
            <a:stretch/>
          </p:blipFill>
          <p:spPr>
            <a:xfrm>
              <a:off x="0" y="4308480"/>
              <a:ext cx="1403280" cy="1112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" name=""/>
            <p:cNvGrpSpPr/>
            <p:nvPr/>
          </p:nvGrpSpPr>
          <p:grpSpPr>
            <a:xfrm>
              <a:off x="0" y="5316480"/>
              <a:ext cx="1402560" cy="360000"/>
              <a:chOff x="0" y="5316480"/>
              <a:chExt cx="1402560" cy="360000"/>
            </a:xfrm>
          </p:grpSpPr>
          <p:pic>
            <p:nvPicPr>
              <p:cNvPr id="78" name="" descr=""/>
              <p:cNvPicPr/>
              <p:nvPr/>
            </p:nvPicPr>
            <p:blipFill>
              <a:blip r:embed="rId11"/>
              <a:stretch/>
            </p:blipFill>
            <p:spPr>
              <a:xfrm flipH="1">
                <a:off x="0" y="5316480"/>
                <a:ext cx="468000" cy="36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" descr=""/>
              <p:cNvPicPr/>
              <p:nvPr/>
            </p:nvPicPr>
            <p:blipFill>
              <a:blip r:embed="rId12"/>
              <a:stretch/>
            </p:blipFill>
            <p:spPr>
              <a:xfrm flipH="1">
                <a:off x="468000" y="5316480"/>
                <a:ext cx="470160" cy="36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" name="" descr=""/>
              <p:cNvPicPr/>
              <p:nvPr/>
            </p:nvPicPr>
            <p:blipFill>
              <a:blip r:embed="rId13"/>
              <a:stretch/>
            </p:blipFill>
            <p:spPr>
              <a:xfrm flipH="1">
                <a:off x="932760" y="5316480"/>
                <a:ext cx="469800" cy="360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1" name="" descr=""/>
            <p:cNvPicPr/>
            <p:nvPr/>
          </p:nvPicPr>
          <p:blipFill>
            <a:blip r:embed="rId14"/>
            <a:stretch/>
          </p:blipFill>
          <p:spPr>
            <a:xfrm>
              <a:off x="0" y="5676840"/>
              <a:ext cx="140328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15"/>
            <a:stretch/>
          </p:blipFill>
          <p:spPr>
            <a:xfrm>
              <a:off x="0" y="0"/>
              <a:ext cx="1403280" cy="47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6"/>
    <p:sldLayoutId id="2147483663" r:id="rId17"/>
    <p:sldLayoutId id="2147483664" r:id="rId18"/>
    <p:sldLayoutId id="2147483665" r:id="rId19"/>
    <p:sldLayoutId id="2147483666" r:id="rId20"/>
    <p:sldLayoutId id="2147483667" r:id="rId21"/>
    <p:sldLayoutId id="2147483668" r:id="rId22"/>
    <p:sldLayoutId id="2147483669" r:id="rId23"/>
    <p:sldLayoutId id="2147483670" r:id="rId24"/>
    <p:sldLayoutId id="2147483671" r:id="rId25"/>
    <p:sldLayoutId id="2147483672" r:id="rId26"/>
    <p:sldLayoutId id="2147483673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52360" y="189000"/>
            <a:ext cx="7991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63800" y="2133720"/>
            <a:ext cx="432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1908000" y="314172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O Víde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(Parte II - Adicional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a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2124000" y="1989000"/>
            <a:ext cx="4897440" cy="4435560"/>
            <a:chOff x="2124000" y="1989000"/>
            <a:chExt cx="4897440" cy="4435560"/>
          </a:xfrm>
        </p:grpSpPr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2124000" y="1989000"/>
              <a:ext cx="4897440" cy="443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528640" y="6021360"/>
              <a:ext cx="44391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"Padrões básicos" para DCT 4 x 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2411280" y="1844640"/>
            <a:ext cx="4896000" cy="4357800"/>
            <a:chOff x="2411280" y="1844640"/>
            <a:chExt cx="4896000" cy="4357800"/>
          </a:xfrm>
        </p:grpSpPr>
        <p:pic>
          <p:nvPicPr>
            <p:cNvPr id="157" name="" descr=""/>
            <p:cNvPicPr/>
            <p:nvPr/>
          </p:nvPicPr>
          <p:blipFill>
            <a:blip r:embed="rId1"/>
            <a:stretch/>
          </p:blipFill>
          <p:spPr>
            <a:xfrm>
              <a:off x="2411280" y="1844640"/>
              <a:ext cx="4896000" cy="414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2680920" y="5803560"/>
              <a:ext cx="44406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"Padrões básicos" para DCT 8 x 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900000" y="191592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"padrões básicos" são compostos pela combinação de funções cosseno horizontal e vertic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bloco de imagem pode ser reconstruído pela combinação de todos os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 "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drões básicos", com cada base multiplicada pelo fator de peso apropriado (coeficien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rcRect l="2975" t="2612" r="3863" b="12577"/>
          <a:stretch/>
        </p:blipFill>
        <p:spPr>
          <a:xfrm>
            <a:off x="1258920" y="1700280"/>
            <a:ext cx="6696000" cy="4630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1" name=""/>
          <p:cNvSpPr/>
          <p:nvPr/>
        </p:nvSpPr>
        <p:spPr>
          <a:xfrm>
            <a:off x="1258920" y="638172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ransformada Inversa (ID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99640" y="1628640"/>
            <a:ext cx="748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Destaque de um bloco de uma imagem (4 x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7741"/>
          <a:stretch/>
        </p:blipFill>
        <p:spPr>
          <a:xfrm>
            <a:off x="2556000" y="2205000"/>
            <a:ext cx="436716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rcRect l="0" t="0" r="0" b="11002"/>
          <a:stretch/>
        </p:blipFill>
        <p:spPr>
          <a:xfrm>
            <a:off x="1332000" y="2492280"/>
            <a:ext cx="6408720" cy="33130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900000" y="170028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 Bloco da imagem (4 x 4) e coeficientes DCT correspond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00000" y="5877000"/>
            <a:ext cx="7272360" cy="39888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Qual o ganho com essa representação (não é óbvio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60360" y="1773360"/>
            <a:ext cx="1944720" cy="161856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as é possível descartar muitos coeficiente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805200" y="1557360"/>
            <a:ext cx="5230800" cy="50734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900000" y="4221000"/>
            <a:ext cx="2808360" cy="19234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É possível reconstruir uma cópia aproximada do bloco a partir de um subconjunto de 16 coeficientes D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900000" y="162864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CT 2-D direta (FDCT 2-D) e DCT 2-D inversa (IDCT 2-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matriz T (Y) contém um conjunto de valores chamado freqüências espacia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freqüências espaciais refletem quanto é que o valor da luminância (P[i][j]) varia de acordo com a sua posição no blo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[0][0] - coeficiente DC - relacionado ao valor médio dos valores P[i][j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qualquer T[i][j] há contribuição de todos os P[x][y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i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0 e j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0, T[i][j] são os coeficientes AC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valores maiores de i e j, os valores são multiplicados por funções coss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661160" cy="47527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971640" y="5445000"/>
            <a:ext cx="7848360" cy="105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lores de P variam uniformemente; muitos coeficientes AC são 0 -&gt; imagem com poucos detalh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7047000" cy="43527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900000" y="5373720"/>
            <a:ext cx="78487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lores de P variam muito ao longo da imagem - corresponde a uma zona com muitos detalhes. Os coeficientes AC são todos não nul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187280" y="2060280"/>
            <a:ext cx="734544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Tóp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Vídeo (Codificação + Compressã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DCT e Quantiz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971280" y="1700280"/>
            <a:ext cx="765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ndo a luminância varia muito, os coeficientes DC não são nulos; estes coeficientes são uma medida da variação entre pix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imagem com poucas variações será mais fácil de comprimir que uma imagem com muitos detal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CT não tem perdas (a menos dos arredondament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partir das freqüências espaciais é possível reconstruir o valor dos pix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900000" y="17002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ferenças de implementação MPEG4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H2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H.264 pode aplicar a DCT 2-D sobre blocos 4x4 (8x8,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High Profil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, reduzindo a complexidade computacional deste cálcul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CT 2-D utiliza apenas cálculos inteiros ao invés das tradicionais DCTs com cálculos em ponto flutu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resultados finais da transformada inteira são, na verdade, uma aproximação dos resultados reais da DCT 2-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971640" y="2060640"/>
            <a:ext cx="7920000" cy="3030480"/>
            <a:chOff x="971640" y="2060640"/>
            <a:chExt cx="7920000" cy="3030480"/>
          </a:xfrm>
        </p:grpSpPr>
        <p:pic>
          <p:nvPicPr>
            <p:cNvPr id="178" name="" descr=""/>
            <p:cNvPicPr/>
            <p:nvPr/>
          </p:nvPicPr>
          <p:blipFill>
            <a:blip r:embed="rId1"/>
            <a:stretch/>
          </p:blipFill>
          <p:spPr>
            <a:xfrm>
              <a:off x="971640" y="2060640"/>
              <a:ext cx="7920000" cy="30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971640" y="4221000"/>
              <a:ext cx="936360" cy="79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971280" y="1628640"/>
            <a:ext cx="777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ferenças de implementação MPEG4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H2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376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23760" indent="-3808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execução de uma transformada inteira traz vantagens importa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03360" indent="-34272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a transformada não usa multiplicadores, somente somas e deslocamentos são necessários para executar seus cálcul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03360" indent="-34272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dução da complexidade computacional, simplificando a tarefa de projeto do hardwar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03360" indent="-34272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uso de números inteiros faz com que a transformação seja mais rápida e com menor consumo de potência, permitindo o uso do H.264 em aplicações móve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971640" y="1699920"/>
            <a:ext cx="770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DCT não reduz diretamente o número de bits requerido o blo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um bloco de 8 x 8 pixels, a DCT produz um bloco de 8 x 8 coeficientes, com no mínimo 11 bits/coeficiente para permitir reversibilidade sem erros de truncamento excess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Como ocorre a redução do número de bi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971640" y="1699920"/>
            <a:ext cx="770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Redução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- deriva do fato de que para blocos típicos de imagens naturais, a distribuição de coeficientes não é uniforme - a transformação tende a concentrar a energia nos coeficientes de baixa freqüência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Arial"/>
              </a:rPr>
              <a:t>00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 Os demais coeficientes possuem valor próximo a zero, podendo ser descart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A redução da taxa de bits é obtida através da não transmissão dos coeficientes </a:t>
            </a:r>
            <a:r>
              <a:rPr b="1" i="1" lang="pt-BR" sz="2000" spc="-1" strike="noStrike">
                <a:solidFill>
                  <a:srgbClr val="000099"/>
                </a:solidFill>
                <a:latin typeface="Arial"/>
              </a:rPr>
              <a:t>y</a:t>
            </a:r>
            <a:r>
              <a:rPr b="1" lang="pt-BR" sz="2000" spc="-1" strike="noStrike" baseline="-25000">
                <a:solidFill>
                  <a:srgbClr val="000099"/>
                </a:solidFill>
                <a:latin typeface="Arial"/>
              </a:rPr>
              <a:t>kl</a:t>
            </a: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 de valor próximo a zero (os quais serão zerados pelo processo de quantização) e codificação dos coeficientes remanescent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distribuição não uniforme dos coeficientes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0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é um resultado da redundância espacial presente no bloco original x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ij.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99640" y="1773360"/>
            <a:ext cx="77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CT 2-D direta (FDCT 2-D) e DCT 2-D inversa (IDCT 2-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ntrad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Matriz de amostras (pixe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aíd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Matriz de coeficien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bjetiv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Transformar os dados de entrada para o domínio da freqüência, possibilitando eliminar as freqüências que são menos importantes para a percepção do sistema visual hum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ransformação da matriz em x,y,Ys para um formato mais facilmente comprimí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9712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ransformada Discreta do Cosseno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iscrete Cosine Transform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DC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pera sobr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um bloco d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mostras (tipicamente amostras de imagens ou valores residuais obtidos após a prediçã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er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um bloc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 coeficien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ção da DCT (e da inversa, IDCT): uso de uma matriz de transformação (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42920" y="2565360"/>
            <a:ext cx="7777080" cy="2735280"/>
          </a:xfrm>
          <a:prstGeom prst="ellipse">
            <a:avLst/>
          </a:prstGeom>
          <a:solidFill>
            <a:srgbClr val="ff99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971280" y="1600200"/>
            <a:ext cx="79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Forward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DC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FDCT) de um bloco com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mostr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DC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matriz de amostra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triz de coefic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matriz de transformada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348000" y="2133720"/>
            <a:ext cx="3024360" cy="993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419640" y="3789360"/>
            <a:ext cx="244944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71640" y="2205000"/>
            <a:ext cx="8055000" cy="8319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042920" y="3860640"/>
            <a:ext cx="7723080" cy="2467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900000" y="1628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n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335772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m-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71280" y="184428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a forma matrici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042920" y="2637000"/>
            <a:ext cx="716292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900000" y="0"/>
            <a:ext cx="7992360" cy="6463440"/>
            <a:chOff x="900000" y="0"/>
            <a:chExt cx="7992360" cy="6463440"/>
          </a:xfrm>
        </p:grpSpPr>
        <p:grpSp>
          <p:nvGrpSpPr>
            <p:cNvPr id="144" name=""/>
            <p:cNvGrpSpPr/>
            <p:nvPr/>
          </p:nvGrpSpPr>
          <p:grpSpPr>
            <a:xfrm>
              <a:off x="1116000" y="0"/>
              <a:ext cx="7776360" cy="6463440"/>
              <a:chOff x="1116000" y="0"/>
              <a:chExt cx="7776360" cy="6463440"/>
            </a:xfrm>
          </p:grpSpPr>
          <p:grpSp>
            <p:nvGrpSpPr>
              <p:cNvPr id="145" name=""/>
              <p:cNvGrpSpPr/>
              <p:nvPr/>
            </p:nvGrpSpPr>
            <p:grpSpPr>
              <a:xfrm>
                <a:off x="1486440" y="0"/>
                <a:ext cx="7405920" cy="6463440"/>
                <a:chOff x="1486440" y="0"/>
                <a:chExt cx="7405920" cy="6463440"/>
              </a:xfrm>
            </p:grpSpPr>
            <p:pic>
              <p:nvPicPr>
                <p:cNvPr id="146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486440" y="0"/>
                  <a:ext cx="7405920" cy="6463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" name=""/>
                <p:cNvSpPr/>
                <p:nvPr/>
              </p:nvSpPr>
              <p:spPr>
                <a:xfrm>
                  <a:off x="1634760" y="4746960"/>
                  <a:ext cx="2961720" cy="371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" name=""/>
              <p:cNvSpPr/>
              <p:nvPr/>
            </p:nvSpPr>
            <p:spPr>
              <a:xfrm>
                <a:off x="1116000" y="2521440"/>
                <a:ext cx="741240" cy="444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855760" y="3634920"/>
                <a:ext cx="592560" cy="36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900000" y="3645000"/>
              <a:ext cx="2087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Outra representação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00000" y="333360"/>
              <a:ext cx="719280" cy="172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971640" y="1773360"/>
            <a:ext cx="7726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aída da FDC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um conjunto d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eficientes que representam o bloco de imagem no domínio da DC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coeficientes podem ser considerados os "pesos" de um conjunto de "padrões básicos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</cp:lastModifiedBy>
  <dcterms:modified xsi:type="dcterms:W3CDTF">2007-04-30T16:13:20Z</dcterms:modified>
  <cp:revision>458</cp:revision>
  <dc:subject/>
  <dc:title>Sistemas Multimí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