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9FAD-CC79-40C9-A2D6-38D35DB694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2BC8-E83A-4E65-8DA2-B1C04C2F212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02D-3072-4D69-86F3-19A21E27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AEF-2FCF-4A72-AC65-6860BF6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8141-3819-4C55-A7CC-B26C79FB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620-51ED-4037-BCC6-D5B3A8A9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980E-5112-48E7-905D-3773EA0F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C585-D46A-4042-8774-ABD45210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9DB-F1DB-439D-8AA6-679E4561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8D8A-651A-4872-925E-F96FE1C0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C293-3971-413D-8A7D-EF8A307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757-394F-4159-9FAB-40C7CD3B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ADB0-2170-4858-B573-903BD15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A4A-A97C-4E71-9731-2186CD55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7D15-90C4-4A0C-AA9A-78244ACC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DD7-46D9-4F4B-B472-2E3702C7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E43-103B-4498-845F-C9E9B8C7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3BA6-E417-4F05-B6A5-A6FE78EC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3008-22AB-4BCA-AAD0-2384F4C0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38D-DD38-4A38-AFCD-3338094E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406D-3552-4890-8ABA-AD430C6B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AB8-6FD4-439C-92B6-C027D62A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4C4E-6D52-4DA7-8D1E-925FED5F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3B1-9712-4095-9E59-20AFE072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1FF-E218-4AA7-AE57-AB760F3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E3B-CBAC-4FDA-B442-3592861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slideLayout" Target="../slideLayouts/slideLayout2.xml"/><Relationship Id="rId18" Type="http://schemas.openxmlformats.org/officeDocument/2006/relationships/slideLayout" Target="../slideLayouts/slideLayout3.xml"/><Relationship Id="rId19" Type="http://schemas.openxmlformats.org/officeDocument/2006/relationships/slideLayout" Target="../slideLayouts/slideLayout4.xml"/><Relationship Id="rId20" Type="http://schemas.openxmlformats.org/officeDocument/2006/relationships/slideLayout" Target="../slideLayouts/slideLayout5.xml"/><Relationship Id="rId21" Type="http://schemas.openxmlformats.org/officeDocument/2006/relationships/slideLayout" Target="../slideLayouts/slideLayout6.xml"/><Relationship Id="rId22" Type="http://schemas.openxmlformats.org/officeDocument/2006/relationships/slideLayout" Target="../slideLayouts/slideLayout7.xml"/><Relationship Id="rId23" Type="http://schemas.openxmlformats.org/officeDocument/2006/relationships/slideLayout" Target="../slideLayouts/slideLayout8.xml"/><Relationship Id="rId24" Type="http://schemas.openxmlformats.org/officeDocument/2006/relationships/slideLayout" Target="../slideLayouts/slideLayout9.xml"/><Relationship Id="rId25" Type="http://schemas.openxmlformats.org/officeDocument/2006/relationships/slideLayout" Target="../slideLayouts/slideLayout10.xml"/><Relationship Id="rId26" Type="http://schemas.openxmlformats.org/officeDocument/2006/relationships/slideLayout" Target="../slideLayouts/slideLayout11.xml"/><Relationship Id="rId2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5.wmf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FA4-EBC3-4CE6-87D8-8364C738B0B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755640" cy="6858000"/>
            <a:chOff x="0" y="0"/>
            <a:chExt cx="755640" cy="6858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75564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75564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" name=""/>
            <p:cNvGrpSpPr/>
            <p:nvPr/>
          </p:nvGrpSpPr>
          <p:grpSpPr>
            <a:xfrm>
              <a:off x="0" y="2292480"/>
              <a:ext cx="755280" cy="360000"/>
              <a:chOff x="0" y="2292480"/>
              <a:chExt cx="755280" cy="360000"/>
            </a:xfrm>
          </p:grpSpPr>
          <p:pic>
            <p:nvPicPr>
              <p:cNvPr id="10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251640" y="2292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502560" y="2292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75564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75564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75564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75564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" name=""/>
            <p:cNvGrpSpPr/>
            <p:nvPr/>
          </p:nvGrpSpPr>
          <p:grpSpPr>
            <a:xfrm>
              <a:off x="0" y="5316480"/>
              <a:ext cx="755280" cy="360000"/>
              <a:chOff x="0" y="5316480"/>
              <a:chExt cx="755280" cy="360000"/>
            </a:xfrm>
          </p:grpSpPr>
          <p:pic>
            <p:nvPicPr>
              <p:cNvPr id="18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252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251640" y="5316480"/>
                <a:ext cx="25308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502560" y="5316480"/>
                <a:ext cx="25272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1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75564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755640" cy="476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6"/>
    <p:sldLayoutId id="2147483650" r:id="rId17"/>
    <p:sldLayoutId id="2147483651" r:id="rId18"/>
    <p:sldLayoutId id="2147483652" r:id="rId19"/>
    <p:sldLayoutId id="2147483653" r:id="rId20"/>
    <p:sldLayoutId id="2147483654" r:id="rId21"/>
    <p:sldLayoutId id="2147483655" r:id="rId22"/>
    <p:sldLayoutId id="2147483656" r:id="rId23"/>
    <p:sldLayoutId id="2147483657" r:id="rId24"/>
    <p:sldLayoutId id="2147483658" r:id="rId25"/>
    <p:sldLayoutId id="2147483659" r:id="rId26"/>
    <p:sldLayoutId id="2147483660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F028-431A-4594-96CB-CADE936C253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1403280" cy="6858000"/>
            <a:chOff x="0" y="0"/>
            <a:chExt cx="1403280" cy="6858000"/>
          </a:xfrm>
        </p:grpSpPr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0" y="447840"/>
              <a:ext cx="1403280" cy="92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vid5" descr=""/>
            <p:cNvPicPr/>
            <p:nvPr/>
          </p:nvPicPr>
          <p:blipFill>
            <a:blip r:embed="rId3"/>
            <a:srcRect l="0" t="0" r="0" b="29904"/>
            <a:stretch/>
          </p:blipFill>
          <p:spPr>
            <a:xfrm>
              <a:off x="0" y="1284120"/>
              <a:ext cx="1403280" cy="1113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"/>
            <p:cNvGrpSpPr/>
            <p:nvPr/>
          </p:nvGrpSpPr>
          <p:grpSpPr>
            <a:xfrm>
              <a:off x="0" y="2292480"/>
              <a:ext cx="1402560" cy="360000"/>
              <a:chOff x="0" y="2292480"/>
              <a:chExt cx="1402560" cy="360000"/>
            </a:xfrm>
          </p:grpSpPr>
          <p:pic>
            <p:nvPicPr>
              <p:cNvPr id="69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0" y="2292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5"/>
              <a:stretch/>
            </p:blipFill>
            <p:spPr>
              <a:xfrm flipH="1">
                <a:off x="468000" y="2292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6"/>
              <a:stretch/>
            </p:blipFill>
            <p:spPr>
              <a:xfrm flipH="1">
                <a:off x="932760" y="2292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0" y="2652840"/>
              <a:ext cx="1403280" cy="84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0" y="6546960"/>
              <a:ext cx="140328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9"/>
            <a:stretch/>
          </p:blipFill>
          <p:spPr>
            <a:xfrm>
              <a:off x="0" y="3471840"/>
              <a:ext cx="1403280" cy="9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vid5" descr=""/>
            <p:cNvPicPr/>
            <p:nvPr/>
          </p:nvPicPr>
          <p:blipFill>
            <a:blip r:embed="rId10"/>
            <a:srcRect l="0" t="0" r="0" b="29904"/>
            <a:stretch/>
          </p:blipFill>
          <p:spPr>
            <a:xfrm>
              <a:off x="0" y="4308480"/>
              <a:ext cx="1403280" cy="1112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"/>
            <p:cNvGrpSpPr/>
            <p:nvPr/>
          </p:nvGrpSpPr>
          <p:grpSpPr>
            <a:xfrm>
              <a:off x="0" y="5316480"/>
              <a:ext cx="1402560" cy="360000"/>
              <a:chOff x="0" y="5316480"/>
              <a:chExt cx="1402560" cy="360000"/>
            </a:xfrm>
          </p:grpSpPr>
          <p:pic>
            <p:nvPicPr>
              <p:cNvPr id="77" name="" descr=""/>
              <p:cNvPicPr/>
              <p:nvPr/>
            </p:nvPicPr>
            <p:blipFill>
              <a:blip r:embed="rId11"/>
              <a:stretch/>
            </p:blipFill>
            <p:spPr>
              <a:xfrm flipH="1">
                <a:off x="0" y="5316480"/>
                <a:ext cx="46800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12"/>
              <a:stretch/>
            </p:blipFill>
            <p:spPr>
              <a:xfrm flipH="1">
                <a:off x="468000" y="5316480"/>
                <a:ext cx="470160" cy="36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13"/>
              <a:stretch/>
            </p:blipFill>
            <p:spPr>
              <a:xfrm flipH="1">
                <a:off x="932760" y="5316480"/>
                <a:ext cx="469800" cy="360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0" name="" descr=""/>
            <p:cNvPicPr/>
            <p:nvPr/>
          </p:nvPicPr>
          <p:blipFill>
            <a:blip r:embed="rId14"/>
            <a:stretch/>
          </p:blipFill>
          <p:spPr>
            <a:xfrm>
              <a:off x="0" y="5676840"/>
              <a:ext cx="1403280" cy="8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5"/>
            <a:stretch/>
          </p:blipFill>
          <p:spPr>
            <a:xfrm>
              <a:off x="0" y="0"/>
              <a:ext cx="1403280" cy="4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O Víde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úmero de imagens que passadas em cada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valor pode ser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0 fps (também designado por FULL MO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5 f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5 f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2 f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baixo das 10 fps perde-se totalmente a noção de movimento. O melhor será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ent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16 e 2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dade da im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aleta de cores) - tem a ver com a quantidade de informação que será captada por cada fr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ixa qualidade: 8 bits - apenas 25% do total da informação da imagem é armazena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a qualidade: 32 bits - a informação sobre a imagem é armazenada a 10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olução poderá ser </a:t>
            </a: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50-75%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a qualidade da imagem (ou seja, paleta de 16 ou 24 bi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víde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televi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gravação e reprodução de vídeo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sistemas atuais são ainda analógicos, na maior p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cnologia digital avança rapid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PEG, DVD, HDTV, videoconfe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de televi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características do sinal de vídeo são determinadas pelos padrões de televi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padrões exist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visão em preto-e-bran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visão colorid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levisão de alta definição - HD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levisão em preto-e-bran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padrão americano e brasileir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vertical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quadros por seg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redura entrelaçada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mpos por segund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25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s por quadro, das quais aproximadamente 480 visíve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o padrão de vídeo em preto-e-bran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zão de aspect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s monitores: 4/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varred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não devem sobrar margens negras nas imag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rda de seguranç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área da imagem que pode ficar sob a moldura e não deve conter inform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racterísticas do padrão de vídeo em preto-e-bran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magem é dividida em linh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te visível da linha é um sinal positivo, que representa a luminâ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lsos de sincronismo horizontal  e vertic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is negativos que iniciam linha e ca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drões de televisão color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existen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TSC (american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C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-M (brasileir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drões de televisão color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tíveis com vídeo preto-e-bran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cronis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uminânc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rominâ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presentação da informação de c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levisão color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rominância representa o matiz e a saturação codificados sobre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rtadora de c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ajada de c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nal que serve de referência de portadora de cor para cada linh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eqüência vertical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9,97 Hz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eliminar a crominância na recepção em preto-e-br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Vídeo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sinal de vídeo color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 ordem decrescente de qualidade e cust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G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árias aditivas em cabos sepa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er monitores multissincronizáve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ntes: transmissão de diferenças, sincronis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sinal de vídeo color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 ordem decrescente de qualidade e cust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IQ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rivado do RGB por codificação em amplitude (I) e fase (Q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eita menor sensibilidade da visão ao matiz e satu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em U-Matic, D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de sinal de vídeo colori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m ordem decrescente de qualidade e cust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Y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 I e Q em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em S-VHS e Betac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compo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 Y e C em sinal NTS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em VHS e TV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íveis de sistema de víde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umidor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quipamentos domést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ndust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rodutoras de vídeo e de multimíd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fu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missoras de T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DT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lta defin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sistemas de víde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idor: VHS, 8m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ustrial: Hi8, S-VHS, Betacam, Betacam SP, U-Mat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usão: Tipo C, sistemas digit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stituição por sistemas digit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midor: D-VH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ustrial: DVC, DVCAM, DVCPRO, Digital Betac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usão: D-1, D-2, D-3, D-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DTV: D-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analógicos de víde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ções do código de tempo SMPTE (quadros/segund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cin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V europé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TV americana preto-e-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9,97 (“Drop-frame’’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TV americana color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mais popul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I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Audio-Video Interleav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senvolvido pela Microsoft para ambiente Window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QuickTime Movie Forma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- desenvolvido pela Apple para ambiente Macinto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PEG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oving Picture Experts Grou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AV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ilar ao MOV, este formato combina a produção e reprodução de áudio e vídeo simultane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e formato pode ser convertido para M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vários tipos de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MOV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V  - é um formato de arquivo padronizado para produção e reprodução que permite que o vídeo e o áudio sejam capturados e combinados num arquivo único, para uma determinada máquina, e reproduzidos em conjunto em qualquer outra máquina que utilize o Quick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orta vários tipos de compre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- conjunto de imagens, por exemplo,  bitmap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“passadas” em seqüência a determinada velocidade, para nos transmitir a idéia de mov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úmero de imagens que são “passadas” em cada segundo designa-se, vulgarmente, por tax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númer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r segund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MPE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 vantagem do MPEG em relação a outros formatos para a codificação de vídeo e áudio: os arquivos MPEG são bem menores para a mesma qu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técnicas de compressão muito sofisticadas atingindo taxas na ordem dos 200:1 com imagens e sons de qualidade extremamente a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 MPE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maior vantagem do MPEG em relação a outros formatos para a codificação de vídeo e áudio: os arquivos MPEG são bem menores para a mesma qual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tiliza técnicas de compressão muito sofisticadas atingindo taxas na ordem dos 200:1 com imagens e sons de qualidade extremamente a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res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s algoritmos de compressão são absolutamente indispensáveis no caso do vídeo, por duas raz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0600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que não ultrapassem a taxa de transferência de dados permitida pelo suporte em que estão armazenados (se isso acontecer não são reproduzidos de forma regular mas aos “pulos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3720" indent="-306000">
              <a:spcBef>
                <a:spcPts val="499"/>
              </a:spcBef>
              <a:buClr>
                <a:srgbClr val="000099"/>
              </a:buClr>
              <a:buSzPct val="9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ocuparem menos espaço pois, sem compressão, os valores são assustad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2680" indent="-254880">
              <a:spcBef>
                <a:spcPts val="45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segundo de vídeo a 30 fps pode ocupar 30 M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2680" indent="-254880">
              <a:spcBef>
                <a:spcPts val="45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 minuto de vídeo a 30 fps pode ocupar 1,8 G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cesso de compressão de vídeo é o mais complexo de todos, existindo dezenas de algoritmos de compressão difer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úmer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inema: 24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ídeo: Sistema Eletrônico (PAL, SECAM, utilizado em países da Europa): 25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ídeo: Sistema Eletrônico NTSC (utilizado na América): 30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ídeo tem a capacidade de comunicar a maior quantidade de informação, no menor espaço de tempo e com o maior impa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ídeo confere aos documentos a noção de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á provado que colocar movimento numa apresentação p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ter o interesse e a atenção da audiênc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unicar conceitos e idéias abstrat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19692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ular respostas emo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vantagen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lex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ome quantidade elevada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: uma seqüência de vídeo de 30 segundos sem compressão, transmitida a 30 fps e com imagens de 640x480 pixels (cada um codificado com 24 bits), atinge cerca de 1 Gb de inform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ídeo em um Produto Multimíd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bservar a relação custo x benefí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6000" y="1915920"/>
            <a:ext cx="7848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s de ca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formato 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formato dig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 import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cap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transferência de dados do suporte de armazen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a jane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idade da imagem (paleta de c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xa de transferência de dados do suporte de armazen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ortes mais rápidos são:Discos rígidos, DVD’s e CD-ROM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s não oferecem a taxa de transferência desejável, ou seja, os 30 Mb/s necessários ao processamento de um segundo de vídeo digital não comprim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Víde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559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amanho da jane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Quanto menor for a janela mais rapidamente a informação poderá ser process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es comu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40x480 pix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20x24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240x180 pixel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solução mais utilizad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60x120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 Fechine</cp:lastModifiedBy>
  <dcterms:modified xsi:type="dcterms:W3CDTF">2007-04-26T12:32:55Z</dcterms:modified>
  <cp:revision>39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