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4.jpeg" ContentType="image/jpeg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9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media/image18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7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5120" cy="36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8"/>
          </p:nvPr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 type="sldNum" idx="9"/>
          </p:nvPr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0E942-08F7-4DDA-9FE2-FA460953855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8EFCF-DDA7-4AAE-B208-B0C018B869C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049400" y="770040"/>
            <a:ext cx="4821120" cy="36162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42840" y="4618080"/>
            <a:ext cx="50342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A562-75B6-4B1D-B75B-219F7FF84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1F1B-16F6-4C49-A905-A005B08FC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314F-1DE1-46F5-849E-C5114D8A4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E7DE-DE2E-47A3-A2DB-DDF5A6857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F3F27-9061-4FAA-A7D2-FEE0ACF4B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5F5DD-B7A8-4305-81B0-3372123BB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F3327-6876-4581-B03A-0F2A80D71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98ED7-A2E4-4C43-AB83-B522FC8A5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E0F53-FB26-4C2D-8432-4AF6CFEB2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971280" y="20160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1362F-B4FC-435E-926E-3438F4400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644A0-95C2-4A8F-91E6-1BBA5D23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ED73-4F05-4D8C-9061-83A6C4A2B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F6B91-D0AF-406F-865C-AC9C6581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4C8B1-A194-4FF6-9885-3C426F33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8AA55-9FE6-4957-AB5F-1881E5D89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5AF45-EA55-414B-9FE3-DC5F8C992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15519-55D2-434A-972D-CCDF5037B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4E6E-AC69-4143-ADB8-37C69B218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37F3-629F-4216-BB55-EE17BE857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136E-CAC0-42AE-BAA2-E8B960714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971280" y="20160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ECBC-92ED-41A8-A0A3-764C0BE57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6B85-3A7E-4C84-B190-A9453365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173D-D1A0-48C8-897E-089ECDB9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94EC-4D21-4B8A-B300-64EDDA7E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1.wmf"/><Relationship Id="rId5" Type="http://schemas.openxmlformats.org/officeDocument/2006/relationships/image" Target="../media/image2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6.wmf"/><Relationship Id="rId11" Type="http://schemas.openxmlformats.org/officeDocument/2006/relationships/image" Target="../media/image4.jpeg"/><Relationship Id="rId12" Type="http://schemas.openxmlformats.org/officeDocument/2006/relationships/image" Target="../media/image5.jpeg"/><Relationship Id="rId13" Type="http://schemas.openxmlformats.org/officeDocument/2006/relationships/slideLayout" Target="../slideLayouts/slideLayout1.xml"/><Relationship Id="rId14" Type="http://schemas.openxmlformats.org/officeDocument/2006/relationships/slideLayout" Target="../slideLayouts/slideLayout2.xml"/><Relationship Id="rId15" Type="http://schemas.openxmlformats.org/officeDocument/2006/relationships/slideLayout" Target="../slideLayouts/slideLayout3.xml"/><Relationship Id="rId16" Type="http://schemas.openxmlformats.org/officeDocument/2006/relationships/slideLayout" Target="../slideLayouts/slideLayout4.xml"/><Relationship Id="rId17" Type="http://schemas.openxmlformats.org/officeDocument/2006/relationships/slideLayout" Target="../slideLayouts/slideLayout5.xml"/><Relationship Id="rId18" Type="http://schemas.openxmlformats.org/officeDocument/2006/relationships/slideLayout" Target="../slideLayouts/slideLayout6.xml"/><Relationship Id="rId19" Type="http://schemas.openxmlformats.org/officeDocument/2006/relationships/slideLayout" Target="../slideLayouts/slideLayout7.xml"/><Relationship Id="rId20" Type="http://schemas.openxmlformats.org/officeDocument/2006/relationships/slideLayout" Target="../slideLayouts/slideLayout8.xml"/><Relationship Id="rId21" Type="http://schemas.openxmlformats.org/officeDocument/2006/relationships/slideLayout" Target="../slideLayouts/slideLayout9.xml"/><Relationship Id="rId22" Type="http://schemas.openxmlformats.org/officeDocument/2006/relationships/slideLayout" Target="../slideLayouts/slideLayout10.xml"/><Relationship Id="rId23" Type="http://schemas.openxmlformats.org/officeDocument/2006/relationships/slideLayout" Target="../slideLayouts/slideLayout11.xml"/><Relationship Id="rId2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1.wmf"/><Relationship Id="rId5" Type="http://schemas.openxmlformats.org/officeDocument/2006/relationships/image" Target="../media/image2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6.wmf"/><Relationship Id="rId11" Type="http://schemas.openxmlformats.org/officeDocument/2006/relationships/image" Target="../media/image4.jpeg"/><Relationship Id="rId12" Type="http://schemas.openxmlformats.org/officeDocument/2006/relationships/image" Target="../media/image5.jpe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B4B8B-7942-4993-A246-7A6B57000395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971640" cy="6858000"/>
            <a:chOff x="0" y="0"/>
            <a:chExt cx="971640" cy="6858000"/>
          </a:xfrm>
        </p:grpSpPr>
        <p:pic>
          <p:nvPicPr>
            <p:cNvPr id="7" name="" descr=""/>
            <p:cNvPicPr/>
            <p:nvPr/>
          </p:nvPicPr>
          <p:blipFill>
            <a:blip r:embed="rId2"/>
            <a:stretch/>
          </p:blipFill>
          <p:spPr>
            <a:xfrm>
              <a:off x="0" y="549360"/>
              <a:ext cx="927000" cy="103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" descr=""/>
            <p:cNvPicPr/>
            <p:nvPr/>
          </p:nvPicPr>
          <p:blipFill>
            <a:blip r:embed="rId3"/>
            <a:stretch/>
          </p:blipFill>
          <p:spPr>
            <a:xfrm>
              <a:off x="0" y="1557360"/>
              <a:ext cx="927000" cy="68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" descr=""/>
            <p:cNvPicPr/>
            <p:nvPr/>
          </p:nvPicPr>
          <p:blipFill>
            <a:blip r:embed="rId4"/>
            <a:stretch/>
          </p:blipFill>
          <p:spPr>
            <a:xfrm>
              <a:off x="0" y="4429080"/>
              <a:ext cx="927000" cy="103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" descr=""/>
            <p:cNvPicPr/>
            <p:nvPr/>
          </p:nvPicPr>
          <p:blipFill>
            <a:blip r:embed="rId5"/>
            <a:stretch/>
          </p:blipFill>
          <p:spPr>
            <a:xfrm>
              <a:off x="0" y="5410080"/>
              <a:ext cx="927000" cy="68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" descr=""/>
            <p:cNvPicPr/>
            <p:nvPr/>
          </p:nvPicPr>
          <p:blipFill>
            <a:blip r:embed="rId6"/>
            <a:stretch/>
          </p:blipFill>
          <p:spPr>
            <a:xfrm>
              <a:off x="0" y="2205000"/>
              <a:ext cx="927000" cy="6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" name="" descr=""/>
            <p:cNvPicPr/>
            <p:nvPr/>
          </p:nvPicPr>
          <p:blipFill>
            <a:blip r:embed="rId7"/>
            <a:stretch/>
          </p:blipFill>
          <p:spPr>
            <a:xfrm>
              <a:off x="0" y="3781440"/>
              <a:ext cx="927000" cy="684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" name=""/>
            <p:cNvGrpSpPr/>
            <p:nvPr/>
          </p:nvGrpSpPr>
          <p:grpSpPr>
            <a:xfrm>
              <a:off x="0" y="0"/>
              <a:ext cx="971640" cy="698400"/>
              <a:chOff x="0" y="0"/>
              <a:chExt cx="971640" cy="698400"/>
            </a:xfrm>
          </p:grpSpPr>
          <p:pic>
            <p:nvPicPr>
              <p:cNvPr id="14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0"/>
                <a:ext cx="429480" cy="68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383760" y="0"/>
                <a:ext cx="587880" cy="6984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6" name="" descr=""/>
            <p:cNvPicPr/>
            <p:nvPr/>
          </p:nvPicPr>
          <p:blipFill>
            <a:blip r:embed="rId10"/>
            <a:stretch/>
          </p:blipFill>
          <p:spPr>
            <a:xfrm>
              <a:off x="0" y="2852640"/>
              <a:ext cx="927000" cy="955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" name=""/>
            <p:cNvGrpSpPr/>
            <p:nvPr/>
          </p:nvGrpSpPr>
          <p:grpSpPr>
            <a:xfrm>
              <a:off x="0" y="6159600"/>
              <a:ext cx="971640" cy="698400"/>
              <a:chOff x="0" y="6159600"/>
              <a:chExt cx="971640" cy="698400"/>
            </a:xfrm>
          </p:grpSpPr>
          <p:pic>
            <p:nvPicPr>
              <p:cNvPr id="18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6159600"/>
                <a:ext cx="429480" cy="68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83760" y="6159600"/>
                <a:ext cx="587880" cy="698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3"/>
    <p:sldLayoutId id="2147483650" r:id="rId14"/>
    <p:sldLayoutId id="2147483651" r:id="rId15"/>
    <p:sldLayoutId id="2147483652" r:id="rId16"/>
    <p:sldLayoutId id="2147483653" r:id="rId17"/>
    <p:sldLayoutId id="2147483654" r:id="rId18"/>
    <p:sldLayoutId id="2147483655" r:id="rId19"/>
    <p:sldLayoutId id="2147483656" r:id="rId20"/>
    <p:sldLayoutId id="2147483657" r:id="rId21"/>
    <p:sldLayoutId id="2147483658" r:id="rId22"/>
    <p:sldLayoutId id="2147483659" r:id="rId23"/>
    <p:sldLayoutId id="2147483660" r:id="rId2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324000" y="6165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6C738-4E7C-4B80-94EC-3D1FDECC021D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03280" y="2997360"/>
            <a:ext cx="37450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48360" y="2997360"/>
            <a:ext cx="3995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0" y="0"/>
            <a:ext cx="1476000" cy="6858000"/>
            <a:chOff x="0" y="0"/>
            <a:chExt cx="1476000" cy="6858000"/>
          </a:xfrm>
        </p:grpSpPr>
        <p:pic>
          <p:nvPicPr>
            <p:cNvPr id="63" name="" descr=""/>
            <p:cNvPicPr/>
            <p:nvPr/>
          </p:nvPicPr>
          <p:blipFill>
            <a:blip r:embed="rId2"/>
            <a:stretch/>
          </p:blipFill>
          <p:spPr>
            <a:xfrm>
              <a:off x="0" y="549360"/>
              <a:ext cx="1408320" cy="103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0" y="1557360"/>
              <a:ext cx="1408320" cy="68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4"/>
            <a:stretch/>
          </p:blipFill>
          <p:spPr>
            <a:xfrm>
              <a:off x="0" y="4429080"/>
              <a:ext cx="1408320" cy="103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0" y="5410080"/>
              <a:ext cx="1408320" cy="68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0" y="2205000"/>
              <a:ext cx="1408320" cy="6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7"/>
            <a:stretch/>
          </p:blipFill>
          <p:spPr>
            <a:xfrm>
              <a:off x="0" y="3781440"/>
              <a:ext cx="1408320" cy="684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9" name=""/>
            <p:cNvGrpSpPr/>
            <p:nvPr/>
          </p:nvGrpSpPr>
          <p:grpSpPr>
            <a:xfrm>
              <a:off x="0" y="0"/>
              <a:ext cx="1476000" cy="698400"/>
              <a:chOff x="0" y="0"/>
              <a:chExt cx="1476000" cy="698400"/>
            </a:xfrm>
          </p:grpSpPr>
          <p:pic>
            <p:nvPicPr>
              <p:cNvPr id="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0"/>
                <a:ext cx="652680" cy="68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82840" y="0"/>
                <a:ext cx="893160" cy="6984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2" name="" descr=""/>
            <p:cNvPicPr/>
            <p:nvPr/>
          </p:nvPicPr>
          <p:blipFill>
            <a:blip r:embed="rId10"/>
            <a:stretch/>
          </p:blipFill>
          <p:spPr>
            <a:xfrm>
              <a:off x="0" y="2852640"/>
              <a:ext cx="1408320" cy="955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3" name=""/>
            <p:cNvGrpSpPr/>
            <p:nvPr/>
          </p:nvGrpSpPr>
          <p:grpSpPr>
            <a:xfrm>
              <a:off x="0" y="6159600"/>
              <a:ext cx="1476000" cy="698400"/>
              <a:chOff x="0" y="6159600"/>
              <a:chExt cx="1476000" cy="698400"/>
            </a:xfrm>
          </p:grpSpPr>
          <p:pic>
            <p:nvPicPr>
              <p:cNvPr id="74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6159600"/>
                <a:ext cx="652680" cy="68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582840" y="6159600"/>
                <a:ext cx="893160" cy="698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52360" y="189000"/>
            <a:ext cx="7991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863800" y="2133720"/>
            <a:ext cx="432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908000" y="3141720"/>
            <a:ext cx="64008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Tahoma"/>
              </a:rPr>
              <a:t>O Áudi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Tahoma"/>
              </a:rPr>
              <a:t>(Parte VI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Prof.a Joseana Macêdo Fe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IDI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75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nexão entre dois teclados MID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104840" y="2981160"/>
          <a:ext cx="6667560" cy="20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2981160"/>
                    <a:ext cx="6667560" cy="20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IDI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71280" y="184428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nstrumentos MID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ssuem microcontroladores que interpretam os códigos MIDI e executam algoritmos de síntes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m ser conectados em série, formando uma re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funcionamento depende dos modos suport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IDI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7128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nstrumentos MIDI - mod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odo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MNI ON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responde a todos os canais) ×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MNI OFF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responde só a um cana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odo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ON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uma nota de cada vez)  ×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OLY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várias notas simultâneas, segundo o grau de polifoni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ultitimbralism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polifonia com vários timb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IDI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nstrumentos MIDI - exempl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clados sintetizador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ódulos sintetizador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putadores com portos MIDI (com ou sem sintetizadores interno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ódulos seqüenciador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strumentos acústicos com transdut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IDI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4256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nstrumentos MIDI - exempl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aterias eletrônic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ódulos de efeitos (processadores de sinai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troladores (de volume, de afinação etc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quipamentos de áudio com controle MID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quipamentos teatrais com controle MID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IDI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7128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nsagens MIDI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nsagens de not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ligar e desliga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nsagens de program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mudanças de timb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nsagens de control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sincronismo, imitação de controles de paine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nsagens exclusiv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dependentes de fabrica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IDI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incipais campos das mensagens MIDI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ódigo de operaçã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n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ódigo da nota (número na escala musica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tensidade sonora (“velocidade”, na terminologia MID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IDI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4256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rquivos MIDI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rganizados em trilhas que representam voz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rilhas são seqüências de event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ventos são mensagens MIDI com tempos associados ou metaeven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IDI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4256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eqüenciadores (editores MIDI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uportam arquivos MIDI e formatos proprietári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istas possíve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rilha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olos de pianol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vent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u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IDI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63640" y="1557360"/>
            <a:ext cx="48960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ela de seqüenciador (trilh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7380360" cy="479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187280" y="2060280"/>
            <a:ext cx="734544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Tópic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Som sintetizado (MID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IDI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979640" y="1628640"/>
            <a:ext cx="44640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ela de seqüenciador (rol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476360" y="2060640"/>
            <a:ext cx="6851520" cy="445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IDI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47640" y="1557360"/>
            <a:ext cx="482472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ela de seqüenciador (event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619280" y="1989000"/>
            <a:ext cx="6702480" cy="468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IDI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16000" y="1557360"/>
            <a:ext cx="3657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ela de seqüenciador (pau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547640" y="1916280"/>
            <a:ext cx="6769440" cy="479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IDI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4256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plicações dos seqüenciado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perações globais sobre trilh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udanças de volume, programa e can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dições internas às trilhas, até o nível de not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nipulação do andamen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ravação de "performances" em instrumentos MID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IDI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4256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plicações dos seqüenciado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perações de dublagem ou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layback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perações de transformação music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udanças de escal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rtição de voz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lterações de dinâm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perações de quantizaçã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perações de "randomização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IDI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apas MID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pas de programa: relacionam os números de programa dos arquivos MID com os programas de cada sintetizad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pas de teclas: relacionam números de teclas com as notas efetivas do sintetizad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drão genérico: general MID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IDI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58560" y="1628640"/>
            <a:ext cx="40323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apa de progra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187280" y="2060640"/>
            <a:ext cx="7391520" cy="457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IDI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76000" y="1557360"/>
            <a:ext cx="38163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apa de percus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7467480" cy="46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IDI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4256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Vantagens dos arquivos MIDI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amanho muito menor que os WAV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ptam com precisão a expressão music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ermitem alterações dos timbr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aixo  consumo computacional: apropriados para aplicações de tempo re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IDI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4256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blemas dos arquivos MID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produzem apenas música (inadequados para voz e efeito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qualidade do som depende do sintetizador empregad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êm dificuldades com música não-conven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om Sintetizad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som ou música digitalizada (arquivos de som ou música que o computador pode tocar) pode ser de dois tip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om sintetizad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MIDI: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Musical Instrument Digital Interfac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- produzido através de um sintetizador chamado MID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Áudio digita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representação digital de um sinal analógi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IDI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15640" y="184428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ontes de arquivos MID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ravação via seqüenciador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ibliotecas comerciais ou de domínio públic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ransformações de outros arquiv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dição de partitur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erramentas de composi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IDI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482472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ela de editor de parti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692360" y="1930320"/>
            <a:ext cx="6446880" cy="481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IDI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58560" y="1484280"/>
            <a:ext cx="50418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ela de captura de "performance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619280" y="1916280"/>
            <a:ext cx="638496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IDI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42920" y="1484280"/>
            <a:ext cx="464832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ela de ferramenta de composi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692360" y="1844640"/>
            <a:ext cx="6165720" cy="477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IDI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472464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erramenta de composição aut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547640" y="1844640"/>
            <a:ext cx="623736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04256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contrário do áudio digital, o MIDI é genericamente livre de ruído uma vez que é sintetiz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anto, as técnicas de filtragem de ruído não precisam ser aplicadas a arquivos MID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116000" y="549360"/>
            <a:ext cx="7221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uído e MIDI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971640" y="1599840"/>
            <a:ext cx="7921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om sintetiz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tes sons são gravados como comandos e por isso requerem muito menos espaço de armazenamento que os outros s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te tipo de representação preserva a descrição semântica do s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Áudio digi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ndo um som é digitalizado, amostras da onda são captadas a intervalos fixos de temp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nto mais amostras forem colhidas e quanto mais informação for gravada por cada amostra, maior a qualidade do som que se conseguirá reproduzi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te tipo de representação não preserva a descrição semântica do s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om Sintetizad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042560" y="1699920"/>
            <a:ext cx="7921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IDI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rotocolo de comunicação para que instrumentos eletrônicos possam comunicar entre si, como por exemplo, sintetizad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ambém é usado na comunicação musical entre computadores, desde que estes possuam os componentes de hardware necessári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esenvolvido no início dos anos 80, serve para a representação simbólica da músic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efine e indica ao sintetizador, como codificar todos os elementos da música tais como, seqüências de notas, condições de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timing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, qual o instrumento utilizado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om Sintetizad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971640" y="1557000"/>
            <a:ext cx="7921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rquivos MIDI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ão muito menores que os arquivos WAV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rmazenam apenas  as notas da cançã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têm apenas as instruções para controlar como e quando os meios, (normalmente sintetizadores eletrônicos), produzem os s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seguem produzir música a partir de placas de som (são sons sintetizados)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não podem ser usados para gravar sons reais (Ex.: alguém falando/cantand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ão modificáveis (permite modificar facilmente os tempos ou instrumentos utilizados na músic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om Sintetizad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42560" y="1699920"/>
            <a:ext cx="7921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rquivos MIDI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10 minutos de música nos dois formatos gera valores muito diferentes, nomeadam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MIDI - aproximadamente 200 K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Áudio digital de boa qualidade - aproximadamente       106 Mb (se for WAV) ou 10 Mb (se for MP3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om Sintetizad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IDI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 protocolo MIDI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presentação digital de eventos musicai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drão de rede local para instrumentos eletrônicos digitai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drão de arquivo de eventos musica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IDI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75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Um sistema MI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257480" y="2362320"/>
          <a:ext cx="6895800" cy="385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7480" y="2362320"/>
                    <a:ext cx="6895800" cy="38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Joseana M Fechine</cp:lastModifiedBy>
  <dcterms:modified xsi:type="dcterms:W3CDTF">2007-04-23T20:22:03Z</dcterms:modified>
  <cp:revision>379</cp:revision>
  <dc:subject/>
  <dc:title>Sistemas Multimíd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