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8B2C-A289-421F-B80E-CA161169F7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6318-F1FB-49F9-9301-52B755DABC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6AE5-4022-4010-8216-95AE20763D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0800" y="4630320"/>
            <a:ext cx="5032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66D9-D907-4B3C-A3AE-48C6726C6A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0800" y="4630320"/>
            <a:ext cx="5032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25BB-5E99-4F6E-BD65-01BFC367716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0800" y="4630320"/>
            <a:ext cx="5032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747B-FDD4-4D1A-9447-28DE80A0906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0800" y="4630320"/>
            <a:ext cx="5032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04F-43C5-425D-B51C-0B966DA4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C93-1BD6-44A9-B7EB-309C6143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CD0-BDCB-48A4-AE23-DDF16DB8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20F-D5FA-4AC7-AD4C-7F510F02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1F26-67D2-481D-8F81-BC965E64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45A4-7066-4292-BC3D-CCBDD4AD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A4A9-7C8B-409F-952E-50CADA89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4806-924B-44AC-B410-7AB0EA1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28C2-AEEF-4F64-9834-04EB9FBE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5996-15C0-47D6-AA10-3FE58FD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F96C-715E-48F4-B318-8E23787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213-1E7F-44B9-BD11-A0B09C70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DCAE-6A2E-4749-A83E-082A784C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A10-32D3-4EF3-9B70-54ED794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0190-7E67-4C0E-9D6E-19330831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D0ED-E5AD-4698-946E-6CA3362E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18ED-29EC-4539-8E30-5B072CE0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10E-1E68-44E2-8383-78A151A5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3CF-55FF-4D9C-94FD-73C02FDD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3AD-2A98-44D6-81F4-E762E206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0F5-2D52-4671-B0B2-7F4F5506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B65-B344-47B0-BB99-A7D3378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63D-DE9B-4171-908C-5A2429E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2B7-1422-4B8E-8B95-8262491A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4CE-D84F-46DA-A66F-3857E1A529A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0039-DF86-4CEE-A97B-B95F46D0702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V - Adiciona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pectos relevantes da compressão de áudio (adi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24360" y="5445000"/>
            <a:ext cx="287964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Escala para a Intensidade – o dB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cala usual de intensidade usada em acústica: o 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fine-se como o logaritmo base 10 do quociente entre duas inten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el= log (I / I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1 Bel é demasiado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sa-se 1 décimo, ou seja o deciBel 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mo I=k p</a:t>
            </a:r>
            <a:r>
              <a:rPr b="0" lang="pt-PT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, tem-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B=10 log(p/p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Arial"/>
              </a:rPr>
              <a:t>ref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PT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B=20 log(p/p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Arial"/>
              </a:rPr>
              <a:t>ref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Valores de refer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valor de referência mais importante para a pressão é de 20 micro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20 x 10</a:t>
            </a:r>
            <a:r>
              <a:rPr b="0" lang="pt-PT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ste caso tem-se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ound Pressure Level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S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aracterísticas da escal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mpr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og(10)=1,  log(100)=2, log(1000000)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0 dB  não significa ausênci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Arial"/>
              </a:rPr>
              <a:t>O que signif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ão se pode” expressar ausênci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Arial"/>
              </a:rPr>
              <a:t>A que valor corresponde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ão se adiciona/subtrai dire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soma de dois sinais de 94 dB SPL não resulta em um de 188 dB S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Arial"/>
              </a:rPr>
              <a:t>Qual é o result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94 dB + 94 dB= 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nverter para pressões, somar e converter  de vo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03280" y="2206800"/>
                <a:ext cx="4608720" cy="45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P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)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μ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o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10000000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man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mos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7164360" y="4076640"/>
            <a:ext cx="1752480" cy="1905120"/>
          </a:xfrm>
          <a:prstGeom prst="wedgeRoundRectCallout">
            <a:avLst>
              <a:gd name="adj1" fmla="val -119837"/>
              <a:gd name="adj2" fmla="val 6516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x+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2*x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=&gt; + 6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18T05:03:22Z</dcterms:modified>
  <cp:revision>353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