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5C37-07E1-4FC3-883A-048FCE4E3DD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6C12-DB87-4EF7-9964-5626AAF59E0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8D3E-36C0-4E17-B504-3165A953383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7785-5D49-4D0C-9A5B-E4583B9C28C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CF5D-802F-45F2-8920-6FD799D6BEF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7CDB-A37C-4387-B378-479D6C1E63E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396-715E-4277-B4B6-113A5FBE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A97-C646-4A54-9B4C-5BDA3AF2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51C-B5CA-4B7C-948B-DCC658EA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548-7400-4997-B0AE-F509062A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8170-4416-4617-A2A1-BE32848D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4B16-C4BA-4E06-B511-8F4795A7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A559-25CC-4E03-9E3A-99006137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2F60-5617-420D-A759-DED57971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4B87-9536-45BF-A147-788275E0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82E3-BBCA-4D0A-BEF8-E21C1B96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4D80-EAB1-45B4-9DB1-691464A1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7B0-DA58-491F-AD17-567A6E5B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8042-76CF-41AE-815F-65EFAEF0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0E48-849E-4808-B174-1FF6232E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5802-06B5-461B-B166-908931BC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88A0-AC55-452E-BFB1-68A0167F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9D2E-ACDC-44F7-B367-DFE4A97D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094-0D1E-4D4E-A22B-A5CCF8B2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8FA-14BC-41DF-870C-5A64777D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9A2-1B99-430F-80E5-E5B234E6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CA61-A274-439E-8FA0-E530BFA1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5F6-5AB0-4249-A71B-17F9E9FB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B18-BADE-43E5-8701-41045543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342-BE7C-48DC-9020-92C03092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3DD0-DBC1-4BE2-AE72-1479EAEA157A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71640" cy="6858000"/>
            <a:chOff x="0" y="0"/>
            <a:chExt cx="971640" cy="6858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92700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92700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92700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9270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" name=""/>
            <p:cNvGrpSpPr/>
            <p:nvPr/>
          </p:nvGrpSpPr>
          <p:grpSpPr>
            <a:xfrm>
              <a:off x="0" y="0"/>
              <a:ext cx="971640" cy="698400"/>
              <a:chOff x="0" y="0"/>
              <a:chExt cx="971640" cy="698400"/>
            </a:xfrm>
          </p:grpSpPr>
          <p:pic>
            <p:nvPicPr>
              <p:cNvPr id="1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83760" y="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92700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" name=""/>
            <p:cNvGrpSpPr/>
            <p:nvPr/>
          </p:nvGrpSpPr>
          <p:grpSpPr>
            <a:xfrm>
              <a:off x="0" y="6159600"/>
              <a:ext cx="971640" cy="698400"/>
              <a:chOff x="0" y="6159600"/>
              <a:chExt cx="971640" cy="698400"/>
            </a:xfrm>
          </p:grpSpPr>
          <p:pic>
            <p:nvPicPr>
              <p:cNvPr id="1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3760" y="615960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96C9-D153-49D6-9171-6AC148E5F65F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0"/>
            <a:ext cx="1476000" cy="6858000"/>
            <a:chOff x="0" y="0"/>
            <a:chExt cx="1476000" cy="685800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140832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140832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140832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140832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"/>
            <p:cNvGrpSpPr/>
            <p:nvPr/>
          </p:nvGrpSpPr>
          <p:grpSpPr>
            <a:xfrm>
              <a:off x="0" y="0"/>
              <a:ext cx="1476000" cy="698400"/>
              <a:chOff x="0" y="0"/>
              <a:chExt cx="1476000" cy="698400"/>
            </a:xfrm>
          </p:grpSpPr>
          <p:pic>
            <p:nvPicPr>
              <p:cNvPr id="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82840" y="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140832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"/>
            <p:cNvGrpSpPr/>
            <p:nvPr/>
          </p:nvGrpSpPr>
          <p:grpSpPr>
            <a:xfrm>
              <a:off x="0" y="6159600"/>
              <a:ext cx="1476000" cy="698400"/>
              <a:chOff x="0" y="6159600"/>
              <a:chExt cx="1476000" cy="698400"/>
            </a:xfrm>
          </p:grpSpPr>
          <p:pic>
            <p:nvPicPr>
              <p:cNvPr id="7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82840" y="615960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mp3dev.org/mp3/" TargetMode="External"/><Relationship Id="rId2" Type="http://schemas.openxmlformats.org/officeDocument/2006/relationships/hyperlink" Target="http://www.mp3-tech.org/index.html" TargetMode="External"/><Relationship Id="rId3" Type="http://schemas.openxmlformats.org/officeDocument/2006/relationships/hyperlink" Target="http://www.mpeg.org/MPEG/index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 Áud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V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s da Audição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cance de Freqüênci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er humano pode perceber sons na faixa de freqüências de 20 Hz a 20 kHz devido às limitações físicas do ouvi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lcance de freqüências muda com a idade, perdemos a habilidade de ouvir as freqüências mais altas ao envelhe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cance Dinâm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enor variação de pressão do ar que um humano pode detectar (20 micro Pascal) medido nas freqüências na qual somos mais sensíveis, é usada como referência (0 dB) para medir a intensidade de outros s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6093000"/>
            <a:ext cx="8101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Relembrando: Uma conversa normal: entre 50-60 dB e som do trânsito de carros: é aproximadamente de 80 dB. O máximo som que o ouvido pode tolerar é 130 dB, o que dá um alcance dinâmico de 0 a 130 d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scaramento Audi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ção:  corresponde à "audibilidade diminuída de um som devido à presença de outro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ascaramento auditivo consiste de mascaramento em freqüência e mascaramento tempo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36360" y="1634760"/>
            <a:ext cx="817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scaramento Audi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scaramento em Freqüênc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bém chamado mascaramento simultâne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Dado um som forte com uma freqüência de 1000 Hz, e também um som na freqüência de 1100 Hz que está a 18 dB por baixo do anterior, o som de 1100 Hz não pode ser ouvido porque está sendo mascarado pelo som mais forte de 1000 H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to ocorre porque o som de 1000 Hz é mais forte e está perto em freqüência. Quanto mais perto em freqüência estão, mais fortes são os sons que podem ser mascarados pelo som mais for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30813" t="36221" r="24154" b="27366"/>
          <a:stretch/>
        </p:blipFill>
        <p:spPr>
          <a:xfrm>
            <a:off x="1332000" y="1773360"/>
            <a:ext cx="6840360" cy="4147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03280" y="595008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5950080"/>
            <a:ext cx="81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scaramento Psicoacústic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o sinal marcado com * não será masc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scaramento Audi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scaramento Tempor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corre antes e depois de um som for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um som é mascarado depois de um som mais forte é chamado pós-mascaramento, e se é mascarado antes em tempo é chamado pré-mascara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é-mascaramento existe só por um curto momento (20 m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ós-mascaramento tem efeito até por 200 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852640"/>
            <a:ext cx="7561440" cy="2594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scaramento Audi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plorando os mascaramen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em freqüência e tempora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é possível reduzir substancialmente a informação de áudio, sem uma mudança audíve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dundância Estereofôn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fato do ouvido humano não poder detectar a direção das baixas freqüências é chamado Redundância Estereofôn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s imperfeições, ou limitações na audição, possibilitam "jogar fora" certa informação de áudio, sem afetar o que ouvim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42560" y="1557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dificadores por Forma de Onda e Perceptu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ipos de codificadores de áudi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dificadores por forma de o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ntam reconstruir o sinal tão exatamente quanto seja possível depois de codificar e decodific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dificadores perceptua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tentam manter o sinal exatamente como era antes da etapa de codificação e decodific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uram assegurar que a saída seja percebida como o original pelo ouvido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oveita conhecimentos sobre as propriedades do ouvido e as limitações da audição humana, para eliminar parte do sinal que nós não podemos perceb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42560" y="15570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dificadores Perceptu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se todos transformam o som do domínio do tempo para o domínio da freqüência, e separaram as diferentes freqüências em sub-ban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m o conhecimento de como o ouvido funciona para eliminar informação não necessá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feito de mascaramento é o fenômeno auditivo mais habitualmente explor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codificadores perceptu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s os codificadores de áudio MPEG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dificador ATRAC da Sony, usado nos seus sistemas MiniDis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42560" y="1628640"/>
            <a:ext cx="7921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PEG-1 Layer III (MP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mas das razões pelas quais MP3 é a principal ferramenta para a distribuição de áudio pela Intern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drão aberto: Qualquer pessoa interessada pode implementar 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o formato esta bem defini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ponibilidade de codificadores e decodific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ência de tecnologia de apoio: amplo uso de placas de som para computadores, computadores suficientemente rápidos para rodar programas de codificação e decodificação de áudio e acesso rápido a Internet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spectos relevantes da compressão de á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71280" y="1628640"/>
            <a:ext cx="8101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são geral do algoritmo codificador de MP3 (MPEG-1 layer III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885080" cy="3502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66840" y="6091920"/>
            <a:ext cx="7489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duzir um "stream" de bits de acordo com o padrão MPEG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beçalho do quadro do MPEG Audio Layer I/II/III (MPEG Layer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arquivo de áudio MPEG é formado de uma sucessão de partes menores chamadas quadro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quadro é um bloco de dados com o seu próprio cabeçalho e informação de á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Layer III os quadros não são sempre independentes devido ao possível uso do "byte reservoir" (reservatório de bytes), uma espécie de "buffer". No pior caso 9 quadros podem ser necessários antes da decodificação de um quad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abeçalho do quadro tem um comprimento de 32 bits (4 bytes) . Os primeiros onze bits são sempre posicionados em 1 e são chamados "sincronismo de quadro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beçalho do quadro do MPEG Audio Layer I/II/III (MPEG Layer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caracteres A até M do cabeçalho são usados para indicar os diferentes camp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orma: AAAAAAAA AAABBCCD EEEEFFGH IIJJKLMM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rição do cabeçalho 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MPEG Layer II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9391" t="39174" r="31544" b="13585"/>
          <a:stretch/>
        </p:blipFill>
        <p:spPr>
          <a:xfrm>
            <a:off x="1258920" y="2133720"/>
            <a:ext cx="7416720" cy="44496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1270" t="25343" r="41146" b="8658"/>
          <a:stretch/>
        </p:blipFill>
        <p:spPr>
          <a:xfrm>
            <a:off x="1763640" y="1628640"/>
            <a:ext cx="590544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1270" t="22415" r="41146" b="8658"/>
          <a:stretch/>
        </p:blipFill>
        <p:spPr>
          <a:xfrm>
            <a:off x="1619280" y="1628640"/>
            <a:ext cx="57610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270" t="21465" r="41146" b="6684"/>
          <a:stretch/>
        </p:blipFill>
        <p:spPr>
          <a:xfrm>
            <a:off x="1835280" y="1557360"/>
            <a:ext cx="5616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inform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mp3dev.org/mp3/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mp3-tech.org/index.htm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mpeg.org/MPEG/index.htm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16000" y="177300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l a largura de banda necessária para transmitir áudio codificado a uma freqüência de amostragem de 44.1 kHz, 16 bits por amostra, estéreo (qualidade de CD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63640" y="2276640"/>
            <a:ext cx="633744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58920" y="2349360"/>
            <a:ext cx="734544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4100x16x2 = 1.411.200 bits por segun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to significa que para transmitir tal arquivo por uma rede, é necessária uma largura de banda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,41 Mbits/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16000" y="177300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música de três minutos (180 segundos) de áudio nestas condições (freqüência de amostragem de 44.1 kHz, 16 bits por amostra, estéreo) utiliza quanto (MB) de armazenamento em um computad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63640" y="2133720"/>
            <a:ext cx="633744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6000" y="177300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80x44100x16x2 = 254.016.000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mais de 30 M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armazenamento no computad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s dois exemplos dão uma idéia da importância da compressão de s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istema MP3 aproveita, além das técnicas habituais de compressão, o conhecimento das imperfeições ou limitações na audição, para eliminar certas informações sem afetar o que ouvimos, conseguindo níveis de compressão de até 12 vez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15640" y="169992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s da Audição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udição humana não é perfeita. Além das limitações físicas do ouvido, depois o som tem que viajar através dos nervos até o córtex auditivo do cérebro onde é transformado em diferentes percepções das quais tomamos consciê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15640" y="169992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s da Audição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noridade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Loudnes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is sons com a mesma amplitude podem ser percebidos com intensidade distinta dependendo das freqüências que tê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ercepção da intensidade de um som não é constante com a freqüê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ouvido humano tem maior sensibilidade ao som entre os 1000 e os 5000 H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4-16T15:43:15Z</dcterms:modified>
  <cp:revision>352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