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3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720-91B6-4218-911E-AB9432CECE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B22-D974-4142-8A67-84AA64C22F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731-32A5-4A0E-94EF-E8E9E465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C9F-3805-4B71-AC70-282BBEF4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4E9-375B-4CDD-8ABA-B57F331B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52D-0D31-4529-AE4D-261BFA63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2CBA-8AC2-4D45-9273-7D7DAD2D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9159-69FC-49C1-B29E-989B65B9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1EE2-6BCD-4054-8EB3-CD90F950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F235-7ADA-4E0E-80D3-A255E35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4719-0F27-47D5-A803-7C0118F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E9FE-622C-4356-92AC-73457B3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E4B8-811E-433F-A098-4C43B40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E23-E868-48B8-8156-2B2D9BDA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9072-8866-419B-9D52-14A17083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8FAD-95C6-4399-9F34-D2223D8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24AD-6CEC-4DF0-A907-4523183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0FFD-AD78-4077-A296-5308B1FC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D33B-44F1-4390-A774-0F09A320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477-5071-44A2-B6E7-CE9C707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EDF-76AB-4B7A-BBF8-AC669D6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AFF-6160-42A0-8E8E-9821AC5B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58F-AACD-45E2-8039-66FCBA9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F14-08A6-4DD9-BE0F-AD8B893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F7D-4092-40BF-B0B4-F3B2ECE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74B-6775-42E1-AE75-F565607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A991-A597-4CE5-925F-70B5123CA45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BC7-59F3-472F-B433-A510205E997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e áudio digital utilizado pela Sun e pelo sistema operacional Uni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semelhante ao format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tilizado inicialmente pela Ap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n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50920" y="1557360"/>
            <a:ext cx="799308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RIFF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(Wav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igital de sinais contín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armazenados na forma de pequenos fragmentos (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hunk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30440" y="2924280"/>
            <a:ext cx="5863680" cy="351108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RIF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o chunk (32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WA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fm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a descrição do arqu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ag para mono (0x01) ou estéreo (0x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xa de amostr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ytes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inhamento do bl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ts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o segment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n bytes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116000" y="4359240"/>
            <a:ext cx="8064000" cy="1268280"/>
            <a:chOff x="1116000" y="4359240"/>
            <a:chExt cx="8064000" cy="1268280"/>
          </a:xfrm>
        </p:grpSpPr>
        <p:sp>
          <p:nvSpPr>
            <p:cNvPr id="149" name=""/>
            <p:cNvSpPr/>
            <p:nvPr/>
          </p:nvSpPr>
          <p:spPr>
            <a:xfrm>
              <a:off x="1670400" y="4359240"/>
              <a:ext cx="171468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orm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lockAl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46234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6000" y="4369680"/>
              <a:ext cx="302040" cy="1688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6000" y="4877280"/>
              <a:ext cx="302040" cy="168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9200" y="4369680"/>
              <a:ext cx="302040" cy="16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9200" y="4623480"/>
              <a:ext cx="30204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9200" y="4877280"/>
              <a:ext cx="302040" cy="168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13080" y="4369680"/>
              <a:ext cx="301320" cy="1688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13080" y="4623480"/>
              <a:ext cx="301320" cy="168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13080" y="4877280"/>
              <a:ext cx="301320" cy="1688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3280" y="4359240"/>
              <a:ext cx="171432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dioForm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itsPer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most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5680" y="4359240"/>
              <a:ext cx="1714320" cy="10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umChann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ample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yte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5120280"/>
              <a:ext cx="302040" cy="168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9200" y="5120280"/>
              <a:ext cx="302040" cy="168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2360" y="5120280"/>
              <a:ext cx="302040" cy="168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6000" y="5374080"/>
              <a:ext cx="302040" cy="1688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9200" y="53740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87280" y="1916280"/>
            <a:ext cx="763272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itura de um arquivo de áudio (format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564640"/>
            <a:ext cx="6624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0:  </a:t>
            </a:r>
            <a:r>
              <a:rPr b="1" lang="es-ES_tradnl" sz="1200" spc="-1" strike="noStrike">
                <a:solidFill>
                  <a:srgbClr val="333399"/>
                </a:solidFill>
                <a:latin typeface="Courier New"/>
              </a:rPr>
              <a:t>52  49  46  46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1200" spc="-1" strike="noStrike">
                <a:solidFill>
                  <a:srgbClr val="ff0000"/>
                </a:solidFill>
                <a:latin typeface="Courier New"/>
              </a:rPr>
              <a:t>EE  2B  00  00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1200" spc="-1" strike="noStrike">
                <a:solidFill>
                  <a:srgbClr val="33cccc"/>
                </a:solidFill>
                <a:latin typeface="Courier New"/>
              </a:rPr>
              <a:t>57  41  56  45  </a:t>
            </a:r>
            <a:r>
              <a:rPr b="1" lang="es-ES_tradnl" sz="1200" spc="-1" strike="noStrike">
                <a:solidFill>
                  <a:srgbClr val="0000ff"/>
                </a:solidFill>
                <a:latin typeface="Courier New"/>
              </a:rPr>
              <a:t>66  6D  74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R   I   F   F  </a:t>
            </a:r>
            <a:r>
              <a:rPr b="1" lang="pt-BR" sz="1200" spc="-1" strike="noStrike">
                <a:solidFill>
                  <a:srgbClr val="ff0000"/>
                </a:solidFill>
                <a:latin typeface="Courier New"/>
              </a:rPr>
              <a:t>11246 bits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</a:rPr>
              <a:t>W   A   V   E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ff"/>
                </a:solidFill>
                <a:latin typeface="Courier New"/>
              </a:rPr>
              <a:t>f   m   t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: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</a:rPr>
              <a:t>10  00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</a:rPr>
              <a:t>80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3E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</a:rPr>
              <a:t>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</a:rPr>
              <a:t>00  7D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</a:rPr>
              <a:t>16 bytes  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</a:rPr>
              <a:t>1(PCM)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</a:rPr>
              <a:t>1(Mono)  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</a:rPr>
              <a:t>16000 Hz       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</a:rPr>
              <a:t>3200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:  </a:t>
            </a:r>
            <a:r>
              <a:rPr b="1" lang="pt-BR" sz="1200" spc="-1" strike="noStrike">
                <a:solidFill>
                  <a:srgbClr val="993300"/>
                </a:solidFill>
                <a:latin typeface="Courier New"/>
              </a:rPr>
              <a:t>02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10  00  </a:t>
            </a:r>
            <a:r>
              <a:rPr b="1" lang="pt-BR" sz="1200" spc="-1" strike="noStrike">
                <a:solidFill>
                  <a:srgbClr val="008000"/>
                </a:solidFill>
                <a:latin typeface="Courier New"/>
              </a:rPr>
              <a:t>64  61  74  6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3366ff"/>
                </a:solidFill>
                <a:latin typeface="Courier New"/>
              </a:rPr>
              <a:t>80  2B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</a:rPr>
              <a:t>CF  FF  84  FF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993300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16 bits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d   a   t   a     </a:t>
            </a:r>
            <a:r>
              <a:rPr b="1" lang="en-US" sz="1200" spc="-1" strike="noStrike">
                <a:solidFill>
                  <a:srgbClr val="3366ff"/>
                </a:solidFill>
                <a:latin typeface="Courier New"/>
              </a:rPr>
              <a:t>11136 bit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</a:rPr>
              <a:t>69  FF  67  FF  89  FF  B7  FF  9B  FF  5A  FF  86  FF  6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</a:rPr>
              <a:t>3F  FF  8A  FF  9B  FF  EC  FF  0E  00  3C  00  39  00  D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9120" y="2805120"/>
            <a:ext cx="360" cy="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9120" y="2805120"/>
            <a:ext cx="38160" cy="1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586728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presentação hexadecimal de um trecho de um arquivo WA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2 49 46 46 24 08 00 00 57 41 56 45 66 6d 74 20 10 00 00 00 01 00 02 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2 56 00 00 88 58 01 00 04 00 10 00 64 61 74 61 00 08 00 00 00 00 00 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4 17 1e f3 3c 13 3c 14 16 f9 18 f9 34 e7 23 a6 3c f2 24 f2 11 ce 1a 0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732720" cy="4492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6553080"/>
            <a:ext cx="792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Fonte: http://geocities.yahoo.com.br/d_godoi/pg4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508640"/>
            <a:ext cx="10429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7040" indent="-34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usical Instrument Digit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m padrão que permite conectar sintetizadores, teclados eletrônicos e outros instrumentos eletrônicos ao compu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arquivos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não são exatamente um formato de arquivo de áudio, mas, por armazenarem notas musicais, encontram-se dentro desta categoria e têm a extens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040" indent="-34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mpact Disc Digital 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usado para codificar música em discos comerc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ste formato não é usualmente armazenado diretamente nos compu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te de imagens ou vídeo, existe pouca relação entre amostras vizinhas ou quadros consecutivos para o áu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íveis de compressão práticos são limitados para muito menos de 10:1 (compressão de vídeo de 25:1 pode ser produzid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777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s algoritmos de compressão funcionam de forma similar à compressão de imag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rquivos comprimidos ocupam menos espaço que os arquivos iniciais e resultam da eliminação de informação redundante e outras informações de áudio com pouca influência na qualidade do me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mas de compressão de um arquivo de á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 perdas de inform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m perdas de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matos de compressão com per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mais populares provêm da família dos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otion Picture Experts Group (MPEG)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PEG - refere-se a uma família de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padrõ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a áudio e vídeo que inclui o MPEG-1, MPEG-2, MPEG-1 Layer 3 (MP3) e o MPEG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87280" y="1700280"/>
          <a:ext cx="7560000" cy="4741920"/>
        </p:xfrm>
        <a:graphic>
          <a:graphicData uri="http://schemas.openxmlformats.org/drawingml/2006/table">
            <a:tbl>
              <a:tblPr/>
              <a:tblGrid>
                <a:gridCol w="1595520"/>
                <a:gridCol w="59644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ão para vídeo e CD-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ão para DVD e TV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1 – Layer 3 (MP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arquivos apresentam tamanhos pequenos e com um som de qualidade. A sua característica principal é a sua universalid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 – Layer 3 (MP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muito utilizado nas transmissões de música pela Internet. O seu processo de compactação funciona através da eliminação de frequências sonoras não audíveis pelo ouvido humano. Transforma arquivos com 40MB de tamanho em 4MB, mantendo uma qualidade razoáv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 4 Audio A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4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 o padrão que permite introduzir áudio e vídeo na Internet, em dispositivos móveis, em jogos e em aparelhos sem fios,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utros formatos de compressão com perd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QuickTime A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é essencialmente a tecnologia MPEG-4, suportando áudio, vídeo e o formato MP3. A extensão dos arquivos é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indows Media A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é um formato de áudio digital da Microsoft, desenvolvido como um formato alternativo ao MP3. A extensão de arquivos é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nipulação de Sinais de 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matos de compressão sem per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indows Media Audio Lo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a Microsoft, disponível nas versões 9 e 10 do Windows Media Play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sa a mesma extensão do format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wm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pple Lossless Audio C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isponível para ser usado com o iTunes e o iPod da Ap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o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4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ditore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l Edit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do pela Sytreilium Software Corporation para plataforma 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uma elevada variedade de efeitos DSP, e suporte para um grande número de formatos de arqu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ave Surg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como objetivos automatizar o processo de edição de amostras de áudio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und Forg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do para a criação e edição de som digital sob 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e áudio de uso fácil, apresenta diversos recursos úteis ao desenvolvimento de projetos em multimí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ador de Á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gravar, reproduzir e gerar efeitos em arquivos de áud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13086" t="22636" r="59604" b="56711"/>
          <a:stretch/>
        </p:blipFill>
        <p:spPr>
          <a:xfrm>
            <a:off x="1258920" y="4869000"/>
            <a:ext cx="2376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 MP3 Sound Rec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gravar, reproduzir e gerar efeitos em arquivos de áud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WAV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loa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om/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n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er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2/3000-2140_4-10594670.htm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58920" y="4797360"/>
            <a:ext cx="2374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Voice Rec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a gravação de áudio a partir de editores de música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programurl.com/stepvoice-recorder.h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58920" y="4869000"/>
            <a:ext cx="23763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Media 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reproduzir filmes, músicas, sintonizar rádios através da internet, criar CD de música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F, Real Audio, Real Video, QuickTime, AVI, WAV, MP3 e Netshow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39" t="6684" r="539" b="4730"/>
          <a:stretch/>
        </p:blipFill>
        <p:spPr>
          <a:xfrm>
            <a:off x="1258920" y="4724280"/>
            <a:ext cx="2449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reproduzir músicas, sintonizar rádios através da internet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WAV, cda, wma,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real.com/international/playe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466" t="0" r="2931" b="4513"/>
          <a:stretch/>
        </p:blipFill>
        <p:spPr>
          <a:xfrm>
            <a:off x="1332000" y="4635360"/>
            <a:ext cx="23032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187280" y="1989000"/>
          <a:ext cx="763272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8400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que reproduz arquivos em vários format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MP2, MOD, S3M, MTM, ULT, XM, IT, 669, CDs de audio e WAV,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winam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2449440" cy="1860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87280" y="1989000"/>
          <a:ext cx="763272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8400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Player completo com capacidade de gravação e reprodução do conteúdo de C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WAV, Ogg Vorbis, Windows Media e Monkeys Aud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jetaudio.com/download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2449440" cy="1860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87280" y="1989000"/>
          <a:ext cx="763272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8400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oundSt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transformar o PC em um estúdio de composição music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softbull.com/mysoundstudio.htm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4653000"/>
            <a:ext cx="24480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1981080"/>
            <a:ext cx="72752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crição simplificada de uma plac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7772400" cy="326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098000" y="6359400"/>
            <a:ext cx="5370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http://paginas.terra.com.br/lazer/py4zbz/teoria/digitaliz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187280" y="1989000"/>
          <a:ext cx="770580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65708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BurnerXP 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a gravação de CD de áudio, reprodução e gravação de arquivos de á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cdburnerxp.s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47640" y="45482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87280" y="1989000"/>
          <a:ext cx="770580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65708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a gravação de CD e DV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cdburnerxp.s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28794" t="7880" r="6984" b="26544"/>
          <a:stretch/>
        </p:blipFill>
        <p:spPr>
          <a:xfrm>
            <a:off x="1332000" y="4653000"/>
            <a:ext cx="2305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700280"/>
            <a:ext cx="7777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e placas de som de má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777080" cy="3868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42920" y="1700280"/>
            <a:ext cx="7777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e placas de som de boa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537320" cy="3718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básicos de formatos de arqu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e dados de áudio e codificação são feitos explicitamente em alguma forma de cabeçal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e dados de áudio e codificação são fix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Não comprim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mostragem 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antização 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dificaçã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CM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ulse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de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dulation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CM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Padrão básico para conversão de sinais analógicos para armazenamento ou transmissão em dispositivos digi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a codificação é feita sem uso de algoritmos de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maior parte dos formatos de arquivos não comprimidos é própria de sistemas operacionais específ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aveform A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e áudio digital do 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ido pela IBM para o Windows 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arquivos neste formato utilizam a extens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FF Wavefor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de som Wave da Microsoft 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para o sistema de som 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uivos Waveform RIFF têm extensão W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udio Interchange File Format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AI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e áudio utilizado pela Ap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pode ser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iff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if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voz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de som da Sound Bl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 extensão VO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Amostra de 8 bits cru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(R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ormato do som não contém codificação ou compr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11T23:07:10Z</dcterms:modified>
  <cp:revision>34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