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2.wmf" ContentType="image/x-wmf"/>
  <Override PartName="/ppt/media/image13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28.wmf" ContentType="image/x-wmf"/>
  <Override PartName="/ppt/media/image10.png" ContentType="image/png"/>
  <Override PartName="/ppt/media/image6.wmf" ContentType="image/x-wmf"/>
  <Override PartName="/ppt/media/image29.wmf" ContentType="image/x-wmf"/>
  <Override PartName="/ppt/media/image31.jpeg" ContentType="image/jpeg"/>
  <Override PartName="/ppt/media/image8.wmf" ContentType="image/x-wmf"/>
  <Override PartName="/ppt/media/image4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122A-4397-40FB-BA1A-032BC47C1D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153C-9C56-4619-9A87-E82D8F0CFAC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A64-0673-40CD-A808-EEAF06FB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F39-C0F7-471D-9B4D-C3C86E40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CC6-A6A0-4122-B12B-D2211107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AC8-6A9D-41D6-B30C-25D78623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CF7F-5458-467A-8928-7EC017F4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58A9-CB2F-42AC-BE62-707B62CA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B0F4-CB86-454C-82B5-7AA75492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69DF-03B8-4FBB-95CC-051DC720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4B8C-868C-440A-8CFE-5591DD4B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CF80-8597-4AFF-B496-D8345342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4C55-ACCE-4148-996E-9C7BE76F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341-B22B-4536-8D4B-FE8F46F4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E5E5-4C46-4D50-A338-CCD3C02C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63A2-8139-433B-B7E7-540899E5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4EFA-21CC-4B61-A469-D9AC33CD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2D63-8CFC-423D-A405-3C0405EB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2D92-0483-4602-9DD1-B3A1FBC8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572-FD37-4243-B920-08592E3A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2EA-024B-4EF8-9E31-E6EE3125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57D-2B13-4D44-A06F-38A38518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943-96DA-4C2C-A689-0168539A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3E5-8569-4B01-9D2A-93C5B00A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3D4-D48C-4226-9465-44A54EBE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2A6-7B70-41CB-9AE8-F777CF7C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57B3-F15A-4748-B657-EDA4E6D0F33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3130-46DE-46C3-B074-3AA19271E99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um sinal contínuo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a Transformada de Fouri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ortante: Fórmula de Eu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95640" y="5589720"/>
            <a:ext cx="3671640" cy="458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47640" y="3645000"/>
            <a:ext cx="6553440" cy="917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059280" y="2521080"/>
            <a:ext cx="3528720" cy="698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omínio da Frequênc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Transformadas de Four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4154" t="27366" r="10872" b="30319"/>
          <a:stretch/>
        </p:blipFill>
        <p:spPr>
          <a:xfrm>
            <a:off x="1042920" y="2421000"/>
            <a:ext cx="7777080" cy="3798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omínio da Frequênc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76360" y="1916280"/>
            <a:ext cx="6324480" cy="47322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628280"/>
            <a:ext cx="7715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érie de Fourier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omínio da Frequ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81520" y="2133720"/>
            <a:ext cx="5083200" cy="3984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26920" y="1557360"/>
            <a:ext cx="5791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spectro de fr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cala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cala 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arítmica 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dB)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dB= 10 log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72160" y="2251080"/>
            <a:ext cx="73656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5440" y="18194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55560" y="18572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5*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58760" y="18446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3*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013360" y="2189160"/>
            <a:ext cx="1511280" cy="11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241960" y="2201760"/>
            <a:ext cx="2628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omínio da Frequênc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8200"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cessamento digital de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Operações de processamento digital de s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Processamento no domínio do t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perações feitas sobre as amostras separ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Processamento no domínio da freqüênc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24"/>
              </a:spcBef>
              <a:buClr>
                <a:srgbClr val="0033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perações requerem a análise de seqüências de amostras de s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spcBef>
                <a:spcPts val="524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69608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Processamento no domínio do temp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rmazenar e recuperar arquivos de som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rtar, copiar e colar segmentos de arquivos de som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alçar, atenuar e mixar segmentos de arquivos de s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971280" y="476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8200"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cessamento digital de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o Tempo - Exempl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06360" y="2616120"/>
            <a:ext cx="3791160" cy="2973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130720" y="2616120"/>
            <a:ext cx="3791160" cy="2973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71640" y="3362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67320" y="3375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8520" y="184464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Remoção da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7280" y="1700280"/>
            <a:ext cx="7715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plificaçã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029200" y="2687760"/>
            <a:ext cx="3790800" cy="2973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104840" y="2687760"/>
            <a:ext cx="3791160" cy="2973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o Tempo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1844640"/>
            <a:ext cx="77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ormalização no temp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42920" y="2781360"/>
            <a:ext cx="3791160" cy="2973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967280" y="2781360"/>
            <a:ext cx="3790800" cy="2973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o Tempo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1916280"/>
            <a:ext cx="77151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ormalização na amplitude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70000" y="3583080"/>
            <a:ext cx="3197160" cy="2506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883040" y="2873520"/>
            <a:ext cx="3791160" cy="1846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788000" y="3933720"/>
            <a:ext cx="4138560" cy="202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943440" y="2670120"/>
                <a:ext cx="102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70440" y="5030640"/>
                <a:ext cx="10922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o Tempo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presentação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1988640"/>
            <a:ext cx="7715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uavização (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smoothing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340000" y="2708280"/>
            <a:ext cx="4680000" cy="353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o Tempo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plicações do processamento no domínio da freqüênc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ltragem digital e recuperação de gravaçõ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justes de duração e altura de amostras de som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várias técnicas de síntese musica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dentificação e reconhecimento de voz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5157720"/>
            <a:ext cx="7620120" cy="1015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imento importa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da Discreta de Fourier (D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971280" y="476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8200"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cessamento digital de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537080" cy="2936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979640" y="4610160"/>
            <a:ext cx="4608360" cy="2131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a Freqüência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51240" cy="2751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340000" y="4508640"/>
            <a:ext cx="4538520" cy="2100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a Freqüência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379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iltro de 1ª Or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pas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= 5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stop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= 8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96000" y="1599840"/>
            <a:ext cx="379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iltro de 2ª Or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pas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= 5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stop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= 6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42920" y="3068640"/>
            <a:ext cx="3673440" cy="3011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076720" y="306864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a Freqüência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79560" indent="0"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Formas de Representação do S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Domínio do T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Domínio da Freqüênc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724280"/>
            <a:ext cx="7620120" cy="1015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imento importa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da de Four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3213000"/>
            <a:ext cx="503280" cy="1368360"/>
          </a:xfrm>
          <a:prstGeom prst="line">
            <a:avLst/>
          </a:prstGeom>
          <a:ln w="5076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3284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tro do s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239240" cy="5078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76520" y="6019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a de editor de á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58920" y="5734080"/>
            <a:ext cx="7275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pectro de um s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925040" cy="3668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79560" indent="0"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7280" y="2106720"/>
            <a:ext cx="7525080" cy="3483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79640" y="57801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tro tridimensional de um 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1552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87280" y="5805000"/>
            <a:ext cx="72756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onograma de um s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713720" cy="35701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71280" y="476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Espectrogram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3320" y="1600200"/>
            <a:ext cx="5778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omínio da Frequênc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379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érie de Fouri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odos os sinais se podem ser decompostos numa soma de seno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003640" y="1700280"/>
            <a:ext cx="38275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02T16:19:39Z</dcterms:modified>
  <cp:revision>314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