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EEC5-6C79-4F61-B734-FF61EDE075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DF29-3451-4B32-B428-CB031448C7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AFD7-36F1-41BA-A222-EF87B469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D51-656E-4534-BDFB-48A6F301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F5D-85DC-40BC-9E0D-3A511981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34F-AC49-4256-9396-78F191E3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C61D-5B69-4E19-8E42-A0998F72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748D-B486-4F8D-8557-ADBD352A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74C4-8290-4F5A-A0ED-E069ADA9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1C81-4BA8-4438-926D-055F3F4A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7B7A-B4E1-44C4-A0AA-21B96260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0995-0E97-415B-9A91-81E6078A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7474-45B4-4B5A-B0D2-D995F44E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E3E-F412-4217-8155-BFC8A6F7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D7F3-CFD3-41B2-B2C4-D6508DA2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C60E-C054-4F0F-BCBD-B55C9C2A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1B58-80E6-479D-ABD0-A3A4DFD6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B9B7-F5D7-4A0D-B46E-BF468F7E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7091-E7BD-47DE-8C0C-DE412C1E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742-6310-47AD-A678-9D998CB3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333-4662-4905-AF52-B4DCF167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A34-00E1-465D-BE84-68633C4A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C56-105E-4F99-8FBD-4F57B517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368-00CB-409E-8E7F-CBEC745A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A2D-EFFC-4BF2-B0F8-D9FE91DC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7716-83DE-4D35-AE88-5010F07E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7249-A6BA-4278-9D6B-7D3BDA8F855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42920" cy="6858000"/>
            <a:chOff x="0" y="0"/>
            <a:chExt cx="1042920" cy="685800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1042920" cy="6858000"/>
              <a:chOff x="0" y="0"/>
              <a:chExt cx="1042920" cy="6858000"/>
            </a:xfrm>
          </p:grpSpPr>
          <p:pic>
            <p:nvPicPr>
              <p:cNvPr id="8" name="" descr=""/>
              <p:cNvPicPr/>
              <p:nvPr/>
            </p:nvPicPr>
            <p:blipFill>
              <a:blip r:embed="rId2"/>
              <a:srcRect l="35239" t="31294" r="20477" b="25393"/>
              <a:stretch/>
            </p:blipFill>
            <p:spPr>
              <a:xfrm>
                <a:off x="0" y="601200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"/>
              <p:cNvSpPr/>
              <p:nvPr/>
            </p:nvSpPr>
            <p:spPr>
              <a:xfrm>
                <a:off x="675360" y="0"/>
                <a:ext cx="0" cy="685800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188280" y="6165720"/>
                <a:ext cx="541080" cy="620640"/>
                <a:chOff x="188280" y="6165720"/>
                <a:chExt cx="541080" cy="62064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188280" y="6662520"/>
                  <a:ext cx="541080" cy="1238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2600" dir="162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500" spc="-1" strike="noStrike">
                      <a:solidFill>
                        <a:srgbClr val="ffcc00"/>
                      </a:solidFill>
                      <a:latin typeface="Humanst521 BT"/>
                    </a:rPr>
                    <a:t>DSC/CEEI/UFCG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406800" y="6362280"/>
                  <a:ext cx="29556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flipH="1" flipV="1">
                  <a:off x="214200" y="6165720"/>
                  <a:ext cx="2944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408600" y="6372000"/>
                  <a:ext cx="295200" cy="27180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flipV="1">
                  <a:off x="214200" y="6174720"/>
                  <a:ext cx="296280" cy="272880"/>
                </a:xfrm>
                <a:custGeom>
                  <a:avLst/>
                  <a:gdLst/>
                  <a:ahLst/>
                  <a:rect l="l" t="t" r="r" b="b"/>
                  <a:pathLst>
                    <a:path w="1470" h="999">
                      <a:moveTo>
                        <a:pt x="279" y="5"/>
                      </a:moveTo>
                      <a:cubicBezTo>
                        <a:pt x="333" y="20"/>
                        <a:pt x="361" y="24"/>
                        <a:pt x="393" y="32"/>
                      </a:cubicBezTo>
                      <a:cubicBezTo>
                        <a:pt x="425" y="40"/>
                        <a:pt x="439" y="44"/>
                        <a:pt x="474" y="53"/>
                      </a:cubicBezTo>
                      <a:cubicBezTo>
                        <a:pt x="474" y="53"/>
                        <a:pt x="603" y="89"/>
                        <a:pt x="603" y="89"/>
                      </a:cubicBezTo>
                      <a:cubicBezTo>
                        <a:pt x="637" y="100"/>
                        <a:pt x="656" y="108"/>
                        <a:pt x="678" y="119"/>
                      </a:cubicBezTo>
                      <a:cubicBezTo>
                        <a:pt x="700" y="130"/>
                        <a:pt x="724" y="145"/>
                        <a:pt x="738" y="155"/>
                      </a:cubicBezTo>
                      <a:cubicBezTo>
                        <a:pt x="752" y="165"/>
                        <a:pt x="757" y="173"/>
                        <a:pt x="765" y="182"/>
                      </a:cubicBezTo>
                      <a:cubicBezTo>
                        <a:pt x="773" y="191"/>
                        <a:pt x="780" y="200"/>
                        <a:pt x="785" y="209"/>
                      </a:cubicBezTo>
                      <a:cubicBezTo>
                        <a:pt x="794" y="223"/>
                        <a:pt x="793" y="227"/>
                        <a:pt x="795" y="239"/>
                      </a:cubicBezTo>
                      <a:cubicBezTo>
                        <a:pt x="797" y="251"/>
                        <a:pt x="800" y="268"/>
                        <a:pt x="800" y="279"/>
                      </a:cubicBezTo>
                      <a:cubicBezTo>
                        <a:pt x="801" y="296"/>
                        <a:pt x="801" y="296"/>
                        <a:pt x="798" y="308"/>
                      </a:cubicBezTo>
                      <a:cubicBezTo>
                        <a:pt x="795" y="320"/>
                        <a:pt x="787" y="336"/>
                        <a:pt x="780" y="349"/>
                      </a:cubicBezTo>
                      <a:cubicBezTo>
                        <a:pt x="772" y="361"/>
                        <a:pt x="765" y="375"/>
                        <a:pt x="753" y="386"/>
                      </a:cubicBezTo>
                      <a:cubicBezTo>
                        <a:pt x="740" y="399"/>
                        <a:pt x="721" y="414"/>
                        <a:pt x="702" y="425"/>
                      </a:cubicBezTo>
                      <a:cubicBezTo>
                        <a:pt x="683" y="436"/>
                        <a:pt x="662" y="444"/>
                        <a:pt x="642" y="452"/>
                      </a:cubicBezTo>
                      <a:cubicBezTo>
                        <a:pt x="622" y="460"/>
                        <a:pt x="612" y="466"/>
                        <a:pt x="585" y="473"/>
                      </a:cubicBezTo>
                      <a:cubicBezTo>
                        <a:pt x="585" y="473"/>
                        <a:pt x="535" y="486"/>
                        <a:pt x="480" y="494"/>
                      </a:cubicBezTo>
                      <a:cubicBezTo>
                        <a:pt x="425" y="502"/>
                        <a:pt x="370" y="504"/>
                        <a:pt x="295" y="504"/>
                      </a:cubicBezTo>
                      <a:cubicBezTo>
                        <a:pt x="220" y="504"/>
                        <a:pt x="235" y="499"/>
                        <a:pt x="145" y="504"/>
                      </a:cubicBezTo>
                      <a:cubicBezTo>
                        <a:pt x="72" y="751"/>
                        <a:pt x="0" y="999"/>
                        <a:pt x="0" y="999"/>
                      </a:cubicBezTo>
                      <a:cubicBezTo>
                        <a:pt x="0" y="999"/>
                        <a:pt x="230" y="999"/>
                        <a:pt x="230" y="999"/>
                      </a:cubicBezTo>
                      <a:cubicBezTo>
                        <a:pt x="230" y="999"/>
                        <a:pt x="490" y="984"/>
                        <a:pt x="490" y="984"/>
                      </a:cubicBezTo>
                      <a:cubicBezTo>
                        <a:pt x="556" y="979"/>
                        <a:pt x="582" y="975"/>
                        <a:pt x="627" y="968"/>
                      </a:cubicBezTo>
                      <a:cubicBezTo>
                        <a:pt x="672" y="961"/>
                        <a:pt x="717" y="953"/>
                        <a:pt x="760" y="944"/>
                      </a:cubicBezTo>
                      <a:cubicBezTo>
                        <a:pt x="803" y="935"/>
                        <a:pt x="846" y="925"/>
                        <a:pt x="888" y="914"/>
                      </a:cubicBezTo>
                      <a:cubicBezTo>
                        <a:pt x="930" y="903"/>
                        <a:pt x="971" y="894"/>
                        <a:pt x="1015" y="879"/>
                      </a:cubicBezTo>
                      <a:cubicBezTo>
                        <a:pt x="1078" y="858"/>
                        <a:pt x="1106" y="846"/>
                        <a:pt x="1150" y="824"/>
                      </a:cubicBezTo>
                      <a:cubicBezTo>
                        <a:pt x="1194" y="802"/>
                        <a:pt x="1247" y="771"/>
                        <a:pt x="1280" y="749"/>
                      </a:cubicBezTo>
                      <a:cubicBezTo>
                        <a:pt x="1312" y="724"/>
                        <a:pt x="1329" y="712"/>
                        <a:pt x="1350" y="689"/>
                      </a:cubicBezTo>
                      <a:cubicBezTo>
                        <a:pt x="1373" y="664"/>
                        <a:pt x="1385" y="649"/>
                        <a:pt x="1420" y="599"/>
                      </a:cubicBezTo>
                      <a:cubicBezTo>
                        <a:pt x="1455" y="549"/>
                        <a:pt x="1465" y="464"/>
                        <a:pt x="1465" y="464"/>
                      </a:cubicBezTo>
                      <a:cubicBezTo>
                        <a:pt x="1470" y="429"/>
                        <a:pt x="1464" y="416"/>
                        <a:pt x="1460" y="394"/>
                      </a:cubicBezTo>
                      <a:cubicBezTo>
                        <a:pt x="1456" y="372"/>
                        <a:pt x="1451" y="353"/>
                        <a:pt x="1443" y="332"/>
                      </a:cubicBezTo>
                      <a:cubicBezTo>
                        <a:pt x="1433" y="312"/>
                        <a:pt x="1428" y="290"/>
                        <a:pt x="1410" y="266"/>
                      </a:cubicBezTo>
                      <a:cubicBezTo>
                        <a:pt x="1392" y="242"/>
                        <a:pt x="1363" y="211"/>
                        <a:pt x="1335" y="189"/>
                      </a:cubicBezTo>
                      <a:cubicBezTo>
                        <a:pt x="1335" y="189"/>
                        <a:pt x="1299" y="160"/>
                        <a:pt x="1242" y="134"/>
                      </a:cubicBezTo>
                      <a:cubicBezTo>
                        <a:pt x="1185" y="108"/>
                        <a:pt x="1154" y="101"/>
                        <a:pt x="1116" y="89"/>
                      </a:cubicBezTo>
                      <a:cubicBezTo>
                        <a:pt x="1078" y="77"/>
                        <a:pt x="1063" y="72"/>
                        <a:pt x="1011" y="62"/>
                      </a:cubicBezTo>
                      <a:cubicBezTo>
                        <a:pt x="1011" y="62"/>
                        <a:pt x="879" y="38"/>
                        <a:pt x="801" y="26"/>
                      </a:cubicBezTo>
                      <a:cubicBezTo>
                        <a:pt x="727" y="15"/>
                        <a:pt x="629" y="9"/>
                        <a:pt x="564" y="5"/>
                      </a:cubicBezTo>
                      <a:cubicBezTo>
                        <a:pt x="499" y="1"/>
                        <a:pt x="449" y="2"/>
                        <a:pt x="411" y="2"/>
                      </a:cubicBezTo>
                      <a:cubicBezTo>
                        <a:pt x="374" y="1"/>
                        <a:pt x="358" y="0"/>
                        <a:pt x="336" y="2"/>
                      </a:cubicBezTo>
                      <a:cubicBezTo>
                        <a:pt x="314" y="2"/>
                        <a:pt x="288" y="2"/>
                        <a:pt x="279" y="5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907920"/>
                <a:ext cx="860400" cy="172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" descr=""/>
              <p:cNvPicPr/>
              <p:nvPr/>
            </p:nvPicPr>
            <p:blipFill>
              <a:blip r:embed="rId5"/>
              <a:srcRect l="35239" t="31294" r="20477" b="25393"/>
              <a:stretch/>
            </p:blipFill>
            <p:spPr>
              <a:xfrm>
                <a:off x="0" y="2565360"/>
                <a:ext cx="865080" cy="8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354560"/>
                <a:ext cx="860400" cy="17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429000"/>
                <a:ext cx="1042920" cy="917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F919-99F3-4311-B008-BC1DFDB1EF1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0"/>
            <a:ext cx="1389240" cy="6858000"/>
            <a:chOff x="0" y="0"/>
            <a:chExt cx="1389240" cy="6858000"/>
          </a:xfrm>
        </p:grpSpPr>
        <p:pic>
          <p:nvPicPr>
            <p:cNvPr id="65" name="" descr=""/>
            <p:cNvPicPr/>
            <p:nvPr/>
          </p:nvPicPr>
          <p:blipFill>
            <a:blip r:embed="rId2"/>
            <a:srcRect l="35239" t="31294" r="20477" b="25393"/>
            <a:stretch/>
          </p:blipFill>
          <p:spPr>
            <a:xfrm>
              <a:off x="0" y="601200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900000" y="0"/>
              <a:ext cx="0" cy="6858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50920" y="6165720"/>
              <a:ext cx="720720" cy="620640"/>
              <a:chOff x="250920" y="6165720"/>
              <a:chExt cx="720720" cy="620640"/>
            </a:xfrm>
          </p:grpSpPr>
          <p:sp>
            <p:nvSpPr>
              <p:cNvPr id="68" name=""/>
              <p:cNvSpPr/>
              <p:nvPr/>
            </p:nvSpPr>
            <p:spPr>
              <a:xfrm>
                <a:off x="250920" y="6662520"/>
                <a:ext cx="720720" cy="1238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pt-BR" sz="6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1800" y="6362280"/>
                <a:ext cx="39348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85840" y="6165720"/>
                <a:ext cx="39240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44320" y="6372000"/>
                <a:ext cx="393120" cy="27180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flipV="1">
                <a:off x="286560" y="6174720"/>
                <a:ext cx="394560" cy="27288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89240" cy="9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0" y="907920"/>
              <a:ext cx="1146240" cy="172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rcRect l="35239" t="31294" r="20477" b="25393"/>
            <a:stretch/>
          </p:blipFill>
          <p:spPr>
            <a:xfrm>
              <a:off x="0" y="2565360"/>
              <a:ext cx="115236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6"/>
            <a:stretch/>
          </p:blipFill>
          <p:spPr>
            <a:xfrm>
              <a:off x="0" y="4354560"/>
              <a:ext cx="114624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7"/>
            <a:stretch/>
          </p:blipFill>
          <p:spPr>
            <a:xfrm>
              <a:off x="0" y="3429000"/>
              <a:ext cx="1389240" cy="9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Imag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V - Adicional 2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042920" y="1700280"/>
          <a:ext cx="7777080" cy="4564080"/>
        </p:xfrm>
        <a:graphic>
          <a:graphicData uri="http://schemas.openxmlformats.org/drawingml/2006/table">
            <a:tbl>
              <a:tblPr/>
              <a:tblGrid>
                <a:gridCol w="2160720"/>
                <a:gridCol w="1944720"/>
                <a:gridCol w="1584360"/>
                <a:gridCol w="20872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401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SF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ncapsulated PostScript 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Encapsulated PostScript Format é um idioma de descrição da impressora, particular, que pode descrever as informações sobre o vetor e o bitmap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ção precisa em uma impressora PostScript. Formato padrão do se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representação na tela talvez não corresponda à representação impressa; a representação na tela talvez seja em baixa resolução, uma imagem diferente ou apenas uma imagem de espaço reservad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arquivos EPS foram projetados para serem impressos, e não necessariamente observado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é o formato mais adequado para exibir informações na tel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042920" y="1700280"/>
          <a:ext cx="7777080" cy="4734000"/>
        </p:xfrm>
        <a:graphic>
          <a:graphicData uri="http://schemas.openxmlformats.org/drawingml/2006/table">
            <a:tbl>
              <a:tblPr/>
              <a:tblGrid>
                <a:gridCol w="2160720"/>
                <a:gridCol w="1944720"/>
                <a:gridCol w="1584360"/>
                <a:gridCol w="20872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41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F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Enhanced Meta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É um formato de 32 bits que pode conter informações sobre vetor e bitmap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ta-se de um aperfeiçoamento em relação ao formato Windows Metafile e contém recursos estendidos como, por exemplo: Informações internas sobre a colocação em escala. Descrições internas salvas com o arquivo. Aperfeiçoamentos nas paletas de cores e na independência do dispositiv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 de arquivo extensív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ursos aperfeiçoados em comparação com WM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bilidade resulta em vários tipos diferentes de imagens EMF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 todos os arquivos EMF são compatíveis com todos os programas que oferecem suporte ao padrão EMF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042920" y="1700280"/>
          <a:ext cx="7777080" cy="4095720"/>
        </p:xfrm>
        <a:graphic>
          <a:graphicData uri="http://schemas.openxmlformats.org/drawingml/2006/table">
            <a:tbl>
              <a:tblPr/>
              <a:tblGrid>
                <a:gridCol w="2160720"/>
                <a:gridCol w="1944720"/>
                <a:gridCol w="1728720"/>
                <a:gridCol w="19429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35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CT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Macintosh Pi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arquivo PICT é um formato de metarquivo de 32 bits para Macintos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 arquivos PICT usam a compactação interna Run Length Encoded (RLE), o que funciona razoavelmente bem. Os arquivos PICT oferecem suporte à compactação JPEG caso o QuickTime esteja instalado 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omente Macintosh)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lhor formato de arquivo para exibição na tela do Macintosh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lhor formato de impressão de Macintosh para uma impressora que não seja PostScrip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fontes talvez sejam representadas incorretamente quando são movidas de uma plataforma para outr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QuickTime deve ser instalado para exibir corretamente alguns arquivos PI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32000" y="1699560"/>
            <a:ext cx="7184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 um arquivo com a dimensão 1943x1702 pixel com 9.9 MB e 16 milhões de cores (24 bit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32000" y="2724120"/>
          <a:ext cx="7129440" cy="3016080"/>
        </p:xfrm>
        <a:graphic>
          <a:graphicData uri="http://schemas.openxmlformats.org/drawingml/2006/table">
            <a:tbl>
              <a:tblPr/>
              <a:tblGrid>
                <a:gridCol w="1787400"/>
                <a:gridCol w="1865520"/>
                <a:gridCol w="34765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mato do arqu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nho do arqu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serva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9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 compressã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FF LZ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 compressão LZW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 compressão P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ito pequeno. Ideal para colocar em páginas de Internet e enviar por e-mai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9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gual ao TIFF sem compressã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520640" y="6407280"/>
            <a:ext cx="4280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 http://www.prof2000.pt/users/lpitta/formato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olução e Intensidade da cor - Exibição n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403280" y="2565360"/>
          <a:ext cx="6553440" cy="2808360"/>
        </p:xfrm>
        <a:graphic>
          <a:graphicData uri="http://schemas.openxmlformats.org/drawingml/2006/table">
            <a:tbl>
              <a:tblPr/>
              <a:tblGrid>
                <a:gridCol w="2184480"/>
                <a:gridCol w="2016000"/>
                <a:gridCol w="235296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c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na Int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usada na Inter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(preto e bran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ixels por polegada (pp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ixels por polegada (ppi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(imagem simples)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(imagem complexa)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G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G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s de 25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G ou PNG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G, PNG ou TIF em 72 p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517400" y="6389640"/>
            <a:ext cx="2764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Fonte: http://support.microsof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ervações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Microsoft recomenda uma resolução de 72 pixels por polegada, já que a maioria dos monitores tem entre 60 e 80 pixels por polegada. Salvar em uma resolução maior não resulta em uma qualidade maior de exibição, já que o monitor não pode exibir mais pixels do que os existentes fisicamente no moni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É necessário calcular os pontos por polegada de acordo com o tamanho final, e não do inicial. Por exemplo, se estivesse digitalizando um papel de carta de 8,5 por 2 polegadas a ser usado em uma página da Web com uma largura final de 2 polegadas, você digitalizaria a 72 ppi por 2 polegadas, ou seja, um total de 144 pixels. O arquivo resultante parece grande quando dimensionado a 2 polegadas e exibido em um moni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É importante lembrar (*)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256 cores, os arquivos JPG oferecem um nível de compactação maior do que os arquivos GIF. No entanto, a compactação JPG não compacta alguns arquivos simples, como faz a compactação GI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a imagem esteja em escala de cinza e exista grandes áreas de uma só cor sólida ou áreas de alto contraste (diferenças nítidas entre as áreas mais claras e escuras), escolha o formato GI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a imagem seja colorida e contenha várias cores diferentes (matizes) semelhantes em brilho ou escuridão (valor), escolha o formato JPG, já que esse formato oferece uma compactação muito melh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compactação JPG funciona de acordo com o matiz e funciona bem com matizes diferentes que tenham um valor semelhante. A compactação JPG não funciona com matizes semelhantes em valores dife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 impr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fator principal na criação de um resultado de qualidade é o número de 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lines per inch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LPI) compatível com a impres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imprimir em cores ou em escala de cinza, uma impressora deve ser capaz de imprimir em meio-t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io-tom - um conjunto de pontos organizados em uma grade e que representam cada pixel da imagem como uma sombra de cinza. Cinza mais escuro - a maioria dos pontos na grade é preenchida; Cinza mais claro - apenas alguns pontos são preench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tamanho da grade é dado pela configuração de LPI da impressora. Quanto maior for a LPI, menor será a grade e menos serão as sombras de cinza que a impressora pode process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imprimir em cores, a impressora deve imprimir linhas sobrepostas de pontos coloridos, cada um em um ângulo diferente, e deslocar um pouco para que eles não se cubram por completo -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reqüência de tel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116000" y="2565360"/>
          <a:ext cx="7488360" cy="2090880"/>
        </p:xfrm>
        <a:graphic>
          <a:graphicData uri="http://schemas.openxmlformats.org/drawingml/2006/table">
            <a:tbl>
              <a:tblPr/>
              <a:tblGrid>
                <a:gridCol w="2087640"/>
                <a:gridCol w="1439640"/>
                <a:gridCol w="1584360"/>
                <a:gridCol w="237672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a impress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pi de saí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PI de saí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i de digitaliz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sora a laser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-65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sora a la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sora a jato de tin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1187280" y="5013360"/>
            <a:ext cx="741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boa regra é multiplicar a LPI da impressora por dois para calcular a resolução de digitalização de destino. Para descobrir a LPI, verifique a documentação da impressor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1189440" y="163656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sultado impr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erv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gumas impressoras oferecem suporte a resoluções muito altas. Caso você salve a imagem em mais de 300 dpi, as imagens maiores talvez ocupem muito espaço em disco e reduzam outras operações do computad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ias imagens grandes em um documento poderiam fazer com que um programa ou o Windows parasse de respo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você queira que a imagem esteja em escala de cinza ou tenha menos de 256 cores, use os formatos TIFF ou GI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a imagem tenha mais de 256 cores, salve-a no formato TIFF ou PNG. A Microsoft aconselha o formato PNG caso você precise de transparência, do contrário, use o formato TIFF. </a:t>
            </a:r>
            <a:br>
              <a:rPr sz="1800"/>
            </a:b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cessamento de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ormatos de Im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16000" y="1773360"/>
          <a:ext cx="7632720" cy="3670200"/>
        </p:xfrm>
        <a:graphic>
          <a:graphicData uri="http://schemas.openxmlformats.org/drawingml/2006/table">
            <a:tbl>
              <a:tblPr/>
              <a:tblGrid>
                <a:gridCol w="2160720"/>
                <a:gridCol w="1800000"/>
                <a:gridCol w="1944720"/>
                <a:gridCol w="17272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de varredura (ra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1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ma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máximo de cores: Até 16 milhões de cores (24 bit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ão: Não tem. Perda de informação: Não aplicável.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ência: Nã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tem perda de inform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 arquivos BMP são adequados ao papel de parede no Windows.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amente compatível com os programas do Windows já existentes, especialmente os programas mais antig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não ter compressão os arquivos são muito grandes. Caso a imagem tenha 16 milhões de cores, cada pixel ocupa sempre 24 bit (3 Byt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há suporte dos navegadores da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16000" y="1916280"/>
          <a:ext cx="7632720" cy="2350800"/>
        </p:xfrm>
        <a:graphic>
          <a:graphicData uri="http://schemas.openxmlformats.org/drawingml/2006/table">
            <a:tbl>
              <a:tblPr/>
              <a:tblGrid>
                <a:gridCol w="2160720"/>
                <a:gridCol w="1800000"/>
                <a:gridCol w="1944720"/>
                <a:gridCol w="17272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de varredura (ra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FF (G3 ou LZW*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 Image File 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máximo de cores: Até 16 milhões de cores (24 bit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ão: Tem. Perda de informação: Não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ência: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ito pelos profissionais da área. Muito versátil. 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187280" y="6025320"/>
            <a:ext cx="74883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*) LZW quer dizer Lempel-Ziv-Welch, o nome dos investigadores israelitas Abraham Lempel e Jacob Zif que inventaram o formato inicial. O W de Welch refere-se  a Terry Welch que patenteou a técnica de compressão que hoje é conhecida por LZ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042920" y="1700280"/>
          <a:ext cx="7921800" cy="430848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655640"/>
                <a:gridCol w="23767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de varrredura (ra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6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PG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ou JPEG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int Photographic Experts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cores: Sempre 16 milhões de cores (mesmo que a imagem tenha menos cor) (24 bit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ão: Sim. Perda de informação: Sim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ência: N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mazena sempre informação referente a 16 milhões de cores. Algoritmo de compressão muito eficaz. Indicado para fotografias e imagens foto-realist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o o algoritmo de compressão tem perda de informação, cada vez que o arquivo é armazenado volta a perder informação. Não indicado para esquemas e gráficos de barras (por exemplo) porque o algoritmo não está otimizado para transições abruptas de c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é adequado para imagens mais simples que contenham poucas cores, amplas áreas de cores semelhantes ou grandes diferenças de brilh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042920" y="1700280"/>
          <a:ext cx="7921800" cy="484668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944720"/>
                <a:gridCol w="20876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de varredura (ras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s Interchange Format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cores: Até 256 cores (8 bit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ão: Sim. Perda de informação: Não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ência: Si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 compressão sem perda de informação. Indicado para esquemas, gráficos de barras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ó permite um armazenamento máximo de 256 cores. Não indicado para fotografias, nem imagens foto-realistas (muitas core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G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ble Network Graph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cores: Até 16 milhões de cores (24 bit)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ssão: Sim. Perda de informação: Não</a:t>
                      </a:r>
                      <a:br>
                        <a:rPr sz="1400"/>
                      </a:b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ência: Si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oritmo otimizado. Um bom substituto para o GIF e para a maioria dos TIFF (principalmente os LZW), e, muito importante, para cópias de segurança de imagens fotográfi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é muito conhecido. Na Internet pode ser um bom substituto para GIF, mas não é para JP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ser um formato de arquivo da Internet, não oferece suporte a vários arquivos animados ou de imagem, aos quais o formato GIF oferece supor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042920" y="1916280"/>
          <a:ext cx="7777080" cy="3313080"/>
        </p:xfrm>
        <a:graphic>
          <a:graphicData uri="http://schemas.openxmlformats.org/drawingml/2006/table">
            <a:tbl>
              <a:tblPr/>
              <a:tblGrid>
                <a:gridCol w="2160720"/>
                <a:gridCol w="1728720"/>
                <a:gridCol w="1944720"/>
                <a:gridCol w="194292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274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X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CAD Drawing Interchange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 ASCII baseado em vetor usado pelo programa AutoCAD da Autodesk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AutoCAD oferece esquemas altamente detalhados que são totalmente dimensionávei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AutoCAD permitem que você crie esquemas e desenhos altamente detalhados e precisos. Os arquivos do AutoCAD são conhecidos nos setores de arquitetura, design e estampar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orte limitado no Office 2000, que oferece suporte a versões até R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AutoCAD tem uma curva de aprendizado longa; no entanto, outros programas gráficos também são capazes de exportar imagens DX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42920" y="1700280"/>
          <a:ext cx="7777080" cy="3414600"/>
        </p:xfrm>
        <a:graphic>
          <a:graphicData uri="http://schemas.openxmlformats.org/drawingml/2006/table">
            <a:tbl>
              <a:tblPr/>
              <a:tblGrid>
                <a:gridCol w="2160720"/>
                <a:gridCol w="2448000"/>
                <a:gridCol w="1584360"/>
                <a:gridCol w="15840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28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Graphics Meta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metarquivo CGM pode conter informações sobre o vetor e o bitmap. Trata-se de um formato de arquivo padronizado internacionalmente usado por muitas agências e organizações federais, inclusive o British Standards Institute (BSI), o American National Standards Institute (ANSI) e o Departamento de Defesa dos Estados Unid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 padrão internacional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042920" y="1700280"/>
          <a:ext cx="7777080" cy="4021200"/>
        </p:xfrm>
        <a:graphic>
          <a:graphicData uri="http://schemas.openxmlformats.org/drawingml/2006/table">
            <a:tbl>
              <a:tblPr/>
              <a:tblGrid>
                <a:gridCol w="2160720"/>
                <a:gridCol w="2448000"/>
                <a:gridCol w="1584360"/>
                <a:gridCol w="15840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s de imagem ve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vantag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CorelDRA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metarquivo CorelDRAW! pode conter informações sobre o vetor e o bitmap. Trata-se de um formato de arquivo amplamente usado em criações artística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plamente usado nos setores de criações artísticas e arquivos gráf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orte limitado no Office 2000, que oferece suporte a versões 6 e anteri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F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Windows Metafile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Windows Metafile é um formato de metarquivo de 16 bits que pode conter informações sobre vetor e bitmap. Otimizado para o sistema operacional Windows.</a:t>
                      </a:r>
                      <a:br>
                        <a:rPr sz="1400"/>
                      </a:b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formato padrão do Windows que funciona bem com o Office 2000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71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Principais Formatos de Imag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3-19T15:22:16Z</dcterms:modified>
  <cp:revision>254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