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23.gif" ContentType="image/gif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AFF6-AAF0-43C1-9E8F-0F68168030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C708-456C-46CF-89E4-930011977EF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91A1-AB80-43A4-A0F6-916AFB66CC7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DD8D-C2E7-43F1-952C-63CFBDF29EE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B4B3-DD27-4F02-97A6-068E4F565C9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D5C7-934C-4BD0-96AC-CECCCBAB2FA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5AB2-B5C8-447D-BAB4-BA64D5DF71A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3F8E-E364-4C2F-974B-82FFC03E132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A895-C7C8-4B91-8202-30114E54B46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4468-F19E-467A-AE3C-BB9383C6978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1E3E-6004-4D8E-B76E-D6DE9EC9204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EB7F-FDF9-43FF-9F83-8CADF30B830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7662-B8D5-4CFF-9FD3-C7832B2B005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C858-9139-4152-95E7-B3ED16459EE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5F9B-52F2-4A9B-8A8F-8B9210F3896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A33-4CBB-40EB-BEF7-F2EFDA2C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040-3303-4876-8063-27864B17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F85-4B9D-496B-9EA7-D0D1C277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0F56-F5CD-47CE-949B-8B4B7054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308B-D0B7-4BE9-A082-5CFD5A49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D859-D0EB-4C76-BD37-2E9A010F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F3F7-5295-49F8-BFEB-B3156E3F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5F49-E7FE-4EAC-BE75-9D734B88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CDB4-7163-4FAF-8FA8-FE0AB949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10D5-07A9-4C7F-9819-A453BFEC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0E78-7C49-4748-B557-F4FA7C90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16C-A490-442D-AD37-A6B5B256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B9CE-0D32-4698-81C7-AEF8CC59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0405-9D07-4F1A-9998-553920C5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E80E-34E1-4B08-BD08-2D900C42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72C1-5DB3-4C71-843B-D14D1A17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3475-5CC3-451F-A86B-43F9E784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98D0-BA32-407A-AF27-56C4B532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DE6D-554F-4DDC-AB23-BA79307A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9DE-E5F2-4063-B6DE-89643B0E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3E94-64E5-4CC0-BE95-E6B5807D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C20-0A51-4765-AA9E-31FA545B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8405-F2C7-424D-91DE-AD38C255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D34D-677E-47F8-AC11-FEFEFBF5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B97B-627E-4CF9-B2B0-446FD2D89FC8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42920" cy="6858000"/>
            <a:chOff x="0" y="0"/>
            <a:chExt cx="1042920" cy="685800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1042920" cy="6858000"/>
              <a:chOff x="0" y="0"/>
              <a:chExt cx="1042920" cy="6858000"/>
            </a:xfrm>
          </p:grpSpPr>
          <p:pic>
            <p:nvPicPr>
              <p:cNvPr id="8" name="" descr=""/>
              <p:cNvPicPr/>
              <p:nvPr/>
            </p:nvPicPr>
            <p:blipFill>
              <a:blip r:embed="rId2"/>
              <a:srcRect l="35239" t="31294" r="20477" b="25393"/>
              <a:stretch/>
            </p:blipFill>
            <p:spPr>
              <a:xfrm>
                <a:off x="0" y="6012000"/>
                <a:ext cx="865080" cy="84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" name=""/>
              <p:cNvSpPr/>
              <p:nvPr/>
            </p:nvSpPr>
            <p:spPr>
              <a:xfrm>
                <a:off x="675360" y="0"/>
                <a:ext cx="0" cy="68580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" name=""/>
              <p:cNvGrpSpPr/>
              <p:nvPr/>
            </p:nvGrpSpPr>
            <p:grpSpPr>
              <a:xfrm>
                <a:off x="188280" y="6165720"/>
                <a:ext cx="541080" cy="620640"/>
                <a:chOff x="188280" y="6165720"/>
                <a:chExt cx="541080" cy="62064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188280" y="6662520"/>
                  <a:ext cx="541080" cy="1238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2600" dir="162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pt-BR" sz="500" spc="-1" strike="noStrike">
                      <a:solidFill>
                        <a:srgbClr val="ffcc00"/>
                      </a:solidFill>
                      <a:latin typeface="Humanst521 BT"/>
                    </a:rPr>
                    <a:t>DSC/CEEI/UFCG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406800" y="6362280"/>
                  <a:ext cx="295560" cy="27180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flipH="1" flipV="1">
                  <a:off x="214200" y="6165720"/>
                  <a:ext cx="294480" cy="27288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408600" y="6372000"/>
                  <a:ext cx="295200" cy="27180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flipV="1">
                  <a:off x="214200" y="6174720"/>
                  <a:ext cx="296280" cy="27288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1042920" cy="9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907920"/>
                <a:ext cx="860400" cy="172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" name="" descr=""/>
              <p:cNvPicPr/>
              <p:nvPr/>
            </p:nvPicPr>
            <p:blipFill>
              <a:blip r:embed="rId5"/>
              <a:srcRect l="35239" t="31294" r="20477" b="25393"/>
              <a:stretch/>
            </p:blipFill>
            <p:spPr>
              <a:xfrm>
                <a:off x="0" y="2565360"/>
                <a:ext cx="865080" cy="84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354560"/>
                <a:ext cx="860400" cy="17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429000"/>
                <a:ext cx="1042920" cy="917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" name=""/>
            <p:cNvSpPr/>
            <p:nvPr/>
          </p:nvSpPr>
          <p:spPr>
            <a:xfrm>
              <a:off x="900000" y="0"/>
              <a:ext cx="0" cy="6858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5671-2999-448B-9A4C-F7128C6CA682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0"/>
            <a:ext cx="1389240" cy="6858000"/>
            <a:chOff x="0" y="0"/>
            <a:chExt cx="1389240" cy="6858000"/>
          </a:xfrm>
        </p:grpSpPr>
        <p:pic>
          <p:nvPicPr>
            <p:cNvPr id="65" name="" descr=""/>
            <p:cNvPicPr/>
            <p:nvPr/>
          </p:nvPicPr>
          <p:blipFill>
            <a:blip r:embed="rId2"/>
            <a:srcRect l="35239" t="31294" r="20477" b="25393"/>
            <a:stretch/>
          </p:blipFill>
          <p:spPr>
            <a:xfrm>
              <a:off x="0" y="6012000"/>
              <a:ext cx="115236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900000" y="0"/>
              <a:ext cx="0" cy="6858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50920" y="6165720"/>
              <a:ext cx="720720" cy="620640"/>
              <a:chOff x="250920" y="6165720"/>
              <a:chExt cx="720720" cy="620640"/>
            </a:xfrm>
          </p:grpSpPr>
          <p:sp>
            <p:nvSpPr>
              <p:cNvPr id="68" name=""/>
              <p:cNvSpPr/>
              <p:nvPr/>
            </p:nvSpPr>
            <p:spPr>
              <a:xfrm>
                <a:off x="250920" y="6662520"/>
                <a:ext cx="720720" cy="123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162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600" spc="-1" strike="noStrike">
                    <a:solidFill>
                      <a:srgbClr val="ffcc00"/>
                    </a:solidFill>
                    <a:latin typeface="Humanst521 BT"/>
                  </a:rPr>
                  <a:t>DSC/CEEI/UFC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1800" y="6362280"/>
                <a:ext cx="393480" cy="27180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285840" y="6165720"/>
                <a:ext cx="392400" cy="2728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4320" y="6372000"/>
                <a:ext cx="393120" cy="27180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flipV="1">
                <a:off x="286560" y="6174720"/>
                <a:ext cx="394560" cy="2728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8924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0" y="907920"/>
              <a:ext cx="1146240" cy="172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5"/>
            <a:srcRect l="35239" t="31294" r="20477" b="25393"/>
            <a:stretch/>
          </p:blipFill>
          <p:spPr>
            <a:xfrm>
              <a:off x="0" y="2565360"/>
              <a:ext cx="115236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6"/>
            <a:stretch/>
          </p:blipFill>
          <p:spPr>
            <a:xfrm>
              <a:off x="0" y="4354560"/>
              <a:ext cx="1146240" cy="17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7"/>
            <a:stretch/>
          </p:blipFill>
          <p:spPr>
            <a:xfrm>
              <a:off x="0" y="3429000"/>
              <a:ext cx="1389240" cy="91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A Imag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V - Adicional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87280" y="177300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ada 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formada D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tiz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dificação R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dificação Entrópica (Huffm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49520" y="2637000"/>
            <a:ext cx="2438280" cy="2409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537160" y="2684520"/>
            <a:ext cx="2419560" cy="2400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089440" y="2060640"/>
            <a:ext cx="53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imagem original, 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f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espectro |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F(u,v)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 rot="5400000">
            <a:off x="4606920" y="3609720"/>
            <a:ext cx="720720" cy="3816360"/>
          </a:xfrm>
          <a:custGeom>
            <a:avLst/>
            <a:gdLst>
              <a:gd name="textAreaLeft" fmla="*/ 96480 w 720720"/>
              <a:gd name="textAreaRight" fmla="*/ 624240 w 720720"/>
              <a:gd name="textAreaTop" fmla="*/ 667800 h 3816360"/>
              <a:gd name="textAreaBottom" fmla="*/ 276696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4751"/>
                <a:lnTo>
                  <a:pt x="7155" y="21173"/>
                </a:lnTo>
                <a:lnTo>
                  <a:pt x="0" y="17280"/>
                </a:lnTo>
                <a:lnTo>
                  <a:pt x="7155" y="12533"/>
                </a:lnTo>
                <a:lnTo>
                  <a:pt x="7155" y="14693"/>
                </a:lnTo>
                <a:arcTo wR="21600" hR="7560" stAng="2694751" swAng="-2337317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2198520" cy="2305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3044" t="0" r="0" b="1629"/>
          <a:stretch/>
        </p:blipFill>
        <p:spPr>
          <a:xfrm>
            <a:off x="5508720" y="3284640"/>
            <a:ext cx="2327040" cy="2305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20720" y="1852560"/>
            <a:ext cx="53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Transformada Inversa de Fouri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4859640" y="836640"/>
            <a:ext cx="576000" cy="4176720"/>
          </a:xfrm>
          <a:custGeom>
            <a:avLst/>
            <a:gdLst>
              <a:gd name="textAreaLeft" fmla="*/ 77040 w 576000"/>
              <a:gd name="textAreaRight" fmla="*/ 498960 w 576000"/>
              <a:gd name="textAreaTop" fmla="*/ 730800 h 4176720"/>
              <a:gd name="textAreaBottom" fmla="*/ 302832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4751"/>
                <a:lnTo>
                  <a:pt x="7155" y="21173"/>
                </a:lnTo>
                <a:lnTo>
                  <a:pt x="0" y="17280"/>
                </a:lnTo>
                <a:lnTo>
                  <a:pt x="7155" y="12533"/>
                </a:lnTo>
                <a:lnTo>
                  <a:pt x="7155" y="14693"/>
                </a:lnTo>
                <a:arcTo wR="21600" hR="7560" stAng="2694751" swAng="-2337317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1187280" y="2852640"/>
            <a:ext cx="7831800" cy="2895840"/>
            <a:chOff x="1187280" y="2852640"/>
            <a:chExt cx="7831800" cy="2895840"/>
          </a:xfrm>
        </p:grpSpPr>
        <p:sp>
          <p:nvSpPr>
            <p:cNvPr id="155" name=""/>
            <p:cNvSpPr/>
            <p:nvPr/>
          </p:nvSpPr>
          <p:spPr>
            <a:xfrm>
              <a:off x="2178720" y="298764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38640" y="3306600"/>
              <a:ext cx="1055520" cy="235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1560" y="321624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92520" y="2982960"/>
              <a:ext cx="987480" cy="233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32280" y="3492360"/>
              <a:ext cx="465120" cy="238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8040" y="340200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00600" y="3100320"/>
              <a:ext cx="1024200" cy="233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63520" y="300528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96160" y="3492360"/>
              <a:ext cx="599760" cy="238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76040" y="340200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54720" y="3117960"/>
              <a:ext cx="1024200" cy="23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17640" y="302580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15200" y="3506760"/>
              <a:ext cx="922320" cy="23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44560" y="341460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95840" y="2949480"/>
              <a:ext cx="72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80000" y="339552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32720" y="339552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92720" y="339552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68360" y="3395520"/>
              <a:ext cx="36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45440" y="339552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54280" y="2884320"/>
              <a:ext cx="1111320" cy="10400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Transfor-mada D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51160" y="2884320"/>
              <a:ext cx="1109880" cy="10400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Quantiza-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22840" y="2884320"/>
              <a:ext cx="1109880" cy="10400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Codifica-do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R.L.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22960" y="2862360"/>
              <a:ext cx="1113120" cy="10414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Codifica-dor Estatís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27640" y="5216400"/>
              <a:ext cx="557280" cy="522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703760" y="392112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01080" y="289260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27440" y="5303880"/>
              <a:ext cx="9684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28920" y="5303880"/>
              <a:ext cx="87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Tabela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93560" y="5208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54360" y="5510160"/>
              <a:ext cx="1087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73120" y="5483160"/>
              <a:ext cx="102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quantiz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93560" y="5419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5080" y="4037040"/>
              <a:ext cx="117360" cy="160200"/>
            </a:xfrm>
            <a:custGeom>
              <a:avLst/>
              <a:gdLst/>
              <a:ahLst/>
              <a:rect l="l" t="t" r="r" b="b"/>
              <a:pathLst>
                <a:path w="83" h="119">
                  <a:moveTo>
                    <a:pt x="35" y="0"/>
                  </a:moveTo>
                  <a:lnTo>
                    <a:pt x="0" y="119"/>
                  </a:lnTo>
                  <a:lnTo>
                    <a:pt x="83" y="116"/>
                  </a:lnTo>
                  <a:lnTo>
                    <a:pt x="35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45080" y="4815000"/>
              <a:ext cx="117360" cy="160200"/>
            </a:xfrm>
            <a:custGeom>
              <a:avLst/>
              <a:gdLst/>
              <a:ahLst/>
              <a:rect l="l" t="t" r="r" b="b"/>
              <a:pathLst>
                <a:path w="83" h="119">
                  <a:moveTo>
                    <a:pt x="35" y="0"/>
                  </a:moveTo>
                  <a:lnTo>
                    <a:pt x="0" y="119"/>
                  </a:lnTo>
                  <a:lnTo>
                    <a:pt x="83" y="116"/>
                  </a:lnTo>
                  <a:lnTo>
                    <a:pt x="35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65520" y="4440240"/>
              <a:ext cx="281160" cy="262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14880" y="4521240"/>
              <a:ext cx="169920" cy="108000"/>
            </a:xfrm>
            <a:custGeom>
              <a:avLst/>
              <a:gdLst/>
              <a:ahLst/>
              <a:rect l="l" t="t" r="r" b="b"/>
              <a:pathLst>
                <a:path w="119" h="80">
                  <a:moveTo>
                    <a:pt x="119" y="32"/>
                  </a:moveTo>
                  <a:lnTo>
                    <a:pt x="0" y="0"/>
                  </a:lnTo>
                  <a:lnTo>
                    <a:pt x="3" y="80"/>
                  </a:lnTo>
                  <a:lnTo>
                    <a:pt x="119" y="32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75040" y="4568760"/>
              <a:ext cx="690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46320" y="4465800"/>
              <a:ext cx="187956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75320" y="4468680"/>
              <a:ext cx="183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Fator de Compress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95040" y="4373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30680" y="4518000"/>
              <a:ext cx="12852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645080" y="4508640"/>
              <a:ext cx="11412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96200" y="5224320"/>
              <a:ext cx="557280" cy="524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701120" y="3852720"/>
              <a:ext cx="0" cy="136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76880" y="5224320"/>
              <a:ext cx="13050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Tabela de Codific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87280" y="2852640"/>
              <a:ext cx="1067040" cy="10670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Bloco 8x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ix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398680" y="1895400"/>
            <a:ext cx="36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odificador JPEG “Baselin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22560" y="1824120"/>
            <a:ext cx="25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codificador 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37240" y="2708280"/>
            <a:ext cx="7682400" cy="3468600"/>
            <a:chOff x="1137240" y="2708280"/>
            <a:chExt cx="7682400" cy="3468600"/>
          </a:xfrm>
        </p:grpSpPr>
        <p:sp>
          <p:nvSpPr>
            <p:cNvPr id="207" name=""/>
            <p:cNvSpPr/>
            <p:nvPr/>
          </p:nvSpPr>
          <p:spPr>
            <a:xfrm flipH="1">
              <a:off x="5065560" y="5072040"/>
              <a:ext cx="557280" cy="522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346720" y="377676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841640" y="5737320"/>
              <a:ext cx="9684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947120" y="5737320"/>
              <a:ext cx="87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Tabela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015160" y="5670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794840" y="5943600"/>
              <a:ext cx="1087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877640" y="5948280"/>
              <a:ext cx="102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quantiz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967640" y="5881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286960" y="4670280"/>
              <a:ext cx="117720" cy="160560"/>
            </a:xfrm>
            <a:custGeom>
              <a:avLst/>
              <a:gdLst/>
              <a:ahLst/>
              <a:rect l="l" t="t" r="r" b="b"/>
              <a:pathLst>
                <a:path w="83" h="119">
                  <a:moveTo>
                    <a:pt x="35" y="0"/>
                  </a:moveTo>
                  <a:lnTo>
                    <a:pt x="0" y="119"/>
                  </a:lnTo>
                  <a:lnTo>
                    <a:pt x="83" y="116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203800" y="4295880"/>
              <a:ext cx="280800" cy="261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579280" y="4321080"/>
              <a:ext cx="187956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872680" y="4229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290560" y="4373640"/>
              <a:ext cx="12852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5290920" y="4363560"/>
              <a:ext cx="114480" cy="12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354040" y="3736800"/>
              <a:ext cx="0" cy="136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1785960" y="5661000"/>
              <a:ext cx="1304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Tabela de Codific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048760" y="5032440"/>
              <a:ext cx="556920" cy="523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15960" y="32796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361880" y="4393800"/>
              <a:ext cx="3773520" cy="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01760" y="4422600"/>
              <a:ext cx="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35400" y="439416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779240" y="284328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291680" y="3286080"/>
              <a:ext cx="5540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4755240" y="3162240"/>
              <a:ext cx="1055880" cy="235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899240" y="307188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267960" y="274788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381720" y="3348000"/>
              <a:ext cx="465120" cy="238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471000" y="325764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294720" y="2984400"/>
              <a:ext cx="1024200" cy="233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3407040" y="288936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423240" y="3376440"/>
              <a:ext cx="600120" cy="238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494520" y="328608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1790640" y="3002040"/>
              <a:ext cx="1023840" cy="23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1902240" y="290988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1830960" y="3390840"/>
              <a:ext cx="922680" cy="23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1975320" y="329868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7752600" y="2708280"/>
              <a:ext cx="1066680" cy="10666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Bloco 8x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ix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136880" y="2833560"/>
              <a:ext cx="72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10240" y="325116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10120" y="325116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86240" y="325116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57400" y="327960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286960" y="3892680"/>
              <a:ext cx="117720" cy="160200"/>
            </a:xfrm>
            <a:custGeom>
              <a:avLst/>
              <a:gdLst/>
              <a:ahLst/>
              <a:rect l="l" t="t" r="r" b="b"/>
              <a:pathLst>
                <a:path w="83" h="119">
                  <a:moveTo>
                    <a:pt x="35" y="0"/>
                  </a:moveTo>
                  <a:lnTo>
                    <a:pt x="0" y="119"/>
                  </a:lnTo>
                  <a:lnTo>
                    <a:pt x="83" y="116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1832760" y="2746440"/>
              <a:ext cx="1112760" cy="10414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Decodif. Estatís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3286800" y="2768760"/>
              <a:ext cx="1109880" cy="10396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Decodif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R.L.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789440" y="2739960"/>
              <a:ext cx="1109520" cy="10400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Des-quantiza-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257160" y="2716200"/>
              <a:ext cx="1111320" cy="10396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Transfor-mada D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inver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24360" y="2492280"/>
            <a:ext cx="3960720" cy="649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050920" y="2492280"/>
            <a:ext cx="1873440" cy="649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" y="1508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050920" y="2492280"/>
            <a:ext cx="5809680" cy="3342600"/>
            <a:chOff x="2050920" y="2492280"/>
            <a:chExt cx="5809680" cy="3342600"/>
          </a:xfrm>
        </p:grpSpPr>
        <p:grpSp>
          <p:nvGrpSpPr>
            <p:cNvPr id="258" name=""/>
            <p:cNvGrpSpPr/>
            <p:nvPr/>
          </p:nvGrpSpPr>
          <p:grpSpPr>
            <a:xfrm>
              <a:off x="2050920" y="2492280"/>
              <a:ext cx="1876680" cy="668160"/>
              <a:chOff x="2050920" y="2492280"/>
              <a:chExt cx="1876680" cy="668160"/>
            </a:xfrm>
          </p:grpSpPr>
          <p:sp>
            <p:nvSpPr>
              <p:cNvPr id="259" name=""/>
              <p:cNvSpPr/>
              <p:nvPr/>
            </p:nvSpPr>
            <p:spPr>
              <a:xfrm>
                <a:off x="2142720" y="2492280"/>
                <a:ext cx="1693080" cy="66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bits/pixe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050920" y="2492280"/>
                <a:ext cx="1876680" cy="66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927960" y="2492280"/>
              <a:ext cx="3932640" cy="668160"/>
              <a:chOff x="3927960" y="2492280"/>
              <a:chExt cx="3932640" cy="668160"/>
            </a:xfrm>
          </p:grpSpPr>
          <p:sp>
            <p:nvSpPr>
              <p:cNvPr id="262" name=""/>
              <p:cNvSpPr/>
              <p:nvPr/>
            </p:nvSpPr>
            <p:spPr>
              <a:xfrm>
                <a:off x="4019040" y="2492280"/>
                <a:ext cx="3749400" cy="66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qualidade da imagem reconstruíd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927960" y="2492280"/>
                <a:ext cx="3932640" cy="66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050920" y="3160800"/>
              <a:ext cx="1876680" cy="668160"/>
              <a:chOff x="2050920" y="3160800"/>
              <a:chExt cx="1876680" cy="668160"/>
            </a:xfrm>
          </p:grpSpPr>
          <p:sp>
            <p:nvSpPr>
              <p:cNvPr id="265" name=""/>
              <p:cNvSpPr/>
              <p:nvPr/>
            </p:nvSpPr>
            <p:spPr>
              <a:xfrm>
                <a:off x="2142720" y="3160800"/>
                <a:ext cx="1693080" cy="66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0,08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050920" y="3160800"/>
                <a:ext cx="1876680" cy="66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3927960" y="3160800"/>
              <a:ext cx="3932640" cy="668160"/>
              <a:chOff x="3927960" y="3160800"/>
              <a:chExt cx="3932640" cy="668160"/>
            </a:xfrm>
          </p:grpSpPr>
          <p:sp>
            <p:nvSpPr>
              <p:cNvPr id="268" name=""/>
              <p:cNvSpPr/>
              <p:nvPr/>
            </p:nvSpPr>
            <p:spPr>
              <a:xfrm>
                <a:off x="4019040" y="3160800"/>
                <a:ext cx="3749400" cy="66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agem reconhecíve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927960" y="3160800"/>
                <a:ext cx="3932640" cy="66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2050920" y="3829320"/>
              <a:ext cx="1876680" cy="668160"/>
              <a:chOff x="2050920" y="3829320"/>
              <a:chExt cx="1876680" cy="668160"/>
            </a:xfrm>
          </p:grpSpPr>
          <p:sp>
            <p:nvSpPr>
              <p:cNvPr id="271" name=""/>
              <p:cNvSpPr/>
              <p:nvPr/>
            </p:nvSpPr>
            <p:spPr>
              <a:xfrm>
                <a:off x="2142720" y="3829320"/>
                <a:ext cx="1693080" cy="66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0,2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050920" y="3829320"/>
                <a:ext cx="1876680" cy="66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3927960" y="3829320"/>
              <a:ext cx="3932640" cy="668160"/>
              <a:chOff x="3927960" y="3829320"/>
              <a:chExt cx="3932640" cy="668160"/>
            </a:xfrm>
          </p:grpSpPr>
          <p:sp>
            <p:nvSpPr>
              <p:cNvPr id="274" name=""/>
              <p:cNvSpPr/>
              <p:nvPr/>
            </p:nvSpPr>
            <p:spPr>
              <a:xfrm>
                <a:off x="4019040" y="3829320"/>
                <a:ext cx="3749400" cy="66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agem usáve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927960" y="3829320"/>
                <a:ext cx="3932640" cy="66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050920" y="4497840"/>
              <a:ext cx="1876680" cy="668520"/>
              <a:chOff x="2050920" y="4497840"/>
              <a:chExt cx="1876680" cy="668520"/>
            </a:xfrm>
          </p:grpSpPr>
          <p:sp>
            <p:nvSpPr>
              <p:cNvPr id="277" name=""/>
              <p:cNvSpPr/>
              <p:nvPr/>
            </p:nvSpPr>
            <p:spPr>
              <a:xfrm>
                <a:off x="2142720" y="4497840"/>
                <a:ext cx="1693080" cy="6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0,7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050920" y="4497840"/>
                <a:ext cx="1876680" cy="668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927960" y="4497840"/>
              <a:ext cx="3932640" cy="668520"/>
              <a:chOff x="3927960" y="4497840"/>
              <a:chExt cx="3932640" cy="6685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19040" y="4497840"/>
                <a:ext cx="3749400" cy="6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agem excelen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927960" y="4497840"/>
                <a:ext cx="3932640" cy="668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050920" y="5166720"/>
              <a:ext cx="1876680" cy="668160"/>
              <a:chOff x="2050920" y="5166720"/>
              <a:chExt cx="1876680" cy="668160"/>
            </a:xfrm>
          </p:grpSpPr>
          <p:sp>
            <p:nvSpPr>
              <p:cNvPr id="283" name=""/>
              <p:cNvSpPr/>
              <p:nvPr/>
            </p:nvSpPr>
            <p:spPr>
              <a:xfrm>
                <a:off x="2142720" y="5166720"/>
                <a:ext cx="1693080" cy="66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,2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050920" y="5166720"/>
                <a:ext cx="1876680" cy="66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3927960" y="5166720"/>
              <a:ext cx="3932640" cy="668160"/>
              <a:chOff x="3927960" y="5166720"/>
              <a:chExt cx="3932640" cy="668160"/>
            </a:xfrm>
          </p:grpSpPr>
          <p:sp>
            <p:nvSpPr>
              <p:cNvPr id="286" name=""/>
              <p:cNvSpPr/>
              <p:nvPr/>
            </p:nvSpPr>
            <p:spPr>
              <a:xfrm>
                <a:off x="4019040" y="5166720"/>
                <a:ext cx="3749400" cy="66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distinguível da origi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927960" y="5166720"/>
                <a:ext cx="3932640" cy="66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"/>
          <p:cNvSpPr/>
          <p:nvPr/>
        </p:nvSpPr>
        <p:spPr>
          <a:xfrm>
            <a:off x="2050920" y="2492280"/>
            <a:ext cx="5823000" cy="335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43200" y="1773360"/>
            <a:ext cx="38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sempenho do Padrão 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403280" y="2738520"/>
                <a:ext cx="73454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7</m:t>
                        </m:r>
                      </m:sup>
                      <m:e/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u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v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462480" y="4338720"/>
                <a:ext cx="277164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1619280" y="17510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Transformada Discreta de Cossenos (D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127520" y="5446800"/>
            <a:ext cx="281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(x,y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64 ele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imagem (8x8 pix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78080" y="5302080"/>
            <a:ext cx="302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(u,v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64 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freqüências espa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19280" y="17510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Transformada Discreta de Cossenos (D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7353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042560" y="2349360"/>
            <a:ext cx="77151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coeficient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(u,v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xpressa a semelhança (correlação) entre o bloco de 8x8 pixels e uma determinada função primitiva correspond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332000" y="4149720"/>
                <a:ext cx="67816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u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v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1547640" y="170028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Transformada Discreta de Cossenos (D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042920" y="1700280"/>
            <a:ext cx="78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imitivas da D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789280" y="2421000"/>
            <a:ext cx="4651920" cy="4030200"/>
            <a:chOff x="2789280" y="2421000"/>
            <a:chExt cx="4651920" cy="403020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3316320" y="2421000"/>
              <a:ext cx="3444120" cy="39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789280" y="2421000"/>
              <a:ext cx="587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0,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53680" y="2421000"/>
              <a:ext cx="587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0,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89280" y="5939640"/>
              <a:ext cx="587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7,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53320" y="5941080"/>
              <a:ext cx="587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7,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89280" y="2931840"/>
              <a:ext cx="587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1,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ocessamento de Im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187280" y="2852640"/>
                <a:ext cx="734724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7</m:t>
                                </m:r>
                              </m:sup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up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vp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</m:t>
                                    </m:r>
                                  </m:den>
                                </m:f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556000" y="4648320"/>
                <a:ext cx="38448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C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u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2566440" y="1895400"/>
            <a:ext cx="357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Transformada DCT In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1200240" y="2428920"/>
          <a:ext cx="3429000" cy="3276720"/>
        </p:xfrm>
        <a:graphic>
          <a:graphicData uri="http://schemas.openxmlformats.org/drawingml/2006/table">
            <a:tbl>
              <a:tblPr/>
              <a:tblGrid>
                <a:gridCol w="428400"/>
                <a:gridCol w="428760"/>
                <a:gridCol w="428760"/>
                <a:gridCol w="428400"/>
                <a:gridCol w="428760"/>
                <a:gridCol w="428400"/>
                <a:gridCol w="428760"/>
                <a:gridCol w="4287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5391000" y="2428920"/>
          <a:ext cx="3429000" cy="3276720"/>
        </p:xfrm>
        <a:graphic>
          <a:graphicData uri="http://schemas.openxmlformats.org/drawingml/2006/table">
            <a:tbl>
              <a:tblPr/>
              <a:tblGrid>
                <a:gridCol w="428760"/>
                <a:gridCol w="428760"/>
                <a:gridCol w="428400"/>
                <a:gridCol w="428760"/>
                <a:gridCol w="428400"/>
                <a:gridCol w="428760"/>
                <a:gridCol w="428760"/>
                <a:gridCol w="428400"/>
              </a:tblGrid>
              <a:tr h="409680"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1201680" y="60865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-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192760" y="608652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+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1428480" y="555300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2342880" y="555300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17120" y="1700280"/>
            <a:ext cx="40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xemplo de Transformada D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115640" y="2781000"/>
            <a:ext cx="77151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orrelacionar os elementos da im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r a imagem em termos de componentes de freqüência espacial para posterior processamento, de acordo com as características da visão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plicidade de processamento (valores rea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34560" y="184464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bjetivos da DCT na Compressão JP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JPEG (IS 10918) -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Joint Photographic Experts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bora JPEG seja relativamente complicado por conta do número de etapas envolvidas, níveis de compressão de mais de 20:1 são alcançados com boa qualidade de imag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l nível de compressão, no entanto, se aplica a imagens relativamente simples (poucas transições de co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íveis de compressão da ordem de 10:1 são mais comuns para imagens típ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987640" y="2637000"/>
            <a:ext cx="3657600" cy="3617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4797360" y="624852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Lena”, © Playboy 19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680560" y="1989000"/>
            <a:ext cx="38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xemplo de Codificação 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340000" y="2276640"/>
            <a:ext cx="4321080" cy="41828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997280" y="1773360"/>
            <a:ext cx="50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magem Reconstruída por JPEG (~20: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rcRect l="10365" t="0" r="0" b="0"/>
          <a:stretch/>
        </p:blipFill>
        <p:spPr>
          <a:xfrm>
            <a:off x="1116000" y="2131920"/>
            <a:ext cx="3994200" cy="4392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042920" y="2131920"/>
            <a:ext cx="37296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11320" y="5637240"/>
            <a:ext cx="3886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5302080" y="224316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689120" y="5877000"/>
            <a:ext cx="298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agem Original (40x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05480" y="5840280"/>
            <a:ext cx="32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agem Comprimida ~20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714760" y="1700280"/>
            <a:ext cx="47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talhes dos Efeitos da Compres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6120000" cy="51134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116000" y="285264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JPEG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476360" y="3284640"/>
            <a:ext cx="2133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m 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924360" y="1847880"/>
            <a:ext cx="4319640" cy="42638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067280" y="1844640"/>
            <a:ext cx="4392360" cy="43927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835280" y="3068640"/>
            <a:ext cx="1071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IF (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raphics Interchange Format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 codificação de imagens com 24 bits por pixel (8 para cada componente RGB), embora o formato selecione as 256 (do conjunto de 224) cores que melhor representam aquelas presentes na ima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lista de 256 cores resulta numa tabela de cores, cada entrada contendo um valor de 24 bits de c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067280" y="1989000"/>
            <a:ext cx="4321080" cy="43214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547640" y="3068640"/>
            <a:ext cx="1671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PEG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850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JPEG (IS 109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em GIFs, pode-se também codificar uma imagem JPEG em modo progress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vio de uma versão simplificada da imagem, seguida de níveis de detalhes, o que é útil para transmissões na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todologias de transmissão progressiva inclu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o progressivo: primeiro são transmitidos os coeficientes DC e componentes de baixa freqüência dos blocos, seguidos dos coeficientes de maior freqüê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o hierárquico: A imagem é enviada inicialmente com uma resolução menor (ex. 320×240), seguida de maior resolução (ex. 640×48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971640" y="169992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PEG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alguns tipos de imagens, GIF é superior em qualidade ou em tamanho de arquivo, ou em amb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uma forma geral, JPEG é superior ao GIF para armazenar imagens e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res re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e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ons de cinz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e retratem cenas re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agem com variação na cor, como aquelas que ocorrem em áreas brilhantes ou sombreadas, irão apresentar melhor qualidade e menor espaço quando representadas pelo formato JPE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7715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PEG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547640" y="5367240"/>
          <a:ext cx="7273800" cy="366840"/>
        </p:xfrm>
        <a:graphic>
          <a:graphicData uri="http://schemas.openxmlformats.org/drawingml/2006/table">
            <a:tbl>
              <a:tblPr/>
              <a:tblGrid>
                <a:gridCol w="3551400"/>
                <a:gridCol w="37224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 - 19,298 Kb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EG - 7,578 Kb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258920" y="2752560"/>
            <a:ext cx="3600360" cy="24386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5148360" y="2747880"/>
            <a:ext cx="3600360" cy="24336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971640" y="2491920"/>
            <a:ext cx="7921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Ícones que usam somente uma pequena quantidade de cores são melhor manipulados pelo GI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formato GIF apresenta melhores resultados em imagens com um pequeno número de cores distintas, como desenhos em linhas e cartões simp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estas imagens o GIF obtém uma compressão maior que o JPEG pode obter, além de conseguir isto sem per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>
            <a:off x="971640" y="170028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PEG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7715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PEG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5508720" y="2276640"/>
            <a:ext cx="2881080" cy="28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2" name=""/>
          <p:cNvGraphicFramePr/>
          <p:nvPr/>
        </p:nvGraphicFramePr>
        <p:xfrm>
          <a:off x="1258920" y="5300640"/>
          <a:ext cx="7127640" cy="366480"/>
        </p:xfrm>
        <a:graphic>
          <a:graphicData uri="http://schemas.openxmlformats.org/drawingml/2006/table">
            <a:tbl>
              <a:tblPr/>
              <a:tblGrid>
                <a:gridCol w="3355920"/>
                <a:gridCol w="3771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 - 3,912 Kb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EG - 6,797 Kb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042920" y="2133360"/>
            <a:ext cx="7850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PEG possui dificuldade em tratar imagens com bordas bem defi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as bordas tendem a perder a definição ficando com um aspecto embaçado, a não ser que se utilize uma configuração de alta qualidade para a imagem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é recomenda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rever texto em imagem que será comprimida em formato JPE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imagens em preto e branco  sejam convertidas para JP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necessário no mínimo 16 níveis de cinza para se obter uma compressão razoável com JPE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IF comprime sem perdas imagens em tons de cinza com até 256 níveis enquanto JPEG n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3494520" y="1557360"/>
            <a:ext cx="20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PEG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versus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G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92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Grau de compactação - 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imagens em cores reais, os dados descomprimidos são normalmente constituídos de 24 bits/pix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PEG pode conseguir taxa de compressão de 10:1 a 20:1 sem perdas visíveis, trazendo o armazenamento para 1 a 2 bits/pix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compressão de 30:1 a 50:1 é conseguida com pequenos defeitos, enquanto que para uma imagem de qualidade muito baixa consegue-se até 100: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agens com um grau de qualidade tão baixo (100:1) são bem adequadas para pré-visualizações de imagens mai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3350160" y="1679400"/>
            <a:ext cx="20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PEG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versus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G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971280" y="2060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Recursos oferecidos pelo GI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acidade de utilizar fundo transpar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possível, por exemplo, que um site publique uma imagem em GIF e esta terá como fundo a cor da pág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GIF permite que uma seqüência de imagens seja salva em um único arquivo, em que cada imagem surge no lugar da anterior após um tempo pré-determinado -&gt;      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sensação de anim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292720" y="4869000"/>
            <a:ext cx="1143000" cy="12380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332000" y="6237360"/>
            <a:ext cx="75610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O GIF utiliza um formato de compressão que não altera a qualidade da imagem a cada salvamento, como ocorre com o JP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3277080" y="1557360"/>
            <a:ext cx="20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PEG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versus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G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11564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 u="sng">
                <a:solidFill>
                  <a:srgbClr val="000000"/>
                </a:solidFill>
                <a:uFillTx/>
                <a:latin typeface="Verdana"/>
              </a:rPr>
              <a:t>PNG versus GIF versus JP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mato G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tiliza LZW (Lempel-Ziv-Wel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brava royal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NG - Concorrente do 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egue trabalhar com esquema de 24 bits de cores   (16,8 milhões de cor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mparação com o JPE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a compressão obtida é mais eficiente e não proporciona perda de qualidade a cada salvamento, o que permite maior fidelidade à imagem origi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rcRect l="3127" t="24413" r="33024" b="10636"/>
          <a:stretch/>
        </p:blipFill>
        <p:spPr>
          <a:xfrm>
            <a:off x="6372360" y="2133720"/>
            <a:ext cx="190800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IF (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raphics Interchange Format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7777080" cy="3056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 u="sng">
                <a:solidFill>
                  <a:srgbClr val="000000"/>
                </a:solidFill>
                <a:uFillTx/>
                <a:latin typeface="Verdana"/>
              </a:rPr>
              <a:t>PNG versus GIF versus JP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imagens em PNG não requerem muito espaço, podendo-se ter figuras de alta definição e tamanho em bytes peque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JPEG costuma ter imagens de tamanho ainda menor em alguns ca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bém possui o recurso de transparê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excelente alternativa ao G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possível ter imagens com fundo transparente, mas com o objeto utilizando um número muito maior de c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rcRect l="3127" t="42122" r="61069" b="11611"/>
          <a:stretch/>
        </p:blipFill>
        <p:spPr>
          <a:xfrm>
            <a:off x="6877080" y="3789360"/>
            <a:ext cx="154620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971280" y="270828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 u="sng">
                <a:solidFill>
                  <a:srgbClr val="000099"/>
                </a:solidFill>
                <a:uFillTx/>
                <a:latin typeface="Arial"/>
              </a:rPr>
              <a:t>Lembre-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escolha de um tipo de imagem não deve ser arbitrária. Deve-se escolher qual o tipo mais apropriado para cada aplic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IF (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raphics Interchange Format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pixel é então codificado com um elemento da tabela (8 bits) ao invés de 24, com uma compressão 3: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Tabela de Cores pode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lobal: é utilizada na imagem intei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al: é utilizada apenas em parte da imag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nteúdo da tabela é enviado pela rede (ou armazenado), juntamente com informação sobre as dimensões da imagem e os dados referentes aos pixels da imagem propriamente d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IF (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raphics Interchange Format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dificação LZW pode ser utilizada para obter maior compres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tabela de valores vai sendo dinamicamente estendida à medida que strings de cores vão aparece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ualmente a tabela começa com 512 posições, 256 das quais contém a tabela origi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a tabela está cheia, esta pode crescer em incrementos de 1 bit (210 cores, 211 cores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IFF (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agged Image File Format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rta resolução de pixels de até 48 bits (16 bits para cada componente RG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volvido tanto para envio de imagens como de documentos digital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magem pode ser armazenada em 5 modos distintos, sendo o modo 1 completamente sem compressão e o modo 5 um modo comprimido através de codificação LZ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modos 2, 3 e 4 são utilizados para codificação de documentos digitalizados, com algoritmos similares àqueles utilizados por máquinas de facsim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IFF (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agged Image File Format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dificação LZW utilizada é a mesma do padrão GIF, iniciando com um dicionário de 256 cores, que pode crescer até 4096 entr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JPEG (IS 10918) -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Joint Photographic Experts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drão para compressão e armazenamento de imagens desenvolvido por especialistas do ITU, ISO e IE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fine vários modos de compressão, um para cada tipo de aplicação consider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ressão sem per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ressão com per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ressão Seqüencial com Perdas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lossy sequential mode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ambém conhecido com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baseline mod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- tipo de compressão mais adequada para multimídia, já que é o modo indicado para compressão de imagens digitalizadas, tanto coloridas como monocromáti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3-13T03:06:15Z</dcterms:modified>
  <cp:revision>255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