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0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21.wmf" ContentType="image/x-wmf"/>
  <Override PartName="/ppt/media/image18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0353-45EE-4A4C-9EBD-CBC4BDF531A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2002-B40C-4AEB-9B92-45D7D97D2D0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03400" y="8175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3CA3-803C-4A76-9029-2C86DF5B3F2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03400" y="8175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824E-2318-4E16-B691-3BFEF2A98E3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22E7-C9A3-442E-A7AB-A8D502CCB38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03400" y="8175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17A7-F7B2-4ACF-B3AC-AAAA562B401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1103400" y="8175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E19F-F686-4F63-A32A-620DDF47A89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1103400" y="8175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0773-C394-41BB-BDD1-6C94BB14A83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AA05-1F1E-4D67-AFB9-C33D66038D6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7C22-6AF5-4E55-8995-236F7046DDA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1103400" y="8175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C040-DC87-40D5-BDC9-69BAC4C3CDE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1103400" y="8175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A887-11E0-4A11-B167-747FA1B97E2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E1EA-9014-45A2-B5C2-65971AB9DE2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4C33-B946-4036-A068-549BCD007DD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B7E6-B8C4-4ECF-9EFC-777C901C16B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3EA6-7F0E-4B47-8AA7-B357BE8C7F7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14BC-7981-416E-84F3-75BB299EEBA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7C33-D8A8-4C1D-AE08-016B569954B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03400" y="8175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497D-E176-48CA-A706-E3837BAE16D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2D46-BB43-40C6-91EC-3ABD4C8DFDD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3374-68FE-45B4-BE8C-810D8E264C3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A480-B5FF-4D85-A33E-B15113D44A9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CE82-E59A-4162-9B12-961264AA457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71E2-8A6E-4915-9723-DD722A6EE48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B68F-8ECC-4B25-BF36-1389AEAEA13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01600" y="81432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A047-9B22-4BD7-8369-44695B2A83B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03400" y="8175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898200" y="4632480"/>
            <a:ext cx="5056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EEEC-CB0B-4991-AA46-E115651A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CA5B-7F74-4D65-8674-3BFD1C01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E06E-68CB-4A30-8B4B-F2EBCA3A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290-2292-4438-882C-17304FBC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CC11-4CE4-4824-A233-97B808AC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5296-79D3-43E1-9543-FDE3AD3C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7D86-0E6E-4C8C-B73B-90B5038D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9B74-176C-496C-A025-9F0D1144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003F-3561-497F-A022-621E62B3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3E97-B5A2-4310-8B9B-E4843EC8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1921-62B3-44A1-B6BF-467BD5E0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F915-4ABF-4301-851F-03C3948F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C246-99B2-4BFA-8029-8EB2B94C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2DDF-84B4-4EAB-9568-325C7315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F4B8-9EB0-484E-8786-E58FE5EF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52C9-D55E-434A-A2E6-FF703FC8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0CB6-5E25-43E2-A51B-112A30C5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2B9-858F-4042-96FD-911D0749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556-6309-44A3-967D-2455411D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781-7753-4C41-B4CC-4E87BB1F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9D0-9A46-4AE2-B0D4-F8AAB854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C8A-5DAD-4BC0-8829-CF9E4DFE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96C-ACAC-4983-8697-452EBD8E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EB0-CA9B-40B7-9D52-B2958BCB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EA74-BEA5-4C18-8715-CEB839E5BDEC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42920" cy="6858000"/>
            <a:chOff x="0" y="0"/>
            <a:chExt cx="1042920" cy="685800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1042920" cy="6858000"/>
              <a:chOff x="0" y="0"/>
              <a:chExt cx="1042920" cy="6858000"/>
            </a:xfrm>
          </p:grpSpPr>
          <p:pic>
            <p:nvPicPr>
              <p:cNvPr id="8" name="" descr=""/>
              <p:cNvPicPr/>
              <p:nvPr/>
            </p:nvPicPr>
            <p:blipFill>
              <a:blip r:embed="rId2"/>
              <a:srcRect l="35239" t="31294" r="20477" b="25393"/>
              <a:stretch/>
            </p:blipFill>
            <p:spPr>
              <a:xfrm>
                <a:off x="0" y="6012000"/>
                <a:ext cx="865080" cy="84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" name=""/>
              <p:cNvSpPr/>
              <p:nvPr/>
            </p:nvSpPr>
            <p:spPr>
              <a:xfrm>
                <a:off x="675360" y="0"/>
                <a:ext cx="0" cy="68580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" name=""/>
              <p:cNvGrpSpPr/>
              <p:nvPr/>
            </p:nvGrpSpPr>
            <p:grpSpPr>
              <a:xfrm>
                <a:off x="188280" y="6165720"/>
                <a:ext cx="541080" cy="620640"/>
                <a:chOff x="188280" y="6165720"/>
                <a:chExt cx="541080" cy="62064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188280" y="6662520"/>
                  <a:ext cx="541080" cy="1238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2600" dir="162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500" spc="-1" strike="noStrike">
                      <a:solidFill>
                        <a:srgbClr val="ffcc00"/>
                      </a:solidFill>
                      <a:latin typeface="Humanst521 BT"/>
                    </a:rPr>
                    <a:t>DSC/CEEI/UFCG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406800" y="6362280"/>
                  <a:ext cx="295560" cy="27180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flipH="1" flipV="1">
                  <a:off x="214200" y="6165720"/>
                  <a:ext cx="294480" cy="27288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408600" y="6372000"/>
                  <a:ext cx="295200" cy="27180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flipV="1">
                  <a:off x="214200" y="6174720"/>
                  <a:ext cx="296280" cy="27288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1042920" cy="9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907920"/>
                <a:ext cx="860400" cy="172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" name="" descr=""/>
              <p:cNvPicPr/>
              <p:nvPr/>
            </p:nvPicPr>
            <p:blipFill>
              <a:blip r:embed="rId5"/>
              <a:srcRect l="35239" t="31294" r="20477" b="25393"/>
              <a:stretch/>
            </p:blipFill>
            <p:spPr>
              <a:xfrm>
                <a:off x="0" y="2565360"/>
                <a:ext cx="865080" cy="84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354560"/>
                <a:ext cx="860400" cy="17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429000"/>
                <a:ext cx="1042920" cy="917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A1CB-A425-4D76-A33E-69B46D48D4F5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0"/>
            <a:ext cx="1389240" cy="6858000"/>
            <a:chOff x="0" y="0"/>
            <a:chExt cx="1389240" cy="6858000"/>
          </a:xfrm>
        </p:grpSpPr>
        <p:pic>
          <p:nvPicPr>
            <p:cNvPr id="65" name="" descr=""/>
            <p:cNvPicPr/>
            <p:nvPr/>
          </p:nvPicPr>
          <p:blipFill>
            <a:blip r:embed="rId2"/>
            <a:srcRect l="35239" t="31294" r="20477" b="25393"/>
            <a:stretch/>
          </p:blipFill>
          <p:spPr>
            <a:xfrm>
              <a:off x="0" y="6012000"/>
              <a:ext cx="115236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50920" y="6165720"/>
              <a:ext cx="720720" cy="620640"/>
              <a:chOff x="250920" y="6165720"/>
              <a:chExt cx="720720" cy="620640"/>
            </a:xfrm>
          </p:grpSpPr>
          <p:sp>
            <p:nvSpPr>
              <p:cNvPr id="68" name=""/>
              <p:cNvSpPr/>
              <p:nvPr/>
            </p:nvSpPr>
            <p:spPr>
              <a:xfrm>
                <a:off x="250920" y="6662520"/>
                <a:ext cx="720720" cy="123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162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600" spc="-1" strike="noStrike">
                    <a:solidFill>
                      <a:srgbClr val="ffcc00"/>
                    </a:solidFill>
                    <a:latin typeface="Humanst521 BT"/>
                  </a:rPr>
                  <a:t>DSC/CEEI/UFC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1800" y="6362280"/>
                <a:ext cx="393480" cy="2718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285840" y="6165720"/>
                <a:ext cx="392400" cy="2728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4320" y="6372000"/>
                <a:ext cx="393120" cy="2718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flipV="1">
                <a:off x="286560" y="6174720"/>
                <a:ext cx="394560" cy="2728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8924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0" y="907920"/>
              <a:ext cx="1146240" cy="172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5"/>
            <a:srcRect l="35239" t="31294" r="20477" b="25393"/>
            <a:stretch/>
          </p:blipFill>
          <p:spPr>
            <a:xfrm>
              <a:off x="0" y="2565360"/>
              <a:ext cx="115236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6"/>
            <a:stretch/>
          </p:blipFill>
          <p:spPr>
            <a:xfrm>
              <a:off x="0" y="4354560"/>
              <a:ext cx="1146240" cy="17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7"/>
            <a:stretch/>
          </p:blipFill>
          <p:spPr>
            <a:xfrm>
              <a:off x="0" y="3429000"/>
              <a:ext cx="1389240" cy="9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/cvision.ucsd.edu/" TargetMode="External"/><Relationship Id="rId2" Type="http://schemas.openxmlformats.org/officeDocument/2006/relationships/hyperlink" Target="http://www/cvision.ucsd.edu/" TargetMode="External"/><Relationship Id="rId3" Type="http://schemas.openxmlformats.org/officeDocument/2006/relationships/hyperlink" Target="http://www/cvision.ucsd.edu/" TargetMode="External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itu.int/rec/recommendation.asp?type=folders&amp;lang=e&amp;parent=R-REC-BT.709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fg2.com/Lab/Library/Color/Science.htm" TargetMode="External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A Imag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I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413840" cy="9288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ensibilidade do olh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387600" y="3108240"/>
            <a:ext cx="0" cy="22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3404880" y="5129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404880" y="49244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404880" y="47340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404880" y="4540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3404880" y="4349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404880" y="4159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404880" y="3965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3404880" y="37749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3404880" y="3581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404880" y="3390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394080" y="3324240"/>
            <a:ext cx="2849400" cy="2019240"/>
          </a:xfrm>
          <a:custGeom>
            <a:avLst/>
            <a:gdLst/>
            <a:ahLst/>
            <a:rect l="l" t="t" r="r" b="b"/>
            <a:pathLst>
              <a:path w="1467" h="1451">
                <a:moveTo>
                  <a:pt x="0" y="1444"/>
                </a:moveTo>
                <a:lnTo>
                  <a:pt x="97" y="1439"/>
                </a:lnTo>
                <a:lnTo>
                  <a:pt x="109" y="1439"/>
                </a:lnTo>
                <a:lnTo>
                  <a:pt x="222" y="1419"/>
                </a:lnTo>
                <a:lnTo>
                  <a:pt x="299" y="1383"/>
                </a:lnTo>
                <a:lnTo>
                  <a:pt x="376" y="1312"/>
                </a:lnTo>
                <a:lnTo>
                  <a:pt x="429" y="1215"/>
                </a:lnTo>
                <a:lnTo>
                  <a:pt x="465" y="1056"/>
                </a:lnTo>
                <a:lnTo>
                  <a:pt x="502" y="893"/>
                </a:lnTo>
                <a:lnTo>
                  <a:pt x="534" y="694"/>
                </a:lnTo>
                <a:lnTo>
                  <a:pt x="575" y="449"/>
                </a:lnTo>
                <a:lnTo>
                  <a:pt x="623" y="229"/>
                </a:lnTo>
                <a:lnTo>
                  <a:pt x="668" y="91"/>
                </a:lnTo>
                <a:lnTo>
                  <a:pt x="716" y="20"/>
                </a:lnTo>
                <a:lnTo>
                  <a:pt x="765" y="0"/>
                </a:lnTo>
                <a:lnTo>
                  <a:pt x="830" y="35"/>
                </a:lnTo>
                <a:lnTo>
                  <a:pt x="886" y="137"/>
                </a:lnTo>
                <a:lnTo>
                  <a:pt x="947" y="301"/>
                </a:lnTo>
                <a:lnTo>
                  <a:pt x="988" y="433"/>
                </a:lnTo>
                <a:lnTo>
                  <a:pt x="1048" y="714"/>
                </a:lnTo>
                <a:lnTo>
                  <a:pt x="1113" y="970"/>
                </a:lnTo>
                <a:lnTo>
                  <a:pt x="1170" y="1174"/>
                </a:lnTo>
                <a:lnTo>
                  <a:pt x="1223" y="1296"/>
                </a:lnTo>
                <a:lnTo>
                  <a:pt x="1283" y="1373"/>
                </a:lnTo>
                <a:lnTo>
                  <a:pt x="1348" y="1414"/>
                </a:lnTo>
                <a:lnTo>
                  <a:pt x="1417" y="1444"/>
                </a:lnTo>
                <a:lnTo>
                  <a:pt x="1466" y="145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080880" y="5129280"/>
            <a:ext cx="44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13560" y="4159080"/>
            <a:ext cx="54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2960" y="3214800"/>
            <a:ext cx="64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1754640" y="3846960"/>
            <a:ext cx="1584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si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64280" y="5195880"/>
            <a:ext cx="84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3376440" y="5196960"/>
            <a:ext cx="3059280" cy="424440"/>
            <a:chOff x="3376440" y="5196960"/>
            <a:chExt cx="3059280" cy="424440"/>
          </a:xfrm>
        </p:grpSpPr>
        <p:sp>
          <p:nvSpPr>
            <p:cNvPr id="435" name=""/>
            <p:cNvSpPr/>
            <p:nvPr/>
          </p:nvSpPr>
          <p:spPr>
            <a:xfrm>
              <a:off x="3376440" y="5348160"/>
              <a:ext cx="30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4015440" y="5196960"/>
              <a:ext cx="0" cy="14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367160" y="5196960"/>
              <a:ext cx="0" cy="14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718520" y="5196960"/>
              <a:ext cx="0" cy="14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5071320" y="5196960"/>
              <a:ext cx="0" cy="14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421240" y="5196960"/>
              <a:ext cx="0" cy="14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97400" y="531576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86080" y="531576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71520" y="531576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43280" y="531576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3638160" y="5205600"/>
              <a:ext cx="0" cy="14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5768640" y="5196960"/>
              <a:ext cx="0" cy="14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6120000" y="5196960"/>
              <a:ext cx="0" cy="14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843280" y="2637000"/>
            <a:ext cx="40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ção da luz absorvida pelo o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065400" y="5900760"/>
            <a:ext cx="4046400" cy="734760"/>
            <a:chOff x="3065400" y="5900760"/>
            <a:chExt cx="4046400" cy="734760"/>
          </a:xfrm>
        </p:grpSpPr>
        <p:sp>
          <p:nvSpPr>
            <p:cNvPr id="450" name=""/>
            <p:cNvSpPr/>
            <p:nvPr/>
          </p:nvSpPr>
          <p:spPr>
            <a:xfrm flipH="1">
              <a:off x="3276720" y="5900760"/>
              <a:ext cx="3036960" cy="33804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65400" y="6268680"/>
              <a:ext cx="97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80 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40520" y="6251400"/>
              <a:ext cx="97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80 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042920" y="17082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bilidade do olho em função do comprimento de o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413480" cy="92844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ercepção de cor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384200" y="1733400"/>
            <a:ext cx="7291440" cy="4719600"/>
            <a:chOff x="1384200" y="1733400"/>
            <a:chExt cx="7291440" cy="4719600"/>
          </a:xfrm>
        </p:grpSpPr>
        <p:grpSp>
          <p:nvGrpSpPr>
            <p:cNvPr id="456" name=""/>
            <p:cNvGrpSpPr/>
            <p:nvPr/>
          </p:nvGrpSpPr>
          <p:grpSpPr>
            <a:xfrm>
              <a:off x="1697040" y="2007720"/>
              <a:ext cx="3820320" cy="3355920"/>
              <a:chOff x="1697040" y="2007720"/>
              <a:chExt cx="3820320" cy="335592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1716120" y="2007720"/>
                <a:ext cx="168840" cy="3352680"/>
                <a:chOff x="1716120" y="2007720"/>
                <a:chExt cx="168840" cy="3352680"/>
              </a:xfrm>
            </p:grpSpPr>
            <p:sp>
              <p:nvSpPr>
                <p:cNvPr id="458" name=""/>
                <p:cNvSpPr/>
                <p:nvPr/>
              </p:nvSpPr>
              <p:spPr>
                <a:xfrm flipV="1">
                  <a:off x="1716120" y="2007720"/>
                  <a:ext cx="0" cy="335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716120" y="503892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716120" y="489204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716120" y="474984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716120" y="458892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716120" y="444348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716120" y="429336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716120" y="413100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716120" y="397800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716120" y="382680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716120" y="367488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716120" y="352188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716120" y="336096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716120" y="320796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716120" y="305460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716120" y="290952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716120" y="275760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716120" y="261396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716120" y="246096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716120" y="2307600"/>
                  <a:ext cx="168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1697040" y="5202720"/>
                <a:ext cx="3820320" cy="160920"/>
                <a:chOff x="1697040" y="5202720"/>
                <a:chExt cx="3820320" cy="16092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1703160" y="5363640"/>
                  <a:ext cx="3814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709640" y="5363640"/>
                  <a:ext cx="166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92780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16468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40372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64096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88000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11724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335628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59316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3256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06980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30884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54608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78512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022000" y="5262840"/>
                  <a:ext cx="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697040" y="5202720"/>
                  <a:ext cx="169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6" name=""/>
            <p:cNvSpPr/>
            <p:nvPr/>
          </p:nvSpPr>
          <p:spPr>
            <a:xfrm>
              <a:off x="1423800" y="530856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93600" y="530856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3760" y="530856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46160" y="530856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28920" y="530856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08080" y="530856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63840" y="530856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27520" y="530856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38800" y="5357880"/>
              <a:ext cx="28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6200000">
              <a:off x="975600" y="3617640"/>
              <a:ext cx="1079640" cy="2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nsid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78920" y="5530680"/>
              <a:ext cx="226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mprimento de onda (n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03400" y="3911400"/>
              <a:ext cx="3138480" cy="1436760"/>
            </a:xfrm>
            <a:custGeom>
              <a:avLst/>
              <a:gdLst/>
              <a:ahLst/>
              <a:rect l="l" t="t" r="r" b="b"/>
              <a:pathLst>
                <a:path w="1482" h="929">
                  <a:moveTo>
                    <a:pt x="0" y="928"/>
                  </a:moveTo>
                  <a:lnTo>
                    <a:pt x="108" y="912"/>
                  </a:lnTo>
                  <a:lnTo>
                    <a:pt x="217" y="889"/>
                  </a:lnTo>
                  <a:lnTo>
                    <a:pt x="325" y="850"/>
                  </a:lnTo>
                  <a:lnTo>
                    <a:pt x="415" y="788"/>
                  </a:lnTo>
                  <a:lnTo>
                    <a:pt x="524" y="691"/>
                  </a:lnTo>
                  <a:lnTo>
                    <a:pt x="587" y="594"/>
                  </a:lnTo>
                  <a:lnTo>
                    <a:pt x="641" y="501"/>
                  </a:lnTo>
                  <a:lnTo>
                    <a:pt x="722" y="283"/>
                  </a:lnTo>
                  <a:lnTo>
                    <a:pt x="786" y="85"/>
                  </a:lnTo>
                  <a:lnTo>
                    <a:pt x="840" y="12"/>
                  </a:lnTo>
                  <a:lnTo>
                    <a:pt x="876" y="0"/>
                  </a:lnTo>
                  <a:lnTo>
                    <a:pt x="903" y="8"/>
                  </a:lnTo>
                  <a:lnTo>
                    <a:pt x="948" y="58"/>
                  </a:lnTo>
                  <a:lnTo>
                    <a:pt x="993" y="151"/>
                  </a:lnTo>
                  <a:lnTo>
                    <a:pt x="1031" y="255"/>
                  </a:lnTo>
                  <a:lnTo>
                    <a:pt x="1093" y="396"/>
                  </a:lnTo>
                  <a:lnTo>
                    <a:pt x="1174" y="571"/>
                  </a:lnTo>
                  <a:lnTo>
                    <a:pt x="1273" y="765"/>
                  </a:lnTo>
                  <a:lnTo>
                    <a:pt x="1373" y="870"/>
                  </a:lnTo>
                  <a:lnTo>
                    <a:pt x="1481" y="91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774800" y="3825720"/>
              <a:ext cx="3322800" cy="1522440"/>
            </a:xfrm>
            <a:custGeom>
              <a:avLst/>
              <a:gdLst/>
              <a:ahLst/>
              <a:rect l="l" t="t" r="r" b="b"/>
              <a:pathLst>
                <a:path w="1569" h="985">
                  <a:moveTo>
                    <a:pt x="0" y="984"/>
                  </a:moveTo>
                  <a:lnTo>
                    <a:pt x="108" y="976"/>
                  </a:lnTo>
                  <a:lnTo>
                    <a:pt x="208" y="953"/>
                  </a:lnTo>
                  <a:lnTo>
                    <a:pt x="289" y="918"/>
                  </a:lnTo>
                  <a:lnTo>
                    <a:pt x="397" y="844"/>
                  </a:lnTo>
                  <a:lnTo>
                    <a:pt x="479" y="743"/>
                  </a:lnTo>
                  <a:lnTo>
                    <a:pt x="551" y="611"/>
                  </a:lnTo>
                  <a:lnTo>
                    <a:pt x="614" y="433"/>
                  </a:lnTo>
                  <a:lnTo>
                    <a:pt x="668" y="207"/>
                  </a:lnTo>
                  <a:lnTo>
                    <a:pt x="713" y="95"/>
                  </a:lnTo>
                  <a:lnTo>
                    <a:pt x="767" y="12"/>
                  </a:lnTo>
                  <a:lnTo>
                    <a:pt x="811" y="0"/>
                  </a:lnTo>
                  <a:lnTo>
                    <a:pt x="849" y="11"/>
                  </a:lnTo>
                  <a:lnTo>
                    <a:pt x="885" y="68"/>
                  </a:lnTo>
                  <a:lnTo>
                    <a:pt x="903" y="138"/>
                  </a:lnTo>
                  <a:lnTo>
                    <a:pt x="948" y="289"/>
                  </a:lnTo>
                  <a:lnTo>
                    <a:pt x="993" y="464"/>
                  </a:lnTo>
                  <a:lnTo>
                    <a:pt x="1038" y="604"/>
                  </a:lnTo>
                  <a:lnTo>
                    <a:pt x="1120" y="774"/>
                  </a:lnTo>
                  <a:lnTo>
                    <a:pt x="1228" y="902"/>
                  </a:lnTo>
                  <a:lnTo>
                    <a:pt x="1354" y="968"/>
                  </a:lnTo>
                  <a:lnTo>
                    <a:pt x="1396" y="984"/>
                  </a:lnTo>
                  <a:lnTo>
                    <a:pt x="1568" y="9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739880" y="5221440"/>
              <a:ext cx="3384720" cy="126720"/>
            </a:xfrm>
            <a:custGeom>
              <a:avLst/>
              <a:gdLst/>
              <a:ahLst/>
              <a:rect l="l" t="t" r="r" b="b"/>
              <a:pathLst>
                <a:path w="1599" h="82">
                  <a:moveTo>
                    <a:pt x="0" y="50"/>
                  </a:moveTo>
                  <a:lnTo>
                    <a:pt x="63" y="23"/>
                  </a:lnTo>
                  <a:lnTo>
                    <a:pt x="163" y="0"/>
                  </a:lnTo>
                  <a:lnTo>
                    <a:pt x="232" y="1"/>
                  </a:lnTo>
                  <a:lnTo>
                    <a:pt x="316" y="12"/>
                  </a:lnTo>
                  <a:lnTo>
                    <a:pt x="424" y="39"/>
                  </a:lnTo>
                  <a:lnTo>
                    <a:pt x="560" y="66"/>
                  </a:lnTo>
                  <a:lnTo>
                    <a:pt x="686" y="81"/>
                  </a:lnTo>
                  <a:lnTo>
                    <a:pt x="1598" y="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19440" y="1935000"/>
              <a:ext cx="3254400" cy="2289240"/>
            </a:xfrm>
            <a:custGeom>
              <a:avLst/>
              <a:gdLst/>
              <a:ahLst/>
              <a:rect l="l" t="t" r="r" b="b"/>
              <a:pathLst>
                <a:path w="1537" h="1481">
                  <a:moveTo>
                    <a:pt x="0" y="1328"/>
                  </a:moveTo>
                  <a:lnTo>
                    <a:pt x="80" y="1328"/>
                  </a:lnTo>
                  <a:lnTo>
                    <a:pt x="184" y="1320"/>
                  </a:lnTo>
                  <a:lnTo>
                    <a:pt x="296" y="1272"/>
                  </a:lnTo>
                  <a:lnTo>
                    <a:pt x="384" y="1120"/>
                  </a:lnTo>
                  <a:lnTo>
                    <a:pt x="416" y="920"/>
                  </a:lnTo>
                  <a:lnTo>
                    <a:pt x="456" y="504"/>
                  </a:lnTo>
                  <a:lnTo>
                    <a:pt x="496" y="200"/>
                  </a:lnTo>
                  <a:lnTo>
                    <a:pt x="520" y="16"/>
                  </a:lnTo>
                  <a:lnTo>
                    <a:pt x="608" y="0"/>
                  </a:lnTo>
                  <a:lnTo>
                    <a:pt x="688" y="80"/>
                  </a:lnTo>
                  <a:lnTo>
                    <a:pt x="720" y="264"/>
                  </a:lnTo>
                  <a:lnTo>
                    <a:pt x="728" y="448"/>
                  </a:lnTo>
                  <a:lnTo>
                    <a:pt x="752" y="640"/>
                  </a:lnTo>
                  <a:lnTo>
                    <a:pt x="776" y="832"/>
                  </a:lnTo>
                  <a:lnTo>
                    <a:pt x="816" y="968"/>
                  </a:lnTo>
                  <a:lnTo>
                    <a:pt x="912" y="1056"/>
                  </a:lnTo>
                  <a:lnTo>
                    <a:pt x="1000" y="1160"/>
                  </a:lnTo>
                  <a:lnTo>
                    <a:pt x="1248" y="1312"/>
                  </a:lnTo>
                  <a:lnTo>
                    <a:pt x="1432" y="1424"/>
                  </a:lnTo>
                  <a:lnTo>
                    <a:pt x="1536" y="148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30560" y="1733400"/>
              <a:ext cx="1341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uz Colori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85960" y="3233880"/>
              <a:ext cx="3084480" cy="136440"/>
            </a:xfrm>
            <a:custGeom>
              <a:avLst/>
              <a:gdLst/>
              <a:ahLst/>
              <a:rect l="l" t="t" r="r" b="b"/>
              <a:pathLst>
                <a:path w="1457" h="89">
                  <a:moveTo>
                    <a:pt x="0" y="88"/>
                  </a:moveTo>
                  <a:lnTo>
                    <a:pt x="320" y="72"/>
                  </a:lnTo>
                  <a:lnTo>
                    <a:pt x="704" y="0"/>
                  </a:lnTo>
                  <a:lnTo>
                    <a:pt x="744" y="32"/>
                  </a:lnTo>
                  <a:lnTo>
                    <a:pt x="864" y="16"/>
                  </a:lnTo>
                  <a:lnTo>
                    <a:pt x="1280" y="40"/>
                  </a:lnTo>
                  <a:lnTo>
                    <a:pt x="1344" y="88"/>
                  </a:lnTo>
                  <a:lnTo>
                    <a:pt x="1456" y="8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35120" y="2895480"/>
              <a:ext cx="1206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uz Bran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599520" y="5478480"/>
              <a:ext cx="147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ão é assim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5" name=""/>
                <p:cNvSpPr txBox="1"/>
                <p:nvPr/>
              </p:nvSpPr>
              <p:spPr>
                <a:xfrm>
                  <a:off x="6181920" y="2836800"/>
                  <a:ext cx="2493720" cy="18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c</m:t>
                              </m:r>
                              <m:r>
                                <m:t xml:space="preserve">(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  <m:r>
                                <m:t xml:space="preserve">s</m:t>
                              </m:r>
                              <m:r>
                                <m:t xml:space="preserve">(</m:t>
                              </m:r>
                            </m:e>
                          </m:nary>
                          <m:r>
                            <m:t xml:space="preserve">λ</m:t>
                          </m:r>
                          <m:r>
                            <m:t xml:space="preserve">)</m:t>
                          </m:r>
                          <m:r>
                            <m:t xml:space="preserve">dλ</m:t>
                          </m:r>
                        </m:e>
                        <m:e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c</m:t>
                              </m:r>
                              <m:r>
                                <m:t xml:space="preserve">(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  <m:r>
                                <m:t xml:space="preserve">m</m:t>
                              </m:r>
                              <m:r>
                                <m:t xml:space="preserve">(</m:t>
                              </m:r>
                            </m:e>
                          </m:nary>
                          <m:r>
                            <m:t xml:space="preserve">λ</m:t>
                          </m:r>
                          <m:r>
                            <m:t xml:space="preserve">)</m:t>
                          </m:r>
                          <m:r>
                            <m:t xml:space="preserve">dλ</m:t>
                          </m:r>
                        </m:e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c</m:t>
                              </m:r>
                              <m:r>
                                <m:t xml:space="preserve">(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  <m:r>
                                <m:t xml:space="preserve">ℓ</m:t>
                              </m:r>
                              <m:r>
                                <m:t xml:space="preserve">(</m:t>
                              </m:r>
                            </m:e>
                          </m:nary>
                          <m:r>
                            <m:t xml:space="preserve">λ</m:t>
                          </m:r>
                          <m:r>
                            <m:t xml:space="preserve">)</m:t>
                          </m:r>
                          <m:r>
                            <m:t xml:space="preserve">dλ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16" name=""/>
            <p:cNvSpPr/>
            <p:nvPr/>
          </p:nvSpPr>
          <p:spPr>
            <a:xfrm>
              <a:off x="2103120" y="2874960"/>
              <a:ext cx="672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1673280" y="6076800"/>
              <a:ext cx="3633840" cy="37620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4398840" y="4325760"/>
                  <a:ext cx="70020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ℓ</m:t>
                      </m: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9" name=""/>
                <p:cNvSpPr txBox="1"/>
                <p:nvPr/>
              </p:nvSpPr>
              <p:spPr>
                <a:xfrm>
                  <a:off x="2760840" y="3541680"/>
                  <a:ext cx="78408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1884240" y="4724280"/>
                  <a:ext cx="70020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561440" cy="85104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 problema de reprodução de cor em C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159920" y="1844640"/>
            <a:ext cx="7660080" cy="4710240"/>
            <a:chOff x="1159920" y="1844640"/>
            <a:chExt cx="7660080" cy="4710240"/>
          </a:xfrm>
        </p:grpSpPr>
        <p:grpSp>
          <p:nvGrpSpPr>
            <p:cNvPr id="523" name=""/>
            <p:cNvGrpSpPr/>
            <p:nvPr/>
          </p:nvGrpSpPr>
          <p:grpSpPr>
            <a:xfrm>
              <a:off x="1288080" y="2745720"/>
              <a:ext cx="193320" cy="282240"/>
              <a:chOff x="1288080" y="2745720"/>
              <a:chExt cx="193320" cy="282240"/>
            </a:xfrm>
          </p:grpSpPr>
          <p:sp>
            <p:nvSpPr>
              <p:cNvPr id="524" name=""/>
              <p:cNvSpPr/>
              <p:nvPr/>
            </p:nvSpPr>
            <p:spPr>
              <a:xfrm>
                <a:off x="1430640" y="2850480"/>
                <a:ext cx="42840" cy="741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1288080" y="2784600"/>
                <a:ext cx="18576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294200" y="2903040"/>
                <a:ext cx="177840" cy="7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1442880" y="2745720"/>
                <a:ext cx="1152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1411200" y="2763000"/>
                <a:ext cx="576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1378080" y="2793600"/>
                <a:ext cx="7920" cy="4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1342440" y="2818440"/>
                <a:ext cx="3960" cy="4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458360" y="2980080"/>
                <a:ext cx="13680" cy="4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415160" y="2967120"/>
                <a:ext cx="972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41000" y="2928960"/>
                <a:ext cx="7200" cy="3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8080" y="2946600"/>
                <a:ext cx="9720" cy="2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80600" y="2820960"/>
                <a:ext cx="100800" cy="13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015" y="69"/>
                    </a:moveTo>
                    <a:arcTo wR="10800" hR="10800" stAng="-5012471" swAng="105421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015" y="69"/>
                    </a:moveTo>
                    <a:arcTo wR="10800" hR="10800" stAng="-5012471" swAng="10542136"/>
                  </a:path>
                </a:pathLst>
              </a:custGeom>
              <a:solidFill>
                <a:srgbClr val="cc99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3438360" y="2194200"/>
              <a:ext cx="981720" cy="1166400"/>
              <a:chOff x="3438360" y="2194200"/>
              <a:chExt cx="981720" cy="116640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3661560" y="2266920"/>
                <a:ext cx="307440" cy="520560"/>
                <a:chOff x="3661560" y="2266920"/>
                <a:chExt cx="307440" cy="520560"/>
              </a:xfrm>
            </p:grpSpPr>
            <p:grpSp>
              <p:nvGrpSpPr>
                <p:cNvPr id="538" name=""/>
                <p:cNvGrpSpPr/>
                <p:nvPr/>
              </p:nvGrpSpPr>
              <p:grpSpPr>
                <a:xfrm>
                  <a:off x="3661560" y="2266920"/>
                  <a:ext cx="307440" cy="520560"/>
                  <a:chOff x="3661560" y="2266920"/>
                  <a:chExt cx="307440" cy="5205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3661560" y="2380320"/>
                    <a:ext cx="30528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7">
                        <a:moveTo>
                          <a:pt x="114" y="46"/>
                        </a:moveTo>
                        <a:lnTo>
                          <a:pt x="155" y="21"/>
                        </a:lnTo>
                        <a:lnTo>
                          <a:pt x="43" y="0"/>
                        </a:lnTo>
                        <a:lnTo>
                          <a:pt x="0" y="25"/>
                        </a:lnTo>
                        <a:lnTo>
                          <a:pt x="114" y="46"/>
                        </a:lnTo>
                      </a:path>
                    </a:pathLst>
                  </a:custGeom>
                  <a:solidFill>
                    <a:srgbClr val="5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3679200" y="2266920"/>
                    <a:ext cx="2523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22">
                        <a:moveTo>
                          <a:pt x="0" y="10"/>
                        </a:moveTo>
                        <a:lnTo>
                          <a:pt x="99" y="21"/>
                        </a:lnTo>
                        <a:lnTo>
                          <a:pt x="128" y="11"/>
                        </a:lnTo>
                        <a:lnTo>
                          <a:pt x="30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5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3879000" y="2288520"/>
                    <a:ext cx="52560" cy="14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01">
                        <a:moveTo>
                          <a:pt x="0" y="10"/>
                        </a:moveTo>
                        <a:lnTo>
                          <a:pt x="26" y="0"/>
                        </a:lnTo>
                        <a:lnTo>
                          <a:pt x="26" y="83"/>
                        </a:lnTo>
                        <a:lnTo>
                          <a:pt x="0" y="10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3677040" y="2284200"/>
                    <a:ext cx="19548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03">
                        <a:moveTo>
                          <a:pt x="0" y="0"/>
                        </a:moveTo>
                        <a:lnTo>
                          <a:pt x="99" y="12"/>
                        </a:lnTo>
                        <a:lnTo>
                          <a:pt x="99" y="102"/>
                        </a:lnTo>
                        <a:lnTo>
                          <a:pt x="0" y="8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3890520" y="2413440"/>
                    <a:ext cx="7848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57">
                        <a:moveTo>
                          <a:pt x="39" y="0"/>
                        </a:moveTo>
                        <a:lnTo>
                          <a:pt x="0" y="26"/>
                        </a:lnTo>
                        <a:lnTo>
                          <a:pt x="0" y="256"/>
                        </a:lnTo>
                        <a:lnTo>
                          <a:pt x="39" y="223"/>
                        </a:lnTo>
                        <a:lnTo>
                          <a:pt x="39" y="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3663720" y="2420640"/>
                    <a:ext cx="225000" cy="36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252">
                        <a:moveTo>
                          <a:pt x="0" y="0"/>
                        </a:moveTo>
                        <a:lnTo>
                          <a:pt x="114" y="22"/>
                        </a:lnTo>
                        <a:lnTo>
                          <a:pt x="113" y="251"/>
                        </a:lnTo>
                        <a:lnTo>
                          <a:pt x="0" y="22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3688920" y="2292840"/>
                  <a:ext cx="197280" cy="232560"/>
                  <a:chOff x="3688920" y="2292840"/>
                  <a:chExt cx="197280" cy="23256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>
                    <a:off x="3688920" y="2292840"/>
                    <a:ext cx="331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6" y="5"/>
                        </a:lnTo>
                        <a:lnTo>
                          <a:pt x="16" y="16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3726000" y="2314440"/>
                    <a:ext cx="331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6" y="4"/>
                        </a:lnTo>
                        <a:lnTo>
                          <a:pt x="16" y="16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3767040" y="2298600"/>
                    <a:ext cx="331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6" y="5"/>
                        </a:lnTo>
                        <a:lnTo>
                          <a:pt x="16" y="16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3812040" y="2304360"/>
                    <a:ext cx="331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6" y="3"/>
                        </a:lnTo>
                        <a:lnTo>
                          <a:pt x="16" y="16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3812040" y="2324520"/>
                    <a:ext cx="331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6" y="5"/>
                        </a:lnTo>
                        <a:lnTo>
                          <a:pt x="16" y="16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3767040" y="2343960"/>
                    <a:ext cx="331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6" y="5"/>
                        </a:lnTo>
                        <a:lnTo>
                          <a:pt x="16" y="16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3812040" y="2369880"/>
                    <a:ext cx="331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6" y="3"/>
                        </a:lnTo>
                        <a:lnTo>
                          <a:pt x="16" y="16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3851280" y="2459880"/>
                    <a:ext cx="331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6" y="5"/>
                        </a:lnTo>
                        <a:lnTo>
                          <a:pt x="16" y="16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3853080" y="2500920"/>
                    <a:ext cx="331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16" y="3"/>
                        </a:lnTo>
                        <a:lnTo>
                          <a:pt x="16" y="16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5" name=""/>
              <p:cNvGrpSpPr/>
              <p:nvPr/>
            </p:nvGrpSpPr>
            <p:grpSpPr>
              <a:xfrm>
                <a:off x="3908880" y="2194200"/>
                <a:ext cx="379440" cy="730080"/>
                <a:chOff x="3908880" y="2194200"/>
                <a:chExt cx="379440" cy="730080"/>
              </a:xfrm>
            </p:grpSpPr>
            <p:grpSp>
              <p:nvGrpSpPr>
                <p:cNvPr id="556" name=""/>
                <p:cNvGrpSpPr/>
                <p:nvPr/>
              </p:nvGrpSpPr>
              <p:grpSpPr>
                <a:xfrm>
                  <a:off x="3908880" y="2194200"/>
                  <a:ext cx="379440" cy="730080"/>
                  <a:chOff x="3908880" y="2194200"/>
                  <a:chExt cx="379440" cy="73008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3910320" y="2406600"/>
                    <a:ext cx="37584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93">
                        <a:moveTo>
                          <a:pt x="0" y="67"/>
                        </a:moveTo>
                        <a:lnTo>
                          <a:pt x="108" y="92"/>
                        </a:lnTo>
                        <a:lnTo>
                          <a:pt x="191" y="17"/>
                        </a:lnTo>
                        <a:lnTo>
                          <a:pt x="87" y="0"/>
                        </a:lnTo>
                        <a:lnTo>
                          <a:pt x="0" y="67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3963240" y="2285640"/>
                    <a:ext cx="15480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161">
                        <a:moveTo>
                          <a:pt x="0" y="0"/>
                        </a:moveTo>
                        <a:lnTo>
                          <a:pt x="78" y="8"/>
                        </a:lnTo>
                        <a:lnTo>
                          <a:pt x="78" y="160"/>
                        </a:lnTo>
                        <a:lnTo>
                          <a:pt x="0" y="13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4120200" y="2246400"/>
                    <a:ext cx="131400" cy="27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87">
                        <a:moveTo>
                          <a:pt x="0" y="34"/>
                        </a:moveTo>
                        <a:lnTo>
                          <a:pt x="0" y="186"/>
                        </a:lnTo>
                        <a:lnTo>
                          <a:pt x="66" y="125"/>
                        </a:lnTo>
                        <a:lnTo>
                          <a:pt x="66" y="0"/>
                        </a:lnTo>
                        <a:lnTo>
                          <a:pt x="0" y="34"/>
                        </a:lnTo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3963240" y="2236320"/>
                    <a:ext cx="28800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38">
                        <a:moveTo>
                          <a:pt x="0" y="29"/>
                        </a:moveTo>
                        <a:lnTo>
                          <a:pt x="78" y="37"/>
                        </a:lnTo>
                        <a:lnTo>
                          <a:pt x="146" y="5"/>
                        </a:lnTo>
                        <a:lnTo>
                          <a:pt x="78" y="0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4002840" y="2194200"/>
                    <a:ext cx="2091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2">
                        <a:moveTo>
                          <a:pt x="0" y="16"/>
                        </a:moveTo>
                        <a:lnTo>
                          <a:pt x="56" y="21"/>
                        </a:lnTo>
                        <a:lnTo>
                          <a:pt x="106" y="5"/>
                        </a:lnTo>
                        <a:lnTo>
                          <a:pt x="52" y="0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4002840" y="2224800"/>
                    <a:ext cx="10548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7">
                        <a:moveTo>
                          <a:pt x="0" y="0"/>
                        </a:moveTo>
                        <a:lnTo>
                          <a:pt x="53" y="4"/>
                        </a:lnTo>
                        <a:lnTo>
                          <a:pt x="53" y="36"/>
                        </a:lnTo>
                        <a:lnTo>
                          <a:pt x="0" y="3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4112280" y="2204280"/>
                    <a:ext cx="997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50">
                        <a:moveTo>
                          <a:pt x="0" y="17"/>
                        </a:moveTo>
                        <a:lnTo>
                          <a:pt x="0" y="49"/>
                        </a:lnTo>
                        <a:lnTo>
                          <a:pt x="50" y="25"/>
                        </a:lnTo>
                        <a:lnTo>
                          <a:pt x="50" y="0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4122000" y="2431080"/>
                    <a:ext cx="166320" cy="49320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39">
                        <a:moveTo>
                          <a:pt x="84" y="0"/>
                        </a:moveTo>
                        <a:lnTo>
                          <a:pt x="0" y="78"/>
                        </a:lnTo>
                        <a:lnTo>
                          <a:pt x="0" y="338"/>
                        </a:lnTo>
                        <a:lnTo>
                          <a:pt x="84" y="236"/>
                        </a:lnTo>
                        <a:lnTo>
                          <a:pt x="84" y="0"/>
                        </a:lnTo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3908880" y="2508480"/>
                    <a:ext cx="213120" cy="41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286">
                        <a:moveTo>
                          <a:pt x="0" y="0"/>
                        </a:moveTo>
                        <a:lnTo>
                          <a:pt x="108" y="25"/>
                        </a:lnTo>
                        <a:lnTo>
                          <a:pt x="108" y="285"/>
                        </a:lnTo>
                        <a:lnTo>
                          <a:pt x="0" y="23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3932280" y="2292840"/>
                  <a:ext cx="179280" cy="308520"/>
                  <a:chOff x="3932280" y="2292840"/>
                  <a:chExt cx="179280" cy="308520"/>
                </a:xfrm>
              </p:grpSpPr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3972960" y="2292840"/>
                    <a:ext cx="138600" cy="65160"/>
                    <a:chOff x="3972960" y="2292840"/>
                    <a:chExt cx="138600" cy="65160"/>
                  </a:xfrm>
                </p:grpSpPr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3972960" y="2292840"/>
                      <a:ext cx="33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5">
                          <a:moveTo>
                            <a:pt x="0" y="0"/>
                          </a:moveTo>
                          <a:lnTo>
                            <a:pt x="16" y="2"/>
                          </a:lnTo>
                          <a:lnTo>
                            <a:pt x="16" y="34"/>
                          </a:lnTo>
                          <a:lnTo>
                            <a:pt x="0" y="3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4008240" y="2296800"/>
                      <a:ext cx="33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5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34"/>
                          </a:lnTo>
                          <a:lnTo>
                            <a:pt x="0" y="3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4043160" y="2300040"/>
                      <a:ext cx="3312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6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4" y="35"/>
                          </a:lnTo>
                          <a:lnTo>
                            <a:pt x="0" y="3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4078440" y="2302920"/>
                      <a:ext cx="3312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8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37"/>
                          </a:lnTo>
                          <a:lnTo>
                            <a:pt x="0" y="3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3972960" y="2359440"/>
                    <a:ext cx="138600" cy="66240"/>
                    <a:chOff x="3972960" y="2359440"/>
                    <a:chExt cx="138600" cy="6624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3972960" y="2359440"/>
                      <a:ext cx="3312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7">
                          <a:moveTo>
                            <a:pt x="0" y="0"/>
                          </a:moveTo>
                          <a:lnTo>
                            <a:pt x="16" y="3"/>
                          </a:lnTo>
                          <a:lnTo>
                            <a:pt x="16" y="36"/>
                          </a:lnTo>
                          <a:lnTo>
                            <a:pt x="1" y="3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4008240" y="2363400"/>
                      <a:ext cx="3312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7">
                          <a:moveTo>
                            <a:pt x="1" y="0"/>
                          </a:moveTo>
                          <a:lnTo>
                            <a:pt x="16" y="3"/>
                          </a:lnTo>
                          <a:lnTo>
                            <a:pt x="16" y="36"/>
                          </a:lnTo>
                          <a:lnTo>
                            <a:pt x="0" y="33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4041720" y="2369520"/>
                      <a:ext cx="33120" cy="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6">
                          <a:moveTo>
                            <a:pt x="0" y="0"/>
                          </a:moveTo>
                          <a:lnTo>
                            <a:pt x="16" y="2"/>
                          </a:lnTo>
                          <a:lnTo>
                            <a:pt x="15" y="35"/>
                          </a:lnTo>
                          <a:lnTo>
                            <a:pt x="0" y="3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>
                      <a:off x="4078440" y="2375280"/>
                      <a:ext cx="3312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5">
                          <a:moveTo>
                            <a:pt x="0" y="0"/>
                          </a:moveTo>
                          <a:lnTo>
                            <a:pt x="16" y="2"/>
                          </a:lnTo>
                          <a:lnTo>
                            <a:pt x="16" y="34"/>
                          </a:lnTo>
                          <a:lnTo>
                            <a:pt x="0" y="3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3932280" y="2522520"/>
                    <a:ext cx="159480" cy="78840"/>
                    <a:chOff x="3932280" y="2522520"/>
                    <a:chExt cx="159480" cy="78840"/>
                  </a:xfrm>
                </p:grpSpPr>
                <p:grpSp>
                  <p:nvGrpSpPr>
                    <p:cNvPr id="578" name=""/>
                    <p:cNvGrpSpPr/>
                    <p:nvPr/>
                  </p:nvGrpSpPr>
                  <p:grpSpPr>
                    <a:xfrm>
                      <a:off x="3932280" y="2522520"/>
                      <a:ext cx="159480" cy="48960"/>
                      <a:chOff x="3932280" y="2522520"/>
                      <a:chExt cx="159480" cy="48960"/>
                    </a:xfrm>
                  </p:grpSpPr>
                  <p:sp>
                    <p:nvSpPr>
                      <p:cNvPr id="579" name=""/>
                      <p:cNvSpPr/>
                      <p:nvPr/>
                    </p:nvSpPr>
                    <p:spPr>
                      <a:xfrm>
                        <a:off x="3972960" y="2530800"/>
                        <a:ext cx="331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6" y="4"/>
                            </a:lnTo>
                            <a:lnTo>
                              <a:pt x="16" y="16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"/>
                      <p:cNvSpPr/>
                      <p:nvPr/>
                    </p:nvSpPr>
                    <p:spPr>
                      <a:xfrm>
                        <a:off x="4019760" y="2538000"/>
                        <a:ext cx="331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6" y="4"/>
                            </a:lnTo>
                            <a:lnTo>
                              <a:pt x="16" y="16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"/>
                      <p:cNvSpPr/>
                      <p:nvPr/>
                    </p:nvSpPr>
                    <p:spPr>
                      <a:xfrm>
                        <a:off x="4058640" y="2547000"/>
                        <a:ext cx="331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6" y="4"/>
                            </a:lnTo>
                            <a:lnTo>
                              <a:pt x="16" y="16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2" name=""/>
                      <p:cNvSpPr/>
                      <p:nvPr/>
                    </p:nvSpPr>
                    <p:spPr>
                      <a:xfrm>
                        <a:off x="3932280" y="2522520"/>
                        <a:ext cx="331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6" y="4"/>
                            </a:lnTo>
                            <a:lnTo>
                              <a:pt x="16" y="16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3" name=""/>
                    <p:cNvGrpSpPr/>
                    <p:nvPr/>
                  </p:nvGrpSpPr>
                  <p:grpSpPr>
                    <a:xfrm>
                      <a:off x="3932280" y="2551320"/>
                      <a:ext cx="159480" cy="50040"/>
                      <a:chOff x="3932280" y="2551320"/>
                      <a:chExt cx="159480" cy="50040"/>
                    </a:xfrm>
                  </p:grpSpPr>
                  <p:sp>
                    <p:nvSpPr>
                      <p:cNvPr id="584" name=""/>
                      <p:cNvSpPr/>
                      <p:nvPr/>
                    </p:nvSpPr>
                    <p:spPr>
                      <a:xfrm>
                        <a:off x="3972960" y="2559960"/>
                        <a:ext cx="331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6" y="4"/>
                            </a:lnTo>
                            <a:lnTo>
                              <a:pt x="16" y="16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"/>
                      <p:cNvSpPr/>
                      <p:nvPr/>
                    </p:nvSpPr>
                    <p:spPr>
                      <a:xfrm>
                        <a:off x="4015800" y="2568600"/>
                        <a:ext cx="331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6" y="4"/>
                            </a:lnTo>
                            <a:lnTo>
                              <a:pt x="16" y="16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6" name=""/>
                      <p:cNvSpPr/>
                      <p:nvPr/>
                    </p:nvSpPr>
                    <p:spPr>
                      <a:xfrm>
                        <a:off x="4058640" y="2577240"/>
                        <a:ext cx="33120" cy="2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6" y="4"/>
                            </a:lnTo>
                            <a:lnTo>
                              <a:pt x="16" y="16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"/>
                      <p:cNvSpPr/>
                      <p:nvPr/>
                    </p:nvSpPr>
                    <p:spPr>
                      <a:xfrm>
                        <a:off x="3932280" y="2551320"/>
                        <a:ext cx="331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6" y="4"/>
                            </a:lnTo>
                            <a:lnTo>
                              <a:pt x="16" y="16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88" name=""/>
              <p:cNvGrpSpPr/>
              <p:nvPr/>
            </p:nvGrpSpPr>
            <p:grpSpPr>
              <a:xfrm>
                <a:off x="4155840" y="2460240"/>
                <a:ext cx="264240" cy="658800"/>
                <a:chOff x="4155840" y="2460240"/>
                <a:chExt cx="264240" cy="658800"/>
              </a:xfrm>
            </p:grpSpPr>
            <p:grpSp>
              <p:nvGrpSpPr>
                <p:cNvPr id="589" name=""/>
                <p:cNvGrpSpPr/>
                <p:nvPr/>
              </p:nvGrpSpPr>
              <p:grpSpPr>
                <a:xfrm>
                  <a:off x="4155840" y="2460240"/>
                  <a:ext cx="264240" cy="658800"/>
                  <a:chOff x="4155840" y="2460240"/>
                  <a:chExt cx="264240" cy="65880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4204800" y="2481840"/>
                    <a:ext cx="15444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6">
                        <a:moveTo>
                          <a:pt x="0" y="27"/>
                        </a:moveTo>
                        <a:lnTo>
                          <a:pt x="48" y="35"/>
                        </a:lnTo>
                        <a:lnTo>
                          <a:pt x="78" y="4"/>
                        </a:lnTo>
                        <a:lnTo>
                          <a:pt x="33" y="0"/>
                        </a:lnTo>
                        <a:lnTo>
                          <a:pt x="0" y="27"/>
                        </a:lnTo>
                      </a:path>
                    </a:pathLst>
                  </a:custGeom>
                  <a:solidFill>
                    <a:srgbClr val="00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4230360" y="2460240"/>
                    <a:ext cx="106920" cy="62280"/>
                    <a:chOff x="4230360" y="2460240"/>
                    <a:chExt cx="106920" cy="62280"/>
                  </a:xfrm>
                </p:grpSpPr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4230360" y="2487600"/>
                      <a:ext cx="6444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4">
                          <a:moveTo>
                            <a:pt x="0" y="0"/>
                          </a:moveTo>
                          <a:lnTo>
                            <a:pt x="32" y="2"/>
                          </a:lnTo>
                          <a:lnTo>
                            <a:pt x="32" y="23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>
                      <a:off x="4296600" y="2463120"/>
                      <a:ext cx="388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1">
                          <a:moveTo>
                            <a:pt x="0" y="18"/>
                          </a:moveTo>
                          <a:lnTo>
                            <a:pt x="0" y="40"/>
                          </a:lnTo>
                          <a:lnTo>
                            <a:pt x="19" y="18"/>
                          </a:lnTo>
                          <a:lnTo>
                            <a:pt x="19" y="0"/>
                          </a:lnTo>
                          <a:lnTo>
                            <a:pt x="0" y="18"/>
                          </a:lnTo>
                        </a:path>
                      </a:pathLst>
                    </a:custGeom>
                    <a:solidFill>
                      <a:srgbClr val="00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4231800" y="2460240"/>
                      <a:ext cx="105480" cy="2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0">
                          <a:moveTo>
                            <a:pt x="0" y="15"/>
                          </a:moveTo>
                          <a:lnTo>
                            <a:pt x="31" y="19"/>
                          </a:lnTo>
                          <a:lnTo>
                            <a:pt x="53" y="2"/>
                          </a:lnTo>
                          <a:lnTo>
                            <a:pt x="21" y="0"/>
                          </a:lnTo>
                          <a:lnTo>
                            <a:pt x="0" y="15"/>
                          </a:lnTo>
                        </a:path>
                      </a:pathLst>
                    </a:custGeom>
                    <a:solidFill>
                      <a:srgbClr val="00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5" name=""/>
                  <p:cNvSpPr/>
                  <p:nvPr/>
                </p:nvSpPr>
                <p:spPr>
                  <a:xfrm>
                    <a:off x="4206600" y="2527200"/>
                    <a:ext cx="9180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54">
                        <a:moveTo>
                          <a:pt x="0" y="0"/>
                        </a:moveTo>
                        <a:lnTo>
                          <a:pt x="46" y="7"/>
                        </a:lnTo>
                        <a:lnTo>
                          <a:pt x="46" y="153"/>
                        </a:lnTo>
                        <a:lnTo>
                          <a:pt x="0" y="13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4302720" y="2490840"/>
                    <a:ext cx="5652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79">
                        <a:moveTo>
                          <a:pt x="0" y="32"/>
                        </a:moveTo>
                        <a:lnTo>
                          <a:pt x="28" y="0"/>
                        </a:lnTo>
                        <a:lnTo>
                          <a:pt x="28" y="136"/>
                        </a:lnTo>
                        <a:lnTo>
                          <a:pt x="0" y="178"/>
                        </a:lnTo>
                        <a:lnTo>
                          <a:pt x="0" y="32"/>
                        </a:lnTo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4300920" y="2693160"/>
                    <a:ext cx="119160" cy="18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27">
                        <a:moveTo>
                          <a:pt x="30" y="0"/>
                        </a:moveTo>
                        <a:lnTo>
                          <a:pt x="0" y="41"/>
                        </a:lnTo>
                        <a:lnTo>
                          <a:pt x="11" y="126"/>
                        </a:lnTo>
                        <a:lnTo>
                          <a:pt x="60" y="46"/>
                        </a:lnTo>
                        <a:lnTo>
                          <a:pt x="30" y="0"/>
                        </a:lnTo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4155840" y="2732400"/>
                    <a:ext cx="16452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00">
                        <a:moveTo>
                          <a:pt x="23" y="0"/>
                        </a:moveTo>
                        <a:lnTo>
                          <a:pt x="71" y="15"/>
                        </a:lnTo>
                        <a:lnTo>
                          <a:pt x="83" y="99"/>
                        </a:lnTo>
                        <a:lnTo>
                          <a:pt x="0" y="71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4322160" y="2763000"/>
                    <a:ext cx="97920" cy="356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45">
                        <a:moveTo>
                          <a:pt x="0" y="81"/>
                        </a:moveTo>
                        <a:lnTo>
                          <a:pt x="49" y="0"/>
                        </a:lnTo>
                        <a:lnTo>
                          <a:pt x="49" y="132"/>
                        </a:lnTo>
                        <a:lnTo>
                          <a:pt x="0" y="244"/>
                        </a:lnTo>
                        <a:lnTo>
                          <a:pt x="0" y="81"/>
                        </a:lnTo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4155840" y="2841480"/>
                    <a:ext cx="1645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90">
                        <a:moveTo>
                          <a:pt x="0" y="0"/>
                        </a:moveTo>
                        <a:lnTo>
                          <a:pt x="83" y="28"/>
                        </a:lnTo>
                        <a:lnTo>
                          <a:pt x="83" y="189"/>
                        </a:lnTo>
                        <a:lnTo>
                          <a:pt x="0" y="15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1" name=""/>
                <p:cNvGrpSpPr/>
                <p:nvPr/>
              </p:nvGrpSpPr>
              <p:grpSpPr>
                <a:xfrm>
                  <a:off x="4216680" y="2537280"/>
                  <a:ext cx="88920" cy="141480"/>
                  <a:chOff x="4216680" y="2537280"/>
                  <a:chExt cx="88920" cy="141480"/>
                </a:xfrm>
              </p:grpSpPr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4216680" y="2537280"/>
                    <a:ext cx="88920" cy="43200"/>
                    <a:chOff x="4216680" y="2537280"/>
                    <a:chExt cx="88920" cy="4320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4216680" y="2537280"/>
                      <a:ext cx="3276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4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23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4243680" y="2540160"/>
                      <a:ext cx="327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6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25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4272840" y="2544480"/>
                      <a:ext cx="327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5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24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6" name=""/>
                  <p:cNvGrpSpPr/>
                  <p:nvPr/>
                </p:nvGrpSpPr>
                <p:grpSpPr>
                  <a:xfrm>
                    <a:off x="4216680" y="2583360"/>
                    <a:ext cx="88920" cy="47520"/>
                    <a:chOff x="4216680" y="2583360"/>
                    <a:chExt cx="88920" cy="47520"/>
                  </a:xfrm>
                </p:grpSpPr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4216680" y="2583360"/>
                      <a:ext cx="327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5">
                          <a:moveTo>
                            <a:pt x="0" y="0"/>
                          </a:moveTo>
                          <a:lnTo>
                            <a:pt x="16" y="2"/>
                          </a:lnTo>
                          <a:lnTo>
                            <a:pt x="16" y="24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4243680" y="2589120"/>
                      <a:ext cx="3276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6">
                          <a:moveTo>
                            <a:pt x="0" y="0"/>
                          </a:moveTo>
                          <a:lnTo>
                            <a:pt x="16" y="2"/>
                          </a:lnTo>
                          <a:lnTo>
                            <a:pt x="16" y="25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4272840" y="2594520"/>
                      <a:ext cx="327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5">
                          <a:moveTo>
                            <a:pt x="0" y="0"/>
                          </a:moveTo>
                          <a:lnTo>
                            <a:pt x="16" y="2"/>
                          </a:lnTo>
                          <a:lnTo>
                            <a:pt x="16" y="24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4216680" y="2631600"/>
                    <a:ext cx="88920" cy="47160"/>
                    <a:chOff x="4216680" y="2631600"/>
                    <a:chExt cx="88920" cy="4716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>
                      <a:off x="4216680" y="2631600"/>
                      <a:ext cx="3276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6">
                          <a:moveTo>
                            <a:pt x="0" y="0"/>
                          </a:moveTo>
                          <a:lnTo>
                            <a:pt x="16" y="2"/>
                          </a:lnTo>
                          <a:lnTo>
                            <a:pt x="16" y="25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4243680" y="2638800"/>
                      <a:ext cx="327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5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24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4272840" y="2642760"/>
                      <a:ext cx="327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5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24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14" name=""/>
              <p:cNvGrpSpPr/>
              <p:nvPr/>
            </p:nvGrpSpPr>
            <p:grpSpPr>
              <a:xfrm>
                <a:off x="3438360" y="2319480"/>
                <a:ext cx="399600" cy="806760"/>
                <a:chOff x="3438360" y="2319480"/>
                <a:chExt cx="399600" cy="8067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3438360" y="2365920"/>
                  <a:ext cx="399600" cy="83880"/>
                </a:xfrm>
                <a:custGeom>
                  <a:avLst/>
                  <a:gdLst/>
                  <a:ahLst/>
                  <a:rect l="l" t="t" r="r" b="b"/>
                  <a:pathLst>
                    <a:path w="204" h="58">
                      <a:moveTo>
                        <a:pt x="0" y="34"/>
                      </a:moveTo>
                      <a:lnTo>
                        <a:pt x="115" y="57"/>
                      </a:lnTo>
                      <a:lnTo>
                        <a:pt x="203" y="17"/>
                      </a:lnTo>
                      <a:lnTo>
                        <a:pt x="96" y="0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439800" y="2419560"/>
                  <a:ext cx="227160" cy="705240"/>
                </a:xfrm>
                <a:custGeom>
                  <a:avLst/>
                  <a:gdLst/>
                  <a:ahLst/>
                  <a:rect l="l" t="t" r="r" b="b"/>
                  <a:pathLst>
                    <a:path w="116" h="485">
                      <a:moveTo>
                        <a:pt x="0" y="0"/>
                      </a:moveTo>
                      <a:lnTo>
                        <a:pt x="115" y="24"/>
                      </a:lnTo>
                      <a:lnTo>
                        <a:pt x="115" y="484"/>
                      </a:lnTo>
                      <a:lnTo>
                        <a:pt x="90" y="473"/>
                      </a:lnTo>
                      <a:lnTo>
                        <a:pt x="90" y="414"/>
                      </a:lnTo>
                      <a:lnTo>
                        <a:pt x="58" y="399"/>
                      </a:lnTo>
                      <a:lnTo>
                        <a:pt x="58" y="450"/>
                      </a:lnTo>
                      <a:lnTo>
                        <a:pt x="39" y="439"/>
                      </a:lnTo>
                      <a:lnTo>
                        <a:pt x="39" y="388"/>
                      </a:lnTo>
                      <a:lnTo>
                        <a:pt x="15" y="372"/>
                      </a:lnTo>
                      <a:lnTo>
                        <a:pt x="15" y="425"/>
                      </a:lnTo>
                      <a:lnTo>
                        <a:pt x="0" y="4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445920" y="2319480"/>
                  <a:ext cx="391320" cy="806760"/>
                  <a:chOff x="3445920" y="2319480"/>
                  <a:chExt cx="391320" cy="80676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669120" y="2391840"/>
                    <a:ext cx="168120" cy="73440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505">
                        <a:moveTo>
                          <a:pt x="0" y="42"/>
                        </a:moveTo>
                        <a:lnTo>
                          <a:pt x="84" y="0"/>
                        </a:lnTo>
                        <a:lnTo>
                          <a:pt x="85" y="389"/>
                        </a:lnTo>
                        <a:lnTo>
                          <a:pt x="0" y="504"/>
                        </a:lnTo>
                        <a:lnTo>
                          <a:pt x="0" y="42"/>
                        </a:lnTo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9" name=""/>
                  <p:cNvGrpSpPr/>
                  <p:nvPr/>
                </p:nvGrpSpPr>
                <p:grpSpPr>
                  <a:xfrm>
                    <a:off x="3555360" y="3002760"/>
                    <a:ext cx="72000" cy="72720"/>
                    <a:chOff x="3555360" y="3002760"/>
                    <a:chExt cx="72000" cy="72720"/>
                  </a:xfrm>
                </p:grpSpPr>
                <p:sp>
                  <p:nvSpPr>
                    <p:cNvPr id="620" name=""/>
                    <p:cNvSpPr/>
                    <p:nvPr/>
                  </p:nvSpPr>
                  <p:spPr>
                    <a:xfrm>
                      <a:off x="3594240" y="3017160"/>
                      <a:ext cx="3312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4">
                          <a:moveTo>
                            <a:pt x="0" y="0"/>
                          </a:moveTo>
                          <a:lnTo>
                            <a:pt x="0" y="24"/>
                          </a:lnTo>
                          <a:lnTo>
                            <a:pt x="16" y="33"/>
                          </a:lnTo>
                          <a:lnTo>
                            <a:pt x="16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3555360" y="3002760"/>
                      <a:ext cx="34920" cy="7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0">
                          <a:moveTo>
                            <a:pt x="0" y="0"/>
                          </a:moveTo>
                          <a:lnTo>
                            <a:pt x="0" y="49"/>
                          </a:lnTo>
                          <a:lnTo>
                            <a:pt x="17" y="34"/>
                          </a:lnTo>
                          <a:lnTo>
                            <a:pt x="17" y="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3467520" y="2963520"/>
                    <a:ext cx="72000" cy="75240"/>
                    <a:chOff x="3467520" y="2963520"/>
                    <a:chExt cx="72000" cy="75240"/>
                  </a:xfrm>
                </p:grpSpPr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3506400" y="2979360"/>
                      <a:ext cx="3312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4">
                          <a:moveTo>
                            <a:pt x="0" y="0"/>
                          </a:moveTo>
                          <a:lnTo>
                            <a:pt x="0" y="25"/>
                          </a:lnTo>
                          <a:lnTo>
                            <a:pt x="16" y="33"/>
                          </a:lnTo>
                          <a:lnTo>
                            <a:pt x="16" y="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3467520" y="2963520"/>
                      <a:ext cx="3672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52">
                          <a:moveTo>
                            <a:pt x="0" y="0"/>
                          </a:moveTo>
                          <a:lnTo>
                            <a:pt x="0" y="51"/>
                          </a:lnTo>
                          <a:lnTo>
                            <a:pt x="18" y="36"/>
                          </a:lnTo>
                          <a:lnTo>
                            <a:pt x="18" y="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5" name=""/>
                  <p:cNvGrpSpPr/>
                  <p:nvPr/>
                </p:nvGrpSpPr>
                <p:grpSpPr>
                  <a:xfrm>
                    <a:off x="3445920" y="2433960"/>
                    <a:ext cx="207000" cy="558000"/>
                    <a:chOff x="3445920" y="2433960"/>
                    <a:chExt cx="207000" cy="558000"/>
                  </a:xfrm>
                </p:grpSpPr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3453840" y="2435040"/>
                      <a:ext cx="183600" cy="55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383">
                          <a:moveTo>
                            <a:pt x="0" y="0"/>
                          </a:moveTo>
                          <a:lnTo>
                            <a:pt x="93" y="19"/>
                          </a:lnTo>
                          <a:lnTo>
                            <a:pt x="93" y="382"/>
                          </a:lnTo>
                          <a:lnTo>
                            <a:pt x="0" y="33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27" name=""/>
                    <p:cNvGrpSpPr/>
                    <p:nvPr/>
                  </p:nvGrpSpPr>
                  <p:grpSpPr>
                    <a:xfrm>
                      <a:off x="3445920" y="2433960"/>
                      <a:ext cx="207000" cy="550440"/>
                      <a:chOff x="3445920" y="2433960"/>
                      <a:chExt cx="207000" cy="550440"/>
                    </a:xfrm>
                  </p:grpSpPr>
                  <p:sp>
                    <p:nvSpPr>
                      <p:cNvPr id="628" name=""/>
                      <p:cNvSpPr/>
                      <p:nvPr/>
                    </p:nvSpPr>
                    <p:spPr>
                      <a:xfrm>
                        <a:off x="3448080" y="2856600"/>
                        <a:ext cx="204840" cy="66600"/>
                      </a:xfrm>
                      <a:prstGeom prst="line">
                        <a:avLst/>
                      </a:prstGeom>
                      <a:ln w="1260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800" bIns="19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9" name=""/>
                      <p:cNvSpPr/>
                      <p:nvPr/>
                    </p:nvSpPr>
                    <p:spPr>
                      <a:xfrm>
                        <a:off x="3445920" y="2785680"/>
                        <a:ext cx="204840" cy="57960"/>
                      </a:xfrm>
                      <a:prstGeom prst="line">
                        <a:avLst/>
                      </a:prstGeom>
                      <a:ln w="1260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160" bIns="11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"/>
                      <p:cNvSpPr/>
                      <p:nvPr/>
                    </p:nvSpPr>
                    <p:spPr>
                      <a:xfrm>
                        <a:off x="3453840" y="2712960"/>
                        <a:ext cx="199080" cy="50760"/>
                      </a:xfrm>
                      <a:prstGeom prst="line">
                        <a:avLst/>
                      </a:prstGeom>
                      <a:ln w="1260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1" name=""/>
                      <p:cNvSpPr/>
                      <p:nvPr/>
                    </p:nvSpPr>
                    <p:spPr>
                      <a:xfrm>
                        <a:off x="3449880" y="2637000"/>
                        <a:ext cx="200880" cy="46440"/>
                      </a:xfrm>
                      <a:prstGeom prst="line">
                        <a:avLst/>
                      </a:prstGeom>
                      <a:ln w="1260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" bIns="-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2" name=""/>
                      <p:cNvSpPr/>
                      <p:nvPr/>
                    </p:nvSpPr>
                    <p:spPr>
                      <a:xfrm>
                        <a:off x="3455640" y="2564640"/>
                        <a:ext cx="195120" cy="38880"/>
                      </a:xfrm>
                      <a:prstGeom prst="line">
                        <a:avLst/>
                      </a:prstGeom>
                      <a:ln w="1260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3" name=""/>
                      <p:cNvSpPr/>
                      <p:nvPr/>
                    </p:nvSpPr>
                    <p:spPr>
                      <a:xfrm>
                        <a:off x="3445920" y="2499120"/>
                        <a:ext cx="200880" cy="31680"/>
                      </a:xfrm>
                      <a:prstGeom prst="line">
                        <a:avLst/>
                      </a:prstGeom>
                      <a:ln w="1260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4" name=""/>
                      <p:cNvSpPr/>
                      <p:nvPr/>
                    </p:nvSpPr>
                    <p:spPr>
                      <a:xfrm>
                        <a:off x="3496680" y="2433960"/>
                        <a:ext cx="0" cy="514440"/>
                      </a:xfrm>
                      <a:prstGeom prst="line">
                        <a:avLst/>
                      </a:prstGeom>
                      <a:ln w="1260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5" name=""/>
                      <p:cNvSpPr/>
                      <p:nvPr/>
                    </p:nvSpPr>
                    <p:spPr>
                      <a:xfrm>
                        <a:off x="3543480" y="2444040"/>
                        <a:ext cx="0" cy="524520"/>
                      </a:xfrm>
                      <a:prstGeom prst="line">
                        <a:avLst/>
                      </a:prstGeom>
                      <a:ln w="1260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6" name=""/>
                      <p:cNvSpPr/>
                      <p:nvPr/>
                    </p:nvSpPr>
                    <p:spPr>
                      <a:xfrm>
                        <a:off x="3592440" y="2451240"/>
                        <a:ext cx="0" cy="533160"/>
                      </a:xfrm>
                      <a:prstGeom prst="line">
                        <a:avLst/>
                      </a:prstGeom>
                      <a:ln w="1260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3526200" y="2319480"/>
                    <a:ext cx="236520" cy="106920"/>
                    <a:chOff x="3526200" y="2319480"/>
                    <a:chExt cx="236520" cy="106920"/>
                  </a:xfrm>
                </p:grpSpPr>
                <p:grpSp>
                  <p:nvGrpSpPr>
                    <p:cNvPr id="638" name=""/>
                    <p:cNvGrpSpPr/>
                    <p:nvPr/>
                  </p:nvGrpSpPr>
                  <p:grpSpPr>
                    <a:xfrm>
                      <a:off x="3526200" y="2319480"/>
                      <a:ext cx="236520" cy="106920"/>
                      <a:chOff x="3526200" y="2319480"/>
                      <a:chExt cx="236520" cy="106920"/>
                    </a:xfrm>
                  </p:grpSpPr>
                  <p:sp>
                    <p:nvSpPr>
                      <p:cNvPr id="639" name=""/>
                      <p:cNvSpPr/>
                      <p:nvPr/>
                    </p:nvSpPr>
                    <p:spPr>
                      <a:xfrm>
                        <a:off x="3526200" y="2319480"/>
                        <a:ext cx="23652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1" h="26">
                            <a:moveTo>
                              <a:pt x="0" y="16"/>
                            </a:moveTo>
                            <a:lnTo>
                              <a:pt x="70" y="25"/>
                            </a:lnTo>
                            <a:lnTo>
                              <a:pt x="120" y="8"/>
                            </a:lnTo>
                            <a:lnTo>
                              <a:pt x="52" y="0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df3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0" name=""/>
                      <p:cNvSpPr/>
                      <p:nvPr/>
                    </p:nvSpPr>
                    <p:spPr>
                      <a:xfrm>
                        <a:off x="3666600" y="2332080"/>
                        <a:ext cx="93960" cy="9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4">
                            <a:moveTo>
                              <a:pt x="0" y="19"/>
                            </a:moveTo>
                            <a:lnTo>
                              <a:pt x="47" y="0"/>
                            </a:lnTo>
                            <a:lnTo>
                              <a:pt x="47" y="39"/>
                            </a:lnTo>
                            <a:lnTo>
                              <a:pt x="0" y="63"/>
                            </a:lnTo>
                            <a:lnTo>
                              <a:pt x="0" y="19"/>
                            </a:lnTo>
                          </a:path>
                        </a:pathLst>
                      </a:custGeom>
                      <a:solidFill>
                        <a:srgbClr val="df1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1" name=""/>
                      <p:cNvSpPr/>
                      <p:nvPr/>
                    </p:nvSpPr>
                    <p:spPr>
                      <a:xfrm>
                        <a:off x="3526200" y="2348280"/>
                        <a:ext cx="136800" cy="7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54">
                            <a:moveTo>
                              <a:pt x="69" y="9"/>
                            </a:moveTo>
                            <a:lnTo>
                              <a:pt x="69" y="53"/>
                            </a:lnTo>
                            <a:lnTo>
                              <a:pt x="0" y="41"/>
                            </a:lnTo>
                            <a:lnTo>
                              <a:pt x="0" y="0"/>
                            </a:lnTo>
                            <a:lnTo>
                              <a:pt x="69" y="9"/>
                            </a:lnTo>
                          </a:path>
                        </a:pathLst>
                      </a:custGeom>
                      <a:solidFill>
                        <a:srgbClr val="ff5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320" bIns="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3543840" y="2362680"/>
                      <a:ext cx="7812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17">
                          <a:moveTo>
                            <a:pt x="0" y="0"/>
                          </a:moveTo>
                          <a:lnTo>
                            <a:pt x="39" y="6"/>
                          </a:lnTo>
                          <a:lnTo>
                            <a:pt x="39" y="16"/>
                          </a:lnTo>
                          <a:lnTo>
                            <a:pt x="0" y="1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43" name=""/>
              <p:cNvGrpSpPr/>
              <p:nvPr/>
            </p:nvGrpSpPr>
            <p:grpSpPr>
              <a:xfrm>
                <a:off x="3702960" y="2576880"/>
                <a:ext cx="381960" cy="644760"/>
                <a:chOff x="3702960" y="2576880"/>
                <a:chExt cx="381960" cy="644760"/>
              </a:xfrm>
            </p:grpSpPr>
            <p:grpSp>
              <p:nvGrpSpPr>
                <p:cNvPr id="644" name=""/>
                <p:cNvGrpSpPr/>
                <p:nvPr/>
              </p:nvGrpSpPr>
              <p:grpSpPr>
                <a:xfrm>
                  <a:off x="3702960" y="2576880"/>
                  <a:ext cx="381960" cy="644760"/>
                  <a:chOff x="3702960" y="2576880"/>
                  <a:chExt cx="381960" cy="64476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3702960" y="2586960"/>
                    <a:ext cx="38196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17">
                        <a:moveTo>
                          <a:pt x="0" y="85"/>
                        </a:moveTo>
                        <a:lnTo>
                          <a:pt x="93" y="116"/>
                        </a:lnTo>
                        <a:lnTo>
                          <a:pt x="194" y="21"/>
                        </a:lnTo>
                        <a:lnTo>
                          <a:pt x="112" y="0"/>
                        </a:lnTo>
                        <a:lnTo>
                          <a:pt x="0" y="85"/>
                        </a:lnTo>
                      </a:path>
                    </a:pathLst>
                  </a:custGeom>
                  <a:solidFill>
                    <a:srgbClr val="df9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702960" y="2715120"/>
                    <a:ext cx="183960" cy="50652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348">
                        <a:moveTo>
                          <a:pt x="0" y="0"/>
                        </a:moveTo>
                        <a:lnTo>
                          <a:pt x="93" y="32"/>
                        </a:lnTo>
                        <a:lnTo>
                          <a:pt x="93" y="347"/>
                        </a:lnTo>
                        <a:lnTo>
                          <a:pt x="0" y="29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3886920" y="2617560"/>
                    <a:ext cx="195840" cy="60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415">
                        <a:moveTo>
                          <a:pt x="0" y="97"/>
                        </a:moveTo>
                        <a:lnTo>
                          <a:pt x="0" y="414"/>
                        </a:lnTo>
                        <a:lnTo>
                          <a:pt x="99" y="264"/>
                        </a:lnTo>
                        <a:lnTo>
                          <a:pt x="99" y="0"/>
                        </a:lnTo>
                        <a:lnTo>
                          <a:pt x="0" y="97"/>
                        </a:lnTo>
                      </a:path>
                    </a:pathLst>
                  </a:custGeom>
                  <a:solidFill>
                    <a:srgbClr val="9f3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3751560" y="2576880"/>
                    <a:ext cx="287640" cy="153720"/>
                    <a:chOff x="3751560" y="2576880"/>
                    <a:chExt cx="287640" cy="15372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3751560" y="2576880"/>
                      <a:ext cx="287640" cy="12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87">
                          <a:moveTo>
                            <a:pt x="0" y="64"/>
                          </a:moveTo>
                          <a:lnTo>
                            <a:pt x="66" y="86"/>
                          </a:lnTo>
                          <a:lnTo>
                            <a:pt x="146" y="14"/>
                          </a:lnTo>
                          <a:lnTo>
                            <a:pt x="87" y="0"/>
                          </a:lnTo>
                          <a:lnTo>
                            <a:pt x="0" y="64"/>
                          </a:lnTo>
                        </a:path>
                      </a:pathLst>
                    </a:custGeom>
                    <a:solidFill>
                      <a:srgbClr val="df9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3884760" y="2598480"/>
                      <a:ext cx="154440" cy="13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91">
                          <a:moveTo>
                            <a:pt x="0" y="72"/>
                          </a:moveTo>
                          <a:lnTo>
                            <a:pt x="78" y="0"/>
                          </a:lnTo>
                          <a:lnTo>
                            <a:pt x="78" y="16"/>
                          </a:lnTo>
                          <a:lnTo>
                            <a:pt x="0" y="90"/>
                          </a:lnTo>
                          <a:lnTo>
                            <a:pt x="0" y="72"/>
                          </a:lnTo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3751560" y="2674080"/>
                      <a:ext cx="12924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9">
                          <a:moveTo>
                            <a:pt x="65" y="19"/>
                          </a:moveTo>
                          <a:lnTo>
                            <a:pt x="65" y="38"/>
                          </a:lnTo>
                          <a:lnTo>
                            <a:pt x="0" y="17"/>
                          </a:lnTo>
                          <a:lnTo>
                            <a:pt x="0" y="0"/>
                          </a:lnTo>
                          <a:lnTo>
                            <a:pt x="65" y="19"/>
                          </a:lnTo>
                        </a:path>
                      </a:pathLst>
                    </a:cu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3714480" y="2730960"/>
                  <a:ext cx="160560" cy="468000"/>
                  <a:chOff x="3714480" y="2730960"/>
                  <a:chExt cx="160560" cy="46800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>
                    <a:off x="3714480" y="2730960"/>
                    <a:ext cx="160560" cy="46800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322">
                        <a:moveTo>
                          <a:pt x="0" y="0"/>
                        </a:moveTo>
                        <a:lnTo>
                          <a:pt x="81" y="28"/>
                        </a:lnTo>
                        <a:lnTo>
                          <a:pt x="81" y="321"/>
                        </a:lnTo>
                        <a:lnTo>
                          <a:pt x="0" y="27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737880" y="2738160"/>
                    <a:ext cx="33120" cy="41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3">
                        <a:moveTo>
                          <a:pt x="0" y="0"/>
                        </a:moveTo>
                        <a:lnTo>
                          <a:pt x="0" y="277"/>
                        </a:lnTo>
                        <a:lnTo>
                          <a:pt x="16" y="282"/>
                        </a:lnTo>
                        <a:lnTo>
                          <a:pt x="16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3783240" y="2746440"/>
                    <a:ext cx="33120" cy="42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90">
                        <a:moveTo>
                          <a:pt x="0" y="0"/>
                        </a:moveTo>
                        <a:lnTo>
                          <a:pt x="0" y="283"/>
                        </a:lnTo>
                        <a:lnTo>
                          <a:pt x="16" y="289"/>
                        </a:lnTo>
                        <a:lnTo>
                          <a:pt x="16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3832200" y="2761200"/>
                    <a:ext cx="33120" cy="42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92">
                        <a:moveTo>
                          <a:pt x="0" y="0"/>
                        </a:moveTo>
                        <a:lnTo>
                          <a:pt x="0" y="285"/>
                        </a:lnTo>
                        <a:lnTo>
                          <a:pt x="16" y="291"/>
                        </a:lnTo>
                        <a:lnTo>
                          <a:pt x="16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7" name=""/>
              <p:cNvGrpSpPr/>
              <p:nvPr/>
            </p:nvGrpSpPr>
            <p:grpSpPr>
              <a:xfrm>
                <a:off x="3971880" y="2607480"/>
                <a:ext cx="354240" cy="753120"/>
                <a:chOff x="3971880" y="2607480"/>
                <a:chExt cx="354240" cy="753120"/>
              </a:xfrm>
            </p:grpSpPr>
            <p:grpSp>
              <p:nvGrpSpPr>
                <p:cNvPr id="658" name=""/>
                <p:cNvGrpSpPr/>
                <p:nvPr/>
              </p:nvGrpSpPr>
              <p:grpSpPr>
                <a:xfrm>
                  <a:off x="3971880" y="2607480"/>
                  <a:ext cx="354240" cy="753120"/>
                  <a:chOff x="3971880" y="2607480"/>
                  <a:chExt cx="354240" cy="753120"/>
                </a:xfrm>
              </p:grpSpPr>
              <p:grpSp>
                <p:nvGrpSpPr>
                  <p:cNvPr id="659" name=""/>
                  <p:cNvGrpSpPr/>
                  <p:nvPr/>
                </p:nvGrpSpPr>
                <p:grpSpPr>
                  <a:xfrm>
                    <a:off x="4010760" y="3179160"/>
                    <a:ext cx="273960" cy="181440"/>
                    <a:chOff x="4010760" y="3179160"/>
                    <a:chExt cx="273960" cy="181440"/>
                  </a:xfrm>
                </p:grpSpPr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4010760" y="3250080"/>
                      <a:ext cx="172080" cy="11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76">
                          <a:moveTo>
                            <a:pt x="0" y="0"/>
                          </a:moveTo>
                          <a:lnTo>
                            <a:pt x="0" y="22"/>
                          </a:lnTo>
                          <a:lnTo>
                            <a:pt x="87" y="75"/>
                          </a:lnTo>
                          <a:lnTo>
                            <a:pt x="87" y="5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1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4188600" y="3179160"/>
                      <a:ext cx="9612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125">
                          <a:moveTo>
                            <a:pt x="0" y="99"/>
                          </a:moveTo>
                          <a:lnTo>
                            <a:pt x="0" y="124"/>
                          </a:lnTo>
                          <a:lnTo>
                            <a:pt x="48" y="20"/>
                          </a:lnTo>
                          <a:lnTo>
                            <a:pt x="48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001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2" name=""/>
                  <p:cNvSpPr/>
                  <p:nvPr/>
                </p:nvSpPr>
                <p:spPr>
                  <a:xfrm>
                    <a:off x="3971880" y="3055320"/>
                    <a:ext cx="354240" cy="28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93">
                        <a:moveTo>
                          <a:pt x="0" y="121"/>
                        </a:moveTo>
                        <a:lnTo>
                          <a:pt x="119" y="192"/>
                        </a:lnTo>
                        <a:lnTo>
                          <a:pt x="180" y="64"/>
                        </a:lnTo>
                        <a:lnTo>
                          <a:pt x="65" y="0"/>
                        </a:lnTo>
                        <a:lnTo>
                          <a:pt x="0" y="121"/>
                        </a:lnTo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003200" y="2876040"/>
                    <a:ext cx="27972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109">
                        <a:moveTo>
                          <a:pt x="93" y="108"/>
                        </a:moveTo>
                        <a:lnTo>
                          <a:pt x="142" y="36"/>
                        </a:lnTo>
                        <a:lnTo>
                          <a:pt x="53" y="0"/>
                        </a:lnTo>
                        <a:lnTo>
                          <a:pt x="0" y="69"/>
                        </a:lnTo>
                        <a:lnTo>
                          <a:pt x="93" y="108"/>
                        </a:lnTo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145760" y="2608560"/>
                    <a:ext cx="92160" cy="18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8">
                        <a:moveTo>
                          <a:pt x="0" y="0"/>
                        </a:moveTo>
                        <a:lnTo>
                          <a:pt x="11" y="127"/>
                        </a:lnTo>
                        <a:lnTo>
                          <a:pt x="46" y="8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057920" y="2607480"/>
                    <a:ext cx="1054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29">
                        <a:moveTo>
                          <a:pt x="41" y="0"/>
                        </a:moveTo>
                        <a:lnTo>
                          <a:pt x="53" y="128"/>
                        </a:lnTo>
                        <a:lnTo>
                          <a:pt x="0" y="114"/>
                        </a:lnTo>
                        <a:lnTo>
                          <a:pt x="41" y="0"/>
                        </a:lnTo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057920" y="2780280"/>
                    <a:ext cx="10548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57">
                        <a:moveTo>
                          <a:pt x="0" y="0"/>
                        </a:moveTo>
                        <a:lnTo>
                          <a:pt x="53" y="13"/>
                        </a:lnTo>
                        <a:lnTo>
                          <a:pt x="53" y="156"/>
                        </a:lnTo>
                        <a:lnTo>
                          <a:pt x="0" y="13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4169520" y="2735280"/>
                    <a:ext cx="68760" cy="27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88">
                        <a:moveTo>
                          <a:pt x="0" y="42"/>
                        </a:moveTo>
                        <a:lnTo>
                          <a:pt x="34" y="0"/>
                        </a:lnTo>
                        <a:lnTo>
                          <a:pt x="34" y="134"/>
                        </a:lnTo>
                        <a:lnTo>
                          <a:pt x="0" y="187"/>
                        </a:lnTo>
                        <a:lnTo>
                          <a:pt x="0" y="42"/>
                        </a:lnTo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4003200" y="2981160"/>
                    <a:ext cx="1796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211">
                        <a:moveTo>
                          <a:pt x="0" y="0"/>
                        </a:moveTo>
                        <a:lnTo>
                          <a:pt x="91" y="39"/>
                        </a:lnTo>
                        <a:lnTo>
                          <a:pt x="91" y="210"/>
                        </a:lnTo>
                        <a:lnTo>
                          <a:pt x="0" y="15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4187160" y="2932920"/>
                    <a:ext cx="93960" cy="354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44">
                        <a:moveTo>
                          <a:pt x="0" y="72"/>
                        </a:moveTo>
                        <a:lnTo>
                          <a:pt x="47" y="0"/>
                        </a:lnTo>
                        <a:lnTo>
                          <a:pt x="47" y="145"/>
                        </a:lnTo>
                        <a:lnTo>
                          <a:pt x="0" y="243"/>
                        </a:lnTo>
                        <a:lnTo>
                          <a:pt x="0" y="72"/>
                        </a:lnTo>
                      </a:path>
                    </a:pathLst>
                  </a:custGeom>
                  <a:solidFill>
                    <a:srgbClr val="001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4038480" y="2803680"/>
                  <a:ext cx="113040" cy="431280"/>
                  <a:chOff x="4038480" y="2803680"/>
                  <a:chExt cx="113040" cy="431280"/>
                </a:xfrm>
              </p:grpSpPr>
              <p:grpSp>
                <p:nvGrpSpPr>
                  <p:cNvPr id="671" name=""/>
                  <p:cNvGrpSpPr/>
                  <p:nvPr/>
                </p:nvGrpSpPr>
                <p:grpSpPr>
                  <a:xfrm>
                    <a:off x="4092840" y="2803680"/>
                    <a:ext cx="58680" cy="126000"/>
                    <a:chOff x="4092840" y="2803680"/>
                    <a:chExt cx="58680" cy="126000"/>
                  </a:xfrm>
                </p:grpSpPr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4100760" y="2804760"/>
                      <a:ext cx="30960" cy="11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69033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690334"/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4092840" y="2803680"/>
                      <a:ext cx="31320" cy="11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79" y="9493"/>
                          </a:moveTo>
                          <a:arcTo wR="10800" hR="10800" stAng="-10382823" swAng="498282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79" y="9493"/>
                          </a:moveTo>
                          <a:arcTo wR="10800" hR="10800" stAng="-10382823" swAng="4982823"/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4095000" y="2867400"/>
                      <a:ext cx="331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9">
                          <a:moveTo>
                            <a:pt x="0" y="0"/>
                          </a:moveTo>
                          <a:lnTo>
                            <a:pt x="0" y="34"/>
                          </a:lnTo>
                          <a:lnTo>
                            <a:pt x="16" y="38"/>
                          </a:lnTo>
                          <a:lnTo>
                            <a:pt x="16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4118400" y="2874600"/>
                      <a:ext cx="3312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8">
                          <a:moveTo>
                            <a:pt x="0" y="0"/>
                          </a:moveTo>
                          <a:lnTo>
                            <a:pt x="0" y="34"/>
                          </a:lnTo>
                          <a:lnTo>
                            <a:pt x="16" y="37"/>
                          </a:lnTo>
                          <a:lnTo>
                            <a:pt x="16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4038480" y="3047760"/>
                    <a:ext cx="110880" cy="187200"/>
                    <a:chOff x="4038480" y="3047760"/>
                    <a:chExt cx="110880" cy="18720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4038480" y="3114360"/>
                      <a:ext cx="11088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83">
                          <a:moveTo>
                            <a:pt x="0" y="0"/>
                          </a:moveTo>
                          <a:lnTo>
                            <a:pt x="0" y="51"/>
                          </a:lnTo>
                          <a:lnTo>
                            <a:pt x="56" y="82"/>
                          </a:lnTo>
                          <a:lnTo>
                            <a:pt x="56" y="3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4039920" y="3047760"/>
                      <a:ext cx="103320" cy="8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61">
                          <a:moveTo>
                            <a:pt x="0" y="0"/>
                          </a:moveTo>
                          <a:lnTo>
                            <a:pt x="0" y="34"/>
                          </a:lnTo>
                          <a:lnTo>
                            <a:pt x="52" y="60"/>
                          </a:lnTo>
                          <a:lnTo>
                            <a:pt x="52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679" name=""/>
            <p:cNvGrpSpPr/>
            <p:nvPr/>
          </p:nvGrpSpPr>
          <p:grpSpPr>
            <a:xfrm>
              <a:off x="2896920" y="4235760"/>
              <a:ext cx="2070360" cy="1314720"/>
              <a:chOff x="2896920" y="4235760"/>
              <a:chExt cx="2070360" cy="1314720"/>
            </a:xfrm>
          </p:grpSpPr>
          <p:sp>
            <p:nvSpPr>
              <p:cNvPr id="680" name=""/>
              <p:cNvSpPr/>
              <p:nvPr/>
            </p:nvSpPr>
            <p:spPr>
              <a:xfrm>
                <a:off x="2896920" y="4235760"/>
                <a:ext cx="2070360" cy="1314720"/>
              </a:xfrm>
              <a:custGeom>
                <a:avLst/>
                <a:gdLst/>
                <a:ahLst/>
                <a:rect l="l" t="t" r="r" b="b"/>
                <a:pathLst>
                  <a:path w="1055" h="903">
                    <a:moveTo>
                      <a:pt x="0" y="44"/>
                    </a:moveTo>
                    <a:lnTo>
                      <a:pt x="0" y="849"/>
                    </a:lnTo>
                    <a:lnTo>
                      <a:pt x="0" y="855"/>
                    </a:lnTo>
                    <a:lnTo>
                      <a:pt x="1" y="862"/>
                    </a:lnTo>
                    <a:lnTo>
                      <a:pt x="4" y="867"/>
                    </a:lnTo>
                    <a:lnTo>
                      <a:pt x="7" y="871"/>
                    </a:lnTo>
                    <a:lnTo>
                      <a:pt x="10" y="876"/>
                    </a:lnTo>
                    <a:lnTo>
                      <a:pt x="14" y="879"/>
                    </a:lnTo>
                    <a:lnTo>
                      <a:pt x="18" y="882"/>
                    </a:lnTo>
                    <a:lnTo>
                      <a:pt x="23" y="882"/>
                    </a:lnTo>
                    <a:lnTo>
                      <a:pt x="248" y="897"/>
                    </a:lnTo>
                    <a:lnTo>
                      <a:pt x="527" y="902"/>
                    </a:lnTo>
                    <a:lnTo>
                      <a:pt x="786" y="897"/>
                    </a:lnTo>
                    <a:lnTo>
                      <a:pt x="1026" y="882"/>
                    </a:lnTo>
                    <a:lnTo>
                      <a:pt x="1034" y="882"/>
                    </a:lnTo>
                    <a:lnTo>
                      <a:pt x="1042" y="878"/>
                    </a:lnTo>
                    <a:lnTo>
                      <a:pt x="1046" y="873"/>
                    </a:lnTo>
                    <a:lnTo>
                      <a:pt x="1050" y="867"/>
                    </a:lnTo>
                    <a:lnTo>
                      <a:pt x="1054" y="857"/>
                    </a:lnTo>
                    <a:lnTo>
                      <a:pt x="1054" y="850"/>
                    </a:lnTo>
                    <a:lnTo>
                      <a:pt x="1054" y="844"/>
                    </a:lnTo>
                    <a:lnTo>
                      <a:pt x="1054" y="44"/>
                    </a:lnTo>
                    <a:lnTo>
                      <a:pt x="1054" y="35"/>
                    </a:lnTo>
                    <a:lnTo>
                      <a:pt x="1050" y="27"/>
                    </a:lnTo>
                    <a:lnTo>
                      <a:pt x="1045" y="20"/>
                    </a:lnTo>
                    <a:lnTo>
                      <a:pt x="1038" y="15"/>
                    </a:lnTo>
                    <a:lnTo>
                      <a:pt x="1031" y="13"/>
                    </a:lnTo>
                    <a:lnTo>
                      <a:pt x="1024" y="13"/>
                    </a:lnTo>
                    <a:lnTo>
                      <a:pt x="778" y="2"/>
                    </a:lnTo>
                    <a:lnTo>
                      <a:pt x="527" y="0"/>
                    </a:lnTo>
                    <a:lnTo>
                      <a:pt x="271" y="4"/>
                    </a:lnTo>
                    <a:lnTo>
                      <a:pt x="31" y="13"/>
                    </a:lnTo>
                    <a:lnTo>
                      <a:pt x="26" y="13"/>
                    </a:lnTo>
                    <a:lnTo>
                      <a:pt x="19" y="14"/>
                    </a:lnTo>
                    <a:lnTo>
                      <a:pt x="14" y="16"/>
                    </a:lnTo>
                    <a:lnTo>
                      <a:pt x="8" y="20"/>
                    </a:lnTo>
                    <a:lnTo>
                      <a:pt x="5" y="25"/>
                    </a:lnTo>
                    <a:lnTo>
                      <a:pt x="2" y="31"/>
                    </a:lnTo>
                    <a:lnTo>
                      <a:pt x="0" y="37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ffcc00"/>
              </a:solidFill>
              <a:ln cap="rnd" w="12600">
                <a:solidFill>
                  <a:srgbClr val="dadad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1" name=""/>
              <p:cNvGrpSpPr/>
              <p:nvPr/>
            </p:nvGrpSpPr>
            <p:grpSpPr>
              <a:xfrm>
                <a:off x="3095280" y="4374000"/>
                <a:ext cx="1671480" cy="1029240"/>
                <a:chOff x="3095280" y="4374000"/>
                <a:chExt cx="1671480" cy="102924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3095280" y="4374000"/>
                  <a:ext cx="1671480" cy="1029240"/>
                </a:xfrm>
                <a:custGeom>
                  <a:avLst/>
                  <a:gdLst/>
                  <a:ahLst/>
                  <a:rect l="l" t="t" r="r" b="b"/>
                  <a:pathLst>
                    <a:path w="852" h="707">
                      <a:moveTo>
                        <a:pt x="0" y="35"/>
                      </a:moveTo>
                      <a:lnTo>
                        <a:pt x="0" y="664"/>
                      </a:lnTo>
                      <a:lnTo>
                        <a:pt x="0" y="670"/>
                      </a:lnTo>
                      <a:lnTo>
                        <a:pt x="2" y="674"/>
                      </a:lnTo>
                      <a:lnTo>
                        <a:pt x="3" y="678"/>
                      </a:lnTo>
                      <a:lnTo>
                        <a:pt x="6" y="682"/>
                      </a:lnTo>
                      <a:lnTo>
                        <a:pt x="8" y="686"/>
                      </a:lnTo>
                      <a:lnTo>
                        <a:pt x="11" y="688"/>
                      </a:lnTo>
                      <a:lnTo>
                        <a:pt x="15" y="690"/>
                      </a:lnTo>
                      <a:lnTo>
                        <a:pt x="19" y="690"/>
                      </a:lnTo>
                      <a:lnTo>
                        <a:pt x="201" y="702"/>
                      </a:lnTo>
                      <a:lnTo>
                        <a:pt x="425" y="706"/>
                      </a:lnTo>
                      <a:lnTo>
                        <a:pt x="635" y="702"/>
                      </a:lnTo>
                      <a:lnTo>
                        <a:pt x="829" y="690"/>
                      </a:lnTo>
                      <a:lnTo>
                        <a:pt x="835" y="690"/>
                      </a:lnTo>
                      <a:lnTo>
                        <a:pt x="841" y="687"/>
                      </a:lnTo>
                      <a:lnTo>
                        <a:pt x="845" y="683"/>
                      </a:lnTo>
                      <a:lnTo>
                        <a:pt x="848" y="678"/>
                      </a:lnTo>
                      <a:lnTo>
                        <a:pt x="851" y="670"/>
                      </a:lnTo>
                      <a:lnTo>
                        <a:pt x="851" y="666"/>
                      </a:lnTo>
                      <a:lnTo>
                        <a:pt x="851" y="660"/>
                      </a:lnTo>
                      <a:lnTo>
                        <a:pt x="851" y="35"/>
                      </a:lnTo>
                      <a:lnTo>
                        <a:pt x="851" y="28"/>
                      </a:lnTo>
                      <a:lnTo>
                        <a:pt x="847" y="21"/>
                      </a:lnTo>
                      <a:lnTo>
                        <a:pt x="843" y="16"/>
                      </a:lnTo>
                      <a:lnTo>
                        <a:pt x="839" y="12"/>
                      </a:lnTo>
                      <a:lnTo>
                        <a:pt x="833" y="11"/>
                      </a:lnTo>
                      <a:lnTo>
                        <a:pt x="827" y="11"/>
                      </a:lnTo>
                      <a:lnTo>
                        <a:pt x="629" y="2"/>
                      </a:lnTo>
                      <a:lnTo>
                        <a:pt x="425" y="0"/>
                      </a:lnTo>
                      <a:lnTo>
                        <a:pt x="219" y="3"/>
                      </a:lnTo>
                      <a:lnTo>
                        <a:pt x="26" y="11"/>
                      </a:lnTo>
                      <a:lnTo>
                        <a:pt x="21" y="11"/>
                      </a:lnTo>
                      <a:lnTo>
                        <a:pt x="16" y="11"/>
                      </a:lnTo>
                      <a:lnTo>
                        <a:pt x="12" y="14"/>
                      </a:lnTo>
                      <a:lnTo>
                        <a:pt x="7" y="16"/>
                      </a:lnTo>
                      <a:lnTo>
                        <a:pt x="5" y="20"/>
                      </a:lnTo>
                      <a:lnTo>
                        <a:pt x="2" y="24"/>
                      </a:lnTo>
                      <a:lnTo>
                        <a:pt x="0" y="29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102840" y="4889160"/>
                  <a:ext cx="1659960" cy="513720"/>
                </a:xfrm>
                <a:custGeom>
                  <a:avLst/>
                  <a:gdLst/>
                  <a:ahLst/>
                  <a:rect l="l" t="t" r="r" b="b"/>
                  <a:pathLst>
                    <a:path w="846" h="353">
                      <a:moveTo>
                        <a:pt x="0" y="324"/>
                      </a:moveTo>
                      <a:lnTo>
                        <a:pt x="2" y="328"/>
                      </a:lnTo>
                      <a:lnTo>
                        <a:pt x="4" y="332"/>
                      </a:lnTo>
                      <a:lnTo>
                        <a:pt x="7" y="334"/>
                      </a:lnTo>
                      <a:lnTo>
                        <a:pt x="11" y="336"/>
                      </a:lnTo>
                      <a:lnTo>
                        <a:pt x="15" y="336"/>
                      </a:lnTo>
                      <a:lnTo>
                        <a:pt x="197" y="348"/>
                      </a:lnTo>
                      <a:lnTo>
                        <a:pt x="422" y="352"/>
                      </a:lnTo>
                      <a:lnTo>
                        <a:pt x="631" y="348"/>
                      </a:lnTo>
                      <a:lnTo>
                        <a:pt x="825" y="336"/>
                      </a:lnTo>
                      <a:lnTo>
                        <a:pt x="831" y="336"/>
                      </a:lnTo>
                      <a:lnTo>
                        <a:pt x="837" y="333"/>
                      </a:lnTo>
                      <a:lnTo>
                        <a:pt x="841" y="329"/>
                      </a:lnTo>
                      <a:lnTo>
                        <a:pt x="845" y="324"/>
                      </a:lnTo>
                      <a:lnTo>
                        <a:pt x="422" y="0"/>
                      </a:lnTo>
                      <a:lnTo>
                        <a:pt x="0" y="32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105000" y="4374000"/>
                  <a:ext cx="1648080" cy="516600"/>
                </a:xfrm>
                <a:custGeom>
                  <a:avLst/>
                  <a:gdLst/>
                  <a:ahLst/>
                  <a:rect l="l" t="t" r="r" b="b"/>
                  <a:pathLst>
                    <a:path w="840" h="355">
                      <a:moveTo>
                        <a:pt x="421" y="354"/>
                      </a:moveTo>
                      <a:lnTo>
                        <a:pt x="839" y="16"/>
                      </a:lnTo>
                      <a:lnTo>
                        <a:pt x="833" y="12"/>
                      </a:lnTo>
                      <a:lnTo>
                        <a:pt x="828" y="11"/>
                      </a:lnTo>
                      <a:lnTo>
                        <a:pt x="822" y="11"/>
                      </a:lnTo>
                      <a:lnTo>
                        <a:pt x="624" y="2"/>
                      </a:lnTo>
                      <a:lnTo>
                        <a:pt x="421" y="0"/>
                      </a:lnTo>
                      <a:lnTo>
                        <a:pt x="214" y="4"/>
                      </a:lnTo>
                      <a:lnTo>
                        <a:pt x="21" y="11"/>
                      </a:lnTo>
                      <a:lnTo>
                        <a:pt x="16" y="11"/>
                      </a:lnTo>
                      <a:lnTo>
                        <a:pt x="11" y="11"/>
                      </a:lnTo>
                      <a:lnTo>
                        <a:pt x="7" y="13"/>
                      </a:lnTo>
                      <a:lnTo>
                        <a:pt x="2" y="16"/>
                      </a:lnTo>
                      <a:lnTo>
                        <a:pt x="0" y="20"/>
                      </a:lnTo>
                      <a:lnTo>
                        <a:pt x="421" y="35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150000" y="4407480"/>
                  <a:ext cx="1561680" cy="961920"/>
                </a:xfrm>
                <a:custGeom>
                  <a:avLst/>
                  <a:gdLst/>
                  <a:ahLst/>
                  <a:rect l="l" t="t" r="r" b="b"/>
                  <a:pathLst>
                    <a:path w="796" h="661">
                      <a:moveTo>
                        <a:pt x="0" y="32"/>
                      </a:moveTo>
                      <a:lnTo>
                        <a:pt x="0" y="621"/>
                      </a:lnTo>
                      <a:lnTo>
                        <a:pt x="0" y="626"/>
                      </a:lnTo>
                      <a:lnTo>
                        <a:pt x="1" y="631"/>
                      </a:lnTo>
                      <a:lnTo>
                        <a:pt x="3" y="635"/>
                      </a:lnTo>
                      <a:lnTo>
                        <a:pt x="5" y="638"/>
                      </a:lnTo>
                      <a:lnTo>
                        <a:pt x="7" y="641"/>
                      </a:lnTo>
                      <a:lnTo>
                        <a:pt x="11" y="644"/>
                      </a:lnTo>
                      <a:lnTo>
                        <a:pt x="14" y="645"/>
                      </a:lnTo>
                      <a:lnTo>
                        <a:pt x="17" y="646"/>
                      </a:lnTo>
                      <a:lnTo>
                        <a:pt x="187" y="656"/>
                      </a:lnTo>
                      <a:lnTo>
                        <a:pt x="397" y="660"/>
                      </a:lnTo>
                      <a:lnTo>
                        <a:pt x="593" y="656"/>
                      </a:lnTo>
                      <a:lnTo>
                        <a:pt x="775" y="646"/>
                      </a:lnTo>
                      <a:lnTo>
                        <a:pt x="780" y="645"/>
                      </a:lnTo>
                      <a:lnTo>
                        <a:pt x="786" y="643"/>
                      </a:lnTo>
                      <a:lnTo>
                        <a:pt x="790" y="639"/>
                      </a:lnTo>
                      <a:lnTo>
                        <a:pt x="793" y="635"/>
                      </a:lnTo>
                      <a:lnTo>
                        <a:pt x="795" y="627"/>
                      </a:lnTo>
                      <a:lnTo>
                        <a:pt x="795" y="623"/>
                      </a:lnTo>
                      <a:lnTo>
                        <a:pt x="795" y="617"/>
                      </a:lnTo>
                      <a:lnTo>
                        <a:pt x="795" y="32"/>
                      </a:lnTo>
                      <a:lnTo>
                        <a:pt x="795" y="26"/>
                      </a:lnTo>
                      <a:lnTo>
                        <a:pt x="792" y="20"/>
                      </a:lnTo>
                      <a:lnTo>
                        <a:pt x="788" y="15"/>
                      </a:lnTo>
                      <a:lnTo>
                        <a:pt x="783" y="12"/>
                      </a:lnTo>
                      <a:lnTo>
                        <a:pt x="779" y="10"/>
                      </a:lnTo>
                      <a:lnTo>
                        <a:pt x="772" y="10"/>
                      </a:lnTo>
                      <a:lnTo>
                        <a:pt x="588" y="1"/>
                      </a:lnTo>
                      <a:lnTo>
                        <a:pt x="397" y="0"/>
                      </a:lnTo>
                      <a:lnTo>
                        <a:pt x="205" y="3"/>
                      </a:lnTo>
                      <a:lnTo>
                        <a:pt x="23" y="10"/>
                      </a:lnTo>
                      <a:lnTo>
                        <a:pt x="19" y="10"/>
                      </a:lnTo>
                      <a:lnTo>
                        <a:pt x="15" y="10"/>
                      </a:lnTo>
                      <a:lnTo>
                        <a:pt x="11" y="12"/>
                      </a:lnTo>
                      <a:lnTo>
                        <a:pt x="6" y="15"/>
                      </a:lnTo>
                      <a:lnTo>
                        <a:pt x="4" y="18"/>
                      </a:lnTo>
                      <a:lnTo>
                        <a:pt x="1" y="22"/>
                      </a:lnTo>
                      <a:lnTo>
                        <a:pt x="0" y="27"/>
                      </a:lnTo>
                      <a:lnTo>
                        <a:pt x="0" y="3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"/>
              <p:cNvSpPr/>
              <p:nvPr/>
            </p:nvSpPr>
            <p:spPr>
              <a:xfrm>
                <a:off x="3623040" y="4500720"/>
                <a:ext cx="347400" cy="71280"/>
              </a:xfrm>
              <a:custGeom>
                <a:avLst/>
                <a:gdLst/>
                <a:ahLst/>
                <a:rect l="l" t="t" r="r" b="b"/>
                <a:pathLst>
                  <a:path w="177" h="49">
                    <a:moveTo>
                      <a:pt x="0" y="28"/>
                    </a:moveTo>
                    <a:lnTo>
                      <a:pt x="100" y="48"/>
                    </a:lnTo>
                    <a:lnTo>
                      <a:pt x="176" y="14"/>
                    </a:lnTo>
                    <a:lnTo>
                      <a:pt x="8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d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623040" y="4541400"/>
                <a:ext cx="200160" cy="577800"/>
              </a:xfrm>
              <a:custGeom>
                <a:avLst/>
                <a:gdLst/>
                <a:ahLst/>
                <a:rect l="l" t="t" r="r" b="b"/>
                <a:pathLst>
                  <a:path w="102" h="397">
                    <a:moveTo>
                      <a:pt x="0" y="0"/>
                    </a:moveTo>
                    <a:lnTo>
                      <a:pt x="101" y="20"/>
                    </a:lnTo>
                    <a:lnTo>
                      <a:pt x="101" y="396"/>
                    </a:lnTo>
                    <a:lnTo>
                      <a:pt x="79" y="387"/>
                    </a:lnTo>
                    <a:lnTo>
                      <a:pt x="80" y="339"/>
                    </a:lnTo>
                    <a:lnTo>
                      <a:pt x="51" y="326"/>
                    </a:lnTo>
                    <a:lnTo>
                      <a:pt x="51" y="368"/>
                    </a:lnTo>
                    <a:lnTo>
                      <a:pt x="35" y="359"/>
                    </a:lnTo>
                    <a:lnTo>
                      <a:pt x="35" y="318"/>
                    </a:lnTo>
                    <a:lnTo>
                      <a:pt x="12" y="305"/>
                    </a:lnTo>
                    <a:lnTo>
                      <a:pt x="12" y="347"/>
                    </a:lnTo>
                    <a:lnTo>
                      <a:pt x="0" y="3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8" name=""/>
              <p:cNvGrpSpPr/>
              <p:nvPr/>
            </p:nvGrpSpPr>
            <p:grpSpPr>
              <a:xfrm>
                <a:off x="3628800" y="4461480"/>
                <a:ext cx="342720" cy="658800"/>
                <a:chOff x="3628800" y="4461480"/>
                <a:chExt cx="342720" cy="65880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3822840" y="4519440"/>
                  <a:ext cx="148680" cy="600840"/>
                </a:xfrm>
                <a:custGeom>
                  <a:avLst/>
                  <a:gdLst/>
                  <a:ahLst/>
                  <a:rect l="l" t="t" r="r" b="b"/>
                  <a:pathLst>
                    <a:path w="76" h="413">
                      <a:moveTo>
                        <a:pt x="0" y="35"/>
                      </a:moveTo>
                      <a:lnTo>
                        <a:pt x="74" y="0"/>
                      </a:lnTo>
                      <a:lnTo>
                        <a:pt x="75" y="319"/>
                      </a:lnTo>
                      <a:lnTo>
                        <a:pt x="0" y="412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d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0" name=""/>
                <p:cNvGrpSpPr/>
                <p:nvPr/>
              </p:nvGrpSpPr>
              <p:grpSpPr>
                <a:xfrm>
                  <a:off x="3722760" y="5017320"/>
                  <a:ext cx="68040" cy="62640"/>
                  <a:chOff x="3722760" y="5017320"/>
                  <a:chExt cx="68040" cy="6264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>
                    <a:off x="3757680" y="5028840"/>
                    <a:ext cx="3312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1">
                        <a:moveTo>
                          <a:pt x="0" y="0"/>
                        </a:moveTo>
                        <a:lnTo>
                          <a:pt x="0" y="22"/>
                        </a:lnTo>
                        <a:lnTo>
                          <a:pt x="16" y="30"/>
                        </a:lnTo>
                        <a:lnTo>
                          <a:pt x="16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3722760" y="5017320"/>
                    <a:ext cx="3312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0" y="0"/>
                        </a:moveTo>
                        <a:lnTo>
                          <a:pt x="0" y="42"/>
                        </a:lnTo>
                        <a:lnTo>
                          <a:pt x="16" y="29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3" name=""/>
                <p:cNvGrpSpPr/>
                <p:nvPr/>
              </p:nvGrpSpPr>
              <p:grpSpPr>
                <a:xfrm>
                  <a:off x="3648240" y="4985280"/>
                  <a:ext cx="66240" cy="63720"/>
                  <a:chOff x="3648240" y="4985280"/>
                  <a:chExt cx="66240" cy="63720"/>
                </a:xfrm>
              </p:grpSpPr>
              <p:sp>
                <p:nvSpPr>
                  <p:cNvPr id="694" name=""/>
                  <p:cNvSpPr/>
                  <p:nvPr/>
                </p:nvSpPr>
                <p:spPr>
                  <a:xfrm>
                    <a:off x="3681360" y="4998240"/>
                    <a:ext cx="3312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16" y="29"/>
                        </a:lnTo>
                        <a:lnTo>
                          <a:pt x="16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3648240" y="4985280"/>
                    <a:ext cx="3312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4">
                        <a:moveTo>
                          <a:pt x="0" y="0"/>
                        </a:moveTo>
                        <a:lnTo>
                          <a:pt x="0" y="43"/>
                        </a:lnTo>
                        <a:lnTo>
                          <a:pt x="16" y="31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" name=""/>
                <p:cNvGrpSpPr/>
                <p:nvPr/>
              </p:nvGrpSpPr>
              <p:grpSpPr>
                <a:xfrm>
                  <a:off x="3628800" y="4557240"/>
                  <a:ext cx="179640" cy="455040"/>
                  <a:chOff x="3628800" y="4557240"/>
                  <a:chExt cx="179640" cy="455040"/>
                </a:xfrm>
              </p:grpSpPr>
              <p:sp>
                <p:nvSpPr>
                  <p:cNvPr id="697" name=""/>
                  <p:cNvSpPr/>
                  <p:nvPr/>
                </p:nvSpPr>
                <p:spPr>
                  <a:xfrm>
                    <a:off x="3636720" y="4558320"/>
                    <a:ext cx="162360" cy="45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312">
                        <a:moveTo>
                          <a:pt x="0" y="0"/>
                        </a:moveTo>
                        <a:lnTo>
                          <a:pt x="82" y="16"/>
                        </a:lnTo>
                        <a:lnTo>
                          <a:pt x="82" y="311"/>
                        </a:lnTo>
                        <a:lnTo>
                          <a:pt x="0" y="26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3628800" y="4557240"/>
                    <a:ext cx="179640" cy="447840"/>
                    <a:chOff x="3628800" y="4557240"/>
                    <a:chExt cx="179640" cy="447840"/>
                  </a:xfrm>
                </p:grpSpPr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3632760" y="4897440"/>
                      <a:ext cx="175680" cy="5364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3628800" y="4842000"/>
                      <a:ext cx="179640" cy="4644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" bIns="-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3634560" y="4782240"/>
                      <a:ext cx="173880" cy="4212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3632760" y="4719960"/>
                      <a:ext cx="173880" cy="3924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3636720" y="4661640"/>
                      <a:ext cx="169920" cy="3168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3628800" y="4608000"/>
                      <a:ext cx="175680" cy="2592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3671640" y="4557240"/>
                      <a:ext cx="0" cy="41580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3712680" y="4564440"/>
                      <a:ext cx="0" cy="42444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3753720" y="4568760"/>
                      <a:ext cx="0" cy="43632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08" name=""/>
                <p:cNvGrpSpPr/>
                <p:nvPr/>
              </p:nvGrpSpPr>
              <p:grpSpPr>
                <a:xfrm>
                  <a:off x="3699360" y="4461480"/>
                  <a:ext cx="205200" cy="90000"/>
                  <a:chOff x="3699360" y="4461480"/>
                  <a:chExt cx="205200" cy="90000"/>
                </a:xfrm>
              </p:grpSpPr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3699360" y="4461480"/>
                    <a:ext cx="205200" cy="90000"/>
                    <a:chOff x="3699360" y="4461480"/>
                    <a:chExt cx="205200" cy="90000"/>
                  </a:xfrm>
                </p:grpSpPr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3699360" y="4461480"/>
                      <a:ext cx="2052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25">
                          <a:moveTo>
                            <a:pt x="0" y="15"/>
                          </a:moveTo>
                          <a:lnTo>
                            <a:pt x="60" y="24"/>
                          </a:lnTo>
                          <a:lnTo>
                            <a:pt x="104" y="8"/>
                          </a:lnTo>
                          <a:lnTo>
                            <a:pt x="45" y="0"/>
                          </a:lnTo>
                          <a:lnTo>
                            <a:pt x="0" y="15"/>
                          </a:lnTo>
                        </a:path>
                      </a:pathLst>
                    </a:custGeom>
                    <a:solidFill>
                      <a:srgbClr val="df3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3816720" y="4473000"/>
                      <a:ext cx="86040" cy="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54">
                          <a:moveTo>
                            <a:pt x="0" y="16"/>
                          </a:moveTo>
                          <a:lnTo>
                            <a:pt x="43" y="0"/>
                          </a:lnTo>
                          <a:lnTo>
                            <a:pt x="43" y="33"/>
                          </a:lnTo>
                          <a:lnTo>
                            <a:pt x="0" y="53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3699360" y="4484520"/>
                      <a:ext cx="11916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46">
                          <a:moveTo>
                            <a:pt x="60" y="8"/>
                          </a:moveTo>
                          <a:lnTo>
                            <a:pt x="60" y="45"/>
                          </a:lnTo>
                          <a:lnTo>
                            <a:pt x="0" y="34"/>
                          </a:lnTo>
                          <a:lnTo>
                            <a:pt x="0" y="0"/>
                          </a:lnTo>
                          <a:lnTo>
                            <a:pt x="60" y="8"/>
                          </a:lnTo>
                        </a:path>
                      </a:pathLst>
                    </a:custGeom>
                    <a:solidFill>
                      <a:srgbClr val="f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" name=""/>
                  <p:cNvSpPr/>
                  <p:nvPr/>
                </p:nvSpPr>
                <p:spPr>
                  <a:xfrm>
                    <a:off x="3714840" y="4494600"/>
                    <a:ext cx="66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7">
                        <a:moveTo>
                          <a:pt x="0" y="0"/>
                        </a:moveTo>
                        <a:lnTo>
                          <a:pt x="33" y="6"/>
                        </a:lnTo>
                        <a:lnTo>
                          <a:pt x="33" y="16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4" name=""/>
              <p:cNvGrpSpPr/>
              <p:nvPr/>
            </p:nvGrpSpPr>
            <p:grpSpPr>
              <a:xfrm>
                <a:off x="3852720" y="4671000"/>
                <a:ext cx="330480" cy="527760"/>
                <a:chOff x="3852720" y="4671000"/>
                <a:chExt cx="330480" cy="527760"/>
              </a:xfrm>
            </p:grpSpPr>
            <p:grpSp>
              <p:nvGrpSpPr>
                <p:cNvPr id="715" name=""/>
                <p:cNvGrpSpPr/>
                <p:nvPr/>
              </p:nvGrpSpPr>
              <p:grpSpPr>
                <a:xfrm>
                  <a:off x="3852720" y="4671000"/>
                  <a:ext cx="330480" cy="527760"/>
                  <a:chOff x="3852720" y="4671000"/>
                  <a:chExt cx="330480" cy="52776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>
                    <a:off x="3852720" y="4679280"/>
                    <a:ext cx="33048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97">
                        <a:moveTo>
                          <a:pt x="0" y="70"/>
                        </a:moveTo>
                        <a:lnTo>
                          <a:pt x="81" y="96"/>
                        </a:lnTo>
                        <a:lnTo>
                          <a:pt x="168" y="17"/>
                        </a:lnTo>
                        <a:lnTo>
                          <a:pt x="97" y="0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df9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3852720" y="4784400"/>
                    <a:ext cx="158400" cy="41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85">
                        <a:moveTo>
                          <a:pt x="0" y="0"/>
                        </a:moveTo>
                        <a:lnTo>
                          <a:pt x="80" y="25"/>
                        </a:lnTo>
                        <a:lnTo>
                          <a:pt x="80" y="284"/>
                        </a:lnTo>
                        <a:lnTo>
                          <a:pt x="0" y="24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4011120" y="4705920"/>
                    <a:ext cx="16812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39">
                        <a:moveTo>
                          <a:pt x="0" y="80"/>
                        </a:moveTo>
                        <a:lnTo>
                          <a:pt x="0" y="338"/>
                        </a:lnTo>
                        <a:lnTo>
                          <a:pt x="85" y="215"/>
                        </a:lnTo>
                        <a:lnTo>
                          <a:pt x="85" y="0"/>
                        </a:lnTo>
                        <a:lnTo>
                          <a:pt x="0" y="80"/>
                        </a:lnTo>
                      </a:path>
                    </a:pathLst>
                  </a:custGeom>
                  <a:solidFill>
                    <a:srgbClr val="9f3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3893760" y="4671000"/>
                    <a:ext cx="249840" cy="128880"/>
                    <a:chOff x="3893760" y="4671000"/>
                    <a:chExt cx="249840" cy="128880"/>
                  </a:xfrm>
                </p:grpSpPr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3893760" y="4671000"/>
                      <a:ext cx="24984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8" h="73">
                          <a:moveTo>
                            <a:pt x="0" y="54"/>
                          </a:moveTo>
                          <a:lnTo>
                            <a:pt x="57" y="72"/>
                          </a:lnTo>
                          <a:lnTo>
                            <a:pt x="127" y="12"/>
                          </a:lnTo>
                          <a:lnTo>
                            <a:pt x="75" y="0"/>
                          </a:lnTo>
                          <a:lnTo>
                            <a:pt x="0" y="54"/>
                          </a:lnTo>
                        </a:path>
                      </a:pathLst>
                    </a:custGeom>
                    <a:solidFill>
                      <a:srgbClr val="df9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>
                      <a:off x="4008960" y="4688280"/>
                      <a:ext cx="134640" cy="11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77">
                          <a:moveTo>
                            <a:pt x="0" y="60"/>
                          </a:moveTo>
                          <a:lnTo>
                            <a:pt x="68" y="0"/>
                          </a:lnTo>
                          <a:lnTo>
                            <a:pt x="68" y="14"/>
                          </a:lnTo>
                          <a:lnTo>
                            <a:pt x="0" y="76"/>
                          </a:lnTo>
                          <a:lnTo>
                            <a:pt x="0" y="60"/>
                          </a:lnTo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3893760" y="4750560"/>
                      <a:ext cx="113040" cy="4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33">
                          <a:moveTo>
                            <a:pt x="57" y="16"/>
                          </a:moveTo>
                          <a:lnTo>
                            <a:pt x="57" y="32"/>
                          </a:lnTo>
                          <a:lnTo>
                            <a:pt x="0" y="14"/>
                          </a:lnTo>
                          <a:lnTo>
                            <a:pt x="0" y="0"/>
                          </a:lnTo>
                          <a:lnTo>
                            <a:pt x="57" y="16"/>
                          </a:lnTo>
                        </a:path>
                      </a:pathLst>
                    </a:cu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23" name=""/>
                <p:cNvGrpSpPr/>
                <p:nvPr/>
              </p:nvGrpSpPr>
              <p:grpSpPr>
                <a:xfrm>
                  <a:off x="3858480" y="4797360"/>
                  <a:ext cx="142560" cy="382680"/>
                  <a:chOff x="3858480" y="4797360"/>
                  <a:chExt cx="142560" cy="38268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>
                    <a:off x="3858480" y="4797360"/>
                    <a:ext cx="142560" cy="38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263">
                        <a:moveTo>
                          <a:pt x="0" y="0"/>
                        </a:moveTo>
                        <a:lnTo>
                          <a:pt x="72" y="23"/>
                        </a:lnTo>
                        <a:lnTo>
                          <a:pt x="72" y="262"/>
                        </a:lnTo>
                        <a:lnTo>
                          <a:pt x="0" y="22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3880080" y="4801680"/>
                    <a:ext cx="3312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33">
                        <a:moveTo>
                          <a:pt x="0" y="0"/>
                        </a:moveTo>
                        <a:lnTo>
                          <a:pt x="0" y="228"/>
                        </a:lnTo>
                        <a:lnTo>
                          <a:pt x="16" y="232"/>
                        </a:lnTo>
                        <a:lnTo>
                          <a:pt x="16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3918960" y="4807440"/>
                    <a:ext cx="33120" cy="34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38">
                        <a:moveTo>
                          <a:pt x="0" y="0"/>
                        </a:moveTo>
                        <a:lnTo>
                          <a:pt x="0" y="232"/>
                        </a:lnTo>
                        <a:lnTo>
                          <a:pt x="14" y="237"/>
                        </a:lnTo>
                        <a:lnTo>
                          <a:pt x="16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3962160" y="4820760"/>
                    <a:ext cx="33120" cy="34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0">
                        <a:moveTo>
                          <a:pt x="0" y="0"/>
                        </a:moveTo>
                        <a:lnTo>
                          <a:pt x="0" y="233"/>
                        </a:lnTo>
                        <a:lnTo>
                          <a:pt x="16" y="239"/>
                        </a:lnTo>
                        <a:lnTo>
                          <a:pt x="16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8" name=""/>
              <p:cNvGrpSpPr/>
              <p:nvPr/>
            </p:nvGrpSpPr>
            <p:grpSpPr>
              <a:xfrm>
                <a:off x="4082400" y="4697280"/>
                <a:ext cx="309240" cy="613800"/>
                <a:chOff x="4082400" y="4697280"/>
                <a:chExt cx="309240" cy="613800"/>
              </a:xfrm>
            </p:grpSpPr>
            <p:grpSp>
              <p:nvGrpSpPr>
                <p:cNvPr id="729" name=""/>
                <p:cNvGrpSpPr/>
                <p:nvPr/>
              </p:nvGrpSpPr>
              <p:grpSpPr>
                <a:xfrm>
                  <a:off x="4082400" y="4697280"/>
                  <a:ext cx="309240" cy="613800"/>
                  <a:chOff x="4082400" y="4697280"/>
                  <a:chExt cx="309240" cy="613800"/>
                </a:xfrm>
              </p:grpSpPr>
              <p:grpSp>
                <p:nvGrpSpPr>
                  <p:cNvPr id="730" name=""/>
                  <p:cNvGrpSpPr/>
                  <p:nvPr/>
                </p:nvGrpSpPr>
                <p:grpSpPr>
                  <a:xfrm>
                    <a:off x="4115520" y="5162760"/>
                    <a:ext cx="240120" cy="148320"/>
                    <a:chOff x="4115520" y="5162760"/>
                    <a:chExt cx="240120" cy="148320"/>
                  </a:xfrm>
                </p:grpSpPr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4115520" y="5219280"/>
                      <a:ext cx="15228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63">
                          <a:moveTo>
                            <a:pt x="0" y="0"/>
                          </a:moveTo>
                          <a:lnTo>
                            <a:pt x="0" y="18"/>
                          </a:lnTo>
                          <a:lnTo>
                            <a:pt x="77" y="62"/>
                          </a:lnTo>
                          <a:lnTo>
                            <a:pt x="77" y="4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1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4269600" y="5162760"/>
                      <a:ext cx="86040" cy="14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102">
                          <a:moveTo>
                            <a:pt x="0" y="81"/>
                          </a:moveTo>
                          <a:lnTo>
                            <a:pt x="0" y="101"/>
                          </a:lnTo>
                          <a:lnTo>
                            <a:pt x="43" y="15"/>
                          </a:lnTo>
                          <a:lnTo>
                            <a:pt x="43" y="0"/>
                          </a:lnTo>
                          <a:lnTo>
                            <a:pt x="0" y="81"/>
                          </a:lnTo>
                        </a:path>
                      </a:pathLst>
                    </a:custGeom>
                    <a:solidFill>
                      <a:srgbClr val="001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3" name=""/>
                  <p:cNvSpPr/>
                  <p:nvPr/>
                </p:nvSpPr>
                <p:spPr>
                  <a:xfrm>
                    <a:off x="4082400" y="5060880"/>
                    <a:ext cx="309240" cy="22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158">
                        <a:moveTo>
                          <a:pt x="0" y="98"/>
                        </a:moveTo>
                        <a:lnTo>
                          <a:pt x="104" y="157"/>
                        </a:lnTo>
                        <a:lnTo>
                          <a:pt x="157" y="53"/>
                        </a:lnTo>
                        <a:lnTo>
                          <a:pt x="56" y="0"/>
                        </a:lnTo>
                        <a:lnTo>
                          <a:pt x="0" y="98"/>
                        </a:lnTo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4109760" y="4915440"/>
                    <a:ext cx="24228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90">
                        <a:moveTo>
                          <a:pt x="80" y="89"/>
                        </a:moveTo>
                        <a:lnTo>
                          <a:pt x="123" y="30"/>
                        </a:lnTo>
                        <a:lnTo>
                          <a:pt x="46" y="0"/>
                        </a:lnTo>
                        <a:lnTo>
                          <a:pt x="0" y="56"/>
                        </a:lnTo>
                        <a:lnTo>
                          <a:pt x="80" y="89"/>
                        </a:lnTo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4232880" y="4698360"/>
                    <a:ext cx="8244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05">
                        <a:moveTo>
                          <a:pt x="0" y="0"/>
                        </a:moveTo>
                        <a:lnTo>
                          <a:pt x="10" y="104"/>
                        </a:lnTo>
                        <a:lnTo>
                          <a:pt x="41" y="6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4160520" y="4697280"/>
                    <a:ext cx="9216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06">
                        <a:moveTo>
                          <a:pt x="36" y="0"/>
                        </a:moveTo>
                        <a:lnTo>
                          <a:pt x="46" y="105"/>
                        </a:lnTo>
                        <a:lnTo>
                          <a:pt x="0" y="93"/>
                        </a:lnTo>
                        <a:lnTo>
                          <a:pt x="36" y="0"/>
                        </a:lnTo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4160520" y="4836600"/>
                    <a:ext cx="9216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9">
                        <a:moveTo>
                          <a:pt x="0" y="0"/>
                        </a:moveTo>
                        <a:lnTo>
                          <a:pt x="46" y="11"/>
                        </a:lnTo>
                        <a:lnTo>
                          <a:pt x="46" y="128"/>
                        </a:lnTo>
                        <a:lnTo>
                          <a:pt x="0" y="10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4252680" y="4802040"/>
                    <a:ext cx="6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53">
                        <a:moveTo>
                          <a:pt x="0" y="35"/>
                        </a:moveTo>
                        <a:lnTo>
                          <a:pt x="31" y="0"/>
                        </a:lnTo>
                        <a:lnTo>
                          <a:pt x="31" y="108"/>
                        </a:lnTo>
                        <a:lnTo>
                          <a:pt x="0" y="152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4109760" y="4998240"/>
                    <a:ext cx="15840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174">
                        <a:moveTo>
                          <a:pt x="0" y="0"/>
                        </a:moveTo>
                        <a:lnTo>
                          <a:pt x="80" y="32"/>
                        </a:lnTo>
                        <a:lnTo>
                          <a:pt x="80" y="173"/>
                        </a:lnTo>
                        <a:lnTo>
                          <a:pt x="0" y="1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4269960" y="4960440"/>
                    <a:ext cx="82080" cy="29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00">
                        <a:moveTo>
                          <a:pt x="0" y="59"/>
                        </a:moveTo>
                        <a:lnTo>
                          <a:pt x="41" y="0"/>
                        </a:lnTo>
                        <a:lnTo>
                          <a:pt x="41" y="119"/>
                        </a:lnTo>
                        <a:lnTo>
                          <a:pt x="0" y="199"/>
                        </a:lnTo>
                        <a:lnTo>
                          <a:pt x="0" y="59"/>
                        </a:lnTo>
                      </a:path>
                    </a:pathLst>
                  </a:custGeom>
                  <a:solidFill>
                    <a:srgbClr val="001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"/>
                <p:cNvGrpSpPr/>
                <p:nvPr/>
              </p:nvGrpSpPr>
              <p:grpSpPr>
                <a:xfrm>
                  <a:off x="4141080" y="4854240"/>
                  <a:ext cx="100800" cy="356040"/>
                  <a:chOff x="4141080" y="4854240"/>
                  <a:chExt cx="100800" cy="356040"/>
                </a:xfrm>
              </p:grpSpPr>
              <p:grpSp>
                <p:nvGrpSpPr>
                  <p:cNvPr id="742" name=""/>
                  <p:cNvGrpSpPr/>
                  <p:nvPr/>
                </p:nvGrpSpPr>
                <p:grpSpPr>
                  <a:xfrm>
                    <a:off x="4186080" y="4854240"/>
                    <a:ext cx="55800" cy="105840"/>
                    <a:chOff x="4186080" y="4854240"/>
                    <a:chExt cx="55800" cy="105840"/>
                  </a:xfrm>
                </p:grpSpPr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4193280" y="4854240"/>
                      <a:ext cx="3096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460" y="83"/>
                          </a:moveTo>
                          <a:arcTo wR="10800" hR="10800" stAng="-5827501" swAng="605168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460" y="83"/>
                          </a:moveTo>
                          <a:arcTo wR="10800" hR="10800" stAng="-5827501" swAng="6051689"/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4186080" y="4856760"/>
                      <a:ext cx="29880" cy="9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18" y="9206"/>
                          </a:moveTo>
                          <a:arcTo wR="10800" hR="10800" stAng="-10290664" swAng="446938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18" y="9206"/>
                          </a:moveTo>
                          <a:arcTo wR="10800" hR="10800" stAng="-10290664" swAng="4469387"/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4187520" y="4905360"/>
                      <a:ext cx="32760" cy="4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2">
                          <a:moveTo>
                            <a:pt x="0" y="0"/>
                          </a:moveTo>
                          <a:lnTo>
                            <a:pt x="0" y="28"/>
                          </a:lnTo>
                          <a:lnTo>
                            <a:pt x="16" y="31"/>
                          </a:lnTo>
                          <a:lnTo>
                            <a:pt x="16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" bIns="-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4209480" y="4912560"/>
                      <a:ext cx="3240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3">
                          <a:moveTo>
                            <a:pt x="0" y="0"/>
                          </a:moveTo>
                          <a:lnTo>
                            <a:pt x="0" y="29"/>
                          </a:lnTo>
                          <a:lnTo>
                            <a:pt x="16" y="32"/>
                          </a:lnTo>
                          <a:lnTo>
                            <a:pt x="16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4141080" y="5055120"/>
                    <a:ext cx="95040" cy="155160"/>
                    <a:chOff x="4141080" y="5055120"/>
                    <a:chExt cx="95040" cy="15516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4141080" y="5107320"/>
                      <a:ext cx="95040" cy="10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71">
                          <a:moveTo>
                            <a:pt x="0" y="0"/>
                          </a:moveTo>
                          <a:lnTo>
                            <a:pt x="0" y="43"/>
                          </a:lnTo>
                          <a:lnTo>
                            <a:pt x="48" y="70"/>
                          </a:lnTo>
                          <a:lnTo>
                            <a:pt x="48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4141080" y="5055120"/>
                      <a:ext cx="9324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51">
                          <a:moveTo>
                            <a:pt x="0" y="0"/>
                          </a:moveTo>
                          <a:lnTo>
                            <a:pt x="0" y="28"/>
                          </a:lnTo>
                          <a:lnTo>
                            <a:pt x="47" y="50"/>
                          </a:lnTo>
                          <a:lnTo>
                            <a:pt x="47" y="2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50" name=""/>
              <p:cNvSpPr/>
              <p:nvPr/>
            </p:nvSpPr>
            <p:spPr>
              <a:xfrm>
                <a:off x="4608360" y="5451120"/>
                <a:ext cx="72360" cy="2448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36" y="0"/>
                    </a:lnTo>
                    <a:lnTo>
                      <a:pt x="3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161360" y="4702320"/>
              <a:ext cx="193320" cy="281880"/>
              <a:chOff x="1161360" y="4702320"/>
              <a:chExt cx="193320" cy="281880"/>
            </a:xfrm>
          </p:grpSpPr>
          <p:sp>
            <p:nvSpPr>
              <p:cNvPr id="752" name=""/>
              <p:cNvSpPr/>
              <p:nvPr/>
            </p:nvSpPr>
            <p:spPr>
              <a:xfrm>
                <a:off x="1304280" y="4807080"/>
                <a:ext cx="42840" cy="741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1161360" y="4741200"/>
                <a:ext cx="18612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167120" y="4859280"/>
                <a:ext cx="178560" cy="7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1316520" y="4702320"/>
                <a:ext cx="1152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1284840" y="4719600"/>
                <a:ext cx="576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1251360" y="4750200"/>
                <a:ext cx="792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1216080" y="4775040"/>
                <a:ext cx="3960" cy="4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332000" y="4936320"/>
                <a:ext cx="13680" cy="4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288800" y="4923360"/>
                <a:ext cx="972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213920" y="4885560"/>
                <a:ext cx="7920" cy="3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251360" y="4902840"/>
                <a:ext cx="9720" cy="2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253880" y="4777560"/>
                <a:ext cx="1008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015" y="69"/>
                    </a:moveTo>
                    <a:arcTo wR="10800" hR="10800" stAng="-5012471" swAng="105421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015" y="69"/>
                    </a:moveTo>
                    <a:arcTo wR="10800" hR="10800" stAng="-5012471" swAng="10542136"/>
                  </a:path>
                </a:pathLst>
              </a:custGeom>
              <a:solidFill>
                <a:srgbClr val="cc99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1237680" y="1844640"/>
              <a:ext cx="1332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ndo Re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59920" y="3848760"/>
              <a:ext cx="1593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aço Virtu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123600" y="2026800"/>
              <a:ext cx="0" cy="11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23600" y="3191400"/>
              <a:ext cx="24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07040" y="2288520"/>
              <a:ext cx="1981080" cy="584280"/>
            </a:xfrm>
            <a:custGeom>
              <a:avLst/>
              <a:gdLst/>
              <a:ahLst/>
              <a:rect l="l" t="t" r="r" b="b"/>
              <a:pathLst>
                <a:path w="1009" h="401">
                  <a:moveTo>
                    <a:pt x="0" y="380"/>
                  </a:moveTo>
                  <a:lnTo>
                    <a:pt x="40" y="328"/>
                  </a:lnTo>
                  <a:lnTo>
                    <a:pt x="96" y="316"/>
                  </a:lnTo>
                  <a:lnTo>
                    <a:pt x="216" y="320"/>
                  </a:lnTo>
                  <a:lnTo>
                    <a:pt x="228" y="324"/>
                  </a:lnTo>
                  <a:lnTo>
                    <a:pt x="396" y="324"/>
                  </a:lnTo>
                  <a:lnTo>
                    <a:pt x="504" y="280"/>
                  </a:lnTo>
                  <a:lnTo>
                    <a:pt x="644" y="228"/>
                  </a:lnTo>
                  <a:lnTo>
                    <a:pt x="656" y="224"/>
                  </a:lnTo>
                  <a:lnTo>
                    <a:pt x="748" y="152"/>
                  </a:lnTo>
                  <a:lnTo>
                    <a:pt x="760" y="140"/>
                  </a:lnTo>
                  <a:lnTo>
                    <a:pt x="776" y="44"/>
                  </a:lnTo>
                  <a:lnTo>
                    <a:pt x="784" y="32"/>
                  </a:lnTo>
                  <a:lnTo>
                    <a:pt x="844" y="0"/>
                  </a:lnTo>
                  <a:lnTo>
                    <a:pt x="880" y="44"/>
                  </a:lnTo>
                  <a:lnTo>
                    <a:pt x="888" y="72"/>
                  </a:lnTo>
                  <a:lnTo>
                    <a:pt x="924" y="128"/>
                  </a:lnTo>
                  <a:lnTo>
                    <a:pt x="928" y="140"/>
                  </a:lnTo>
                  <a:lnTo>
                    <a:pt x="948" y="300"/>
                  </a:lnTo>
                  <a:lnTo>
                    <a:pt x="960" y="316"/>
                  </a:lnTo>
                  <a:lnTo>
                    <a:pt x="988" y="372"/>
                  </a:lnTo>
                  <a:lnTo>
                    <a:pt x="1008" y="40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671080" y="205236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537400" y="3211920"/>
              <a:ext cx="28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969160" y="322848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837200" y="322848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45480" y="4080240"/>
              <a:ext cx="0" cy="11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045480" y="5244480"/>
              <a:ext cx="24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028920" y="4341960"/>
              <a:ext cx="1980000" cy="584280"/>
            </a:xfrm>
            <a:custGeom>
              <a:avLst/>
              <a:gdLst/>
              <a:ahLst/>
              <a:rect l="l" t="t" r="r" b="b"/>
              <a:pathLst>
                <a:path w="1009" h="401">
                  <a:moveTo>
                    <a:pt x="0" y="380"/>
                  </a:moveTo>
                  <a:lnTo>
                    <a:pt x="40" y="328"/>
                  </a:lnTo>
                  <a:lnTo>
                    <a:pt x="96" y="316"/>
                  </a:lnTo>
                  <a:lnTo>
                    <a:pt x="216" y="320"/>
                  </a:lnTo>
                  <a:lnTo>
                    <a:pt x="228" y="324"/>
                  </a:lnTo>
                  <a:lnTo>
                    <a:pt x="396" y="324"/>
                  </a:lnTo>
                  <a:lnTo>
                    <a:pt x="504" y="280"/>
                  </a:lnTo>
                  <a:lnTo>
                    <a:pt x="644" y="228"/>
                  </a:lnTo>
                  <a:lnTo>
                    <a:pt x="656" y="224"/>
                  </a:lnTo>
                  <a:lnTo>
                    <a:pt x="748" y="152"/>
                  </a:lnTo>
                  <a:lnTo>
                    <a:pt x="760" y="140"/>
                  </a:lnTo>
                  <a:lnTo>
                    <a:pt x="776" y="44"/>
                  </a:lnTo>
                  <a:lnTo>
                    <a:pt x="784" y="32"/>
                  </a:lnTo>
                  <a:lnTo>
                    <a:pt x="844" y="0"/>
                  </a:lnTo>
                  <a:lnTo>
                    <a:pt x="880" y="44"/>
                  </a:lnTo>
                  <a:lnTo>
                    <a:pt x="888" y="72"/>
                  </a:lnTo>
                  <a:lnTo>
                    <a:pt x="924" y="128"/>
                  </a:lnTo>
                  <a:lnTo>
                    <a:pt x="928" y="140"/>
                  </a:lnTo>
                  <a:lnTo>
                    <a:pt x="948" y="300"/>
                  </a:lnTo>
                  <a:lnTo>
                    <a:pt x="960" y="316"/>
                  </a:lnTo>
                  <a:lnTo>
                    <a:pt x="988" y="372"/>
                  </a:lnTo>
                  <a:lnTo>
                    <a:pt x="1008" y="40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592960" y="39740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459280" y="5265360"/>
              <a:ext cx="28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6252840" y="5057640"/>
              <a:ext cx="0" cy="18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053840" y="4847040"/>
              <a:ext cx="0" cy="39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8007480" y="4480920"/>
              <a:ext cx="0" cy="75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80760" y="47725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833160" y="4545360"/>
              <a:ext cx="323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799760" y="41684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549440" y="5823000"/>
              <a:ext cx="6226200" cy="731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bjetivo: produzir a mesma sensação de c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lho só distingue 400 mil cores (&lt; 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 bits podem ser sufici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507320" y="2509560"/>
              <a:ext cx="2103120" cy="3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1350000" y="4628520"/>
              <a:ext cx="240228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lorimetria e Sistemas de Cores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86120" indent="-186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E (Commission Internationale de l’Eclair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G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u*v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*b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120" indent="-186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s por exum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uns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n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120" indent="-186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s dependentes de dispos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RG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M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120" indent="-186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s para especificação inte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47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Os sistemas de cor padrão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2440" indent="-3524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 modelo matemático adequado para uma representação do espaço espectral de cor é um espaço vetorial de dimensão fini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spcBef>
                <a:spcPts val="249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 processo de reconstrução de cor utiliza uma base de cores primári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spcBef>
                <a:spcPts val="249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elo tricromático de Young-Helmholtz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- sistema de processamento de cor do olho humano é baseado na amostragem das faixas vermelha (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, verde (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e azul (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bl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do espectro visível, feita pelas moléculas fotossensíveis do olho -&gt; Primeiro modelo padrão básico: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IE-RGB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Os sistemas de cor padrão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07720" indent="-2077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nitor de computad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160" indent="-1641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ês cores primárias emitidas por cada um dos tubos de raios catódicos (vermelho a 700 nm, verde a 546 nm e azul a 436 nm) -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ão correspondem às cores detectadas pelo olho humano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29800" indent="-1659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ecessidade de modificar as proporções de intensidade de cor aplicadas a cada uma das componentes primárias emiti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160" indent="-1641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ão é possível reproduzir todos os comprimentos de onda de luz visíve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29800" indent="-1659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istem, portanto, cores que não podem ser simplesmente reproduzidas em monitores a cores pela adição ponderada das cores vermelha, verde e azu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7720" indent="0">
              <a:spcBef>
                <a:spcPts val="700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71280" y="490680"/>
            <a:ext cx="7715160" cy="72072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presentação perceptual da cor CIE RGB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"/>
          <p:cNvSpPr/>
          <p:nvPr/>
        </p:nvSpPr>
        <p:spPr>
          <a:xfrm>
            <a:off x="5484960" y="3406680"/>
            <a:ext cx="0" cy="34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494320" y="3919680"/>
            <a:ext cx="0" cy="11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305240" y="2916360"/>
            <a:ext cx="360360" cy="236520"/>
          </a:xfrm>
          <a:custGeom>
            <a:avLst/>
            <a:gdLst/>
            <a:ahLst/>
            <a:rect l="l" t="t" r="r" b="b"/>
            <a:pathLst>
              <a:path w="170" h="153">
                <a:moveTo>
                  <a:pt x="147" y="0"/>
                </a:moveTo>
                <a:lnTo>
                  <a:pt x="65" y="47"/>
                </a:lnTo>
                <a:lnTo>
                  <a:pt x="0" y="29"/>
                </a:lnTo>
                <a:lnTo>
                  <a:pt x="70" y="152"/>
                </a:lnTo>
                <a:lnTo>
                  <a:pt x="88" y="87"/>
                </a:lnTo>
                <a:lnTo>
                  <a:pt x="169" y="40"/>
                </a:lnTo>
                <a:lnTo>
                  <a:pt x="147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2916360" y="2968560"/>
            <a:ext cx="1387440" cy="57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2928600" y="3149640"/>
            <a:ext cx="151452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2937960" y="2700360"/>
            <a:ext cx="1095480" cy="84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141720" y="2844720"/>
            <a:ext cx="1100160" cy="84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503600" y="3232080"/>
            <a:ext cx="346320" cy="212760"/>
          </a:xfrm>
          <a:custGeom>
            <a:avLst/>
            <a:gdLst/>
            <a:ahLst/>
            <a:rect l="l" t="t" r="r" b="b"/>
            <a:pathLst>
              <a:path w="163" h="138">
                <a:moveTo>
                  <a:pt x="149" y="8"/>
                </a:moveTo>
                <a:lnTo>
                  <a:pt x="58" y="33"/>
                </a:lnTo>
                <a:lnTo>
                  <a:pt x="0" y="0"/>
                </a:lnTo>
                <a:lnTo>
                  <a:pt x="38" y="137"/>
                </a:lnTo>
                <a:lnTo>
                  <a:pt x="71" y="80"/>
                </a:lnTo>
                <a:lnTo>
                  <a:pt x="162" y="55"/>
                </a:lnTo>
                <a:lnTo>
                  <a:pt x="149" y="8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2959200" y="3238560"/>
            <a:ext cx="154296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2928600" y="3438360"/>
            <a:ext cx="164772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2928600" y="3814560"/>
            <a:ext cx="1554120" cy="6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H="1" flipV="1">
            <a:off x="2944800" y="4060440"/>
            <a:ext cx="1403280" cy="56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909880" y="2478240"/>
            <a:ext cx="0" cy="27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408560" y="2276640"/>
            <a:ext cx="786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793400" y="2624040"/>
            <a:ext cx="8128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042880" y="3006720"/>
            <a:ext cx="7992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779720" y="4641840"/>
            <a:ext cx="217548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 Mono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5824440" y="3651120"/>
            <a:ext cx="271080" cy="398160"/>
            <a:chOff x="5824440" y="3651120"/>
            <a:chExt cx="271080" cy="398160"/>
          </a:xfrm>
        </p:grpSpPr>
        <p:sp>
          <p:nvSpPr>
            <p:cNvPr id="812" name=""/>
            <p:cNvSpPr/>
            <p:nvPr/>
          </p:nvSpPr>
          <p:spPr>
            <a:xfrm>
              <a:off x="5826240" y="3797640"/>
              <a:ext cx="63360" cy="1047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5826240" y="3706200"/>
              <a:ext cx="26928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5826240" y="3873240"/>
              <a:ext cx="25848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856120" y="3651120"/>
              <a:ext cx="16560" cy="7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06880" y="3675960"/>
              <a:ext cx="7920" cy="7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55480" y="3718800"/>
              <a:ext cx="10440" cy="6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10920" y="3753000"/>
              <a:ext cx="612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5826240" y="3981600"/>
              <a:ext cx="20880" cy="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5897880" y="3962880"/>
              <a:ext cx="1476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6008040" y="3910320"/>
              <a:ext cx="10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5949360" y="3933720"/>
              <a:ext cx="122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824440" y="3753000"/>
              <a:ext cx="14724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87" y="21595"/>
                  </a:moveTo>
                  <a:arcTo wR="10800" hR="10800" stAng="5499617" swAng="10108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87" y="21595"/>
                  </a:moveTo>
                  <a:arcTo wR="10800" hR="10800" stAng="5499617" swAng="10108434"/>
                </a:path>
              </a:pathLst>
            </a:custGeom>
            <a:solidFill>
              <a:srgbClr val="cc99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1332000" y="6093000"/>
            <a:ext cx="7056360" cy="579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ão consegue se representar todas as cores visíveis (falta saturaçã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033800" y="2584440"/>
            <a:ext cx="353880" cy="258840"/>
          </a:xfrm>
          <a:custGeom>
            <a:avLst/>
            <a:gdLst/>
            <a:ahLst/>
            <a:rect l="l" t="t" r="r" b="b"/>
            <a:pathLst>
              <a:path w="167" h="168">
                <a:moveTo>
                  <a:pt x="132" y="0"/>
                </a:moveTo>
                <a:lnTo>
                  <a:pt x="66" y="69"/>
                </a:lnTo>
                <a:lnTo>
                  <a:pt x="0" y="71"/>
                </a:lnTo>
                <a:lnTo>
                  <a:pt x="102" y="167"/>
                </a:lnTo>
                <a:lnTo>
                  <a:pt x="101" y="101"/>
                </a:lnTo>
                <a:lnTo>
                  <a:pt x="166" y="34"/>
                </a:lnTo>
                <a:lnTo>
                  <a:pt x="132" y="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349880" y="4435560"/>
            <a:ext cx="361800" cy="234720"/>
          </a:xfrm>
          <a:custGeom>
            <a:avLst/>
            <a:gdLst/>
            <a:ahLst/>
            <a:rect l="l" t="t" r="r" b="b"/>
            <a:pathLst>
              <a:path w="171" h="152">
                <a:moveTo>
                  <a:pt x="170" y="109"/>
                </a:moveTo>
                <a:lnTo>
                  <a:pt x="87" y="65"/>
                </a:lnTo>
                <a:lnTo>
                  <a:pt x="67" y="0"/>
                </a:lnTo>
                <a:lnTo>
                  <a:pt x="0" y="124"/>
                </a:lnTo>
                <a:lnTo>
                  <a:pt x="65" y="107"/>
                </a:lnTo>
                <a:lnTo>
                  <a:pt x="148" y="151"/>
                </a:lnTo>
                <a:lnTo>
                  <a:pt x="170" y="109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555600" y="1851120"/>
            <a:ext cx="16848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= 700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= 546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= 435.8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705680" y="5373720"/>
            <a:ext cx="35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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= r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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R + g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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 + b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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1878480" y="5303880"/>
            <a:ext cx="543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30360" y="2797200"/>
            <a:ext cx="2025720" cy="1746360"/>
          </a:xfrm>
          <a:custGeom>
            <a:avLst/>
            <a:gdLst/>
            <a:ahLst/>
            <a:rect l="l" t="t" r="r" b="b"/>
            <a:pathLst>
              <a:path w="957" h="1129">
                <a:moveTo>
                  <a:pt x="0" y="1113"/>
                </a:moveTo>
                <a:lnTo>
                  <a:pt x="123" y="1083"/>
                </a:lnTo>
                <a:lnTo>
                  <a:pt x="186" y="1042"/>
                </a:lnTo>
                <a:lnTo>
                  <a:pt x="233" y="965"/>
                </a:lnTo>
                <a:lnTo>
                  <a:pt x="263" y="864"/>
                </a:lnTo>
                <a:lnTo>
                  <a:pt x="400" y="194"/>
                </a:lnTo>
                <a:lnTo>
                  <a:pt x="421" y="65"/>
                </a:lnTo>
                <a:lnTo>
                  <a:pt x="448" y="9"/>
                </a:lnTo>
                <a:lnTo>
                  <a:pt x="476" y="0"/>
                </a:lnTo>
                <a:lnTo>
                  <a:pt x="501" y="28"/>
                </a:lnTo>
                <a:lnTo>
                  <a:pt x="522" y="103"/>
                </a:lnTo>
                <a:lnTo>
                  <a:pt x="695" y="857"/>
                </a:lnTo>
                <a:lnTo>
                  <a:pt x="721" y="948"/>
                </a:lnTo>
                <a:lnTo>
                  <a:pt x="758" y="1008"/>
                </a:lnTo>
                <a:lnTo>
                  <a:pt x="807" y="1055"/>
                </a:lnTo>
                <a:lnTo>
                  <a:pt x="871" y="1094"/>
                </a:lnTo>
                <a:lnTo>
                  <a:pt x="956" y="1128"/>
                </a:lnTo>
              </a:path>
            </a:pathLst>
          </a:custGeom>
          <a:noFill/>
          <a:ln cap="rnd"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919240" y="3371760"/>
            <a:ext cx="3630960" cy="1130400"/>
          </a:xfrm>
          <a:custGeom>
            <a:avLst/>
            <a:gdLst/>
            <a:ahLst/>
            <a:rect l="l" t="t" r="r" b="b"/>
            <a:pathLst>
              <a:path w="1814" h="730">
                <a:moveTo>
                  <a:pt x="0" y="729"/>
                </a:moveTo>
                <a:lnTo>
                  <a:pt x="88" y="727"/>
                </a:lnTo>
                <a:lnTo>
                  <a:pt x="168" y="718"/>
                </a:lnTo>
                <a:lnTo>
                  <a:pt x="236" y="697"/>
                </a:lnTo>
                <a:lnTo>
                  <a:pt x="307" y="667"/>
                </a:lnTo>
                <a:lnTo>
                  <a:pt x="374" y="610"/>
                </a:lnTo>
                <a:lnTo>
                  <a:pt x="417" y="537"/>
                </a:lnTo>
                <a:lnTo>
                  <a:pt x="460" y="461"/>
                </a:lnTo>
                <a:lnTo>
                  <a:pt x="564" y="215"/>
                </a:lnTo>
                <a:lnTo>
                  <a:pt x="610" y="114"/>
                </a:lnTo>
                <a:lnTo>
                  <a:pt x="657" y="41"/>
                </a:lnTo>
                <a:lnTo>
                  <a:pt x="728" y="0"/>
                </a:lnTo>
                <a:lnTo>
                  <a:pt x="789" y="51"/>
                </a:lnTo>
                <a:lnTo>
                  <a:pt x="928" y="465"/>
                </a:lnTo>
                <a:lnTo>
                  <a:pt x="990" y="559"/>
                </a:lnTo>
                <a:lnTo>
                  <a:pt x="1095" y="658"/>
                </a:lnTo>
                <a:lnTo>
                  <a:pt x="1204" y="700"/>
                </a:lnTo>
                <a:lnTo>
                  <a:pt x="1377" y="729"/>
                </a:lnTo>
                <a:lnTo>
                  <a:pt x="1813" y="725"/>
                </a:lnTo>
              </a:path>
            </a:pathLst>
          </a:custGeom>
          <a:noFill/>
          <a:ln cap="rnd"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222720" y="2666880"/>
            <a:ext cx="2913120" cy="2313000"/>
          </a:xfrm>
          <a:custGeom>
            <a:avLst/>
            <a:gdLst/>
            <a:ahLst/>
            <a:rect l="l" t="t" r="r" b="b"/>
            <a:pathLst>
              <a:path w="1377" h="1495">
                <a:moveTo>
                  <a:pt x="0" y="1181"/>
                </a:moveTo>
                <a:lnTo>
                  <a:pt x="122" y="1289"/>
                </a:lnTo>
                <a:lnTo>
                  <a:pt x="199" y="1363"/>
                </a:lnTo>
                <a:lnTo>
                  <a:pt x="280" y="1431"/>
                </a:lnTo>
                <a:lnTo>
                  <a:pt x="336" y="1471"/>
                </a:lnTo>
                <a:lnTo>
                  <a:pt x="401" y="1494"/>
                </a:lnTo>
                <a:lnTo>
                  <a:pt x="466" y="1468"/>
                </a:lnTo>
                <a:lnTo>
                  <a:pt x="519" y="1397"/>
                </a:lnTo>
                <a:lnTo>
                  <a:pt x="557" y="1262"/>
                </a:lnTo>
                <a:lnTo>
                  <a:pt x="664" y="790"/>
                </a:lnTo>
                <a:lnTo>
                  <a:pt x="743" y="453"/>
                </a:lnTo>
                <a:lnTo>
                  <a:pt x="846" y="61"/>
                </a:lnTo>
                <a:lnTo>
                  <a:pt x="885" y="1"/>
                </a:lnTo>
                <a:lnTo>
                  <a:pt x="915" y="0"/>
                </a:lnTo>
                <a:lnTo>
                  <a:pt x="946" y="54"/>
                </a:lnTo>
                <a:lnTo>
                  <a:pt x="967" y="119"/>
                </a:lnTo>
                <a:lnTo>
                  <a:pt x="1065" y="593"/>
                </a:lnTo>
                <a:lnTo>
                  <a:pt x="1177" y="956"/>
                </a:lnTo>
                <a:lnTo>
                  <a:pt x="1209" y="1065"/>
                </a:lnTo>
                <a:lnTo>
                  <a:pt x="1255" y="1119"/>
                </a:lnTo>
                <a:lnTo>
                  <a:pt x="1340" y="1163"/>
                </a:lnTo>
                <a:lnTo>
                  <a:pt x="1376" y="1182"/>
                </a:lnTo>
              </a:path>
            </a:pathLst>
          </a:custGeom>
          <a:noFill/>
          <a:ln cap="rnd"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166840" y="4514760"/>
            <a:ext cx="516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2446200" y="2214720"/>
            <a:ext cx="0" cy="327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387520" y="249876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387520" y="350028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387520" y="546732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2862360" y="4441320"/>
            <a:ext cx="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3878280" y="4441320"/>
            <a:ext cx="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5029200" y="4441320"/>
            <a:ext cx="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6180120" y="4441320"/>
            <a:ext cx="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79800" y="45115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005560" y="332424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05560" y="235908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700000" y="4552920"/>
            <a:ext cx="3716280" cy="305640"/>
            <a:chOff x="2700000" y="4552920"/>
            <a:chExt cx="3716280" cy="305640"/>
          </a:xfrm>
        </p:grpSpPr>
        <p:sp>
          <p:nvSpPr>
            <p:cNvPr id="846" name=""/>
            <p:cNvSpPr/>
            <p:nvPr/>
          </p:nvSpPr>
          <p:spPr>
            <a:xfrm>
              <a:off x="2700000" y="455292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65160" y="455292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799520" y="455292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933880" y="455292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 rot="16200000">
            <a:off x="2680560" y="4905000"/>
            <a:ext cx="79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38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rot="16200000">
            <a:off x="4064760" y="4915800"/>
            <a:ext cx="79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46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7141680" y="4387680"/>
            <a:ext cx="570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n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rot="16200000">
            <a:off x="529200" y="3658680"/>
            <a:ext cx="2316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ores dos tri-estimu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745640" y="5734080"/>
            <a:ext cx="6043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binação de três cores (RGB) para reproduzir as cores espectr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337360" y="2759040"/>
            <a:ext cx="677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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053600" y="3083040"/>
            <a:ext cx="70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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58320" y="2554200"/>
            <a:ext cx="70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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646440" y="331632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739320" y="1968480"/>
            <a:ext cx="35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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= r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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R + g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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 + b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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mponentes das cores monocromáticas - CIE RGB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"/>
          <p:cNvSpPr/>
          <p:nvPr/>
        </p:nvSpPr>
        <p:spPr>
          <a:xfrm>
            <a:off x="1355400" y="6381720"/>
            <a:ext cx="303084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nte: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cvision.ucsd.edu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1299240" y="4127400"/>
            <a:ext cx="491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701720" y="2355840"/>
            <a:ext cx="1273320" cy="1233360"/>
          </a:xfrm>
          <a:custGeom>
            <a:avLst/>
            <a:gdLst/>
            <a:ahLst/>
            <a:rect l="l" t="t" r="r" b="b"/>
            <a:pathLst>
              <a:path w="957" h="1129">
                <a:moveTo>
                  <a:pt x="0" y="1113"/>
                </a:moveTo>
                <a:lnTo>
                  <a:pt x="123" y="1083"/>
                </a:lnTo>
                <a:lnTo>
                  <a:pt x="186" y="1042"/>
                </a:lnTo>
                <a:lnTo>
                  <a:pt x="233" y="965"/>
                </a:lnTo>
                <a:lnTo>
                  <a:pt x="263" y="864"/>
                </a:lnTo>
                <a:lnTo>
                  <a:pt x="400" y="194"/>
                </a:lnTo>
                <a:lnTo>
                  <a:pt x="421" y="65"/>
                </a:lnTo>
                <a:lnTo>
                  <a:pt x="448" y="9"/>
                </a:lnTo>
                <a:lnTo>
                  <a:pt x="476" y="0"/>
                </a:lnTo>
                <a:lnTo>
                  <a:pt x="501" y="28"/>
                </a:lnTo>
                <a:lnTo>
                  <a:pt x="522" y="103"/>
                </a:lnTo>
                <a:lnTo>
                  <a:pt x="695" y="857"/>
                </a:lnTo>
                <a:lnTo>
                  <a:pt x="721" y="948"/>
                </a:lnTo>
                <a:lnTo>
                  <a:pt x="758" y="1008"/>
                </a:lnTo>
                <a:lnTo>
                  <a:pt x="807" y="1055"/>
                </a:lnTo>
                <a:lnTo>
                  <a:pt x="871" y="1094"/>
                </a:lnTo>
                <a:lnTo>
                  <a:pt x="956" y="1128"/>
                </a:lnTo>
              </a:path>
            </a:pathLst>
          </a:custGeom>
          <a:noFill/>
          <a:ln cap="rnd"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008080" y="2760840"/>
            <a:ext cx="2411640" cy="799920"/>
          </a:xfrm>
          <a:custGeom>
            <a:avLst/>
            <a:gdLst/>
            <a:ahLst/>
            <a:rect l="l" t="t" r="r" b="b"/>
            <a:pathLst>
              <a:path w="1814" h="730">
                <a:moveTo>
                  <a:pt x="0" y="729"/>
                </a:moveTo>
                <a:lnTo>
                  <a:pt x="88" y="727"/>
                </a:lnTo>
                <a:lnTo>
                  <a:pt x="168" y="718"/>
                </a:lnTo>
                <a:lnTo>
                  <a:pt x="236" y="697"/>
                </a:lnTo>
                <a:lnTo>
                  <a:pt x="307" y="667"/>
                </a:lnTo>
                <a:lnTo>
                  <a:pt x="374" y="610"/>
                </a:lnTo>
                <a:lnTo>
                  <a:pt x="417" y="537"/>
                </a:lnTo>
                <a:lnTo>
                  <a:pt x="460" y="461"/>
                </a:lnTo>
                <a:lnTo>
                  <a:pt x="564" y="215"/>
                </a:lnTo>
                <a:lnTo>
                  <a:pt x="610" y="114"/>
                </a:lnTo>
                <a:lnTo>
                  <a:pt x="657" y="41"/>
                </a:lnTo>
                <a:lnTo>
                  <a:pt x="728" y="0"/>
                </a:lnTo>
                <a:lnTo>
                  <a:pt x="789" y="51"/>
                </a:lnTo>
                <a:lnTo>
                  <a:pt x="928" y="465"/>
                </a:lnTo>
                <a:lnTo>
                  <a:pt x="990" y="559"/>
                </a:lnTo>
                <a:lnTo>
                  <a:pt x="1095" y="658"/>
                </a:lnTo>
                <a:lnTo>
                  <a:pt x="1204" y="700"/>
                </a:lnTo>
                <a:lnTo>
                  <a:pt x="1377" y="729"/>
                </a:lnTo>
                <a:lnTo>
                  <a:pt x="1813" y="725"/>
                </a:lnTo>
              </a:path>
            </a:pathLst>
          </a:custGeom>
          <a:noFill/>
          <a:ln cap="rnd"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198520" y="2263680"/>
            <a:ext cx="1830600" cy="1635120"/>
          </a:xfrm>
          <a:custGeom>
            <a:avLst/>
            <a:gdLst/>
            <a:ahLst/>
            <a:rect l="l" t="t" r="r" b="b"/>
            <a:pathLst>
              <a:path w="1377" h="1495">
                <a:moveTo>
                  <a:pt x="0" y="1181"/>
                </a:moveTo>
                <a:lnTo>
                  <a:pt x="122" y="1289"/>
                </a:lnTo>
                <a:lnTo>
                  <a:pt x="199" y="1363"/>
                </a:lnTo>
                <a:lnTo>
                  <a:pt x="280" y="1431"/>
                </a:lnTo>
                <a:lnTo>
                  <a:pt x="336" y="1471"/>
                </a:lnTo>
                <a:lnTo>
                  <a:pt x="401" y="1494"/>
                </a:lnTo>
                <a:lnTo>
                  <a:pt x="466" y="1468"/>
                </a:lnTo>
                <a:lnTo>
                  <a:pt x="519" y="1397"/>
                </a:lnTo>
                <a:lnTo>
                  <a:pt x="557" y="1262"/>
                </a:lnTo>
                <a:lnTo>
                  <a:pt x="664" y="790"/>
                </a:lnTo>
                <a:lnTo>
                  <a:pt x="743" y="453"/>
                </a:lnTo>
                <a:lnTo>
                  <a:pt x="846" y="61"/>
                </a:lnTo>
                <a:lnTo>
                  <a:pt x="885" y="1"/>
                </a:lnTo>
                <a:lnTo>
                  <a:pt x="915" y="0"/>
                </a:lnTo>
                <a:lnTo>
                  <a:pt x="946" y="54"/>
                </a:lnTo>
                <a:lnTo>
                  <a:pt x="967" y="119"/>
                </a:lnTo>
                <a:lnTo>
                  <a:pt x="1065" y="593"/>
                </a:lnTo>
                <a:lnTo>
                  <a:pt x="1177" y="956"/>
                </a:lnTo>
                <a:lnTo>
                  <a:pt x="1209" y="1065"/>
                </a:lnTo>
                <a:lnTo>
                  <a:pt x="1255" y="1119"/>
                </a:lnTo>
                <a:lnTo>
                  <a:pt x="1340" y="1163"/>
                </a:lnTo>
                <a:lnTo>
                  <a:pt x="1376" y="1182"/>
                </a:lnTo>
              </a:path>
            </a:pathLst>
          </a:custGeom>
          <a:noFill/>
          <a:ln cap="rnd"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536840" y="3568680"/>
            <a:ext cx="3244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1711440" y="1943280"/>
            <a:ext cx="0" cy="231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674720" y="2144880"/>
            <a:ext cx="7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674720" y="2852640"/>
            <a:ext cx="7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674720" y="4243320"/>
            <a:ext cx="7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1973160" y="351792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2611440" y="351792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3333600" y="351792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4057560" y="351792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513440" y="356724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389240" y="2727360"/>
            <a:ext cx="39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389240" y="2044800"/>
            <a:ext cx="39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1818360" y="3595680"/>
            <a:ext cx="2473560" cy="275040"/>
            <a:chOff x="1818360" y="3595680"/>
            <a:chExt cx="2473560" cy="275040"/>
          </a:xfrm>
        </p:grpSpPr>
        <p:sp>
          <p:nvSpPr>
            <p:cNvPr id="879" name=""/>
            <p:cNvSpPr/>
            <p:nvPr/>
          </p:nvSpPr>
          <p:spPr>
            <a:xfrm>
              <a:off x="1818360" y="3595680"/>
              <a:ext cx="441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424960" y="3595680"/>
              <a:ext cx="441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38120" y="3595680"/>
              <a:ext cx="441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850920" y="3595680"/>
              <a:ext cx="441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4555080" y="3479760"/>
            <a:ext cx="570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n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rot="16200000">
            <a:off x="-32400" y="2930040"/>
            <a:ext cx="2316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ores dos tri-estimu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264840" y="1971720"/>
            <a:ext cx="6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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638800" y="2309760"/>
            <a:ext cx="64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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995840" y="1986120"/>
            <a:ext cx="64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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042920" y="12492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mponentes das cores monocromáticas - CIE RGB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755880" y="4811760"/>
                <a:ext cx="254664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</m:e>
                        </m:nary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dλ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</m:e>
                        </m:nary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dλ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</m:e>
                        </m:nary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dλ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90" name="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3289320" cy="2584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6012000" y="2205000"/>
                <a:ext cx="5997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Os sistemas de cor padrão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07720" indent="-2077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Solução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em 1931 a CIE (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ommission Internationale de l’Éclairag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resolveu adotar um novo modelo de representação padrão X, Y, 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160" indent="-164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s cores primárias não correspondem a cores visíveis, mas suas componentes de cor são positivas sendo possível reproduzir no monitor todos os comprimentos de ondas de luz visív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s coordenadas de cromaticidade dessas cores primárias são conhecidas, sendo possível a realização de cálculos que permitem não só obtenção de valores de grandezas no sistema XYZ a partir de grandezas do sistema RGB, assim como mudanças de coordenadas entre outros sistemas de c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istemas de Cores (Convers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2192400" y="1639800"/>
            <a:ext cx="4467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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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R + g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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G + b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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versão da base  CIE RGB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ara CIE XYZ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644120" y="2789280"/>
            <a:ext cx="6456240" cy="1503000"/>
            <a:chOff x="1644120" y="2789280"/>
            <a:chExt cx="6456240" cy="1503000"/>
          </a:xfrm>
        </p:grpSpPr>
        <p:sp>
          <p:nvSpPr>
            <p:cNvPr id="897" name=""/>
            <p:cNvSpPr/>
            <p:nvPr/>
          </p:nvSpPr>
          <p:spPr>
            <a:xfrm>
              <a:off x="3155040" y="2795400"/>
              <a:ext cx="3669840" cy="14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0.490   0.310   0.20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0.177   0.813   0.01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0.000   0.010   0.99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3186000" y="2803320"/>
              <a:ext cx="175320" cy="1488960"/>
              <a:chOff x="3186000" y="2803320"/>
              <a:chExt cx="175320" cy="1488960"/>
            </a:xfrm>
          </p:grpSpPr>
          <p:sp>
            <p:nvSpPr>
              <p:cNvPr id="899" name=""/>
              <p:cNvSpPr/>
              <p:nvPr/>
            </p:nvSpPr>
            <p:spPr>
              <a:xfrm>
                <a:off x="3186000" y="2812320"/>
                <a:ext cx="0" cy="147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196080" y="2803320"/>
                <a:ext cx="11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196080" y="429228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6879600" y="2803320"/>
              <a:ext cx="206280" cy="1488960"/>
              <a:chOff x="6879600" y="2803320"/>
              <a:chExt cx="206280" cy="1488960"/>
            </a:xfrm>
          </p:grpSpPr>
          <p:sp>
            <p:nvSpPr>
              <p:cNvPr id="903" name=""/>
              <p:cNvSpPr/>
              <p:nvPr/>
            </p:nvSpPr>
            <p:spPr>
              <a:xfrm>
                <a:off x="7076520" y="2812320"/>
                <a:ext cx="0" cy="147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6932160" y="2803320"/>
                <a:ext cx="153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6879600" y="4292280"/>
                <a:ext cx="20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7446960" y="2803320"/>
              <a:ext cx="175320" cy="1488960"/>
              <a:chOff x="7446960" y="2803320"/>
              <a:chExt cx="175320" cy="1488960"/>
            </a:xfrm>
          </p:grpSpPr>
          <p:sp>
            <p:nvSpPr>
              <p:cNvPr id="907" name=""/>
              <p:cNvSpPr/>
              <p:nvPr/>
            </p:nvSpPr>
            <p:spPr>
              <a:xfrm>
                <a:off x="7446960" y="2812320"/>
                <a:ext cx="0" cy="147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457040" y="2803320"/>
                <a:ext cx="11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457040" y="429228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7893000" y="2803320"/>
              <a:ext cx="207360" cy="1488960"/>
              <a:chOff x="7893000" y="2803320"/>
              <a:chExt cx="207360" cy="1488960"/>
            </a:xfrm>
          </p:grpSpPr>
          <p:sp>
            <p:nvSpPr>
              <p:cNvPr id="911" name=""/>
              <p:cNvSpPr/>
              <p:nvPr/>
            </p:nvSpPr>
            <p:spPr>
              <a:xfrm>
                <a:off x="8089920" y="2812320"/>
                <a:ext cx="0" cy="147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7946280" y="2803320"/>
                <a:ext cx="15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>
                <a:off x="7893000" y="4292280"/>
                <a:ext cx="20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7481880" y="2789280"/>
              <a:ext cx="5810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482240" y="3289320"/>
              <a:ext cx="4770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G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508880" y="3746520"/>
              <a:ext cx="5587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1645920" y="2803320"/>
              <a:ext cx="175680" cy="1488960"/>
              <a:chOff x="1645920" y="2803320"/>
              <a:chExt cx="175680" cy="1488960"/>
            </a:xfrm>
          </p:grpSpPr>
          <p:sp>
            <p:nvSpPr>
              <p:cNvPr id="918" name=""/>
              <p:cNvSpPr/>
              <p:nvPr/>
            </p:nvSpPr>
            <p:spPr>
              <a:xfrm>
                <a:off x="1645920" y="2812320"/>
                <a:ext cx="0" cy="147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656000" y="2803320"/>
                <a:ext cx="112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656000" y="4292280"/>
                <a:ext cx="165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2092320" y="2803320"/>
              <a:ext cx="207360" cy="1488960"/>
              <a:chOff x="2092320" y="2803320"/>
              <a:chExt cx="207360" cy="1488960"/>
            </a:xfrm>
          </p:grpSpPr>
          <p:sp>
            <p:nvSpPr>
              <p:cNvPr id="922" name=""/>
              <p:cNvSpPr/>
              <p:nvPr/>
            </p:nvSpPr>
            <p:spPr>
              <a:xfrm>
                <a:off x="2289240" y="2812320"/>
                <a:ext cx="0" cy="147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2144520" y="2803320"/>
                <a:ext cx="154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2092320" y="4292280"/>
                <a:ext cx="20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1666800" y="2789280"/>
              <a:ext cx="5810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644120" y="3289320"/>
              <a:ext cx="4359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676160" y="3746520"/>
              <a:ext cx="5587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472840" y="3085920"/>
              <a:ext cx="4039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2556000" y="5157720"/>
                <a:ext cx="45990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1650960" y="5800680"/>
            <a:ext cx="4351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241880" y="5813280"/>
            <a:ext cx="0" cy="1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984400" y="5813280"/>
            <a:ext cx="0" cy="1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752480" y="5813280"/>
            <a:ext cx="0" cy="1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425920" y="5813280"/>
            <a:ext cx="0" cy="1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1066680" y="2319120"/>
            <a:ext cx="680400" cy="3563640"/>
            <a:chOff x="1066680" y="2319120"/>
            <a:chExt cx="680400" cy="3563640"/>
          </a:xfrm>
        </p:grpSpPr>
        <p:grpSp>
          <p:nvGrpSpPr>
            <p:cNvPr id="936" name=""/>
            <p:cNvGrpSpPr/>
            <p:nvPr/>
          </p:nvGrpSpPr>
          <p:grpSpPr>
            <a:xfrm>
              <a:off x="1544760" y="2319120"/>
              <a:ext cx="202320" cy="3563640"/>
              <a:chOff x="1544760" y="2319120"/>
              <a:chExt cx="202320" cy="3563640"/>
            </a:xfrm>
          </p:grpSpPr>
          <p:sp>
            <p:nvSpPr>
              <p:cNvPr id="937" name=""/>
              <p:cNvSpPr/>
              <p:nvPr/>
            </p:nvSpPr>
            <p:spPr>
              <a:xfrm flipV="1">
                <a:off x="1747080" y="2319120"/>
                <a:ext cx="0" cy="356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>
                <a:off x="1544760" y="560448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>
                <a:off x="1544760" y="544860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1544760" y="529200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H="1">
                <a:off x="1544760" y="513612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H="1">
                <a:off x="1544760" y="497844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H="1">
                <a:off x="1544760" y="482220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1544760" y="466632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>
                <a:off x="1544760" y="451008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1544760" y="435204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1544760" y="419616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1544760" y="403848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>
                <a:off x="1544760" y="388224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>
                <a:off x="1544760" y="372600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>
                <a:off x="1544760" y="357012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>
                <a:off x="1544760" y="341388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>
                <a:off x="1544760" y="325764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H="1">
                <a:off x="1544760" y="309960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>
                <a:off x="1544760" y="294372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>
                <a:off x="1544760" y="278604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>
                <a:off x="1544760" y="2629800"/>
                <a:ext cx="20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1066680" y="2504880"/>
              <a:ext cx="466920" cy="3146400"/>
              <a:chOff x="1066680" y="2504880"/>
              <a:chExt cx="466920" cy="3146400"/>
            </a:xfrm>
          </p:grpSpPr>
          <p:sp>
            <p:nvSpPr>
              <p:cNvPr id="959" name=""/>
              <p:cNvSpPr/>
              <p:nvPr/>
            </p:nvSpPr>
            <p:spPr>
              <a:xfrm>
                <a:off x="1066680" y="5315400"/>
                <a:ext cx="466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066680" y="5015160"/>
                <a:ext cx="466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066680" y="4673880"/>
                <a:ext cx="466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066680" y="4385880"/>
                <a:ext cx="466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066680" y="4073760"/>
                <a:ext cx="466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066680" y="3755160"/>
                <a:ext cx="466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066680" y="3433680"/>
                <a:ext cx="466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066680" y="3135240"/>
                <a:ext cx="466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066680" y="2826360"/>
                <a:ext cx="466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066680" y="2504880"/>
                <a:ext cx="466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.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9" name=""/>
          <p:cNvSpPr/>
          <p:nvPr/>
        </p:nvSpPr>
        <p:spPr>
          <a:xfrm>
            <a:off x="1773360" y="2992320"/>
            <a:ext cx="1822320" cy="2813040"/>
          </a:xfrm>
          <a:custGeom>
            <a:avLst/>
            <a:gdLst/>
            <a:ahLst/>
            <a:rect l="l" t="t" r="r" b="b"/>
            <a:pathLst>
              <a:path w="861" h="1819">
                <a:moveTo>
                  <a:pt x="0" y="1732"/>
                </a:moveTo>
                <a:lnTo>
                  <a:pt x="20" y="1624"/>
                </a:lnTo>
                <a:lnTo>
                  <a:pt x="52" y="1510"/>
                </a:lnTo>
                <a:lnTo>
                  <a:pt x="68" y="1410"/>
                </a:lnTo>
                <a:lnTo>
                  <a:pt x="84" y="1306"/>
                </a:lnTo>
                <a:lnTo>
                  <a:pt x="100" y="1116"/>
                </a:lnTo>
                <a:lnTo>
                  <a:pt x="132" y="801"/>
                </a:lnTo>
                <a:lnTo>
                  <a:pt x="164" y="329"/>
                </a:lnTo>
                <a:lnTo>
                  <a:pt x="172" y="223"/>
                </a:lnTo>
                <a:lnTo>
                  <a:pt x="212" y="71"/>
                </a:lnTo>
                <a:lnTo>
                  <a:pt x="236" y="21"/>
                </a:lnTo>
                <a:lnTo>
                  <a:pt x="260" y="0"/>
                </a:lnTo>
                <a:lnTo>
                  <a:pt x="300" y="21"/>
                </a:lnTo>
                <a:lnTo>
                  <a:pt x="332" y="135"/>
                </a:lnTo>
                <a:lnTo>
                  <a:pt x="380" y="479"/>
                </a:lnTo>
                <a:lnTo>
                  <a:pt x="428" y="916"/>
                </a:lnTo>
                <a:lnTo>
                  <a:pt x="476" y="1173"/>
                </a:lnTo>
                <a:lnTo>
                  <a:pt x="540" y="1467"/>
                </a:lnTo>
                <a:lnTo>
                  <a:pt x="644" y="1685"/>
                </a:lnTo>
                <a:lnTo>
                  <a:pt x="756" y="1789"/>
                </a:lnTo>
                <a:lnTo>
                  <a:pt x="860" y="1818"/>
                </a:lnTo>
              </a:path>
            </a:pathLst>
          </a:custGeom>
          <a:noFill/>
          <a:ln cap="rnd" w="255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765440" y="4132440"/>
            <a:ext cx="3633480" cy="1679400"/>
          </a:xfrm>
          <a:custGeom>
            <a:avLst/>
            <a:gdLst/>
            <a:ahLst/>
            <a:rect l="l" t="t" r="r" b="b"/>
            <a:pathLst>
              <a:path w="1717" h="1086">
                <a:moveTo>
                  <a:pt x="0" y="1042"/>
                </a:moveTo>
                <a:lnTo>
                  <a:pt x="36" y="1031"/>
                </a:lnTo>
                <a:lnTo>
                  <a:pt x="68" y="1009"/>
                </a:lnTo>
                <a:lnTo>
                  <a:pt x="100" y="973"/>
                </a:lnTo>
                <a:lnTo>
                  <a:pt x="132" y="913"/>
                </a:lnTo>
                <a:lnTo>
                  <a:pt x="152" y="845"/>
                </a:lnTo>
                <a:lnTo>
                  <a:pt x="164" y="805"/>
                </a:lnTo>
                <a:lnTo>
                  <a:pt x="192" y="766"/>
                </a:lnTo>
                <a:lnTo>
                  <a:pt x="236" y="744"/>
                </a:lnTo>
                <a:lnTo>
                  <a:pt x="280" y="751"/>
                </a:lnTo>
                <a:lnTo>
                  <a:pt x="324" y="784"/>
                </a:lnTo>
                <a:lnTo>
                  <a:pt x="356" y="823"/>
                </a:lnTo>
                <a:lnTo>
                  <a:pt x="392" y="866"/>
                </a:lnTo>
                <a:lnTo>
                  <a:pt x="448" y="956"/>
                </a:lnTo>
                <a:lnTo>
                  <a:pt x="500" y="1013"/>
                </a:lnTo>
                <a:lnTo>
                  <a:pt x="532" y="1049"/>
                </a:lnTo>
                <a:lnTo>
                  <a:pt x="576" y="1077"/>
                </a:lnTo>
                <a:lnTo>
                  <a:pt x="652" y="1042"/>
                </a:lnTo>
                <a:lnTo>
                  <a:pt x="696" y="984"/>
                </a:lnTo>
                <a:lnTo>
                  <a:pt x="752" y="898"/>
                </a:lnTo>
                <a:lnTo>
                  <a:pt x="816" y="759"/>
                </a:lnTo>
                <a:lnTo>
                  <a:pt x="968" y="329"/>
                </a:lnTo>
                <a:lnTo>
                  <a:pt x="1032" y="168"/>
                </a:lnTo>
                <a:lnTo>
                  <a:pt x="1080" y="57"/>
                </a:lnTo>
                <a:lnTo>
                  <a:pt x="1136" y="0"/>
                </a:lnTo>
                <a:lnTo>
                  <a:pt x="1164" y="3"/>
                </a:lnTo>
                <a:lnTo>
                  <a:pt x="1212" y="50"/>
                </a:lnTo>
                <a:lnTo>
                  <a:pt x="1244" y="103"/>
                </a:lnTo>
                <a:lnTo>
                  <a:pt x="1280" y="214"/>
                </a:lnTo>
                <a:lnTo>
                  <a:pt x="1324" y="350"/>
                </a:lnTo>
                <a:lnTo>
                  <a:pt x="1380" y="558"/>
                </a:lnTo>
                <a:lnTo>
                  <a:pt x="1448" y="777"/>
                </a:lnTo>
                <a:lnTo>
                  <a:pt x="1516" y="934"/>
                </a:lnTo>
                <a:lnTo>
                  <a:pt x="1592" y="1031"/>
                </a:lnTo>
                <a:lnTo>
                  <a:pt x="1652" y="1070"/>
                </a:lnTo>
                <a:lnTo>
                  <a:pt x="1716" y="1085"/>
                </a:lnTo>
              </a:path>
            </a:pathLst>
          </a:custGeom>
          <a:noFill/>
          <a:ln cap="rnd" w="255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755720" y="4221000"/>
            <a:ext cx="3651480" cy="1606680"/>
          </a:xfrm>
          <a:custGeom>
            <a:avLst/>
            <a:gdLst/>
            <a:ahLst/>
            <a:rect l="l" t="t" r="r" b="b"/>
            <a:pathLst>
              <a:path w="1725" h="1039">
                <a:moveTo>
                  <a:pt x="0" y="1012"/>
                </a:moveTo>
                <a:lnTo>
                  <a:pt x="116" y="1009"/>
                </a:lnTo>
                <a:lnTo>
                  <a:pt x="256" y="969"/>
                </a:lnTo>
                <a:lnTo>
                  <a:pt x="352" y="927"/>
                </a:lnTo>
                <a:lnTo>
                  <a:pt x="452" y="859"/>
                </a:lnTo>
                <a:lnTo>
                  <a:pt x="528" y="773"/>
                </a:lnTo>
                <a:lnTo>
                  <a:pt x="612" y="637"/>
                </a:lnTo>
                <a:lnTo>
                  <a:pt x="676" y="458"/>
                </a:lnTo>
                <a:lnTo>
                  <a:pt x="720" y="286"/>
                </a:lnTo>
                <a:lnTo>
                  <a:pt x="764" y="128"/>
                </a:lnTo>
                <a:lnTo>
                  <a:pt x="812" y="35"/>
                </a:lnTo>
                <a:lnTo>
                  <a:pt x="880" y="0"/>
                </a:lnTo>
                <a:lnTo>
                  <a:pt x="936" y="10"/>
                </a:lnTo>
                <a:lnTo>
                  <a:pt x="984" y="64"/>
                </a:lnTo>
                <a:lnTo>
                  <a:pt x="1036" y="139"/>
                </a:lnTo>
                <a:lnTo>
                  <a:pt x="1096" y="257"/>
                </a:lnTo>
                <a:lnTo>
                  <a:pt x="1172" y="425"/>
                </a:lnTo>
                <a:lnTo>
                  <a:pt x="1228" y="561"/>
                </a:lnTo>
                <a:lnTo>
                  <a:pt x="1304" y="705"/>
                </a:lnTo>
                <a:lnTo>
                  <a:pt x="1372" y="830"/>
                </a:lnTo>
                <a:lnTo>
                  <a:pt x="1472" y="937"/>
                </a:lnTo>
                <a:lnTo>
                  <a:pt x="1564" y="1005"/>
                </a:lnTo>
                <a:lnTo>
                  <a:pt x="1600" y="1016"/>
                </a:lnTo>
                <a:lnTo>
                  <a:pt x="1672" y="1038"/>
                </a:lnTo>
                <a:lnTo>
                  <a:pt x="1724" y="1027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rot="16200000">
            <a:off x="-12960" y="3925440"/>
            <a:ext cx="69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757840" y="5751360"/>
            <a:ext cx="736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523520" y="59342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657160" y="59342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893760" y="59342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061960" y="59342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336400" y="1700280"/>
            <a:ext cx="3452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es Básicas do CIE 19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03040" y="365040"/>
            <a:ext cx="86695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mponentes das cores monocromáticas - CIE XYZ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4452840" y="3747960"/>
                <a:ext cx="8064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2984400" y="3695760"/>
                <a:ext cx="8064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1835280" y="2349360"/>
                <a:ext cx="774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4" name=""/>
          <p:cNvSpPr/>
          <p:nvPr/>
        </p:nvSpPr>
        <p:spPr>
          <a:xfrm>
            <a:off x="6227640" y="3645000"/>
            <a:ext cx="2687760" cy="161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foi  escolhida de forma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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ser semelhante à  curva de sensibilidade do olho (luminâ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164360" y="407664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3059280" y="2708280"/>
                <a:ext cx="45990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042560" y="5724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res visíveis representadas no sistema CIE XYZ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258920" y="1700280"/>
            <a:ext cx="7489800" cy="4674600"/>
            <a:chOff x="1258920" y="1700280"/>
            <a:chExt cx="7489800" cy="4674600"/>
          </a:xfrm>
        </p:grpSpPr>
        <p:grpSp>
          <p:nvGrpSpPr>
            <p:cNvPr id="989" name=""/>
            <p:cNvGrpSpPr/>
            <p:nvPr/>
          </p:nvGrpSpPr>
          <p:grpSpPr>
            <a:xfrm>
              <a:off x="5500800" y="2301840"/>
              <a:ext cx="3035160" cy="4073040"/>
              <a:chOff x="5500800" y="2301840"/>
              <a:chExt cx="3035160" cy="4073040"/>
            </a:xfrm>
          </p:grpSpPr>
          <p:sp>
            <p:nvSpPr>
              <p:cNvPr id="990" name=""/>
              <p:cNvSpPr/>
              <p:nvPr/>
            </p:nvSpPr>
            <p:spPr>
              <a:xfrm>
                <a:off x="5500800" y="5050080"/>
                <a:ext cx="303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V="1">
                <a:off x="5516640" y="2557440"/>
                <a:ext cx="0" cy="2504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516640" y="5061600"/>
                <a:ext cx="970560" cy="94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516640" y="5061600"/>
                <a:ext cx="1493280" cy="47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6640" y="5050080"/>
                <a:ext cx="1324440" cy="30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V="1">
                <a:off x="5532480" y="4640760"/>
                <a:ext cx="1077480" cy="43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948280" y="2545560"/>
                <a:ext cx="2481840" cy="3018600"/>
              </a:xfrm>
              <a:custGeom>
                <a:avLst/>
                <a:gdLst/>
                <a:ahLst/>
                <a:rect l="l" t="t" r="r" b="b"/>
                <a:pathLst>
                  <a:path w="1289" h="2121">
                    <a:moveTo>
                      <a:pt x="568" y="2120"/>
                    </a:moveTo>
                    <a:lnTo>
                      <a:pt x="480" y="1992"/>
                    </a:lnTo>
                    <a:lnTo>
                      <a:pt x="440" y="1888"/>
                    </a:lnTo>
                    <a:lnTo>
                      <a:pt x="384" y="1720"/>
                    </a:lnTo>
                    <a:lnTo>
                      <a:pt x="352" y="1480"/>
                    </a:lnTo>
                    <a:lnTo>
                      <a:pt x="296" y="1240"/>
                    </a:lnTo>
                    <a:lnTo>
                      <a:pt x="264" y="984"/>
                    </a:lnTo>
                    <a:lnTo>
                      <a:pt x="192" y="688"/>
                    </a:lnTo>
                    <a:lnTo>
                      <a:pt x="112" y="416"/>
                    </a:lnTo>
                    <a:lnTo>
                      <a:pt x="24" y="64"/>
                    </a:lnTo>
                    <a:lnTo>
                      <a:pt x="0" y="16"/>
                    </a:lnTo>
                    <a:lnTo>
                      <a:pt x="48" y="0"/>
                    </a:lnTo>
                    <a:lnTo>
                      <a:pt x="288" y="88"/>
                    </a:lnTo>
                    <a:lnTo>
                      <a:pt x="616" y="296"/>
                    </a:lnTo>
                    <a:lnTo>
                      <a:pt x="816" y="448"/>
                    </a:lnTo>
                    <a:lnTo>
                      <a:pt x="1008" y="680"/>
                    </a:lnTo>
                    <a:lnTo>
                      <a:pt x="1160" y="904"/>
                    </a:lnTo>
                    <a:lnTo>
                      <a:pt x="1280" y="1144"/>
                    </a:lnTo>
                    <a:lnTo>
                      <a:pt x="1288" y="1248"/>
                    </a:lnTo>
                    <a:lnTo>
                      <a:pt x="568" y="212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5516640" y="4311360"/>
                <a:ext cx="1000800" cy="75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5516280" y="3969360"/>
                <a:ext cx="908280" cy="108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5516640" y="3537360"/>
                <a:ext cx="785520" cy="151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5516280" y="3138480"/>
                <a:ext cx="646920" cy="19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>
                <a:off x="5532480" y="2580480"/>
                <a:ext cx="446400" cy="2469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5546880" y="4321440"/>
                <a:ext cx="2882160" cy="74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8178840" y="510840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513400" y="230184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544440" y="6008040"/>
                <a:ext cx="325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06" name=""/>
                <p:cNvSpPr txBox="1"/>
                <p:nvPr/>
              </p:nvSpPr>
              <p:spPr>
                <a:xfrm>
                  <a:off x="2992320" y="1895760"/>
                  <a:ext cx="1868040" cy="437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f>
                            <m:num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80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80</m:t>
                                  </m:r>
                                </m:sup>
                                <m:e>
                                  <m:r>
                                    <m:t xml:space="preserve">c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λ</m:t>
                                  </m:r>
                                  <m:r>
                                    <m:t xml:space="preserve">)</m:t>
                                  </m:r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  <m:r>
                                    <m:t xml:space="preserve">(</m:t>
                                  </m:r>
                                  <m:r>
                                    <m:t xml:space="preserve">λ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dλ</m:t>
                                  </m:r>
                                </m:e>
                              </m:nary>
                            </m:num>
                            <m:den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80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80</m:t>
                                  </m:r>
                                </m: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  <m:r>
                                    <m:t xml:space="preserve">(</m:t>
                                  </m:r>
                                  <m:r>
                                    <m:t xml:space="preserve">λ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dλ</m:t>
                                  </m:r>
                                </m:e>
                              </m:nary>
                            </m:den>
                          </m:f>
                        </m:e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f>
                            <m:num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80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80</m:t>
                                  </m:r>
                                </m:sup>
                                <m:e>
                                  <m:r>
                                    <m:t xml:space="preserve">c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λ</m:t>
                                  </m:r>
                                  <m:r>
                                    <m:t xml:space="preserve">)</m:t>
                                  </m:r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bar>
                                  <m:r>
                                    <m:t xml:space="preserve">(</m:t>
                                  </m:r>
                                  <m:r>
                                    <m:t xml:space="preserve">λ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dλ</m:t>
                                  </m:r>
                                </m:e>
                              </m:nary>
                            </m:num>
                            <m:den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80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80</m:t>
                                  </m:r>
                                </m: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bar>
                                  <m:r>
                                    <m:t xml:space="preserve">(</m:t>
                                  </m:r>
                                  <m:r>
                                    <m:t xml:space="preserve">λ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dλ</m:t>
                                  </m:r>
                                </m:e>
                              </m:nary>
                            </m:den>
                          </m:f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f>
                            <m:num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80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80</m:t>
                                  </m:r>
                                </m:sup>
                                <m:e>
                                  <m:r>
                                    <m:t xml:space="preserve">c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λ</m:t>
                                  </m:r>
                                  <m:r>
                                    <m:t xml:space="preserve">)</m:t>
                                  </m:r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bar>
                                  <m:r>
                                    <m:t xml:space="preserve">(</m:t>
                                  </m:r>
                                  <m:r>
                                    <m:t xml:space="preserve">λ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dλ</m:t>
                                  </m:r>
                                </m:e>
                              </m:nary>
                            </m:num>
                            <m:den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80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80</m:t>
                                  </m:r>
                                </m: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bar>
                                  <m:r>
                                    <m:t xml:space="preserve">(</m:t>
                                  </m:r>
                                  <m:r>
                                    <m:t xml:space="preserve">λ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dλ</m:t>
                                  </m:r>
                                </m:e>
                              </m:nary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07" name=""/>
            <p:cNvSpPr/>
            <p:nvPr/>
          </p:nvSpPr>
          <p:spPr>
            <a:xfrm>
              <a:off x="1258920" y="3584160"/>
              <a:ext cx="165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1294920" y="1799280"/>
              <a:ext cx="0" cy="18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305000" y="2142720"/>
              <a:ext cx="694800" cy="1431360"/>
            </a:xfrm>
            <a:custGeom>
              <a:avLst/>
              <a:gdLst/>
              <a:ahLst/>
              <a:rect l="l" t="t" r="r" b="b"/>
              <a:pathLst>
                <a:path w="861" h="1819">
                  <a:moveTo>
                    <a:pt x="0" y="1732"/>
                  </a:moveTo>
                  <a:lnTo>
                    <a:pt x="20" y="1624"/>
                  </a:lnTo>
                  <a:lnTo>
                    <a:pt x="52" y="1510"/>
                  </a:lnTo>
                  <a:lnTo>
                    <a:pt x="68" y="1410"/>
                  </a:lnTo>
                  <a:lnTo>
                    <a:pt x="84" y="1306"/>
                  </a:lnTo>
                  <a:lnTo>
                    <a:pt x="100" y="1116"/>
                  </a:lnTo>
                  <a:lnTo>
                    <a:pt x="132" y="801"/>
                  </a:lnTo>
                  <a:lnTo>
                    <a:pt x="164" y="329"/>
                  </a:lnTo>
                  <a:lnTo>
                    <a:pt x="172" y="223"/>
                  </a:lnTo>
                  <a:lnTo>
                    <a:pt x="212" y="71"/>
                  </a:lnTo>
                  <a:lnTo>
                    <a:pt x="236" y="21"/>
                  </a:lnTo>
                  <a:lnTo>
                    <a:pt x="260" y="0"/>
                  </a:lnTo>
                  <a:lnTo>
                    <a:pt x="300" y="21"/>
                  </a:lnTo>
                  <a:lnTo>
                    <a:pt x="332" y="135"/>
                  </a:lnTo>
                  <a:lnTo>
                    <a:pt x="380" y="479"/>
                  </a:lnTo>
                  <a:lnTo>
                    <a:pt x="428" y="916"/>
                  </a:lnTo>
                  <a:lnTo>
                    <a:pt x="476" y="1173"/>
                  </a:lnTo>
                  <a:lnTo>
                    <a:pt x="540" y="1467"/>
                  </a:lnTo>
                  <a:lnTo>
                    <a:pt x="644" y="1685"/>
                  </a:lnTo>
                  <a:lnTo>
                    <a:pt x="756" y="1789"/>
                  </a:lnTo>
                  <a:lnTo>
                    <a:pt x="860" y="1818"/>
                  </a:lnTo>
                </a:path>
              </a:pathLst>
            </a:custGeom>
            <a:noFill/>
            <a:ln cap="rnd" w="255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302120" y="2722320"/>
              <a:ext cx="1384200" cy="854280"/>
            </a:xfrm>
            <a:custGeom>
              <a:avLst/>
              <a:gdLst/>
              <a:ahLst/>
              <a:rect l="l" t="t" r="r" b="b"/>
              <a:pathLst>
                <a:path w="1717" h="1086">
                  <a:moveTo>
                    <a:pt x="0" y="1042"/>
                  </a:moveTo>
                  <a:lnTo>
                    <a:pt x="36" y="1031"/>
                  </a:lnTo>
                  <a:lnTo>
                    <a:pt x="68" y="1009"/>
                  </a:lnTo>
                  <a:lnTo>
                    <a:pt x="100" y="973"/>
                  </a:lnTo>
                  <a:lnTo>
                    <a:pt x="132" y="913"/>
                  </a:lnTo>
                  <a:lnTo>
                    <a:pt x="152" y="845"/>
                  </a:lnTo>
                  <a:lnTo>
                    <a:pt x="164" y="805"/>
                  </a:lnTo>
                  <a:lnTo>
                    <a:pt x="192" y="766"/>
                  </a:lnTo>
                  <a:lnTo>
                    <a:pt x="236" y="744"/>
                  </a:lnTo>
                  <a:lnTo>
                    <a:pt x="280" y="751"/>
                  </a:lnTo>
                  <a:lnTo>
                    <a:pt x="324" y="784"/>
                  </a:lnTo>
                  <a:lnTo>
                    <a:pt x="356" y="823"/>
                  </a:lnTo>
                  <a:lnTo>
                    <a:pt x="392" y="866"/>
                  </a:lnTo>
                  <a:lnTo>
                    <a:pt x="448" y="956"/>
                  </a:lnTo>
                  <a:lnTo>
                    <a:pt x="500" y="1013"/>
                  </a:lnTo>
                  <a:lnTo>
                    <a:pt x="532" y="1049"/>
                  </a:lnTo>
                  <a:lnTo>
                    <a:pt x="576" y="1077"/>
                  </a:lnTo>
                  <a:lnTo>
                    <a:pt x="652" y="1042"/>
                  </a:lnTo>
                  <a:lnTo>
                    <a:pt x="696" y="984"/>
                  </a:lnTo>
                  <a:lnTo>
                    <a:pt x="752" y="898"/>
                  </a:lnTo>
                  <a:lnTo>
                    <a:pt x="816" y="759"/>
                  </a:lnTo>
                  <a:lnTo>
                    <a:pt x="968" y="329"/>
                  </a:lnTo>
                  <a:lnTo>
                    <a:pt x="1032" y="168"/>
                  </a:lnTo>
                  <a:lnTo>
                    <a:pt x="1080" y="57"/>
                  </a:lnTo>
                  <a:lnTo>
                    <a:pt x="1136" y="0"/>
                  </a:lnTo>
                  <a:lnTo>
                    <a:pt x="1164" y="3"/>
                  </a:lnTo>
                  <a:lnTo>
                    <a:pt x="1212" y="50"/>
                  </a:lnTo>
                  <a:lnTo>
                    <a:pt x="1244" y="103"/>
                  </a:lnTo>
                  <a:lnTo>
                    <a:pt x="1280" y="214"/>
                  </a:lnTo>
                  <a:lnTo>
                    <a:pt x="1324" y="350"/>
                  </a:lnTo>
                  <a:lnTo>
                    <a:pt x="1380" y="558"/>
                  </a:lnTo>
                  <a:lnTo>
                    <a:pt x="1448" y="777"/>
                  </a:lnTo>
                  <a:lnTo>
                    <a:pt x="1516" y="934"/>
                  </a:lnTo>
                  <a:lnTo>
                    <a:pt x="1592" y="1031"/>
                  </a:lnTo>
                  <a:lnTo>
                    <a:pt x="1652" y="1070"/>
                  </a:lnTo>
                  <a:lnTo>
                    <a:pt x="1716" y="1085"/>
                  </a:lnTo>
                </a:path>
              </a:pathLst>
            </a:custGeom>
            <a:noFill/>
            <a:ln cap="rnd" w="255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298880" y="2767680"/>
              <a:ext cx="1391400" cy="817560"/>
            </a:xfrm>
            <a:custGeom>
              <a:avLst/>
              <a:gdLst/>
              <a:ahLst/>
              <a:rect l="l" t="t" r="r" b="b"/>
              <a:pathLst>
                <a:path w="1725" h="1039">
                  <a:moveTo>
                    <a:pt x="0" y="1012"/>
                  </a:moveTo>
                  <a:lnTo>
                    <a:pt x="116" y="1009"/>
                  </a:lnTo>
                  <a:lnTo>
                    <a:pt x="256" y="969"/>
                  </a:lnTo>
                  <a:lnTo>
                    <a:pt x="352" y="927"/>
                  </a:lnTo>
                  <a:lnTo>
                    <a:pt x="452" y="859"/>
                  </a:lnTo>
                  <a:lnTo>
                    <a:pt x="528" y="773"/>
                  </a:lnTo>
                  <a:lnTo>
                    <a:pt x="612" y="637"/>
                  </a:lnTo>
                  <a:lnTo>
                    <a:pt x="676" y="458"/>
                  </a:lnTo>
                  <a:lnTo>
                    <a:pt x="720" y="286"/>
                  </a:lnTo>
                  <a:lnTo>
                    <a:pt x="764" y="128"/>
                  </a:lnTo>
                  <a:lnTo>
                    <a:pt x="812" y="35"/>
                  </a:lnTo>
                  <a:lnTo>
                    <a:pt x="880" y="0"/>
                  </a:lnTo>
                  <a:lnTo>
                    <a:pt x="936" y="10"/>
                  </a:lnTo>
                  <a:lnTo>
                    <a:pt x="984" y="64"/>
                  </a:lnTo>
                  <a:lnTo>
                    <a:pt x="1036" y="139"/>
                  </a:lnTo>
                  <a:lnTo>
                    <a:pt x="1096" y="257"/>
                  </a:lnTo>
                  <a:lnTo>
                    <a:pt x="1172" y="425"/>
                  </a:lnTo>
                  <a:lnTo>
                    <a:pt x="1228" y="561"/>
                  </a:lnTo>
                  <a:lnTo>
                    <a:pt x="1304" y="705"/>
                  </a:lnTo>
                  <a:lnTo>
                    <a:pt x="1372" y="830"/>
                  </a:lnTo>
                  <a:lnTo>
                    <a:pt x="1472" y="937"/>
                  </a:lnTo>
                  <a:lnTo>
                    <a:pt x="1564" y="1005"/>
                  </a:lnTo>
                  <a:lnTo>
                    <a:pt x="1600" y="1016"/>
                  </a:lnTo>
                  <a:lnTo>
                    <a:pt x="1672" y="1038"/>
                  </a:lnTo>
                  <a:lnTo>
                    <a:pt x="1724" y="1027"/>
                  </a:lnTo>
                </a:path>
              </a:pathLst>
            </a:custGeom>
            <a:noFill/>
            <a:ln cap="rnd"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58920" y="5906160"/>
              <a:ext cx="165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1294920" y="4121280"/>
              <a:ext cx="0" cy="18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4" name=""/>
                <p:cNvSpPr txBox="1"/>
                <p:nvPr/>
              </p:nvSpPr>
              <p:spPr>
                <a:xfrm>
                  <a:off x="2284560" y="2399400"/>
                  <a:ext cx="62100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5" name=""/>
                <p:cNvSpPr txBox="1"/>
                <p:nvPr/>
              </p:nvSpPr>
              <p:spPr>
                <a:xfrm>
                  <a:off x="1686240" y="2304720"/>
                  <a:ext cx="605160" cy="44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6" name=""/>
                <p:cNvSpPr txBox="1"/>
                <p:nvPr/>
              </p:nvSpPr>
              <p:spPr>
                <a:xfrm>
                  <a:off x="1443600" y="1700280"/>
                  <a:ext cx="52020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z</m:t>
                          </m:r>
                        </m:e>
                      </m:ba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17" name=""/>
            <p:cNvSpPr/>
            <p:nvPr/>
          </p:nvSpPr>
          <p:spPr>
            <a:xfrm>
              <a:off x="1278720" y="4461840"/>
              <a:ext cx="1512360" cy="1112760"/>
            </a:xfrm>
            <a:custGeom>
              <a:avLst/>
              <a:gdLst/>
              <a:ahLst/>
              <a:rect l="l" t="t" r="r" b="b"/>
              <a:pathLst>
                <a:path w="1047" h="762">
                  <a:moveTo>
                    <a:pt x="0" y="551"/>
                  </a:moveTo>
                  <a:cubicBezTo>
                    <a:pt x="66" y="535"/>
                    <a:pt x="78" y="513"/>
                    <a:pt x="130" y="478"/>
                  </a:cubicBezTo>
                  <a:cubicBezTo>
                    <a:pt x="136" y="456"/>
                    <a:pt x="150" y="436"/>
                    <a:pt x="154" y="413"/>
                  </a:cubicBezTo>
                  <a:cubicBezTo>
                    <a:pt x="180" y="262"/>
                    <a:pt x="140" y="351"/>
                    <a:pt x="179" y="275"/>
                  </a:cubicBezTo>
                  <a:cubicBezTo>
                    <a:pt x="195" y="210"/>
                    <a:pt x="205" y="225"/>
                    <a:pt x="268" y="243"/>
                  </a:cubicBezTo>
                  <a:cubicBezTo>
                    <a:pt x="296" y="271"/>
                    <a:pt x="304" y="303"/>
                    <a:pt x="317" y="340"/>
                  </a:cubicBezTo>
                  <a:cubicBezTo>
                    <a:pt x="320" y="348"/>
                    <a:pt x="320" y="358"/>
                    <a:pt x="325" y="365"/>
                  </a:cubicBezTo>
                  <a:cubicBezTo>
                    <a:pt x="342" y="387"/>
                    <a:pt x="383" y="398"/>
                    <a:pt x="406" y="413"/>
                  </a:cubicBezTo>
                  <a:cubicBezTo>
                    <a:pt x="438" y="410"/>
                    <a:pt x="472" y="414"/>
                    <a:pt x="503" y="405"/>
                  </a:cubicBezTo>
                  <a:cubicBezTo>
                    <a:pt x="512" y="402"/>
                    <a:pt x="515" y="390"/>
                    <a:pt x="519" y="381"/>
                  </a:cubicBezTo>
                  <a:cubicBezTo>
                    <a:pt x="535" y="349"/>
                    <a:pt x="533" y="335"/>
                    <a:pt x="560" y="308"/>
                  </a:cubicBezTo>
                  <a:cubicBezTo>
                    <a:pt x="582" y="251"/>
                    <a:pt x="585" y="181"/>
                    <a:pt x="617" y="129"/>
                  </a:cubicBezTo>
                  <a:cubicBezTo>
                    <a:pt x="646" y="81"/>
                    <a:pt x="733" y="13"/>
                    <a:pt x="787" y="0"/>
                  </a:cubicBezTo>
                  <a:cubicBezTo>
                    <a:pt x="892" y="70"/>
                    <a:pt x="825" y="167"/>
                    <a:pt x="836" y="316"/>
                  </a:cubicBezTo>
                  <a:cubicBezTo>
                    <a:pt x="838" y="345"/>
                    <a:pt x="885" y="431"/>
                    <a:pt x="909" y="454"/>
                  </a:cubicBezTo>
                  <a:cubicBezTo>
                    <a:pt x="912" y="462"/>
                    <a:pt x="916" y="470"/>
                    <a:pt x="917" y="478"/>
                  </a:cubicBezTo>
                  <a:cubicBezTo>
                    <a:pt x="921" y="507"/>
                    <a:pt x="919" y="538"/>
                    <a:pt x="925" y="567"/>
                  </a:cubicBezTo>
                  <a:cubicBezTo>
                    <a:pt x="927" y="577"/>
                    <a:pt x="937" y="583"/>
                    <a:pt x="941" y="592"/>
                  </a:cubicBezTo>
                  <a:cubicBezTo>
                    <a:pt x="945" y="600"/>
                    <a:pt x="944" y="609"/>
                    <a:pt x="949" y="616"/>
                  </a:cubicBezTo>
                  <a:cubicBezTo>
                    <a:pt x="955" y="624"/>
                    <a:pt x="967" y="625"/>
                    <a:pt x="974" y="632"/>
                  </a:cubicBezTo>
                  <a:cubicBezTo>
                    <a:pt x="988" y="645"/>
                    <a:pt x="1000" y="659"/>
                    <a:pt x="1014" y="673"/>
                  </a:cubicBezTo>
                  <a:cubicBezTo>
                    <a:pt x="1020" y="679"/>
                    <a:pt x="1031" y="689"/>
                    <a:pt x="1031" y="689"/>
                  </a:cubicBezTo>
                  <a:cubicBezTo>
                    <a:pt x="1034" y="705"/>
                    <a:pt x="1035" y="722"/>
                    <a:pt x="1039" y="738"/>
                  </a:cubicBezTo>
                  <a:cubicBezTo>
                    <a:pt x="1041" y="746"/>
                    <a:pt x="1047" y="762"/>
                    <a:pt x="1047" y="76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8" name=""/>
                <p:cNvSpPr txBox="1"/>
                <p:nvPr/>
              </p:nvSpPr>
              <p:spPr>
                <a:xfrm>
                  <a:off x="1560600" y="4289760"/>
                  <a:ext cx="520200" cy="33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9" name=""/>
                <p:cNvSpPr txBox="1"/>
                <p:nvPr/>
              </p:nvSpPr>
              <p:spPr>
                <a:xfrm>
                  <a:off x="7014600" y="5650560"/>
                  <a:ext cx="878400" cy="2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00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0" name=""/>
                <p:cNvSpPr txBox="1"/>
                <p:nvPr/>
              </p:nvSpPr>
              <p:spPr>
                <a:xfrm>
                  <a:off x="7870320" y="3991680"/>
                  <a:ext cx="878400" cy="22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700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ome das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2359080" y="1698480"/>
            <a:ext cx="5741640" cy="5043600"/>
            <a:chOff x="2359080" y="1698480"/>
            <a:chExt cx="5741640" cy="5043600"/>
          </a:xfrm>
        </p:grpSpPr>
        <p:grpSp>
          <p:nvGrpSpPr>
            <p:cNvPr id="1023" name=""/>
            <p:cNvGrpSpPr/>
            <p:nvPr/>
          </p:nvGrpSpPr>
          <p:grpSpPr>
            <a:xfrm>
              <a:off x="2359080" y="1698480"/>
              <a:ext cx="5741640" cy="5043600"/>
              <a:chOff x="2359080" y="1698480"/>
              <a:chExt cx="5741640" cy="5043600"/>
            </a:xfrm>
          </p:grpSpPr>
          <p:pic>
            <p:nvPicPr>
              <p:cNvPr id="102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11320" y="2266200"/>
                <a:ext cx="3672000" cy="380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"/>
              <p:cNvSpPr/>
              <p:nvPr/>
            </p:nvSpPr>
            <p:spPr>
              <a:xfrm>
                <a:off x="2907360" y="1698480"/>
                <a:ext cx="3960" cy="4392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2900520" y="6091560"/>
                <a:ext cx="5163120" cy="2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751280" y="6287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824920" y="1949400"/>
                <a:ext cx="6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24920" y="2873520"/>
                <a:ext cx="6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824920" y="2391480"/>
                <a:ext cx="6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824920" y="3325680"/>
                <a:ext cx="6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824920" y="3787560"/>
                <a:ext cx="6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824920" y="4239720"/>
                <a:ext cx="6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824920" y="4701600"/>
                <a:ext cx="6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824920" y="5163840"/>
                <a:ext cx="6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824920" y="5625720"/>
                <a:ext cx="6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3396600" y="60775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V="1">
                <a:off x="3880440" y="60775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4375080" y="60775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V="1">
                <a:off x="4870080" y="60775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V="1">
                <a:off x="5353560" y="60775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V="1">
                <a:off x="5837400" y="60775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6332400" y="60775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6827040" y="60775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7310520" y="60775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457320" y="466020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6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176880" y="439524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6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692320" y="398736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5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368240" y="275688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5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110200" y="338580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57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000840" y="421956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6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438880" y="367596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58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758840" y="305964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56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053960" y="247824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54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512800" y="298512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50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523600" y="351144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5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502000" y="249084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5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080880" y="207504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5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593520" y="219060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53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725920" y="455724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4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617200" y="408024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49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852280" y="504324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48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985480" y="538740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48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160080" y="571500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47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300480" y="590220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4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602120" y="6140520"/>
                <a:ext cx="49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1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7794720" y="608760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118120" y="6170760"/>
                <a:ext cx="49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0.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547000" y="6091560"/>
                <a:ext cx="49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0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359080" y="3689640"/>
                <a:ext cx="49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0.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457360" y="1820160"/>
                <a:ext cx="49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 (Hebrew)"/>
                  </a:rPr>
                  <a:t>0.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"/>
            <p:cNvSpPr/>
            <p:nvPr/>
          </p:nvSpPr>
          <p:spPr>
            <a:xfrm rot="19620000">
              <a:off x="3893760" y="4341240"/>
              <a:ext cx="1295640" cy="58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9500000">
              <a:off x="4335120" y="4662360"/>
              <a:ext cx="809640" cy="284760"/>
            </a:xfrm>
            <a:prstGeom prst="ellipse">
              <a:avLst/>
            </a:prstGeom>
            <a:solidFill>
              <a:srgbClr val="f39fd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082840" y="4610160"/>
              <a:ext cx="129312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052600" y="4770720"/>
              <a:ext cx="1132560" cy="2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276080" y="5052240"/>
              <a:ext cx="47880" cy="79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3458520" y="5024520"/>
              <a:ext cx="597600" cy="74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21000" y="4872600"/>
              <a:ext cx="627840" cy="537480"/>
            </a:xfrm>
            <a:custGeom>
              <a:avLst/>
              <a:gdLst/>
              <a:ahLst/>
              <a:rect l="l" t="t" r="r" b="b"/>
              <a:pathLst>
                <a:path w="457" h="428">
                  <a:moveTo>
                    <a:pt x="456" y="0"/>
                  </a:moveTo>
                  <a:lnTo>
                    <a:pt x="360" y="59"/>
                  </a:lnTo>
                  <a:lnTo>
                    <a:pt x="296" y="107"/>
                  </a:lnTo>
                  <a:lnTo>
                    <a:pt x="211" y="176"/>
                  </a:lnTo>
                  <a:lnTo>
                    <a:pt x="131" y="264"/>
                  </a:lnTo>
                  <a:lnTo>
                    <a:pt x="72" y="333"/>
                  </a:lnTo>
                  <a:lnTo>
                    <a:pt x="0" y="4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5067720" y="3882960"/>
              <a:ext cx="450360" cy="39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826160" y="3732120"/>
              <a:ext cx="51660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043880" y="2588760"/>
              <a:ext cx="326880" cy="1782720"/>
            </a:xfrm>
            <a:custGeom>
              <a:avLst/>
              <a:gdLst/>
              <a:ahLst/>
              <a:rect l="l" t="t" r="r" b="b"/>
              <a:pathLst>
                <a:path w="238" h="1420">
                  <a:moveTo>
                    <a:pt x="0" y="0"/>
                  </a:moveTo>
                  <a:lnTo>
                    <a:pt x="69" y="139"/>
                  </a:lnTo>
                  <a:lnTo>
                    <a:pt x="114" y="270"/>
                  </a:lnTo>
                  <a:lnTo>
                    <a:pt x="157" y="475"/>
                  </a:lnTo>
                  <a:lnTo>
                    <a:pt x="184" y="659"/>
                  </a:lnTo>
                  <a:lnTo>
                    <a:pt x="205" y="875"/>
                  </a:lnTo>
                  <a:lnTo>
                    <a:pt x="229" y="1147"/>
                  </a:lnTo>
                  <a:lnTo>
                    <a:pt x="237" y="14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951280" y="3948480"/>
              <a:ext cx="1129680" cy="669960"/>
            </a:xfrm>
            <a:custGeom>
              <a:avLst/>
              <a:gdLst/>
              <a:ahLst/>
              <a:rect l="l" t="t" r="r" b="b"/>
              <a:pathLst>
                <a:path w="822" h="534">
                  <a:moveTo>
                    <a:pt x="0" y="0"/>
                  </a:moveTo>
                  <a:lnTo>
                    <a:pt x="213" y="43"/>
                  </a:lnTo>
                  <a:lnTo>
                    <a:pt x="416" y="117"/>
                  </a:lnTo>
                  <a:lnTo>
                    <a:pt x="576" y="224"/>
                  </a:lnTo>
                  <a:lnTo>
                    <a:pt x="704" y="352"/>
                  </a:lnTo>
                  <a:lnTo>
                    <a:pt x="821" y="533"/>
                  </a:lnTo>
                  <a:lnTo>
                    <a:pt x="811" y="5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40720" y="3080520"/>
              <a:ext cx="76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369680" y="3467520"/>
              <a:ext cx="8902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yellow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897080" y="3843000"/>
              <a:ext cx="81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yell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218920" y="4191840"/>
              <a:ext cx="89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ora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555880" y="4635360"/>
              <a:ext cx="51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01520" y="5050800"/>
              <a:ext cx="1068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magen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91360" y="5509080"/>
              <a:ext cx="81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ur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28560" y="5211720"/>
              <a:ext cx="61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09760" y="448848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cy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37560" y="441036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wh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470840" y="4676400"/>
              <a:ext cx="599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1749600" y="2841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versão do mRGB par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E XYZ e vice-ver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"/>
          <p:cNvSpPr/>
          <p:nvPr/>
        </p:nvSpPr>
        <p:spPr>
          <a:xfrm>
            <a:off x="1042560" y="1557360"/>
            <a:ext cx="342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os (R,G,B) determine 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357200" y="2111400"/>
            <a:ext cx="811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) O fabricante deve informar as coordenadas x,y dos fósforos do 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004120" y="246384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814840" y="2513160"/>
            <a:ext cx="295884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    G    B    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  0.64 0.30 0.15   0.31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  0.33 0.60 0.06   0.32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357200" y="3402000"/>
            <a:ext cx="745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) Determine a coordenada z = 1 - x -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14840" y="3774960"/>
            <a:ext cx="2851920" cy="51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    G    B   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  0.04 0.12 0.787 0.35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004120" y="371628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357200" y="4524480"/>
            <a:ext cx="745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) As coordenadas X,Y,Z são obtidas 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1941120" y="4937040"/>
            <a:ext cx="5947920" cy="819360"/>
            <a:chOff x="1941120" y="4937040"/>
            <a:chExt cx="5947920" cy="819360"/>
          </a:xfrm>
        </p:grpSpPr>
        <p:sp>
          <p:nvSpPr>
            <p:cNvPr id="1105" name=""/>
            <p:cNvSpPr/>
            <p:nvPr/>
          </p:nvSpPr>
          <p:spPr>
            <a:xfrm>
              <a:off x="1941120" y="4937040"/>
              <a:ext cx="3038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235560" y="4937040"/>
              <a:ext cx="37260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639120" y="4937040"/>
              <a:ext cx="78228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032600" y="4937040"/>
              <a:ext cx="51372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539120" y="4937040"/>
              <a:ext cx="3132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845800" y="4937040"/>
              <a:ext cx="37260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845880" y="4937040"/>
              <a:ext cx="78228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912200" y="4937040"/>
              <a:ext cx="51408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774400" y="5145480"/>
              <a:ext cx="2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201200" y="51454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229560" y="514548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318640" y="514548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994040" y="4998960"/>
              <a:ext cx="3996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254680" y="4998960"/>
              <a:ext cx="3564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404080" y="5145480"/>
              <a:ext cx="2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895840" y="4998960"/>
              <a:ext cx="3996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225960" y="4998960"/>
              <a:ext cx="3564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438720" y="5145480"/>
              <a:ext cx="2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904920" y="4998960"/>
              <a:ext cx="3996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235040" y="4998960"/>
              <a:ext cx="3564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441680" y="5145480"/>
              <a:ext cx="2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946040" y="4998960"/>
              <a:ext cx="3996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07840" y="4998960"/>
              <a:ext cx="3564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427880" y="4998960"/>
              <a:ext cx="3564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853400" y="4998960"/>
              <a:ext cx="3564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285240" y="4998960"/>
              <a:ext cx="3996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574040" y="4998960"/>
              <a:ext cx="3960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1208160" y="6033960"/>
            <a:ext cx="756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 problema agora consiste em encontrar as componentes XYZ do R, G 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513120" y="2492280"/>
            <a:ext cx="240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ITU-R BT.7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communication U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H="1" flipV="1">
            <a:off x="5940360" y="321264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6732720" y="342900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Valores aproxim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6011640" y="3645000"/>
            <a:ext cx="647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versão do mRGB par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E XYZ …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"/>
          <p:cNvSpPr/>
          <p:nvPr/>
        </p:nvSpPr>
        <p:spPr>
          <a:xfrm>
            <a:off x="1218600" y="1628640"/>
            <a:ext cx="5024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/ (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+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+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ão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984240" y="2930400"/>
            <a:ext cx="7451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stituindo na matriz da equ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1377360" y="3436920"/>
            <a:ext cx="5945760" cy="923040"/>
            <a:chOff x="1377360" y="3436920"/>
            <a:chExt cx="5945760" cy="923040"/>
          </a:xfrm>
        </p:grpSpPr>
        <p:sp>
          <p:nvSpPr>
            <p:cNvPr id="1141" name=""/>
            <p:cNvSpPr/>
            <p:nvPr/>
          </p:nvSpPr>
          <p:spPr>
            <a:xfrm>
              <a:off x="1377360" y="3436920"/>
              <a:ext cx="320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415400" y="3436920"/>
              <a:ext cx="57852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978240" y="3436920"/>
              <a:ext cx="3312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90440" y="3643200"/>
              <a:ext cx="300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401840" y="3498840"/>
              <a:ext cx="69840" cy="79380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619280" y="3498840"/>
              <a:ext cx="71280" cy="79380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804000" y="3498840"/>
              <a:ext cx="81000" cy="79380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236000" y="3500280"/>
              <a:ext cx="87120" cy="79380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988320" y="3498840"/>
              <a:ext cx="104760" cy="79380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007360" y="3436920"/>
              <a:ext cx="39852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406600" y="3436920"/>
              <a:ext cx="78444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800440" y="3436920"/>
              <a:ext cx="51444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308040" y="3436920"/>
              <a:ext cx="3312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132000" y="3498840"/>
              <a:ext cx="79560" cy="79380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564000" y="3498840"/>
              <a:ext cx="85680" cy="79380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023920" y="3498840"/>
              <a:ext cx="69840" cy="79380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313080" y="3498840"/>
              <a:ext cx="69840" cy="79380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695240" y="3643200"/>
              <a:ext cx="300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213080" y="3498840"/>
              <a:ext cx="71640" cy="79380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92000" y="3436920"/>
              <a:ext cx="59364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117120" y="3436920"/>
              <a:ext cx="57852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996840" y="4600440"/>
            <a:ext cx="7452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 determinar as componen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e 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usa-se o fato de qu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=G=B=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é a cor bran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387080" y="5267160"/>
            <a:ext cx="5721840" cy="947160"/>
            <a:chOff x="1387080" y="5267160"/>
            <a:chExt cx="5721840" cy="947160"/>
          </a:xfrm>
        </p:grpSpPr>
        <p:sp>
          <p:nvSpPr>
            <p:cNvPr id="1164" name=""/>
            <p:cNvSpPr/>
            <p:nvPr/>
          </p:nvSpPr>
          <p:spPr>
            <a:xfrm>
              <a:off x="1387080" y="5291280"/>
              <a:ext cx="42444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205360" y="5291280"/>
              <a:ext cx="57852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633200" y="5291280"/>
              <a:ext cx="2872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823760" y="5499000"/>
              <a:ext cx="300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401840" y="5353200"/>
              <a:ext cx="69840" cy="81252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692360" y="5353200"/>
              <a:ext cx="69840" cy="81252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427640" y="5353200"/>
              <a:ext cx="69840" cy="81252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946760" y="5353200"/>
              <a:ext cx="69840" cy="81252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638600" y="5353200"/>
              <a:ext cx="69840" cy="81252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360400" y="5267160"/>
              <a:ext cx="36504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759280" y="5267160"/>
              <a:ext cx="78264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153120" y="5267160"/>
              <a:ext cx="51444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668280" y="5267160"/>
              <a:ext cx="40608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516720" y="5329080"/>
              <a:ext cx="69840" cy="76392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020000" y="5329080"/>
              <a:ext cx="88920" cy="76392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64000" y="5329080"/>
              <a:ext cx="82800" cy="83664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727680" y="5329080"/>
              <a:ext cx="76320" cy="76392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032080" y="5499000"/>
              <a:ext cx="300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124000" y="5353200"/>
              <a:ext cx="71640" cy="81252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998080" y="5291280"/>
              <a:ext cx="59364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848400" y="5291280"/>
              <a:ext cx="57852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5700600" y="2203560"/>
            <a:ext cx="33354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062600" y="228924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 mesma fo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versão do mRGB par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E XYZ …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"/>
          <p:cNvSpPr/>
          <p:nvPr/>
        </p:nvSpPr>
        <p:spPr>
          <a:xfrm>
            <a:off x="968400" y="1549440"/>
            <a:ext cx="87883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ondo que a luminosidade do branco 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.00, tem-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1402200" y="3726000"/>
            <a:ext cx="3126600" cy="822240"/>
            <a:chOff x="1402200" y="3726000"/>
            <a:chExt cx="3126600" cy="822240"/>
          </a:xfrm>
        </p:grpSpPr>
        <p:sp>
          <p:nvSpPr>
            <p:cNvPr id="1190" name=""/>
            <p:cNvSpPr/>
            <p:nvPr/>
          </p:nvSpPr>
          <p:spPr>
            <a:xfrm>
              <a:off x="1402200" y="3753000"/>
              <a:ext cx="6116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.9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.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.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969200" y="3960720"/>
              <a:ext cx="2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430280" y="3814920"/>
              <a:ext cx="39600" cy="59040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987200" y="3821040"/>
              <a:ext cx="3492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081680" y="3728880"/>
              <a:ext cx="3783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965400" y="3790800"/>
              <a:ext cx="3636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492440" y="3806640"/>
              <a:ext cx="3636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339640" y="3790800"/>
              <a:ext cx="4140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11560" y="3790800"/>
              <a:ext cx="4104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329200" y="3726000"/>
              <a:ext cx="1785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.64 0.30 0.1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.33 0.60 0.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.03 0.10 0.7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5369400" y="3716280"/>
            <a:ext cx="3146040" cy="831960"/>
            <a:chOff x="5369400" y="3716280"/>
            <a:chExt cx="3146040" cy="831960"/>
          </a:xfrm>
        </p:grpSpPr>
        <p:sp>
          <p:nvSpPr>
            <p:cNvPr id="1201" name=""/>
            <p:cNvSpPr/>
            <p:nvPr/>
          </p:nvSpPr>
          <p:spPr>
            <a:xfrm>
              <a:off x="7011000" y="3728880"/>
              <a:ext cx="3783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423200" y="3790800"/>
              <a:ext cx="3492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042320" y="3790800"/>
              <a:ext cx="3960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479080" y="3790800"/>
              <a:ext cx="3636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817040" y="3790800"/>
              <a:ext cx="3960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369400" y="3922560"/>
              <a:ext cx="1134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olven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470360" y="3898800"/>
              <a:ext cx="28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793640" y="3716280"/>
              <a:ext cx="718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.64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.19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.2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1239840" y="5375160"/>
            <a:ext cx="3244320" cy="916200"/>
            <a:chOff x="1239840" y="5375160"/>
            <a:chExt cx="3244320" cy="916200"/>
          </a:xfrm>
        </p:grpSpPr>
        <p:sp>
          <p:nvSpPr>
            <p:cNvPr id="1210" name=""/>
            <p:cNvSpPr/>
            <p:nvPr/>
          </p:nvSpPr>
          <p:spPr>
            <a:xfrm>
              <a:off x="1239840" y="5375160"/>
              <a:ext cx="3244320" cy="916200"/>
            </a:xfrm>
            <a:prstGeom prst="roundRect">
              <a:avLst>
                <a:gd name="adj" fmla="val 12495"/>
              </a:avLst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605960" y="5703120"/>
              <a:ext cx="2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929760" y="5532840"/>
              <a:ext cx="28440" cy="59112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902600" y="5532840"/>
              <a:ext cx="32040" cy="59112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858680" y="5455440"/>
              <a:ext cx="1998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.412 0.358 0.1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.213 0.715 0.07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.019 0.119 0.9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342440" y="5470920"/>
              <a:ext cx="3038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384920" y="5532840"/>
              <a:ext cx="32040" cy="59112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593360" y="5532840"/>
              <a:ext cx="28440" cy="59112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033080" y="5483520"/>
              <a:ext cx="2923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83280" y="5545080"/>
              <a:ext cx="28440" cy="59112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060080" y="5545080"/>
              <a:ext cx="31680" cy="59112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5435640" y="5373720"/>
            <a:ext cx="3317400" cy="915840"/>
            <a:chOff x="5435640" y="5373720"/>
            <a:chExt cx="3317400" cy="915840"/>
          </a:xfrm>
        </p:grpSpPr>
        <p:sp>
          <p:nvSpPr>
            <p:cNvPr id="1222" name=""/>
            <p:cNvSpPr/>
            <p:nvPr/>
          </p:nvSpPr>
          <p:spPr>
            <a:xfrm>
              <a:off x="5435640" y="5373720"/>
              <a:ext cx="3317400" cy="915840"/>
            </a:xfrm>
            <a:prstGeom prst="roundRect">
              <a:avLst>
                <a:gd name="adj" fmla="val 12495"/>
              </a:avLst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908320" y="5440320"/>
              <a:ext cx="23187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3.240 -1.537 -0.4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-0.969  1.876  0.04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.056 -0.204  1.05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462280" y="5440320"/>
              <a:ext cx="3132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708520" y="5501880"/>
              <a:ext cx="2808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488560" y="5501880"/>
              <a:ext cx="3168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691600" y="5701680"/>
              <a:ext cx="2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968440" y="5531400"/>
              <a:ext cx="3168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283600" y="5531400"/>
              <a:ext cx="2808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336520" y="5469480"/>
              <a:ext cx="3038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378640" y="5531400"/>
              <a:ext cx="31680" cy="590760"/>
            </a:xfrm>
            <a:custGeom>
              <a:avLst/>
              <a:gdLst/>
              <a:ahLst/>
              <a:rect l="l" t="t" r="r" b="b"/>
              <a:pathLst>
                <a:path w="19" h="382">
                  <a:moveTo>
                    <a:pt x="18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15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8583480" y="5531400"/>
              <a:ext cx="28080" cy="590760"/>
            </a:xfrm>
            <a:custGeom>
              <a:avLst/>
              <a:gdLst/>
              <a:ahLst/>
              <a:rect l="l" t="t" r="r" b="b"/>
              <a:pathLst>
                <a:path w="17" h="382">
                  <a:moveTo>
                    <a:pt x="0" y="0"/>
                  </a:moveTo>
                  <a:lnTo>
                    <a:pt x="16" y="0"/>
                  </a:lnTo>
                  <a:lnTo>
                    <a:pt x="16" y="381"/>
                  </a:lnTo>
                  <a:lnTo>
                    <a:pt x="2" y="3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"/>
          <p:cNvSpPr/>
          <p:nvPr/>
        </p:nvSpPr>
        <p:spPr>
          <a:xfrm>
            <a:off x="1117800" y="4797360"/>
            <a:ext cx="1364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luin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692360" y="2298600"/>
            <a:ext cx="69832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/ 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=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.0/0.3290    = 3.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=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.3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.04      = 0.9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=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.358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16.4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 1.089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" descr=""/>
          <p:cNvPicPr/>
          <p:nvPr/>
        </p:nvPicPr>
        <p:blipFill>
          <a:blip r:embed="rId1"/>
          <a:stretch/>
        </p:blipFill>
        <p:spPr>
          <a:xfrm>
            <a:off x="1427040" y="4454640"/>
            <a:ext cx="2816280" cy="2219040"/>
          </a:xfrm>
          <a:prstGeom prst="rect">
            <a:avLst/>
          </a:prstGeom>
          <a:ln w="0">
            <a:noFill/>
          </a:ln>
        </p:spPr>
      </p:pic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istemas de cor dependentes de dispositivo - CMY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"/>
          <p:cNvSpPr/>
          <p:nvPr/>
        </p:nvSpPr>
        <p:spPr>
          <a:xfrm>
            <a:off x="982800" y="1557360"/>
            <a:ext cx="4638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stemas das Impressoras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MY ou CM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588000" y="2133720"/>
            <a:ext cx="23688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ominante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5910120" y="4527720"/>
            <a:ext cx="2769840" cy="2140920"/>
            <a:chOff x="5910120" y="4527720"/>
            <a:chExt cx="2769840" cy="2140920"/>
          </a:xfrm>
        </p:grpSpPr>
        <p:sp>
          <p:nvSpPr>
            <p:cNvPr id="1240" name=""/>
            <p:cNvSpPr/>
            <p:nvPr/>
          </p:nvSpPr>
          <p:spPr>
            <a:xfrm>
              <a:off x="6475680" y="4527720"/>
              <a:ext cx="1697760" cy="1455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984360" y="5213160"/>
              <a:ext cx="1695600" cy="1455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910120" y="5159520"/>
              <a:ext cx="1695600" cy="1453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824960" y="5857920"/>
              <a:ext cx="2750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104240" y="4712760"/>
              <a:ext cx="2656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291720" y="5871240"/>
              <a:ext cx="2948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613560" y="5279760"/>
              <a:ext cx="2750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656120" y="5279760"/>
              <a:ext cx="2854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135560" y="6030360"/>
              <a:ext cx="2750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151760" y="5556960"/>
              <a:ext cx="2750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3271680" y="2998800"/>
            <a:ext cx="1030320" cy="89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4365720" y="3673080"/>
            <a:ext cx="466560" cy="28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rot="2580000">
            <a:off x="2360160" y="2547720"/>
            <a:ext cx="1829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z branca (1,1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186160" y="3622680"/>
            <a:ext cx="1838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nta ciano (0,1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597560" y="3197160"/>
            <a:ext cx="1693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z ciano (0,1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009320" y="4303800"/>
            <a:ext cx="2964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onente vermelha é absorv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141720" y="3978360"/>
            <a:ext cx="286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141720" y="3941640"/>
            <a:ext cx="28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706920" y="4073400"/>
            <a:ext cx="208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pel branco (1,1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4362840" y="3482640"/>
            <a:ext cx="273600" cy="47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flipH="1" flipV="1">
            <a:off x="4344840" y="3428640"/>
            <a:ext cx="38160" cy="52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4424400" y="3902760"/>
            <a:ext cx="545040" cy="4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H="1" flipV="1">
            <a:off x="3864600" y="3690000"/>
            <a:ext cx="460800" cy="25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5144760" y="3830760"/>
            <a:ext cx="1364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3862440" y="4012920"/>
            <a:ext cx="889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H="1" flipV="1">
            <a:off x="3807720" y="3847680"/>
            <a:ext cx="517680" cy="95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3871080" y="3308760"/>
            <a:ext cx="973440" cy="122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6925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692531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4376880" y="2963880"/>
            <a:ext cx="0" cy="982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330080" y="274644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 rot="16200000">
            <a:off x="3801600" y="3142080"/>
            <a:ext cx="977400" cy="123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86" y="9238"/>
                </a:moveTo>
                <a:arcTo wR="10800" hR="10800" stAng="-498940" swAng="3694994"/>
                <a:lnTo>
                  <a:pt x="10800" y="10800"/>
                </a:lnTo>
                <a:close/>
              </a:path>
              <a:path fill="none" w="21600" h="21600">
                <a:moveTo>
                  <a:pt x="21486" y="9238"/>
                </a:moveTo>
                <a:arcTo wR="10800" hR="10800" stAng="-498940" swAng="3694994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3929760" y="294012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versão RGB para CMY e vice-ver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1952280" y="1916280"/>
            <a:ext cx="6293520" cy="3326400"/>
            <a:chOff x="1952280" y="1916280"/>
            <a:chExt cx="6293520" cy="3326400"/>
          </a:xfrm>
        </p:grpSpPr>
        <p:sp>
          <p:nvSpPr>
            <p:cNvPr id="1273" name=""/>
            <p:cNvSpPr/>
            <p:nvPr/>
          </p:nvSpPr>
          <p:spPr>
            <a:xfrm>
              <a:off x="2125080" y="426888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747520" y="3562200"/>
              <a:ext cx="19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2878920" y="2061720"/>
              <a:ext cx="0" cy="166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2101320" y="3560760"/>
              <a:ext cx="779040" cy="7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506320" y="2449440"/>
              <a:ext cx="1523520" cy="148752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475160" y="35910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890080" y="1955880"/>
              <a:ext cx="323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957120" y="356868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511360" y="223668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374920" y="395604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994920" y="21938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603600" y="3943440"/>
              <a:ext cx="352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233080" y="27226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431160" y="2522520"/>
              <a:ext cx="363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808720" y="3286080"/>
              <a:ext cx="323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950280" y="3295800"/>
              <a:ext cx="918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vermelh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544840" y="3687840"/>
              <a:ext cx="512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z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996640" y="3297240"/>
              <a:ext cx="591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pr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7000" y="2178000"/>
              <a:ext cx="631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ver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990240" y="2395440"/>
              <a:ext cx="828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mare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952280" y="2879640"/>
              <a:ext cx="61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ia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492720" y="4092480"/>
              <a:ext cx="878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magen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966760" y="2800440"/>
              <a:ext cx="73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bran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3665160" y="2441520"/>
              <a:ext cx="372960" cy="37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664080" y="2832120"/>
              <a:ext cx="0" cy="11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2506320" y="2822760"/>
              <a:ext cx="114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616920" y="2784600"/>
              <a:ext cx="61560" cy="60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837520" y="3527280"/>
              <a:ext cx="61560" cy="60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176160" y="3562200"/>
              <a:ext cx="19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6306840" y="2061720"/>
              <a:ext cx="0" cy="166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5529960" y="3560760"/>
              <a:ext cx="779040" cy="7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934960" y="2449440"/>
              <a:ext cx="1523880" cy="148752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386840" y="356868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0360" y="223668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802120" y="395604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899120" y="36324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54160" y="4230720"/>
              <a:ext cx="352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291000" y="19162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252120" y="3292560"/>
              <a:ext cx="363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084080" y="2822760"/>
              <a:ext cx="323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490080" y="2554200"/>
              <a:ext cx="591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pr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417800" y="3240000"/>
              <a:ext cx="828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mare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274080" y="2174760"/>
              <a:ext cx="61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ia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945760" y="3657600"/>
              <a:ext cx="8726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magen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482520" y="3273480"/>
              <a:ext cx="73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bran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045560" y="2784600"/>
              <a:ext cx="61560" cy="60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266520" y="3527280"/>
              <a:ext cx="61560" cy="60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302240" y="2170080"/>
              <a:ext cx="631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ver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734880" y="3990960"/>
              <a:ext cx="918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vermelh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463360" y="2825640"/>
              <a:ext cx="512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z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929120" y="2917800"/>
              <a:ext cx="501120" cy="211320"/>
            </a:xfrm>
            <a:prstGeom prst="rightArrow">
              <a:avLst>
                <a:gd name="adj1" fmla="val 50000"/>
                <a:gd name="adj2" fmla="val 11857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549160" y="4937040"/>
              <a:ext cx="642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(r,g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71080" y="4937040"/>
              <a:ext cx="689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(c,m,y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3427560" y="4638600"/>
                <a:ext cx="236844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istemas de cor dependentes de dispositivo - CMYK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8" name=""/>
          <p:cNvSpPr/>
          <p:nvPr/>
        </p:nvSpPr>
        <p:spPr>
          <a:xfrm>
            <a:off x="5437800" y="4292640"/>
            <a:ext cx="2298960" cy="19213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: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n (C, M,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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:= C -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:= M -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:=  Y -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t">
            <a:normAutofit/>
          </a:bodyPr>
          <a:p>
            <a:pPr marL="363600" indent="-363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sistema CMYK usa o preto (blacK) porque o  pigmento (carbono) é mais bara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perposição de ciano, magenta e amarelo para produzir preto gera um tom meio puxado para o mar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2460600" y="3973680"/>
            <a:ext cx="0" cy="158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112840" y="5435640"/>
            <a:ext cx="2230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1418760" y="5308560"/>
            <a:ext cx="1212840" cy="88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2438280" y="4647960"/>
            <a:ext cx="676440" cy="80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239720" y="5557680"/>
            <a:ext cx="33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450880" y="3814920"/>
            <a:ext cx="30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047760" y="43624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1490400" y="62197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392200" y="5400720"/>
            <a:ext cx="135000" cy="9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2342520" y="5899320"/>
            <a:ext cx="1553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e linear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pend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2000" y="-360"/>
            <a:ext cx="799164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atureza da luz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6523200" y="5505480"/>
            <a:ext cx="1360440" cy="56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440" y="1916280"/>
            <a:ext cx="4905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d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 luz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0x10</a:t>
            </a:r>
            <a:r>
              <a:rPr b="0" lang="en-US" sz="2400" spc="-1" strike="noStrike" baseline="43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681200" y="2565360"/>
            <a:ext cx="5949720" cy="2243520"/>
            <a:chOff x="1681200" y="2565360"/>
            <a:chExt cx="5949720" cy="2243520"/>
          </a:xfrm>
        </p:grpSpPr>
        <p:sp>
          <p:nvSpPr>
            <p:cNvPr id="131" name=""/>
            <p:cNvSpPr/>
            <p:nvPr/>
          </p:nvSpPr>
          <p:spPr>
            <a:xfrm>
              <a:off x="1681200" y="3558960"/>
              <a:ext cx="594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19560" y="4574880"/>
              <a:ext cx="31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41960" y="3775680"/>
              <a:ext cx="0" cy="9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38880" y="3985920"/>
              <a:ext cx="0" cy="76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463840" y="4514400"/>
              <a:ext cx="1458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358960" y="4518720"/>
              <a:ext cx="14616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03200" y="4248360"/>
              <a:ext cx="18158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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v / 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09120" y="25653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43920" y="2903760"/>
              <a:ext cx="2893680" cy="1287360"/>
            </a:xfrm>
            <a:custGeom>
              <a:avLst/>
              <a:gdLst/>
              <a:ahLst/>
              <a:rect l="l" t="t" r="r" b="b"/>
              <a:pathLst>
                <a:path w="1704" h="833">
                  <a:moveTo>
                    <a:pt x="0" y="416"/>
                  </a:moveTo>
                  <a:lnTo>
                    <a:pt x="106" y="256"/>
                  </a:lnTo>
                  <a:lnTo>
                    <a:pt x="214" y="121"/>
                  </a:lnTo>
                  <a:lnTo>
                    <a:pt x="319" y="32"/>
                  </a:lnTo>
                  <a:lnTo>
                    <a:pt x="426" y="0"/>
                  </a:lnTo>
                  <a:lnTo>
                    <a:pt x="533" y="32"/>
                  </a:lnTo>
                  <a:lnTo>
                    <a:pt x="639" y="121"/>
                  </a:lnTo>
                  <a:lnTo>
                    <a:pt x="745" y="256"/>
                  </a:lnTo>
                  <a:lnTo>
                    <a:pt x="853" y="416"/>
                  </a:lnTo>
                  <a:lnTo>
                    <a:pt x="958" y="576"/>
                  </a:lnTo>
                  <a:lnTo>
                    <a:pt x="1064" y="711"/>
                  </a:lnTo>
                  <a:lnTo>
                    <a:pt x="1170" y="800"/>
                  </a:lnTo>
                  <a:lnTo>
                    <a:pt x="1277" y="832"/>
                  </a:lnTo>
                  <a:lnTo>
                    <a:pt x="1384" y="800"/>
                  </a:lnTo>
                  <a:lnTo>
                    <a:pt x="1489" y="711"/>
                  </a:lnTo>
                  <a:lnTo>
                    <a:pt x="1597" y="576"/>
                  </a:lnTo>
                  <a:lnTo>
                    <a:pt x="1703" y="416"/>
                  </a:lnTo>
                </a:path>
              </a:pathLst>
            </a:custGeom>
            <a:noFill/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37600" y="2905200"/>
              <a:ext cx="2528280" cy="1285920"/>
            </a:xfrm>
            <a:custGeom>
              <a:avLst/>
              <a:gdLst/>
              <a:ahLst/>
              <a:rect l="l" t="t" r="r" b="b"/>
              <a:pathLst>
                <a:path w="1489" h="832">
                  <a:moveTo>
                    <a:pt x="0" y="416"/>
                  </a:moveTo>
                  <a:lnTo>
                    <a:pt x="106" y="256"/>
                  </a:lnTo>
                  <a:lnTo>
                    <a:pt x="214" y="121"/>
                  </a:lnTo>
                  <a:lnTo>
                    <a:pt x="319" y="32"/>
                  </a:lnTo>
                  <a:lnTo>
                    <a:pt x="426" y="0"/>
                  </a:lnTo>
                  <a:lnTo>
                    <a:pt x="533" y="32"/>
                  </a:lnTo>
                  <a:lnTo>
                    <a:pt x="639" y="121"/>
                  </a:lnTo>
                  <a:lnTo>
                    <a:pt x="745" y="256"/>
                  </a:lnTo>
                  <a:lnTo>
                    <a:pt x="853" y="416"/>
                  </a:lnTo>
                  <a:lnTo>
                    <a:pt x="958" y="576"/>
                  </a:lnTo>
                  <a:lnTo>
                    <a:pt x="1064" y="711"/>
                  </a:lnTo>
                  <a:lnTo>
                    <a:pt x="1170" y="800"/>
                  </a:lnTo>
                  <a:lnTo>
                    <a:pt x="1277" y="832"/>
                  </a:lnTo>
                  <a:lnTo>
                    <a:pt x="1384" y="800"/>
                  </a:lnTo>
                  <a:lnTo>
                    <a:pt x="1489" y="711"/>
                  </a:lnTo>
                </a:path>
              </a:pathLst>
            </a:custGeom>
            <a:noFill/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5720" y="3052080"/>
              <a:ext cx="162720" cy="147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044240" y="3126240"/>
              <a:ext cx="73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SV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1" name="" descr=""/>
          <p:cNvPicPr/>
          <p:nvPr/>
        </p:nvPicPr>
        <p:blipFill>
          <a:blip r:embed="rId1"/>
          <a:srcRect l="48312" t="0" r="0" b="6539"/>
          <a:stretch/>
        </p:blipFill>
        <p:spPr>
          <a:xfrm>
            <a:off x="2843280" y="1916280"/>
            <a:ext cx="3941640" cy="4105080"/>
          </a:xfrm>
          <a:prstGeom prst="rect">
            <a:avLst/>
          </a:prstGeom>
          <a:ln w="0">
            <a:noFill/>
          </a:ln>
        </p:spPr>
      </p:pic>
      <p:sp>
        <p:nvSpPr>
          <p:cNvPr id="1342" name=""/>
          <p:cNvSpPr/>
          <p:nvPr/>
        </p:nvSpPr>
        <p:spPr>
          <a:xfrm>
            <a:off x="2627280" y="61657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isão lateral do hexágono H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3" name="" descr=""/>
          <p:cNvPicPr/>
          <p:nvPr/>
        </p:nvPicPr>
        <p:blipFill>
          <a:blip r:embed="rId1"/>
          <a:stretch/>
        </p:blipFill>
        <p:spPr>
          <a:xfrm>
            <a:off x="5181480" y="1989000"/>
            <a:ext cx="3962520" cy="2495520"/>
          </a:xfrm>
          <a:prstGeom prst="rect">
            <a:avLst/>
          </a:prstGeom>
          <a:ln w="0">
            <a:noFill/>
          </a:ln>
        </p:spPr>
      </p:pic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SV/HSB Color Spac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5" name="" descr=""/>
          <p:cNvPicPr/>
          <p:nvPr/>
        </p:nvPicPr>
        <p:blipFill>
          <a:blip r:embed="rId2"/>
          <a:stretch/>
        </p:blipFill>
        <p:spPr>
          <a:xfrm>
            <a:off x="1258920" y="3068640"/>
            <a:ext cx="3262320" cy="3257640"/>
          </a:xfrm>
          <a:prstGeom prst="rect">
            <a:avLst/>
          </a:prstGeom>
          <a:ln w="0">
            <a:noFill/>
          </a:ln>
        </p:spPr>
      </p:pic>
      <p:pic>
        <p:nvPicPr>
          <p:cNvPr id="1346" name="" descr=""/>
          <p:cNvPicPr/>
          <p:nvPr/>
        </p:nvPicPr>
        <p:blipFill>
          <a:blip r:embed="rId3"/>
          <a:stretch/>
        </p:blipFill>
        <p:spPr>
          <a:xfrm>
            <a:off x="4879800" y="4849920"/>
            <a:ext cx="4013280" cy="541080"/>
          </a:xfrm>
          <a:prstGeom prst="rect">
            <a:avLst/>
          </a:prstGeom>
          <a:ln w="0">
            <a:noFill/>
          </a:ln>
        </p:spPr>
      </p:pic>
      <p:pic>
        <p:nvPicPr>
          <p:cNvPr id="1347" name="" descr=""/>
          <p:cNvPicPr/>
          <p:nvPr/>
        </p:nvPicPr>
        <p:blipFill>
          <a:blip r:embed="rId4"/>
          <a:stretch/>
        </p:blipFill>
        <p:spPr>
          <a:xfrm>
            <a:off x="4854600" y="5992920"/>
            <a:ext cx="4013280" cy="531720"/>
          </a:xfrm>
          <a:prstGeom prst="rect">
            <a:avLst/>
          </a:prstGeom>
          <a:ln w="0">
            <a:noFill/>
          </a:ln>
        </p:spPr>
      </p:pic>
      <p:sp>
        <p:nvSpPr>
          <p:cNvPr id="1348" name=""/>
          <p:cNvSpPr/>
          <p:nvPr/>
        </p:nvSpPr>
        <p:spPr>
          <a:xfrm>
            <a:off x="4854600" y="5611680"/>
            <a:ext cx="21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Bright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778280" y="4468680"/>
            <a:ext cx="23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Saturation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116000" y="1628640"/>
            <a:ext cx="5105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SV = Hue Saturation Val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SB = Hue Saturation Brigh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SV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2" name="" descr=""/>
          <p:cNvPicPr/>
          <p:nvPr/>
        </p:nvPicPr>
        <p:blipFill>
          <a:blip r:embed="rId1"/>
          <a:stretch/>
        </p:blipFill>
        <p:spPr>
          <a:xfrm>
            <a:off x="2682720" y="2743200"/>
            <a:ext cx="3760920" cy="3897360"/>
          </a:xfrm>
          <a:prstGeom prst="rect">
            <a:avLst/>
          </a:prstGeom>
          <a:ln w="0">
            <a:noFill/>
          </a:ln>
        </p:spPr>
      </p:pic>
      <p:sp>
        <p:nvSpPr>
          <p:cNvPr id="1353" name=""/>
          <p:cNvSpPr/>
          <p:nvPr/>
        </p:nvSpPr>
        <p:spPr>
          <a:xfrm flipH="1">
            <a:off x="5196960" y="2514600"/>
            <a:ext cx="2286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122080" y="19051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082520" y="418608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3291840" y="21337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292560" y="22096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846440" y="37339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9" name=""/>
          <p:cNvGraphicFramePr/>
          <p:nvPr/>
        </p:nvGraphicFramePr>
        <p:xfrm>
          <a:off x="6095880" y="228600"/>
          <a:ext cx="3048120" cy="239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28600"/>
                    <a:ext cx="304812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ransformação RGB para HSV e vice-ver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1473120" y="1687680"/>
            <a:ext cx="2595240" cy="2612520"/>
            <a:chOff x="1473120" y="1687680"/>
            <a:chExt cx="2595240" cy="2612520"/>
          </a:xfrm>
        </p:grpSpPr>
        <p:sp>
          <p:nvSpPr>
            <p:cNvPr id="1363" name=""/>
            <p:cNvSpPr/>
            <p:nvPr/>
          </p:nvSpPr>
          <p:spPr>
            <a:xfrm>
              <a:off x="1994760" y="2300400"/>
              <a:ext cx="1541520" cy="136368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128320" y="2664000"/>
              <a:ext cx="985680" cy="87156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2390400" y="1978200"/>
              <a:ext cx="0" cy="146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213640" y="3322800"/>
              <a:ext cx="17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1656000" y="3254760"/>
              <a:ext cx="813960" cy="73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2402280" y="2639880"/>
              <a:ext cx="77184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755160" y="33516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323080" y="1687680"/>
              <a:ext cx="323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473120" y="399456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407680" y="2795760"/>
              <a:ext cx="7452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3" name=""/>
          <p:cNvSpPr/>
          <p:nvPr/>
        </p:nvSpPr>
        <p:spPr>
          <a:xfrm>
            <a:off x="5087160" y="1973160"/>
            <a:ext cx="17272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x = max(R,G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  = min(R,G,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caso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ectiv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1619280" y="4151160"/>
            <a:ext cx="2548080" cy="2301840"/>
            <a:chOff x="1619280" y="4151160"/>
            <a:chExt cx="2548080" cy="2301840"/>
          </a:xfrm>
        </p:grpSpPr>
        <p:sp>
          <p:nvSpPr>
            <p:cNvPr id="1375" name=""/>
            <p:cNvSpPr/>
            <p:nvPr/>
          </p:nvSpPr>
          <p:spPr>
            <a:xfrm>
              <a:off x="2127600" y="4580280"/>
              <a:ext cx="1565280" cy="151632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263680" y="4984200"/>
              <a:ext cx="1000800" cy="96912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2529720" y="4219920"/>
              <a:ext cx="0" cy="162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350080" y="5716800"/>
              <a:ext cx="181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1784160" y="5641200"/>
              <a:ext cx="826560" cy="81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825000" y="57826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189520" y="4151160"/>
              <a:ext cx="323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619280" y="60120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547000" y="5128920"/>
              <a:ext cx="75600" cy="29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 flipV="1">
              <a:off x="2396880" y="5102640"/>
              <a:ext cx="61344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5" name=""/>
          <p:cNvSpPr/>
          <p:nvPr/>
        </p:nvSpPr>
        <p:spPr>
          <a:xfrm>
            <a:off x="5225400" y="3359160"/>
            <a:ext cx="85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 = 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5320440" y="4518000"/>
            <a:ext cx="3436200" cy="1674000"/>
            <a:chOff x="5320440" y="4518000"/>
            <a:chExt cx="3436200" cy="1674000"/>
          </a:xfrm>
        </p:grpSpPr>
        <p:sp>
          <p:nvSpPr>
            <p:cNvPr id="1387" name=""/>
            <p:cNvSpPr/>
            <p:nvPr/>
          </p:nvSpPr>
          <p:spPr>
            <a:xfrm>
              <a:off x="6770160" y="5886360"/>
              <a:ext cx="1986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 = ( Max-Min ) / Max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938560" y="4716360"/>
              <a:ext cx="1011240" cy="73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9" name=""/>
            <p:cNvGrpSpPr/>
            <p:nvPr/>
          </p:nvGrpSpPr>
          <p:grpSpPr>
            <a:xfrm>
              <a:off x="5810040" y="4630680"/>
              <a:ext cx="1707840" cy="1138320"/>
              <a:chOff x="5810040" y="4630680"/>
              <a:chExt cx="1707840" cy="1138320"/>
            </a:xfrm>
          </p:grpSpPr>
          <p:sp>
            <p:nvSpPr>
              <p:cNvPr id="1390" name=""/>
              <p:cNvSpPr/>
              <p:nvPr/>
            </p:nvSpPr>
            <p:spPr>
              <a:xfrm>
                <a:off x="5810040" y="4709520"/>
                <a:ext cx="170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919840" y="4630680"/>
                <a:ext cx="0" cy="113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2" name=""/>
            <p:cNvSpPr/>
            <p:nvPr/>
          </p:nvSpPr>
          <p:spPr>
            <a:xfrm>
              <a:off x="5805360" y="58244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556040" y="45180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 flipV="1">
              <a:off x="5905080" y="5015880"/>
              <a:ext cx="1042920" cy="43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184800" y="5121000"/>
              <a:ext cx="117360" cy="86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6257880" y="4560480"/>
              <a:ext cx="0" cy="60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5905080" y="51847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838200" y="5448240"/>
              <a:ext cx="506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=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320440" y="4825800"/>
              <a:ext cx="506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=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50360" y="5165640"/>
              <a:ext cx="430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052320" y="5432400"/>
              <a:ext cx="473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6491160" y="4651200"/>
            <a:ext cx="1432080" cy="1043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H="1" flipV="1">
            <a:off x="6483240" y="5236920"/>
            <a:ext cx="140976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versão RGB para HSV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álculo de 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2944800" y="2901600"/>
            <a:ext cx="376200" cy="390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2952720" y="2536920"/>
            <a:ext cx="360360" cy="371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319560" y="292104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592360" y="2927520"/>
            <a:ext cx="71136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 flipH="1">
            <a:off x="3295800" y="2921040"/>
            <a:ext cx="761760" cy="16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3295800" y="4570560"/>
            <a:ext cx="1091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3902760" y="2720880"/>
            <a:ext cx="660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 (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631320" y="2313000"/>
            <a:ext cx="70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 (6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2285640" y="2246400"/>
            <a:ext cx="76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(12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1701000" y="2714760"/>
            <a:ext cx="752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(18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056680" y="3235320"/>
            <a:ext cx="7520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(24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639600" y="3265560"/>
            <a:ext cx="7916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(30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3295800" y="4341600"/>
            <a:ext cx="56664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2855880" y="4171680"/>
            <a:ext cx="1082520" cy="813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45" y="4898"/>
                </a:moveTo>
                <a:arcTo wR="10800" hR="10800" stAng="-1987483" swAng="1987483"/>
                <a:lnTo>
                  <a:pt x="10800" y="10800"/>
                </a:lnTo>
                <a:close/>
              </a:path>
              <a:path fill="none" w="21600" h="21600">
                <a:moveTo>
                  <a:pt x="19845" y="4898"/>
                </a:moveTo>
                <a:arcTo wR="10800" hR="10800" stAng="-1987483" swAng="1987483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4230000" y="42958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605040" y="409104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3249360" y="219564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361120" y="3094200"/>
            <a:ext cx="1211040" cy="882360"/>
          </a:xfrm>
          <a:prstGeom prst="cube">
            <a:avLst>
              <a:gd name="adj" fmla="val 24995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5683320" y="3218040"/>
            <a:ext cx="75960" cy="31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492960" y="3635280"/>
            <a:ext cx="32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17800" y="2881440"/>
            <a:ext cx="41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231520" y="2849400"/>
            <a:ext cx="50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757040" y="3195720"/>
            <a:ext cx="50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790160" y="3924360"/>
            <a:ext cx="50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841000" y="3949560"/>
            <a:ext cx="50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604960" y="2536920"/>
            <a:ext cx="1452600" cy="749160"/>
          </a:xfrm>
          <a:prstGeom prst="hexagon">
            <a:avLst>
              <a:gd name="adj" fmla="val 48465"/>
              <a:gd name="vf" fmla="val 115470"/>
            </a:avLst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3287520" y="3286080"/>
            <a:ext cx="422280" cy="12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932200" y="3273480"/>
            <a:ext cx="363600" cy="12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303720" y="230364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H="1" flipV="1">
            <a:off x="6470640" y="4645080"/>
            <a:ext cx="1447920" cy="10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853960" y="4491000"/>
            <a:ext cx="50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772960" y="5504040"/>
            <a:ext cx="50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458040" y="4654440"/>
            <a:ext cx="193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483240" y="4691160"/>
            <a:ext cx="0" cy="140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8256600" y="4384800"/>
            <a:ext cx="34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008760" y="5932440"/>
            <a:ext cx="34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6369120" y="5321160"/>
            <a:ext cx="34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6711840" y="4543560"/>
            <a:ext cx="0" cy="77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668640" y="4357800"/>
            <a:ext cx="299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084000" y="503568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8134200" y="4664160"/>
            <a:ext cx="0" cy="1028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976160" y="5035680"/>
            <a:ext cx="275040" cy="3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5548320" y="49258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8" name=""/>
          <p:cNvGrpSpPr/>
          <p:nvPr/>
        </p:nvGrpSpPr>
        <p:grpSpPr>
          <a:xfrm>
            <a:off x="2182680" y="5108400"/>
            <a:ext cx="2358720" cy="691920"/>
            <a:chOff x="2182680" y="5108400"/>
            <a:chExt cx="2358720" cy="691920"/>
          </a:xfrm>
        </p:grpSpPr>
        <p:sp>
          <p:nvSpPr>
            <p:cNvPr id="1449" name=""/>
            <p:cNvSpPr/>
            <p:nvPr/>
          </p:nvSpPr>
          <p:spPr>
            <a:xfrm>
              <a:off x="2182680" y="5148720"/>
              <a:ext cx="2358720" cy="65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0" name=""/>
                <p:cNvSpPr txBox="1"/>
                <p:nvPr/>
              </p:nvSpPr>
              <p:spPr>
                <a:xfrm>
                  <a:off x="2182680" y="5108400"/>
                  <a:ext cx="2358720" cy="67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g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51" name=""/>
          <p:cNvSpPr/>
          <p:nvPr/>
        </p:nvSpPr>
        <p:spPr>
          <a:xfrm>
            <a:off x="6656400" y="5280120"/>
            <a:ext cx="85680" cy="61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LS Color Spac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1186200" y="2297160"/>
            <a:ext cx="4144680" cy="3920400"/>
            <a:chOff x="1186200" y="2297160"/>
            <a:chExt cx="4144680" cy="3920400"/>
          </a:xfrm>
        </p:grpSpPr>
        <p:sp>
          <p:nvSpPr>
            <p:cNvPr id="1454" name=""/>
            <p:cNvSpPr/>
            <p:nvPr/>
          </p:nvSpPr>
          <p:spPr>
            <a:xfrm>
              <a:off x="1752480" y="3994200"/>
              <a:ext cx="2552040" cy="672120"/>
            </a:xfrm>
            <a:prstGeom prst="hexagon">
              <a:avLst>
                <a:gd name="adj" fmla="val 94907"/>
                <a:gd name="vf" fmla="val 11547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762200" y="4365720"/>
              <a:ext cx="1216440" cy="16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3011400" y="4354560"/>
              <a:ext cx="1302840" cy="16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400480" y="4683960"/>
              <a:ext cx="594360" cy="133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2995200" y="4683960"/>
              <a:ext cx="714240" cy="131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3008880" y="4305960"/>
              <a:ext cx="0" cy="17150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3008880" y="2354040"/>
              <a:ext cx="0" cy="34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288680" y="4215240"/>
              <a:ext cx="2577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r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0</a:t>
              </a: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922760" y="3696120"/>
              <a:ext cx="37080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gre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120</a:t>
              </a: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449160" y="3780360"/>
              <a:ext cx="394920" cy="1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yel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845360" y="4628880"/>
              <a:ext cx="31572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Blu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240</a:t>
              </a: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186200" y="4215240"/>
              <a:ext cx="327960" cy="1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cy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361320" y="4704120"/>
              <a:ext cx="507960" cy="1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magen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 flipV="1">
              <a:off x="2356560" y="3976920"/>
              <a:ext cx="1319400" cy="69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2433600" y="3956400"/>
              <a:ext cx="1183320" cy="7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745640" y="4346280"/>
              <a:ext cx="252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989080" y="2297160"/>
              <a:ext cx="2044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711520" y="6019560"/>
              <a:ext cx="351000" cy="1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blac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542680" y="5882040"/>
              <a:ext cx="253440" cy="1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0.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542680" y="4215240"/>
              <a:ext cx="253440" cy="1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0.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021480" y="6023880"/>
              <a:ext cx="217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3021480" y="5685480"/>
              <a:ext cx="1841040" cy="32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036320" y="5833440"/>
              <a:ext cx="318240" cy="38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77" y="2"/>
                  </a:moveTo>
                  <a:arcTo wR="10800" hR="10800" stAng="-5470871" swAng="54708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77" y="2"/>
                  </a:moveTo>
                  <a:arcTo wR="10800" hR="10800" stAng="-5470871" swAng="547087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298400" y="5734440"/>
              <a:ext cx="2120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126400" y="5882040"/>
              <a:ext cx="20448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V="1">
              <a:off x="1762200" y="2683440"/>
              <a:ext cx="1216440" cy="165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3011400" y="2661480"/>
              <a:ext cx="1302840" cy="168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2400480" y="2650320"/>
              <a:ext cx="594360" cy="1365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 flipV="1">
              <a:off x="2995200" y="2661120"/>
              <a:ext cx="714240" cy="1354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008880" y="2679480"/>
              <a:ext cx="0" cy="1679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2417040" y="2661480"/>
              <a:ext cx="577800" cy="20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 flipV="1">
              <a:off x="3011760" y="2671920"/>
              <a:ext cx="664560" cy="20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5249880" y="2220840"/>
            <a:ext cx="3836880" cy="4000680"/>
          </a:xfrm>
          <a:prstGeom prst="rect">
            <a:avLst/>
          </a:prstGeom>
          <a:ln w="0">
            <a:noFill/>
          </a:ln>
        </p:spPr>
      </p:pic>
      <p:sp>
        <p:nvSpPr>
          <p:cNvPr id="1487" name=""/>
          <p:cNvSpPr/>
          <p:nvPr/>
        </p:nvSpPr>
        <p:spPr>
          <a:xfrm>
            <a:off x="1342080" y="1916280"/>
            <a:ext cx="454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LS = Hue Lightness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de vídeo component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olho tem menor sensibilidade para detectar cores do que variações de intens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-se uma banda maior para a luminância: Y = 0,299R + 0,587G + 0,116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componentes de crominância são representados como:  R-Y   e   B-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baseados em Y, R-Y, B-Y são chamados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ídeo com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de vídeo digit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adrão internacional para vídeo digital Y, Cr, Cb é dado pela seguinte transformação de Y, R-Y, B-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Y = 16 + 23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 = 128 + 112 (0,5/(1-0,114) * (B-Y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b = 128 + 112 (0,5/(1-0,299) * (R-Y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o nos padrões JPEG e MP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2050920" y="153180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GB to YCr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050920" y="393372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CrCb to RG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187280" y="6453360"/>
            <a:ext cx="60487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nte: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.efg2.com/Lab/Library/Color/Scienc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050920" y="1844640"/>
                <a:ext cx="5516640" cy="20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r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b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-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   -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   12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6" name=""/>
              <p:cNvSpPr txBox="1"/>
              <p:nvPr/>
            </p:nvSpPr>
            <p:spPr>
              <a:xfrm>
                <a:off x="1979640" y="4437000"/>
                <a:ext cx="5673600" cy="16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-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  -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      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de vídeo digit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/>
          </p:nvPr>
        </p:nvSpPr>
        <p:spPr>
          <a:xfrm>
            <a:off x="971280" y="1844640"/>
            <a:ext cx="771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" descr=""/>
          <p:cNvPicPr/>
          <p:nvPr/>
        </p:nvPicPr>
        <p:blipFill>
          <a:blip r:embed="rId1"/>
          <a:srcRect l="0" t="0" r="17706" b="0"/>
          <a:stretch/>
        </p:blipFill>
        <p:spPr>
          <a:xfrm>
            <a:off x="1898640" y="2924280"/>
            <a:ext cx="5697720" cy="21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0" name=""/>
          <p:cNvGraphicFramePr/>
          <p:nvPr/>
        </p:nvGraphicFramePr>
        <p:xfrm>
          <a:off x="7429680" y="3689280"/>
          <a:ext cx="1390320" cy="13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29680" y="3689280"/>
                    <a:ext cx="139032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2" name=""/>
          <p:cNvSpPr/>
          <p:nvPr/>
        </p:nvSpPr>
        <p:spPr>
          <a:xfrm>
            <a:off x="1042920" y="5308560"/>
            <a:ext cx="740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entury Gothic"/>
              </a:rPr>
              <a:t>Imagem original, Componente  </a:t>
            </a:r>
            <a:r>
              <a:rPr b="1" i="1" lang="pt-PT" sz="1200" spc="-1" strike="noStrike">
                <a:solidFill>
                  <a:srgbClr val="000000"/>
                </a:solidFill>
                <a:latin typeface="Century Gothic"/>
              </a:rPr>
              <a:t>Y</a:t>
            </a:r>
            <a:r>
              <a:rPr b="1" lang="pt-PT" sz="1200" spc="-1" strike="noStrike">
                <a:solidFill>
                  <a:srgbClr val="000000"/>
                </a:solidFill>
                <a:latin typeface="Century Gothic"/>
              </a:rPr>
              <a:t> - intensidade, </a:t>
            </a:r>
            <a:r>
              <a:rPr b="1" i="1" lang="pt-PT" sz="1200" spc="-1" strike="noStrike">
                <a:solidFill>
                  <a:srgbClr val="000000"/>
                </a:solidFill>
                <a:latin typeface="Century Gothic"/>
              </a:rPr>
              <a:t>Cb </a:t>
            </a:r>
            <a:r>
              <a:rPr b="1" lang="pt-PT" sz="1200" spc="-1" strike="noStrike">
                <a:solidFill>
                  <a:srgbClr val="000000"/>
                </a:solidFill>
                <a:latin typeface="Century Gothic"/>
              </a:rPr>
              <a:t> –  Componente azul, </a:t>
            </a:r>
            <a:r>
              <a:rPr b="1" i="1" lang="pt-PT" sz="1200" spc="-1" strike="noStrike">
                <a:solidFill>
                  <a:srgbClr val="000000"/>
                </a:solidFill>
                <a:latin typeface="Century Gothic"/>
              </a:rPr>
              <a:t>Cr</a:t>
            </a:r>
            <a:r>
              <a:rPr b="1" lang="pt-PT" sz="1200" spc="-1" strike="noStrike">
                <a:solidFill>
                  <a:srgbClr val="000000"/>
                </a:solidFill>
                <a:latin typeface="Century Gothic"/>
              </a:rPr>
              <a:t>  –  Componente vermelha. (da esquerda para a direi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de vídeo digit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uz branca (Newton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2136600" y="2011320"/>
            <a:ext cx="1965600" cy="16970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484280" y="2761920"/>
            <a:ext cx="107172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714760" y="2556000"/>
            <a:ext cx="6998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0040000">
            <a:off x="1114560" y="2611080"/>
            <a:ext cx="95004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40480" y="1916280"/>
            <a:ext cx="0" cy="207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444840" y="2258640"/>
            <a:ext cx="2179800" cy="2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732040" y="2661840"/>
            <a:ext cx="743040" cy="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492360" y="2478240"/>
            <a:ext cx="2124360" cy="18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8280" y="2747880"/>
            <a:ext cx="2909880" cy="484200"/>
          </a:xfrm>
          <a:custGeom>
            <a:avLst/>
            <a:gdLst/>
            <a:ahLst/>
            <a:rect l="l" t="t" r="r" b="b"/>
            <a:pathLst>
              <a:path w="1126" h="220">
                <a:moveTo>
                  <a:pt x="0" y="0"/>
                </a:moveTo>
                <a:lnTo>
                  <a:pt x="336" y="33"/>
                </a:lnTo>
                <a:lnTo>
                  <a:pt x="1125" y="21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14760" y="2747880"/>
            <a:ext cx="2919240" cy="273240"/>
          </a:xfrm>
          <a:custGeom>
            <a:avLst/>
            <a:gdLst/>
            <a:ahLst/>
            <a:rect l="l" t="t" r="r" b="b"/>
            <a:pathLst>
              <a:path w="1129" h="124">
                <a:moveTo>
                  <a:pt x="0" y="0"/>
                </a:moveTo>
                <a:lnTo>
                  <a:pt x="315" y="0"/>
                </a:lnTo>
                <a:lnTo>
                  <a:pt x="1128" y="1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14760" y="2714760"/>
            <a:ext cx="2903400" cy="81000"/>
          </a:xfrm>
          <a:custGeom>
            <a:avLst/>
            <a:gdLst/>
            <a:ahLst/>
            <a:rect l="l" t="t" r="r" b="b"/>
            <a:pathLst>
              <a:path w="1123" h="37">
                <a:moveTo>
                  <a:pt x="0" y="21"/>
                </a:moveTo>
                <a:lnTo>
                  <a:pt x="306" y="0"/>
                </a:lnTo>
                <a:lnTo>
                  <a:pt x="1122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6680" y="3311640"/>
            <a:ext cx="94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59120" y="2044800"/>
            <a:ext cx="1251720" cy="14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rme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aranj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ar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o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11280" y="5643720"/>
            <a:ext cx="3719160" cy="64116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z branca (acromática) 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os os comprimentos de o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49960" y="2133720"/>
            <a:ext cx="1820880" cy="112392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24960" y="3825720"/>
            <a:ext cx="2181600" cy="17960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ole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80-440 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zu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40-490 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90-565 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arel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65-590 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anj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90-630 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melh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30-780 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de vídeo compost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570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sistemas de cor para transmissão de vídeo (NTSC, PAL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componentes são combinados em um único sin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inal de luminância pode ser utilizado em aparelhos preto e br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crominâncias podem ser codificadas em apenas 5% da banda de passagem sem degradar o sinal de luminâ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Y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 = 0,493 (B-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 = 0,877 (R-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de vídeo compost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YIQ: IQ é obtido a partir de uma rotação das coordenadas 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 ocupa uma banda me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do para ser eficiente e compatível com TV preto e bran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o no NTSC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ational Television Standards Committe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Y é a luminância (intensidade) – mesmo que CIE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 e Q codificam cromatic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2627280" y="5013360"/>
                <a:ext cx="468000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9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Uso de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os estéticos (passar uma sensação ao observador), destacar objetos, codificar quantidades (relevo, temperatura, dinâmica de fluíd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sso sistema visual é mais sensível à variação espacial (pequenos detalhes devem diferir do fundo da imagem não somente em cor mas em intensida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zul e preto, amarelo e branco são combinações ruins (não use azul para tex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daltônicos evite verdes e vermelhos com baixa saturação e intens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Uso de Cor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difícil de se perceber cores quando usadas com pequenos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r percebida de objeto é afetada por cor da área que o circ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res muito saturadas produzem imagens pos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res afetam tamanhos perceb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os vermelhos aparentam ser maiores que objetos ver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res refratam de modo diferente na nossa lente e aparentam distâncias dife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/>
          </p:nvPr>
        </p:nvSpPr>
        <p:spPr>
          <a:xfrm>
            <a:off x="971280" y="2707920"/>
            <a:ext cx="280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Comparação entre o sistema visual humano e um sistema de visão artifici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4" name="" descr=""/>
          <p:cNvPicPr/>
          <p:nvPr/>
        </p:nvPicPr>
        <p:blipFill>
          <a:blip r:embed="rId1"/>
          <a:stretch/>
        </p:blipFill>
        <p:spPr>
          <a:xfrm>
            <a:off x="3851280" y="115920"/>
            <a:ext cx="4870440" cy="6400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515" name=""/>
          <p:cNvSpPr/>
          <p:nvPr/>
        </p:nvSpPr>
        <p:spPr>
          <a:xfrm>
            <a:off x="1131840" y="6524640"/>
            <a:ext cx="776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: MARQUES FILHO, O. e VEIRA NETO, H., Processamento Digital de Imagens, Editora Brasport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705800" cy="66528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spectro de fontes luminos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91320" y="1916280"/>
            <a:ext cx="7851600" cy="4384080"/>
            <a:chOff x="1291320" y="1916280"/>
            <a:chExt cx="7851600" cy="4384080"/>
          </a:xfrm>
        </p:grpSpPr>
        <p:sp>
          <p:nvSpPr>
            <p:cNvPr id="162" name=""/>
            <p:cNvSpPr/>
            <p:nvPr/>
          </p:nvSpPr>
          <p:spPr>
            <a:xfrm>
              <a:off x="1291320" y="1916280"/>
              <a:ext cx="10238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tabLst>
                  <a:tab algn="l" pos="0"/>
                  <a:tab algn="l" pos="1546200"/>
                  <a:tab algn="l" pos="3092400"/>
                  <a:tab algn="l" pos="4638600"/>
                  <a:tab algn="l" pos="6184800"/>
                  <a:tab algn="l" pos="7731000"/>
                  <a:tab algn="l" pos="9277200"/>
                  <a:tab algn="l" pos="10823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Energ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18840" y="2838600"/>
              <a:ext cx="5486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374920" y="2800440"/>
              <a:ext cx="0" cy="244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2398680" y="501588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398680" y="477864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398680" y="457344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398680" y="436356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398680" y="415656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398680" y="394992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398680" y="374184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398680" y="352764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398680" y="331812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398680" y="311004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76320" y="4930920"/>
              <a:ext cx="29556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94160" y="3869280"/>
              <a:ext cx="4222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10560" y="5036760"/>
              <a:ext cx="720720" cy="69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74920" y="2542320"/>
              <a:ext cx="40824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tabLst>
                  <a:tab algn="l" pos="0"/>
                  <a:tab algn="l" pos="1546200"/>
                  <a:tab algn="l" pos="3092400"/>
                  <a:tab algn="l" pos="4638600"/>
                  <a:tab algn="l" pos="6184800"/>
                  <a:tab algn="l" pos="7731000"/>
                  <a:tab algn="l" pos="9277200"/>
                  <a:tab algn="l" pos="10823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27480" y="3480840"/>
              <a:ext cx="4016880" cy="196200"/>
            </a:xfrm>
            <a:custGeom>
              <a:avLst/>
              <a:gdLst/>
              <a:ahLst/>
              <a:rect l="l" t="t" r="r" b="b"/>
              <a:pathLst>
                <a:path w="1280" h="87">
                  <a:moveTo>
                    <a:pt x="0" y="31"/>
                  </a:moveTo>
                  <a:lnTo>
                    <a:pt x="93" y="0"/>
                  </a:lnTo>
                  <a:lnTo>
                    <a:pt x="132" y="0"/>
                  </a:lnTo>
                  <a:lnTo>
                    <a:pt x="171" y="31"/>
                  </a:lnTo>
                  <a:lnTo>
                    <a:pt x="249" y="62"/>
                  </a:lnTo>
                  <a:lnTo>
                    <a:pt x="288" y="54"/>
                  </a:lnTo>
                  <a:lnTo>
                    <a:pt x="421" y="0"/>
                  </a:lnTo>
                  <a:lnTo>
                    <a:pt x="475" y="7"/>
                  </a:lnTo>
                  <a:lnTo>
                    <a:pt x="577" y="39"/>
                  </a:lnTo>
                  <a:lnTo>
                    <a:pt x="600" y="46"/>
                  </a:lnTo>
                  <a:lnTo>
                    <a:pt x="701" y="86"/>
                  </a:lnTo>
                  <a:lnTo>
                    <a:pt x="811" y="70"/>
                  </a:lnTo>
                  <a:lnTo>
                    <a:pt x="904" y="39"/>
                  </a:lnTo>
                  <a:lnTo>
                    <a:pt x="982" y="23"/>
                  </a:lnTo>
                  <a:lnTo>
                    <a:pt x="1052" y="54"/>
                  </a:lnTo>
                  <a:lnTo>
                    <a:pt x="1091" y="23"/>
                  </a:lnTo>
                  <a:lnTo>
                    <a:pt x="1146" y="39"/>
                  </a:lnTo>
                  <a:lnTo>
                    <a:pt x="1279" y="6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71400" y="3009960"/>
              <a:ext cx="4239000" cy="2216880"/>
            </a:xfrm>
            <a:custGeom>
              <a:avLst/>
              <a:gdLst/>
              <a:ahLst/>
              <a:rect l="l" t="t" r="r" b="b"/>
              <a:pathLst>
                <a:path w="1351" h="976">
                  <a:moveTo>
                    <a:pt x="0" y="967"/>
                  </a:moveTo>
                  <a:lnTo>
                    <a:pt x="454" y="961"/>
                  </a:lnTo>
                  <a:lnTo>
                    <a:pt x="458" y="961"/>
                  </a:lnTo>
                  <a:lnTo>
                    <a:pt x="497" y="947"/>
                  </a:lnTo>
                  <a:lnTo>
                    <a:pt x="523" y="923"/>
                  </a:lnTo>
                  <a:lnTo>
                    <a:pt x="549" y="876"/>
                  </a:lnTo>
                  <a:lnTo>
                    <a:pt x="567" y="811"/>
                  </a:lnTo>
                  <a:lnTo>
                    <a:pt x="579" y="705"/>
                  </a:lnTo>
                  <a:lnTo>
                    <a:pt x="592" y="596"/>
                  </a:lnTo>
                  <a:lnTo>
                    <a:pt x="603" y="463"/>
                  </a:lnTo>
                  <a:lnTo>
                    <a:pt x="617" y="300"/>
                  </a:lnTo>
                  <a:lnTo>
                    <a:pt x="633" y="153"/>
                  </a:lnTo>
                  <a:lnTo>
                    <a:pt x="648" y="61"/>
                  </a:lnTo>
                  <a:lnTo>
                    <a:pt x="665" y="13"/>
                  </a:lnTo>
                  <a:lnTo>
                    <a:pt x="682" y="0"/>
                  </a:lnTo>
                  <a:lnTo>
                    <a:pt x="704" y="23"/>
                  </a:lnTo>
                  <a:lnTo>
                    <a:pt x="723" y="92"/>
                  </a:lnTo>
                  <a:lnTo>
                    <a:pt x="744" y="201"/>
                  </a:lnTo>
                  <a:lnTo>
                    <a:pt x="757" y="289"/>
                  </a:lnTo>
                  <a:lnTo>
                    <a:pt x="778" y="477"/>
                  </a:lnTo>
                  <a:lnTo>
                    <a:pt x="800" y="647"/>
                  </a:lnTo>
                  <a:lnTo>
                    <a:pt x="820" y="784"/>
                  </a:lnTo>
                  <a:lnTo>
                    <a:pt x="838" y="865"/>
                  </a:lnTo>
                  <a:lnTo>
                    <a:pt x="858" y="917"/>
                  </a:lnTo>
                  <a:lnTo>
                    <a:pt x="880" y="944"/>
                  </a:lnTo>
                  <a:lnTo>
                    <a:pt x="904" y="964"/>
                  </a:lnTo>
                  <a:lnTo>
                    <a:pt x="1350" y="97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85920" y="294984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luz bran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81840" y="393084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luz color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5032800" y="4317840"/>
              <a:ext cx="299160" cy="32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92680" y="3336840"/>
              <a:ext cx="243360" cy="19044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78" y="0"/>
                  </a:moveTo>
                  <a:lnTo>
                    <a:pt x="0" y="8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55120" y="5236200"/>
              <a:ext cx="470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339360" y="5072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79720" y="5072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420800" y="5072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963680" y="5072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502240" y="5072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44480" y="5200920"/>
              <a:ext cx="56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05760" y="5200920"/>
              <a:ext cx="56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59840" y="5200920"/>
              <a:ext cx="56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91960" y="5200920"/>
              <a:ext cx="56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757600" y="5081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36120" y="5072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577560" y="5072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21480" y="5389920"/>
              <a:ext cx="162144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160" rIns="119160" tIns="60480" bIns="60480" anchor="t">
              <a:spAutoFit/>
            </a:bodyPr>
            <a:p>
              <a:pPr>
                <a:tabLst>
                  <a:tab algn="l" pos="0"/>
                  <a:tab algn="l" pos="1546200"/>
                  <a:tab algn="l" pos="3092400"/>
                  <a:tab algn="l" pos="4638600"/>
                  <a:tab algn="l" pos="6184800"/>
                  <a:tab algn="l" pos="7731000"/>
                  <a:tab algn="l" pos="9277200"/>
                  <a:tab algn="l" pos="10823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omprimento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e on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011680" y="5555520"/>
              <a:ext cx="5326560" cy="744840"/>
              <a:chOff x="2011680" y="5555520"/>
              <a:chExt cx="5326560" cy="744840"/>
            </a:xfrm>
          </p:grpSpPr>
          <p:sp>
            <p:nvSpPr>
              <p:cNvPr id="200" name=""/>
              <p:cNvSpPr/>
              <p:nvPr/>
            </p:nvSpPr>
            <p:spPr>
              <a:xfrm flipH="1">
                <a:off x="2310480" y="5555520"/>
                <a:ext cx="4302360" cy="34740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011680" y="5933520"/>
                <a:ext cx="971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80 n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66960" y="5915880"/>
                <a:ext cx="971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80 n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87120" y="404640"/>
            <a:ext cx="8156520" cy="86688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racterísticas das fontes luminos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1606680"/>
            <a:ext cx="3803760" cy="2279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148360" y="1606680"/>
            <a:ext cx="3803040" cy="2279520"/>
            <a:chOff x="5148360" y="1606680"/>
            <a:chExt cx="3803040" cy="2279520"/>
          </a:xfrm>
        </p:grpSpPr>
        <p:sp>
          <p:nvSpPr>
            <p:cNvPr id="206" name=""/>
            <p:cNvSpPr/>
            <p:nvPr/>
          </p:nvSpPr>
          <p:spPr>
            <a:xfrm>
              <a:off x="5624280" y="2000520"/>
              <a:ext cx="2198520" cy="1207440"/>
            </a:xfrm>
            <a:custGeom>
              <a:avLst/>
              <a:gdLst/>
              <a:ahLst/>
              <a:rect l="l" t="t" r="r" b="b"/>
              <a:pathLst>
                <a:path w="1039" h="781">
                  <a:moveTo>
                    <a:pt x="0" y="773"/>
                  </a:moveTo>
                  <a:lnTo>
                    <a:pt x="349" y="769"/>
                  </a:lnTo>
                  <a:lnTo>
                    <a:pt x="352" y="769"/>
                  </a:lnTo>
                  <a:lnTo>
                    <a:pt x="382" y="758"/>
                  </a:lnTo>
                  <a:lnTo>
                    <a:pt x="402" y="739"/>
                  </a:lnTo>
                  <a:lnTo>
                    <a:pt x="422" y="700"/>
                  </a:lnTo>
                  <a:lnTo>
                    <a:pt x="436" y="649"/>
                  </a:lnTo>
                  <a:lnTo>
                    <a:pt x="445" y="564"/>
                  </a:lnTo>
                  <a:lnTo>
                    <a:pt x="455" y="477"/>
                  </a:lnTo>
                  <a:lnTo>
                    <a:pt x="463" y="370"/>
                  </a:lnTo>
                  <a:lnTo>
                    <a:pt x="474" y="240"/>
                  </a:lnTo>
                  <a:lnTo>
                    <a:pt x="487" y="122"/>
                  </a:lnTo>
                  <a:lnTo>
                    <a:pt x="498" y="49"/>
                  </a:lnTo>
                  <a:lnTo>
                    <a:pt x="511" y="10"/>
                  </a:lnTo>
                  <a:lnTo>
                    <a:pt x="524" y="0"/>
                  </a:lnTo>
                  <a:lnTo>
                    <a:pt x="541" y="19"/>
                  </a:lnTo>
                  <a:lnTo>
                    <a:pt x="556" y="73"/>
                  </a:lnTo>
                  <a:lnTo>
                    <a:pt x="572" y="160"/>
                  </a:lnTo>
                  <a:lnTo>
                    <a:pt x="582" y="231"/>
                  </a:lnTo>
                  <a:lnTo>
                    <a:pt x="598" y="381"/>
                  </a:lnTo>
                  <a:lnTo>
                    <a:pt x="615" y="518"/>
                  </a:lnTo>
                  <a:lnTo>
                    <a:pt x="630" y="627"/>
                  </a:lnTo>
                  <a:lnTo>
                    <a:pt x="644" y="692"/>
                  </a:lnTo>
                  <a:lnTo>
                    <a:pt x="660" y="733"/>
                  </a:lnTo>
                  <a:lnTo>
                    <a:pt x="677" y="755"/>
                  </a:lnTo>
                  <a:lnTo>
                    <a:pt x="695" y="771"/>
                  </a:lnTo>
                  <a:lnTo>
                    <a:pt x="1038" y="78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8600" y="3207240"/>
              <a:ext cx="229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619960" y="1923480"/>
              <a:ext cx="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007320" y="3120120"/>
              <a:ext cx="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369120" y="3120120"/>
              <a:ext cx="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729120" y="3120120"/>
              <a:ext cx="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7090920" y="3120120"/>
              <a:ext cx="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448760" y="3120120"/>
              <a:ext cx="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7808760" y="3120120"/>
              <a:ext cx="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632200" y="308340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632200" y="295956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632200" y="285156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632200" y="274140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632200" y="263340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632200" y="252504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632200" y="241524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632200" y="230364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632200" y="219384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632200" y="208404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76320" y="3197520"/>
              <a:ext cx="38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83000" y="3197520"/>
              <a:ext cx="38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85720" y="3197520"/>
              <a:ext cx="38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71160" y="3197520"/>
              <a:ext cx="38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26280" y="3031920"/>
              <a:ext cx="51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08520" y="17874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28600" y="3469680"/>
              <a:ext cx="3089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ilho (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brightnes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81720" y="1795320"/>
              <a:ext cx="9914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ns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fine 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ril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brightnes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24280" y="2455560"/>
              <a:ext cx="2198520" cy="743760"/>
            </a:xfrm>
            <a:custGeom>
              <a:avLst/>
              <a:gdLst/>
              <a:ahLst/>
              <a:rect l="l" t="t" r="r" b="b"/>
              <a:pathLst>
                <a:path w="1039" h="481">
                  <a:moveTo>
                    <a:pt x="0" y="476"/>
                  </a:moveTo>
                  <a:lnTo>
                    <a:pt x="349" y="473"/>
                  </a:lnTo>
                  <a:lnTo>
                    <a:pt x="352" y="473"/>
                  </a:lnTo>
                  <a:lnTo>
                    <a:pt x="382" y="466"/>
                  </a:lnTo>
                  <a:lnTo>
                    <a:pt x="402" y="454"/>
                  </a:lnTo>
                  <a:lnTo>
                    <a:pt x="422" y="431"/>
                  </a:lnTo>
                  <a:lnTo>
                    <a:pt x="436" y="399"/>
                  </a:lnTo>
                  <a:lnTo>
                    <a:pt x="445" y="347"/>
                  </a:lnTo>
                  <a:lnTo>
                    <a:pt x="455" y="293"/>
                  </a:lnTo>
                  <a:lnTo>
                    <a:pt x="463" y="228"/>
                  </a:lnTo>
                  <a:lnTo>
                    <a:pt x="474" y="147"/>
                  </a:lnTo>
                  <a:lnTo>
                    <a:pt x="487" y="75"/>
                  </a:lnTo>
                  <a:lnTo>
                    <a:pt x="498" y="30"/>
                  </a:lnTo>
                  <a:lnTo>
                    <a:pt x="511" y="6"/>
                  </a:lnTo>
                  <a:lnTo>
                    <a:pt x="524" y="0"/>
                  </a:lnTo>
                  <a:lnTo>
                    <a:pt x="541" y="11"/>
                  </a:lnTo>
                  <a:lnTo>
                    <a:pt x="556" y="45"/>
                  </a:lnTo>
                  <a:lnTo>
                    <a:pt x="572" y="99"/>
                  </a:lnTo>
                  <a:lnTo>
                    <a:pt x="582" y="142"/>
                  </a:lnTo>
                  <a:lnTo>
                    <a:pt x="598" y="234"/>
                  </a:lnTo>
                  <a:lnTo>
                    <a:pt x="615" y="318"/>
                  </a:lnTo>
                  <a:lnTo>
                    <a:pt x="630" y="386"/>
                  </a:lnTo>
                  <a:lnTo>
                    <a:pt x="644" y="426"/>
                  </a:lnTo>
                  <a:lnTo>
                    <a:pt x="660" y="451"/>
                  </a:lnTo>
                  <a:lnTo>
                    <a:pt x="677" y="464"/>
                  </a:lnTo>
                  <a:lnTo>
                    <a:pt x="695" y="474"/>
                  </a:lnTo>
                  <a:lnTo>
                    <a:pt x="1038" y="48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48360" y="1606680"/>
              <a:ext cx="3803040" cy="227952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589120" y="4281480"/>
            <a:ext cx="4071600" cy="2316960"/>
            <a:chOff x="2589120" y="4281480"/>
            <a:chExt cx="4071600" cy="2316960"/>
          </a:xfrm>
        </p:grpSpPr>
        <p:sp>
          <p:nvSpPr>
            <p:cNvPr id="236" name=""/>
            <p:cNvSpPr/>
            <p:nvPr/>
          </p:nvSpPr>
          <p:spPr>
            <a:xfrm>
              <a:off x="2934000" y="4785840"/>
              <a:ext cx="2198880" cy="1208160"/>
            </a:xfrm>
            <a:custGeom>
              <a:avLst/>
              <a:gdLst/>
              <a:ahLst/>
              <a:rect l="l" t="t" r="r" b="b"/>
              <a:pathLst>
                <a:path w="1039" h="781">
                  <a:moveTo>
                    <a:pt x="0" y="773"/>
                  </a:moveTo>
                  <a:lnTo>
                    <a:pt x="349" y="769"/>
                  </a:lnTo>
                  <a:lnTo>
                    <a:pt x="352" y="769"/>
                  </a:lnTo>
                  <a:lnTo>
                    <a:pt x="382" y="758"/>
                  </a:lnTo>
                  <a:lnTo>
                    <a:pt x="402" y="739"/>
                  </a:lnTo>
                  <a:lnTo>
                    <a:pt x="422" y="700"/>
                  </a:lnTo>
                  <a:lnTo>
                    <a:pt x="436" y="649"/>
                  </a:lnTo>
                  <a:lnTo>
                    <a:pt x="445" y="564"/>
                  </a:lnTo>
                  <a:lnTo>
                    <a:pt x="455" y="477"/>
                  </a:lnTo>
                  <a:lnTo>
                    <a:pt x="463" y="370"/>
                  </a:lnTo>
                  <a:lnTo>
                    <a:pt x="474" y="240"/>
                  </a:lnTo>
                  <a:lnTo>
                    <a:pt x="487" y="122"/>
                  </a:lnTo>
                  <a:lnTo>
                    <a:pt x="498" y="49"/>
                  </a:lnTo>
                  <a:lnTo>
                    <a:pt x="511" y="10"/>
                  </a:lnTo>
                  <a:lnTo>
                    <a:pt x="524" y="0"/>
                  </a:lnTo>
                  <a:lnTo>
                    <a:pt x="541" y="19"/>
                  </a:lnTo>
                  <a:lnTo>
                    <a:pt x="556" y="73"/>
                  </a:lnTo>
                  <a:lnTo>
                    <a:pt x="572" y="160"/>
                  </a:lnTo>
                  <a:lnTo>
                    <a:pt x="582" y="231"/>
                  </a:lnTo>
                  <a:lnTo>
                    <a:pt x="598" y="381"/>
                  </a:lnTo>
                  <a:lnTo>
                    <a:pt x="615" y="518"/>
                  </a:lnTo>
                  <a:lnTo>
                    <a:pt x="630" y="627"/>
                  </a:lnTo>
                  <a:lnTo>
                    <a:pt x="644" y="692"/>
                  </a:lnTo>
                  <a:lnTo>
                    <a:pt x="660" y="733"/>
                  </a:lnTo>
                  <a:lnTo>
                    <a:pt x="677" y="755"/>
                  </a:lnTo>
                  <a:lnTo>
                    <a:pt x="695" y="771"/>
                  </a:lnTo>
                  <a:lnTo>
                    <a:pt x="1038" y="7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38320" y="5992200"/>
              <a:ext cx="229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929680" y="470844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317040" y="5905800"/>
              <a:ext cx="0" cy="8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678840" y="5905800"/>
              <a:ext cx="0" cy="8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038840" y="5905800"/>
              <a:ext cx="0" cy="8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4400640" y="5905800"/>
              <a:ext cx="0" cy="8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4758120" y="5905800"/>
              <a:ext cx="0" cy="8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118120" y="5905800"/>
              <a:ext cx="0" cy="8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942280" y="586872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942280" y="574488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942280" y="563652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942280" y="552672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942280" y="54183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942280" y="53103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2942280" y="52005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942280" y="5088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942280" y="49791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942280" y="48693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86040" y="5983200"/>
              <a:ext cx="38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92720" y="5983200"/>
              <a:ext cx="38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95440" y="5983200"/>
              <a:ext cx="38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80880" y="5983200"/>
              <a:ext cx="38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83360" y="5866920"/>
              <a:ext cx="51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8960" y="45720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54120" y="6292800"/>
              <a:ext cx="1026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tur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32560" y="4426920"/>
              <a:ext cx="158112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concentração n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rimento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nda domina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fine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turação ou pure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84720" y="4785840"/>
              <a:ext cx="1310040" cy="1208160"/>
            </a:xfrm>
            <a:custGeom>
              <a:avLst/>
              <a:gdLst/>
              <a:ahLst/>
              <a:rect l="l" t="t" r="r" b="b"/>
              <a:pathLst>
                <a:path w="619" h="781">
                  <a:moveTo>
                    <a:pt x="0" y="773"/>
                  </a:moveTo>
                  <a:lnTo>
                    <a:pt x="208" y="769"/>
                  </a:lnTo>
                  <a:lnTo>
                    <a:pt x="209" y="769"/>
                  </a:lnTo>
                  <a:lnTo>
                    <a:pt x="227" y="758"/>
                  </a:lnTo>
                  <a:lnTo>
                    <a:pt x="239" y="739"/>
                  </a:lnTo>
                  <a:lnTo>
                    <a:pt x="251" y="700"/>
                  </a:lnTo>
                  <a:lnTo>
                    <a:pt x="259" y="649"/>
                  </a:lnTo>
                  <a:lnTo>
                    <a:pt x="265" y="564"/>
                  </a:lnTo>
                  <a:lnTo>
                    <a:pt x="271" y="477"/>
                  </a:lnTo>
                  <a:lnTo>
                    <a:pt x="276" y="370"/>
                  </a:lnTo>
                  <a:lnTo>
                    <a:pt x="282" y="240"/>
                  </a:lnTo>
                  <a:lnTo>
                    <a:pt x="290" y="122"/>
                  </a:lnTo>
                  <a:lnTo>
                    <a:pt x="297" y="49"/>
                  </a:lnTo>
                  <a:lnTo>
                    <a:pt x="304" y="10"/>
                  </a:lnTo>
                  <a:lnTo>
                    <a:pt x="312" y="0"/>
                  </a:lnTo>
                  <a:lnTo>
                    <a:pt x="322" y="19"/>
                  </a:lnTo>
                  <a:lnTo>
                    <a:pt x="331" y="73"/>
                  </a:lnTo>
                  <a:lnTo>
                    <a:pt x="340" y="160"/>
                  </a:lnTo>
                  <a:lnTo>
                    <a:pt x="346" y="231"/>
                  </a:lnTo>
                  <a:lnTo>
                    <a:pt x="356" y="381"/>
                  </a:lnTo>
                  <a:lnTo>
                    <a:pt x="366" y="518"/>
                  </a:lnTo>
                  <a:lnTo>
                    <a:pt x="375" y="627"/>
                  </a:lnTo>
                  <a:lnTo>
                    <a:pt x="383" y="692"/>
                  </a:lnTo>
                  <a:lnTo>
                    <a:pt x="393" y="733"/>
                  </a:lnTo>
                  <a:lnTo>
                    <a:pt x="403" y="755"/>
                  </a:lnTo>
                  <a:lnTo>
                    <a:pt x="413" y="771"/>
                  </a:lnTo>
                  <a:lnTo>
                    <a:pt x="618" y="7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53080" y="4794840"/>
              <a:ext cx="2166840" cy="1203480"/>
            </a:xfrm>
            <a:custGeom>
              <a:avLst/>
              <a:gdLst/>
              <a:ahLst/>
              <a:rect l="l" t="t" r="r" b="b"/>
              <a:pathLst>
                <a:path w="1024" h="778">
                  <a:moveTo>
                    <a:pt x="0" y="773"/>
                  </a:moveTo>
                  <a:lnTo>
                    <a:pt x="217" y="768"/>
                  </a:lnTo>
                  <a:lnTo>
                    <a:pt x="223" y="768"/>
                  </a:lnTo>
                  <a:lnTo>
                    <a:pt x="273" y="757"/>
                  </a:lnTo>
                  <a:lnTo>
                    <a:pt x="308" y="738"/>
                  </a:lnTo>
                  <a:lnTo>
                    <a:pt x="342" y="700"/>
                  </a:lnTo>
                  <a:lnTo>
                    <a:pt x="366" y="648"/>
                  </a:lnTo>
                  <a:lnTo>
                    <a:pt x="382" y="564"/>
                  </a:lnTo>
                  <a:lnTo>
                    <a:pt x="398" y="477"/>
                  </a:lnTo>
                  <a:lnTo>
                    <a:pt x="413" y="370"/>
                  </a:lnTo>
                  <a:lnTo>
                    <a:pt x="431" y="239"/>
                  </a:lnTo>
                  <a:lnTo>
                    <a:pt x="452" y="122"/>
                  </a:lnTo>
                  <a:lnTo>
                    <a:pt x="472" y="49"/>
                  </a:lnTo>
                  <a:lnTo>
                    <a:pt x="494" y="10"/>
                  </a:lnTo>
                  <a:lnTo>
                    <a:pt x="516" y="0"/>
                  </a:lnTo>
                  <a:lnTo>
                    <a:pt x="545" y="19"/>
                  </a:lnTo>
                  <a:lnTo>
                    <a:pt x="570" y="73"/>
                  </a:lnTo>
                  <a:lnTo>
                    <a:pt x="597" y="160"/>
                  </a:lnTo>
                  <a:lnTo>
                    <a:pt x="615" y="231"/>
                  </a:lnTo>
                  <a:lnTo>
                    <a:pt x="642" y="381"/>
                  </a:lnTo>
                  <a:lnTo>
                    <a:pt x="671" y="518"/>
                  </a:lnTo>
                  <a:lnTo>
                    <a:pt x="697" y="627"/>
                  </a:lnTo>
                  <a:lnTo>
                    <a:pt x="720" y="692"/>
                  </a:lnTo>
                  <a:lnTo>
                    <a:pt x="747" y="733"/>
                  </a:lnTo>
                  <a:lnTo>
                    <a:pt x="776" y="755"/>
                  </a:lnTo>
                  <a:lnTo>
                    <a:pt x="807" y="771"/>
                  </a:lnTo>
                  <a:lnTo>
                    <a:pt x="1023" y="77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65240" y="5398560"/>
              <a:ext cx="749160" cy="36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89120" y="4281480"/>
              <a:ext cx="4071600" cy="2280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7136640" y="4537080"/>
            <a:ext cx="12394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s pasté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ão men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adas 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os p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26240" y="4206960"/>
            <a:ext cx="2119320" cy="1447560"/>
          </a:xfrm>
          <a:custGeom>
            <a:avLst/>
            <a:gdLst/>
            <a:ahLst/>
            <a:rect l="l" t="t" r="r" b="b"/>
            <a:pathLst>
              <a:path w="1001" h="937">
                <a:moveTo>
                  <a:pt x="82" y="500"/>
                </a:moveTo>
                <a:lnTo>
                  <a:pt x="100" y="327"/>
                </a:lnTo>
                <a:lnTo>
                  <a:pt x="82" y="236"/>
                </a:lnTo>
                <a:lnTo>
                  <a:pt x="82" y="209"/>
                </a:lnTo>
                <a:lnTo>
                  <a:pt x="127" y="118"/>
                </a:lnTo>
                <a:lnTo>
                  <a:pt x="254" y="91"/>
                </a:lnTo>
                <a:lnTo>
                  <a:pt x="472" y="45"/>
                </a:lnTo>
                <a:lnTo>
                  <a:pt x="627" y="0"/>
                </a:lnTo>
                <a:lnTo>
                  <a:pt x="654" y="9"/>
                </a:lnTo>
                <a:lnTo>
                  <a:pt x="818" y="45"/>
                </a:lnTo>
                <a:lnTo>
                  <a:pt x="945" y="127"/>
                </a:lnTo>
                <a:lnTo>
                  <a:pt x="963" y="327"/>
                </a:lnTo>
                <a:lnTo>
                  <a:pt x="991" y="472"/>
                </a:lnTo>
                <a:lnTo>
                  <a:pt x="1000" y="582"/>
                </a:lnTo>
                <a:lnTo>
                  <a:pt x="1000" y="836"/>
                </a:lnTo>
                <a:lnTo>
                  <a:pt x="809" y="927"/>
                </a:lnTo>
                <a:lnTo>
                  <a:pt x="600" y="936"/>
                </a:lnTo>
                <a:lnTo>
                  <a:pt x="354" y="927"/>
                </a:lnTo>
                <a:lnTo>
                  <a:pt x="282" y="927"/>
                </a:lnTo>
                <a:lnTo>
                  <a:pt x="209" y="909"/>
                </a:lnTo>
                <a:lnTo>
                  <a:pt x="191" y="882"/>
                </a:lnTo>
                <a:lnTo>
                  <a:pt x="136" y="672"/>
                </a:lnTo>
                <a:lnTo>
                  <a:pt x="0" y="900"/>
                </a:lnTo>
                <a:lnTo>
                  <a:pt x="91" y="645"/>
                </a:lnTo>
                <a:lnTo>
                  <a:pt x="82" y="50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512720" y="1751040"/>
            <a:ext cx="2881080" cy="1996200"/>
            <a:chOff x="1512720" y="1751040"/>
            <a:chExt cx="2881080" cy="1996200"/>
          </a:xfrm>
        </p:grpSpPr>
        <p:sp>
          <p:nvSpPr>
            <p:cNvPr id="270" name=""/>
            <p:cNvSpPr/>
            <p:nvPr/>
          </p:nvSpPr>
          <p:spPr>
            <a:xfrm>
              <a:off x="1524960" y="1963800"/>
              <a:ext cx="2199600" cy="1207080"/>
            </a:xfrm>
            <a:custGeom>
              <a:avLst/>
              <a:gdLst/>
              <a:ahLst/>
              <a:rect l="l" t="t" r="r" b="b"/>
              <a:pathLst>
                <a:path w="1039" h="781">
                  <a:moveTo>
                    <a:pt x="0" y="773"/>
                  </a:moveTo>
                  <a:lnTo>
                    <a:pt x="349" y="769"/>
                  </a:lnTo>
                  <a:lnTo>
                    <a:pt x="352" y="769"/>
                  </a:lnTo>
                  <a:lnTo>
                    <a:pt x="382" y="758"/>
                  </a:lnTo>
                  <a:lnTo>
                    <a:pt x="402" y="739"/>
                  </a:lnTo>
                  <a:lnTo>
                    <a:pt x="422" y="700"/>
                  </a:lnTo>
                  <a:lnTo>
                    <a:pt x="436" y="649"/>
                  </a:lnTo>
                  <a:lnTo>
                    <a:pt x="445" y="564"/>
                  </a:lnTo>
                  <a:lnTo>
                    <a:pt x="455" y="477"/>
                  </a:lnTo>
                  <a:lnTo>
                    <a:pt x="463" y="370"/>
                  </a:lnTo>
                  <a:lnTo>
                    <a:pt x="474" y="240"/>
                  </a:lnTo>
                  <a:lnTo>
                    <a:pt x="487" y="122"/>
                  </a:lnTo>
                  <a:lnTo>
                    <a:pt x="498" y="49"/>
                  </a:lnTo>
                  <a:lnTo>
                    <a:pt x="511" y="10"/>
                  </a:lnTo>
                  <a:lnTo>
                    <a:pt x="524" y="0"/>
                  </a:lnTo>
                  <a:lnTo>
                    <a:pt x="541" y="19"/>
                  </a:lnTo>
                  <a:lnTo>
                    <a:pt x="556" y="73"/>
                  </a:lnTo>
                  <a:lnTo>
                    <a:pt x="572" y="160"/>
                  </a:lnTo>
                  <a:lnTo>
                    <a:pt x="582" y="231"/>
                  </a:lnTo>
                  <a:lnTo>
                    <a:pt x="598" y="381"/>
                  </a:lnTo>
                  <a:lnTo>
                    <a:pt x="615" y="518"/>
                  </a:lnTo>
                  <a:lnTo>
                    <a:pt x="630" y="627"/>
                  </a:lnTo>
                  <a:lnTo>
                    <a:pt x="644" y="692"/>
                  </a:lnTo>
                  <a:lnTo>
                    <a:pt x="660" y="733"/>
                  </a:lnTo>
                  <a:lnTo>
                    <a:pt x="677" y="755"/>
                  </a:lnTo>
                  <a:lnTo>
                    <a:pt x="695" y="771"/>
                  </a:lnTo>
                  <a:lnTo>
                    <a:pt x="1038" y="78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521360" y="1886760"/>
              <a:ext cx="0" cy="12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533240" y="292212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533240" y="281448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1533240" y="270468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533240" y="259632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533240" y="248796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1533240" y="237816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1533240" y="226728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533240" y="215748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533240" y="204732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75400" y="3044520"/>
              <a:ext cx="51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09200" y="17510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54640" y="344160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iz (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u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16440" y="1758600"/>
              <a:ext cx="1323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rimento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nda domina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fine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tiz 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hu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12720" y="1973520"/>
              <a:ext cx="1850040" cy="1207080"/>
            </a:xfrm>
            <a:custGeom>
              <a:avLst/>
              <a:gdLst/>
              <a:ahLst/>
              <a:rect l="l" t="t" r="r" b="b"/>
              <a:pathLst>
                <a:path w="874" h="781">
                  <a:moveTo>
                    <a:pt x="9" y="777"/>
                  </a:moveTo>
                  <a:lnTo>
                    <a:pt x="27" y="773"/>
                  </a:lnTo>
                  <a:lnTo>
                    <a:pt x="0" y="771"/>
                  </a:lnTo>
                  <a:lnTo>
                    <a:pt x="184" y="769"/>
                  </a:lnTo>
                  <a:lnTo>
                    <a:pt x="187" y="769"/>
                  </a:lnTo>
                  <a:lnTo>
                    <a:pt x="217" y="758"/>
                  </a:lnTo>
                  <a:lnTo>
                    <a:pt x="237" y="739"/>
                  </a:lnTo>
                  <a:lnTo>
                    <a:pt x="257" y="700"/>
                  </a:lnTo>
                  <a:lnTo>
                    <a:pt x="271" y="649"/>
                  </a:lnTo>
                  <a:lnTo>
                    <a:pt x="280" y="564"/>
                  </a:lnTo>
                  <a:lnTo>
                    <a:pt x="290" y="477"/>
                  </a:lnTo>
                  <a:lnTo>
                    <a:pt x="298" y="370"/>
                  </a:lnTo>
                  <a:lnTo>
                    <a:pt x="309" y="240"/>
                  </a:lnTo>
                  <a:lnTo>
                    <a:pt x="322" y="122"/>
                  </a:lnTo>
                  <a:lnTo>
                    <a:pt x="333" y="49"/>
                  </a:lnTo>
                  <a:lnTo>
                    <a:pt x="346" y="10"/>
                  </a:lnTo>
                  <a:lnTo>
                    <a:pt x="359" y="0"/>
                  </a:lnTo>
                  <a:lnTo>
                    <a:pt x="376" y="19"/>
                  </a:lnTo>
                  <a:lnTo>
                    <a:pt x="391" y="73"/>
                  </a:lnTo>
                  <a:lnTo>
                    <a:pt x="407" y="160"/>
                  </a:lnTo>
                  <a:lnTo>
                    <a:pt x="417" y="231"/>
                  </a:lnTo>
                  <a:lnTo>
                    <a:pt x="433" y="381"/>
                  </a:lnTo>
                  <a:lnTo>
                    <a:pt x="450" y="518"/>
                  </a:lnTo>
                  <a:lnTo>
                    <a:pt x="465" y="627"/>
                  </a:lnTo>
                  <a:lnTo>
                    <a:pt x="479" y="692"/>
                  </a:lnTo>
                  <a:lnTo>
                    <a:pt x="495" y="733"/>
                  </a:lnTo>
                  <a:lnTo>
                    <a:pt x="512" y="755"/>
                  </a:lnTo>
                  <a:lnTo>
                    <a:pt x="530" y="771"/>
                  </a:lnTo>
                  <a:lnTo>
                    <a:pt x="873" y="78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523160" y="3026160"/>
              <a:ext cx="2354400" cy="406080"/>
              <a:chOff x="1523160" y="3026160"/>
              <a:chExt cx="2354400" cy="406080"/>
            </a:xfrm>
          </p:grpSpPr>
          <p:sp>
            <p:nvSpPr>
              <p:cNvPr id="287" name=""/>
              <p:cNvSpPr/>
              <p:nvPr/>
            </p:nvSpPr>
            <p:spPr>
              <a:xfrm>
                <a:off x="1523160" y="3193200"/>
                <a:ext cx="235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014920" y="3026160"/>
                <a:ext cx="0" cy="15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2285640" y="3026160"/>
                <a:ext cx="0" cy="15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2556000" y="3026160"/>
                <a:ext cx="0" cy="15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2827440" y="3026160"/>
                <a:ext cx="0" cy="15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3097080" y="3026160"/>
                <a:ext cx="0" cy="15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614240" y="3157200"/>
                <a:ext cx="441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44880" y="3157200"/>
                <a:ext cx="441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673360" y="3157200"/>
                <a:ext cx="441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89600" y="3157200"/>
                <a:ext cx="441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1724400" y="3035160"/>
                <a:ext cx="0" cy="15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3364200" y="3026160"/>
                <a:ext cx="0" cy="15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3634560" y="3026160"/>
                <a:ext cx="0" cy="15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 flipH="1">
              <a:off x="1533240" y="3029040"/>
              <a:ext cx="11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87480" y="404640"/>
            <a:ext cx="7329600" cy="86688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racterísticas das fontes luminos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044720" y="1746360"/>
            <a:ext cx="3727440" cy="1863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274920" y="4470480"/>
            <a:ext cx="3697560" cy="18241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rcRect l="0" t="3314" r="0" b="0"/>
          <a:stretch/>
        </p:blipFill>
        <p:spPr>
          <a:xfrm>
            <a:off x="5003640" y="1773360"/>
            <a:ext cx="374652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3D Color Spac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1042920" y="170028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i-cromático sugere espaço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52800" y="26654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24360" y="3357720"/>
            <a:ext cx="2953800" cy="2934720"/>
            <a:chOff x="5724360" y="3357720"/>
            <a:chExt cx="2953800" cy="2934720"/>
          </a:xfrm>
        </p:grpSpPr>
        <p:graphicFrame>
          <p:nvGraphicFramePr>
            <p:cNvPr id="309" name=""/>
            <p:cNvGraphicFramePr/>
            <p:nvPr/>
          </p:nvGraphicFramePr>
          <p:xfrm>
            <a:off x="5724360" y="3949200"/>
            <a:ext cx="2674440" cy="210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24360" y="3949200"/>
                      <a:ext cx="2674440" cy="21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1" name=""/>
            <p:cNvSpPr/>
            <p:nvPr/>
          </p:nvSpPr>
          <p:spPr>
            <a:xfrm>
              <a:off x="7012800" y="5923800"/>
              <a:ext cx="148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998040" y="3442680"/>
              <a:ext cx="0" cy="24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6636240" y="5930640"/>
              <a:ext cx="36144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89480" y="3357720"/>
              <a:ext cx="116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uminâ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6760" y="5575680"/>
              <a:ext cx="104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tur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96720" y="3881520"/>
              <a:ext cx="108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iz(Hu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188720" y="3500280"/>
            <a:ext cx="3224520" cy="2770200"/>
            <a:chOff x="1188720" y="3500280"/>
            <a:chExt cx="3224520" cy="2770200"/>
          </a:xfrm>
        </p:grpSpPr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1643040" y="4187880"/>
              <a:ext cx="209232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 flipV="1">
              <a:off x="2547720" y="3500280"/>
              <a:ext cx="0" cy="7876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71920" y="5637240"/>
              <a:ext cx="841320" cy="325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190160" y="5827680"/>
              <a:ext cx="623880" cy="4428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43520" y="59259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84440" y="35100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88720" y="586116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1835640" y="278136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rtesi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159680" cy="8064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3480" bIns="33480" anchor="b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ensibilidade do olh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042920" y="1844640"/>
            <a:ext cx="7778520" cy="4773240"/>
            <a:chOff x="1042920" y="1844640"/>
            <a:chExt cx="7778520" cy="4773240"/>
          </a:xfrm>
        </p:grpSpPr>
        <p:grpSp>
          <p:nvGrpSpPr>
            <p:cNvPr id="328" name=""/>
            <p:cNvGrpSpPr/>
            <p:nvPr/>
          </p:nvGrpSpPr>
          <p:grpSpPr>
            <a:xfrm>
              <a:off x="1592280" y="1909080"/>
              <a:ext cx="384480" cy="539280"/>
              <a:chOff x="1592280" y="1909080"/>
              <a:chExt cx="384480" cy="539280"/>
            </a:xfrm>
          </p:grpSpPr>
          <p:sp>
            <p:nvSpPr>
              <p:cNvPr id="329" name=""/>
              <p:cNvSpPr/>
              <p:nvPr/>
            </p:nvSpPr>
            <p:spPr>
              <a:xfrm>
                <a:off x="1879200" y="2108160"/>
                <a:ext cx="88200" cy="14220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1592280" y="1983960"/>
                <a:ext cx="37512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607760" y="2210040"/>
                <a:ext cx="359640" cy="14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1902240" y="1909080"/>
                <a:ext cx="2340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1843920" y="1942560"/>
                <a:ext cx="1152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1773000" y="2000880"/>
                <a:ext cx="1368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1702080" y="2046960"/>
                <a:ext cx="7920" cy="8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37880" y="2356560"/>
                <a:ext cx="2916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845720" y="2331360"/>
                <a:ext cx="2160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698120" y="2260440"/>
                <a:ext cx="1584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78760" y="2292480"/>
                <a:ext cx="17640" cy="5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74080" y="2048760"/>
                <a:ext cx="202680" cy="271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262" y="99"/>
                    </a:moveTo>
                    <a:arcTo wR="10800" hR="10800" stAng="-4933215" swAng="104003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262" y="99"/>
                    </a:moveTo>
                    <a:arcTo wR="10800" hR="10800" stAng="-4933215" swAng="10400303"/>
                  </a:path>
                </a:pathLst>
              </a:custGeom>
              <a:solidFill>
                <a:srgbClr val="cc99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2355480" y="1844640"/>
              <a:ext cx="6147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2149"/>
                </a:spcBef>
                <a:spcAft>
                  <a:spcPts val="10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lho humano: Cones (SML) e Bastonetes (cegos para co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49720" y="2831760"/>
              <a:ext cx="2907360" cy="2665800"/>
            </a:xfrm>
            <a:custGeom>
              <a:avLst/>
              <a:gdLst/>
              <a:ahLst/>
              <a:rect l="l" t="t" r="r" b="b"/>
              <a:pathLst>
                <a:path w="1477" h="1910">
                  <a:moveTo>
                    <a:pt x="0" y="1909"/>
                  </a:moveTo>
                  <a:lnTo>
                    <a:pt x="108" y="1877"/>
                  </a:lnTo>
                  <a:lnTo>
                    <a:pt x="216" y="1829"/>
                  </a:lnTo>
                  <a:lnTo>
                    <a:pt x="324" y="1749"/>
                  </a:lnTo>
                  <a:lnTo>
                    <a:pt x="414" y="1621"/>
                  </a:lnTo>
                  <a:lnTo>
                    <a:pt x="522" y="1421"/>
                  </a:lnTo>
                  <a:lnTo>
                    <a:pt x="585" y="1222"/>
                  </a:lnTo>
                  <a:lnTo>
                    <a:pt x="639" y="1030"/>
                  </a:lnTo>
                  <a:lnTo>
                    <a:pt x="720" y="583"/>
                  </a:lnTo>
                  <a:lnTo>
                    <a:pt x="783" y="175"/>
                  </a:lnTo>
                  <a:lnTo>
                    <a:pt x="837" y="23"/>
                  </a:lnTo>
                  <a:lnTo>
                    <a:pt x="873" y="0"/>
                  </a:lnTo>
                  <a:lnTo>
                    <a:pt x="900" y="15"/>
                  </a:lnTo>
                  <a:lnTo>
                    <a:pt x="945" y="119"/>
                  </a:lnTo>
                  <a:lnTo>
                    <a:pt x="990" y="311"/>
                  </a:lnTo>
                  <a:lnTo>
                    <a:pt x="1028" y="523"/>
                  </a:lnTo>
                  <a:lnTo>
                    <a:pt x="1089" y="814"/>
                  </a:lnTo>
                  <a:lnTo>
                    <a:pt x="1170" y="1174"/>
                  </a:lnTo>
                  <a:lnTo>
                    <a:pt x="1269" y="1573"/>
                  </a:lnTo>
                  <a:lnTo>
                    <a:pt x="1368" y="1789"/>
                  </a:lnTo>
                  <a:lnTo>
                    <a:pt x="1476" y="187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36960" y="2657160"/>
              <a:ext cx="3078360" cy="2826360"/>
            </a:xfrm>
            <a:custGeom>
              <a:avLst/>
              <a:gdLst/>
              <a:ahLst/>
              <a:rect l="l" t="t" r="r" b="b"/>
              <a:pathLst>
                <a:path w="1564" h="2025">
                  <a:moveTo>
                    <a:pt x="0" y="2024"/>
                  </a:moveTo>
                  <a:lnTo>
                    <a:pt x="108" y="2008"/>
                  </a:lnTo>
                  <a:lnTo>
                    <a:pt x="207" y="1960"/>
                  </a:lnTo>
                  <a:lnTo>
                    <a:pt x="288" y="1888"/>
                  </a:lnTo>
                  <a:lnTo>
                    <a:pt x="396" y="1736"/>
                  </a:lnTo>
                  <a:lnTo>
                    <a:pt x="477" y="1528"/>
                  </a:lnTo>
                  <a:lnTo>
                    <a:pt x="549" y="1257"/>
                  </a:lnTo>
                  <a:lnTo>
                    <a:pt x="612" y="889"/>
                  </a:lnTo>
                  <a:lnTo>
                    <a:pt x="666" y="426"/>
                  </a:lnTo>
                  <a:lnTo>
                    <a:pt x="711" y="195"/>
                  </a:lnTo>
                  <a:lnTo>
                    <a:pt x="765" y="24"/>
                  </a:lnTo>
                  <a:lnTo>
                    <a:pt x="808" y="0"/>
                  </a:lnTo>
                  <a:lnTo>
                    <a:pt x="846" y="22"/>
                  </a:lnTo>
                  <a:lnTo>
                    <a:pt x="882" y="139"/>
                  </a:lnTo>
                  <a:lnTo>
                    <a:pt x="900" y="283"/>
                  </a:lnTo>
                  <a:lnTo>
                    <a:pt x="945" y="594"/>
                  </a:lnTo>
                  <a:lnTo>
                    <a:pt x="990" y="953"/>
                  </a:lnTo>
                  <a:lnTo>
                    <a:pt x="1035" y="1241"/>
                  </a:lnTo>
                  <a:lnTo>
                    <a:pt x="1116" y="1592"/>
                  </a:lnTo>
                  <a:lnTo>
                    <a:pt x="1224" y="1856"/>
                  </a:lnTo>
                  <a:lnTo>
                    <a:pt x="1350" y="1992"/>
                  </a:lnTo>
                  <a:lnTo>
                    <a:pt x="1392" y="2024"/>
                  </a:lnTo>
                  <a:lnTo>
                    <a:pt x="1563" y="20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04560" y="5261400"/>
              <a:ext cx="3137760" cy="236160"/>
            </a:xfrm>
            <a:custGeom>
              <a:avLst/>
              <a:gdLst/>
              <a:ahLst/>
              <a:rect l="l" t="t" r="r" b="b"/>
              <a:pathLst>
                <a:path w="1594" h="169">
                  <a:moveTo>
                    <a:pt x="0" y="104"/>
                  </a:moveTo>
                  <a:lnTo>
                    <a:pt x="63" y="48"/>
                  </a:lnTo>
                  <a:lnTo>
                    <a:pt x="162" y="0"/>
                  </a:lnTo>
                  <a:lnTo>
                    <a:pt x="231" y="2"/>
                  </a:lnTo>
                  <a:lnTo>
                    <a:pt x="315" y="24"/>
                  </a:lnTo>
                  <a:lnTo>
                    <a:pt x="423" y="80"/>
                  </a:lnTo>
                  <a:lnTo>
                    <a:pt x="558" y="136"/>
                  </a:lnTo>
                  <a:lnTo>
                    <a:pt x="684" y="168"/>
                  </a:lnTo>
                  <a:lnTo>
                    <a:pt x="1593" y="16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2086920" y="2404440"/>
              <a:ext cx="3551760" cy="3102840"/>
              <a:chOff x="2086920" y="2404440"/>
              <a:chExt cx="3551760" cy="310284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2104560" y="2404440"/>
                <a:ext cx="156960" cy="3098520"/>
                <a:chOff x="2104560" y="2404440"/>
                <a:chExt cx="156960" cy="3098520"/>
              </a:xfrm>
            </p:grpSpPr>
            <p:sp>
              <p:nvSpPr>
                <p:cNvPr id="347" name=""/>
                <p:cNvSpPr/>
                <p:nvPr/>
              </p:nvSpPr>
              <p:spPr>
                <a:xfrm flipV="1">
                  <a:off x="2104560" y="2404440"/>
                  <a:ext cx="0" cy="309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104560" y="520740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104560" y="507060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104560" y="493920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104560" y="479124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104560" y="465732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104560" y="451620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104560" y="436680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104560" y="422604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104560" y="408492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104560" y="394416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104560" y="380304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104560" y="365400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104560" y="351252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104560" y="337176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104560" y="323784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104560" y="309672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104560" y="296280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104560" y="282168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104560" y="2680920"/>
                  <a:ext cx="15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086920" y="5356800"/>
                <a:ext cx="3551760" cy="150480"/>
                <a:chOff x="2086920" y="5356800"/>
                <a:chExt cx="3551760" cy="1504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2093040" y="5507280"/>
                  <a:ext cx="3545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098800" y="5507280"/>
                  <a:ext cx="155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30148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52180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74392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96460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18672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40704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62988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84984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07232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29300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51512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73544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95792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178240" y="541512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86920" y="5356800"/>
                  <a:ext cx="157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5" name=""/>
            <p:cNvSpPr/>
            <p:nvPr/>
          </p:nvSpPr>
          <p:spPr>
            <a:xfrm>
              <a:off x="1674720" y="5086800"/>
              <a:ext cx="40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17280" y="5321520"/>
              <a:ext cx="27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74720" y="4840200"/>
              <a:ext cx="40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74720" y="4550760"/>
              <a:ext cx="40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74720" y="4264200"/>
              <a:ext cx="40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74720" y="3976200"/>
              <a:ext cx="40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74720" y="3688560"/>
              <a:ext cx="40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74720" y="3402000"/>
              <a:ext cx="40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74720" y="3113640"/>
              <a:ext cx="40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74720" y="2827080"/>
              <a:ext cx="40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74720" y="2540880"/>
              <a:ext cx="40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.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32760" y="546480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69080" y="546480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06480" y="546480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55040" y="546480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05040" y="546480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49280" y="546480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73000" y="546480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02120" y="5464800"/>
              <a:ext cx="45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72360" y="5501880"/>
              <a:ext cx="28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6200000">
              <a:off x="274680" y="3774960"/>
              <a:ext cx="196956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ração de luz absorvi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or cada c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47920" y="5667120"/>
              <a:ext cx="226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mprimento de onda (n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5892120" y="2540880"/>
              <a:ext cx="2929320" cy="195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6481440" y="5118120"/>
              <a:ext cx="2190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rvas se sobrepõe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ão temos como sab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l a sensação de u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do cone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4365000" y="2947680"/>
                  <a:ext cx="651240" cy="40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ℓ</m:t>
                      </m: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2757240" y="2657160"/>
                  <a:ext cx="729360" cy="40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1" name=""/>
                <p:cNvSpPr txBox="1"/>
                <p:nvPr/>
              </p:nvSpPr>
              <p:spPr>
                <a:xfrm>
                  <a:off x="2268720" y="4794480"/>
                  <a:ext cx="650880" cy="40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12" name=""/>
            <p:cNvGrpSpPr/>
            <p:nvPr/>
          </p:nvGrpSpPr>
          <p:grpSpPr>
            <a:xfrm>
              <a:off x="1146240" y="5933520"/>
              <a:ext cx="5223600" cy="684360"/>
              <a:chOff x="1146240" y="5933520"/>
              <a:chExt cx="5223600" cy="684360"/>
            </a:xfrm>
          </p:grpSpPr>
          <p:sp>
            <p:nvSpPr>
              <p:cNvPr id="413" name=""/>
              <p:cNvSpPr/>
              <p:nvPr/>
            </p:nvSpPr>
            <p:spPr>
              <a:xfrm flipH="1">
                <a:off x="1437840" y="5933520"/>
                <a:ext cx="4200840" cy="290520"/>
              </a:xfrm>
              <a:prstGeom prst="rect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146240" y="6251040"/>
                <a:ext cx="971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80 n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398560" y="6232680"/>
                <a:ext cx="971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80 n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3-07T18:32:00Z</dcterms:modified>
  <cp:revision>225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