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png" ContentType="image/png"/>
  <Override PartName="/ppt/media/image9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30DF-85B9-4E05-B002-269B8939E1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0C0D-39DC-4C38-83D1-BF87C90D2F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46B-A426-4932-A6E7-030DDED6F5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A709-7C99-4767-BCB4-B874DBE782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A496-4539-43FC-953B-93C94D28E9C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AF03-DBE2-46A3-9744-685C077A117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5C50-4D76-4044-AE3C-1181D69C6E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9858-425F-4E58-BDE0-D6EE90621E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A3BE-3C0E-4030-A609-0283997BA5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ABD5-8CCF-4FF6-A217-821E2973B9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7F8A-3D5E-4DFE-817E-2024BC4BE0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5248-B7A6-40DA-BB10-FC97AF9279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0327-C467-4E57-90BB-EA9637D60E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8D3D-E1F0-4952-9FE0-50EE25E05A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540F-84AA-402F-9F60-BD97A303A8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99AD-D754-497A-9E5A-2B6B396E14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409E-DDFA-4927-A579-2666C754E6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E2AE-4CD8-448E-9F59-1CEBB5850E1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DBA3-67CC-41A0-A40E-CF135B466F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2294-CCA8-4CCB-B751-C252BACF1C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6BB3-86D4-418D-B051-265C0838CB2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AAA4-2B85-411B-9127-CF0752F1B3D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21E1-24E2-4023-A43B-A798A1E7C57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17CF-B04F-46FE-A3A0-515B965172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C718-92DC-448A-9706-3D065C6E13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F861-DB62-435D-8FA1-E79B80F2A1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A0A-E7C8-4A54-B9F3-D7449E71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7F1-8A2C-4842-BD27-1A98583B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374-DDB6-492B-BB6C-FCF32DF3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8F3-768E-4DC5-B4F5-E003129E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5CEA-FE99-4CE5-B3B4-2AE131EF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810F-7E78-49F3-BB16-331B902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B8B5-EF14-44BA-991D-F8AA3A14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1AC1-48EE-4D7F-8B86-F88A0962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4413-A690-4E23-81A7-581E17D9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7CB5-AE5F-43E2-B422-7B0BA2FD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B0B4-5932-49ED-BE9F-B91D61D1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D61-71B4-4737-84D9-8723B349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2D70-0F4F-4247-9A37-2B2E27A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6F6B-5949-4E66-B428-5D0F8464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BAE1-6F90-47B1-8329-A2702F11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6B2-3311-4956-954A-7452AC4A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2C28-F67D-47E8-8565-8AA55C34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636-0F0D-456B-A8AE-7283FD31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9BA-8B49-442D-B982-7AE9F068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016-36CF-4C18-BB48-CF8D1465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828-5820-4764-BD24-CFB90928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8A5-906A-482A-B58F-D5ED0B37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77F-DE8E-42F0-8E89-068C2FD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93B-0FB5-462F-AF91-794B13A6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3B6B-0456-492F-A33C-2A529A53C9E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42920" cy="6858000"/>
              <a:chOff x="0" y="0"/>
              <a:chExt cx="1042920" cy="6858000"/>
            </a:xfrm>
          </p:grpSpPr>
          <p:pic>
            <p:nvPicPr>
              <p:cNvPr id="8" name="" descr=""/>
              <p:cNvPicPr/>
              <p:nvPr/>
            </p:nvPicPr>
            <p:blipFill>
              <a:blip r:embed="rId2"/>
              <a:srcRect l="35239" t="31294" r="20477" b="25393"/>
              <a:stretch/>
            </p:blipFill>
            <p:spPr>
              <a:xfrm>
                <a:off x="0" y="601200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675360" y="0"/>
                <a:ext cx="0" cy="6858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188280" y="6165720"/>
                <a:ext cx="541080" cy="620640"/>
                <a:chOff x="188280" y="6165720"/>
                <a:chExt cx="541080" cy="6206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188280" y="6662520"/>
                  <a:ext cx="541080" cy="1238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162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500" spc="-1" strike="noStrike">
                      <a:solidFill>
                        <a:srgbClr val="ffcc00"/>
                      </a:solidFill>
                      <a:latin typeface="Humanst521 BT"/>
                    </a:rPr>
                    <a:t>DSC/CEEI/UFCG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06800" y="6362280"/>
                  <a:ext cx="29556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214200" y="6165720"/>
                  <a:ext cx="2944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408600" y="6372000"/>
                  <a:ext cx="29520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flipV="1">
                  <a:off x="214200" y="6174720"/>
                  <a:ext cx="2962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907920"/>
                <a:ext cx="860400" cy="172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35239" t="31294" r="20477" b="25393"/>
              <a:stretch/>
            </p:blipFill>
            <p:spPr>
              <a:xfrm>
                <a:off x="0" y="256536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354560"/>
                <a:ext cx="86040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2900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1EB-C4C3-46B1-A8DF-C75EEE35E079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389240" cy="6858000"/>
            <a:chOff x="0" y="0"/>
            <a:chExt cx="138924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35239" t="31294" r="20477" b="25393"/>
            <a:stretch/>
          </p:blipFill>
          <p:spPr>
            <a:xfrm>
              <a:off x="0" y="601200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0920" y="6165720"/>
              <a:ext cx="720720" cy="620640"/>
              <a:chOff x="250920" y="6165720"/>
              <a:chExt cx="720720" cy="620640"/>
            </a:xfrm>
          </p:grpSpPr>
          <p:sp>
            <p:nvSpPr>
              <p:cNvPr id="68" name=""/>
              <p:cNvSpPr/>
              <p:nvPr/>
            </p:nvSpPr>
            <p:spPr>
              <a:xfrm>
                <a:off x="250920" y="6662520"/>
                <a:ext cx="720720" cy="12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6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800" y="6362280"/>
                <a:ext cx="39348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85840" y="6165720"/>
                <a:ext cx="39240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320" y="6372000"/>
                <a:ext cx="39312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286560" y="6174720"/>
                <a:ext cx="39456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8924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907920"/>
              <a:ext cx="1146240" cy="17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rcRect l="35239" t="31294" r="20477" b="25393"/>
            <a:stretch/>
          </p:blipFill>
          <p:spPr>
            <a:xfrm>
              <a:off x="0" y="256536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0" y="4354560"/>
              <a:ext cx="114624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0" y="3429000"/>
              <a:ext cx="138924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Imag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42560" y="1916280"/>
            <a:ext cx="76201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</a:rPr>
              <a:t>Palet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úmero de cores exibí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terminada pela profundidade do pixel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odos VGA e SuperVGA (8 bits) -  256 cores simultâne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magens em sistemas de 8 bits normalmente não são real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troca-se resolução espacial por resolução de c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presentação de cada ponto da imagem por um grupo de pixels vizinhos (</a:t>
            </a:r>
            <a:r>
              <a:rPr b="1" i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dithering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56160" y="1828800"/>
            <a:ext cx="2539800" cy="1689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03320" y="4267080"/>
            <a:ext cx="2286000" cy="1521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8120" y="4267080"/>
            <a:ext cx="2286000" cy="1521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79640" y="35812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FF(simulação em JPEG de alta qualid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1040" y="5867280"/>
            <a:ext cx="25909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IF s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ther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Tamanho: 02 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0760" y="5867280"/>
            <a:ext cx="23619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IF co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the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: 08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2000" y="1936800"/>
            <a:ext cx="79740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istemas de 15 b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comodados em pixels de 16 bit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it extra usado para codificar a transparência da imagem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da pixel será transparente ou opa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istemas de 24 b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tilizando-se pixels de 32 bits, sobra um </a:t>
            </a: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canal alfa (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8 bi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anal alf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ermite especificar 256 gradações de transparência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feitos utilizados em processamento de víde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848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Transparênc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41400" y="207972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Relação entre cores e bits/pixe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de 4 e 8 bits usam palet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de 15 e 24 bits são de cor verdadeir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de 16 bits permitem 1 bit de canal alfa ou 1 bit a mais em um dos canai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de 32 bits permitem 8 bits de canal alf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dispositivos de cópi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çadores de gráf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resso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adores de fil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vadores de ví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dispositivos intera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bos de raios catód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rizes de diodos eletroluminescentes (LED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rizes de dispositivos de cristal  líquido (LCD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inéis de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920" y="177336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rquitetura de Sistemas Gráfic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9435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86920" y="1844640"/>
            <a:ext cx="7086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varred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agem é gerada por varredura seqüencial da memória de imagem e do moni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d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“frame’’) - imagem gerada em um cicl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fres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nti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iscar que ocorre quando a tax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fres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in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varredu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ros são separados pe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raço vertical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divididos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h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has são separadas pe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raço horizonta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divididas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ix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varredu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essi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linhas são lidas em ordem crescente, como na maioria dos monit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elaç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o quadro é dividido em dois campos (linhas pares e linhas ímpares), como na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dificação das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spositivos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âmetros de varre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reqüência (de varredura) vertica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número de quadros por seg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reqüência (de varredura) horizonta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número de linhas por seg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ixa de passage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número de pixels por segundo/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reqüências Típicas de Moni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58920" y="2781360"/>
          <a:ext cx="7451640" cy="172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81360"/>
                    <a:ext cx="745164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âmetros espaci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pecificação de tamanho refere-se à diagonal princip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zão de aspecto normal dos monitores:  4/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zão de aspecto do pixel = razão de aspecto do monitor  (resolução vertical/resolução horizont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lação entre memória, resoluções e c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90520" y="2708280"/>
          <a:ext cx="7518600" cy="16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708280"/>
                    <a:ext cx="751860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6920" y="2060640"/>
            <a:ext cx="7086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Dispositivos de entrada gráfic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Bidimensiona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Tridimensiona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08920" y="6114960"/>
            <a:ext cx="47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Toque com Braço Mecâ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3760" y="47628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3D a 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43080" y="933480"/>
            <a:ext cx="3611520" cy="2400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86480" y="933480"/>
            <a:ext cx="3017880" cy="2400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529080" y="3676680"/>
            <a:ext cx="29718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662280" y="3968640"/>
            <a:ext cx="2438640" cy="1625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452600" y="692280"/>
            <a:ext cx="2343240" cy="2282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558120" y="3282840"/>
            <a:ext cx="2046240" cy="3117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147680" y="3435480"/>
            <a:ext cx="1981440" cy="2971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872320" y="768240"/>
            <a:ext cx="2476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dificação das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nal de c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ada cor primária usada para representar uma dada c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ostragem de c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 intensidade de cada primária é codificada no valor de um ca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ização das c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úmero de bits por canal, comumente: 1 a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dificação das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istemas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r verdadei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 valor do pixel é a combinação dos valores dos ca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istemas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le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 valor do pixel é um índice na tabela de c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nal alf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ode ser usado para representar a transparência de um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Quantização de c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duzir o espaço de cores de uma image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eleção de um subconjunto das cores originais para aproximar estas c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oblema de otimização, ou seja, qual o melhor subconjunto (depende da aplicação)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6089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</a:rPr>
              <a:t>Quantização das c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 bits para codificação de cada primária (olho humano - 256 níveis de luminânc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de 3 primária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24 bits/pixel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stema de cor verdadei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produz cerca de 16 milhões de 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nativa mais barata (redundância de cores em sistemas de 24 bi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5 bits/cor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15 bits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32.768 co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dificação não simétrica - sacrificar o azul na codific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6000" y="5660640"/>
            <a:ext cx="7275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 de Cor Verdadei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800600" cy="323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15640" y="1915920"/>
            <a:ext cx="7677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</a:rPr>
              <a:t>Palet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 quando a capacidade de reprodução de cores do sistema é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dos sistemas de cor verdadei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teúdo do pixel é enviado como índice para uma tabela armazenada em uma memória especial (não é enviado diretamente ao monit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 tabela é retirado o valor para o monitor - Palet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let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ou tabela de core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lor look-up ta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undidade (tamanho em bits) do pixel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emória para armazenamento da im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5791320"/>
            <a:ext cx="7275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 de Pale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7400" y="2340000"/>
            <a:ext cx="5029200" cy="3236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2-28T23:12:20Z</dcterms:modified>
  <cp:revision>208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