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40C4-32DF-4319-9B80-2BB80C0DCFB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A645-8463-446C-A1BC-337D8304FFE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C644-2D2B-4D49-BC90-C5A28DD977F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1214-F3B0-43ED-85E0-FB4FE8A9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218D-16CC-4872-896B-84753910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FEF3-432D-45BA-944D-267958FB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BF63-10ED-472A-BEDC-CCB1D7D1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860D-C44A-4A90-AB12-71F519BD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8192-80A5-4C6C-BCAC-EB030AA7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7DAD-A4B5-4DB6-83DE-AEB7B651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C759-1657-4A0F-BE07-E5EC8FF7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D7BB-CC3A-44B0-96CC-E63B2860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998B-8910-4229-8403-6BE7EF95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DD28-F55C-412C-8BA3-0C157005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2AEF-C38C-45C1-A39C-59D6879A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BAE8-1854-4A86-B1B5-F5E30C1B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5591-2ACE-4DF2-9BC0-D9F0F0A1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6B2B-EA39-4FB9-90DA-820E4C69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D2CF-6271-46AE-93C0-418F2BFA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BACF-8DD7-4EE1-81DE-FFDE25F6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795D-F7DB-43E5-AAEB-5954CC26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7828-8B39-4F49-80E5-416A9A55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0D2A-B84A-4C02-A5EF-09F55E4B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0F06-BA2D-40B4-8BDB-8882D256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057C-F0F2-4B01-97AC-AF7A03B6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8BE6-28FF-4021-9C11-05BDA7B1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0B93-569C-463C-86CE-E07BFDB4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EBE2-D5A7-494A-B151-E3B47E91391F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42920" cy="6858000"/>
            <a:chOff x="0" y="0"/>
            <a:chExt cx="1042920" cy="685800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1042920" cy="6858000"/>
              <a:chOff x="0" y="0"/>
              <a:chExt cx="1042920" cy="6858000"/>
            </a:xfrm>
          </p:grpSpPr>
          <p:pic>
            <p:nvPicPr>
              <p:cNvPr id="8" name="" descr=""/>
              <p:cNvPicPr/>
              <p:nvPr/>
            </p:nvPicPr>
            <p:blipFill>
              <a:blip r:embed="rId2"/>
              <a:srcRect l="35239" t="31294" r="20477" b="25393"/>
              <a:stretch/>
            </p:blipFill>
            <p:spPr>
              <a:xfrm>
                <a:off x="0" y="6012000"/>
                <a:ext cx="865080" cy="84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" name=""/>
              <p:cNvSpPr/>
              <p:nvPr/>
            </p:nvSpPr>
            <p:spPr>
              <a:xfrm>
                <a:off x="675360" y="0"/>
                <a:ext cx="0" cy="685800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" name=""/>
              <p:cNvGrpSpPr/>
              <p:nvPr/>
            </p:nvGrpSpPr>
            <p:grpSpPr>
              <a:xfrm>
                <a:off x="188280" y="6165720"/>
                <a:ext cx="541080" cy="620640"/>
                <a:chOff x="188280" y="6165720"/>
                <a:chExt cx="541080" cy="62064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188280" y="6662520"/>
                  <a:ext cx="541080" cy="1238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2600" dir="162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pt-BR" sz="600" spc="-1" strike="noStrike">
                      <a:solidFill>
                        <a:srgbClr val="ffcc00"/>
                      </a:solidFill>
                      <a:latin typeface="Humanst521 BT"/>
                    </a:rPr>
                    <a:t>DSC/CEEI/UFCG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406800" y="6362280"/>
                  <a:ext cx="295560" cy="27180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 flipH="1" flipV="1">
                  <a:off x="214200" y="6165720"/>
                  <a:ext cx="294480" cy="27288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408600" y="6372000"/>
                  <a:ext cx="295200" cy="27180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flipV="1">
                  <a:off x="214200" y="6174720"/>
                  <a:ext cx="296280" cy="27288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1042920" cy="9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907920"/>
                <a:ext cx="860400" cy="172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" name="" descr=""/>
              <p:cNvPicPr/>
              <p:nvPr/>
            </p:nvPicPr>
            <p:blipFill>
              <a:blip r:embed="rId5"/>
              <a:srcRect l="35239" t="31294" r="20477" b="25393"/>
              <a:stretch/>
            </p:blipFill>
            <p:spPr>
              <a:xfrm>
                <a:off x="0" y="2565360"/>
                <a:ext cx="865080" cy="84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354560"/>
                <a:ext cx="860400" cy="172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429000"/>
                <a:ext cx="1042920" cy="917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" name=""/>
            <p:cNvSpPr/>
            <p:nvPr/>
          </p:nvSpPr>
          <p:spPr>
            <a:xfrm>
              <a:off x="900000" y="0"/>
              <a:ext cx="0" cy="6858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9560-10A7-4AD6-9669-090006BC8B24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0"/>
            <a:ext cx="1389240" cy="6858000"/>
            <a:chOff x="0" y="0"/>
            <a:chExt cx="1389240" cy="6858000"/>
          </a:xfrm>
        </p:grpSpPr>
        <p:pic>
          <p:nvPicPr>
            <p:cNvPr id="65" name="" descr=""/>
            <p:cNvPicPr/>
            <p:nvPr/>
          </p:nvPicPr>
          <p:blipFill>
            <a:blip r:embed="rId2"/>
            <a:srcRect l="35239" t="31294" r="20477" b="25393"/>
            <a:stretch/>
          </p:blipFill>
          <p:spPr>
            <a:xfrm>
              <a:off x="0" y="6012000"/>
              <a:ext cx="1152360" cy="8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900000" y="0"/>
              <a:ext cx="0" cy="6858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50920" y="6165720"/>
              <a:ext cx="720720" cy="620640"/>
              <a:chOff x="250920" y="6165720"/>
              <a:chExt cx="720720" cy="620640"/>
            </a:xfrm>
          </p:grpSpPr>
          <p:sp>
            <p:nvSpPr>
              <p:cNvPr id="68" name=""/>
              <p:cNvSpPr/>
              <p:nvPr/>
            </p:nvSpPr>
            <p:spPr>
              <a:xfrm>
                <a:off x="250920" y="6662520"/>
                <a:ext cx="720720" cy="1238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162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600" spc="-1" strike="noStrike">
                    <a:solidFill>
                      <a:srgbClr val="ffcc00"/>
                    </a:solidFill>
                    <a:latin typeface="Humanst521 BT"/>
                  </a:rPr>
                  <a:t>DSC/CEEI/UFCG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41800" y="6362280"/>
                <a:ext cx="393480" cy="27180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flipV="1">
                <a:off x="285840" y="6165720"/>
                <a:ext cx="392400" cy="27288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44320" y="6372000"/>
                <a:ext cx="393120" cy="27180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flipV="1">
                <a:off x="286560" y="6174720"/>
                <a:ext cx="394560" cy="27288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38924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4"/>
            <a:stretch/>
          </p:blipFill>
          <p:spPr>
            <a:xfrm>
              <a:off x="0" y="907920"/>
              <a:ext cx="1146240" cy="172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5"/>
            <a:srcRect l="35239" t="31294" r="20477" b="25393"/>
            <a:stretch/>
          </p:blipFill>
          <p:spPr>
            <a:xfrm>
              <a:off x="0" y="2565360"/>
              <a:ext cx="1152360" cy="8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6"/>
            <a:stretch/>
          </p:blipFill>
          <p:spPr>
            <a:xfrm>
              <a:off x="0" y="4354560"/>
              <a:ext cx="1146240" cy="17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7"/>
            <a:stretch/>
          </p:blipFill>
          <p:spPr>
            <a:xfrm>
              <a:off x="0" y="3429000"/>
              <a:ext cx="1389240" cy="91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A Imag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66680" y="2205000"/>
            <a:ext cx="8077320" cy="1963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87280" y="4365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pectro de energia eletromag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6165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nte:GONZALEZ, R. C. e WOODS, R., Processamento de Imagens Digitais, Editora Edgard Blücher, Ltda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5638320"/>
            <a:ext cx="727560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30600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Alguns tipos de ondas eletromagnéticas e seus respectivos comprimentos de ond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786280" cy="31291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186920" y="1989000"/>
            <a:ext cx="762012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COR"  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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 "tri-stimulus theory“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Ser humano  </a:t>
            </a: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sistema visual -  três tipos de sensores capazes de identificar três faixas diferentes de "espectros de energia"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As faixas correspondem às tonalidades de Vermelho (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d) – 700nm, Verde (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reen) – 546,1nm e Azul (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lue) – 435,8n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O ser humano vê na realidade a combinação resultante da mistura destas três cores básicas.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35040" y="4581360"/>
            <a:ext cx="6782040" cy="13716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42640" y="1628640"/>
            <a:ext cx="76770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Sistema de cores utilizado nos computadores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Usualmente o sistema 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RGB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Red-Green-Blue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sistema aditivo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controla a intensidade da geração das três cores básicas- 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primárias aditivas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9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Definição de cor no computador </a:t>
            </a: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especifica-se a intensidade (valor associado) aos emissores R, G e B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63640" y="4581360"/>
            <a:ext cx="6477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stema aditivo – fontes emissoras de lu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stema subtrativo – utilizadas tintas, os pigmentos absorvem determinadas cores e refletem out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51080" y="1459080"/>
            <a:ext cx="5715000" cy="441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16000" y="260280"/>
            <a:ext cx="3200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Verdana"/>
              </a:rPr>
              <a:t>Sistema RG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479680" y="1687680"/>
          <a:ext cx="5168880" cy="417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9680" y="1687680"/>
                    <a:ext cx="5168880" cy="41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1023840" y="6031080"/>
            <a:ext cx="4783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nsidade zero nas três componentes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46560" y="620640"/>
            <a:ext cx="39625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onentes estão presentes com a sua intensidade máxima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641600" y="5393880"/>
            <a:ext cx="838080" cy="484200"/>
          </a:xfrm>
          <a:prstGeom prst="line">
            <a:avLst/>
          </a:prstGeom>
          <a:ln w="50760">
            <a:solidFill>
              <a:srgbClr val="cc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095520" y="1306440"/>
            <a:ext cx="879480" cy="1524240"/>
          </a:xfrm>
          <a:prstGeom prst="line">
            <a:avLst/>
          </a:prstGeom>
          <a:ln w="50760">
            <a:solidFill>
              <a:srgbClr val="cc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ecomposição em RGB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4285" t="6115" r="0" b="3419"/>
          <a:stretch/>
        </p:blipFill>
        <p:spPr>
          <a:xfrm>
            <a:off x="1835280" y="1916280"/>
            <a:ext cx="641808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42560" y="1844640"/>
            <a:ext cx="774540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431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Sistema subtrativo (CMY - Cyan, Magenta e Yellow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38016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cores fundamentais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- ciano, magenta, amarelo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38016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mplementar ao RGB (inverso) 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38016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funciona por </a:t>
            </a: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combinação subtrativa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: mistura de pigment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38016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é usada a variante </a:t>
            </a: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CMYK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cyan-magenta-yellow-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black) devido à dificuldade de obter pigmentos com alta pureza de co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38016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ode ser representado também por um cubo – vértices são simétricos em relação ao cubo RGB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38016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origem: branco e o vértice (1, 1, 1): preto.</a:t>
            </a: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38016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utilização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- impressão, fotograf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547640" y="5660640"/>
            <a:ext cx="727560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476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Cores Primárias e Secundárias da Luz e de Pigmen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987640" y="476280"/>
            <a:ext cx="3400560" cy="51055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971640" y="6237360"/>
            <a:ext cx="792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nte:GONZALEZ, R. C. e WOODS, R., Processamento de Imagens Digitais, Editora Edgard Blücher, Ltda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876560" cy="42861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514600" y="57913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co de cores -  modelo RG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92360" y="2708280"/>
            <a:ext cx="6705360" cy="11430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331640" y="2852640"/>
            <a:ext cx="702468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Existem apenas os sistemas RGB e CMY como formas de representação de cores?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presentação Digital da Im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87520" y="5689440"/>
            <a:ext cx="2895480" cy="4572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00720" y="5443560"/>
            <a:ext cx="2362320" cy="8380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42920" y="1916280"/>
            <a:ext cx="79250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m outros sistemas que procuram se adaptar melhor a uma determinada aplicação ou fun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4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emplos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476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YIQ – Y(luminância), I e Q (componentes cromáticos em-fase e quadratura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476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HSI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Hue Saturation Intensity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– Matiz, Saturação e Intensida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476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HSV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Hue Saturation Valu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– Matiz, Saturação e Val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476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HLS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Hue Lightness Saturatio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- Matiz, Luminância, Saturaçã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72360" y="551664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nipulação de Imagens color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7164000" y="4149720"/>
            <a:ext cx="1079640" cy="1224000"/>
          </a:xfrm>
          <a:prstGeom prst="line">
            <a:avLst/>
          </a:prstGeom>
          <a:ln w="25560">
            <a:solidFill>
              <a:srgbClr val="cc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7524720" y="3500280"/>
            <a:ext cx="719280" cy="1873440"/>
          </a:xfrm>
          <a:prstGeom prst="line">
            <a:avLst/>
          </a:prstGeom>
          <a:ln w="25560">
            <a:solidFill>
              <a:srgbClr val="cc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619280" y="4508640"/>
            <a:ext cx="216000" cy="1038240"/>
          </a:xfrm>
          <a:prstGeom prst="line">
            <a:avLst/>
          </a:prstGeom>
          <a:ln w="25560">
            <a:solidFill>
              <a:srgbClr val="cc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5661000"/>
            <a:ext cx="26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rientado ao usu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066320" y="1916280"/>
            <a:ext cx="768204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17480" indent="0">
              <a:spcBef>
                <a:spcPts val="575"/>
              </a:spcBef>
              <a:buNone/>
              <a:tabLst>
                <a:tab algn="l" pos="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Intensidade ou  luminância</a:t>
            </a:r>
            <a:r>
              <a:rPr b="0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3920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edida da energia luminos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3920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eto representa a ausência de energia (intensidade nul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3920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âmetro da cor ao qual o olho é mais sensíve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3920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istemas “monocromáticos” trabalham com a informação de luminânci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3920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dificação - 8 bit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914400" y="2209680"/>
            <a:ext cx="744048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17480" indent="0">
              <a:spcBef>
                <a:spcPts val="575"/>
              </a:spcBef>
              <a:buNone/>
              <a:tabLst>
                <a:tab algn="l" pos="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Matiz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Medida do comprimento de onda dominante (mede a freqüência dominante da vibração luminosa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Mede a qualidade que distingue o azul do verde, do vermelho, etc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49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Codificação – cerca de 4 bits.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0">
              <a:spcBef>
                <a:spcPts val="575"/>
              </a:spcBef>
              <a:buNone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0">
              <a:spcBef>
                <a:spcPts val="575"/>
              </a:spcBef>
              <a:buNone/>
              <a:tabLst>
                <a:tab algn="l" pos="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116000" y="1916280"/>
            <a:ext cx="759312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17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Saturaçã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Medida da pureza da cor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Branco (mistura perfeita das cores) representa a impureza da cor (saturação zero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ara outras cores, a saturação pode ser entendida como a quantidade de branco presente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ons muito saturados são “brilhantes”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ons pouco saturados são “pastel”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Codificação – cerca de 4 bi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Modelo YIQ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Usado na transmissão comercial de TV colorida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rojetado para tirar vantagem do sistema da maior sensibilidade da visão humana a mudanças na luminância do que nas mudanças de matiz e saturação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Representação de 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- Banda mais larga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Representação de 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I e Q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– banda mais estreit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Luminância e informação de cores desacoplad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Modelo HS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Componente de intensidade (I) desacoplado da informação de cor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Os componentes de matiz e saturação são intimamente relacionados à percepção humana de core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Ideal para desenvolvimento de algoritmos baseados em propriedades do sistema visual human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odelo H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do para especificação de cor por usuários human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ens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u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uminânc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medida da energia luminos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tiz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medida do comprimento de onda domina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odelo H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atur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medida da pureza da c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eto representa a ausência de energia (baixa luminânci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branco representa a impureza da cor (baixa saturaçã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Modelo HLS de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484360" y="2833560"/>
          <a:ext cx="5243760" cy="40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833560"/>
                    <a:ext cx="5243760" cy="40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115640" y="2565000"/>
            <a:ext cx="304812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ixa de seleção de cores baseada nos modelos HLS e RG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284720" y="1700280"/>
            <a:ext cx="4405320" cy="449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42560" y="1773360"/>
            <a:ext cx="77454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3801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ratamento e análise de image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3160" indent="-3801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Processamento de Imagens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3801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manipulação e exibição de imagens prontas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3801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nvolve processos de tratamento da imagem e processos que permitam a interface entre dispositivos de entrada e saída gráfica e o arquivo de imagem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3801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não possui como fim a geração de uma imagem a partir de dados, mas a manipulação de uma imagem previamente gerada e até possivelmente a extração de informações a partir desta image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ecomposição em HL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3219" t="6153" r="0" b="3321"/>
          <a:stretch/>
        </p:blipFill>
        <p:spPr>
          <a:xfrm>
            <a:off x="1835280" y="1989000"/>
            <a:ext cx="64897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68360" y="2997360"/>
            <a:ext cx="5562720" cy="7617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116000" y="1989000"/>
            <a:ext cx="777240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48760" indent="-186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A Gama do sistema </a:t>
            </a: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conjunto de cores que pode ser produzido a partir de determinadas primári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876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saturação das primárias </a:t>
            </a:r>
            <a:r>
              <a:rPr b="0" lang="pt-BR" sz="23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gam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48760" indent="-186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Gama dos monitores profissionais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gama da TV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48760" indent="-186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Gama da fotografia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gama dos monitore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48760" indent="-186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Gama dos monitores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gama de várias técnicas de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impressã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14040" y="1905120"/>
            <a:ext cx="762012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Aplicaçõ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2520" indent="-388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Tratamento e melhoria de image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0280" indent="-388080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Medicina, Controle de Qualidade, Biologia, Sistemas de Monitoração e Controle (segurança), Geologia, Sensoriamento Remoto (imagens de satélites), Metereologia,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2520" indent="-388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Reconhecimento e classificação de objetos presentes em uma imag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0280" indent="-388080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Sistemas de segurança (impressões digitais), interpretação automática de textos, visão artificial, robótica, exploração automatizada (sistemas anti-bombas, exploração submarina, mísseis teleguiados), etc.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16000" y="1844640"/>
            <a:ext cx="759312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Imagem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composta por um conjunto de pontos, denominados "Pixels" (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Picture Elements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) ou "Dots"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Pixels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dispostos na tela do computador formando uma matriz de pontos que é denominada de "Bit-Map" ou "Mapa de Bits"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Mapa de bits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reticulado - cada elemento da matriz possui uma informação referente à cor associada aquele ponto específico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Resolução" da imagem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número de elementos que a imagem possui na horizontal e na vertical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3657600" cy="241452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1042920" y="4508640"/>
            <a:ext cx="7850160" cy="21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magem </a:t>
            </a:r>
            <a:r>
              <a:rPr b="0" lang="pt-B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matriz de pontos ou pixels, com  resolução horizontal (eixo X) e vertical (eixo Y),  para cada ponto da matriz tem-se uma cor associada (obtida de forma direta ou através de uma tabela de acesso indireto - "tabela de palette“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Casacurta, A., Osório, F., Figueroa, F. e Musse, S. R., 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Computação Gráfica – Introduçã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42560" y="1844640"/>
            <a:ext cx="7705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47840" indent="-38412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100" spc="-1" strike="noStrike" u="sng">
                <a:solidFill>
                  <a:srgbClr val="000000"/>
                </a:solidFill>
                <a:uFillTx/>
                <a:latin typeface="Arial"/>
              </a:rPr>
              <a:t>Resolução espacial</a:t>
            </a:r>
            <a:r>
              <a:rPr b="0" lang="pt-BR" sz="2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pt-BR" sz="2100" spc="-1" strike="noStrike" u="sng">
                <a:solidFill>
                  <a:srgbClr val="000000"/>
                </a:solidFill>
                <a:uFillTx/>
                <a:latin typeface="Arial"/>
              </a:rPr>
              <a:t>da visão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– mede quantos </a:t>
            </a: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pontos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pt-BR" sz="2100" spc="-1" strike="noStrike" u="sng">
                <a:solidFill>
                  <a:srgbClr val="cccc66"/>
                </a:solidFill>
                <a:uFillTx/>
                <a:latin typeface="Arial"/>
              </a:rPr>
              <a:t>pixels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) diferentes o olho pode distinguir em uma image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38412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100" spc="-1" strike="noStrike" u="sng">
                <a:solidFill>
                  <a:srgbClr val="000000"/>
                </a:solidFill>
                <a:uFillTx/>
                <a:latin typeface="Arial"/>
              </a:rPr>
              <a:t>Campo visual humano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– matriz de 3.000 x 3.000 </a:t>
            </a: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pixel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38412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100" spc="-1" strike="noStrike" u="sng">
                <a:solidFill>
                  <a:srgbClr val="000000"/>
                </a:solidFill>
                <a:uFillTx/>
                <a:latin typeface="Arial"/>
              </a:rPr>
              <a:t>Televisão comum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512 x 480 </a:t>
            </a: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pixels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(NTSC - </a:t>
            </a: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National Televison Standards Committee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ou PAL-M: variação do padrão PAL - </a:t>
            </a: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Phase Alternate Lines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38412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100" spc="-1" strike="noStrike" u="sng">
                <a:solidFill>
                  <a:srgbClr val="000000"/>
                </a:solidFill>
                <a:uFillTx/>
                <a:latin typeface="Arial"/>
              </a:rPr>
              <a:t>Televisão de alta definição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(HDTV) </a:t>
            </a:r>
            <a:r>
              <a:rPr b="0" lang="pt-B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2.000 x 1.100 </a:t>
            </a: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pixe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38412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i="1" lang="pt-BR" sz="2100" spc="-1" strike="noStrike">
                <a:solidFill>
                  <a:srgbClr val="000000"/>
                </a:solidFill>
                <a:latin typeface="Arial"/>
              </a:rPr>
              <a:t>Computadores PC</a:t>
            </a: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resolução determinada pelo modo gráfico escolhido – dentro do limite estabelecido, valores comuns: 640 x 480, 800 x 600 e 1024 x 768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38412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100" spc="-1" strike="noStrike" u="sng">
                <a:solidFill>
                  <a:srgbClr val="000000"/>
                </a:solidFill>
                <a:uFillTx/>
                <a:latin typeface="Arial"/>
              </a:rPr>
              <a:t>Razão de aspecto do monitor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: 4/3 – computadores e televisão comum e 2 (aproximadamente) para cinema e HDTV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258920" y="5373360"/>
            <a:ext cx="7275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rincípio de funcionamento do aparelho de TV, através do tubo de imagem (CRT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908840" cy="32799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90360" y="1916280"/>
            <a:ext cx="790236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Quantidade de bits requerida por um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pixel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depende principalmente da representação adotada para as cor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Visão humana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Espectro visível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: 400nm (violeta) a 700nm (vermelho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Picos de  maior sensibilidade do olho humano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– aproximadamente ao verde (principal), ao vermelho (um pouco menor) e ao azul (bem menor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ercepção das cores </a:t>
            </a: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combinação linear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– cada cor é expressa como soma ponderada das cores básic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2-26T15:48:06Z</dcterms:modified>
  <cp:revision>198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