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3.wmf" ContentType="image/x-wmf"/>
  <Override PartName="/ppt/media/image8.jpeg" ContentType="image/jpe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media/image20.jpeg" ContentType="image/jpeg"/>
  <Override PartName="/ppt/media/image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D41D-158B-4834-94EC-093D3506DD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35B9-581C-452A-AACF-68AA8BF712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3AA-7E47-4C42-8038-CE796756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EBC-679F-44CF-B29C-A38A8C5F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62E-D8C5-44CE-8737-33DF068A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5AB-E3A7-470B-AB17-F2EBC66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AA38-AA34-4C12-A1E5-D3B4BF21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761-76FD-4D80-B705-F1E924F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D736-2735-4EEC-9312-91A5364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482B-D2AA-4A62-BD33-03B4196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15C6-7742-4019-A49B-FF3D47C3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53CD-CCF7-405E-88C8-A048330A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2FE-5CDE-4BBE-854B-832C6B9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74E-2968-4711-B6AB-590FE94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3868-14B4-4FCA-9BEF-3A6E287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700E-A8D2-4B4C-8D09-6518634B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1FCA-498D-4DCC-A8ED-9D4025EB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D74D-DBB6-4823-A065-D636863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AF5-F3EC-4E7E-A628-3146C88E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B7B-4FEF-4827-8675-74346B7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1C9-CFE4-4E4E-BD27-3C52BAAB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4FF-D90A-4B64-A274-E474903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9B2-72FB-4791-A4C8-C2517C6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E78-6411-43AE-9AAC-470885D8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B2A-D0D2-4BDA-B009-87539A9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9C0-8B37-4EF2-9531-D6B7819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package" Target="../embeddings/oleObject2.docx"/><Relationship Id="rId8" Type="http://schemas.openxmlformats.org/officeDocument/2006/relationships/image" Target="../media/image2.wmf"/><Relationship Id="rId9" Type="http://schemas.openxmlformats.org/officeDocument/2006/relationships/image" Target="../media/image4.png"/><Relationship Id="rId10" Type="http://schemas.openxmlformats.org/officeDocument/2006/relationships/package" Target="../embeddings/oleObject3.docx"/><Relationship Id="rId11" Type="http://schemas.openxmlformats.org/officeDocument/2006/relationships/image" Target="../media/image5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E8FC-9766-4B3E-AA67-F27D17337C3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00000" cy="6858000"/>
            <a:chOff x="0" y="0"/>
            <a:chExt cx="900000" cy="6858000"/>
          </a:xfrm>
        </p:grpSpPr>
        <p:sp>
          <p:nvSpPr>
            <p:cNvPr id="7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34920" y="4076640"/>
              <a:ext cx="82692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" name=""/>
            <p:cNvGraphicFramePr/>
            <p:nvPr/>
          </p:nvGraphicFramePr>
          <p:xfrm>
            <a:off x="34920" y="4840200"/>
            <a:ext cx="82692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4840200"/>
                      <a:ext cx="82692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8780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" name=""/>
            <p:cNvGrpSpPr/>
            <p:nvPr/>
          </p:nvGrpSpPr>
          <p:grpSpPr>
            <a:xfrm>
              <a:off x="0" y="0"/>
              <a:ext cx="826560" cy="4038480"/>
              <a:chOff x="0" y="0"/>
              <a:chExt cx="826560" cy="4038480"/>
            </a:xfrm>
          </p:grpSpPr>
          <p:pic>
            <p:nvPicPr>
              <p:cNvPr id="13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8254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4" name=""/>
              <p:cNvGraphicFramePr/>
              <p:nvPr/>
            </p:nvGraphicFramePr>
            <p:xfrm>
              <a:off x="51120" y="878040"/>
              <a:ext cx="77400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120" y="878040"/>
                        <a:ext cx="77400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1120" y="2569320"/>
                <a:ext cx="77400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7" name=""/>
              <p:cNvGraphicFramePr/>
              <p:nvPr/>
            </p:nvGraphicFramePr>
            <p:xfrm>
              <a:off x="51120" y="3246480"/>
              <a:ext cx="77544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18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1120" y="3246480"/>
                        <a:ext cx="77544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1120" y="1622520"/>
                <a:ext cx="775440" cy="94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" name=""/>
            <p:cNvGrpSpPr/>
            <p:nvPr/>
          </p:nvGrpSpPr>
          <p:grpSpPr>
            <a:xfrm>
              <a:off x="108000" y="6308640"/>
              <a:ext cx="647640" cy="549000"/>
              <a:chOff x="108000" y="6308640"/>
              <a:chExt cx="647640" cy="549000"/>
            </a:xfrm>
          </p:grpSpPr>
          <p:sp>
            <p:nvSpPr>
              <p:cNvPr id="21" name=""/>
              <p:cNvSpPr/>
              <p:nvPr/>
            </p:nvSpPr>
            <p:spPr>
              <a:xfrm>
                <a:off x="108000" y="6748200"/>
                <a:ext cx="647640" cy="10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400" spc="-1" strike="noStrike">
                    <a:solidFill>
                      <a:srgbClr val="ffcc00"/>
                    </a:solidFill>
                    <a:latin typeface="Verdana"/>
                  </a:rPr>
                  <a:t>DSC/CEEI/UFC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9360" y="648252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flipV="1">
                <a:off x="138240" y="6308640"/>
                <a:ext cx="352440" cy="2412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1520" y="6491160"/>
                <a:ext cx="353520" cy="2404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flipV="1">
                <a:off x="138960" y="6315840"/>
                <a:ext cx="354600" cy="241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3B1-7B4B-449E-8500-4488F7F4C17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0"/>
            <a:ext cx="1331640" cy="6467400"/>
            <a:chOff x="0" y="0"/>
            <a:chExt cx="1331640" cy="6467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rcRect l="28598" t="22439" r="11606" b="17512"/>
            <a:stretch/>
          </p:blipFill>
          <p:spPr>
            <a:xfrm>
              <a:off x="52920" y="4076640"/>
              <a:ext cx="125424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52920" y="4840200"/>
            <a:ext cx="1254240" cy="717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920" y="4840200"/>
                      <a:ext cx="12542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0" y="5516640"/>
              <a:ext cx="1331640" cy="95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"/>
            <p:cNvGrpSpPr/>
            <p:nvPr/>
          </p:nvGrpSpPr>
          <p:grpSpPr>
            <a:xfrm>
              <a:off x="0" y="0"/>
              <a:ext cx="1253880" cy="4038480"/>
              <a:chOff x="0" y="0"/>
              <a:chExt cx="1253880" cy="4038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6"/>
              <a:srcRect l="28598" t="22439" r="11606" b="17512"/>
              <a:stretch/>
            </p:blipFill>
            <p:spPr>
              <a:xfrm>
                <a:off x="0" y="0"/>
                <a:ext cx="1252080" cy="8143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6" name=""/>
              <p:cNvGraphicFramePr/>
              <p:nvPr/>
            </p:nvGraphicFramePr>
            <p:xfrm>
              <a:off x="77760" y="878040"/>
              <a:ext cx="1173960" cy="75888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760" y="878040"/>
                        <a:ext cx="1173960" cy="75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760" y="2569320"/>
                <a:ext cx="1173960" cy="6768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79" name=""/>
              <p:cNvGraphicFramePr/>
              <p:nvPr/>
            </p:nvGraphicFramePr>
            <p:xfrm>
              <a:off x="77760" y="3246480"/>
              <a:ext cx="1176120" cy="792000"/>
            </p:xfrm>
            <a:graphic>
              <a:graphicData uri="http://schemas.openxmlformats.org/presentationml/2006/ole">
                <p:oleObj progId="Word.Document.12" r:id="rId10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7760" y="3246480"/>
                        <a:ext cx="1176120" cy="79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7760" y="1622520"/>
                <a:ext cx="1176120" cy="94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" name=""/>
          <p:cNvGrpSpPr/>
          <p:nvPr/>
        </p:nvGrpSpPr>
        <p:grpSpPr>
          <a:xfrm>
            <a:off x="324000" y="6165720"/>
            <a:ext cx="720720" cy="620640"/>
            <a:chOff x="324000" y="6165720"/>
            <a:chExt cx="720720" cy="620640"/>
          </a:xfrm>
        </p:grpSpPr>
        <p:sp>
          <p:nvSpPr>
            <p:cNvPr id="83" name=""/>
            <p:cNvSpPr/>
            <p:nvPr/>
          </p:nvSpPr>
          <p:spPr>
            <a:xfrm>
              <a:off x="324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4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5892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7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5964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icrosoft.com/windows/windowsmedia/en/download/pocket.asp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Tipos de Produtos Multimídi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116000" y="1916280"/>
          <a:ext cx="776772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767720" cy="3786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344600" y="58024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robat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638680" cy="4421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8120" y="6172200"/>
            <a:ext cx="373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sentação em 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763120" y="66294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4484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12639" y="3794"/>
                </a:lnTo>
                <a:lnTo>
                  <a:pt x="12639" y="17806"/>
                </a:lnTo>
                <a:lnTo>
                  <a:pt x="10977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Características de títulos hiper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esença de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controles de naveg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forma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tõe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lavras sensívei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hot word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ntos sensívei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hot spo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sultados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lt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anelas-filhas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(pop-up window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Hiper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de de hipermídia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tocolo de hipertexto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t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m de hipertexto: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T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89000"/>
            <a:ext cx="7593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Ferramentas para edição de HTM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FrontPage Editor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icrosof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utor trabalha de forma quase vis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rmite que se trabalhe diretamente em HTM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Dreamweaver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acromedi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presenta suporte para diversos recursos de multimíd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23880" y="6172200"/>
            <a:ext cx="6019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ela d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FrontPage Edi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92360" y="5877000"/>
            <a:ext cx="6019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la do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Dreamweav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483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218960" y="1773360"/>
            <a:ext cx="75294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adrões para hiper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ISO: MHEG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Multimedi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Hypermedia Exper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intercâmbio de informação em redes e sistemas distribuídos de arquitetura heterogêne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icrosoft: AAF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Advanced Authoring Format</a:t>
            </a: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formato comum para autoria de multimíd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1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W3C: SMIL (</a:t>
            </a:r>
            <a:r>
              <a:rPr b="0" i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ynchronized Multimedia Integration Language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inguagem de marcação apropriada para transmissão de conteúdo multimídia em fluxo contínuo - suportada pela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Real Player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7696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adrão MHEG 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(</a:t>
            </a:r>
            <a:r>
              <a:rPr b="1" i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Multimedia, Hypermedia Expert Group</a:t>
            </a:r>
            <a:r>
              <a:rPr b="1" lang="pt-BR" sz="1900" spc="-1" strike="noStrike" u="sng">
                <a:solidFill>
                  <a:srgbClr val="000000"/>
                </a:solidFill>
                <a:uFillTx/>
                <a:latin typeface="Tahom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tegrar e codificar as partes de multimídia para que se atinja o objetivo de: com "mínimo de recursos" de computação e independente da plataforma, trabalhar com qualquer aplicativo multimídia.</a:t>
            </a: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24080" y="4014720"/>
            <a:ext cx="3353040" cy="2279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Classificação Geral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99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99"/>
                </a:solidFill>
                <a:latin typeface="Arial"/>
              </a:rPr>
              <a:t>  Estático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(Ex.: Ferramenta –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FrontPage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99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99"/>
                </a:solidFill>
                <a:latin typeface="Arial"/>
              </a:rPr>
              <a:t> Dinâmico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ASP – Active Server Pag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HP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rimeira versão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ersonal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ome </a:t>
            </a:r>
            <a:r>
              <a:rPr b="1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age Tool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99"/>
                </a:solidFill>
                <a:uFillTx/>
                <a:latin typeface="Arial"/>
              </a:rPr>
              <a:t>Caso Especial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servidores de multimídia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     de fluxo contínu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Exemplos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Arquivo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Aud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Real Media – Real Play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hockwav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lash – Macromed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ASF  (Active Streaming Format) - Microso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erramentas para desenvolvimento de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tít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jet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28526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7640" y="328464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37162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4149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24210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934320" cy="3322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Sites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 Dinâ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áginas contê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rincipais tipos de 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99"/>
                </a:solidFill>
                <a:latin typeface="Tahoma"/>
              </a:rPr>
              <a:t>Scripts</a:t>
            </a:r>
            <a:r>
              <a:rPr b="0" i="1" lang="pt-BR" sz="2400" spc="-1" strike="noStrike">
                <a:solidFill>
                  <a:srgbClr val="9999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programas em código fonte, embutidos no código HTM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Componen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arquivos de código binário, invocados quando a referência é localizada na pá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Formas de Execução do código ativ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o lado do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o lado do serv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1989000"/>
            <a:ext cx="7761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Scrip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tilizados para fazer com que a página responda com ações simples às solicitações do usuá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de linguagem: 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VBScri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Dynamic HTM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516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Scripts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 - lado do Servi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ção d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execução de um aplicativo no serv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s: consulta a uma base de dados, realização de cálcu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ção de uma página HTML contendo os resultados solicitados pelo usuário     envio ao cliente, sendo exibido pelo naveg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 de tecnologia: CGI 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mon Gateway Interfac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292640"/>
            <a:ext cx="228600" cy="228600"/>
          </a:xfrm>
          <a:custGeom>
            <a:avLst/>
            <a:gdLst>
              <a:gd name="textAreaLeft" fmla="*/ 356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90360" y="190512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O que é CGI 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Gateway Interface –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 padrão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(“common”) de comunicação (“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face”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) entre diferentes processos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(“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gateway”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CGI não é uma linguag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CGI é um protocolo que pode ser usado para comunicar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forms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a Web com o seu program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Um script CGI pode ser escrito em qualquer linguagem que possa ler de STDIN, escrever STDOUT, e ler variáveis de ambiente, ou seja virtualmente qualquer linguagem de programação (Exemplos:  C, Perl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- Practical Extraction and Report Language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Exemplo - seqüência “típica” de passos para um </a:t>
            </a:r>
            <a:r>
              <a:rPr b="1" i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cript 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CGI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1.Leia o input do form do usuári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2.Faça o que desejar com os d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3.Escreva a resposta HTML em STD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90360" y="6095520"/>
            <a:ext cx="72752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formulário CG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1722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90360" y="6019920"/>
            <a:ext cx="727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execução de um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 CG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9436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Componentes Ativ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Lado do client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gramas executados pela máquina client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vocados pelo navegador quando este encontra a respectiva referênc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É comum encontrar miniaplicativos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applets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 programados em Java como compone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640" y="1988640"/>
            <a:ext cx="770400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desenvolviment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s requer a integração de diversas tecnologias, de construçã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, de desenvolvimento de software e de bancos de dad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m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 executa funções e interage automaticamente apresentando determinada soluçã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inâmicos permitem a dinamização das informações, obtendo-se uma aproximação maior dos aspectos que tanto atraem as pesso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10800"/>
                </a:moveTo>
                <a:lnTo>
                  <a:pt x="23400" y="3794"/>
                </a:lnTo>
                <a:lnTo>
                  <a:pt x="23400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58840" y="1907640"/>
            <a:ext cx="7516800" cy="379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Ferramentas para criação multimí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licativos fech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inguagens de progra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erramentas de auto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ítulos linea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ítulos hipermídi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7162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0920" y="4149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7640" y="5238720"/>
            <a:ext cx="6553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 Importante: Curva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4086360"/>
            <a:ext cx="160020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áf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9440" y="4365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Autoria de Aplic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 com Interface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utoria de Aplicativ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299736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357336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cc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908000" y="1773360"/>
            <a:ext cx="5791320" cy="7617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1773360"/>
            <a:ext cx="5486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ahoma"/>
              </a:rPr>
              <a:t>Mas, afinal o que é a interface usuário-computador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2963880"/>
            <a:ext cx="746784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A face que o sistema computacional apresenta ao mundo.“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Hooper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Um dispositivo que serve de limite comum às diferentes entidades comunicantes."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Coutaz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Interface deve ser encarada, não tanto ao nível técnico mas, mais ao nível humano.“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Fernandez et Al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287"/>
              </a:spcAft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"o elemento motivacional das interfaces (...) é, de certo modo, o grau de aceitação psicológica do sistema, que é importante não negligenciar.” 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Gomes et Al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plicativos com Interface Multi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nstrução visual da interface de usuário - ferramentas de desenho e formulári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presenta mecanismos para inclusão de material na interfac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ssibilidade de programação textual em linguagem de programação simpl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ecanismo de tempo de execução distribuído com o aplicativ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 de ferramenta para autoria de aplicativos com interface multimídia</a:t>
            </a:r>
            <a:r>
              <a:rPr b="1" lang="pt-BR" sz="2300" spc="-1" strike="noStrike">
                <a:solidFill>
                  <a:srgbClr val="000000"/>
                </a:solidFill>
                <a:latin typeface="Tahoma"/>
              </a:rPr>
              <a:t>: Toolbook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7708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Asymetrix Tool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etáfora baseada em liv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 aplicativo - “livro”, dividido em telas - “página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troles de navegação: botões, palavras sens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siste em várias janelas independ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Limitado quanto à capacidade de hipertex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Multimídia no Toolbo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écnicas de animação de inte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ecução de clip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hamadas à interface MCI do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6197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ossibilidades do Toolbo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riação de jogos, catálogos eletrônicos com som e imagens de víde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Simulador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mos de produtos e serviç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Sistemas de treinamento à distânc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Quiosques  informativo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ortfólio para artistas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D-ROM institucional, revistas e livros em CD-ROM, etc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8748720" y="6524640"/>
            <a:ext cx="395280" cy="289080"/>
          </a:xfrm>
          <a:custGeom>
            <a:avLst/>
            <a:gdLst>
              <a:gd name="textAreaLeft" fmla="*/ 18720 w 395280"/>
              <a:gd name="textAreaRight" fmla="*/ 376560 w 395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9525" h="21600">
                <a:moveTo>
                  <a:pt x="0" y="0"/>
                </a:moveTo>
                <a:lnTo>
                  <a:pt x="29525" y="0"/>
                </a:lnTo>
                <a:lnTo>
                  <a:pt x="29525" y="21600"/>
                </a:lnTo>
                <a:lnTo>
                  <a:pt x="0" y="21600"/>
                </a:lnTo>
                <a:close/>
              </a:path>
              <a:path fill="lightenLess" w="29525" h="21600">
                <a:moveTo>
                  <a:pt x="0" y="0"/>
                </a:moveTo>
                <a:lnTo>
                  <a:pt x="29525" y="0"/>
                </a:lnTo>
                <a:lnTo>
                  <a:pt x="28125" y="1400"/>
                </a:lnTo>
                <a:lnTo>
                  <a:pt x="1400" y="1400"/>
                </a:lnTo>
                <a:close/>
              </a:path>
              <a:path fill="darken" w="29525" h="21600">
                <a:moveTo>
                  <a:pt x="29525" y="0"/>
                </a:moveTo>
                <a:lnTo>
                  <a:pt x="29525" y="21600"/>
                </a:lnTo>
                <a:lnTo>
                  <a:pt x="28125" y="20200"/>
                </a:lnTo>
                <a:lnTo>
                  <a:pt x="28125" y="1400"/>
                </a:lnTo>
                <a:close/>
              </a:path>
              <a:path fill="darkenLess" w="29525" h="21600">
                <a:moveTo>
                  <a:pt x="29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25" y="20200"/>
                </a:lnTo>
                <a:close/>
              </a:path>
              <a:path fill="lighten" w="29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25" h="21600">
                <a:moveTo>
                  <a:pt x="7756" y="10800"/>
                </a:moveTo>
                <a:lnTo>
                  <a:pt x="21769" y="3794"/>
                </a:lnTo>
                <a:lnTo>
                  <a:pt x="21769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plicativos multimídi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senvolvimento de produtos de softwar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Geralmente apresentam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interfaces gráfic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comportamento de tempo re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sam serviços de multimídia do ambiente operacional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de Interfaces de programação de multimídia para Windows: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MCI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dia Control Inte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Directx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411280" y="6275520"/>
            <a:ext cx="46483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xemplos Multimídia - Wind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79108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076720" y="189000"/>
            <a:ext cx="2733840" cy="1447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4619520" cy="1485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920" y="2008080"/>
            <a:ext cx="78501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X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 - Serviç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rviços gráficos tridimens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Dra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rviços gráficos bidimensionais efici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cesso a serviços de comunic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Soun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cesso de baixo nível a dispositivos de s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rectInpu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uporte a dispositivos usados em jogos e simul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340000" y="2971800"/>
            <a:ext cx="4465440" cy="914400"/>
            <a:chOff x="2340000" y="2971800"/>
            <a:chExt cx="4465440" cy="914400"/>
          </a:xfrm>
        </p:grpSpPr>
        <p:sp>
          <p:nvSpPr>
            <p:cNvPr id="239" name=""/>
            <p:cNvSpPr/>
            <p:nvPr/>
          </p:nvSpPr>
          <p:spPr>
            <a:xfrm>
              <a:off x="2340000" y="297180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340000" y="2971800"/>
              <a:ext cx="4071600" cy="914400"/>
              <a:chOff x="2340000" y="2971800"/>
              <a:chExt cx="4071600" cy="914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340000" y="2971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340000" y="2971800"/>
                <a:ext cx="4071600" cy="914400"/>
                <a:chOff x="2340000" y="2971800"/>
                <a:chExt cx="407160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340000" y="2971800"/>
                  <a:ext cx="4071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340000" y="2971800"/>
                  <a:ext cx="4071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 u="sng">
                      <a:solidFill>
                        <a:srgbClr val="ffcc00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0" lang="pt-BR" sz="5400" spc="-1" strike="noStrike">
                      <a:solidFill>
                        <a:srgbClr val="000000"/>
                      </a:solidFill>
                      <a:latin typeface="Verdana"/>
                    </a:rPr>
                    <a:t> </a:t>
                  </a:r>
                  <a:r>
                    <a:rPr b="0" lang="pt-BR" sz="1000" spc="-1" strike="noStrike">
                      <a:solidFill>
                        <a:srgbClr val="000000"/>
                      </a:solidFill>
                      <a:latin typeface="Verdana"/>
                    </a:rPr>
                    <a:t>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560" y="1863720"/>
            <a:ext cx="813780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Exemplo de ferramenta para projeto de multimídia: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Macromedia Dir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erramenta verdadeira de hipermíd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etáfora de elenco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cas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 e palco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(stag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linguagem de programação -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Lingo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Elemento central: partitura 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cor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nimação controlada por cronogramas (partituras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ormatos de autoria: DI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formatos de distribuição: EXE, vídeo,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Shockwav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movie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56000" y="6165720"/>
            <a:ext cx="4473360" cy="54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Telas do </a:t>
            </a:r>
            <a:r>
              <a:rPr b="1" i="1" lang="pt-BR" sz="2000" spc="-1" strike="noStrike">
                <a:solidFill>
                  <a:srgbClr val="000000"/>
                </a:solidFill>
                <a:latin typeface="Tahoma"/>
              </a:rPr>
              <a:t>Macromedia Director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592440" cy="2847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76720" y="115920"/>
            <a:ext cx="3672000" cy="3014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971640" y="106200"/>
            <a:ext cx="379404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640" y="1936800"/>
            <a:ext cx="7516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Exemplos de ferramentas de autoria de título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PowerPoin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orientado para sl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crobat Exchang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orientado para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cumentação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on-lin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115640" y="1628640"/>
            <a:ext cx="7343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ortante: Objetivos das interfaces de usuá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ior velocidade de aprendizado - usuários novatos -    custo de treinament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ior velocidade de uso - usuários experientes -   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tividade de us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dução da taxa de erros -     produtividad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lembrança rápida das funções disponíveis   -   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úvidas e perda de tempo com consulta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aspecto atraen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835280" y="349992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292720" y="384444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35280" y="458136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2781360"/>
            <a:ext cx="0" cy="30492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403280" y="5300640"/>
            <a:ext cx="7162920" cy="8380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7848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Estilos de interfaces de usuár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WYSIWYG 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what you see is what you ge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nterfaces icônicas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- economizam espaço de tela, superam barreiras lingüísticas, contribuem para a estética da interf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Manipulação diret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  Exemplo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Técnica de arraste e posicionamento -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drag and drop 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(Editores de animação - objetos arrastados para a posição desejada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79600" y="530064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elhor interface para o usuário requer o mínimo esforço de aprend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867280" y="2971800"/>
            <a:ext cx="2590920" cy="2666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Princípios de desenho de interfaces de usuár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consistênci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aliment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inimização dos err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cuperação dos erro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últiplos níveis de treinament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inimização da memoriz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Tahoma"/>
              </a:rPr>
              <a:t>layout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 adequad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3048120"/>
            <a:ext cx="2514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As telas não precisam, necessariamente,  ser cheias ou coloridas para serem agradáveis aos olh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258920" y="2060640"/>
            <a:ext cx="7275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lement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Deliberaçõe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stes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alfa</a:t>
            </a: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Implant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Reprodu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Instala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Testes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bet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rodução piloto – “liberdade vigiada”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Tahoma"/>
              </a:rPr>
              <a:t>Opera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Utilização e evolu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Manutençã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ahoma"/>
              </a:rPr>
              <a:t>Pequenas correções - formas de distribuiçã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remendos (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patches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disponibilizados em um </a:t>
            </a:r>
            <a:r>
              <a:rPr b="0" i="1" lang="pt-BR" sz="2100" spc="-1" strike="noStrike">
                <a:solidFill>
                  <a:srgbClr val="000000"/>
                </a:solidFill>
                <a:latin typeface="Tahoma"/>
              </a:rPr>
              <a:t>site</a:t>
            </a:r>
            <a:r>
              <a:rPr b="0" lang="pt-BR" sz="2100" spc="-1" strike="noStrike">
                <a:solidFill>
                  <a:srgbClr val="000000"/>
                </a:solidFill>
                <a:latin typeface="Tahoma"/>
              </a:rPr>
              <a:t> de suporte ao produto (com instruções claras, suporte através de correio eletrônico e lista de perguntas freqüent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58920" y="2420640"/>
            <a:ext cx="7238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Tahoma"/>
              </a:rPr>
              <a:t>Lembre-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m multimídia há, basicamente, cinco maneiras para elaborar e transmitir mensagens. Pode-se escrever, ilustrar, animar, ouvir e interagir. Explore-as ao máximo, com discern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 - Proje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Power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táfora de show de sli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itor gráfico inter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i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L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nking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mbedd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portação para WW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844640"/>
            <a:ext cx="75247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O Slide como Meio – aspectos important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tilizar o slide de preferência em formato paisa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ão estender o slide até a marge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imitar o volume de tex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manho de letra mínimo: 20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Utilizar, preferencialmente,  no máximo 3 tamanhos de letra, fonte, estilo e cores de let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Recursos ópticos e ilustrações são importantes para “falar” usando o nosso pensamento gráfic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8160" y="1268280"/>
            <a:ext cx="7467480" cy="52578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16000" y="404280"/>
            <a:ext cx="7275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mprego de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36760" y="1420920"/>
          <a:ext cx="7010280" cy="4854600"/>
        </p:xfrm>
        <a:graphic>
          <a:graphicData uri="http://schemas.openxmlformats.org/drawingml/2006/table">
            <a:tbl>
              <a:tblPr/>
              <a:tblGrid>
                <a:gridCol w="1523880"/>
                <a:gridCol w="54864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E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vermelh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itante, proximidade, cal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az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xante, distância, f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ver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mante, esperanç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are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tido, claro, le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ado, duro, apertado, distâ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n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o, luz, calma, vaz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mar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ança, confor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777777"/>
                          </a:solidFill>
                          <a:latin typeface="Arial"/>
                        </a:rPr>
                        <a:t>cin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 vida, sem cará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viole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plo sentido, não objeti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 algn="ctr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fb9205"/>
                          </a:solidFill>
                          <a:latin typeface="Arial"/>
                        </a:rPr>
                        <a:t>laran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5160" indent="-65160">
                        <a:spcBef>
                          <a:spcPts val="550"/>
                        </a:spcBef>
                        <a:tabLst>
                          <a:tab algn="l" pos="0"/>
                          <a:tab algn="l" pos="652320"/>
                          <a:tab algn="l" pos="1305000"/>
                          <a:tab algn="l" pos="1957320"/>
                          <a:tab algn="l" pos="2610000"/>
                          <a:tab algn="l" pos="3262320"/>
                          <a:tab algn="l" pos="3914640"/>
                          <a:tab algn="l" pos="4567320"/>
                          <a:tab algn="l" pos="5219640"/>
                          <a:tab algn="l" pos="5872320"/>
                          <a:tab algn="l" pos="6524640"/>
                          <a:tab algn="l" pos="7176960"/>
                          <a:tab algn="l" pos="7829640"/>
                          <a:tab algn="l" pos="8481960"/>
                          <a:tab algn="l" pos="9134640"/>
                          <a:tab algn="l" pos="9786960"/>
                          <a:tab algn="l" pos="1043928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a, cal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581280"/>
            <a:ext cx="678204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Medidas mínimas do plano de projeção são calculadas através da fórmul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447920" y="3657600"/>
                <a:ext cx="6476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astament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ede ao último participant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90360" y="2209680"/>
            <a:ext cx="7275240" cy="37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Recursos do Acrobat Ex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dição de document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isualização de im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 PDF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Portable Document Format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mportação de Post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2-14T17:16:45Z</dcterms:modified>
  <cp:revision>193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