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0B3D-823A-4A2F-A19F-1AC8F092E3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7AD7-F25D-43F1-AD9D-1E42E46C77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CBE1-B080-41D4-B6C6-BBB8166BCE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91EA-8391-4BAD-BFAF-D2C569CEBD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26D9-05DB-43AD-A514-1A326853C9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A68D-EE63-431F-9381-6BEBFA658C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A6EF-8ADF-42BB-8501-D1414A7CE6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9837-2D0B-4AD8-A0DA-6667AE749F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E68-D57B-4320-A148-52F6BD55F7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B031-E177-4FDA-B5D9-3B8BD3C64D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3C01-2A9E-4A63-A805-C1DB93DC39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BD86-7D9B-4F8E-BB51-8D013D9B23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2A73-3DF7-43BE-A966-BC8F0AF3047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88B9-FC5A-4661-A477-49D8C5359D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62FD-7ACC-4E31-89DE-48DA3DE5EF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505E-F096-4111-8D0A-D5E9D27005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FCCD-F25D-4EE3-AC92-EDB8753772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4765-E26D-49E9-A755-8058980C6F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8640" y="73656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600" y="4632480"/>
            <a:ext cx="5027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7A2-3C36-4A63-BB50-EDAF4F1B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557-9CF6-4EB9-8B12-AF92562C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E42-0F32-43C6-9125-10D4C66F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716-ED0D-4DCC-925D-BADE1BD7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B906-6C18-4399-9FCC-E979B6FC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31CF-2D25-4FE0-8744-28058070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6DD8-1AC1-41F3-9886-43940A40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C8FC-E4A1-43A1-A8A4-0FECF1F2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F3FC-E7C5-42D6-B430-887768B4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A872-727F-485E-8D0A-B1D0EB7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51AA-3090-44CE-8F61-AF2E3B3C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257-1B32-4BBB-9552-13E0670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3B0B-C756-4CE9-AE8E-14B264FD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EB4E-BF55-45DA-AA18-51CAE66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8C99-77F6-488A-9F9C-5E64D80A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73FF-109E-40EA-AFFE-317C9075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C2E0-60F5-4FCD-9708-766C8EA9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7D6-22AA-4501-9C06-E19E28C5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9B5-25AB-440B-B66C-2101BE2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6AA-4151-4A2B-BAF1-CDEF1D60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054-459C-4B50-B694-123EBBB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B47-F075-4808-9160-AAE3001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095-F9A9-43CD-AC43-5ED5BF67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6A6-38CA-495F-9061-D3253146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package" Target="../embeddings/oleObject2.docx"/><Relationship Id="rId8" Type="http://schemas.openxmlformats.org/officeDocument/2006/relationships/image" Target="../media/image2.wmf"/><Relationship Id="rId9" Type="http://schemas.openxmlformats.org/officeDocument/2006/relationships/image" Target="../media/image4.png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package" Target="../embeddings/oleObject2.docx"/><Relationship Id="rId8" Type="http://schemas.openxmlformats.org/officeDocument/2006/relationships/image" Target="../media/image2.wmf"/><Relationship Id="rId9" Type="http://schemas.openxmlformats.org/officeDocument/2006/relationships/image" Target="../media/image4.png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A1DC-3A93-4A34-9A6D-D31B4E314B2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00000" cy="6858000"/>
            <a:chOff x="0" y="0"/>
            <a:chExt cx="900000" cy="6858000"/>
          </a:xfrm>
        </p:grpSpPr>
        <p:sp>
          <p:nvSpPr>
            <p:cNvPr id="7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2"/>
            <a:srcRect l="28598" t="22439" r="11606" b="17512"/>
            <a:stretch/>
          </p:blipFill>
          <p:spPr>
            <a:xfrm>
              <a:off x="34920" y="4076640"/>
              <a:ext cx="82692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" name=""/>
            <p:cNvGraphicFramePr/>
            <p:nvPr/>
          </p:nvGraphicFramePr>
          <p:xfrm>
            <a:off x="34920" y="4840200"/>
            <a:ext cx="826920" cy="717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4840200"/>
                      <a:ext cx="82692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0" y="5516640"/>
              <a:ext cx="878040" cy="95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" name=""/>
            <p:cNvGrpSpPr/>
            <p:nvPr/>
          </p:nvGrpSpPr>
          <p:grpSpPr>
            <a:xfrm>
              <a:off x="0" y="0"/>
              <a:ext cx="826560" cy="4038480"/>
              <a:chOff x="0" y="0"/>
              <a:chExt cx="826560" cy="4038480"/>
            </a:xfrm>
          </p:grpSpPr>
          <p:pic>
            <p:nvPicPr>
              <p:cNvPr id="13" name="" descr=""/>
              <p:cNvPicPr/>
              <p:nvPr/>
            </p:nvPicPr>
            <p:blipFill>
              <a:blip r:embed="rId6"/>
              <a:srcRect l="28598" t="22439" r="11606" b="17512"/>
              <a:stretch/>
            </p:blipFill>
            <p:spPr>
              <a:xfrm>
                <a:off x="0" y="0"/>
                <a:ext cx="825480" cy="814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4" name=""/>
              <p:cNvGraphicFramePr/>
              <p:nvPr/>
            </p:nvGraphicFramePr>
            <p:xfrm>
              <a:off x="51120" y="878040"/>
              <a:ext cx="774000" cy="7588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1120" y="878040"/>
                        <a:ext cx="774000" cy="75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1120" y="2569320"/>
                <a:ext cx="774000" cy="676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7" name=""/>
              <p:cNvGraphicFramePr/>
              <p:nvPr/>
            </p:nvGraphicFramePr>
            <p:xfrm>
              <a:off x="51120" y="3246480"/>
              <a:ext cx="775440" cy="792000"/>
            </p:xfrm>
            <a:graphic>
              <a:graphicData uri="http://schemas.openxmlformats.org/presentationml/2006/ole">
                <p:oleObj progId="Word.Document.12" r:id="rId10" spid="">
                  <p:embed/>
                  <p:pic>
                    <p:nvPicPr>
                      <p:cNvPr id="1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1120" y="3246480"/>
                        <a:ext cx="77544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1120" y="1622520"/>
                <a:ext cx="775440" cy="94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" name=""/>
            <p:cNvGrpSpPr/>
            <p:nvPr/>
          </p:nvGrpSpPr>
          <p:grpSpPr>
            <a:xfrm>
              <a:off x="108000" y="6308640"/>
              <a:ext cx="647640" cy="549000"/>
              <a:chOff x="108000" y="6308640"/>
              <a:chExt cx="647640" cy="549000"/>
            </a:xfrm>
          </p:grpSpPr>
          <p:sp>
            <p:nvSpPr>
              <p:cNvPr id="21" name=""/>
              <p:cNvSpPr/>
              <p:nvPr/>
            </p:nvSpPr>
            <p:spPr>
              <a:xfrm>
                <a:off x="108000" y="6748200"/>
                <a:ext cx="647640" cy="109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400" spc="-1" strike="noStrike">
                    <a:solidFill>
                      <a:srgbClr val="ffcc00"/>
                    </a:solidFill>
                    <a:latin typeface="Verdana"/>
                  </a:rPr>
                  <a:t>DSC/CEEI/UFC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69360" y="6482520"/>
                <a:ext cx="353520" cy="2404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flipV="1">
                <a:off x="138240" y="6308640"/>
                <a:ext cx="352440" cy="2412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71520" y="6491160"/>
                <a:ext cx="353520" cy="2404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flipV="1">
                <a:off x="138960" y="6315840"/>
                <a:ext cx="354600" cy="241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C611-836C-4FDE-AA51-FAAE1421B81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1331640" cy="6467400"/>
            <a:chOff x="0" y="0"/>
            <a:chExt cx="1331640" cy="6467400"/>
          </a:xfrm>
        </p:grpSpPr>
        <p:pic>
          <p:nvPicPr>
            <p:cNvPr id="70" name="" descr=""/>
            <p:cNvPicPr/>
            <p:nvPr/>
          </p:nvPicPr>
          <p:blipFill>
            <a:blip r:embed="rId2"/>
            <a:srcRect l="28598" t="22439" r="11606" b="17512"/>
            <a:stretch/>
          </p:blipFill>
          <p:spPr>
            <a:xfrm>
              <a:off x="52920" y="4076640"/>
              <a:ext cx="12542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" name=""/>
            <p:cNvGraphicFramePr/>
            <p:nvPr/>
          </p:nvGraphicFramePr>
          <p:xfrm>
            <a:off x="52920" y="4840200"/>
            <a:ext cx="1254240" cy="717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920" y="4840200"/>
                      <a:ext cx="125424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0" y="5516640"/>
              <a:ext cx="1331640" cy="95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0" y="0"/>
              <a:ext cx="1253880" cy="4038480"/>
              <a:chOff x="0" y="0"/>
              <a:chExt cx="1253880" cy="4038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6"/>
              <a:srcRect l="28598" t="22439" r="11606" b="17512"/>
              <a:stretch/>
            </p:blipFill>
            <p:spPr>
              <a:xfrm>
                <a:off x="0" y="0"/>
                <a:ext cx="1252080" cy="814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6" name=""/>
              <p:cNvGraphicFramePr/>
              <p:nvPr/>
            </p:nvGraphicFramePr>
            <p:xfrm>
              <a:off x="77760" y="878040"/>
              <a:ext cx="1173960" cy="7588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7760" y="878040"/>
                        <a:ext cx="1173960" cy="75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7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760" y="2569320"/>
                <a:ext cx="1173960" cy="676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9" name=""/>
              <p:cNvGraphicFramePr/>
              <p:nvPr/>
            </p:nvGraphicFramePr>
            <p:xfrm>
              <a:off x="77760" y="3246480"/>
              <a:ext cx="1176120" cy="792000"/>
            </p:xfrm>
            <a:graphic>
              <a:graphicData uri="http://schemas.openxmlformats.org/presentationml/2006/ole">
                <p:oleObj progId="Word.Document.12" r:id="rId10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77760" y="3246480"/>
                        <a:ext cx="117612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760" y="1622520"/>
                <a:ext cx="1176120" cy="94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" name=""/>
          <p:cNvGrpSpPr/>
          <p:nvPr/>
        </p:nvGrpSpPr>
        <p:grpSpPr>
          <a:xfrm>
            <a:off x="324000" y="6165720"/>
            <a:ext cx="720720" cy="620640"/>
            <a:chOff x="324000" y="6165720"/>
            <a:chExt cx="720720" cy="620640"/>
          </a:xfrm>
        </p:grpSpPr>
        <p:sp>
          <p:nvSpPr>
            <p:cNvPr id="83" name=""/>
            <p:cNvSpPr/>
            <p:nvPr/>
          </p:nvSpPr>
          <p:spPr>
            <a:xfrm>
              <a:off x="324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4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5892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7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5964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" Target="slide3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Tipos de Produtos Multimíd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87280" y="1989000"/>
            <a:ext cx="734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tivos com interface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s simp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tivos educacionais bás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tivos de produtividade pessoal (ex.: agendas, geradores de relatórios simp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67320" cy="39625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48160" y="5783400"/>
            <a:ext cx="54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a de um aplicativo com interface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03280" y="4724280"/>
            <a:ext cx="7353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0400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tivos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ocessam o próprio material de multimídia, geralmente em tempo rea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ágio avançado dos sistemas gráficos interativ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mplementados em linguagens de programação de sistemas (ex.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? ?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ultimídia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apenas recurso de interface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objetivo central do aplicativ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844640"/>
            <a:ext cx="753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tivos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de multimíd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visualização técnica e científ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quetas eletrônicas, imagens méd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dores de tempo re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utomóveis, aviões, processos industri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informação geográf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4653000"/>
            <a:ext cx="6048360" cy="1181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aplicativos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avançados de computação musica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istemas avançados de entreteniment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jogos tridimens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realidade virt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sistemas para parques de divers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ndênci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          visão tridimensional               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to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515772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5580000" y="3500280"/>
          <a:ext cx="2936880" cy="22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500280"/>
                    <a:ext cx="2936880" cy="2292480"/>
                  </a:xfrm>
                  <a:prstGeom prst="rect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8160" y="6021360"/>
            <a:ext cx="27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licativo multimí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187280" y="1773360"/>
            <a:ext cx="4176720" cy="195732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371600" y="1989000"/>
            <a:ext cx="593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mídia na Intern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W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veg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ági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yperlink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lug-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iculdades para autoria de multimídia n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ças entre os naveg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oniz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ualizações altern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de faixa dos canais de ac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ortância da compress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-determinismo da entr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40040" y="4807080"/>
            <a:ext cx="529596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925040" cy="29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Tecnologias de fluxo contínuo 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(streaming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rientadas para material linea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rmazenamento antecipado de parte do materia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egradação controlada em caso de perda de dad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xemplos: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RealPlayer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NetShow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cc00"/>
                </a:solidFill>
                <a:latin typeface="Arial"/>
              </a:rPr>
              <a:t>                        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Maior Problema: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nutenção do fluxo em tempo 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1080" y="5877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4392720" cy="410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1773360"/>
            <a:ext cx="777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Produto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42920" y="1988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produtos multimídia (de acordo com o grau de interatividad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ítul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per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321300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3500280"/>
            <a:ext cx="86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1403280" y="342900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1403280" y="429264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1403280" y="465300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1628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ítulo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resentação do material segue ordem predetermin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uário final dispõe de poucos contr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vanço, retrocesso, avanço rápido etc.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lmente intercambiáveis com ani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título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ções para palest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onstr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ítulos hiper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rdem de visualização é determinada pelo usuário fi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uário final tem controles para navegação (seguir referência, voltar,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pertextos são casos partic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stemas de auto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títulos hipermídia em ambientes mais 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títulos hiper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ítulos de referência (dicionári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jud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n-li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iosques informat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tálogos inter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847880" y="1962000"/>
          <a:ext cx="5143320" cy="38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1962000"/>
                    <a:ext cx="5143320" cy="3854520"/>
                  </a:xfrm>
                  <a:prstGeom prst="rect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84160" y="582120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a de um título hiper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15640" y="2060640"/>
            <a:ext cx="741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65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tivos com interface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1922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dos em ambientes usuais de programação de aplicativos gráficos,         (p.ex.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 ? ? ? 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1922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m recursos gráficos estáticos, animação e som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acilitar a in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05T16:16:19Z</dcterms:modified>
  <cp:revision>147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