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3709-E6BE-477B-903F-69C56AA253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CB7E-BB14-4915-94BE-160EEE781D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EC3C-A760-4BD6-BA21-4D9330D9F8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0AF-CA29-426C-A7E9-E7849107F1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181-86A4-4502-8D83-AB55AD64EC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123-8687-46BC-9A35-69A4E0CF12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A9D-83AA-48DE-8A74-C286E08F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108-14FF-41EC-9E1E-99391617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CCD-8425-46A2-9CA7-89541A17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17E-BAE6-4D5C-AF5B-8B165B4F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0F8F-AFFA-406E-97AB-2E0D844F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AA7-7250-43B0-ABB7-AF5615FE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D18F-4120-49D1-B587-9894B093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164B-A710-45F6-8CDD-C84B06FA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EC5-F811-44BC-96AF-0D5818DC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2476-52EF-4747-BC9D-A2655626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6916-5ECB-419E-8345-7505BA8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7D6-68DE-40BC-97A1-50959095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614A-8FBD-47C4-80DB-AB0017C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9D84-0B73-4A5D-A6A6-74C2F26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B9E-75FB-4F92-B01D-BE4C0C5B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7883-201F-485C-801C-3DD3F5E7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B43C-E7DC-481B-B852-DCAF29EE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D63-282F-45A6-9B7C-8ED7405E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A6C-BDCB-4A5B-BC98-521A4A7B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08D-EFD3-4D6E-BA68-B844D671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9E0-86EA-4B6A-A587-D98A5130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D72-5F44-4FDA-BB59-9F1B5EE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590-5216-4A12-9CCD-59DEAFEF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DA7-B4CB-450B-B25B-9FDDBFF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2596-7CC8-4BD9-83EF-A5E22D0DE8C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308640"/>
            <a:ext cx="647640" cy="549000"/>
            <a:chOff x="108000" y="6308640"/>
            <a:chExt cx="647640" cy="549000"/>
          </a:xfrm>
        </p:grpSpPr>
        <p:sp>
          <p:nvSpPr>
            <p:cNvPr id="7" name=""/>
            <p:cNvSpPr/>
            <p:nvPr/>
          </p:nvSpPr>
          <p:spPr>
            <a:xfrm>
              <a:off x="108000" y="6748200"/>
              <a:ext cx="647640" cy="1094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00" spc="-1" strike="noStrike">
                  <a:solidFill>
                    <a:srgbClr val="ffcc00"/>
                  </a:solidFill>
                  <a:latin typeface="Verdana"/>
                </a:rPr>
                <a:t>DSC/CEEI/UFC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9360" y="648252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38240" y="6308640"/>
              <a:ext cx="352440" cy="241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1520" y="649116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38960" y="6315840"/>
              <a:ext cx="354600" cy="241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0" y="0"/>
            <a:ext cx="900000" cy="6237360"/>
            <a:chOff x="0" y="0"/>
            <a:chExt cx="900000" cy="6237360"/>
          </a:xfrm>
        </p:grpSpPr>
        <p:grpSp>
          <p:nvGrpSpPr>
            <p:cNvPr id="14" name=""/>
            <p:cNvGrpSpPr/>
            <p:nvPr/>
          </p:nvGrpSpPr>
          <p:grpSpPr>
            <a:xfrm>
              <a:off x="0" y="0"/>
              <a:ext cx="900000" cy="3332160"/>
              <a:chOff x="0" y="0"/>
              <a:chExt cx="900000" cy="3332160"/>
            </a:xfrm>
          </p:grpSpPr>
          <p:pic>
            <p:nvPicPr>
              <p:cNvPr id="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720"/>
                <a:ext cx="9000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511280"/>
                <a:ext cx="90000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89080"/>
                <a:ext cx="90000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90000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24000"/>
                <a:ext cx="90000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7"/>
            <a:stretch/>
          </p:blipFill>
          <p:spPr>
            <a:xfrm>
              <a:off x="0" y="4005360"/>
              <a:ext cx="90000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8"/>
            <a:stretch/>
          </p:blipFill>
          <p:spPr>
            <a:xfrm>
              <a:off x="0" y="4795920"/>
              <a:ext cx="9000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9"/>
            <a:stretch/>
          </p:blipFill>
          <p:spPr>
            <a:xfrm>
              <a:off x="0" y="5373720"/>
              <a:ext cx="9000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284640"/>
              <a:ext cx="9000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402920" cy="6857640"/>
            <a:chOff x="0" y="0"/>
            <a:chExt cx="1402920" cy="685764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402560" cy="3663000"/>
              <a:chOff x="0" y="0"/>
              <a:chExt cx="1402560" cy="3663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92000"/>
                <a:ext cx="1402560" cy="83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61400"/>
                <a:ext cx="140256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96440"/>
                <a:ext cx="14025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140256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24240"/>
                <a:ext cx="14025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0" y="4403880"/>
              <a:ext cx="140292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0" y="5272920"/>
              <a:ext cx="14029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0" y="5908320"/>
              <a:ext cx="1402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611160"/>
              <a:ext cx="140292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C884-B868-485C-B777-3C7D0A9E5A8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6121080"/>
            <a:ext cx="720720" cy="620640"/>
            <a:chOff x="395280" y="6121080"/>
            <a:chExt cx="720720" cy="620640"/>
          </a:xfrm>
        </p:grpSpPr>
        <p:sp>
          <p:nvSpPr>
            <p:cNvPr id="76" name=""/>
            <p:cNvSpPr/>
            <p:nvPr/>
          </p:nvSpPr>
          <p:spPr>
            <a:xfrm>
              <a:off x="395280" y="661788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160" y="631800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30200" y="612072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8680" y="632736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30920" y="613044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Hardware/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ara Multimí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I - Adi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e para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erramentas de 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nex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SCSI (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Small Computer System Interface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adrão em Macintosh, pode ser instalado em Wind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abeamento sensível ao tamanho 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nterface rápi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5892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erramentas de 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nex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IDE (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Integrated Drive Eletronics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adrão em Wind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obusto, porém com menos velocidade e capacidade que o an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erramentas de 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nex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MCI (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Media Control Interface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vê um método orientado a comandos para que softwares possam controlar dispositivos multimídia (Window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rramentos seriais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EEE 1394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irewi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câmeras de víde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B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vários dispositivos (impressora, teclado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curso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ug-and-pla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t-pl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7275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e Dispositivos de Armaze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RAM, HD, CD, DVD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entr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clado, mouse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ouch scree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leitora de cartões magnéticos, scanner, OCR, reconhecimento de voz, câmeras digitalizadora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saíd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dispositivos de áudio, monitor, vídeo, projet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comun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od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05T15:55:25Z</dcterms:modified>
  <cp:revision>139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