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736-4ABA-43A7-9FA7-C3AA10F9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3D9-A58D-4772-9B2B-5428ACCA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7AD-B655-46DE-AE99-BE3A9A1E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43C-0E10-4C9B-BD4E-EB58119B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1A81-70EC-4736-91F8-DC3EB593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AE32-E578-4F17-A184-324E318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54B5-8D76-4902-8157-9D4B2940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33EB-2CC1-45C2-9B38-115CEB0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5CD0-2E31-49E7-9507-52BA279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CDFD-7698-4C26-957A-BB65BF8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907-5B9B-45B1-8183-56CAE5C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339-DDCA-4082-AE17-C09D2F38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625A-F1FB-430A-826C-FB98A3A2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C14-7824-4519-8F90-450708A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4C1D-F8C4-4031-8CE6-AA6D016F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DF4-8129-4669-9D96-10232F9B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30B8-F995-423F-BB4C-B1718A10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8F4-66A0-4125-8570-3D565F75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1A7-3D9A-4661-9D1E-379ACBC9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737-AE2D-417B-9EF8-429810D4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98E-8667-4548-B0C1-299570F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C55-2655-4607-B4AB-7EA1F9E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B05-D5D4-432F-AC38-0D18D959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6B8-E131-45DD-B8F2-803ACE2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5A2-6DB9-4DF9-97BE-C33D6204C70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308640"/>
            <a:ext cx="647640" cy="549000"/>
            <a:chOff x="108000" y="6308640"/>
            <a:chExt cx="647640" cy="549000"/>
          </a:xfrm>
        </p:grpSpPr>
        <p:sp>
          <p:nvSpPr>
            <p:cNvPr id="7" name=""/>
            <p:cNvSpPr/>
            <p:nvPr/>
          </p:nvSpPr>
          <p:spPr>
            <a:xfrm>
              <a:off x="108000" y="6748200"/>
              <a:ext cx="647640" cy="1094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00" spc="-1" strike="noStrike">
                  <a:solidFill>
                    <a:srgbClr val="ffcc00"/>
                  </a:solidFill>
                  <a:latin typeface="Verdana"/>
                </a:rPr>
                <a:t>DSC/CEEI/UFC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9360" y="648252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38240" y="6308640"/>
              <a:ext cx="352440" cy="241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1520" y="649116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38960" y="6315840"/>
              <a:ext cx="354600" cy="241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0" y="0"/>
            <a:ext cx="900000" cy="6237360"/>
            <a:chOff x="0" y="0"/>
            <a:chExt cx="900000" cy="6237360"/>
          </a:xfrm>
        </p:grpSpPr>
        <p:grpSp>
          <p:nvGrpSpPr>
            <p:cNvPr id="14" name=""/>
            <p:cNvGrpSpPr/>
            <p:nvPr/>
          </p:nvGrpSpPr>
          <p:grpSpPr>
            <a:xfrm>
              <a:off x="0" y="0"/>
              <a:ext cx="900000" cy="3332160"/>
              <a:chOff x="0" y="0"/>
              <a:chExt cx="900000" cy="3332160"/>
            </a:xfrm>
          </p:grpSpPr>
          <p:pic>
            <p:nvPicPr>
              <p:cNvPr id="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720"/>
                <a:ext cx="9000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511280"/>
                <a:ext cx="90000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89080"/>
                <a:ext cx="90000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90000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24000"/>
                <a:ext cx="90000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7"/>
            <a:stretch/>
          </p:blipFill>
          <p:spPr>
            <a:xfrm>
              <a:off x="0" y="4005360"/>
              <a:ext cx="9000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8"/>
            <a:stretch/>
          </p:blipFill>
          <p:spPr>
            <a:xfrm>
              <a:off x="0" y="4795920"/>
              <a:ext cx="9000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9"/>
            <a:stretch/>
          </p:blipFill>
          <p:spPr>
            <a:xfrm>
              <a:off x="0" y="537372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284640"/>
              <a:ext cx="9000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402920" cy="6857640"/>
            <a:chOff x="0" y="0"/>
            <a:chExt cx="1402920" cy="685764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402560" cy="3663000"/>
              <a:chOff x="0" y="0"/>
              <a:chExt cx="1402560" cy="3663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000"/>
                <a:ext cx="1402560" cy="83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61400"/>
                <a:ext cx="140256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96440"/>
                <a:ext cx="14025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140256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24240"/>
                <a:ext cx="14025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4403880"/>
              <a:ext cx="140292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0" y="5272920"/>
              <a:ext cx="14029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0" y="5908320"/>
              <a:ext cx="1402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611160"/>
              <a:ext cx="140292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C8A-DE39-4D67-9168-8E9368A3F6B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6121080"/>
            <a:ext cx="720720" cy="620640"/>
            <a:chOff x="395280" y="6121080"/>
            <a:chExt cx="720720" cy="620640"/>
          </a:xfrm>
        </p:grpSpPr>
        <p:sp>
          <p:nvSpPr>
            <p:cNvPr id="76" name=""/>
            <p:cNvSpPr/>
            <p:nvPr/>
          </p:nvSpPr>
          <p:spPr>
            <a:xfrm>
              <a:off x="395280" y="661788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160" y="631800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0200" y="612072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8680" y="632736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30920" y="613044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ardware/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ara Multimí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uma bobina, um diafragma (cone circular ou elíptico, geralmente de papelão por ter peso menor ou polipropileno, um plástico), um imã permanente (ou eletroímã) e uma suspensão chamada "aranh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m produzido pelo alto-falante nada mais é do que a turbulência ritmada no ar provocada pela vibração do diafrag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932360" y="4437000"/>
          <a:ext cx="331164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4437000"/>
                    <a:ext cx="3311640" cy="22557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melhorar a reprodução o alto-falante passou a ser montado em uma caixa acú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ixas acústicas normalmente possuem mais de um alto-falante no intuito de cobrir melhor todas as faixas de freqüências audíveis (em torno de 20 a 20kHz para seres human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22764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925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s pequena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weeter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responsáveis pelos sons agu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s de média freqüênci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d-rang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s de freqüências grav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oof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3801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timizar o funcionamento de cada tipo de alto-falante, o sinal que chega à caixa passa por um circuito divisor de freqüência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espécie de filtro eletrônico que distribui o espectro sonoro adequadamente entre as diversas un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-3801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o filtro somente os agudos são enviados para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weet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s médios para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d-rang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s graves para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oof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udição em aparelhos de som de alta fidelidade são usadas caixas acústicas aos pares para obter o efeito da estereofo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inemas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me-theat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usados múltiplas caixas acústicas para obter o efeit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r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icrof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fo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transdutor, dispositivo que converte um sinal sonoro em um sinal elét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ransforma a vibração mecânica do ar – o som – em corrente elétric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vários métodos para converter vibrações mecânicas em sinais elétrico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12000" y="4292640"/>
          <a:ext cx="192384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4292640"/>
                    <a:ext cx="1923840" cy="20746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148360" y="64008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crofone de ind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979640" y="4724280"/>
            <a:ext cx="24480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icrofo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icrofone Dinâmico de Bobina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um conjunto de bobinas ligadas ao diafragma, que se movem com ele; a parte fixa do microfone inclui um ímã, que cria um campo magnético (que não é constante no espaç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ovimento do diafragma faz com que as bobinas se afastem ou se aproximem do ímã, e o fluxo do campo magnético através das bobinas varia no tempo; assim, pelo fenômeno d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dução eletromagnétic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(Faraday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rrente que circula pelas bobinas também v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que o movimento do diafragma (logo, das bobinas) é controlado pelo som que lá chega, a corrente recolhida é função do som recolhido (é uma imagem elétrica do sinal sono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Exemplo de Microf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2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icrofone de carvão apresenta uma construção simples e robusta e um funcionamento elementar. As suas principais característica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sível, exceto abaixo de um certo valor (limite de excit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 em freqüência pouco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orção elevada, sobretudo para elevadas amplitudes (relação não linear entre a resistência microfônica e a pressão acúst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icrofo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spcBef>
                <a:spcPts val="24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icrofone Piezoelé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feito piezoelétrico foi descoberto por Pierre e Jacques Curie: certos materiais (cristais, cerâmicas e polímeros especiais), quando deformados, adquirem carga; o efeito é reversível, sendo fornecida carga eles deformam-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diafragma está ligado a um cristal piezoelétrico, de tal forma que o seu movimento origina tensões neste e, dadas as características piezoelétricas, essas tensões originam car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mesma forma anterior, como é o som que chega ao diafragma que faz com que este se movimente, as cargas que se apresentam no cristal variam no tempo da mesma forma que 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4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360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icrofone transforma os sinais sonoros em sinais elétricos, que podem ser tratados de forma a melhorar a sua qualidade (através de filtros e amplificadores, por exemplo), e depois novamente transformados em som mediante o uso de alto-fal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0">
              <a:spcBef>
                <a:spcPts val="30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360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elétrico fornecido pelo microfone pode ser decomposto nas suas várias freqüências (pode ser visto a partir da Transformada de Fourier), para serem trabalhadas individualmente e depois reunidas num sinal que é enviado para um alto-falante, sendo o som inicial alte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24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24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elétrico pode ser gravado, por exemplo numa fita magnética, para posterior reprodu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sintetizar um som através de uma soma ponderada de vários sinais elétricos de freqüências diferentes, criados por um gerador de sinais, e ouvir através de um alto-falante esse som artifici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e outras aplicações 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Hardware para Multimídi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Vídeo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e traseira: conector DB-15 fêmea, usado para a conexão com o mon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cas de vídeo de alto desempenho: normalmente dissipam muita potência elétrica - chip gráfico principal é em geral acoplado a um cooler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3168720" cy="266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51640" y="5445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vídeo AG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Vídeo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placas de vídeo com múltiplas fun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onex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e saída de vídeo composto e S-Vide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para ant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vídeo que possuem entradas são digitalizadoras de vídeo, ou sintonizadoras de TV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5445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vídeo AG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3097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1844640"/>
            <a:ext cx="619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Vídeo - Outras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leraçã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leraçã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mpressão de ví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odução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706400"/>
            <a:ext cx="4753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Som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a Sound Blaster PCI 1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é uma das placas de som mai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sar de compartilhar a memória principal com o processador, não produz queda de desempenho perceptível, já que as freqüências de áudio são muito menores que as freqüências nas quais o processador requisita dados da mem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61080" y="2917800"/>
            <a:ext cx="320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2838600" cy="1952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706400"/>
            <a:ext cx="5689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Som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a Sound Blaster Liv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m 3D com diversos efeitos de re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if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ector auxiliar com entradas e saídas digi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ibilidade com a Sound Blaste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as entradas sonoras adi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6 canais polifô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íntese por Wav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xer totalmente digital de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ctores da parte traseir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IN, MIC, Front Out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r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28880" cy="2028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706400"/>
            <a:ext cx="5689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Som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as Sound Blaster Audi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 com 64 canais polifônicos sintetizados po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dos inúmeros efeitos suportados: Audio Clean-up. Permite remover chiados e estalos resultantes de gravações de discos de vinil e fitas K-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 introduzido nesta placa: interface IEEE-1394 (firewir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e conectar câmeras, aparelhos de som e outros dispositivos de áudio, vídeo e imagem, baseados no barramento Fire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18960" y="1773360"/>
            <a:ext cx="79246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ransforma a corrente elétrica em vibração mecânica do ar – o so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 Fechine</cp:lastModifiedBy>
  <dcterms:modified xsi:type="dcterms:W3CDTF">2007-02-05T12:16:58Z</dcterms:modified>
  <cp:revision>134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