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CA9B-BAAB-4D0D-9265-BC6BDA2AF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7A6E-A38C-4EC4-8E30-26842E40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C640-B05C-4F9A-9C4E-4F5DD7F18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A77D-44F4-4A37-A5B6-DBF6FC115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463F-329C-44B5-93A9-2C9BA707F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BCD2-A0BF-4FE6-89A2-B567EE4C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5A6D-6B8D-480B-A643-68FDDCD2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5538-1F53-4958-8FDA-C9CC18F5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8E1E-7815-4DB0-B58D-83D7AB59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85DE-69ED-46E1-9B85-33DF9194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EB7B-946E-4C8B-8F40-C64FECF5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A8DE-479B-4B7D-877E-353AAE2C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24C0-AB65-4CF8-9FB8-47545B8B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DB52-2383-4FF1-899E-51D36244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AE15-6AC3-4D91-BE71-028499D6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F4F6-C7BA-4F61-8BCD-8AD9532E5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B458-4989-4353-A65B-7074A2AFF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739F-7D67-481A-BA8D-FB6DE91A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7A59-B325-4255-B027-000EBF9B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8C5A-3B60-4792-9292-CFAA18F2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2AB6-8B2F-4471-9BD0-902C9561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7F36-D80B-4159-A316-4FFA337F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F31B-A405-4E5B-B54A-B23C603C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1369-E59C-4D56-AFF7-7902E752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34F4-C410-4FBC-A255-04A186073427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108000" y="6308640"/>
            <a:ext cx="647640" cy="549000"/>
            <a:chOff x="108000" y="6308640"/>
            <a:chExt cx="647640" cy="549000"/>
          </a:xfrm>
        </p:grpSpPr>
        <p:sp>
          <p:nvSpPr>
            <p:cNvPr id="7" name=""/>
            <p:cNvSpPr/>
            <p:nvPr/>
          </p:nvSpPr>
          <p:spPr>
            <a:xfrm>
              <a:off x="108000" y="6748200"/>
              <a:ext cx="647640" cy="1094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400" spc="-1" strike="noStrike">
                  <a:solidFill>
                    <a:srgbClr val="ffcc00"/>
                  </a:solidFill>
                  <a:latin typeface="Verdana"/>
                </a:rPr>
                <a:t>DSC/CEEI/UFCG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69360" y="6482520"/>
              <a:ext cx="353520" cy="2404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flipV="1">
              <a:off x="138240" y="6308640"/>
              <a:ext cx="352440" cy="2412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1520" y="6491160"/>
              <a:ext cx="353520" cy="2404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138960" y="6315840"/>
              <a:ext cx="354600" cy="2415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"/>
          <p:cNvSpPr/>
          <p:nvPr/>
        </p:nvSpPr>
        <p:spPr>
          <a:xfrm>
            <a:off x="900000" y="0"/>
            <a:ext cx="0" cy="685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" name=""/>
          <p:cNvGrpSpPr/>
          <p:nvPr/>
        </p:nvGrpSpPr>
        <p:grpSpPr>
          <a:xfrm>
            <a:off x="0" y="0"/>
            <a:ext cx="900000" cy="6237360"/>
            <a:chOff x="0" y="0"/>
            <a:chExt cx="900000" cy="6237360"/>
          </a:xfrm>
        </p:grpSpPr>
        <p:grpSp>
          <p:nvGrpSpPr>
            <p:cNvPr id="14" name=""/>
            <p:cNvGrpSpPr/>
            <p:nvPr/>
          </p:nvGrpSpPr>
          <p:grpSpPr>
            <a:xfrm>
              <a:off x="0" y="0"/>
              <a:ext cx="900000" cy="3332160"/>
              <a:chOff x="0" y="0"/>
              <a:chExt cx="900000" cy="3332160"/>
            </a:xfrm>
          </p:grpSpPr>
          <p:pic>
            <p:nvPicPr>
              <p:cNvPr id="1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720720"/>
                <a:ext cx="900000" cy="760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511280"/>
                <a:ext cx="900000" cy="53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089080"/>
                <a:ext cx="900000" cy="90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" name="" descr=""/>
              <p:cNvPicPr/>
              <p:nvPr/>
            </p:nvPicPr>
            <p:blipFill>
              <a:blip r:embed="rId5"/>
              <a:srcRect l="7590" t="40539" r="7590" b="12190"/>
              <a:stretch/>
            </p:blipFill>
            <p:spPr>
              <a:xfrm>
                <a:off x="0" y="0"/>
                <a:ext cx="900000" cy="72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024000"/>
                <a:ext cx="900000" cy="308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0" name="" descr=""/>
            <p:cNvPicPr/>
            <p:nvPr/>
          </p:nvPicPr>
          <p:blipFill>
            <a:blip r:embed="rId7"/>
            <a:stretch/>
          </p:blipFill>
          <p:spPr>
            <a:xfrm>
              <a:off x="0" y="4005360"/>
              <a:ext cx="900000" cy="76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" descr=""/>
            <p:cNvPicPr/>
            <p:nvPr/>
          </p:nvPicPr>
          <p:blipFill>
            <a:blip r:embed="rId8"/>
            <a:stretch/>
          </p:blipFill>
          <p:spPr>
            <a:xfrm>
              <a:off x="0" y="4795920"/>
              <a:ext cx="90000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" name="" descr=""/>
            <p:cNvPicPr/>
            <p:nvPr/>
          </p:nvPicPr>
          <p:blipFill>
            <a:blip r:embed="rId9"/>
            <a:stretch/>
          </p:blipFill>
          <p:spPr>
            <a:xfrm>
              <a:off x="0" y="5373720"/>
              <a:ext cx="90000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" name="" descr=""/>
            <p:cNvPicPr/>
            <p:nvPr/>
          </p:nvPicPr>
          <p:blipFill>
            <a:blip r:embed="rId10"/>
            <a:srcRect l="7590" t="40539" r="7590" b="12190"/>
            <a:stretch/>
          </p:blipFill>
          <p:spPr>
            <a:xfrm>
              <a:off x="0" y="3284640"/>
              <a:ext cx="900000" cy="7207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1402920" cy="6857640"/>
            <a:chOff x="0" y="0"/>
            <a:chExt cx="1402920" cy="685764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1402560" cy="3663000"/>
              <a:chOff x="0" y="0"/>
              <a:chExt cx="1402560" cy="3663000"/>
            </a:xfrm>
          </p:grpSpPr>
          <p:pic>
            <p:nvPicPr>
              <p:cNvPr id="6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792000"/>
                <a:ext cx="1402560" cy="83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61400"/>
                <a:ext cx="1402560" cy="58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296440"/>
                <a:ext cx="1402560" cy="98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5"/>
              <a:srcRect l="7590" t="40539" r="7590" b="12190"/>
              <a:stretch/>
            </p:blipFill>
            <p:spPr>
              <a:xfrm>
                <a:off x="0" y="0"/>
                <a:ext cx="140256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324240"/>
                <a:ext cx="1402560" cy="3387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7" name="" descr=""/>
            <p:cNvPicPr/>
            <p:nvPr/>
          </p:nvPicPr>
          <p:blipFill>
            <a:blip r:embed="rId7"/>
            <a:stretch/>
          </p:blipFill>
          <p:spPr>
            <a:xfrm>
              <a:off x="0" y="4403880"/>
              <a:ext cx="1402920" cy="83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8"/>
            <a:stretch/>
          </p:blipFill>
          <p:spPr>
            <a:xfrm>
              <a:off x="0" y="5272920"/>
              <a:ext cx="1402920" cy="58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9"/>
            <a:stretch/>
          </p:blipFill>
          <p:spPr>
            <a:xfrm>
              <a:off x="0" y="5908320"/>
              <a:ext cx="1402920" cy="94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10"/>
            <a:srcRect l="7590" t="40539" r="7590" b="12190"/>
            <a:stretch/>
          </p:blipFill>
          <p:spPr>
            <a:xfrm>
              <a:off x="0" y="3611160"/>
              <a:ext cx="1402920" cy="79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324000" y="6165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6E0D-62F4-4715-AC2A-279AE5397673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95280" y="6121080"/>
            <a:ext cx="720720" cy="620640"/>
            <a:chOff x="395280" y="6121080"/>
            <a:chExt cx="720720" cy="620640"/>
          </a:xfrm>
        </p:grpSpPr>
        <p:sp>
          <p:nvSpPr>
            <p:cNvPr id="76" name=""/>
            <p:cNvSpPr/>
            <p:nvPr/>
          </p:nvSpPr>
          <p:spPr>
            <a:xfrm>
              <a:off x="395280" y="661788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6160" y="631800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30200" y="6120720"/>
              <a:ext cx="392400" cy="272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8680" y="632736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430920" y="613044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908000" y="314172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Hardware/Softw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para Multimí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(Parte 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a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laca de Vídeo - A imagem e o mon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284720" y="2276640"/>
            <a:ext cx="2016000" cy="159516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971640" y="4070520"/>
            <a:ext cx="3816360" cy="2608200"/>
            <a:chOff x="971640" y="4070520"/>
            <a:chExt cx="3816360" cy="2608200"/>
          </a:xfrm>
        </p:grpSpPr>
        <p:pic>
          <p:nvPicPr>
            <p:cNvPr id="146" name="" descr=""/>
            <p:cNvPicPr/>
            <p:nvPr/>
          </p:nvPicPr>
          <p:blipFill>
            <a:blip r:embed="rId2"/>
            <a:stretch/>
          </p:blipFill>
          <p:spPr>
            <a:xfrm>
              <a:off x="971640" y="4070520"/>
              <a:ext cx="381636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258920" y="5732280"/>
              <a:ext cx="3297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Em </a:t>
              </a: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 o processador é encaixado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Em </a:t>
              </a: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 - encaixe das memórias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Em </a:t>
              </a: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, a placa de vídeo (slot AGP)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 mostra os slots PCI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 flipH="1">
            <a:off x="3059280" y="3213000"/>
            <a:ext cx="1441440" cy="1440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84720" y="3141720"/>
            <a:ext cx="136692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04256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racterização do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ardware para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516720" y="4005360"/>
            <a:ext cx="204768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427640" y="2637000"/>
            <a:ext cx="3995640" cy="39956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racterização do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ardware para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74170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laca de S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spositivo responsável por enviar os sons gerados por dispositivos de áudio para o comput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ound Blast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foi uma das primeiras placas de som no mer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5580000" y="2631960"/>
            <a:ext cx="3419280" cy="3101760"/>
            <a:chOff x="5580000" y="2631960"/>
            <a:chExt cx="3419280" cy="3101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580000" y="2631960"/>
              <a:ext cx="3419280" cy="31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5580000" y="4647960"/>
              <a:ext cx="107928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738920" y="4647960"/>
              <a:ext cx="115236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racterização do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ardware para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770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laca de S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onentes/característic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versor A/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versor D/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60120" indent="-13716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intetizador F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60120" indent="-13716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ART MI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xa de amostrag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gitalização com 8 ou 16 b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gitalização em mono ou estére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ix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racterização do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ardware para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77774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laca de Som - Conversor A/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versor A/D (Analógico-Digital): Responsável pela digitalização dos sinais sonor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geral, quando uma digitalização é feita, os dados ficam armazenados na memória principal (RAM), e tem-se a condição para gerar um arquivo com os result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16000" y="4221000"/>
            <a:ext cx="777708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laca de Som - Conversor D/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4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versor D/A (Digital-Analógico) - recebe os dados digitalizados de sons e reconstitui os sinais analógicos origina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pois de passar pelo Mixer e pelo amplificador de áudio, os sinais analógicos são enviados para as caixas de s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racterização do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ardware para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5640" y="1844280"/>
            <a:ext cx="7488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laca de Som - MI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placas de som possuem, além dos circuitos para digitalização de áudio e reprodução de sons digitalizados (conversores A/D e D/A), um circuito especial capaz de "imitar" com grande perfeição, os sons dos instrumentos music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IDI - Musical Instruments Digital Interfac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e circuito é composto por dois blo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ntetizador F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ART-MI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racterização do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ardware para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844280"/>
            <a:ext cx="7488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laca de Som - Sintetizador F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um circuito que imita os sons dos instrumentos musicais, a partir de simples códigos de controle que indicam o tipo de instrumento, a nota musical, a duração, volume,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ralmente, as placas de som possuem sintetizadores simples (Exemplo: Yamaha OPL2 e o OPL3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placas mais sofisticadas utilizam outro método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ave Table Synthesi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, usando uma memória ROM ou RAM R/W própria, na qual existem amostras digitalizadas de instrumentos musicais verdadeir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racterização do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ardware para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5640" y="1844280"/>
            <a:ext cx="7488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laca de Som - UART MI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uma espécie de interface serial que permite à placa de som comunicar-se com instrumentos MIDI (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ical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strument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gital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terfac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e recurso é usado principalmente para a composição de músicas com o auxílio do comput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mite que sejam ligados ao computador instrumentos como teclados MIDI e guitarras MID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racterização do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ardware para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15640" y="1844280"/>
            <a:ext cx="7488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laca de Som - Taxa de amostr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âmetro que está diretamente ligado à qualidade do sinal sonoro digitaliz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"Número de amostras feitas no sinal analógico a cada segundo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que seja possível captar os sons mais agudos, é preciso usar taxas de amostragem bem altas. Para obter um som digitalizado de alta fidelidade, são usadas, por exemplo, 44.000 amostras por segundo (taxa de amostragem = 44 kHz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aceitável usar taxas de amostragem menores, desde que seja tolerável um som de menor qualidade (em torno de 10 kHz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racterização do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ardware para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15640" y="1844280"/>
            <a:ext cx="7488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laca de Som - Digitalização com 8 ou 16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ntigamente as placas de som usavam conversores A/D e D/A de 8 bi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efeitos práticos, o resultado era uma distorção sonora da ordem de 0,5%, manifestada na forma de um ruído que acompanhava o so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lacas de som modernas possuem conversores de pelo menos 16 bits, e são muito mais precisas. O ruído também existe em placas desse tipo, mas é praticamente imperceptível ao ouvido huma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racterização do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ardware para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5640" y="1988640"/>
            <a:ext cx="77770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laca de Som - Digitalização em mono ou estére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placas de som atuais possuem dois canais sonoros independentes, podendo portanto operar em estéreo e mo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a característica (estéreo), em uma digitalização em 16 bits feita com uma taxa de 44 kHz, resulta em um som com a mesma qualidade dos CDs de mús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1116000" y="177336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Hardware para Multimí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laca de Ví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laca de S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racterização do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ardware para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5640" y="1773000"/>
            <a:ext cx="7488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laca de Som -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i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placas de som podem captar sons vindos de várias entradas analógicas. Cada um desses sons, pode ser digitalizado ou enviado para os alto-falan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entradas analógicas são: CD-Áudio, Microfone e Line I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través do circuit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ixe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os sons podem ser reunidos seletivam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Mixer também é capaz de enviar o som para as caixas (passando pelo amplificador existente na placa de som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sons também podem ser provenientes do Sintetizadores FM e Conversor D/A, por exemplo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racterização do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ardware para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5640" y="1628280"/>
            <a:ext cx="7488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laca de Som -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stereofonia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52880" y="6384960"/>
            <a:ext cx="37818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Fonte: http://www.filmebase.pt/Aplic/estereo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843280" y="2565360"/>
            <a:ext cx="3241440" cy="3240000"/>
            <a:chOff x="2843280" y="2565360"/>
            <a:chExt cx="3241440" cy="3240000"/>
          </a:xfrm>
        </p:grpSpPr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2843280" y="2565360"/>
              <a:ext cx="3240000" cy="32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2916360" y="4508640"/>
              <a:ext cx="31683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imagem estereofôn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racterização do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ardware para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15640" y="1773000"/>
            <a:ext cx="7488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laca de Som -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stereofonia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placas de som são capazes de reproduzir sons mono e estéreo. Para isso, são utilizados 2 canais de áudio independen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feito da estereofonia: possibilita obter-se a sensação de que os sons são gerados no mesmo recinto onde o computador e o usuário est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desvantagem neste caso, é que o espaço necessário para armazenar esses sons será pelo menos duas vezes mai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racterização do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ardware para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5640" y="1773000"/>
            <a:ext cx="7488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laca de Som -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stereofonia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som considerado de melhor qualidade é aquele obtido com uma amostragem de 44 kHz, 16 bits e estére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sa é a configuração usada nos CDs de mús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da segundo de som neste caso, usa 170 KB para seu armazenamen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som de menor qualidade é aquele que usa uma configuração de digitalização feita a 8 kHz, com 8 bits e em mo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da segundo de som ocupa 8 KB e se assemelha ao som de uma voz no telefone ou uma rádio 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racterização do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ardware para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5640" y="1699920"/>
            <a:ext cx="7488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laca de S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esar das placas de som serem produzidas por diversos fabricantes seguindo uma padrão, diferenças podem ser encontradas em vários modelos, tais co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figuração interna (especificações técnicas da plac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sposição de entradas, tanto na parte traseira como na parte inter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istem placas que podem ser instaladas em slots ISA (placas antigas) e PCI (placas mais atuai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lgumas placas são tão sofisticadas que vêm com uma painel de controle que pode ser encaixado na parte frontal do gabinete do computad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racterização do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ardware para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2565360"/>
            <a:ext cx="756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Próximos passos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Os demais compon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33200" y="115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racterização do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ardware para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2560" y="1628280"/>
            <a:ext cx="7921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laca de Ví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spositivo responsável por enviar as imagens geradas no computador para a tela do moni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lementos/característ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arr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solu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quema d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drão (VGA, SVG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mória de Ví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2843280" y="4195800"/>
            <a:ext cx="4608360" cy="2547360"/>
            <a:chOff x="2843280" y="4195800"/>
            <a:chExt cx="4608360" cy="254736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3419640" y="4195800"/>
              <a:ext cx="3190680" cy="22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843280" y="6284160"/>
              <a:ext cx="460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laca de vídeo 3D da Asus, modelo Extreme AX800XT PE/2DHTV, que utiliza o barramento PCI Express 16X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33200" y="115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racterização do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ardware para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79214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laca de Ví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rramento Atua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CI Express (PCI-E), substituto dos barramen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CI (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eripheral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omponent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nterconnec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GP (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ccelerated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raphics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padrão PCI-E trabalha com até 16X, (4000 MB/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racterização do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ardware para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71640" y="1557000"/>
            <a:ext cx="79214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laca de Vídeo - Resol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conjunto de linhas formadas por pixels na tela do monitor, considerando as posições horizontais e vertica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solução: 1024x768, 1024 pixels na horizontal e 768 na vertic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1440" indent="-1620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anto maior for a quantidade de pixels, melhor será a definição da imagem na te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144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resolução pode ser configurada através do computador, via softwa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1440" indent="-1620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necessário que a placa de vídeo tenha os drivers corretos instal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1440" indent="-1620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preciso verificar a resolução que a placa de vídeo e o monitor suporta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1440" indent="-1620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soluções comuns: 800x600, 1024x768 e 1280x102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racterização do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ardware para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7770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laca de Vídeo - Esquema de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úmero de cores que cada placa de vídeo suporta: depende do número de bits/pix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laca que suporta 256 cores: 8 bits/pix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binações mais comuns em placas de vídeo: 16 bits/pixel (65.536 cores -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Hi Colo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, 24 bits (16.777.216 cores) e 32 bits (4.294.967.296 cores -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True Color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racterização do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ardware para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71280" y="1483920"/>
            <a:ext cx="77770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laca de Vídeo - O padrão VGA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GA (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de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aphic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ray): padrão que representa a resolução do vídeo mais as cores suportad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magens com resolução de 640x480 e 256 cores e 800x600 com 65.536 co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patível com padrões mais antig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71640" y="4005360"/>
            <a:ext cx="77770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laca de Vídeo - O padrão SVGA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VGA (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per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de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aphic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ra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drão encontrado em inúmeras placas de vídeo, capaz de representar várias resoluções (mais comuns as de 800x600 e 1024x768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VGA suporta praticamente todas as quantidades de cores existentes, inclusive com 32 bi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racterização do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ardware para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71280" y="1628280"/>
            <a:ext cx="77770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laca de Vídeo - Memória de ví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lacas de vídeo SVGA: pelo menos 1 MB de memór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ntigas placas (padrão VGA): 256 KB de memória, com resolução máxima de 800x600 com 65.536 c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tualmente: uma placa de vídeo com pelo menos 32 MB de memória (ou bem superior), para que seja possível rodar aplicações cotidianas com um mínimo de conforto visu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tipos de memória usadas costumam ser as encontradas para uso pelo computador (memórias SDRAM, DDR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1440" indent="-1620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porciona menos cus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racterização do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ardware para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770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laca de Vídeo - A imagem e o mon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ases necessári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Prim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- o processador envia os dados ao barramento utilizado pelo vídeo (ISA, PCI ou AGP). Estes dados chegam ao chipset da placa de vídeo e lá são process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Segund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- o chipset envia os dados processados para a memória do vídeo, para guardar a imagem que será apresentada no moni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Terc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- a imagem é transmitida para o conversor digital/analógico (DAC -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Digital Analog Convert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, que converterá os dados da imagem (até então em formato digital) para um formato analógico, suportado pelo moni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7-01-29T02:17:28Z</dcterms:modified>
  <cp:revision>117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