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F47-6124-466F-B709-823F5820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670-E004-4DFD-BE00-8F26932F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592-7EEA-4EFB-A435-F3A44443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306-531C-4036-80B5-940AE19C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EED2-49C4-4639-95C9-03FA576F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3460-793F-466B-8E73-F7074CA8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7395-DC3B-4A39-B8C2-FF5E67C4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E143-23E3-49D0-8735-837D9095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9EBC-E20E-4301-8B8C-7B4422D5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3BAD-CD5B-4C3F-BCD7-9B8A6F70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B27A-B312-473D-86CA-44300E37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8D2-9A3A-44AC-BB71-4F4DBC91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439A-AD26-4DDE-A10D-5E338A65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3D56-C402-4FD3-BCED-44D0D759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9A4D-43B6-4470-951D-93B91C6A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9B3B-DFB2-4499-8C04-204B2BDC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6623-2DD8-4D7C-B995-5A803B48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579-04FA-4F5E-9D13-F5028931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17A-76C4-4197-A5FD-F5F7ABA4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E15-1A3B-49AF-80D5-5308C35D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591-D916-40B0-B261-A20DEE45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1BC-2917-46EF-A2FE-9CC813B5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734-FEE9-455E-B2C7-3106E6A7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195-AE62-4E22-A783-3CFF3C14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136C-7F30-4DE0-B3FB-4C9D8479B286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7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rcRect l="8639" t="0" r="54838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" name=""/>
          <p:cNvGrpSpPr/>
          <p:nvPr/>
        </p:nvGrpSpPr>
        <p:grpSpPr>
          <a:xfrm>
            <a:off x="108000" y="6192720"/>
            <a:ext cx="720720" cy="620640"/>
            <a:chOff x="108000" y="6192720"/>
            <a:chExt cx="720720" cy="620640"/>
          </a:xfrm>
        </p:grpSpPr>
        <p:sp>
          <p:nvSpPr>
            <p:cNvPr id="15" name=""/>
            <p:cNvSpPr/>
            <p:nvPr/>
          </p:nvSpPr>
          <p:spPr>
            <a:xfrm>
              <a:off x="108000" y="6689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98880" y="6389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flipV="1">
              <a:off x="142560" y="6192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01400" y="6399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flipV="1">
              <a:off x="143280" y="6201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754E-FA01-4F60-9491-7013F47D6FB9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22200" y="6192720"/>
            <a:ext cx="720720" cy="620640"/>
            <a:chOff x="322200" y="6192720"/>
            <a:chExt cx="720720" cy="620640"/>
          </a:xfrm>
        </p:grpSpPr>
        <p:sp>
          <p:nvSpPr>
            <p:cNvPr id="61" name=""/>
            <p:cNvSpPr/>
            <p:nvPr/>
          </p:nvSpPr>
          <p:spPr>
            <a:xfrm>
              <a:off x="322200" y="6689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3080" y="6389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357120" y="6192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5600" y="6399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357840" y="6201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rcRect l="8639" t="0" r="54838" b="0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324000" y="6092640"/>
            <a:ext cx="720720" cy="620640"/>
            <a:chOff x="324000" y="6092640"/>
            <a:chExt cx="720720" cy="620640"/>
          </a:xfrm>
        </p:grpSpPr>
        <p:sp>
          <p:nvSpPr>
            <p:cNvPr id="68" name=""/>
            <p:cNvSpPr/>
            <p:nvPr/>
          </p:nvSpPr>
          <p:spPr>
            <a:xfrm>
              <a:off x="324000" y="658944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4880" y="628956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358920" y="609228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7400" y="629892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359640" y="610200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908000" y="328464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onceitos Bás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(Parte 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e de comunicação de dados que permite o transporte de múltiplos tipos de 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Rede Digital de Serviços Integrados (ISD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lassificação dos tipos de 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s Discretas x Contínu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ídias discretas (estáticas ou em blo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tas por itens de informação independentes do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ídia com dimensões unicamente espa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s, imagens, gráf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não faz parte da semântica da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ownloa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a operação de recuperação de uma mídia discr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áfego em raj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lassificação dos tipos de 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s contínuas (dinâmicas ou dependentes do tem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tempo ou a dependência temporal entre os itens de informação fazem parte da própria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ídia com dimensões tempo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udio, vídeos, animações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faz parte da semântica da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 dependência temporal não for respeitada, o significado pode ser alte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tream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um termo usado para indicar que uma mídia contínua está sendo enviada e apresentada diretamente no destino à medida que é recebida (em tempo re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áfego CBR ou V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8172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lasses de 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Multimídi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tand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tilizam apenas recursos presentes no sistema local para prover sistemas multi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 local fornece todo o poder de processamento necess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quipado com os dispositivos de captura e apres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crofones, câmeras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endo todas informações loc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utiliza potencialidades de armazenamento rem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8172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lasses de 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Multimídi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tand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lic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einamento baseado em compu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ducação baseada em computador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 de Autoria Multimí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8172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lasses de 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Multimídia Distribuí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cisam de infra-estrutura de comun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itas vezes o objetivo é fornecer serviços de comunicação à distâ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deoconferência, redes de distribuição de pacotes de áudio e vídeo, e-mail multimí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ção de modelos cliente-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ções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tandalon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odem ser de alto custo para armazenamento de inform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ção de servidores permite o compartilhamento e armazenamento de inform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33200" y="115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óximos pas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26310" r="0" b="0"/>
          <a:stretch/>
        </p:blipFill>
        <p:spPr>
          <a:xfrm>
            <a:off x="1187280" y="2205000"/>
            <a:ext cx="74170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1773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ificação dos Sistemas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Tipos de 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Percep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Re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Armaze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Transmi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ídia de Percep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Percep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os humanos percebem informa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ão, audição, olfato, paladar, 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Re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a informação é codificada em um computad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xto, imagem vetorial, imagem matricial, áudio,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ídia de Apresent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meio é utilizado como dispositivo de saída ou entrada de informações em um computad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de entrada e 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aída: monitores, caixas de som, pa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ada: teclados, câmeras e microf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Armaze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nde a informação é armazen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cos magnéticos, discos ópticos, fitas magnéticas, pa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ídia de Transmiss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de Transmi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meio é utilizado para transmitir da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ios físicos (cabos metálicos, fibras ópticas, ondas de rá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licação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ão ou conjunto de funções que suportam a provisão de um serviço multimídia específico para o usuário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áudio-videocon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cnologia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junto de campos tecnológicos específicos que habilitam aplicações multi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.: compressão de ví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lataforma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utador equipado com hardware multimídia capaz de suportar software de aplicações multimí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PC com placas de áudio e vídeo, CD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Plata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ega: onde a aplicação será execu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volvimento: onde a aplicação será desenvol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toria: Programação e Integ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iação do material: Som, Imagem, Animação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lataforma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mílias de Platafo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difun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licativos - dispositivos - drives - S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drão MPC/MP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 poder de process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erramentas mais sofistic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ficuldade em padron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cinto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iderada a melhor e mais rica em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to cu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6-12-18T16:14:16Z</dcterms:modified>
  <cp:revision>58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