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499-5DCC-43CC-AE34-71851735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527-6E71-40FF-86FB-3283452F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F40-7C58-4C51-A2CD-A1B19BDE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EB8-00D9-487F-9A98-D4612127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052-0B96-4C88-AC4C-4A8B4FF3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AAD-1F26-4914-9B29-3EEB6B3C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252-D924-4FE3-AC6B-F5B8A06E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0098-D118-4B1B-9B8B-615D7CC4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0689-548F-4A31-9F7C-0F1A6B05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0C62-536E-4D4C-AF69-2B0BEE9C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92B3-E818-4A6D-8B00-E60A578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863-AF28-48A0-9EBE-7921864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B41-2194-4C74-BFAD-E1D8A98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723D-C184-4183-9231-8231B665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590-8603-41AE-BF80-DF405D4A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98C-F6D8-481C-BA58-29773F55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559-6FBC-49B0-9A4D-352F2F08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264-C116-4CB2-8179-A8188660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3BB-7B91-4EA3-B579-4480D026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F45-74B6-4251-BBBA-E08CE24D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D63-9606-4FF4-A535-DD9978C7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784-290C-4247-B8DB-0B3DCFA3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C0C-25DF-49E7-A584-B7B6749C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1A2-194B-4610-B409-8184766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4B7-1050-4BB9-9E82-121581D49D5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" name=""/>
          <p:cNvGrpSpPr/>
          <p:nvPr/>
        </p:nvGrpSpPr>
        <p:grpSpPr>
          <a:xfrm>
            <a:off x="108000" y="6192720"/>
            <a:ext cx="720720" cy="620640"/>
            <a:chOff x="108000" y="6192720"/>
            <a:chExt cx="720720" cy="620640"/>
          </a:xfrm>
        </p:grpSpPr>
        <p:sp>
          <p:nvSpPr>
            <p:cNvPr id="15" name=""/>
            <p:cNvSpPr/>
            <p:nvPr/>
          </p:nvSpPr>
          <p:spPr>
            <a:xfrm>
              <a:off x="1080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988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flipV="1">
              <a:off x="14256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014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flipV="1">
              <a:off x="14328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5E2A-7128-4F24-A2B3-8E7430231609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1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rcRect l="8639" t="0" r="54838" b="0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24000" y="6092640"/>
            <a:ext cx="720720" cy="620640"/>
            <a:chOff x="324000" y="6092640"/>
            <a:chExt cx="720720" cy="620640"/>
          </a:xfrm>
        </p:grpSpPr>
        <p:sp>
          <p:nvSpPr>
            <p:cNvPr id="68" name=""/>
            <p:cNvSpPr/>
            <p:nvPr/>
          </p:nvSpPr>
          <p:spPr>
            <a:xfrm>
              <a:off x="324000" y="658944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4880" y="628956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58920" y="6092280"/>
              <a:ext cx="39240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400" y="629892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359640" y="610200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908000" y="328464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Conceit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evolução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meir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ticulação de Várias Linguagens e Míd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gund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ação de uma Nova Mídia e de uma Nova  Lingu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rceiro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iação de uma Nova Forma de Aprender, Trabalhar, Comunicar-se, Divertir-se, …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meiro Momento: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ticulação de Várias Linguagens e Míd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 Alfa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o Li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Estáticas (Fotograf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 (Efeitos Especiais, Discos, Voz, Rádi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ns Dinâmicas (Vídeo, Cinema, 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ção de Várias Mídi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Impre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vro, Revista, Jorna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Sono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co, Rádi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Visuais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ráfico, Desenho, Pintura, Fotografia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ios de Comunicação Visuais Dinâ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imação, Cinema, Vídeo, TV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306600" y="4043520"/>
            <a:ext cx="335304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ossibilidad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o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o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ização da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Um Bit é um B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gundo Moment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Criação de uma Nova 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io de comunicação multimídia que está encontrando uma linguagem: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ipertex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 Multimídia, Hipertexto é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Hipermíd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tos para o século XXI obtidos no final de século XX (Rádio e Vídeo na Re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12000" cy="2577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Tipos de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252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i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es são convertidos para uma representação com um número fixo de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CII, EBCDIC, Uni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gitação, O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oco bidimensional de pixel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icture eleme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ixel é representado por um número fixo de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emplos: RGB, Y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Im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âmera Fotográfica, Scann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Tipicamente Ana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igital, quando necessário para integração com mídias digitais, através de digitalização do Sinal Analógico por amostr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Á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crof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 Tipicamente Ana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ura d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âmeras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77336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eve Histó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s de 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a Informação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a Informação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ídias, quando digitalizadas, geram uma quantidade de informação relativamente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ssã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Á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Obs.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nal analógico perde qualidade como resultado de distorções do sinal. Com um sinal digital tal fenômeno acarreta erro, com possível corr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37447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gitalização da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4248360" cy="45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sos fundamentais para a digitalização de informações analógic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stragem/Discret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mostras discretas representam a informação contín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z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ntiz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s amostras são convertidas à forma numé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967280" y="260280"/>
            <a:ext cx="4176360" cy="6165720"/>
            <a:chOff x="4967280" y="260280"/>
            <a:chExt cx="4176360" cy="61657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239440" y="260280"/>
              <a:ext cx="3902040" cy="48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rcRect l="0" t="0" r="3908" b="3780"/>
            <a:stretch/>
          </p:blipFill>
          <p:spPr>
            <a:xfrm>
              <a:off x="4967280" y="3618720"/>
              <a:ext cx="4176360" cy="280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1187280" y="6237360"/>
            <a:ext cx="3816360" cy="33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Lucida Sans Unicode"/>
              </a:rPr>
              <a:t>Importante: Teorema de Nyq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36360" y="1844640"/>
            <a:ext cx="914400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35120" y="1989000"/>
            <a:ext cx="7329600" cy="3674880"/>
            <a:chOff x="1635120" y="1989000"/>
            <a:chExt cx="7329600" cy="3674880"/>
          </a:xfrm>
        </p:grpSpPr>
        <p:grpSp>
          <p:nvGrpSpPr>
            <p:cNvPr id="182" name=""/>
            <p:cNvGrpSpPr/>
            <p:nvPr/>
          </p:nvGrpSpPr>
          <p:grpSpPr>
            <a:xfrm>
              <a:off x="1979640" y="2301840"/>
              <a:ext cx="2017800" cy="2840040"/>
              <a:chOff x="1979640" y="2301840"/>
              <a:chExt cx="2017800" cy="284004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79640" y="2301840"/>
                <a:ext cx="2017800" cy="28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 txBox="1"/>
              <p:nvPr/>
            </p:nvSpPr>
            <p:spPr>
              <a:xfrm>
                <a:off x="1979640" y="2301840"/>
                <a:ext cx="2017800" cy="28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384800" y="2316240"/>
              <a:ext cx="1987560" cy="2840040"/>
              <a:chOff x="4384800" y="2316240"/>
              <a:chExt cx="1987560" cy="2840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4800" y="2316240"/>
                <a:ext cx="1987560" cy="284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 txBox="1"/>
              <p:nvPr/>
            </p:nvSpPr>
            <p:spPr>
              <a:xfrm>
                <a:off x="4384800" y="2316240"/>
                <a:ext cx="1987560" cy="28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6527160" y="5132520"/>
              <a:ext cx="23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Os pixels são convertid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à forma numé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0600" y="5138640"/>
              <a:ext cx="263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As amostras discretas (pixel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são ponde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35120" y="5143680"/>
              <a:ext cx="256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A imagem é amostrada fac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à matriz de pix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9160" y="1989000"/>
              <a:ext cx="145332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AMOSTRAG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046240"/>
              <a:ext cx="150516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QUANTIZ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1920" y="1989000"/>
              <a:ext cx="14320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Lucida Sans Unicode"/>
                </a:rPr>
                <a:t>PONDER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10400" y="2343240"/>
              <a:ext cx="2254320" cy="2800440"/>
              <a:chOff x="6710400" y="2343240"/>
              <a:chExt cx="2254320" cy="2800440"/>
            </a:xfrm>
          </p:grpSpPr>
          <p:pic>
            <p:nvPicPr>
              <p:cNvPr id="1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10400" y="2343240"/>
                <a:ext cx="2254320" cy="28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 txBox="1"/>
              <p:nvPr/>
            </p:nvSpPr>
            <p:spPr>
              <a:xfrm>
                <a:off x="6710400" y="2343240"/>
                <a:ext cx="2254320" cy="2800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171360" y="2276640"/>
            <a:ext cx="1808280" cy="3481200"/>
            <a:chOff x="171360" y="2276640"/>
            <a:chExt cx="1808280" cy="3481200"/>
          </a:xfrm>
        </p:grpSpPr>
        <p:grpSp>
          <p:nvGrpSpPr>
            <p:cNvPr id="198" name=""/>
            <p:cNvGrpSpPr/>
            <p:nvPr/>
          </p:nvGrpSpPr>
          <p:grpSpPr>
            <a:xfrm>
              <a:off x="171360" y="2276640"/>
              <a:ext cx="1808280" cy="2922120"/>
              <a:chOff x="171360" y="2276640"/>
              <a:chExt cx="1808280" cy="2922120"/>
            </a:xfrm>
          </p:grpSpPr>
          <p:pic>
            <p:nvPicPr>
              <p:cNvPr id="1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360" y="2276640"/>
                <a:ext cx="1808280" cy="29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 txBox="1"/>
              <p:nvPr/>
            </p:nvSpPr>
            <p:spPr>
              <a:xfrm>
                <a:off x="171360" y="2276640"/>
                <a:ext cx="1808280" cy="292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360" rIns="90360" tIns="44280" bIns="442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5760" y="5237640"/>
              <a:ext cx="153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Lucida Sans Unicode"/>
                </a:rPr>
                <a:t>Imagem natu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3454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igitalização da 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o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lefonia, Voice-mai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ferência de voz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Pess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ail, 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xto e Imag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oz e Ví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eoconferênc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mídia mail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plicações Multimí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12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Int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WW, Teleshopp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ban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ções de La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sob demanda, Televisão Interativ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42640" y="1989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ec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D-ROM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ites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porativo/Empresarial: Demonstrações e Apresent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ncos de dado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ções (jog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érci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inter-pessoal (videoconferência, reconhecimento e síntese de voz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95640" y="5373720"/>
            <a:ext cx="4191120" cy="5335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Mídias eletrônicas </a:t>
            </a:r>
            <a:r>
              <a:rPr b="1" i="1" lang="pt-BR" sz="2200" spc="-1" strike="noStrike">
                <a:solidFill>
                  <a:srgbClr val="000099"/>
                </a:solidFill>
                <a:latin typeface="Arial"/>
              </a:rPr>
              <a:t>versus</a:t>
            </a:r>
            <a:r>
              <a:rPr b="1" lang="pt-BR" sz="2200" spc="-1" strike="noStrike">
                <a:solidFill>
                  <a:srgbClr val="000099"/>
                </a:solidFill>
                <a:latin typeface="Arial"/>
              </a:rPr>
              <a:t> mídias convenciona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ita (textos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o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áficos/Imagen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v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s e Animaçõe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inema, Televi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ns e Música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á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Mídias eletrôn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Imagens e 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-Co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Interação com o usu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Sistemas multimídia requerem alto desempenho - desaf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lume de infor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 de inform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utenção do fluxo em tempo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álculos em tempo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cilidade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Sol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mais pot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s mai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s de compres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écnicas de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arcos da Evolução da Tecnologia da Inform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gramas armazenados em memória (Von Neuman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nguagens simbólicas de programação (FORTRA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integrados (chip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utadores e sistemas multiusuár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rminais gráfic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processadores CISC e RIS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stemas de armazenamento óp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des de computadores/satélites de comun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rfaces gráficas de usuários/interatividade (Window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cc00"/>
                </a:solidFill>
                <a:latin typeface="Arial"/>
              </a:rPr>
              <a:t>Multimíd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 World Wide W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er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blemas Estudad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, representação e apresentação de objetos multimídia (áudio, imagens, animações e víde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e recuperação de objeto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ão de objetos multimídia em forma dig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é ~199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ucos  ouviram  falar 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~ 1990 até ~199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via-se falar, mas ninguém sabia o que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~1994 em di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do o mundo pensa que sa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nnevar Bush - Sistema Memex (19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1598400" cy="2228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4483080" cy="33656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atos a Destacar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grafia Dadaísta (1923)                        El Lissitsky (192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1814760" cy="23619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187440" cy="25210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1430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1280" y="1684080"/>
            <a:ext cx="7715160" cy="360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gei Eisenstein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ctor Vasarely (19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343400" cy="19112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1560600" cy="2286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scia Reichardt (1968)            Richard B. Fuller (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125440" cy="27432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219640" y="2349360"/>
            <a:ext cx="2057400" cy="32641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rte -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ases da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1 (Onte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cro standalone com Placa de Som e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2 (Hoj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des Multimídia, Multi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ase 3 (Amanhã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lidade Virtual: Redes Multimídia com periféricos espe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581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Joseana M.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6-12-18T11:44:27Z</dcterms:modified>
  <cp:revision>5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