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E8AE-2F0E-4632-B174-E56C3926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8BB-6254-485B-9109-B6B3F835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B79-898B-4AFE-86AC-6CF8A6EA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E789-9587-4E01-B16C-ACAD3F1C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A219-64CA-4A31-89F6-3A017C75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0D95-C576-40C9-9BA4-E04A55D3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226E-D41C-4F31-ACCC-D9B25F6C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F10FD-622D-472F-9AC0-C4754B00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777A-A357-4C50-82D2-CE203313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7E83-D021-4158-88B9-43FEBA25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DDAD-3D18-42AA-90E8-66A0833C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C83-FB18-407E-B409-B54AB017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8F58-5FF9-4808-AB37-350A1638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FD86-DB14-4CC4-A944-94E29380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2259-E2BC-4D48-881C-D7F46443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B1A9-8507-408C-97CB-5AF9C8E5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EEC6-397F-489B-B6B5-6CD5FF21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140-4DC7-464D-8101-7AD8845F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BA7-4BC2-407D-AFED-B4B79AD1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AC3-A8E0-404B-A233-D40E3297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971280" y="20160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2DD3-B1FA-4A99-9350-40792878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B191-DF5E-4F0A-B318-3FC1AE18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856E-5259-4143-820D-90A6355D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B8DE-5EE0-406B-887C-F83569F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0711-75C5-47C6-8728-0B25F09D01D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08000" y="6165720"/>
            <a:ext cx="720720" cy="620640"/>
            <a:chOff x="108000" y="6165720"/>
            <a:chExt cx="720720" cy="620640"/>
          </a:xfrm>
        </p:grpSpPr>
        <p:sp>
          <p:nvSpPr>
            <p:cNvPr id="7" name=""/>
            <p:cNvSpPr/>
            <p:nvPr/>
          </p:nvSpPr>
          <p:spPr>
            <a:xfrm>
              <a:off x="1080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988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flipV="1">
              <a:off x="1425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14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1432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2120760"/>
            <a:ext cx="900000" cy="20671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00000" cy="21337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900000" cy="201636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900000" y="0"/>
            <a:ext cx="0" cy="685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932360" y="1951200"/>
          <a:ext cx="3183120" cy="205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951200"/>
                    <a:ext cx="318312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351C-12E4-49ED-B024-82E7D6C537AA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28600" y="2924280"/>
            <a:ext cx="8159760" cy="73080"/>
            <a:chOff x="228600" y="2924280"/>
            <a:chExt cx="8159760" cy="73080"/>
          </a:xfrm>
        </p:grpSpPr>
        <p:sp>
          <p:nvSpPr>
            <p:cNvPr id="59" name=""/>
            <p:cNvSpPr/>
            <p:nvPr/>
          </p:nvSpPr>
          <p:spPr>
            <a:xfrm>
              <a:off x="228600" y="2927520"/>
              <a:ext cx="4199040" cy="698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356000" y="2923920"/>
              <a:ext cx="4032360" cy="7128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2200" y="6192720"/>
            <a:ext cx="720720" cy="620640"/>
            <a:chOff x="322200" y="6192720"/>
            <a:chExt cx="720720" cy="620640"/>
          </a:xfrm>
        </p:grpSpPr>
        <p:sp>
          <p:nvSpPr>
            <p:cNvPr id="62" name=""/>
            <p:cNvSpPr/>
            <p:nvPr/>
          </p:nvSpPr>
          <p:spPr>
            <a:xfrm>
              <a:off x="322200" y="6689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3080" y="6389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357120" y="6192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5600" y="6399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57840" y="6201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7" name=""/>
          <p:cNvGraphicFramePr/>
          <p:nvPr/>
        </p:nvGraphicFramePr>
        <p:xfrm>
          <a:off x="826920" y="1917720"/>
          <a:ext cx="3024360" cy="201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917720"/>
                    <a:ext cx="302436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063960" y="3789360"/>
          <a:ext cx="2871720" cy="2011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63960" y="3789360"/>
                    <a:ext cx="28717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320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APRESENTAÇÃO DA DISCIPL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1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1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9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1440" y="189000"/>
            <a:ext cx="7991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411280" y="1844640"/>
            <a:ext cx="4319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3399"/>
                  </a:solidFill>
                  <a:miter/>
                </a:ln>
                <a:solidFill>
                  <a:srgbClr val="00339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Sistemas Multimídia</a:t>
            </a:r>
            <a:endParaRPr b="0" lang="en-US" sz="1800" spc="1" strike="noStrike">
              <a:ln w="12600">
                <a:solidFill>
                  <a:srgbClr val="003399"/>
                </a:solidFill>
                <a:miter/>
              </a:ln>
              <a:solidFill>
                <a:srgbClr val="00339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rão consideradas 3 notas (com pesos iguais) para cálculo da média final na disciplina, a sab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ª - Avali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ª - Aval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ª - Projeto: com plano de trabalho, seminário de apresentação, demonstração, relatório, código fonte, document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ividade obrigatória para a discipli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averá reposição apenas para os alunos que faltarem às avaliações 1 ou 2. Não haverá substituição de menor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jeto será realizado em grupos de no máximo 4 e no mínimo 3 alunos, sendo atribuídas notas individuais para os projetos (em função do desempenho individual de cada participa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sultados Esperad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742840"/>
            <a:ext cx="77724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ver o aluno de uma visão geral dos sistemas Multimídia e suas aplica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ughan, T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ultimedia Making it Work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McGraw-Hill, 200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new, P. W., Kellerman, A. S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istributed Multimedia: Technologies, Applications, and Opportunities in the Digital Information Industry. A Guide for Users and Provider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ddison Wesley, 1996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ngland, E., Finney, A., Finney, A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anaging Multimed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Addison Wesley, 199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Gibson, J. D., Berger, T., Lindbergh, D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Digital Compression for Multimedia: Principles and Standard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Morgan Koufman, 199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erlow, I. V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The Art of 3-D Computer Animation and Imaging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John Wiley &amp; Sons, 1996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ristof, R., Satran, A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Interactivity by Design : Creating &amp; Communicating With New Med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Hayden Books, 1995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elho, L.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omputação Gráfica e Processamento de Imagen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McGrawHill, 199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aula Filho, W. de P.,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Multimídia: Conceitos e Aplicações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, LTC Editora, 2000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uford, J. F. K., </a:t>
            </a: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Multimedia Systems</a:t>
            </a:r>
            <a:r>
              <a:rPr b="0" i="1" lang="pt-BR" sz="21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ddison- Wesley, 1994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Bibliografi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1700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an, A., Sitara, D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ultimedia Servers: Applications, Environments, and Design (Multimedia Information and Systems)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Morgan Kaufmman, 1999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Kuo, Franklin F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ultimedia Communications: Protocols &amp; Application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Prentice Hall, 199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aughan, T.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Multimídia na Prátic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Makron Books, 199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350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 multimídia será a mais poderosa ferramenta de apresentação porque será capaz de explorar todos os sentidos.”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Douglas E. Wolfgram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620720" y="3213000"/>
            <a:ext cx="6336000" cy="7207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18920" y="3284640"/>
            <a:ext cx="63356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 que é Multimídi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que é Multimídia ?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73360"/>
            <a:ext cx="746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e sistemas em que a comunicação entre homem e computador se dá através de múltiplos meios de representação de informação (p.ex.: áudio, imagem estática, animação, gráficos e texto)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ceito inform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Uso de múltiplas mídias        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      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99"/>
                </a:solidFill>
                <a:latin typeface="Arial"/>
              </a:rPr>
              <a:t>Int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5013360"/>
            <a:ext cx="1584360" cy="72072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Plano de Ensin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todologia, Técnicas de Ens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ursos Did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s Espe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r as tecnologias básicas necessárias ao desenvolvimento de sistemas multimíd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r as diversas áreas de aplicação, técnicas, metodologias e ferramentas de desenvolv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cutir o estado da arte, perspectivas de evolução e desafios a serem venci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iciar o contato com os aspectos relacionados à criação de sistemas multimí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en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cnologias e aplicaçõe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rdware e software para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e Processamento de Áudio - Música e Voz, Imagem e Ví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ltimídia na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gonomia de interfaces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de desenvol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ência de produto multimí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ções do futuro - Tendê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658332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Metodologia, Técnicas  de Ensin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6920" y="2204640"/>
            <a:ext cx="73551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s expositiv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las Práticas em Laborató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vidades individuais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cursos Didático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989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o bran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sh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boratório de Informát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s de Simulação de domínio públ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vali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ínua, mediante avaliações individuais e trabalhos em laboratór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balhos interativos de pesquisa extra-classe individual e em grup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balhos de pesquisa intra-classe individual e em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658188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Joseana Macêdo Fe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 Macedo Fechine </cp:lastModifiedBy>
  <dcterms:modified xsi:type="dcterms:W3CDTF">2006-12-04T13:32:40Z</dcterms:modified>
  <cp:revision>31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