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2D6-06E7-4B36-8847-645781E9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2D3-6EEF-4374-ACC9-25A5DC3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B70-A2EF-4564-A061-B33BE6C0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153-6D6D-4BA7-BE1D-4F3E11E8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69D-71D0-45B2-B423-3854206E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AA8-4C5E-430E-AB3A-F86D6352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BE4-07F6-4BAB-B9F1-C635B384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BC4-7185-4FF0-AB31-10F4CCB4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0EE-492C-4894-A498-3EA660D4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05E-6CF5-400E-B6FD-8CD8643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09A-1507-4086-AE00-2078EF6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9A0-B5AE-48A0-B0DB-0DD52C88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54320" y="7380360"/>
            <a:ext cx="23464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8920" y="7380360"/>
            <a:ext cx="3194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7380360"/>
            <a:ext cx="23464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05CB2-9F9C-4373-B407-83662F4AE831}" type="slidenum"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Inteligência Artificial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ador de Árvores de Dec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zando o algoritmo I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lton Céz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ugo Pa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más de Bar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Introdução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sualizar a representação textual da árvore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sualizar a representação gráfica da árvore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xecutar a árvore de decisão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estar a árvore de decisão contra outra base de dado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ductive Decision Tree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envolvido na Universidade de Sidney, por J. Ross Quinlan, em 1975 (apresentado no livro Machine Learning, vol. 1)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era uma árvore de decisão a partir de uma base de dados e a utiliza para classificar futuros elementos que venham a surgi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scolhe primeiro os atributos que melhor dividem as amostras da base de dados, escolhas estas baseadas em duas propriedades estatísticas: entropia e ganho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 entropia mede o grau de impureza de um sistema, ou seja, o quão desordenado o mesmo está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 ganho mede o peso que determinado atributo tem para classificar um element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9920" y="1414080"/>
            <a:ext cx="9072360" cy="61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 a base de dados tem entropia zero, cria-se um nó folha com o valor da classificação que restou e retorna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leciona-se o atributo com maior ganho e cria-se um nó na árvore para o mesmo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 N é nulo, então este será o nó raiz; caso contrário, N será o pai deste nó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Para cada possível valor V, deste atributo T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 algn="just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ria-se um subconjunto da base de dados, onde T=V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 algn="just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hama-se o algoritmo recursivamente com o subconjunto da base de dados e o nó criado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Demonstração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lton 20311030</dc:creator>
  <dc:description/>
  <dc:language>en-US</dc:language>
  <cp:lastModifiedBy/>
  <cp:revision>0</cp:revision>
  <dc:subject/>
  <dc:title/>
</cp:coreProperties>
</file>