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7E6-B9DE-47B0-B4C5-E558EB03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463-0589-4D37-88DD-FE7232C1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279-B733-45B1-B8DD-065CCFC2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9E1-3A3A-4A57-8BA5-C15A77FE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9B3E-4C98-4430-B185-0E5A80C7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ABF7-48C0-4672-A23B-D4A5822C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BDA1-A2C6-4849-83F2-F207BC84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80B3-4B49-44F2-AD9A-FDBEBA32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D201-2F11-4B8D-8AAE-39B88033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F627-6631-403E-B8E8-36FE8369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9215-F799-4A0A-9E21-4FF0A7E2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D83-B5CE-4784-89B3-610DDD30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D7D1-C1AD-4E0B-B7F0-6AA79BD3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5CEB-1857-4455-B256-0322A5F2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64CD-F3F8-4E71-900E-6CC5336F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FA06-572C-490F-8D20-DE1CED43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A74F-0878-47A6-AE49-945F8D9C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C54-FCA1-40FE-9912-4403D924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958-D7BF-40FB-9384-A80E2FA9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237-BF3F-4340-91EF-1F7FE5C0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5CC-3E5F-4BF6-82EC-685AFA01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950-9ED0-4F2B-A55D-A73CD3B7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7BE-48E3-48C2-8D37-37B234CE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C6B-9677-43CB-A665-9158B15B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09A1-783C-4090-9ECD-0DACEE27B4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96F8-26B0-4ED8-971F-0D2F143AA0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fomoney.com.br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pedia.org/wiki/Regra" TargetMode="External"/><Relationship Id="rId2" Type="http://schemas.openxmlformats.org/officeDocument/2006/relationships/hyperlink" Target="http://pt.wikipedia.org/wiki/Informa&#231;&#227;o" TargetMode="External"/><Relationship Id="rId3" Type="http://schemas.openxmlformats.org/officeDocument/2006/relationships/hyperlink" Target="http://pt.wikipedia.org/w/index.php?title=Problema&amp;action=edit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dbbd71"/>
                </a:solidFill>
                <a:latin typeface="Arial"/>
              </a:rPr>
              <a:t>Bolsa De Valores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04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istema Especialista Baseado em Reg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280" y="247644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857760" y="6257880"/>
            <a:ext cx="513396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ugusto Breno e Diogo Vilar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azo de Investi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erfil do Usuá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95280" y="2716200"/>
            <a:ext cx="7315200" cy="14655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Segundo o especialista, para investir em ações é necessário conscientizar-se de que o investidor “não pode precisar” do dinheiro investido enquanto ele estiver no mercado. Esta variável define o quanto o usuário está disposto a esperar pelo retorno do seu investimento (Investimento de Longo ou Curto Praz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4876920"/>
            <a:ext cx="7315200" cy="14655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Também segundo o especialista, o fator important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a tomada de decisão é saber qual o perfil do investidor. Existem investidores mai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nservador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nvestem apenas quando seguidos de certezas), e os mai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riscado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são mais “frios”, e topam correr riscos para surpreender – ou nã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bjetivo do Usuá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Resul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95280" y="2778120"/>
            <a:ext cx="7315200" cy="6426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Define se o usuário deseja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comprar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ou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vender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uma ação. As outras variáveis são analisadas de acordo com este obje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4876920"/>
            <a:ext cx="7315200" cy="119124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Representa os possíveis resultados que o sistema responderá ao usuário após analisar suas respostas. O sistema poderá sugerir que o usuário não deve comprar determinada ação, ou que deve esperar mais um pouco para vender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2895480"/>
          <a:ext cx="7238880" cy="216864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das de Bollin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Índice de Força Relativ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C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cilador Estocást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ix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ut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ix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ut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ix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ut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ix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ut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609480" y="2819520"/>
          <a:ext cx="8001000" cy="2901960"/>
        </p:xfrm>
        <a:graphic>
          <a:graphicData uri="http://schemas.openxmlformats.org/drawingml/2006/table">
            <a:tbl>
              <a:tblPr/>
              <a:tblGrid>
                <a:gridCol w="2190960"/>
                <a:gridCol w="1886040"/>
                <a:gridCol w="1885680"/>
                <a:gridCol w="203832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az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je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</a:tr>
              <a:tr h="22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r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L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onservad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Arrisc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n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ão Comp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ere mais p/ compr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ão V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ere mais p/ ven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Árvore de Decis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229360" y="1447920"/>
            <a:ext cx="558720" cy="261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Praz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65640" y="2106720"/>
            <a:ext cx="720720" cy="261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ahoma"/>
              </a:rPr>
              <a:t>Perfi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2" idx="2"/>
            <a:endCxn id="213" idx="0"/>
          </p:cNvCxnSpPr>
          <p:nvPr/>
        </p:nvCxnSpPr>
        <p:spPr>
          <a:xfrm flipH="1">
            <a:off x="4627080" y="1684080"/>
            <a:ext cx="882000" cy="423000"/>
          </a:xfrm>
          <a:prstGeom prst="straightConnector1">
            <a:avLst/>
          </a:prstGeom>
          <a:ln w="19080">
            <a:solidFill>
              <a:srgbClr val="ff66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5508360" y="1684440"/>
            <a:ext cx="1083240" cy="396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4522680" y="1666800"/>
            <a:ext cx="50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curt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160020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long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3" idx="2"/>
            <a:endCxn id="220" idx="0"/>
          </p:cNvCxnSpPr>
          <p:nvPr/>
        </p:nvCxnSpPr>
        <p:spPr>
          <a:xfrm flipH="1">
            <a:off x="3516120" y="2342880"/>
            <a:ext cx="1111680" cy="541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21" name=""/>
          <p:cNvCxnSpPr>
            <a:stCxn id="213" idx="2"/>
            <a:endCxn id="222" idx="0"/>
          </p:cNvCxnSpPr>
          <p:nvPr/>
        </p:nvCxnSpPr>
        <p:spPr>
          <a:xfrm>
            <a:off x="4627080" y="2342880"/>
            <a:ext cx="1389960" cy="600840"/>
          </a:xfrm>
          <a:prstGeom prst="straightConnector1">
            <a:avLst/>
          </a:prstGeom>
          <a:ln w="19080">
            <a:solidFill>
              <a:srgbClr val="ff66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3014640" y="2425680"/>
            <a:ext cx="996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conservad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040" y="2482920"/>
            <a:ext cx="90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arriscad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4840" y="2943360"/>
            <a:ext cx="1001880" cy="261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75120" y="2884320"/>
            <a:ext cx="87948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Objetiv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22" idx="2"/>
            <a:endCxn id="226" idx="0"/>
          </p:cNvCxnSpPr>
          <p:nvPr/>
        </p:nvCxnSpPr>
        <p:spPr>
          <a:xfrm flipH="1">
            <a:off x="4716000" y="3179880"/>
            <a:ext cx="1301040" cy="638280"/>
          </a:xfrm>
          <a:prstGeom prst="straightConnector1">
            <a:avLst/>
          </a:prstGeom>
          <a:ln w="19080">
            <a:solidFill>
              <a:srgbClr val="ff6600"/>
            </a:solidFill>
            <a:miter/>
          </a:ln>
        </p:spPr>
      </p:cxnSp>
      <p:cxnSp>
        <p:nvCxnSpPr>
          <p:cNvPr id="227" name=""/>
          <p:cNvCxnSpPr>
            <a:stCxn id="222" idx="2"/>
            <a:endCxn id="228" idx="0"/>
          </p:cNvCxnSpPr>
          <p:nvPr/>
        </p:nvCxnSpPr>
        <p:spPr>
          <a:xfrm>
            <a:off x="6016320" y="3179520"/>
            <a:ext cx="1594440" cy="626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4406760" y="3817800"/>
            <a:ext cx="619200" cy="261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ahoma"/>
              </a:rPr>
              <a:t>EBB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3276720"/>
            <a:ext cx="69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compra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82000" y="3346560"/>
            <a:ext cx="69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vend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6" idx="2"/>
            <a:endCxn id="232" idx="0"/>
          </p:cNvCxnSpPr>
          <p:nvPr/>
        </p:nvCxnSpPr>
        <p:spPr>
          <a:xfrm flipH="1">
            <a:off x="3206160" y="4056120"/>
            <a:ext cx="1510200" cy="612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3" name=""/>
          <p:cNvCxnSpPr>
            <a:stCxn id="226" idx="2"/>
            <a:endCxn id="234" idx="0"/>
          </p:cNvCxnSpPr>
          <p:nvPr/>
        </p:nvCxnSpPr>
        <p:spPr>
          <a:xfrm>
            <a:off x="4716360" y="4056120"/>
            <a:ext cx="1705680" cy="612000"/>
          </a:xfrm>
          <a:prstGeom prst="straightConnector1">
            <a:avLst/>
          </a:prstGeom>
          <a:ln w="19080">
            <a:solidFill>
              <a:srgbClr val="ff6600"/>
            </a:solidFill>
            <a:miter/>
          </a:ln>
        </p:spPr>
      </p:cxnSp>
      <p:cxnSp>
        <p:nvCxnSpPr>
          <p:cNvPr id="235" name=""/>
          <p:cNvCxnSpPr>
            <a:stCxn id="226" idx="2"/>
            <a:endCxn id="236" idx="0"/>
          </p:cNvCxnSpPr>
          <p:nvPr/>
        </p:nvCxnSpPr>
        <p:spPr>
          <a:xfrm flipH="1">
            <a:off x="4695480" y="4056120"/>
            <a:ext cx="20880" cy="66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3670200" y="3976560"/>
            <a:ext cx="542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baix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4038480"/>
            <a:ext cx="70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alt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0400" y="4299120"/>
            <a:ext cx="69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neutr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0280" y="4667400"/>
            <a:ext cx="620640" cy="261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ahoma"/>
              </a:rPr>
              <a:t>IF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4" idx="2"/>
            <a:endCxn id="241" idx="0"/>
          </p:cNvCxnSpPr>
          <p:nvPr/>
        </p:nvCxnSpPr>
        <p:spPr>
          <a:xfrm flipH="1">
            <a:off x="4979520" y="4937040"/>
            <a:ext cx="1442160" cy="535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2" name=""/>
          <p:cNvCxnSpPr>
            <a:stCxn id="234" idx="2"/>
            <a:endCxn id="243" idx="0"/>
          </p:cNvCxnSpPr>
          <p:nvPr/>
        </p:nvCxnSpPr>
        <p:spPr>
          <a:xfrm>
            <a:off x="6420960" y="4937040"/>
            <a:ext cx="1761480" cy="478800"/>
          </a:xfrm>
          <a:prstGeom prst="straightConnector1">
            <a:avLst/>
          </a:prstGeom>
          <a:ln w="19080">
            <a:solidFill>
              <a:srgbClr val="ff6600"/>
            </a:solidFill>
            <a:miter/>
          </a:ln>
        </p:spPr>
      </p:cxnSp>
      <p:cxnSp>
        <p:nvCxnSpPr>
          <p:cNvPr id="244" name=""/>
          <p:cNvCxnSpPr>
            <a:stCxn id="234" idx="2"/>
            <a:endCxn id="245" idx="0"/>
          </p:cNvCxnSpPr>
          <p:nvPr/>
        </p:nvCxnSpPr>
        <p:spPr>
          <a:xfrm>
            <a:off x="6420960" y="4936680"/>
            <a:ext cx="110520" cy="592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5337000" y="4897440"/>
            <a:ext cx="54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baix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27880" y="5183280"/>
            <a:ext cx="69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neutr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22960" y="4954680"/>
            <a:ext cx="698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alt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99240" y="5415120"/>
            <a:ext cx="1163880" cy="261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ahoma"/>
              </a:rPr>
              <a:t>Resultado</a:t>
            </a: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00800" y="3805200"/>
            <a:ext cx="62100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EBB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667400"/>
            <a:ext cx="62100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IF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84800" y="4724280"/>
            <a:ext cx="62064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IF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9440" y="2079720"/>
            <a:ext cx="72396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Perfi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5472000"/>
            <a:ext cx="112068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996600"/>
                </a:solidFill>
                <a:latin typeface="Tahoma"/>
              </a:rPr>
              <a:t>Resultado</a:t>
            </a: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51600" y="5529240"/>
            <a:ext cx="95868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996600"/>
                </a:solidFill>
                <a:latin typeface="Tahoma"/>
              </a:rPr>
              <a:t>Resultado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243" idx="2"/>
            <a:endCxn id="250" idx="0"/>
          </p:cNvCxnSpPr>
          <p:nvPr/>
        </p:nvCxnSpPr>
        <p:spPr>
          <a:xfrm>
            <a:off x="8181720" y="5684760"/>
            <a:ext cx="20880" cy="411840"/>
          </a:xfrm>
          <a:prstGeom prst="straightConnector1">
            <a:avLst/>
          </a:prstGeom>
          <a:ln w="19080">
            <a:solidFill>
              <a:srgbClr val="ff66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772400" y="6095880"/>
            <a:ext cx="858960" cy="4287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ahoma"/>
              </a:rPr>
              <a:t>Não compra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5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5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5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5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5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5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Especialistas Consultado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943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milo de Lelis Gond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Rodrigo Rebouç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infomoney.com.b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Revista Você S/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– “Ganhe Dinheiro na Bolsa”, maio/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ancy Tengler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– New Era Value Investing, com tradução de J. Figueire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J. Figueired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– Ações: “O Quê?”, “Porquê?” e “Como?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Uma Pincelada em Sistemas Especialis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que é um Sistema Especial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o Construir Um Sistema Para a Bolsa de Val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que disse o Especial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cidir por um Fo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Que e Como Foi Fe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xpert SIN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co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Árvore de Decis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495360"/>
            <a:ext cx="99036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277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dbbd71"/>
                </a:solidFill>
                <a:latin typeface="Arial"/>
              </a:rPr>
              <a:t>O que é um Sistema Especialist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ão programas constituídos por uma série de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regr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que analisam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informaçõ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normalmente fornecidas pelo usuário do sistema) sobre uma classe específica de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problem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ou domínio de problema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essoas Envolvi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Usuá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speci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ngenheiro de conheci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6095880" y="4495680"/>
            <a:ext cx="2895840" cy="2133720"/>
            <a:chOff x="6095880" y="4495680"/>
            <a:chExt cx="2895840" cy="2133720"/>
          </a:xfrm>
        </p:grpSpPr>
        <p:sp>
          <p:nvSpPr>
            <p:cNvPr id="163" name=""/>
            <p:cNvSpPr/>
            <p:nvPr/>
          </p:nvSpPr>
          <p:spPr>
            <a:xfrm>
              <a:off x="6095880" y="4495680"/>
              <a:ext cx="2895840" cy="2133720"/>
            </a:xfrm>
            <a:prstGeom prst="wedgeRoundRectCallout">
              <a:avLst>
                <a:gd name="adj1" fmla="val -27356"/>
                <a:gd name="adj2" fmla="val 48361"/>
                <a:gd name="adj3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72200" y="4737240"/>
              <a:ext cx="2743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uxilia o especialista a representar o conhecimento e determina a técnica de inferência necessária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dbbd71"/>
                </a:solidFill>
                <a:latin typeface="Arial"/>
              </a:rPr>
              <a:t>Como Construir Um Sistema Para a Bolsa de Valore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O que disse o Especial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 Mundo da Bolsa de Valores é Compl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ários tipos de Indicadores (Financeiro(efeitos), Fundamentalista(causas),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Técnic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ofre muitas influências externas não previsíve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9480" y="4038480"/>
            <a:ext cx="8153640" cy="1447920"/>
          </a:xfrm>
          <a:prstGeom prst="rect">
            <a:avLst/>
          </a:prstGeom>
          <a:noFill/>
          <a:ln w="5724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Decidir por um Foc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odemos desenvolver dois tipos de Sistema Especial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ossui uma Base de Dados atualizada constantemente e sugere um setor e/ou uma ação para invest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ossui um conjunto de regras e decide sobre que decisão tomar dado os índices de uma aç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xpert SINTA/D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20600" y="2209680"/>
            <a:ext cx="1936800" cy="2438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133720" y="2209680"/>
            <a:ext cx="69339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É um conjunto de ferramentas computacionais fundamentadas em técnicas de Inteligência Artificial para geração automática de sistemas especialistas. Utilizando um modelo de representação do conhecimento baseado em um conjunto de variáveis e regras de produção e fatores de confiança, apresenta como objetivo principal simplificar o trabalho de implementação de sistemas especialist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886200" y="4114800"/>
            <a:ext cx="3809880" cy="263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scopo Escolh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ecidimos desenvolver um sistema sem base de conhecimento (histórico), baseado apenas em re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 usuário utilizará este sistema para que este lhe forneça uma direção sobre que decisão tomar em relação a determinada aç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 Sistema solicita alguns valores para determinados índices, submete estes valores às regras, e tenta tomar uma decis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Índice de Força Relativa (IF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scilador Estocá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95280" y="2743200"/>
            <a:ext cx="7315200" cy="14655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É um indicador que traz a relação entre a média dos preços de fechamento nos dias em que a ação fechou em alta, dividido pela média nos dias em que fechou em queda. Desta forma, um índice muito alto pode indicar que a ação já tenha subido muito em relação ao seu desempenho histórico.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876920"/>
            <a:ext cx="7315200" cy="14655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É uma ferramenta que se preocupa mais com a oscilação dos ativos do que com a tendência. Por comparar o preço atual de uma ação com o seu comportamento recente, o estocástico é um bom indicador que mostra se o preço atual é insustentável, ou pode levar a uma mudança de direção.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nvelope Bandas Bollinger (EBB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MAC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95280" y="2762280"/>
            <a:ext cx="7315200" cy="119124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A análise das Bandas de Bollinger nos permite identificar pontos extremos, onde a cotação da ação atinge valores muito altos ou muito baixos em relação à média, o que pode identificar pontos de compra ou venda.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4876920"/>
            <a:ext cx="7315200" cy="20142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O MACD é um dos indicadores mais utilizados em análise técnica, sobretudo para determinar a tendência no qual o preço da ação se encontra. Determinar a tendência é muito importante, pois é mais fácil prever o comportamento de uma ação que segue uma tendência. Fica mais fácil ganhar dinheiro com uma ação que registra tendência de alta do que com um papel que sobe e desce demais!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8:15:32Z</dcterms:created>
  <dc:creator>Augusto Breno</dc:creator>
  <dc:description/>
  <dc:language>en-US</dc:language>
  <cp:lastModifiedBy>Augusto Breno</cp:lastModifiedBy>
  <dcterms:modified xsi:type="dcterms:W3CDTF">2006-06-12T16:39:48Z</dcterms:modified>
  <cp:revision>31</cp:revision>
  <dc:subject/>
  <dc:title>Slide 1</dc:title>
</cp:coreProperties>
</file>