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F5C4-88FF-4AA1-8009-7172EEA9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7695-119C-42C0-8095-108BCE9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13D8-4278-44EB-8F11-CFBA8D14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ACC0-8A6F-4839-BC50-7F7A7FD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53C8-2493-4694-B01C-8DA7EAD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4A21-D5BE-483A-B4A8-F3A4BA5E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E2BE-82F2-4CF1-B055-0050C920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0F3-6B9C-432C-9CC5-1620BBE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E225-953E-404D-8418-5D2876B7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ED0A-3CE7-4D70-B25E-047EB573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493C-7703-4E09-B251-2B7CC1E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D831-4CC7-4159-AC40-028832F2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01E-0D60-4C54-BE75-A808693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6E9B-A354-4C52-807E-2EE83C1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548B-D433-46FB-B9BB-7BA3D1A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9882-EE60-479C-9A63-4575B036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45E-2F18-4B7F-A35C-80C4AB7A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C954-0591-4F57-997F-16C2AA59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850F-0F06-4148-A51F-F5290566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1124-B925-4E85-8D56-A805191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09F1-4ADB-4E35-BAF8-306AFF7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F35E-B138-4076-985A-B0EEBB8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16AB-923A-4A04-B811-ED68CFED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542B-2D22-4ED6-8644-1B6194D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FA7-7DFB-4F8F-8452-86EECCB3E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DBB-17CF-43CD-8A33-535C456BF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iraf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o: Flávio Roberto Sa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ávio Vinícius Dini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nícius Ferraz Camp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G convergiu rapi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ós a execução, a maioria das girafas estão adaptadas ao me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lturas estão próximas às ár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r os conhecimentos adquiridos em 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o estudo sobre 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étodo de simular a ação de evolução dentro de um computador. Neste uma população de tamanho fixo evolui usando os conceitos de mutação e cruz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população inicial de Girafas, é gerada aleatoriamente. Us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giraf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nho médio da giraf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ância desse tamanh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Ev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-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s melhores Girafas, que são as que estão com menos f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rafas selecionadas são formados cas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feito o cruzamento dos cromosso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a-se em um ponto aleató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casal gera dois novos fil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lgoritmo de mutação é a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filhos substituem os mais fracos da popul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Mu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ada fil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 um dos bits do cromoss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dor do mundo das girafas onde são aplicados os conceitos descritos anterior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heu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selecion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reprod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mente configur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6:10:06Z</dcterms:created>
  <dc:creator>Gustavo Wagner</dc:creator>
  <dc:description/>
  <dc:language>en-US</dc:language>
  <cp:lastModifiedBy>Gustavo Wagner</cp:lastModifiedBy>
  <dcterms:modified xsi:type="dcterms:W3CDTF">2006-06-12T17:16:53Z</dcterms:modified>
  <cp:revision>5</cp:revision>
  <dc:subject/>
  <dc:title>Slide 1</dc:title>
</cp:coreProperties>
</file>