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F60FD-72C4-4582-A6C9-46B4A7BD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60AB9-B228-48E9-8FC6-932DDBE5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6397C-519E-405A-A23E-3E9132A43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DE95B-2CE0-455F-A9C7-7BFB00C5A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ABA9-7691-4DAA-9A22-B6EC596E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C266-7656-46B6-8EEE-D06CA4E3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1E1B-6A1B-4C0C-8527-42A8D211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32F5-935D-4667-A6A4-060AA1E0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D412-B245-4646-B1E4-D3F5AF6E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3686-D1CF-4549-9DD7-59BBF7F4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C90E-B456-44CB-87F7-AF7E57E8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66046-81A2-41D2-A2B3-68114A32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9992-5C6D-4811-9C38-A61DB366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5931-F9B2-43AB-9A13-185937FD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88D9-50B0-425E-B95C-09574CD9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DF1E-A3FB-4A91-BE34-00BF05A8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2B1B-1ACE-4B35-AC36-2D31DFA34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386EC-A7BF-496D-BC32-B106D5C1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057AE-3807-47F4-B91B-A1E83ABD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11601-4A38-48BF-BF15-F52D7B3D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6E101-83D1-4F67-B659-29045067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2CCA7-40C0-42F2-8E03-FB3371A2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0D84A-E6FB-41D8-B913-F4EEF05A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15603-3334-490F-9081-673158F4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81B1-06ED-40FB-8B5E-29B81ECBD0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0B31-A257-4179-BD8A-474BB22799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Girafa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upo: Flávio Roberto San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lávio Vinícius Dini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nícius Ferraz Camp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AG convergiu rapida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ós a execução, a maioria das girafas estão adaptadas ao me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lturas estão próximas às árv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á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mo Gené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urís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raf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ç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licar os conhecimentos adquiridos em 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zar o estudo sobre A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o Gené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 método de simular a ação de evolução dentro de um computador. Neste uma população de tamanho fixo evolui usando os conceitos de mutação e cruzamen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urís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a população inicial de Girafas, é gerada aleatoriamente. Usan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úmero de girafa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manho médio da giraf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ância desse tamanh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urísticas: Evol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1413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iona-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s melhores Girafas, que são as que estão com menos f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 girafas selecionadas são formados casa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 feito o cruzamento dos cromosso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a-se em um ponto aleató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da casal gera dois novos filh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algoritmo de mutação é aplic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 filhos substituem os mais fracos da popula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urísticas: Mut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cada filh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te um dos bits do cromosso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raf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dor do mundo das girafas onde são aplicados os conceitos descritos anterior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e a implementação de mais heurí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e a implementação de mais selecion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e a implementação de mais reprodu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amente configurá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raf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619760" cy="59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2T16:10:06Z</dcterms:created>
  <dc:creator>Gustavo Wagner</dc:creator>
  <dc:description/>
  <dc:language>en-US</dc:language>
  <cp:lastModifiedBy>Gustavo Wagner</cp:lastModifiedBy>
  <dcterms:modified xsi:type="dcterms:W3CDTF">2006-06-12T17:16:53Z</dcterms:modified>
  <cp:revision>5</cp:revision>
  <dc:subject/>
  <dc:title>Slide 1</dc:title>
</cp:coreProperties>
</file>