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42C4-E863-40F0-9399-DF2C69ADB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188A-759F-4EE2-ACC0-68F17912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F857-6B24-4B4B-BEE4-5460FEB8C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BD9D-2729-4736-9900-AB057C847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BEA0-D457-40F3-8514-EDE76E53D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A135-EE1B-4983-9396-E7E7501BC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B343-42C8-4BA8-8DB4-730C89589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95EE-6C04-4779-87DE-8FE2DF966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2ED0-FFB8-44FA-9021-A4CC3EF12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1AC-98FB-4105-A05A-8F7603A99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EFA7-38CC-49C4-968B-441AED37E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D21B-78ED-4798-AAD0-15E0AF848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15D-F6A9-43A5-B056-BFD97B06648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racterização de Sinais de Voz 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(Parte I)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609480"/>
          <a:ext cx="63867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63867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19040" y="54864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iodograma e respectiva envoltória espectral de um frame (20 ms) de um segmento fonético correspondente a um /i/, produzido por um locutor masculino (F1=266 Hz, F2=2044Hz, F3=2711Hz, F4=3422H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219320"/>
            <a:ext cx="18986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xemplo /i/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266 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2044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=2711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3422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5943600"/>
            <a:ext cx="8496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édias das frequências dos três primeiros formantes :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as vogais orais do português brasileiro para uma população de 90 pesso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ormantes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3808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EQUÊNCIA DAS VOGAIS 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59436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acústicos médios de freqüência e intensidade dos sons da fala do português brasileiro, dispostos no registro gráfico do audi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808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UDIOGRAMA 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ne1" descr=""/>
          <p:cNvPicPr/>
          <p:nvPr/>
        </p:nvPicPr>
        <p:blipFill>
          <a:blip r:embed="rId1"/>
          <a:stretch/>
        </p:blipFill>
        <p:spPr>
          <a:xfrm>
            <a:off x="1981080" y="960480"/>
            <a:ext cx="46292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380880"/>
            <a:ext cx="556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STAS E INFORMAÇÕES ACÚS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76520"/>
          <a:ext cx="856764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676520"/>
                    <a:ext cx="856764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380880"/>
            <a:ext cx="556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STAS E INFORMAÇÕES ACÚS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9520" y="1905120"/>
          <a:ext cx="8724960" cy="36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905120"/>
                    <a:ext cx="872496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Zonas voze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períodos glotais não são exatamente igu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es de variação da forma de on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6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evolução lenta do trato voc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ferenças de energi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ala não é na realidade uma seqüência de sons bem definid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ransição entre um par de segmentos fonéticos produz-se de forma gradual, exibindo o sinal pequenas variações das características de um som para o som procedente, efeito denominado de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coarticul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ala contêm outra informação para além da simples seqüência de sons e respectiva coarticulação: identidade do locutor, gênero e idade, estado de alegria ou tristeza e as suas emoç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ariância das características acústicas dos sons de fala é o grande problema para a elaboração dos modelos de percepçã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á correspondência unívoca entre os fonemas de uma língua e sua realização acústic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ão se pronuncia uma sentença da mesma maneira por duas vez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oarticulação pode ser exemplificada atravé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ofon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uando uma mesma letra tem variação fônica dependendo do contexto em que se encontr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 no português - as letra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respectivamente) nas seguintes palavras: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r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s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mento de sistemas de processamento de fala - freqüentemente necessário traduzir uma onda acústica nos sons produzidos -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ranscrição foné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 processo produz a sequência de símbolos fonéticos e respectivas marcas temporais, utilizando para tal um alfabeto fonético – tarefa difíci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tro nível de anotação mais simples – “transcrição fonética larga”, derivada apenas da transcrição ortográfica de determinada frase, não tendo associada uma onda acúst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43000" y="689040"/>
          <a:ext cx="647712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9040"/>
                    <a:ext cx="64771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752480" y="2286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ranscrição Fo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Sonoros (vozead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ordas vocais vibram e fazem variar o grau de abertura da glote e conseqüentemente o volume de ar proveniente dos pulmões que passa através da mesm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 periódica na velocidade de volume na glote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citação do trato vocal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dução de sons com harmônicas da freqüência de vibração das cordas vocais  (frequência fundamental (F0) - frequência de pitch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 de uma transcrição fonológic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"Mas ninguém poderia adivinhar o que ela pensav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"mas nin'guEm pode'ria adivi'Nah o ke 'ela pen'sav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657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reqüência Fundam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 da dimensão e espessura da glo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utores do gênero masculino - gama de vibração das cordas vocais situa-se nos 50-250 H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utores do gênero feminino – a gama situa-se nos 120-300 Hz, podendo chegar aos 500 Hz para as crianç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uguês falado no Brasi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0 Hz (homens) – 350 Hz (criança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típicos: 150 Hz (homens) e 250 Hz (mulher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locutor pode ser caracterizado através da sua freqüência fundamental média, com variações naturais dependentes da entoação, estresse e emoçã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Freqüência Fundament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normal um locutor apresentar uma variação que pode atingir em fala natural uma oitava (e.g., 80-160 Hz para um locutor masculino), podendo atingir 2 oitavas no caso de fala forçada ou canta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ões mais acentuadas requerem um esforço físico considerá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não voze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lote mantém-se aberta e o ar proveniente dos pulmões, ao passar com velocidade suficiente por uma constrição do trato vocal, produz sons com turbul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8672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presentação temporal e respectivo espectrograma de um seg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nético vozeado /e/ e de um segmento não vozeado /s/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tos por um locutor masculino e outro femini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7827" t="3475" r="8072" b="6757"/>
          <a:stretch/>
        </p:blipFill>
        <p:spPr>
          <a:xfrm>
            <a:off x="914400" y="411120"/>
            <a:ext cx="6553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vozeados/não voze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ido à vibração das cordas vocais as zonas vozeadas têm uma característica passa-baix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zonas não vozeadas apresentam em geral maior energia nas altas freqüências que as zonas voze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244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Formant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7244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ção de fala - uma operaç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iltrag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uma fonte de som excita o trato vocal e/ou o trato nasal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voze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xcitação é periód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não voze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excitação ruidosa e aperiód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2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to vo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atuando como um filtro) - amplifica algumas zonas do espectro, atenuando outra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Zonas amplific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correspondem às zonas de ressonância, definidas por uma freqüência central, por uma largura de banda e por uma ener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requência central da ressonânc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reqüência do formante (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forma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Formant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definidos como picos de energia em uma região do espectro sonoro. Os parciais que se encontram nessa região de ressonância serão realç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representados por F1, F2, F3,...., começando pela freqüência mais baix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do trato vocal - especialmente para as vogais - determina os formantes e deste modo o som produz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10T12:03:15Z</dcterms:modified>
  <cp:revision>450</cp:revision>
  <dc:subject/>
  <dc:title>Processamento e Transmissão Digital de Sinais de Voz </dc:title>
</cp:coreProperties>
</file>