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9.png" ContentType="image/png"/>
  <Override PartName="/ppt/media/image13.png" ContentType="image/png"/>
  <Override PartName="/ppt/media/image12.wmf" ContentType="image/x-wmf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4.jpeg" ContentType="image/jpeg"/>
  <Override PartName="/ppt/media/image2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326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E2455B-A88D-494B-8F17-303119E309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320" y="1905120"/>
            <a:ext cx="72392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66320" y="4293360"/>
            <a:ext cx="72392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118CD2-A423-4D49-A118-E384CEF53B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320" y="1905120"/>
            <a:ext cx="353268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776120" y="1905120"/>
            <a:ext cx="353268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66320" y="4293360"/>
            <a:ext cx="353268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776120" y="4293360"/>
            <a:ext cx="353268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701EB1-B0B5-4151-979D-A6514C319E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05120"/>
            <a:ext cx="23306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513960" y="1905120"/>
            <a:ext cx="23306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961600" y="1905120"/>
            <a:ext cx="23306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066320" y="4293360"/>
            <a:ext cx="23306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513960" y="4293360"/>
            <a:ext cx="23306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961600" y="4293360"/>
            <a:ext cx="23306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88FBEA-0054-4BDF-8C87-2B2A071D14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066320" y="1905120"/>
            <a:ext cx="723924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66320" y="1905120"/>
            <a:ext cx="723924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320" y="1905120"/>
            <a:ext cx="35326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76120" y="1905120"/>
            <a:ext cx="35326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320" y="1905120"/>
            <a:ext cx="353268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76120" y="1905120"/>
            <a:ext cx="35326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66320" y="4293360"/>
            <a:ext cx="353268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066320" y="1905120"/>
            <a:ext cx="723924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FF85B9-C6BF-4F40-B85A-6642D475A5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66320" y="1905120"/>
            <a:ext cx="35326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76120" y="1905120"/>
            <a:ext cx="353268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776120" y="4293360"/>
            <a:ext cx="353268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05120"/>
            <a:ext cx="353268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76120" y="1905120"/>
            <a:ext cx="353268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066320" y="4293360"/>
            <a:ext cx="72392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320" y="1905120"/>
            <a:ext cx="72392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1066320" y="4293360"/>
            <a:ext cx="72392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320" y="1905120"/>
            <a:ext cx="353268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76120" y="1905120"/>
            <a:ext cx="353268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66320" y="4293360"/>
            <a:ext cx="353268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776120" y="4293360"/>
            <a:ext cx="353268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320" y="1905120"/>
            <a:ext cx="23306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13960" y="1905120"/>
            <a:ext cx="23306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961600" y="1905120"/>
            <a:ext cx="23306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1066320" y="4293360"/>
            <a:ext cx="23306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13960" y="4293360"/>
            <a:ext cx="23306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961600" y="4293360"/>
            <a:ext cx="23306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320" y="1905120"/>
            <a:ext cx="723924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7FEEE7-462B-4411-8494-30BAD85DFB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6320" y="1905120"/>
            <a:ext cx="35326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76120" y="1905120"/>
            <a:ext cx="35326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123B3C-C9FE-4EBA-88A9-3316BB85A5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A91ECA-B316-4D94-ADA7-EF6687C9F8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8D8167-846E-473F-A78D-C3E72197F5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05120"/>
            <a:ext cx="353268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76120" y="1905120"/>
            <a:ext cx="35326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6320" y="4293360"/>
            <a:ext cx="353268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F054A4-57D3-4DBE-B373-14C03B23C1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905120"/>
            <a:ext cx="35326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76120" y="1905120"/>
            <a:ext cx="353268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776120" y="4293360"/>
            <a:ext cx="353268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7A6996-CF2E-45AA-A898-EF3A671B62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905120"/>
            <a:ext cx="353268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76120" y="1905120"/>
            <a:ext cx="353268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6320" y="4293360"/>
            <a:ext cx="72392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630DE2-7620-4857-B35C-CD15295E2A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705720" y="0"/>
            <a:ext cx="2438280" cy="2971440"/>
            <a:chOff x="6705720" y="0"/>
            <a:chExt cx="2438280" cy="2971440"/>
          </a:xfrm>
        </p:grpSpPr>
        <p:sp>
          <p:nvSpPr>
            <p:cNvPr id="1" name=""/>
            <p:cNvSpPr/>
            <p:nvPr/>
          </p:nvSpPr>
          <p:spPr>
            <a:xfrm>
              <a:off x="7620120" y="2327400"/>
              <a:ext cx="77400" cy="83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6705720" y="0"/>
              <a:ext cx="2438280" cy="2925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" name="pic_tech" descr=""/>
            <p:cNvPicPr/>
            <p:nvPr/>
          </p:nvPicPr>
          <p:blipFill>
            <a:blip r:embed="rId3">
              <a:lum bright="70000" contrast="-70000"/>
            </a:blip>
            <a:stretch/>
          </p:blipFill>
          <p:spPr>
            <a:xfrm>
              <a:off x="7586280" y="684720"/>
              <a:ext cx="1340280" cy="228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" name="helmet" descr=""/>
            <p:cNvPicPr/>
            <p:nvPr/>
          </p:nvPicPr>
          <p:blipFill>
            <a:blip r:embed="rId4">
              <a:lum bright="70000" contrast="-70000"/>
            </a:blip>
            <a:stretch/>
          </p:blipFill>
          <p:spPr>
            <a:xfrm>
              <a:off x="7247520" y="233280"/>
              <a:ext cx="1354320" cy="933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" name="PlaceHolder 1"/>
          <p:cNvSpPr>
            <a:spLocks noGrp="1"/>
          </p:cNvSpPr>
          <p:nvPr>
            <p:ph type="body"/>
          </p:nvPr>
        </p:nvSpPr>
        <p:spPr>
          <a:xfrm>
            <a:off x="1066320" y="1905120"/>
            <a:ext cx="723924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453960" indent="-226800">
              <a:spcBef>
                <a:spcPts val="601"/>
              </a:spcBef>
              <a:buClr>
                <a:srgbClr val="000066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2" marL="803160" indent="-176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3" marL="1144440" indent="-174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4" marL="1433520" indent="-122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5" marL="1433520" indent="-122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6" marL="1433520" indent="-122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ldNum" idx="1"/>
          </p:nvPr>
        </p:nvSpPr>
        <p:spPr>
          <a:xfrm>
            <a:off x="8534520" y="6476760"/>
            <a:ext cx="457200" cy="237960"/>
          </a:xfrm>
          <a:prstGeom prst="rect">
            <a:avLst/>
          </a:prstGeom>
          <a:noFill/>
          <a:ln w="12600">
            <a:solidFill>
              <a:srgbClr val="969696"/>
            </a:solidFill>
            <a:miter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C99DF-2F11-4981-9C92-7430A89D971D}" type="slidenum">
              <a:rPr b="0" lang="en-US" sz="12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6629400"/>
            <a:ext cx="838080" cy="120600"/>
          </a:xfrm>
          <a:prstGeom prst="rect">
            <a:avLst/>
          </a:prstGeom>
          <a:noFill/>
          <a:ln w="0">
            <a:noFill/>
          </a:ln>
          <a:effectLst>
            <a:outerShdw dist="12600" dir="162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800" spc="-1" strike="noStrike">
                <a:solidFill>
                  <a:srgbClr val="ffcc00"/>
                </a:solidFill>
                <a:latin typeface="Humanst521 BT"/>
              </a:rPr>
              <a:t>DSC/CCT/UFC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380880" y="6400800"/>
            <a:ext cx="312840" cy="237960"/>
          </a:xfrm>
          <a:custGeom>
            <a:avLst/>
            <a:gdLst/>
            <a:ahLst/>
            <a:rect l="l" t="t" r="r" b="b"/>
            <a:pathLst>
              <a:path w="1470" h="999">
                <a:moveTo>
                  <a:pt x="279" y="5"/>
                </a:moveTo>
                <a:cubicBezTo>
                  <a:pt x="333" y="20"/>
                  <a:pt x="361" y="24"/>
                  <a:pt x="393" y="32"/>
                </a:cubicBezTo>
                <a:cubicBezTo>
                  <a:pt x="425" y="40"/>
                  <a:pt x="439" y="44"/>
                  <a:pt x="474" y="53"/>
                </a:cubicBezTo>
                <a:cubicBezTo>
                  <a:pt x="474" y="53"/>
                  <a:pt x="603" y="89"/>
                  <a:pt x="603" y="89"/>
                </a:cubicBezTo>
                <a:cubicBezTo>
                  <a:pt x="637" y="100"/>
                  <a:pt x="656" y="108"/>
                  <a:pt x="678" y="119"/>
                </a:cubicBezTo>
                <a:cubicBezTo>
                  <a:pt x="700" y="130"/>
                  <a:pt x="724" y="145"/>
                  <a:pt x="738" y="155"/>
                </a:cubicBezTo>
                <a:cubicBezTo>
                  <a:pt x="752" y="165"/>
                  <a:pt x="757" y="173"/>
                  <a:pt x="765" y="182"/>
                </a:cubicBezTo>
                <a:cubicBezTo>
                  <a:pt x="773" y="191"/>
                  <a:pt x="780" y="200"/>
                  <a:pt x="785" y="209"/>
                </a:cubicBezTo>
                <a:cubicBezTo>
                  <a:pt x="794" y="223"/>
                  <a:pt x="793" y="227"/>
                  <a:pt x="795" y="239"/>
                </a:cubicBezTo>
                <a:cubicBezTo>
                  <a:pt x="797" y="251"/>
                  <a:pt x="800" y="268"/>
                  <a:pt x="800" y="279"/>
                </a:cubicBezTo>
                <a:cubicBezTo>
                  <a:pt x="801" y="296"/>
                  <a:pt x="801" y="296"/>
                  <a:pt x="798" y="308"/>
                </a:cubicBezTo>
                <a:cubicBezTo>
                  <a:pt x="795" y="320"/>
                  <a:pt x="787" y="336"/>
                  <a:pt x="780" y="349"/>
                </a:cubicBezTo>
                <a:cubicBezTo>
                  <a:pt x="772" y="361"/>
                  <a:pt x="765" y="375"/>
                  <a:pt x="753" y="386"/>
                </a:cubicBezTo>
                <a:cubicBezTo>
                  <a:pt x="740" y="399"/>
                  <a:pt x="721" y="414"/>
                  <a:pt x="702" y="425"/>
                </a:cubicBezTo>
                <a:cubicBezTo>
                  <a:pt x="683" y="436"/>
                  <a:pt x="662" y="444"/>
                  <a:pt x="642" y="452"/>
                </a:cubicBezTo>
                <a:cubicBezTo>
                  <a:pt x="622" y="460"/>
                  <a:pt x="612" y="466"/>
                  <a:pt x="585" y="473"/>
                </a:cubicBezTo>
                <a:cubicBezTo>
                  <a:pt x="585" y="473"/>
                  <a:pt x="535" y="486"/>
                  <a:pt x="480" y="494"/>
                </a:cubicBezTo>
                <a:cubicBezTo>
                  <a:pt x="425" y="502"/>
                  <a:pt x="370" y="504"/>
                  <a:pt x="295" y="504"/>
                </a:cubicBezTo>
                <a:cubicBezTo>
                  <a:pt x="220" y="504"/>
                  <a:pt x="235" y="499"/>
                  <a:pt x="145" y="504"/>
                </a:cubicBezTo>
                <a:cubicBezTo>
                  <a:pt x="72" y="751"/>
                  <a:pt x="0" y="999"/>
                  <a:pt x="0" y="999"/>
                </a:cubicBezTo>
                <a:cubicBezTo>
                  <a:pt x="0" y="999"/>
                  <a:pt x="230" y="999"/>
                  <a:pt x="230" y="999"/>
                </a:cubicBezTo>
                <a:cubicBezTo>
                  <a:pt x="230" y="999"/>
                  <a:pt x="490" y="984"/>
                  <a:pt x="490" y="984"/>
                </a:cubicBezTo>
                <a:cubicBezTo>
                  <a:pt x="556" y="979"/>
                  <a:pt x="582" y="975"/>
                  <a:pt x="627" y="968"/>
                </a:cubicBezTo>
                <a:cubicBezTo>
                  <a:pt x="672" y="961"/>
                  <a:pt x="717" y="953"/>
                  <a:pt x="760" y="944"/>
                </a:cubicBezTo>
                <a:cubicBezTo>
                  <a:pt x="803" y="935"/>
                  <a:pt x="846" y="925"/>
                  <a:pt x="888" y="914"/>
                </a:cubicBezTo>
                <a:cubicBezTo>
                  <a:pt x="930" y="903"/>
                  <a:pt x="971" y="894"/>
                  <a:pt x="1015" y="879"/>
                </a:cubicBezTo>
                <a:cubicBezTo>
                  <a:pt x="1078" y="858"/>
                  <a:pt x="1106" y="846"/>
                  <a:pt x="1150" y="824"/>
                </a:cubicBezTo>
                <a:cubicBezTo>
                  <a:pt x="1194" y="802"/>
                  <a:pt x="1247" y="771"/>
                  <a:pt x="1280" y="749"/>
                </a:cubicBezTo>
                <a:cubicBezTo>
                  <a:pt x="1312" y="724"/>
                  <a:pt x="1329" y="712"/>
                  <a:pt x="1350" y="689"/>
                </a:cubicBezTo>
                <a:cubicBezTo>
                  <a:pt x="1373" y="664"/>
                  <a:pt x="1385" y="649"/>
                  <a:pt x="1420" y="599"/>
                </a:cubicBezTo>
                <a:cubicBezTo>
                  <a:pt x="1455" y="549"/>
                  <a:pt x="1465" y="464"/>
                  <a:pt x="1465" y="464"/>
                </a:cubicBezTo>
                <a:cubicBezTo>
                  <a:pt x="1470" y="429"/>
                  <a:pt x="1464" y="416"/>
                  <a:pt x="1460" y="394"/>
                </a:cubicBezTo>
                <a:cubicBezTo>
                  <a:pt x="1456" y="372"/>
                  <a:pt x="1451" y="353"/>
                  <a:pt x="1443" y="332"/>
                </a:cubicBezTo>
                <a:cubicBezTo>
                  <a:pt x="1433" y="312"/>
                  <a:pt x="1428" y="290"/>
                  <a:pt x="1410" y="266"/>
                </a:cubicBezTo>
                <a:cubicBezTo>
                  <a:pt x="1392" y="242"/>
                  <a:pt x="1363" y="211"/>
                  <a:pt x="1335" y="189"/>
                </a:cubicBezTo>
                <a:cubicBezTo>
                  <a:pt x="1335" y="189"/>
                  <a:pt x="1299" y="160"/>
                  <a:pt x="1242" y="134"/>
                </a:cubicBezTo>
                <a:cubicBezTo>
                  <a:pt x="1185" y="108"/>
                  <a:pt x="1154" y="101"/>
                  <a:pt x="1116" y="89"/>
                </a:cubicBezTo>
                <a:cubicBezTo>
                  <a:pt x="1078" y="77"/>
                  <a:pt x="1063" y="72"/>
                  <a:pt x="1011" y="62"/>
                </a:cubicBezTo>
                <a:cubicBezTo>
                  <a:pt x="1011" y="62"/>
                  <a:pt x="879" y="38"/>
                  <a:pt x="801" y="26"/>
                </a:cubicBezTo>
                <a:cubicBezTo>
                  <a:pt x="727" y="15"/>
                  <a:pt x="629" y="9"/>
                  <a:pt x="564" y="5"/>
                </a:cubicBezTo>
                <a:cubicBezTo>
                  <a:pt x="499" y="1"/>
                  <a:pt x="449" y="2"/>
                  <a:pt x="411" y="2"/>
                </a:cubicBezTo>
                <a:cubicBezTo>
                  <a:pt x="374" y="1"/>
                  <a:pt x="358" y="0"/>
                  <a:pt x="336" y="2"/>
                </a:cubicBezTo>
                <a:cubicBezTo>
                  <a:pt x="314" y="2"/>
                  <a:pt x="288" y="2"/>
                  <a:pt x="279" y="5"/>
                </a:cubicBez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 flipH="1" flipV="1">
            <a:off x="204120" y="6247800"/>
            <a:ext cx="312840" cy="236520"/>
          </a:xfrm>
          <a:custGeom>
            <a:avLst/>
            <a:gdLst/>
            <a:ahLst/>
            <a:rect l="l" t="t" r="r" b="b"/>
            <a:pathLst>
              <a:path w="1470" h="999">
                <a:moveTo>
                  <a:pt x="279" y="5"/>
                </a:moveTo>
                <a:cubicBezTo>
                  <a:pt x="333" y="20"/>
                  <a:pt x="361" y="24"/>
                  <a:pt x="393" y="32"/>
                </a:cubicBezTo>
                <a:cubicBezTo>
                  <a:pt x="425" y="40"/>
                  <a:pt x="439" y="44"/>
                  <a:pt x="474" y="53"/>
                </a:cubicBezTo>
                <a:cubicBezTo>
                  <a:pt x="474" y="53"/>
                  <a:pt x="603" y="89"/>
                  <a:pt x="603" y="89"/>
                </a:cubicBezTo>
                <a:cubicBezTo>
                  <a:pt x="637" y="100"/>
                  <a:pt x="656" y="108"/>
                  <a:pt x="678" y="119"/>
                </a:cubicBezTo>
                <a:cubicBezTo>
                  <a:pt x="700" y="130"/>
                  <a:pt x="724" y="145"/>
                  <a:pt x="738" y="155"/>
                </a:cubicBezTo>
                <a:cubicBezTo>
                  <a:pt x="752" y="165"/>
                  <a:pt x="757" y="173"/>
                  <a:pt x="765" y="182"/>
                </a:cubicBezTo>
                <a:cubicBezTo>
                  <a:pt x="773" y="191"/>
                  <a:pt x="780" y="200"/>
                  <a:pt x="785" y="209"/>
                </a:cubicBezTo>
                <a:cubicBezTo>
                  <a:pt x="794" y="223"/>
                  <a:pt x="793" y="227"/>
                  <a:pt x="795" y="239"/>
                </a:cubicBezTo>
                <a:cubicBezTo>
                  <a:pt x="797" y="251"/>
                  <a:pt x="800" y="268"/>
                  <a:pt x="800" y="279"/>
                </a:cubicBezTo>
                <a:cubicBezTo>
                  <a:pt x="801" y="296"/>
                  <a:pt x="801" y="296"/>
                  <a:pt x="798" y="308"/>
                </a:cubicBezTo>
                <a:cubicBezTo>
                  <a:pt x="795" y="320"/>
                  <a:pt x="787" y="336"/>
                  <a:pt x="780" y="349"/>
                </a:cubicBezTo>
                <a:cubicBezTo>
                  <a:pt x="772" y="361"/>
                  <a:pt x="765" y="375"/>
                  <a:pt x="753" y="386"/>
                </a:cubicBezTo>
                <a:cubicBezTo>
                  <a:pt x="740" y="399"/>
                  <a:pt x="721" y="414"/>
                  <a:pt x="702" y="425"/>
                </a:cubicBezTo>
                <a:cubicBezTo>
                  <a:pt x="683" y="436"/>
                  <a:pt x="662" y="444"/>
                  <a:pt x="642" y="452"/>
                </a:cubicBezTo>
                <a:cubicBezTo>
                  <a:pt x="622" y="460"/>
                  <a:pt x="612" y="466"/>
                  <a:pt x="585" y="473"/>
                </a:cubicBezTo>
                <a:cubicBezTo>
                  <a:pt x="585" y="473"/>
                  <a:pt x="535" y="486"/>
                  <a:pt x="480" y="494"/>
                </a:cubicBezTo>
                <a:cubicBezTo>
                  <a:pt x="425" y="502"/>
                  <a:pt x="370" y="504"/>
                  <a:pt x="295" y="504"/>
                </a:cubicBezTo>
                <a:cubicBezTo>
                  <a:pt x="220" y="504"/>
                  <a:pt x="235" y="499"/>
                  <a:pt x="145" y="504"/>
                </a:cubicBezTo>
                <a:cubicBezTo>
                  <a:pt x="72" y="751"/>
                  <a:pt x="0" y="999"/>
                  <a:pt x="0" y="999"/>
                </a:cubicBezTo>
                <a:cubicBezTo>
                  <a:pt x="0" y="999"/>
                  <a:pt x="230" y="999"/>
                  <a:pt x="230" y="999"/>
                </a:cubicBezTo>
                <a:cubicBezTo>
                  <a:pt x="230" y="999"/>
                  <a:pt x="490" y="984"/>
                  <a:pt x="490" y="984"/>
                </a:cubicBezTo>
                <a:cubicBezTo>
                  <a:pt x="556" y="979"/>
                  <a:pt x="582" y="975"/>
                  <a:pt x="627" y="968"/>
                </a:cubicBezTo>
                <a:cubicBezTo>
                  <a:pt x="672" y="961"/>
                  <a:pt x="717" y="953"/>
                  <a:pt x="760" y="944"/>
                </a:cubicBezTo>
                <a:cubicBezTo>
                  <a:pt x="803" y="935"/>
                  <a:pt x="846" y="925"/>
                  <a:pt x="888" y="914"/>
                </a:cubicBezTo>
                <a:cubicBezTo>
                  <a:pt x="930" y="903"/>
                  <a:pt x="971" y="894"/>
                  <a:pt x="1015" y="879"/>
                </a:cubicBezTo>
                <a:cubicBezTo>
                  <a:pt x="1078" y="858"/>
                  <a:pt x="1106" y="846"/>
                  <a:pt x="1150" y="824"/>
                </a:cubicBezTo>
                <a:cubicBezTo>
                  <a:pt x="1194" y="802"/>
                  <a:pt x="1247" y="771"/>
                  <a:pt x="1280" y="749"/>
                </a:cubicBezTo>
                <a:cubicBezTo>
                  <a:pt x="1312" y="724"/>
                  <a:pt x="1329" y="712"/>
                  <a:pt x="1350" y="689"/>
                </a:cubicBezTo>
                <a:cubicBezTo>
                  <a:pt x="1373" y="664"/>
                  <a:pt x="1385" y="649"/>
                  <a:pt x="1420" y="599"/>
                </a:cubicBezTo>
                <a:cubicBezTo>
                  <a:pt x="1455" y="549"/>
                  <a:pt x="1465" y="464"/>
                  <a:pt x="1465" y="464"/>
                </a:cubicBezTo>
                <a:cubicBezTo>
                  <a:pt x="1470" y="429"/>
                  <a:pt x="1464" y="416"/>
                  <a:pt x="1460" y="394"/>
                </a:cubicBezTo>
                <a:cubicBezTo>
                  <a:pt x="1456" y="372"/>
                  <a:pt x="1451" y="353"/>
                  <a:pt x="1443" y="332"/>
                </a:cubicBezTo>
                <a:cubicBezTo>
                  <a:pt x="1433" y="312"/>
                  <a:pt x="1428" y="290"/>
                  <a:pt x="1410" y="266"/>
                </a:cubicBezTo>
                <a:cubicBezTo>
                  <a:pt x="1392" y="242"/>
                  <a:pt x="1363" y="211"/>
                  <a:pt x="1335" y="189"/>
                </a:cubicBezTo>
                <a:cubicBezTo>
                  <a:pt x="1335" y="189"/>
                  <a:pt x="1299" y="160"/>
                  <a:pt x="1242" y="134"/>
                </a:cubicBezTo>
                <a:cubicBezTo>
                  <a:pt x="1185" y="108"/>
                  <a:pt x="1154" y="101"/>
                  <a:pt x="1116" y="89"/>
                </a:cubicBezTo>
                <a:cubicBezTo>
                  <a:pt x="1078" y="77"/>
                  <a:pt x="1063" y="72"/>
                  <a:pt x="1011" y="62"/>
                </a:cubicBezTo>
                <a:cubicBezTo>
                  <a:pt x="1011" y="62"/>
                  <a:pt x="879" y="38"/>
                  <a:pt x="801" y="26"/>
                </a:cubicBezTo>
                <a:cubicBezTo>
                  <a:pt x="727" y="15"/>
                  <a:pt x="629" y="9"/>
                  <a:pt x="564" y="5"/>
                </a:cubicBezTo>
                <a:cubicBezTo>
                  <a:pt x="499" y="1"/>
                  <a:pt x="449" y="2"/>
                  <a:pt x="411" y="2"/>
                </a:cubicBezTo>
                <a:cubicBezTo>
                  <a:pt x="374" y="1"/>
                  <a:pt x="358" y="0"/>
                  <a:pt x="336" y="2"/>
                </a:cubicBezTo>
                <a:cubicBezTo>
                  <a:pt x="314" y="2"/>
                  <a:pt x="288" y="2"/>
                  <a:pt x="279" y="5"/>
                </a:cubicBez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 flipH="1">
            <a:off x="-360" y="1600200"/>
            <a:ext cx="624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6161040" y="1523880"/>
            <a:ext cx="87480" cy="103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 flipV="1">
            <a:off x="1771200" y="3807000"/>
            <a:ext cx="5543640" cy="2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47800" y="3706920"/>
            <a:ext cx="87480" cy="1029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-6971400" y="1440"/>
            <a:ext cx="16787520" cy="5486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269" y="13"/>
                </a:moveTo>
                <a:arcTo wR="10800" hR="10800" stAng="-5569118" swAng="2590457"/>
                <a:lnTo>
                  <a:pt x="10800" y="10800"/>
                </a:lnTo>
                <a:close/>
              </a:path>
              <a:path fill="none" w="21600" h="21600">
                <a:moveTo>
                  <a:pt x="10269" y="13"/>
                </a:moveTo>
                <a:arcTo wR="10800" hR="10800" stAng="-5569118" swAng="2590457"/>
              </a:path>
            </a:pathLst>
          </a:cu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0"/>
            <a:ext cx="2200320" cy="95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6400800" y="0"/>
            <a:ext cx="2743200" cy="3638520"/>
            <a:chOff x="6400800" y="0"/>
            <a:chExt cx="2743200" cy="3638520"/>
          </a:xfrm>
        </p:grpSpPr>
        <p:sp>
          <p:nvSpPr>
            <p:cNvPr id="55" name=""/>
            <p:cNvSpPr/>
            <p:nvPr/>
          </p:nvSpPr>
          <p:spPr>
            <a:xfrm>
              <a:off x="7429680" y="2849400"/>
              <a:ext cx="87120" cy="103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6" name="" descr=""/>
            <p:cNvPicPr/>
            <p:nvPr/>
          </p:nvPicPr>
          <p:blipFill>
            <a:blip r:embed="rId2"/>
            <a:stretch/>
          </p:blipFill>
          <p:spPr>
            <a:xfrm>
              <a:off x="6400800" y="0"/>
              <a:ext cx="2743200" cy="3581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" name="pic_tech" descr=""/>
            <p:cNvPicPr/>
            <p:nvPr/>
          </p:nvPicPr>
          <p:blipFill>
            <a:blip r:embed="rId3">
              <a:lum bright="70000" contrast="-70000"/>
            </a:blip>
            <a:stretch/>
          </p:blipFill>
          <p:spPr>
            <a:xfrm>
              <a:off x="7391520" y="838080"/>
              <a:ext cx="1508040" cy="280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" name="helmet" descr=""/>
            <p:cNvPicPr/>
            <p:nvPr/>
          </p:nvPicPr>
          <p:blipFill>
            <a:blip r:embed="rId4">
              <a:lum bright="70000" contrast="-70000"/>
            </a:blip>
            <a:stretch/>
          </p:blipFill>
          <p:spPr>
            <a:xfrm>
              <a:off x="7010640" y="304560"/>
              <a:ext cx="1523880" cy="1143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227160" indent="0" algn="ctr"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62712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969840" algn="ctr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311120" algn="ctr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3111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3111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2438280"/>
            <a:ext cx="73152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800" spc="-1" strike="noStrike">
                <a:solidFill>
                  <a:srgbClr val="000066"/>
                </a:solidFill>
                <a:latin typeface="Verdana"/>
              </a:rPr>
              <a:t>Processamento e Transmissão Digital de Sinais de Voz:</a:t>
            </a:r>
            <a:br>
              <a:rPr sz="2800"/>
            </a:br>
            <a:r>
              <a:rPr b="0" lang="pt-BR" sz="2800" spc="-1" strike="noStrike">
                <a:solidFill>
                  <a:srgbClr val="000066"/>
                </a:solidFill>
                <a:latin typeface="Verdana"/>
              </a:rPr>
              <a:t>Mecanismo de Produção da Fala</a:t>
            </a:r>
            <a:r>
              <a:rPr b="1" lang="pt-BR" sz="3200" spc="-1" strike="noStrike">
                <a:solidFill>
                  <a:srgbClr val="000066"/>
                </a:solidFill>
                <a:latin typeface="Arial"/>
              </a:rPr>
              <a:t> </a:t>
            </a:r>
            <a:br>
              <a:rPr sz="2800"/>
            </a:b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218960" y="3733560"/>
            <a:ext cx="6553080" cy="1904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1800" spc="-1" strike="noStrike">
                <a:solidFill>
                  <a:srgbClr val="000066"/>
                </a:solidFill>
                <a:latin typeface="Verdana"/>
              </a:rPr>
              <a:t>Benedito Aguiar Guimarães Neto      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1800" spc="-1" strike="noStrike">
                <a:solidFill>
                  <a:srgbClr val="000066"/>
                </a:solidFill>
                <a:latin typeface="Verdana"/>
              </a:rPr>
              <a:t>Joseana Macêdo Fechine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66"/>
                </a:solidFill>
                <a:latin typeface="Verdana"/>
              </a:rPr>
              <a:t>Universidade Federal de Campina Grande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0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t-BR" sz="1800" spc="-1" strike="noStrike">
                <a:solidFill>
                  <a:srgbClr val="000066"/>
                </a:solidFill>
                <a:latin typeface="Verdana"/>
              </a:rPr>
              <a:t>bganeto@dee.ufcg.edu.br, joseana@dsc.ufcg.edu.br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57200" y="200016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  <a:ea typeface="Arial"/>
              </a:rPr>
              <a:t>Laringe - porção da via aérea que contém as cordas vocais.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  <a:ea typeface="Arial"/>
              </a:rPr>
              <a:t>Ela é dividida em supraglote (acima das cordas vocais), glote (região das cordas vocais) e subglote (região abaixo das cordas vocais). 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  <a:ea typeface="Arial"/>
              </a:rPr>
              <a:t>Supraglote - evita que os alimentos e a saliva entrem nos pulmões. Algumas estruturas da supraglote são: epiglote, aritenóides e falsas cordas vocais. 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3333cc"/>
                </a:solidFill>
                <a:latin typeface="Arial"/>
                <a:ea typeface="Arial"/>
              </a:rPr>
              <a:t>Cordas vocais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  <a:ea typeface="Arial"/>
              </a:rPr>
              <a:t> - fecham-se para gerar voz e abrem-se para que possamos respirar. 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title"/>
          </p:nvPr>
        </p:nvSpPr>
        <p:spPr>
          <a:xfrm>
            <a:off x="152280" y="53316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3200" spc="-1" strike="noStrike">
                <a:solidFill>
                  <a:srgbClr val="000066"/>
                </a:solidFill>
                <a:latin typeface="Verdana"/>
              </a:rPr>
              <a:t>O  aparelho fonador humano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C8BAB3-61B2-4349-A869-72C1F096BB5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3200" spc="-1" strike="noStrike">
                <a:solidFill>
                  <a:srgbClr val="000066"/>
                </a:solidFill>
                <a:latin typeface="Verdana"/>
              </a:rPr>
              <a:t>Traquéias, brônquios e bronquíolos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7772400" cy="312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85760" indent="-1857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São  tubos flexíveis, de extensibilidade limitada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185760" indent="0" algn="just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185760" indent="-18576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Servem como dutos aéreos para permitir a movimentação do ar entre o meio ambiente e os pulmões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1B0B8C-8FED-44DC-BFFE-442C6564D6E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3200" spc="-1" strike="noStrike">
                <a:solidFill>
                  <a:srgbClr val="000066"/>
                </a:solidFill>
                <a:latin typeface="Verdana"/>
              </a:rPr>
              <a:t>O  aparelho fonador humano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47640" y="19810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85760" indent="-1857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Fossas nasai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185760"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185760" indent="-1857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Boca e anexo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185760"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185760" indent="-1857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Anexos - (língua, os palatos duro e mole, a úvula,  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os dentes, os alvéolos dentários, os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lábios e as bochechas)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185760"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51C4DA-69D8-40DB-B4EA-78F39220BC3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533520"/>
            <a:ext cx="5334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3200" spc="-1" strike="noStrike">
                <a:solidFill>
                  <a:srgbClr val="000066"/>
                </a:solidFill>
                <a:latin typeface="Verdana"/>
              </a:rPr>
              <a:t>Úvula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Quando a úvula é levantada contra a parede da faringe, o movimento da coluna de ar se faz quase que exclusivamente pela boca, gerando os </a:t>
            </a:r>
            <a:r>
              <a:rPr b="1" lang="pt-BR" sz="2400" spc="-1" strike="noStrike" u="sng">
                <a:solidFill>
                  <a:srgbClr val="3333cc"/>
                </a:solidFill>
                <a:uFillTx/>
                <a:latin typeface="Arial"/>
              </a:rPr>
              <a:t>fonemas orais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No entanto, quando ela é rebaixada em direção à língua, o ar se movimenta principalmente pelas fossas nasais, produzindo-se, então, os </a:t>
            </a:r>
            <a:r>
              <a:rPr b="1" lang="pt-BR" sz="2400" spc="-1" strike="noStrike" u="sng">
                <a:solidFill>
                  <a:srgbClr val="3333cc"/>
                </a:solidFill>
                <a:uFillTx/>
                <a:latin typeface="Arial"/>
              </a:rPr>
              <a:t>fonemas nasai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E0A75F-4467-403E-B02B-04D0E9D036E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5562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3200" spc="-1" strike="noStrike">
                <a:solidFill>
                  <a:srgbClr val="000066"/>
                </a:solidFill>
                <a:latin typeface="Verdana"/>
              </a:rPr>
              <a:t>Produção da voz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85760" indent="-1857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Vibração das cordas vocai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185760"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185760" indent="-18576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O som é produzido por fragmentação da corrente aérea, semelhante aos instrumentos de sopro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C56068-71A4-4245-B83B-B27318F56DA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533160" y="3581280"/>
            <a:ext cx="739116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85760" indent="-18576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Gradiente de pressão entre as superfícies superior e inferior das cordas vocais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185760" indent="-18576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lasticidade das cordas vocai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185760" indent="-18576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feito Venturi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185760"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04920" y="2133720"/>
            <a:ext cx="739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400" spc="-1" strike="noStrike">
                <a:solidFill>
                  <a:srgbClr val="000066"/>
                </a:solidFill>
                <a:latin typeface="Arial"/>
              </a:rPr>
              <a:t>Fatores de natureza biofísica  que  interferem  na vibração das cordas voca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title"/>
          </p:nvPr>
        </p:nvSpPr>
        <p:spPr>
          <a:xfrm>
            <a:off x="533520" y="533160"/>
            <a:ext cx="548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3200" spc="-1" strike="noStrike">
                <a:solidFill>
                  <a:srgbClr val="000066"/>
                </a:solidFill>
                <a:latin typeface="Verdana"/>
              </a:rPr>
              <a:t>Produção da voz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BE3EC0-A62A-416F-AF78-48C10BFCAE8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3200" spc="-1" strike="noStrike">
                <a:solidFill>
                  <a:srgbClr val="000066"/>
                </a:solidFill>
                <a:latin typeface="Verdana"/>
              </a:rPr>
              <a:t>Fatores que alteram a voz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2388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85760" indent="-1857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Geometria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185760" indent="-1857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Massa das cordas vocai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185760" indent="-18576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Testosterona - aumenta a massa das cordas vocais e desenvolve a  laringe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185760" indent="-18576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Adulto possui voz mais grave que a criança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5D8DA6-1684-4242-9957-9E081B26301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228600" y="19051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O gosto pelo virtuosismo chegou ao seu ponto extremo com o fenômeno do castrato, indivíduo que, por meios cirúrgicos que o tornam eunuco, conserva, depois de adulto, sua voz de criança, acrescida de tudo que pode proporcionar a cultura e a arte de um adulto. Os castrati reinaram na Europa do século XVIII. Formados em escolas especiais, adquiriam um virtuosismo inigualável (capacidade de sustentar a respiração, velocidade, domínio do timbre, extensão de três oitavas, expressividade, etc.). A ópera italiana era escrita para eles , na qual tanto faziam papéis masculinos como femininos. Os castrati de sucesso foram as vedetes da época barroca, ganhando fortunas que fariam nossos grandes astros do cinema parecerem amadores.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Farineli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cantava 150 notas de um só fôlego. Era um homem sério e um grande artista, que percorria a Europa disputado a peso de ouro. Tendo cantado para Luís XV e recebido, a título de agradecimento, um cofre de ouro constelado de diamantes, cheio de moedas de ouro, declarou, indignado, que jamais voltaria a pôr os pés naquele país de mendigos... </a:t>
            </a:r>
            <a:endParaRPr b="1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O último castrato famoso, Moreschi, morto em 1922, gravou em 1902 alguns preciosos registros.</a:t>
            </a:r>
            <a:endParaRPr b="1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Informações interessantes: http://www.infonet.com.br/mozart/Manz.htm</a:t>
            </a:r>
            <a:endParaRPr b="1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3049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3200" spc="-1" strike="noStrike">
                <a:solidFill>
                  <a:srgbClr val="000066"/>
                </a:solidFill>
                <a:latin typeface="Verdana"/>
              </a:rPr>
              <a:t>Informação adicional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9D0A21-19B5-4C1E-87FD-902A3D0C3E6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3200" spc="-1" strike="noStrike">
                <a:solidFill>
                  <a:srgbClr val="000066"/>
                </a:solidFill>
                <a:latin typeface="Verdana"/>
              </a:rPr>
              <a:t>Cavidades ressonantes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As cavidades bucal, nasal, faríngea e laríngea funcionam como sistema que ressoa na faixa de 300 a 500 Hz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Os grossos brônquios (diâmetro maior do que 3 mm) apresentam ressonância para freqüências entre 1.000 e 1.700 Hz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Hipertrofias das amídalas, cornetos nasais e tumores nas cavidades modificam a qualidade do sons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58D17B-906E-4145-8D04-41EA5EFF0FD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3200" spc="-1" strike="noStrike">
                <a:solidFill>
                  <a:srgbClr val="000066"/>
                </a:solidFill>
                <a:latin typeface="Verdana"/>
              </a:rPr>
              <a:t>Os fonemas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85760" indent="-185760"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400" spc="-1" strike="noStrike" u="sng">
                <a:solidFill>
                  <a:srgbClr val="3333cc"/>
                </a:solidFill>
                <a:uFillTx/>
                <a:latin typeface="Arial"/>
              </a:rPr>
              <a:t>Vogais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- são fonemas sonoros gerados na laringe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185760"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185760" indent="-185760"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400" spc="-1" strike="noStrike" u="sng">
                <a:solidFill>
                  <a:srgbClr val="3333cc"/>
                </a:solidFill>
                <a:uFillTx/>
                <a:latin typeface="Arial"/>
              </a:rPr>
              <a:t>Semivogais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- são os fonemas  i  ou  u átonos, quando estes aparecem unidos a uma vogal, formando com esta uma só sílaba. Ex. va</a:t>
            </a: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i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, o</a:t>
            </a: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u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ro, ág</a:t>
            </a: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u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a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185760"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185760" indent="-185760"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400" spc="-1" strike="noStrike" u="sng">
                <a:solidFill>
                  <a:srgbClr val="3333cc"/>
                </a:solidFill>
                <a:uFillTx/>
                <a:latin typeface="Arial"/>
              </a:rPr>
              <a:t>Consoantes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- são ruídos,i.é., não são sons musicais. Elas se formam ao nível da boca pelo concurso dos seus órgãos anexos e acessórios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BF86A0-998C-45BA-96D2-5385B983064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3200" spc="-1" strike="noStrike">
                <a:solidFill>
                  <a:srgbClr val="000066"/>
                </a:solidFill>
                <a:latin typeface="Verdana"/>
              </a:rPr>
              <a:t>Fala e Linguagem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520" y="182880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85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mbora os termos fala e linguagem sejam usados freqüentemente, não são sinônimos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185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185760" indent="-1857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400" spc="-1" strike="noStrike">
                <a:solidFill>
                  <a:srgbClr val="3333cc"/>
                </a:solidFill>
                <a:latin typeface="Arial"/>
              </a:rPr>
              <a:t>Linguagem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 refere-se à habilidade em manipular os símbolos. Os símbolos mais usados são as palavras, embora estas nem sempre tenham que ser ditas em voz alta. A linguagem significa expressar e receber informações de modo significativo. É compreender e ser compreendido através da comunicação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1857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200" spc="-1" strike="noStrike">
              <a:solidFill>
                <a:srgbClr val="000066"/>
              </a:solidFill>
              <a:latin typeface="Arial"/>
            </a:endParaRPr>
          </a:p>
          <a:p>
            <a:pPr marL="185760" indent="-1857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400" spc="-1" strike="noStrike">
                <a:solidFill>
                  <a:srgbClr val="3333cc"/>
                </a:solidFill>
                <a:latin typeface="Arial"/>
              </a:rPr>
              <a:t>Fala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 A fala se refere basicamente à forma de articular sons nas palavras. A fala refere-se à produção de um conjunto especifico de símbolos verbais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185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E11998-5B57-4745-9E1B-73E8C785911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3200" spc="-1" strike="noStrike">
                <a:solidFill>
                  <a:srgbClr val="000066"/>
                </a:solidFill>
                <a:latin typeface="Verdana"/>
              </a:rPr>
              <a:t>Classificação dos sons da fala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49528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8576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800" spc="-1" strike="noStrike" u="sng">
                <a:solidFill>
                  <a:srgbClr val="000066"/>
                </a:solidFill>
                <a:uFillTx/>
                <a:latin typeface="Arial"/>
              </a:rPr>
              <a:t>As vogais: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185760"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18576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1. Zona de articulação: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1960" indent="-1857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média: a (amor)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1960" indent="-1857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anteriores: é, ê, i (pé, crê, vi)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1960" indent="-1857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posteriores: ó, ô, u (pó, avô, caju)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185760"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37" name="FIG2" descr=""/>
          <p:cNvPicPr/>
          <p:nvPr/>
        </p:nvPicPr>
        <p:blipFill>
          <a:blip r:embed="rId1"/>
          <a:srcRect l="0" t="0" r="0" b="7298"/>
          <a:stretch/>
        </p:blipFill>
        <p:spPr>
          <a:xfrm>
            <a:off x="5257800" y="2286000"/>
            <a:ext cx="3548160" cy="34765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10C995-B8ED-41B7-BD0A-B2200201B50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533160" y="190512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 u="sng">
                <a:solidFill>
                  <a:srgbClr val="000066"/>
                </a:solidFill>
                <a:uFillTx/>
                <a:latin typeface="Arial"/>
              </a:rPr>
              <a:t>As vogais: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Vogais anteriores (</a:t>
            </a:r>
            <a:r>
              <a:rPr b="1" lang="pt-BR" sz="2000" spc="-1" strike="noStrike">
                <a:solidFill>
                  <a:srgbClr val="3333cc"/>
                </a:solidFill>
                <a:latin typeface="Arial"/>
              </a:rPr>
              <a:t>é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pt-BR" sz="2000" spc="-1" strike="noStrike">
                <a:solidFill>
                  <a:srgbClr val="3333cc"/>
                </a:solidFill>
                <a:latin typeface="Arial"/>
              </a:rPr>
              <a:t>ê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pt-BR" sz="2000" spc="-1" strike="noStrike">
                <a:solidFill>
                  <a:srgbClr val="3333cc"/>
                </a:solidFill>
                <a:latin typeface="Arial"/>
              </a:rPr>
              <a:t>i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) - são emitidas abaixando-se a ponta da língua e elevando-se progressivamente a sua parte anterior em direção ao palato duro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 algn="just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Vogais posteriores (</a:t>
            </a:r>
            <a:r>
              <a:rPr b="1" lang="pt-BR" sz="2000" spc="-1" strike="noStrike">
                <a:solidFill>
                  <a:srgbClr val="3333cc"/>
                </a:solidFill>
                <a:latin typeface="Arial"/>
              </a:rPr>
              <a:t>ó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pt-BR" sz="2000" spc="-1" strike="noStrike">
                <a:solidFill>
                  <a:srgbClr val="3333cc"/>
                </a:solidFill>
                <a:latin typeface="Arial"/>
              </a:rPr>
              <a:t>ô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pt-BR" sz="2000" spc="-1" strike="noStrike">
                <a:solidFill>
                  <a:srgbClr val="3333cc"/>
                </a:solidFill>
                <a:latin typeface="Arial"/>
              </a:rPr>
              <a:t>u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) - exigem que se eleve cada vez mais a base da língua em direção ao palato, enquanto os lábios vão tomando uma forma arredondada e fechada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A vogal média  </a:t>
            </a:r>
            <a:r>
              <a:rPr b="1" lang="pt-BR" sz="2000" spc="-1" strike="noStrike">
                <a:solidFill>
                  <a:srgbClr val="3333cc"/>
                </a:solidFill>
                <a:latin typeface="Arial"/>
              </a:rPr>
              <a:t>a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 é produzida com a língua em posição de descanso e a boca entreaberta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title"/>
          </p:nvPr>
        </p:nvSpPr>
        <p:spPr>
          <a:xfrm>
            <a:off x="15228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3200" spc="-1" strike="noStrike">
                <a:solidFill>
                  <a:srgbClr val="000066"/>
                </a:solidFill>
                <a:latin typeface="Verdana"/>
              </a:rPr>
              <a:t>Classificação dos sons da fala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8B87BF-478A-4304-BD09-036E768B63B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533520" y="1905120"/>
            <a:ext cx="765792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 u="sng">
                <a:solidFill>
                  <a:srgbClr val="333399"/>
                </a:solidFill>
                <a:uFillTx/>
                <a:latin typeface="Arial"/>
              </a:rPr>
              <a:t>As vogais: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2. Ressoador principal: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0" algn="just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cc"/>
                </a:solidFill>
                <a:latin typeface="Arial"/>
              </a:rPr>
              <a:t>Oral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- a, é, ê, i, ó, ô, u como nas palavras pato, ré, dê, vi, nó, fogo, luva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0" algn="just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cc"/>
                </a:solidFill>
                <a:latin typeface="Arial"/>
              </a:rPr>
              <a:t>Nasal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- a, e, i, o , u quando acentuadas pelo til ou quando antecedem o </a:t>
            </a: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n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ou o </a:t>
            </a: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m,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omo nas palavras vã, vento, fim, bom, fundo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15228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3200" spc="-1" strike="noStrike">
                <a:solidFill>
                  <a:srgbClr val="000066"/>
                </a:solidFill>
                <a:latin typeface="Verdana"/>
              </a:rPr>
              <a:t>Classificação dos sons da fala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C11203-04F2-4219-A1B4-AFCBD58E3D4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304560" y="1981080"/>
            <a:ext cx="408132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A úvula e palato mole exercem uma função de grande importância na fonação, pois podem modificar o timbre do fonema.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Pelo movimento dessas estruturas, a coluna de ar pode ser expelida pela boca dando origem aos fonemas </a:t>
            </a:r>
            <a:r>
              <a:rPr b="1" lang="pt-BR" sz="2000" spc="-1" strike="noStrike" u="sng">
                <a:solidFill>
                  <a:srgbClr val="000000"/>
                </a:solidFill>
                <a:uFillTx/>
                <a:latin typeface="Arial"/>
              </a:rPr>
              <a:t>orais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, ou pelo nariz, quando então se formam os fonemas </a:t>
            </a:r>
            <a:r>
              <a:rPr b="1" lang="pt-BR" sz="2000" spc="-1" strike="noStrike" u="sng">
                <a:solidFill>
                  <a:srgbClr val="000000"/>
                </a:solidFill>
                <a:uFillTx/>
                <a:latin typeface="Arial"/>
              </a:rPr>
              <a:t>nasais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43" name="FIG1" descr=""/>
          <p:cNvPicPr/>
          <p:nvPr/>
        </p:nvPicPr>
        <p:blipFill>
          <a:blip r:embed="rId1"/>
          <a:stretch/>
        </p:blipFill>
        <p:spPr>
          <a:xfrm>
            <a:off x="4916520" y="1905120"/>
            <a:ext cx="3228840" cy="45720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144" name="PlaceHolder 2"/>
          <p:cNvSpPr>
            <a:spLocks noGrp="1"/>
          </p:cNvSpPr>
          <p:nvPr>
            <p:ph type="title"/>
          </p:nvPr>
        </p:nvSpPr>
        <p:spPr>
          <a:xfrm>
            <a:off x="1522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3200" spc="-1" strike="noStrike">
                <a:solidFill>
                  <a:srgbClr val="000066"/>
                </a:solidFill>
                <a:latin typeface="Verdana"/>
              </a:rPr>
              <a:t>Classificação dos sons da fala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E2A73C-7E23-4005-86E4-7D5E52030E4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757760" y="1905120"/>
            <a:ext cx="354816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tônicas: j</a:t>
            </a:r>
            <a:r>
              <a:rPr b="1" lang="pt-BR" sz="2000" spc="-1" strike="noStrike" u="sng">
                <a:solidFill>
                  <a:srgbClr val="000000"/>
                </a:solidFill>
                <a:uFillTx/>
                <a:latin typeface="Arial"/>
              </a:rPr>
              <a:t>á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, acaraj</a:t>
            </a:r>
            <a:r>
              <a:rPr b="1" lang="pt-BR" sz="2000" spc="-1" strike="noStrike" u="sng">
                <a:solidFill>
                  <a:srgbClr val="000000"/>
                </a:solidFill>
                <a:uFillTx/>
                <a:latin typeface="Arial"/>
              </a:rPr>
              <a:t>é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, p</a:t>
            </a:r>
            <a:r>
              <a:rPr b="1" lang="pt-BR" sz="2000" spc="-1" strike="noStrike" u="sng">
                <a:solidFill>
                  <a:srgbClr val="000000"/>
                </a:solidFill>
                <a:uFillTx/>
                <a:latin typeface="Arial"/>
              </a:rPr>
              <a:t>e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lo, aqu</a:t>
            </a:r>
            <a:r>
              <a:rPr b="1" lang="pt-BR" sz="2000" spc="-1" strike="noStrike" u="sng">
                <a:solidFill>
                  <a:srgbClr val="000000"/>
                </a:solidFill>
                <a:uFillTx/>
                <a:latin typeface="Arial"/>
              </a:rPr>
              <a:t>i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, p</a:t>
            </a:r>
            <a:r>
              <a:rPr b="1" lang="pt-BR" sz="2000" spc="-1" strike="noStrike" u="sng">
                <a:solidFill>
                  <a:srgbClr val="000000"/>
                </a:solidFill>
                <a:uFillTx/>
                <a:latin typeface="Arial"/>
              </a:rPr>
              <a:t>o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ldro, p</a:t>
            </a:r>
            <a:r>
              <a:rPr b="1" lang="pt-BR" sz="2000" spc="-1" strike="noStrike" u="sng">
                <a:solidFill>
                  <a:srgbClr val="000000"/>
                </a:solidFill>
                <a:uFillTx/>
                <a:latin typeface="Arial"/>
              </a:rPr>
              <a:t>u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subtônicas: armistíci</a:t>
            </a:r>
            <a:r>
              <a:rPr b="1" lang="pt-BR" sz="2000" spc="-1" strike="noStrike" u="sng">
                <a:solidFill>
                  <a:srgbClr val="000000"/>
                </a:solidFill>
                <a:uFillTx/>
                <a:latin typeface="Arial"/>
              </a:rPr>
              <a:t>o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, cafezinh</a:t>
            </a:r>
            <a:r>
              <a:rPr b="1" lang="pt-BR" sz="2000" spc="-1" strike="noStrike" u="sng">
                <a:solidFill>
                  <a:srgbClr val="000000"/>
                </a:solidFill>
                <a:uFillTx/>
                <a:latin typeface="Arial"/>
              </a:rPr>
              <a:t>o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, compadr</a:t>
            </a:r>
            <a:r>
              <a:rPr b="1" lang="pt-BR" sz="2000" spc="-1" strike="noStrike" u="sng">
                <a:solidFill>
                  <a:srgbClr val="000000"/>
                </a:solidFill>
                <a:uFillTx/>
                <a:latin typeface="Arial"/>
              </a:rPr>
              <a:t>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átonas: vel</a:t>
            </a:r>
            <a:r>
              <a:rPr b="1" lang="pt-BR" sz="2000" spc="-1" strike="noStrike" u="sng">
                <a:solidFill>
                  <a:srgbClr val="000000"/>
                </a:solidFill>
                <a:uFillTx/>
                <a:latin typeface="Arial"/>
              </a:rPr>
              <a:t>a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, bol</a:t>
            </a:r>
            <a:r>
              <a:rPr b="1" lang="pt-BR" sz="2000" spc="-1" strike="noStrike" u="sng">
                <a:solidFill>
                  <a:srgbClr val="000000"/>
                </a:solidFill>
                <a:uFillTx/>
                <a:latin typeface="Arial"/>
              </a:rPr>
              <a:t>e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, t</a:t>
            </a:r>
            <a:r>
              <a:rPr b="1" lang="pt-BR" sz="2000" spc="-1" strike="noStrike" u="sng">
                <a:solidFill>
                  <a:srgbClr val="000000"/>
                </a:solidFill>
                <a:uFillTx/>
                <a:latin typeface="Arial"/>
              </a:rPr>
              <a:t>i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ção, dad</a:t>
            </a:r>
            <a:r>
              <a:rPr b="1" lang="pt-BR" sz="2000" spc="-1" strike="noStrike" u="sng">
                <a:solidFill>
                  <a:srgbClr val="000000"/>
                </a:solidFill>
                <a:uFillTx/>
                <a:latin typeface="Arial"/>
              </a:rPr>
              <a:t>o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, j</a:t>
            </a:r>
            <a:r>
              <a:rPr b="1" lang="pt-BR" sz="2000" spc="-1" strike="noStrike" u="sng">
                <a:solidFill>
                  <a:srgbClr val="000000"/>
                </a:solidFill>
                <a:uFillTx/>
                <a:latin typeface="Arial"/>
              </a:rPr>
              <a:t>u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lgar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cc"/>
                </a:solidFill>
                <a:latin typeface="Arial"/>
              </a:rPr>
              <a:t>sílaba tônica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 - maior intensidad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cc"/>
                </a:solidFill>
                <a:latin typeface="Arial"/>
              </a:rPr>
              <a:t>sílabas subtônicas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 - média intensidad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cc"/>
                </a:solidFill>
                <a:latin typeface="Arial"/>
              </a:rPr>
              <a:t>sílabas átonas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 - baixa intensidade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46" name="FIG6" descr=""/>
          <p:cNvPicPr/>
          <p:nvPr/>
        </p:nvPicPr>
        <p:blipFill>
          <a:blip r:embed="rId1"/>
          <a:stretch/>
        </p:blipFill>
        <p:spPr>
          <a:xfrm>
            <a:off x="685800" y="2819520"/>
            <a:ext cx="3548160" cy="37177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147" name=""/>
          <p:cNvSpPr/>
          <p:nvPr/>
        </p:nvSpPr>
        <p:spPr>
          <a:xfrm>
            <a:off x="533160" y="2438280"/>
            <a:ext cx="213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3. A Intensida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152280" y="5335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3200" spc="-1" strike="noStrike">
                <a:solidFill>
                  <a:srgbClr val="000066"/>
                </a:solidFill>
                <a:latin typeface="Verdana"/>
              </a:rPr>
              <a:t>Classificação dos sons da fala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60800" y="1801800"/>
            <a:ext cx="197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800" spc="-1" strike="noStrike" u="sng">
                <a:solidFill>
                  <a:srgbClr val="333399"/>
                </a:solidFill>
                <a:uFillTx/>
                <a:latin typeface="Arial"/>
              </a:rPr>
              <a:t>As vogai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D600A9-2C2A-4AC4-A80D-07F34E81A8C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457200" y="3200400"/>
            <a:ext cx="4495680" cy="312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abertas: a, é, ó (v</a:t>
            </a:r>
            <a:r>
              <a:rPr b="1" lang="pt-BR" sz="2000" spc="-1" strike="noStrike" u="sng">
                <a:solidFill>
                  <a:srgbClr val="000000"/>
                </a:solidFill>
                <a:uFillTx/>
                <a:latin typeface="Arial"/>
              </a:rPr>
              <a:t>á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, f</a:t>
            </a:r>
            <a:r>
              <a:rPr b="1" lang="pt-BR" sz="2000" spc="-1" strike="noStrike" u="sng">
                <a:solidFill>
                  <a:srgbClr val="000000"/>
                </a:solidFill>
                <a:uFillTx/>
                <a:latin typeface="Arial"/>
              </a:rPr>
              <a:t>é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, jil</a:t>
            </a:r>
            <a:r>
              <a:rPr b="1" lang="pt-BR" sz="2000" spc="-1" strike="noStrike" u="sng">
                <a:solidFill>
                  <a:srgbClr val="000000"/>
                </a:solidFill>
                <a:uFillTx/>
                <a:latin typeface="Arial"/>
              </a:rPr>
              <a:t>ó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fechadas: ê, ô, i, u e todas as nasais (ip</a:t>
            </a:r>
            <a:r>
              <a:rPr b="1" lang="pt-BR" sz="2000" spc="-1" strike="noStrike" u="sng">
                <a:solidFill>
                  <a:srgbClr val="000000"/>
                </a:solidFill>
                <a:uFillTx/>
                <a:latin typeface="Arial"/>
              </a:rPr>
              <a:t>ê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, d</a:t>
            </a:r>
            <a:r>
              <a:rPr b="1" lang="pt-BR" sz="2000" spc="-1" strike="noStrike" u="sng">
                <a:solidFill>
                  <a:srgbClr val="000000"/>
                </a:solidFill>
                <a:uFillTx/>
                <a:latin typeface="Arial"/>
              </a:rPr>
              <a:t>o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r, v</a:t>
            </a:r>
            <a:r>
              <a:rPr b="1" lang="pt-BR" sz="2000" spc="-1" strike="noStrike" u="sng">
                <a:solidFill>
                  <a:srgbClr val="000000"/>
                </a:solidFill>
                <a:uFillTx/>
                <a:latin typeface="Arial"/>
              </a:rPr>
              <a:t>i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, it</a:t>
            </a:r>
            <a:r>
              <a:rPr b="1" lang="pt-BR" sz="2000" spc="-1" strike="noStrike" u="sng">
                <a:solidFill>
                  <a:srgbClr val="000000"/>
                </a:solidFill>
                <a:uFillTx/>
                <a:latin typeface="Arial"/>
              </a:rPr>
              <a:t>u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, v</a:t>
            </a:r>
            <a:r>
              <a:rPr b="1" lang="pt-BR" sz="2000" spc="-1" strike="noStrike" u="sng">
                <a:solidFill>
                  <a:srgbClr val="000000"/>
                </a:solidFill>
                <a:uFillTx/>
                <a:latin typeface="Arial"/>
              </a:rPr>
              <a:t>ã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, f</a:t>
            </a:r>
            <a:r>
              <a:rPr b="1" lang="pt-BR" sz="2000" spc="-1" strike="noStrike" u="sng">
                <a:solidFill>
                  <a:srgbClr val="000000"/>
                </a:solidFill>
                <a:uFillTx/>
                <a:latin typeface="Arial"/>
              </a:rPr>
              <a:t>e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nda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reduzidas: as vogais átonas orais ou nasais (revel</a:t>
            </a:r>
            <a:r>
              <a:rPr b="1" lang="pt-BR" sz="2000" spc="-1" strike="noStrike" u="sng">
                <a:solidFill>
                  <a:srgbClr val="000000"/>
                </a:solidFill>
                <a:uFillTx/>
                <a:latin typeface="Arial"/>
              </a:rPr>
              <a:t>a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, bul</a:t>
            </a:r>
            <a:r>
              <a:rPr b="1" lang="pt-BR" sz="2000" spc="-1" strike="noStrike" u="sng">
                <a:solidFill>
                  <a:srgbClr val="000000"/>
                </a:solidFill>
                <a:uFillTx/>
                <a:latin typeface="Arial"/>
              </a:rPr>
              <a:t>e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, s</a:t>
            </a:r>
            <a:r>
              <a:rPr b="1" lang="pt-BR" sz="2000" spc="-1" strike="noStrike" u="sng">
                <a:solidFill>
                  <a:srgbClr val="000000"/>
                </a:solidFill>
                <a:uFillTx/>
                <a:latin typeface="Arial"/>
              </a:rPr>
              <a:t>i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sal, rat</a:t>
            </a:r>
            <a:r>
              <a:rPr b="1" lang="pt-BR" sz="2000" spc="-1" strike="noStrike" u="sng">
                <a:solidFill>
                  <a:srgbClr val="000000"/>
                </a:solidFill>
                <a:uFillTx/>
                <a:latin typeface="Arial"/>
              </a:rPr>
              <a:t>o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, unçã</a:t>
            </a:r>
            <a:r>
              <a:rPr b="1" lang="pt-BR" sz="2000" spc="-1" strike="noStrike" u="sng">
                <a:solidFill>
                  <a:srgbClr val="000000"/>
                </a:solidFill>
                <a:uFillTx/>
                <a:latin typeface="Arial"/>
              </a:rPr>
              <a:t>o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pt-BR" sz="2000" spc="-1" strike="noStrike" u="sng">
                <a:solidFill>
                  <a:srgbClr val="000000"/>
                </a:solidFill>
                <a:uFillTx/>
                <a:latin typeface="Arial"/>
              </a:rPr>
              <a:t>a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mei, entã</a:t>
            </a:r>
            <a:r>
              <a:rPr b="1" lang="pt-BR" sz="2000" spc="-1" strike="noStrike" u="sng">
                <a:solidFill>
                  <a:srgbClr val="000000"/>
                </a:solidFill>
                <a:uFillTx/>
                <a:latin typeface="Arial"/>
              </a:rPr>
              <a:t>o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51" name="FIG4" descr=""/>
          <p:cNvPicPr/>
          <p:nvPr/>
        </p:nvPicPr>
        <p:blipFill>
          <a:blip r:embed="rId1"/>
          <a:stretch/>
        </p:blipFill>
        <p:spPr>
          <a:xfrm>
            <a:off x="5029200" y="2286000"/>
            <a:ext cx="3548160" cy="34290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152" name=""/>
          <p:cNvSpPr/>
          <p:nvPr/>
        </p:nvSpPr>
        <p:spPr>
          <a:xfrm>
            <a:off x="457200" y="2514600"/>
            <a:ext cx="143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O timb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60800" y="1801800"/>
            <a:ext cx="197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800" spc="-1" strike="noStrike" u="sng">
                <a:solidFill>
                  <a:srgbClr val="333399"/>
                </a:solidFill>
                <a:uFillTx/>
                <a:latin typeface="Arial"/>
              </a:rPr>
              <a:t>As vogai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title"/>
          </p:nvPr>
        </p:nvSpPr>
        <p:spPr>
          <a:xfrm>
            <a:off x="152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3200" spc="-1" strike="noStrike">
                <a:solidFill>
                  <a:srgbClr val="000066"/>
                </a:solidFill>
                <a:latin typeface="Verdana"/>
              </a:rPr>
              <a:t>Classificação dos sons da fala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30A190-75E1-48AD-A6FD-2FE59682511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4419360" y="2133360"/>
            <a:ext cx="4190760" cy="37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85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Classificação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185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185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1. Modo de articulação: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1857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185760" indent="-185760" algn="just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cc"/>
                </a:solidFill>
                <a:latin typeface="Arial"/>
              </a:rPr>
              <a:t>Oclusivas: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 quando ocorre o impedimento completo ao fluxo de saída do ar pela boca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1857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185760" indent="-185760" algn="just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cc"/>
                </a:solidFill>
                <a:latin typeface="Arial"/>
              </a:rPr>
              <a:t>Constritivas: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 quando ocorre impedimento parcial à expulsão do ar pela boca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56" name="FIG3" descr=""/>
          <p:cNvPicPr/>
          <p:nvPr/>
        </p:nvPicPr>
        <p:blipFill>
          <a:blip r:embed="rId1"/>
          <a:stretch/>
        </p:blipFill>
        <p:spPr>
          <a:xfrm>
            <a:off x="533520" y="2743200"/>
            <a:ext cx="3547800" cy="37209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157" name="PlaceHolder 2"/>
          <p:cNvSpPr>
            <a:spLocks noGrp="1"/>
          </p:cNvSpPr>
          <p:nvPr>
            <p:ph type="title"/>
          </p:nvPr>
        </p:nvSpPr>
        <p:spPr>
          <a:xfrm>
            <a:off x="15228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3200" spc="-1" strike="noStrike">
                <a:solidFill>
                  <a:srgbClr val="000066"/>
                </a:solidFill>
                <a:latin typeface="Verdana"/>
              </a:rPr>
              <a:t>Classificação dos sons da fala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2600" y="1801800"/>
            <a:ext cx="282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800" spc="-1" strike="noStrike" u="sng">
                <a:solidFill>
                  <a:srgbClr val="333399"/>
                </a:solidFill>
                <a:uFillTx/>
                <a:latin typeface="Arial"/>
              </a:rPr>
              <a:t>As consoant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9669DC-7254-4731-9D18-42389C9459B9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95360" y="2895120"/>
            <a:ext cx="815328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85760" indent="-185760"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000" spc="-1" strike="noStrike">
                <a:solidFill>
                  <a:srgbClr val="3333cc"/>
                </a:solidFill>
                <a:latin typeface="Arial"/>
              </a:rPr>
              <a:t>fricativas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: quando o ar é expulso por um conduto oral estreitado ou pelos lábios quase fechados (f, v, x, ç, s, z, j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185760"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185760" indent="-185760"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000" spc="-1" strike="noStrike">
                <a:solidFill>
                  <a:srgbClr val="3333cc"/>
                </a:solidFill>
                <a:latin typeface="Arial"/>
              </a:rPr>
              <a:t>vibrantes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: quando, ao sair, o ar vibra de modo áspero ( r 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185760"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185760" indent="-185760"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000" spc="-1" strike="noStrike">
                <a:solidFill>
                  <a:srgbClr val="3333cc"/>
                </a:solidFill>
                <a:latin typeface="Arial"/>
              </a:rPr>
              <a:t>laterais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: quando a língua fica em contato com o palato e obstrui o canal central da boca, deixando que o ar se escoe por canais situados próximos às bochechas (l, lh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185760"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04920" y="19051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400" spc="-1" strike="noStrike">
                <a:solidFill>
                  <a:srgbClr val="000066"/>
                </a:solidFill>
                <a:latin typeface="Arial"/>
              </a:rPr>
              <a:t>Neste grupo estão as consoant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152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3200" spc="-1" strike="noStrike">
                <a:solidFill>
                  <a:srgbClr val="000066"/>
                </a:solidFill>
                <a:latin typeface="Verdana"/>
              </a:rPr>
              <a:t>Classificação dos sons da fala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3D11BF-A7FE-406C-8FAD-3B5687B64B9F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8576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2. Ponto de articulação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185760" indent="0">
              <a:spcBef>
                <a:spcPts val="4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185760" indent="-185760"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000" spc="-1" strike="noStrike">
                <a:solidFill>
                  <a:srgbClr val="3333cc"/>
                </a:solidFill>
                <a:latin typeface="Arial"/>
              </a:rPr>
              <a:t>bilabiais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: (p, b, m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185760" indent="-185760"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000" spc="-1" strike="noStrike">
                <a:solidFill>
                  <a:srgbClr val="3333cc"/>
                </a:solidFill>
                <a:latin typeface="Arial"/>
              </a:rPr>
              <a:t>labiodentais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: (f, v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185760" indent="-185760"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000" spc="-1" strike="noStrike">
                <a:solidFill>
                  <a:srgbClr val="3333cc"/>
                </a:solidFill>
                <a:latin typeface="Arial"/>
              </a:rPr>
              <a:t>linguodentais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: (t, d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185760" indent="-185760"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000" spc="-1" strike="noStrike">
                <a:solidFill>
                  <a:srgbClr val="3333cc"/>
                </a:solidFill>
                <a:latin typeface="Arial"/>
              </a:rPr>
              <a:t>alveolares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: língua e alvélos (s, z, l, n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185760" indent="-185760"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000" spc="-1" strike="noStrike">
                <a:solidFill>
                  <a:srgbClr val="3333cc"/>
                </a:solidFill>
                <a:latin typeface="Arial"/>
              </a:rPr>
              <a:t>palatais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: dorso da língua junto ao palato duro ( j, g com  som de j, e o x, lh, nh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185760" indent="-185760"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000" spc="-1" strike="noStrike">
                <a:solidFill>
                  <a:srgbClr val="3333cc"/>
                </a:solidFill>
                <a:latin typeface="Arial"/>
              </a:rPr>
              <a:t>velares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: região posterior da língua junto ao palato mole ( c com som de k, q, e o g com som de guê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title"/>
          </p:nvPr>
        </p:nvSpPr>
        <p:spPr>
          <a:xfrm>
            <a:off x="15228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3200" spc="-1" strike="noStrike">
                <a:solidFill>
                  <a:srgbClr val="000066"/>
                </a:solidFill>
                <a:latin typeface="Verdana"/>
              </a:rPr>
              <a:t>Classificação dos sons da fala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EF62A6-5002-4FC8-A71B-B68AD20B9BB0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533520" y="198108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8576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3. Vibrações das cordas vocais.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185760" indent="0">
              <a:spcBef>
                <a:spcPts val="2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800" spc="-1" strike="noStrike">
              <a:solidFill>
                <a:srgbClr val="000066"/>
              </a:solidFill>
              <a:latin typeface="Arial"/>
            </a:endParaRPr>
          </a:p>
          <a:p>
            <a:pPr marL="185760" indent="-185760"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400" spc="-1" strike="noStrike">
                <a:solidFill>
                  <a:srgbClr val="3333cc"/>
                </a:solidFill>
                <a:latin typeface="Arial"/>
              </a:rPr>
              <a:t>sonoras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: quando há vibração das cordas vocai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185760" indent="-185760"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400" spc="-1" strike="noStrike">
                <a:solidFill>
                  <a:srgbClr val="3333cc"/>
                </a:solidFill>
                <a:latin typeface="Arial"/>
              </a:rPr>
              <a:t>surdas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: quando não há vibração das cordas vocais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185760"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18576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4. Ressoador principal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603360" indent="0">
              <a:spcBef>
                <a:spcPts val="2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800" spc="-1" strike="noStrike">
              <a:solidFill>
                <a:srgbClr val="000066"/>
              </a:solidFill>
              <a:latin typeface="Arial"/>
            </a:endParaRPr>
          </a:p>
          <a:p>
            <a:pPr marL="185760" indent="-185760"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400" spc="-1" strike="noStrike">
                <a:solidFill>
                  <a:srgbClr val="3333cc"/>
                </a:solidFill>
                <a:latin typeface="Arial"/>
              </a:rPr>
              <a:t>orais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: t, b, p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185760" indent="-185760"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400" spc="-1" strike="noStrike">
                <a:solidFill>
                  <a:srgbClr val="3333cc"/>
                </a:solidFill>
                <a:latin typeface="Arial"/>
              </a:rPr>
              <a:t>nasais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: m, n, nh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title"/>
          </p:nvPr>
        </p:nvSpPr>
        <p:spPr>
          <a:xfrm>
            <a:off x="152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3200" spc="-1" strike="noStrike">
                <a:solidFill>
                  <a:srgbClr val="000066"/>
                </a:solidFill>
                <a:latin typeface="Verdana"/>
              </a:rPr>
              <a:t>Classificação dos sons da fala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9F2FEE-47F3-4A20-94ED-1DE73C1FC7E3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3200" spc="-1" strike="noStrike">
                <a:solidFill>
                  <a:srgbClr val="000066"/>
                </a:solidFill>
                <a:latin typeface="Verdana"/>
              </a:rPr>
              <a:t>Fala e Linguagem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981080"/>
            <a:ext cx="834372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85760" indent="-185760" algn="just"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400" spc="-1" strike="noStrike">
                <a:solidFill>
                  <a:srgbClr val="3333cc"/>
                </a:solidFill>
                <a:latin typeface="Arial"/>
              </a:rPr>
              <a:t>Sinal de voz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eqüência de sons e suas respectivas transições que representam simbolicamente a informação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185760" indent="0" algn="just">
              <a:spcBef>
                <a:spcPts val="3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185760" indent="-185760" algn="just"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400" spc="-1" strike="noStrike">
                <a:solidFill>
                  <a:srgbClr val="3333cc"/>
                </a:solidFill>
                <a:latin typeface="Arial"/>
              </a:rPr>
              <a:t>Linguagem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njunto de regras que regem a combinação dos sons (lingüística)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185760" indent="0" algn="just">
              <a:spcBef>
                <a:spcPts val="4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185760" indent="-185760" algn="just"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400" spc="-1" strike="noStrike">
                <a:solidFill>
                  <a:srgbClr val="3333cc"/>
                </a:solidFill>
                <a:latin typeface="Arial"/>
              </a:rPr>
              <a:t>Fonética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studo e classificação dos sons (Fonemas)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185760" indent="0" algn="just">
              <a:spcBef>
                <a:spcPts val="4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185760" indent="-185760" algn="just"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400" spc="-1" strike="noStrike">
                <a:solidFill>
                  <a:srgbClr val="3333cc"/>
                </a:solidFill>
                <a:latin typeface="Arial"/>
              </a:rPr>
              <a:t>Fonologia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studo da realização dos fonema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185760"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185760"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E1AAFB-D95F-43B0-8AC3-CC364008520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685800" y="1905120"/>
            <a:ext cx="72388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3333cc"/>
                </a:solidFill>
                <a:latin typeface="Arial"/>
              </a:rPr>
              <a:t>afasias</a:t>
            </a:r>
            <a:r>
              <a:rPr b="1" lang="pt-BR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- distúrbios do planejamento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3333cc"/>
                </a:solidFill>
                <a:latin typeface="Arial"/>
              </a:rPr>
              <a:t>aparaxias</a:t>
            </a:r>
            <a:r>
              <a:rPr b="0" lang="pt-BR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- alteração da programação - lesão na área motora secundária. A pessoa não consegue elaborar uma seqüência longa de fonemas.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3333cc"/>
                </a:solidFill>
                <a:latin typeface="Arial"/>
              </a:rPr>
              <a:t>disartrias</a:t>
            </a:r>
            <a:r>
              <a:rPr b="0" lang="pt-BR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- anormalidades de execução - lesão no córtex motor primário ou na região de onde emergem do cérebro os nervos cranianos orofaciais. Estes apresentam incapacidade de encontrar entre as diversas possibilidades de articulação aquela que é capaz de produzir uma voz clara na qual os fonemas, as palavras e o sentido das frases fiquem explícito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title"/>
          </p:nvPr>
        </p:nvSpPr>
        <p:spPr>
          <a:xfrm>
            <a:off x="228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3200" spc="-1" strike="noStrike">
                <a:solidFill>
                  <a:srgbClr val="000066"/>
                </a:solidFill>
                <a:latin typeface="Verdana"/>
              </a:rPr>
              <a:t>Sons da fala - Anomalias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16B159-9055-4691-8BFB-D8F975B8C1C7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533520" y="190512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3333cc"/>
                </a:solidFill>
                <a:latin typeface="Arial"/>
              </a:rPr>
              <a:t>Afasia de Brocca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 -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s pacientes portadores dessa anormalidade têm grande dificuldade  para falar e, geralmente, suprimem as palavras de ligação tais como as preposições e as conjunções. Estes apresentam lesão no córtex do lobo temporal anterior esquerdo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3333cc"/>
                </a:solidFill>
                <a:latin typeface="Arial"/>
              </a:rPr>
              <a:t>Parafasia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- Emprego de palavras mal aplicadas, tornando a linguagem incompreensível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3333cc"/>
                </a:solidFill>
                <a:latin typeface="Arial"/>
              </a:rPr>
              <a:t>Anartria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- impossibilidade de articular palavras, mas pode compreendê-las, quando ouve ou lê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3333cc"/>
                </a:solidFill>
                <a:latin typeface="Arial"/>
              </a:rPr>
              <a:t>Afonia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- incapacidade de emitir voz, porque há paralisia das cordas vocais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title"/>
          </p:nvPr>
        </p:nvSpPr>
        <p:spPr>
          <a:xfrm>
            <a:off x="2286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3200" spc="-1" strike="noStrike">
                <a:solidFill>
                  <a:srgbClr val="000066"/>
                </a:solidFill>
                <a:latin typeface="Verdana"/>
              </a:rPr>
              <a:t>Sons da fala - Anomalias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BC695E-1E61-41D1-BE22-F0C55A15624E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533520" y="4952880"/>
            <a:ext cx="807696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ons da voz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noros        Surdos       Explosivo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Excitação Mis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228600" y="24382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400" spc="-1" strike="noStrike">
                <a:solidFill>
                  <a:srgbClr val="000066"/>
                </a:solidFill>
                <a:latin typeface="Arial"/>
              </a:rPr>
              <a:t>Mecanismo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400" spc="-1" strike="noStrike">
                <a:solidFill>
                  <a:srgbClr val="000066"/>
                </a:solidFill>
                <a:latin typeface="Arial"/>
              </a:rPr>
              <a:t>de Produção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000066"/>
                </a:solidFill>
                <a:latin typeface="Arial"/>
              </a:rPr>
              <a:t>da Voz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2286000" y="1752480"/>
            <a:ext cx="6497640" cy="2667240"/>
            <a:chOff x="2286000" y="1752480"/>
            <a:chExt cx="6497640" cy="2667240"/>
          </a:xfrm>
        </p:grpSpPr>
        <p:sp>
          <p:nvSpPr>
            <p:cNvPr id="173" name=""/>
            <p:cNvSpPr/>
            <p:nvPr/>
          </p:nvSpPr>
          <p:spPr>
            <a:xfrm>
              <a:off x="5240160" y="1752480"/>
              <a:ext cx="3543480" cy="266724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74" name=""/>
            <p:cNvGraphicFramePr/>
            <p:nvPr/>
          </p:nvGraphicFramePr>
          <p:xfrm>
            <a:off x="2760480" y="1906560"/>
            <a:ext cx="2057400" cy="24368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7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760480" y="1906560"/>
                      <a:ext cx="2057400" cy="2436840"/>
                    </a:xfrm>
                    <a:prstGeom prst="rect">
                      <a:avLst/>
                    </a:prstGeom>
                    <a:ln w="38160">
                      <a:solidFill>
                        <a:srgbClr val="b2b2b2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176" name=""/>
            <p:cNvSpPr/>
            <p:nvPr/>
          </p:nvSpPr>
          <p:spPr>
            <a:xfrm>
              <a:off x="2286000" y="3009960"/>
              <a:ext cx="288720" cy="28872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878360" y="3009960"/>
              <a:ext cx="266400" cy="26676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78" name=""/>
          <p:cNvGraphicFramePr/>
          <p:nvPr/>
        </p:nvGraphicFramePr>
        <p:xfrm>
          <a:off x="4952880" y="1523880"/>
          <a:ext cx="5594400" cy="2787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952880" y="1523880"/>
                    <a:ext cx="5594400" cy="278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0" name="PlaceHolder 2"/>
          <p:cNvSpPr>
            <a:spLocks noGrp="1"/>
          </p:cNvSpPr>
          <p:nvPr>
            <p:ph type="title"/>
          </p:nvPr>
        </p:nvSpPr>
        <p:spPr>
          <a:xfrm>
            <a:off x="380880" y="152280"/>
            <a:ext cx="6019920" cy="12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3200" spc="-1" strike="noStrike">
                <a:solidFill>
                  <a:srgbClr val="000066"/>
                </a:solidFill>
                <a:latin typeface="Verdana"/>
              </a:rPr>
              <a:t>CVHM – </a:t>
            </a:r>
            <a:br>
              <a:rPr sz="3200"/>
            </a:br>
            <a:r>
              <a:rPr b="1" lang="pt-BR" sz="3200" spc="-1" strike="noStrike">
                <a:solidFill>
                  <a:srgbClr val="000066"/>
                </a:solidFill>
                <a:latin typeface="Verdana"/>
              </a:rPr>
              <a:t>Produção da Fala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2840E0-8C84-4A58-92C6-5AED7BE85225}" type="slidenum">
              <a:t>32</a:t>
            </a:fld>
          </a:p>
        </p:txBody>
      </p:sp>
    </p:spTree>
  </p:cSld>
  <p:transition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4572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8576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ons Sonoro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185760" indent="-1857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ão geradas ondas de pressão, quase periódicas, excitando o trato vocal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185760" indent="-1857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á vibração das cordas vocais (Ex: /a/, /i/, /l/, /m/)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2514600" y="3772080"/>
            <a:ext cx="4876920" cy="2662200"/>
          </a:xfrm>
          <a:prstGeom prst="rect">
            <a:avLst/>
          </a:prstGeom>
          <a:ln w="38160">
            <a:solidFill>
              <a:srgbClr val="b2b2b2"/>
            </a:solidFill>
            <a:miter/>
          </a:ln>
        </p:spPr>
      </p:pic>
      <p:sp>
        <p:nvSpPr>
          <p:cNvPr id="183" name=""/>
          <p:cNvSpPr/>
          <p:nvPr/>
        </p:nvSpPr>
        <p:spPr>
          <a:xfrm>
            <a:off x="4133880" y="6059520"/>
            <a:ext cx="175248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a/ em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us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25040" y="407880"/>
            <a:ext cx="263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Sons da voz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F8F0F3-2A10-4552-A587-D90A137A6F1A}" type="slidenum">
              <a:t>33</a:t>
            </a:fld>
          </a:p>
        </p:txBody>
      </p:sp>
    </p:spTree>
  </p:cSld>
  <p:transition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4572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8576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ons Surdo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185760" indent="-1857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É produzida uma turbulência gerando uma fonte de ruído de espectro largo (semelhante ao ruído branco) para excitar o trato vocal. (Ex: /s/, /f/)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185760"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2324160" y="3657600"/>
            <a:ext cx="4952880" cy="2759040"/>
          </a:xfrm>
          <a:prstGeom prst="rect">
            <a:avLst/>
          </a:prstGeom>
          <a:ln w="38160">
            <a:solidFill>
              <a:srgbClr val="b2b2b2"/>
            </a:solidFill>
            <a:miter/>
          </a:ln>
        </p:spPr>
      </p:pic>
      <p:sp>
        <p:nvSpPr>
          <p:cNvPr id="187" name=""/>
          <p:cNvSpPr/>
          <p:nvPr/>
        </p:nvSpPr>
        <p:spPr>
          <a:xfrm>
            <a:off x="4133880" y="6040440"/>
            <a:ext cx="175248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s/ em aplauso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25040" y="407880"/>
            <a:ext cx="252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Sons da vo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8F25D0-2366-40DE-83DF-86CEF50BB638}" type="slidenum">
              <a:t>34</a:t>
            </a:fld>
          </a:p>
        </p:txBody>
      </p:sp>
    </p:spTree>
  </p:cSld>
  <p:transition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3808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8576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ons Explosivo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185760" indent="-1857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É gerado um pulso que excita o aparelho fonador.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185760" indent="-1857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 a excitação ocorre um movimento rápido dos articuladores em direção à configuração do próximo som. (Ex.: /p/, /t/, /k/)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18576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2495520" y="3889440"/>
            <a:ext cx="4800600" cy="2739960"/>
          </a:xfrm>
          <a:prstGeom prst="rect">
            <a:avLst/>
          </a:prstGeom>
          <a:ln w="38160">
            <a:solidFill>
              <a:srgbClr val="b2b2b2"/>
            </a:solidFill>
            <a:miter/>
          </a:ln>
        </p:spPr>
      </p:pic>
      <p:sp>
        <p:nvSpPr>
          <p:cNvPr id="191" name=""/>
          <p:cNvSpPr/>
          <p:nvPr/>
        </p:nvSpPr>
        <p:spPr>
          <a:xfrm>
            <a:off x="4210200" y="6211800"/>
            <a:ext cx="175248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p/ em 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aus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25040" y="407880"/>
            <a:ext cx="252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Sons da vo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844A53-8EA6-4A5E-8DA4-115DFA115D25}" type="slidenum">
              <a:t>35</a:t>
            </a:fld>
          </a:p>
        </p:txBody>
      </p:sp>
    </p:spTree>
  </p:cSld>
  <p:transition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3808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8576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ons com excitação mista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185760" indent="-1857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ns fricativos sonoros. Ex.: /j/, /v/, /z/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185760" indent="-1857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ão produzidos combinando-se a vibração das cordas vocais e a excitação turbulenta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185760" indent="-1857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ns oclusivos (explosivos) sonoros. Ex.: /d/, /b/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185760"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552600" y="4267080"/>
            <a:ext cx="4190760" cy="2278080"/>
          </a:xfrm>
          <a:prstGeom prst="rect">
            <a:avLst/>
          </a:prstGeom>
          <a:ln w="25560">
            <a:solidFill>
              <a:srgbClr val="b2b2b2"/>
            </a:solidFill>
            <a:miter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4781520" y="4248000"/>
            <a:ext cx="4114800" cy="2297160"/>
          </a:xfrm>
          <a:prstGeom prst="rect">
            <a:avLst/>
          </a:prstGeom>
          <a:ln w="25560">
            <a:solidFill>
              <a:srgbClr val="b2b2b2"/>
            </a:solidFill>
            <a:miter/>
          </a:ln>
        </p:spPr>
      </p:pic>
      <p:sp>
        <p:nvSpPr>
          <p:cNvPr id="196" name=""/>
          <p:cNvSpPr/>
          <p:nvPr/>
        </p:nvSpPr>
        <p:spPr>
          <a:xfrm>
            <a:off x="1752480" y="6172200"/>
            <a:ext cx="17528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z/ em aplau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6172200"/>
            <a:ext cx="17524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b/ em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l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25040" y="484200"/>
            <a:ext cx="263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Sons da voz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15EF84-5B17-43D4-91E8-547AC765E04E}" type="slidenum">
              <a:t>36</a:t>
            </a:fld>
          </a:p>
        </p:txBody>
      </p:sp>
    </p:spTree>
  </p:cSld>
  <p:transition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1143000" y="2819520"/>
            <a:ext cx="678168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609120" y="2209680"/>
            <a:ext cx="7620120" cy="379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Sistema Digital Simplificado de produção da fala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1676520" y="3048120"/>
            <a:ext cx="6094800" cy="3047400"/>
            <a:chOff x="1676520" y="3048120"/>
            <a:chExt cx="6094800" cy="3047400"/>
          </a:xfrm>
        </p:grpSpPr>
        <p:sp>
          <p:nvSpPr>
            <p:cNvPr id="202" name=""/>
            <p:cNvSpPr/>
            <p:nvPr/>
          </p:nvSpPr>
          <p:spPr>
            <a:xfrm>
              <a:off x="1676520" y="3761280"/>
              <a:ext cx="1879920" cy="86292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784880" y="3885120"/>
              <a:ext cx="165960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958400" y="3944160"/>
              <a:ext cx="1367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"/>
                </a:rPr>
                <a:t>gerador do tre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244960" y="4187880"/>
              <a:ext cx="8312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"/>
                </a:rPr>
                <a:t>de pulso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676520" y="5232600"/>
              <a:ext cx="1879920" cy="86292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230800" y="4497120"/>
              <a:ext cx="1879560" cy="86292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8" name=""/>
            <p:cNvGrpSpPr/>
            <p:nvPr/>
          </p:nvGrpSpPr>
          <p:grpSpPr>
            <a:xfrm>
              <a:off x="7108920" y="4799880"/>
              <a:ext cx="662400" cy="134280"/>
              <a:chOff x="7108920" y="4799880"/>
              <a:chExt cx="662400" cy="134280"/>
            </a:xfrm>
          </p:grpSpPr>
          <p:sp>
            <p:nvSpPr>
              <p:cNvPr id="209" name=""/>
              <p:cNvSpPr/>
              <p:nvPr/>
            </p:nvSpPr>
            <p:spPr>
              <a:xfrm>
                <a:off x="7108920" y="4862520"/>
                <a:ext cx="54612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7650000" y="4799880"/>
                <a:ext cx="121320" cy="134280"/>
              </a:xfrm>
              <a:custGeom>
                <a:avLst/>
                <a:gdLst/>
                <a:ahLst/>
                <a:rect l="l" t="t" r="r" b="b"/>
                <a:pathLst>
                  <a:path w="73" h="73">
                    <a:moveTo>
                      <a:pt x="0" y="73"/>
                    </a:moveTo>
                    <a:lnTo>
                      <a:pt x="73" y="35"/>
                    </a:lnTo>
                    <a:lnTo>
                      <a:pt x="0" y="0"/>
                    </a:lnTo>
                    <a:lnTo>
                      <a:pt x="0" y="73"/>
                    </a:lnTo>
                    <a:close/>
                  </a:path>
                </a:pathLst>
              </a:custGeom>
              <a:solidFill>
                <a:srgbClr val="000000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4676040" y="3881160"/>
              <a:ext cx="108000" cy="36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2" name=""/>
            <p:cNvGrpSpPr/>
            <p:nvPr/>
          </p:nvGrpSpPr>
          <p:grpSpPr>
            <a:xfrm>
              <a:off x="5009400" y="4796280"/>
              <a:ext cx="217440" cy="134280"/>
              <a:chOff x="5009400" y="4796280"/>
              <a:chExt cx="217440" cy="134280"/>
            </a:xfrm>
          </p:grpSpPr>
          <p:sp>
            <p:nvSpPr>
              <p:cNvPr id="213" name=""/>
              <p:cNvSpPr/>
              <p:nvPr/>
            </p:nvSpPr>
            <p:spPr>
              <a:xfrm>
                <a:off x="5009400" y="4862520"/>
                <a:ext cx="10296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5105880" y="4796280"/>
                <a:ext cx="120960" cy="134280"/>
              </a:xfrm>
              <a:custGeom>
                <a:avLst/>
                <a:gdLst/>
                <a:ahLst/>
                <a:rect l="l" t="t" r="r" b="b"/>
                <a:pathLst>
                  <a:path w="73" h="73">
                    <a:moveTo>
                      <a:pt x="0" y="73"/>
                    </a:moveTo>
                    <a:lnTo>
                      <a:pt x="73" y="37"/>
                    </a:lnTo>
                    <a:lnTo>
                      <a:pt x="0" y="0"/>
                    </a:lnTo>
                    <a:lnTo>
                      <a:pt x="0" y="73"/>
                    </a:lnTo>
                    <a:close/>
                  </a:path>
                </a:pathLst>
              </a:custGeom>
              <a:solidFill>
                <a:srgbClr val="000000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5" name=""/>
            <p:cNvGrpSpPr/>
            <p:nvPr/>
          </p:nvGrpSpPr>
          <p:grpSpPr>
            <a:xfrm>
              <a:off x="6160680" y="4023720"/>
              <a:ext cx="121320" cy="367560"/>
              <a:chOff x="6160680" y="4023720"/>
              <a:chExt cx="121320" cy="367560"/>
            </a:xfrm>
          </p:grpSpPr>
          <p:sp>
            <p:nvSpPr>
              <p:cNvPr id="216" name=""/>
              <p:cNvSpPr/>
              <p:nvPr/>
            </p:nvSpPr>
            <p:spPr>
              <a:xfrm>
                <a:off x="6223680" y="4023720"/>
                <a:ext cx="1800" cy="238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6160680" y="4256640"/>
                <a:ext cx="121320" cy="134640"/>
              </a:xfrm>
              <a:custGeom>
                <a:avLst/>
                <a:gdLst/>
                <a:ahLst/>
                <a:rect l="l" t="t" r="r" b="b"/>
                <a:pathLst>
                  <a:path w="73" h="73">
                    <a:moveTo>
                      <a:pt x="0" y="0"/>
                    </a:moveTo>
                    <a:lnTo>
                      <a:pt x="38" y="73"/>
                    </a:lnTo>
                    <a:lnTo>
                      <a:pt x="7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8" name=""/>
            <p:cNvGrpSpPr/>
            <p:nvPr/>
          </p:nvGrpSpPr>
          <p:grpSpPr>
            <a:xfrm>
              <a:off x="2598120" y="3402720"/>
              <a:ext cx="119160" cy="245520"/>
              <a:chOff x="2598120" y="3402720"/>
              <a:chExt cx="119160" cy="245520"/>
            </a:xfrm>
          </p:grpSpPr>
          <p:sp>
            <p:nvSpPr>
              <p:cNvPr id="219" name=""/>
              <p:cNvSpPr/>
              <p:nvPr/>
            </p:nvSpPr>
            <p:spPr>
              <a:xfrm>
                <a:off x="2659680" y="3402720"/>
                <a:ext cx="1440" cy="116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2598120" y="3513600"/>
                <a:ext cx="119160" cy="134640"/>
              </a:xfrm>
              <a:custGeom>
                <a:avLst/>
                <a:gdLst/>
                <a:ahLst/>
                <a:rect l="l" t="t" r="r" b="b"/>
                <a:pathLst>
                  <a:path w="72" h="73">
                    <a:moveTo>
                      <a:pt x="0" y="0"/>
                    </a:moveTo>
                    <a:lnTo>
                      <a:pt x="37" y="73"/>
                    </a:lnTo>
                    <a:lnTo>
                      <a:pt x="7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1" name=""/>
            <p:cNvSpPr/>
            <p:nvPr/>
          </p:nvSpPr>
          <p:spPr>
            <a:xfrm>
              <a:off x="1784880" y="5356080"/>
              <a:ext cx="165960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35360" y="5415840"/>
              <a:ext cx="14166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"/>
                </a:rPr>
                <a:t>gerador de ruíd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258280" y="5659560"/>
              <a:ext cx="744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"/>
                </a:rPr>
                <a:t>aleatór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339160" y="4620600"/>
              <a:ext cx="165960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531760" y="4679640"/>
              <a:ext cx="13464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"/>
                </a:rPr>
                <a:t>modelo do trat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762160" y="4924080"/>
              <a:ext cx="834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"/>
                </a:rPr>
                <a:t>vocal V(z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978560" y="3048120"/>
              <a:ext cx="1386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"/>
                </a:rPr>
                <a:t>período de pitc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560920" y="3515400"/>
              <a:ext cx="1438200" cy="613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690880" y="3576600"/>
              <a:ext cx="1238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"/>
                </a:rPr>
                <a:t>parâmetros d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847840" y="3822120"/>
              <a:ext cx="902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"/>
                </a:rPr>
                <a:t>trato voc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124520" y="3393360"/>
              <a:ext cx="1326240" cy="611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924720" y="4023720"/>
              <a:ext cx="11376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"/>
                </a:rPr>
                <a:t>chaveament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868920" y="4289760"/>
              <a:ext cx="1190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pt-BR" sz="1400" spc="-1" strike="noStrike">
                  <a:solidFill>
                    <a:srgbClr val="000000"/>
                  </a:solidFill>
                  <a:latin typeface="Arial"/>
                </a:rPr>
                <a:t>sonoro/surd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7373880" y="5106960"/>
              <a:ext cx="326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"/>
                </a:rPr>
                <a:t>s(n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87640" y="4740840"/>
              <a:ext cx="225000" cy="249120"/>
            </a:xfrm>
            <a:prstGeom prst="ellipse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6" name=""/>
            <p:cNvGrpSpPr/>
            <p:nvPr/>
          </p:nvGrpSpPr>
          <p:grpSpPr>
            <a:xfrm>
              <a:off x="4837680" y="5020200"/>
              <a:ext cx="120600" cy="244800"/>
              <a:chOff x="4837680" y="5020200"/>
              <a:chExt cx="120600" cy="244800"/>
            </a:xfrm>
          </p:grpSpPr>
          <p:sp>
            <p:nvSpPr>
              <p:cNvPr id="237" name=""/>
              <p:cNvSpPr/>
              <p:nvPr/>
            </p:nvSpPr>
            <p:spPr>
              <a:xfrm flipV="1">
                <a:off x="4897080" y="5147280"/>
                <a:ext cx="1800" cy="117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4837680" y="5020200"/>
                <a:ext cx="120600" cy="134640"/>
              </a:xfrm>
              <a:custGeom>
                <a:avLst/>
                <a:gdLst/>
                <a:ahLst/>
                <a:rect l="l" t="t" r="r" b="b"/>
                <a:pathLst>
                  <a:path w="73" h="73">
                    <a:moveTo>
                      <a:pt x="73" y="73"/>
                    </a:moveTo>
                    <a:lnTo>
                      <a:pt x="36" y="0"/>
                    </a:lnTo>
                    <a:lnTo>
                      <a:pt x="0" y="73"/>
                    </a:lnTo>
                    <a:lnTo>
                      <a:pt x="73" y="73"/>
                    </a:lnTo>
                    <a:close/>
                  </a:path>
                </a:pathLst>
              </a:custGeom>
              <a:solidFill>
                <a:srgbClr val="000000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9" name=""/>
            <p:cNvGrpSpPr/>
            <p:nvPr/>
          </p:nvGrpSpPr>
          <p:grpSpPr>
            <a:xfrm>
              <a:off x="3904560" y="4799880"/>
              <a:ext cx="879120" cy="134280"/>
              <a:chOff x="3904560" y="4799880"/>
              <a:chExt cx="879120" cy="134280"/>
            </a:xfrm>
          </p:grpSpPr>
          <p:sp>
            <p:nvSpPr>
              <p:cNvPr id="240" name=""/>
              <p:cNvSpPr/>
              <p:nvPr/>
            </p:nvSpPr>
            <p:spPr>
              <a:xfrm>
                <a:off x="3904560" y="4862520"/>
                <a:ext cx="76428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4664160" y="4799880"/>
                <a:ext cx="119520" cy="134280"/>
              </a:xfrm>
              <a:custGeom>
                <a:avLst/>
                <a:gdLst/>
                <a:ahLst/>
                <a:rect l="l" t="t" r="r" b="b"/>
                <a:pathLst>
                  <a:path w="72" h="73">
                    <a:moveTo>
                      <a:pt x="0" y="73"/>
                    </a:moveTo>
                    <a:lnTo>
                      <a:pt x="72" y="35"/>
                    </a:lnTo>
                    <a:lnTo>
                      <a:pt x="0" y="0"/>
                    </a:lnTo>
                    <a:lnTo>
                      <a:pt x="0" y="73"/>
                    </a:lnTo>
                    <a:close/>
                  </a:path>
                </a:pathLst>
              </a:custGeom>
              <a:solidFill>
                <a:srgbClr val="000000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2" name=""/>
            <p:cNvSpPr/>
            <p:nvPr/>
          </p:nvSpPr>
          <p:spPr>
            <a:xfrm>
              <a:off x="3552840" y="4127400"/>
              <a:ext cx="2214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552840" y="5722560"/>
              <a:ext cx="2214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774600" y="4128840"/>
              <a:ext cx="1800" cy="611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 flipV="1">
              <a:off x="3774600" y="4986720"/>
              <a:ext cx="1800" cy="735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900680" y="5461920"/>
              <a:ext cx="139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124520" y="4986720"/>
              <a:ext cx="663120" cy="489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232880" y="5055120"/>
              <a:ext cx="335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"/>
                </a:rPr>
                <a:t>u(n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9" name="PlaceHolder 2"/>
          <p:cNvSpPr>
            <a:spLocks noGrp="1"/>
          </p:cNvSpPr>
          <p:nvPr>
            <p:ph type="title"/>
          </p:nvPr>
        </p:nvSpPr>
        <p:spPr>
          <a:xfrm>
            <a:off x="380880" y="152280"/>
            <a:ext cx="6019920" cy="12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3200" spc="-1" strike="noStrike">
                <a:solidFill>
                  <a:srgbClr val="000066"/>
                </a:solidFill>
                <a:latin typeface="Verdana"/>
              </a:rPr>
              <a:t>CVHM – </a:t>
            </a:r>
            <a:br>
              <a:rPr sz="3200"/>
            </a:br>
            <a:r>
              <a:rPr b="1" lang="pt-BR" sz="3200" spc="-1" strike="noStrike">
                <a:solidFill>
                  <a:srgbClr val="000066"/>
                </a:solidFill>
                <a:latin typeface="Verdana"/>
              </a:rPr>
              <a:t>Produção da Fala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D113FA-0CDB-42B1-80BD-880A235A31C9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380880" y="1981080"/>
            <a:ext cx="792504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cc"/>
                </a:solidFill>
                <a:latin typeface="Arial"/>
              </a:rPr>
              <a:t>Ouvido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- responsável por captar os sons (ondas sonoras) e passar suas informações para o cérebro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 som captado passa pelo conduto auditivo externo e faz o tímpano vibrar, esta vibração é passada através de pequenos ossos, o martelo, a bigorna e o estribo. A informação então passa pelo labirinto (ou cóclea) e pelo nervo auditivo (ou nervo vestíbulo coclear) passa para o cérebro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title"/>
          </p:nvPr>
        </p:nvSpPr>
        <p:spPr>
          <a:xfrm>
            <a:off x="304920" y="60912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3200" spc="-1" strike="noStrike">
                <a:solidFill>
                  <a:srgbClr val="000066"/>
                </a:solidFill>
                <a:latin typeface="Verdana"/>
              </a:rPr>
              <a:t>Sistema Auditivo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B81AFA-3B0D-4941-9FC4-1F80771621E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533520" y="2209680"/>
            <a:ext cx="7700760" cy="34369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105" name=""/>
          <p:cNvSpPr/>
          <p:nvPr/>
        </p:nvSpPr>
        <p:spPr>
          <a:xfrm>
            <a:off x="304920" y="609480"/>
            <a:ext cx="7315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3200" spc="-1" strike="noStrike">
                <a:solidFill>
                  <a:srgbClr val="000066"/>
                </a:solidFill>
                <a:latin typeface="Verdana"/>
              </a:rPr>
              <a:t>Sistema Auditiv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649085-9065-447B-A24B-CE2C7A9E441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219320" y="1828800"/>
            <a:ext cx="6284880" cy="47131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107" name=""/>
          <p:cNvSpPr/>
          <p:nvPr/>
        </p:nvSpPr>
        <p:spPr>
          <a:xfrm>
            <a:off x="304920" y="609480"/>
            <a:ext cx="7315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3200" spc="-1" strike="noStrike">
                <a:solidFill>
                  <a:srgbClr val="000066"/>
                </a:solidFill>
                <a:latin typeface="Verdana"/>
              </a:rPr>
              <a:t>Mecanismos Voca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0A3EE0-6D7B-4A50-BC06-E1A352784A5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920" y="2209680"/>
            <a:ext cx="8229600" cy="34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85760" indent="-18576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200" spc="-1" strike="noStrike">
                <a:solidFill>
                  <a:srgbClr val="3333cc"/>
                </a:solidFill>
                <a:latin typeface="Arial"/>
              </a:rPr>
              <a:t>Aparelho respiratório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- faculta ao organismo uma troca de gases com o ar atmosférico, assegurando permanente concentração de oxigênio no sangue, necessária para as reações metabólicas, e em contrapartida servindo como via de eliminação de gases residuais, que resultam dessas reações e que são representadas pelo gás carbônico. 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marL="1857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marL="185760" indent="-1857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As vias aeríferas podem ser divididas em: 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marL="1857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marL="185760" indent="-185760" algn="ctr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NARIZ - FARINGE - LARINGE - TRAQUÉIA – BRÔNQUIOS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04920" y="609480"/>
            <a:ext cx="7315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3200" spc="-1" strike="noStrike">
                <a:solidFill>
                  <a:srgbClr val="000066"/>
                </a:solidFill>
                <a:latin typeface="Verdana"/>
              </a:rPr>
              <a:t>Mecanismos Voca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8BCC8C-8708-42A7-BE64-9D2A20AF797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304560" y="2209320"/>
            <a:ext cx="8305560" cy="363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3333cc"/>
                </a:solidFill>
                <a:latin typeface="Arial"/>
              </a:rPr>
              <a:t>Narinas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: São os dois buracos no nariz, é por lá que o ar entra. Aqueles pelinhos no nariz são o primeiro filtro. Eles vão reter (segurar) as sujeiras maiores como outros pelos, flocos de poeira, etc. 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3333cc"/>
                </a:solidFill>
                <a:latin typeface="Arial"/>
              </a:rPr>
              <a:t>Cavidade nasal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: A cavidade nasal fica logo depois das narinas. Lá está o segundo filtro: um muco que vai reter as sujeiras que passaram no primeiro filtro. Também ocorrem na cavidade nasal, outros dois processos: o umidecimento e o aquecimento do ar que entra. 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title"/>
          </p:nvPr>
        </p:nvSpPr>
        <p:spPr>
          <a:xfrm>
            <a:off x="152280" y="53316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3200" spc="-1" strike="noStrike">
                <a:solidFill>
                  <a:srgbClr val="000066"/>
                </a:solidFill>
                <a:latin typeface="Verdana"/>
              </a:rPr>
              <a:t>O  aparelho fonador humano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BDE4AD-FD7B-4323-B242-B324E74678C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304920" y="200016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3333cc"/>
                </a:solidFill>
                <a:latin typeface="Arial"/>
              </a:rPr>
              <a:t>Faringe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: A faringe é um local comum para o sistema digestório e respiratório, ou seja, é um local por onde passa o ar e o alimento. A faringe funciona como uma passagem de ar e alimento.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3333cc"/>
                </a:solidFill>
                <a:latin typeface="Arial"/>
              </a:rPr>
              <a:t>Laringe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: Como então o alimento não entra no pulmão? Isso é por conta da laringe e de sua "tampa" chamada epiglote.  A laringe é um órgão curto que conecta a faringe com a traquéia. A laringe também desempenha função na produção de som, que resulta na fonação.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152280" y="53316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3200" spc="-1" strike="noStrike">
                <a:solidFill>
                  <a:srgbClr val="000066"/>
                </a:solidFill>
                <a:latin typeface="Verdana"/>
              </a:rPr>
              <a:t>O  aparelho fonador humano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B8833E-F206-46D3-B029-CCA53B89C69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29T13:30:47Z</dcterms:created>
  <dc:creator>Benedito G. A. Neto/Joseana M. Fechine</dc:creator>
  <dc:description/>
  <dc:language>en-US</dc:language>
  <cp:lastModifiedBy>Particular</cp:lastModifiedBy>
  <cp:lastPrinted>1999-02-22T17:14:49Z</cp:lastPrinted>
  <dcterms:modified xsi:type="dcterms:W3CDTF">2004-11-04T12:19:48Z</dcterms:modified>
  <cp:revision>413</cp:revision>
  <dc:subject/>
  <dc:title>Processamento e Transmissão Digital de Sinais de Voz </dc:title>
</cp:coreProperties>
</file>