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BF17-6A49-4D3E-821A-6BBD706F1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3D7F-E02E-4573-AE36-194D85E00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557C-8320-48FA-8F6A-9A17D945E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0360-7509-4024-8B7A-6F1024BB9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5719-F283-42F9-8122-D9B17CF27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6028-381A-4926-B1C9-C06C061D3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DA51-512D-4D88-BCE8-4D369DCF7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80DD-F400-4305-8EBE-0849C6B3F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3E57-85D2-4DC3-80A1-098419BC8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8E76-6D9E-4F09-96D8-51B91E27F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FF63-F5A4-4E10-B559-995450E33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EC33-003E-4DB5-9AAD-0E92BF430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B7CE-3EB7-4AD5-947E-483BB7D9F91E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2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presentação da Disciplina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Guimarães Aguiar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143280" indent="-14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arga horária: 45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43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43280" indent="-14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réditos: 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43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43280" indent="-143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ment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processo natural de produção da fala. O sinal de voz: caracterização e análise. Conceitos de fonética e fonologia. Classificação dos sons da fala. Modelos para a produção da fala. Síntese de voz. Métodos básicos para o processamento de voz no domínio do tempo e da freqüência. Transcrição texto-fala. Filtro Wiener. Técnicas para melhoramento de sinais de voz degradados por ruído acústico. Técnicas para o reconhecimento de fala e de locutor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Apresentaçã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3A0C-9881-4728-B9CF-ED0AA0F3F6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6956280" cy="33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las expositiv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Metodologia, Técnicas de Ensi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7C1D-FBBF-4341-81AD-792195937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762012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ntínu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avaliações individuais e trabalhos em labo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balhos interativos de pesquisa extra-class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individuais e em grup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balhos de pesquisa em sala de aul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individuais e em gru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Avaliaçã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497B-308F-4D50-BA0A-4D21E9E298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2666880"/>
            <a:ext cx="702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3200" spc="-1" strike="noStrike">
                <a:solidFill>
                  <a:srgbClr val="000066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828800"/>
            <a:ext cx="830592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1]RABINER, L. R. and SHAFER, R. W.,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gital Processing of Speech Signal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Prentice-Hall, 197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2]DELLER Jr. R., PROAKIS, J. G., and HANSEN, J. H. L.,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screte-tim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ssing of Speech Signal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Macmillan Publishing Co., 199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3]KLEIJN, W. B. and PALIWAL, K. K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peech Coding and Synthesi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Elsevier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4]FLANAGAN, L. J., Speech Analysis Synthesis and Perception, Murray Hill Second Edition, 197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5]HAYKIN, S. S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ural Networks: A Comprehensive Foundation (2nd Edition)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tice-Hall,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8A07-5B20-4D63-A827-947F467AAF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2666880"/>
            <a:ext cx="702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3200" spc="-1" strike="noStrike">
                <a:solidFill>
                  <a:srgbClr val="000066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52480"/>
            <a:ext cx="838188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6]JURAFSKY, D. and MARTIN, J. H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peech and Language Processing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Prentice-Hall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7]PAPOULIS, A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gnal Analysi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McGraw-Hill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8]DAN, A., SITARA, D.,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media Servers: Applications, Environments, and Desig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media Information and System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)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organ Kaufmman,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9]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ULA FILHO, W. P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mídia: Conceitos e Aplicaçõe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JC Editora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[10]RUSSO, I. e BEHLAU, M., Percepção da Fala: Análise Acústica, Editora Lovise, 199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46692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00BE-0C11-4289-8968-AD6F69F09F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Joseana Macêdo Fechine/DSC/UFCG</dc:creator>
  <dc:description/>
  <dc:language>en-US</dc:language>
  <cp:lastModifiedBy>Particular</cp:lastModifiedBy>
  <cp:lastPrinted>1999-02-22T17:14:49Z</cp:lastPrinted>
  <dcterms:modified xsi:type="dcterms:W3CDTF">2004-10-18T20:30:17Z</dcterms:modified>
  <cp:revision>411</cp:revision>
  <dc:subject/>
  <dc:title>Comunicação Vocal Homem Máquina: Princípios Fundamentais </dc:title>
</cp:coreProperties>
</file>