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9B81-C40A-4837-97DF-487302BAE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C76D-369F-40B9-9954-A4DB887A1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622D-5F6B-41F1-B717-A77E9F459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92E0-298F-47A9-A6BE-9BE603CA4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3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21EA-FA29-4BCD-88BA-C16946F20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6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7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8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9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3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4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5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6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AE96-4479-4165-881C-262B232AD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F6F6-56A9-4FA6-928D-A726A6F8C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1B84F-C3C7-4C35-BFC6-E2031B4DF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920B-1FCD-40AE-AB49-45058C0B6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BFA5-CE10-49FC-AD1A-885ECB6E8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D629-1745-40C8-AC9A-EB63BCB1D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6927-D236-4A00-8E87-E4355DE27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75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 algn="just">
              <a:spcBef>
                <a:spcPts val="75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2" marL="1619280" indent="-363600" algn="just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3" marL="2152800" indent="-354240" algn="just">
              <a:spcBef>
                <a:spcPts val="751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4" marL="2646360" indent="-228600" algn="just">
              <a:spcBef>
                <a:spcPts val="751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5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6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891560" y="64771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9C67-725D-4227-8065-225F7F30A975}" type="slidenum">
              <a:rPr b="1" i="1" lang="en-US" sz="20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14080" y="682560"/>
            <a:ext cx="748800" cy="333360"/>
            <a:chOff x="514080" y="682560"/>
            <a:chExt cx="748800" cy="333360"/>
          </a:xfrm>
        </p:grpSpPr>
        <p:grpSp>
          <p:nvGrpSpPr>
            <p:cNvPr id="4" name=""/>
            <p:cNvGrpSpPr/>
            <p:nvPr/>
          </p:nvGrpSpPr>
          <p:grpSpPr>
            <a:xfrm>
              <a:off x="514080" y="682560"/>
              <a:ext cx="748800" cy="333360"/>
              <a:chOff x="514080" y="682560"/>
              <a:chExt cx="748800" cy="333360"/>
            </a:xfrm>
          </p:grpSpPr>
          <p:sp>
            <p:nvSpPr>
              <p:cNvPr id="5" name=""/>
              <p:cNvSpPr/>
              <p:nvPr/>
            </p:nvSpPr>
            <p:spPr>
              <a:xfrm>
                <a:off x="514080" y="682560"/>
                <a:ext cx="748800" cy="33336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15160" y="702720"/>
                <a:ext cx="744480" cy="3132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258560" y="776160"/>
                <a:ext cx="4320" cy="1692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241280" y="7786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7909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207800" y="8038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90520" y="8161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73240" y="8290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55600" y="84204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38320" y="85500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19600" y="86796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06640" y="8816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91880" y="8920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77480" y="9025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063080" y="9140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048680" y="9244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033920" y="9349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18080" y="94644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003680" y="95688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87840" y="968400"/>
                <a:ext cx="17280" cy="2412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73080" y="9795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63000" y="99108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57240" y="9990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4860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939960" y="10029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93132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3600" y="99576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7680" y="98928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1400" y="98280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25480" y="97632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99200" y="96984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73280" y="96336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47360" y="95616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21080" y="9504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5160" y="94392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670320" y="93744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45840" y="9309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21000" y="9252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6520" y="91872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70240" y="91332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47200" y="90684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22720" y="9003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16960" y="8985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14080" y="8953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14080" y="689760"/>
                <a:ext cx="748800" cy="3139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209240" y="76500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22480" y="766800"/>
                <a:ext cx="89640" cy="7920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16720" y="84096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09520" y="832320"/>
                <a:ext cx="8640" cy="234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00880" y="833040"/>
                <a:ext cx="11520" cy="2808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91880" y="832320"/>
                <a:ext cx="12960" cy="288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76040" y="829080"/>
                <a:ext cx="20160" cy="313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047240" y="80532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65960" y="781200"/>
                <a:ext cx="2880" cy="3456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1640" y="774720"/>
                <a:ext cx="7200" cy="35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055880" y="768960"/>
                <a:ext cx="10080" cy="3456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045800" y="763200"/>
                <a:ext cx="12960" cy="3456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33920" y="75852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19520" y="754560"/>
                <a:ext cx="17280" cy="331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06560" y="75204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95040" y="749520"/>
                <a:ext cx="14400" cy="313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89280" y="747360"/>
                <a:ext cx="7200" cy="313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6400" y="743760"/>
                <a:ext cx="4320" cy="3204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84960" y="740520"/>
                <a:ext cx="2880" cy="324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99280" y="708480"/>
                <a:ext cx="81000" cy="3060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4960" y="70740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3520" y="70596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93520" y="704160"/>
                <a:ext cx="360" cy="1512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3360" y="722160"/>
                <a:ext cx="95400" cy="241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6240" y="723600"/>
                <a:ext cx="92520" cy="2160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76240" y="732600"/>
                <a:ext cx="13176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3360" y="732600"/>
                <a:ext cx="131760" cy="3636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251360" y="765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116720" y="842040"/>
                <a:ext cx="8640" cy="162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54360" y="9835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45720" y="9867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37080" y="9885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28440" y="98784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55840" y="759960"/>
                <a:ext cx="192600" cy="12528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9840" y="8856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6960" y="882360"/>
                <a:ext cx="7200" cy="162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8960" y="695520"/>
                <a:ext cx="89640" cy="66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8960" y="75780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1760" y="75996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53120" y="7610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47360" y="75996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1600" y="8816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4480" y="8776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4400" y="88488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4400" y="88740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15120" y="97632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7040" y="888120"/>
                <a:ext cx="402480" cy="1116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12400" y="839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8362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15360" y="7700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60120" y="768960"/>
                <a:ext cx="295560" cy="22752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7760" y="690480"/>
                <a:ext cx="333000" cy="8316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97920" y="7210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96480" y="7228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3600" y="72360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8928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84960" y="726120"/>
                <a:ext cx="4320" cy="1368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7884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209240" y="76428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10680" y="76752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4880" y="69048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80560" y="69300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7336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64720" y="69624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860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4720" y="75456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16960" y="682560"/>
                <a:ext cx="740160" cy="30600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3520" y="699480"/>
                <a:ext cx="106920" cy="26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87840" y="721080"/>
                <a:ext cx="227160" cy="11232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29600" y="7210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22400" y="721080"/>
                <a:ext cx="7200" cy="2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15200" y="7210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10880" y="7228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89280" y="72468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87840" y="7383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87840" y="74052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87840" y="742320"/>
                <a:ext cx="720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90720" y="7437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96480" y="74556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09440" y="748800"/>
                <a:ext cx="14400" cy="5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22400" y="751320"/>
                <a:ext cx="17280" cy="72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36800" y="755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050120" y="75996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58760" y="76680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65960" y="773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68840" y="78048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65960" y="787680"/>
                <a:ext cx="8640" cy="72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58760" y="79416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51560" y="80064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51560" y="80532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78920" y="82584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96200" y="82908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05200" y="8298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0960" y="82908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720" y="8265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21040" y="764280"/>
                <a:ext cx="91080" cy="6552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07800" y="76248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09240" y="7610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06360" y="7585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02040" y="7567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35360" y="722160"/>
                <a:ext cx="167760" cy="3636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92160" y="723600"/>
                <a:ext cx="217080" cy="105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50120" y="761760"/>
                <a:ext cx="10080" cy="26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019520" y="774000"/>
                <a:ext cx="33120" cy="201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87840" y="7754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71640" y="765000"/>
                <a:ext cx="17280" cy="248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3080" y="747360"/>
                <a:ext cx="86760" cy="3204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41480" y="7506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2320" y="747360"/>
                <a:ext cx="31680" cy="54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83160" y="747360"/>
                <a:ext cx="28800" cy="72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73080" y="752760"/>
                <a:ext cx="12960" cy="118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73080" y="763200"/>
                <a:ext cx="18720" cy="118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89280" y="772200"/>
                <a:ext cx="33120" cy="72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2400" y="770760"/>
                <a:ext cx="30240" cy="86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48680" y="76176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78840" y="749520"/>
                <a:ext cx="75240" cy="259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78840" y="749520"/>
                <a:ext cx="75240" cy="2736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89280" y="752760"/>
                <a:ext cx="55080" cy="201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02240" y="75780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03680" y="758520"/>
                <a:ext cx="2592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05120" y="759240"/>
                <a:ext cx="2304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08000" y="75996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13760" y="73008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16640" y="731880"/>
                <a:ext cx="27360" cy="9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18080" y="73188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19520" y="731880"/>
                <a:ext cx="23040" cy="8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20960" y="73260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25280" y="73332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55600" y="75996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58840" y="761040"/>
                <a:ext cx="27360" cy="104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60280" y="76176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60280" y="761760"/>
                <a:ext cx="2448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61720" y="761760"/>
                <a:ext cx="21600" cy="72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64600" y="76176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67480" y="761760"/>
                <a:ext cx="10080" cy="8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68920" y="76176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080360" y="811080"/>
                <a:ext cx="34560" cy="136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83240" y="81288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84680" y="813600"/>
                <a:ext cx="25920" cy="9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86120" y="813600"/>
                <a:ext cx="24480" cy="9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89000" y="81432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93320" y="81504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86120" y="816840"/>
                <a:ext cx="24480" cy="32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86120" y="81684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1120" y="759960"/>
                <a:ext cx="28800" cy="104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24000" y="76104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25440" y="76104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26880" y="76176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28320" y="76176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32640" y="762480"/>
                <a:ext cx="12960" cy="46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26880" y="764280"/>
                <a:ext cx="20160" cy="21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26880" y="764280"/>
                <a:ext cx="2016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22480" y="83160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123920" y="832320"/>
              <a:ext cx="2592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25360" y="83232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26800" y="833040"/>
              <a:ext cx="21600" cy="79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29680" y="833040"/>
              <a:ext cx="17280" cy="72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32560" y="833760"/>
              <a:ext cx="14400" cy="54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6800" y="83556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26800" y="836280"/>
              <a:ext cx="21600" cy="14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2840" y="684360"/>
              <a:ext cx="27360" cy="9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5720" y="685080"/>
              <a:ext cx="23040" cy="7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7160" y="6850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8600" y="685800"/>
              <a:ext cx="18720" cy="64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0040" y="6858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2920" y="68652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2680" y="748080"/>
              <a:ext cx="28800" cy="104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4120" y="748800"/>
              <a:ext cx="24480" cy="8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5560" y="749880"/>
              <a:ext cx="21600" cy="72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7000" y="749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8440" y="749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3120" y="75060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5560" y="75204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7000" y="7531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600" y="873360"/>
              <a:ext cx="30240" cy="1188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7040" y="874440"/>
              <a:ext cx="25920" cy="104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480" y="87516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9920" y="875160"/>
              <a:ext cx="21600" cy="8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1360" y="875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5680" y="8766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9920" y="878400"/>
              <a:ext cx="21600" cy="32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20" y="87840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25200" y="971640"/>
              <a:ext cx="31680" cy="13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28080" y="972360"/>
              <a:ext cx="2736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9520" y="973080"/>
              <a:ext cx="24480" cy="104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30960" y="973080"/>
              <a:ext cx="21600" cy="93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32400" y="973800"/>
              <a:ext cx="20160" cy="8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37080" y="974880"/>
              <a:ext cx="15840" cy="61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29520" y="977040"/>
              <a:ext cx="24480" cy="21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29520" y="977040"/>
              <a:ext cx="23040" cy="21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1080" y="780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1080" y="77724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080" y="774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080" y="771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7682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1080" y="765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1080" y="7628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1080" y="7596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4960" y="805680"/>
              <a:ext cx="33120" cy="72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4960" y="799920"/>
              <a:ext cx="33120" cy="104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5480" y="762840"/>
              <a:ext cx="186840" cy="4608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5480" y="759600"/>
              <a:ext cx="185040" cy="4680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7000" y="794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9880" y="796680"/>
              <a:ext cx="12960" cy="3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2760" y="797400"/>
              <a:ext cx="7200" cy="2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1760" y="806400"/>
              <a:ext cx="181080" cy="7020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4720" y="812160"/>
              <a:ext cx="154800" cy="5976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22320" y="829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20880" y="832320"/>
              <a:ext cx="2880" cy="1692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9440" y="83556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6560" y="83808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3680" y="84024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09360" y="84276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50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0720" y="84780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94960" y="849240"/>
              <a:ext cx="540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920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3440" y="853200"/>
              <a:ext cx="5760" cy="1440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624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0120" y="85500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6292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5720" y="85644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8520" y="85752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1320" y="85644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5560" y="856440"/>
              <a:ext cx="5760" cy="1368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836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116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5040" y="85320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928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3520" y="849960"/>
              <a:ext cx="540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7760" y="84780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34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0560" y="843480"/>
              <a:ext cx="4320" cy="1512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7680" y="84132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4800" y="83880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3360" y="835560"/>
              <a:ext cx="1440" cy="169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1920" y="833040"/>
              <a:ext cx="1080" cy="162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0480" y="83052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0480" y="801360"/>
              <a:ext cx="143280" cy="558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2840" y="805680"/>
              <a:ext cx="33120" cy="2340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8280" y="829080"/>
              <a:ext cx="34560" cy="241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2840" y="8038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9800" y="8290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2840" y="803880"/>
              <a:ext cx="11520" cy="2484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9880" y="82908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4200" y="803880"/>
              <a:ext cx="10080" cy="248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9960" y="829080"/>
              <a:ext cx="1008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4120" y="803880"/>
              <a:ext cx="18720" cy="2484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2840" y="829080"/>
              <a:ext cx="18720" cy="255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2600" y="804600"/>
              <a:ext cx="30240" cy="241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2840" y="829080"/>
              <a:ext cx="28800" cy="241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2160" y="80640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2840" y="82908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0640" y="809640"/>
              <a:ext cx="51840" cy="1908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2840" y="829080"/>
              <a:ext cx="50400" cy="201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2000" y="81360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2840" y="82908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6240" y="820080"/>
              <a:ext cx="66600" cy="86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2840" y="829080"/>
              <a:ext cx="65160" cy="972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6240" y="827280"/>
              <a:ext cx="66600" cy="79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2840" y="822600"/>
              <a:ext cx="65160" cy="79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9120" y="829080"/>
              <a:ext cx="63720" cy="136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2840" y="816120"/>
              <a:ext cx="63720" cy="12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6320" y="829080"/>
              <a:ext cx="56160" cy="183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2840" y="810360"/>
              <a:ext cx="54720" cy="18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400" y="829080"/>
              <a:ext cx="46080" cy="2160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2840" y="807120"/>
              <a:ext cx="44640" cy="2160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0640" y="807120"/>
              <a:ext cx="102600" cy="3960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6400" y="809640"/>
              <a:ext cx="91080" cy="3456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1160" y="814320"/>
              <a:ext cx="62280" cy="2484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5480" y="816120"/>
              <a:ext cx="53280" cy="208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9800" y="820080"/>
              <a:ext cx="44640" cy="176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10800" y="723960"/>
              <a:ext cx="57600" cy="136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894960" y="815400"/>
            <a:ext cx="816840" cy="646200"/>
            <a:chOff x="894960" y="815400"/>
            <a:chExt cx="816840" cy="646200"/>
          </a:xfrm>
        </p:grpSpPr>
        <p:sp>
          <p:nvSpPr>
            <p:cNvPr id="328" name=""/>
            <p:cNvSpPr/>
            <p:nvPr/>
          </p:nvSpPr>
          <p:spPr>
            <a:xfrm>
              <a:off x="900000" y="829800"/>
              <a:ext cx="394920" cy="31644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94960" y="829800"/>
              <a:ext cx="394920" cy="3178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1440" y="834120"/>
              <a:ext cx="383760" cy="31212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29880" y="862560"/>
              <a:ext cx="225720" cy="17244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61560" y="864000"/>
              <a:ext cx="192600" cy="152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58320" y="859680"/>
              <a:ext cx="194040" cy="15516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9360" y="949680"/>
              <a:ext cx="255960" cy="18108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02600" y="95256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15200" y="970920"/>
              <a:ext cx="21492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27800" y="99108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40400" y="1009440"/>
              <a:ext cx="208440" cy="11808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78840" y="923760"/>
              <a:ext cx="25200" cy="8244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83520" y="921240"/>
              <a:ext cx="28080" cy="925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91440" y="916920"/>
              <a:ext cx="28440" cy="9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07280" y="90828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9360" y="912600"/>
              <a:ext cx="28080" cy="102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23120" y="8996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32480" y="89532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37160" y="8924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59760" y="859680"/>
              <a:ext cx="143640" cy="7812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94960" y="829800"/>
              <a:ext cx="461160" cy="41472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0000" y="834120"/>
              <a:ext cx="453240" cy="40608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5480" y="856800"/>
              <a:ext cx="432720" cy="37764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7884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7416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78840" y="824040"/>
              <a:ext cx="367920" cy="27072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10520" y="841320"/>
              <a:ext cx="227520" cy="14112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8320" y="842760"/>
              <a:ext cx="187920" cy="12816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5080" y="837000"/>
              <a:ext cx="187920" cy="1324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51560" y="946800"/>
              <a:ext cx="260640" cy="13968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6240" y="94968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2720" y="9709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70640" y="9925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76760" y="1012320"/>
              <a:ext cx="228960" cy="7236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62720" y="875520"/>
              <a:ext cx="15480" cy="824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7400" y="872640"/>
              <a:ext cx="17280" cy="9396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73520" y="871200"/>
              <a:ext cx="18720" cy="99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91160" y="865440"/>
              <a:ext cx="18720" cy="104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81440" y="868320"/>
              <a:ext cx="20520" cy="10116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9880" y="86112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17800" y="858240"/>
              <a:ext cx="20520" cy="102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25720" y="85680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46880" y="838440"/>
              <a:ext cx="159480" cy="4392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69480" y="828360"/>
              <a:ext cx="421560" cy="37620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74160" y="832680"/>
              <a:ext cx="415440" cy="3675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84960" y="855360"/>
              <a:ext cx="399600" cy="34056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72080" y="834120"/>
              <a:ext cx="339480" cy="21780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68840" y="834120"/>
              <a:ext cx="336240" cy="21960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73520" y="837000"/>
              <a:ext cx="328320" cy="21528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03760" y="841320"/>
              <a:ext cx="217800" cy="104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48040" y="844200"/>
              <a:ext cx="170280" cy="9828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4800" y="838440"/>
              <a:ext cx="172080" cy="102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14560" y="960840"/>
              <a:ext cx="250920" cy="8964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19600" y="9637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21040" y="9853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2480" y="100800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4280" y="1029600"/>
              <a:ext cx="235080" cy="212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48040" y="847080"/>
              <a:ext cx="29880" cy="78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49480" y="847080"/>
              <a:ext cx="34560" cy="896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49480" y="845640"/>
              <a:ext cx="42480" cy="954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65320" y="84564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7400" y="84564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8440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9376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01680" y="84420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4800" y="838440"/>
              <a:ext cx="167400" cy="828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60920" y="849600"/>
              <a:ext cx="360000" cy="3193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64160" y="852480"/>
              <a:ext cx="355320" cy="31068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70640" y="876960"/>
              <a:ext cx="344160" cy="28224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35440" y="822600"/>
              <a:ext cx="361800" cy="254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2200" y="818280"/>
              <a:ext cx="360000" cy="25776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36880" y="822600"/>
              <a:ext cx="350640" cy="25344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92320" y="831240"/>
              <a:ext cx="224280" cy="12528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34800" y="83556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33360" y="83268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70000" y="949680"/>
              <a:ext cx="258840" cy="11952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87280" y="95256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82600" y="97380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79360" y="995400"/>
              <a:ext cx="235080" cy="5976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76480" y="1016640"/>
              <a:ext cx="233640" cy="525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34800" y="838440"/>
              <a:ext cx="48960" cy="7236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33360" y="839880"/>
              <a:ext cx="55080" cy="8244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33360" y="841320"/>
              <a:ext cx="63000" cy="8676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45960" y="845640"/>
              <a:ext cx="69480" cy="8532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36240" y="84276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65040" y="84852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74400" y="8496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80520" y="8514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0640" y="832680"/>
              <a:ext cx="164160" cy="313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03760" y="832680"/>
              <a:ext cx="399600" cy="3564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07000" y="837000"/>
              <a:ext cx="391680" cy="34776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09880" y="859680"/>
              <a:ext cx="380520" cy="32076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95200" y="822600"/>
              <a:ext cx="383760" cy="30348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92320" y="815400"/>
              <a:ext cx="383760" cy="307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95200" y="819720"/>
              <a:ext cx="374400" cy="30204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77640" y="835560"/>
              <a:ext cx="228960" cy="15804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16880" y="845640"/>
              <a:ext cx="191160" cy="14652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6880" y="842760"/>
              <a:ext cx="191160" cy="14796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26880" y="943920"/>
              <a:ext cx="258840" cy="16524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58560" y="9468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49200" y="9666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38040" y="98676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560" y="1006560"/>
              <a:ext cx="219600" cy="997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20120" y="853920"/>
              <a:ext cx="66240" cy="626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15440" y="856800"/>
              <a:ext cx="75600" cy="6984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5440" y="859680"/>
              <a:ext cx="83520" cy="7236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26600" y="8668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18680" y="8625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43880" y="8740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51800" y="8769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57920" y="87984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56480" y="844200"/>
              <a:ext cx="151560" cy="640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36880" y="824040"/>
              <a:ext cx="448560" cy="40176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41560" y="828360"/>
              <a:ext cx="439200" cy="39348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44800" y="851400"/>
              <a:ext cx="421560" cy="36612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58560" y="841320"/>
              <a:ext cx="382320" cy="3391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5320" y="835560"/>
              <a:ext cx="385560" cy="34200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8560" y="839880"/>
              <a:ext cx="375840" cy="33480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61160" y="861120"/>
              <a:ext cx="222480" cy="1836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96080" y="879840"/>
              <a:ext cx="189360" cy="1638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96080" y="876960"/>
              <a:ext cx="191160" cy="1638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85560" y="955440"/>
              <a:ext cx="244800" cy="19944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29480" y="9568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5440" y="973800"/>
              <a:ext cx="195840" cy="14940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99600" y="9910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0240" y="1008000"/>
              <a:ext cx="191160" cy="14256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0760" y="891000"/>
              <a:ext cx="80280" cy="482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96080" y="893880"/>
              <a:ext cx="90000" cy="5400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94280" y="898200"/>
              <a:ext cx="97920" cy="5688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02200" y="909720"/>
              <a:ext cx="10584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96080" y="90396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16600" y="921240"/>
              <a:ext cx="10548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24520" y="926640"/>
              <a:ext cx="105840" cy="5544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30640" y="92952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56200" y="876960"/>
              <a:ext cx="131040" cy="9540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76480" y="839880"/>
              <a:ext cx="472320" cy="42624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81160" y="845640"/>
              <a:ext cx="462960" cy="41760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87280" y="865440"/>
              <a:ext cx="437400" cy="3906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64160" y="1135080"/>
              <a:ext cx="379080" cy="15516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72080" y="1139400"/>
              <a:ext cx="363240" cy="14688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84400" y="1112040"/>
              <a:ext cx="138960" cy="125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6416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58840" y="1135080"/>
              <a:ext cx="189360" cy="396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4532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4400" y="1104840"/>
              <a:ext cx="138960" cy="1267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84400" y="1106640"/>
              <a:ext cx="137160" cy="1238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87280" y="1107720"/>
              <a:ext cx="132480" cy="1209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89080" y="1110600"/>
              <a:ext cx="129240" cy="1152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95200" y="1114920"/>
              <a:ext cx="116640" cy="1069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98440" y="1119240"/>
              <a:ext cx="110520" cy="51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31560" y="1149120"/>
              <a:ext cx="42480" cy="38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33360" y="1150560"/>
              <a:ext cx="39240" cy="356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36240" y="1152000"/>
              <a:ext cx="34560" cy="327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41280" y="1157760"/>
              <a:ext cx="25200" cy="22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42440" y="1100880"/>
              <a:ext cx="86760" cy="28944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97520" y="1100880"/>
              <a:ext cx="314280" cy="32652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39440" y="1410120"/>
              <a:ext cx="72360" cy="51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42440" y="1136520"/>
              <a:ext cx="315720" cy="32508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42440" y="1390320"/>
              <a:ext cx="18720" cy="241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39440" y="1444320"/>
              <a:ext cx="18720" cy="16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50000" y="1154880"/>
              <a:ext cx="299880" cy="30060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61160" y="1408680"/>
              <a:ext cx="277920" cy="5256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2440" y="1136520"/>
              <a:ext cx="78840" cy="612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79320" y="1189080"/>
              <a:ext cx="78840" cy="342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21280" y="1190520"/>
              <a:ext cx="157680" cy="327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55280" y="1154880"/>
              <a:ext cx="56520" cy="28944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040" y="1011600"/>
            <a:ext cx="1359000" cy="401040"/>
            <a:chOff x="5040" y="1011600"/>
            <a:chExt cx="1359000" cy="401040"/>
          </a:xfrm>
        </p:grpSpPr>
        <p:sp>
          <p:nvSpPr>
            <p:cNvPr id="495" name=""/>
            <p:cNvSpPr/>
            <p:nvPr/>
          </p:nvSpPr>
          <p:spPr>
            <a:xfrm>
              <a:off x="496800" y="114588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91080" y="129996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9840" y="122220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30120" y="114408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9840" y="114408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1840" y="120024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91080" y="115488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85400" y="119664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93320" y="120024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1080" y="114948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9840" y="121644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6800" y="120384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9840" y="122940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2360" y="122220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4880" y="121824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560" y="122220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2120" y="124200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9840" y="123660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840" y="121644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4880" y="124560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77760" y="129996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77760" y="114768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30120" y="114408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30120" y="114588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30120" y="114588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32640" y="114408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32640" y="114408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40560" y="115488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38040" y="115668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35520" y="115848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32640" y="116028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75040" y="119124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85480" y="119304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4240" y="101700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51480" y="123300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7280" y="117468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3360" y="101160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4400" y="101700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6760" y="101520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43560" y="106956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46160" y="110952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51200" y="111312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43560" y="106596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1880" y="101340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8920" y="101160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1360" y="117108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7280" y="119124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7280" y="118404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9800" y="117684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5200" y="11710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2760" y="11656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7280" y="119844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1880" y="116028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5200" y="120744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0600" y="123840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0600" y="106416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46360" y="101700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54280" y="101880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9800" y="10296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17280" y="10278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9800" y="102960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27720" y="104040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35640" y="10422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46080" y="10440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56880" y="10458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67320" y="10476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14560" y="107316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25000" y="107496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35440" y="107676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5880" y="108036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1960" y="106236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7000" y="106236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9160" y="106236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1680" y="106416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35920" y="108756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75160" y="109512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4760" y="110052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48960" y="110592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11132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11960" y="111672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4640" y="106776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8400" y="108396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5400" y="109332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72560" y="11131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9600" y="11203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3760" y="112752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0440" y="113472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40" y="109332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3080" y="133992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3480" y="129636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6720" y="108216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3480" y="108936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440" y="108756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3080" y="113112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2800" y="117288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8200" y="117864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0200" y="112572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0600" y="108396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7640" y="108216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40" y="129636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3480" y="1318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3480" y="1309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6000" y="1301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3920" y="1292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4360" y="128556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0600" y="132912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0600" y="128016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8520" y="133812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7240" y="135288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7240" y="112392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9720" y="108936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7640" y="108936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6040" y="11005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3520" y="10987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6040" y="109872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1440" y="110772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1880" y="11095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2320" y="11113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5640" y="111312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080" y="111312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5840" y="113688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6280" y="114048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7080" y="114408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7520" y="114768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3640" y="114948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9040" y="115128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7040" y="115128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9560" y="115308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6320" y="117108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5560" y="117468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5160" y="118044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1880" y="118584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080" y="118944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17760" y="119304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5400" y="115668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8800" y="117108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0400" y="119124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5400" y="121104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9560" y="12204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3720" y="122940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7880" y="12402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89840" y="960120"/>
            <a:ext cx="689040" cy="664560"/>
            <a:chOff x="789840" y="960120"/>
            <a:chExt cx="689040" cy="664560"/>
          </a:xfrm>
        </p:grpSpPr>
        <p:sp>
          <p:nvSpPr>
            <p:cNvPr id="639" name=""/>
            <p:cNvSpPr/>
            <p:nvPr/>
          </p:nvSpPr>
          <p:spPr>
            <a:xfrm>
              <a:off x="1037880" y="1446120"/>
              <a:ext cx="441000" cy="17856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41840" y="1446120"/>
              <a:ext cx="427680" cy="17856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7240" y="1446120"/>
              <a:ext cx="410400" cy="17856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52280" y="1446120"/>
              <a:ext cx="394560" cy="17856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57680" y="1446120"/>
              <a:ext cx="375840" cy="17856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64520" y="1446120"/>
              <a:ext cx="354240" cy="17856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71000" y="1446120"/>
              <a:ext cx="331560" cy="17856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78920" y="1446120"/>
              <a:ext cx="306360" cy="17856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87200" y="1446120"/>
              <a:ext cx="279720" cy="17856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97640" y="1446120"/>
              <a:ext cx="246600" cy="17856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08440" y="1446120"/>
              <a:ext cx="210240" cy="17856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23200" y="1446120"/>
              <a:ext cx="163800" cy="17856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40480" y="1446120"/>
              <a:ext cx="107640" cy="17856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63160" y="1446120"/>
              <a:ext cx="31680" cy="17244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37880" y="1294560"/>
              <a:ext cx="441000" cy="30096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48320" y="1303920"/>
              <a:ext cx="419760" cy="28440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55160" y="1308240"/>
              <a:ext cx="406440" cy="27540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60560" y="1311480"/>
              <a:ext cx="395640" cy="26784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64520" y="1314360"/>
              <a:ext cx="387720" cy="26172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85840" y="1102320"/>
              <a:ext cx="145080" cy="8460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64520" y="1441440"/>
              <a:ext cx="387720" cy="13320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7040" y="144144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64520" y="14310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67040" y="14310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4520" y="14202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67040" y="14202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4520" y="141120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7040" y="1411200"/>
              <a:ext cx="382320" cy="12564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64520" y="140076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67040" y="1400760"/>
              <a:ext cx="382320" cy="12384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64520" y="139140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67040" y="139140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64520" y="138096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67040" y="138096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64520" y="13719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67040" y="13719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64520" y="13611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67040" y="1361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4520" y="1352160"/>
              <a:ext cx="387720" cy="12564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67040" y="1352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64520" y="13431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67040" y="13431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64520" y="13323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67040" y="13323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64520" y="1323360"/>
              <a:ext cx="387720" cy="12240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67040" y="1323360"/>
              <a:ext cx="382320" cy="11772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64520" y="13143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67040" y="1314360"/>
              <a:ext cx="382320" cy="1162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64520" y="13053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67040" y="13053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4520" y="12945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67040" y="1294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4520" y="12855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67040" y="1285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64520" y="1276560"/>
              <a:ext cx="387720" cy="11808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67040" y="1276560"/>
              <a:ext cx="382320" cy="11340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64520" y="126756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7040" y="126756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64520" y="125820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67040" y="125820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4520" y="124920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67040" y="1249200"/>
              <a:ext cx="382320" cy="11052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64520" y="123876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7040" y="1238760"/>
              <a:ext cx="382320" cy="11016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64520" y="123120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67040" y="1231200"/>
              <a:ext cx="382320" cy="10872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64520" y="122184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67040" y="1221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64520" y="1212840"/>
              <a:ext cx="387720" cy="11196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67040" y="1212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4520" y="1203840"/>
              <a:ext cx="387720" cy="11052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67040" y="1203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64520" y="1194840"/>
              <a:ext cx="387720" cy="11016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67040" y="1194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64520" y="118584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67040" y="118584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64520" y="1176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67040" y="1176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64520" y="1167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67040" y="1167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64520" y="1158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67040" y="1158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64520" y="1149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67040" y="1149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64520" y="104652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64520" y="104184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192320" y="1108440"/>
              <a:ext cx="131760" cy="680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67040" y="1043280"/>
              <a:ext cx="382320" cy="19800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13560" y="1176480"/>
              <a:ext cx="30600" cy="633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72240" y="1044720"/>
              <a:ext cx="30600" cy="6192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94920" y="1172160"/>
              <a:ext cx="69120" cy="5436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152360" y="1056960"/>
              <a:ext cx="69120" cy="558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96360" y="117036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39040" y="105984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01760" y="1168920"/>
              <a:ext cx="89280" cy="511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25720" y="1064520"/>
              <a:ext cx="89280" cy="514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07160" y="1164600"/>
              <a:ext cx="98640" cy="4968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10960" y="1070640"/>
              <a:ext cx="98640" cy="48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12200" y="1161360"/>
              <a:ext cx="10764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96560" y="1079640"/>
              <a:ext cx="10800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16520" y="1157040"/>
              <a:ext cx="117000" cy="3780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83240" y="1088640"/>
              <a:ext cx="115920" cy="392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21560" y="1150920"/>
              <a:ext cx="121320" cy="316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73880" y="1102320"/>
              <a:ext cx="120960" cy="3024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25520" y="1144800"/>
              <a:ext cx="122400" cy="2268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68480" y="1117440"/>
              <a:ext cx="122400" cy="2088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26960" y="1132560"/>
              <a:ext cx="122400" cy="1800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067040" y="1134000"/>
              <a:ext cx="122400" cy="1656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6960" y="1125000"/>
              <a:ext cx="120960" cy="1332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068480" y="1144800"/>
              <a:ext cx="120960" cy="151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96360" y="1059840"/>
              <a:ext cx="77040" cy="5292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3000" y="1170360"/>
              <a:ext cx="77040" cy="5436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92400" y="105552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2360" y="117216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88440" y="1052280"/>
              <a:ext cx="62640" cy="5868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65680" y="1173600"/>
              <a:ext cx="62640" cy="590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84480" y="1049400"/>
              <a:ext cx="55800" cy="604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76480" y="1175040"/>
              <a:ext cx="55800" cy="590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80520" y="104796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186920" y="117504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77640" y="1046520"/>
              <a:ext cx="42480" cy="61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96280" y="1176480"/>
              <a:ext cx="42480" cy="604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5120" y="104652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05640" y="117648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6400" y="1047960"/>
              <a:ext cx="363600" cy="18900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93760" y="1108440"/>
              <a:ext cx="130320" cy="680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21840" y="1123560"/>
              <a:ext cx="73080" cy="378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1248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79080" y="105084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21500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277640" y="105084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17880" y="1187280"/>
              <a:ext cx="22320" cy="468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76200" y="1049400"/>
              <a:ext cx="22320" cy="48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20400" y="118728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75120" y="104940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04280" y="1181160"/>
              <a:ext cx="4932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160" y="1061640"/>
              <a:ext cx="49320" cy="406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0572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15776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07160" y="117972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53800" y="106308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09680" y="117972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48400" y="106596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12200" y="117828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43000" y="106740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15080" y="117648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137600" y="106920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17600" y="1175040"/>
              <a:ext cx="66600" cy="378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32560" y="1072080"/>
              <a:ext cx="66600" cy="360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19040" y="1175040"/>
              <a:ext cx="70560" cy="3600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127160" y="1073520"/>
              <a:ext cx="69120" cy="3600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23000" y="1173600"/>
              <a:ext cx="71640" cy="345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21760" y="1076760"/>
              <a:ext cx="73080" cy="345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25520" y="1170360"/>
              <a:ext cx="74520" cy="3456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16360" y="1079640"/>
              <a:ext cx="75960" cy="3312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26960" y="1168920"/>
              <a:ext cx="78480" cy="316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10960" y="1084320"/>
              <a:ext cx="77040" cy="316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29840" y="116748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05920" y="108720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32360" y="116460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100520" y="109044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34880" y="11628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6560" y="10962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37760" y="1159920"/>
              <a:ext cx="87840" cy="24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091160" y="1100880"/>
              <a:ext cx="87840" cy="2268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40280" y="115848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087200" y="110556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41720" y="115524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84320" y="111132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43160" y="1152360"/>
              <a:ext cx="93240" cy="1476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81800" y="1116000"/>
              <a:ext cx="91800" cy="1656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44240" y="1149480"/>
              <a:ext cx="93240" cy="1188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78920" y="1122120"/>
              <a:ext cx="91800" cy="1332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45680" y="114624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7784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47120" y="114192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76400" y="113580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47120" y="113580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76400" y="114192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34568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77840" y="11448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45680" y="11250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78920" y="1147680"/>
              <a:ext cx="91800" cy="1188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309680" y="106596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49840" y="117972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07160" y="1064520"/>
              <a:ext cx="57240" cy="406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52360" y="1179720"/>
              <a:ext cx="55800" cy="4068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0572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5776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02840" y="1061640"/>
              <a:ext cx="51840" cy="406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61720" y="1181160"/>
              <a:ext cx="51840" cy="4212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300320" y="1059840"/>
              <a:ext cx="4896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67120" y="1182600"/>
              <a:ext cx="47880" cy="421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98880" y="1058400"/>
              <a:ext cx="46440" cy="439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71080" y="1182600"/>
              <a:ext cx="46440" cy="435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96360" y="1056960"/>
              <a:ext cx="45000" cy="435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5040" y="1182600"/>
              <a:ext cx="45000" cy="453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94920" y="1056960"/>
              <a:ext cx="42480" cy="435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179000" y="1184040"/>
              <a:ext cx="42480" cy="439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92400" y="1055520"/>
              <a:ext cx="41040" cy="453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182960" y="1184040"/>
              <a:ext cx="399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90960" y="105408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86920" y="118404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89880" y="105408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90880" y="118584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88440" y="1054080"/>
              <a:ext cx="33120" cy="4536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195200" y="1185840"/>
              <a:ext cx="34560" cy="453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85560" y="1052280"/>
              <a:ext cx="31680" cy="4680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97720" y="1185840"/>
              <a:ext cx="33120" cy="468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84480" y="1052280"/>
              <a:ext cx="30600" cy="45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01680" y="1185840"/>
              <a:ext cx="30600" cy="468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8304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05640" y="1187280"/>
              <a:ext cx="27720" cy="4536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8052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08520" y="118728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2360" y="1158480"/>
              <a:ext cx="340920" cy="438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89840" y="1159920"/>
              <a:ext cx="339840" cy="44028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01800" y="1303920"/>
              <a:ext cx="115920" cy="1512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91280" y="1162800"/>
              <a:ext cx="335880" cy="4345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09800" y="1417320"/>
              <a:ext cx="93240" cy="7992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5040" y="1262880"/>
              <a:ext cx="94320" cy="7848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012320" y="141264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9640" y="127656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13760" y="1411200"/>
              <a:ext cx="97200" cy="5724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08560" y="1290240"/>
              <a:ext cx="97200" cy="590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17720" y="130392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9200" y="140688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16280" y="1287000"/>
              <a:ext cx="102600" cy="648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00640" y="1408320"/>
              <a:ext cx="102600" cy="633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13760" y="1273320"/>
              <a:ext cx="101160" cy="72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04600" y="1412640"/>
              <a:ext cx="101160" cy="74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011240" y="1258200"/>
              <a:ext cx="98640" cy="831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09640" y="1418760"/>
              <a:ext cx="98640" cy="8172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08360" y="1244880"/>
              <a:ext cx="94320" cy="9072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16480" y="1423440"/>
              <a:ext cx="94320" cy="921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05840" y="123120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4400" y="142956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01880" y="1217520"/>
              <a:ext cx="83880" cy="1072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32320" y="1433880"/>
              <a:ext cx="84960" cy="1072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97560" y="120528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43120" y="143856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93600" y="1194840"/>
              <a:ext cx="71640" cy="12240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3920" y="1443240"/>
              <a:ext cx="71640" cy="12096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89640" y="118584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65800" y="144612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84600" y="117828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77680" y="145080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79200" y="1170360"/>
              <a:ext cx="47880" cy="1360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92440" y="1453680"/>
              <a:ext cx="47880" cy="13464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973800" y="116604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05760" y="145512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68400" y="116280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20520" y="145656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64440" y="1162800"/>
              <a:ext cx="18360" cy="13752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36360" y="1458000"/>
              <a:ext cx="18360" cy="13932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48520" y="121608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97560" y="143532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9160" y="1223640"/>
              <a:ext cx="79920" cy="10440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00440" y="1432440"/>
              <a:ext cx="79920" cy="10260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29800" y="12355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02960" y="14263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1880" y="1249200"/>
              <a:ext cx="90360" cy="874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07280" y="1422000"/>
              <a:ext cx="88920" cy="8928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0640" y="1173600"/>
              <a:ext cx="318240" cy="41184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01800" y="1305360"/>
              <a:ext cx="114480" cy="14832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27000" y="1338480"/>
              <a:ext cx="63720" cy="8172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24560" y="1431000"/>
              <a:ext cx="69120" cy="5724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25840" y="1270440"/>
              <a:ext cx="69120" cy="5868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25640" y="142776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22960" y="127512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27080" y="142488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20440" y="128124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27080" y="1423440"/>
              <a:ext cx="73080" cy="4968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9000" y="1285560"/>
              <a:ext cx="73080" cy="51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28520" y="1420200"/>
              <a:ext cx="74520" cy="48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6480" y="1291680"/>
              <a:ext cx="74520" cy="468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029600" y="1418760"/>
              <a:ext cx="73080" cy="439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040" y="1296000"/>
              <a:ext cx="74520" cy="439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33920" y="1309680"/>
              <a:ext cx="78480" cy="3600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7120" y="1414440"/>
              <a:ext cx="78480" cy="3456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33920" y="1303920"/>
              <a:ext cx="78480" cy="4212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" y="1414440"/>
              <a:ext cx="78480" cy="406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32480" y="1297800"/>
              <a:ext cx="77040" cy="4536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08560" y="1415880"/>
              <a:ext cx="78480" cy="4536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32480" y="1293120"/>
              <a:ext cx="75960" cy="4680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11080" y="1418760"/>
              <a:ext cx="75960" cy="48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031040" y="1287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12520" y="1422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29600" y="1281240"/>
              <a:ext cx="74520" cy="5292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13960" y="1424880"/>
              <a:ext cx="75960" cy="5292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28520" y="1276560"/>
              <a:ext cx="74520" cy="5436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16480" y="1427760"/>
              <a:ext cx="74520" cy="5580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27080" y="1270440"/>
              <a:ext cx="73080" cy="5868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9000" y="1431000"/>
              <a:ext cx="73080" cy="5724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25640" y="1265760"/>
              <a:ext cx="71640" cy="604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20440" y="1432440"/>
              <a:ext cx="73080" cy="6192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24560" y="1260000"/>
              <a:ext cx="70560" cy="633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22960" y="1435320"/>
              <a:ext cx="71640" cy="633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23120" y="1255320"/>
              <a:ext cx="69120" cy="648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25840" y="1438560"/>
              <a:ext cx="70560" cy="666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21680" y="1249200"/>
              <a:ext cx="67680" cy="694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9800" y="1441440"/>
              <a:ext cx="67680" cy="680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20240" y="1244880"/>
              <a:ext cx="66600" cy="709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32320" y="1443240"/>
              <a:ext cx="66600" cy="72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19160" y="123876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35200" y="144612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16280" y="1234080"/>
              <a:ext cx="63720" cy="770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39160" y="1447560"/>
              <a:ext cx="62280" cy="770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15200" y="1229400"/>
              <a:ext cx="61200" cy="7848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1680" y="1450800"/>
              <a:ext cx="62280" cy="7848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13760" y="12250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5640" y="14536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11240" y="1220400"/>
              <a:ext cx="58320" cy="831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49960" y="1455120"/>
              <a:ext cx="57240" cy="831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09800" y="1216080"/>
              <a:ext cx="55800" cy="8604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53920" y="1458000"/>
              <a:ext cx="55800" cy="8460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07280" y="12114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57880" y="14598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05840" y="1208520"/>
              <a:ext cx="51840" cy="8928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61840" y="1461240"/>
              <a:ext cx="51840" cy="9072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02960" y="1203840"/>
              <a:ext cx="49320" cy="921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65800" y="1464120"/>
              <a:ext cx="50400" cy="9072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00440" y="1200600"/>
              <a:ext cx="47880" cy="921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71200" y="1465920"/>
              <a:ext cx="47880" cy="9360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997560" y="119628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75160" y="146736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96480" y="11934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80560" y="14688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993600" y="119016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85960" y="147024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991080" y="1187280"/>
              <a:ext cx="37080" cy="9972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89920" y="1471680"/>
              <a:ext cx="38520" cy="9972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88560" y="1185840"/>
              <a:ext cx="34560" cy="9972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94960" y="1473480"/>
              <a:ext cx="36000" cy="1011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85680" y="118260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01800" y="147492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83160" y="1181160"/>
              <a:ext cx="29160" cy="1029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05760" y="1476360"/>
              <a:ext cx="30600" cy="10260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80280" y="1179720"/>
              <a:ext cx="26640" cy="10260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12600" y="1476360"/>
              <a:ext cx="26640" cy="10440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77760" y="117648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7640" y="147780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75240" y="1176480"/>
              <a:ext cx="21240" cy="10440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23040" y="1477800"/>
              <a:ext cx="21240" cy="10584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72360" y="11750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28440" y="14792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69840" y="1173600"/>
              <a:ext cx="14400" cy="10584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33840" y="1479240"/>
              <a:ext cx="15840" cy="10584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66960" y="117360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40320" y="147924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64440" y="1173600"/>
              <a:ext cx="9000" cy="10584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45720" y="1481040"/>
              <a:ext cx="7920" cy="10440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57880" y="1225080"/>
              <a:ext cx="53280" cy="79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008360" y="1453680"/>
              <a:ext cx="53280" cy="817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53920" y="1227960"/>
              <a:ext cx="55800" cy="7848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009800" y="1452240"/>
              <a:ext cx="55800" cy="7992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49960" y="1232640"/>
              <a:ext cx="57240" cy="7704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11240" y="1449000"/>
              <a:ext cx="58320" cy="7848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5640" y="1236960"/>
              <a:ext cx="59760" cy="7416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13760" y="1447560"/>
              <a:ext cx="59760" cy="756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43120" y="1241640"/>
              <a:ext cx="61200" cy="72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15200" y="1444680"/>
              <a:ext cx="61200" cy="741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39160" y="1246320"/>
              <a:ext cx="63720" cy="709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16280" y="1443240"/>
              <a:ext cx="62280" cy="709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36640" y="125064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017720" y="144000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33760" y="1255320"/>
              <a:ext cx="65160" cy="666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20240" y="1438560"/>
              <a:ext cx="65160" cy="648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31240" y="126000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21680" y="143532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28360" y="1265760"/>
              <a:ext cx="67680" cy="6048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3120" y="1432440"/>
              <a:ext cx="67680" cy="6192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26880" y="113256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26880" y="972000"/>
              <a:ext cx="62640" cy="18756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32280" y="972000"/>
              <a:ext cx="54360" cy="184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37680" y="972000"/>
              <a:ext cx="47880" cy="184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43080" y="972000"/>
              <a:ext cx="39960" cy="18468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49560" y="972000"/>
              <a:ext cx="29160" cy="18468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57840" y="972000"/>
              <a:ext cx="18360" cy="18468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67200" y="972000"/>
              <a:ext cx="5040" cy="18288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39120" y="970560"/>
              <a:ext cx="2520" cy="18288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51000" y="970560"/>
              <a:ext cx="1080" cy="1861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80520" y="970560"/>
              <a:ext cx="1080" cy="18144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26880" y="96012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29760" y="960120"/>
              <a:ext cx="57240" cy="2232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33720" y="961560"/>
              <a:ext cx="50400" cy="194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37680" y="963000"/>
              <a:ext cx="41040" cy="1656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47040" y="967680"/>
              <a:ext cx="22320" cy="72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160" y="663480"/>
            <a:ext cx="713880" cy="734040"/>
            <a:chOff x="2160" y="663480"/>
            <a:chExt cx="713880" cy="734040"/>
          </a:xfrm>
        </p:grpSpPr>
        <p:sp>
          <p:nvSpPr>
            <p:cNvPr id="1028" name=""/>
            <p:cNvSpPr/>
            <p:nvPr/>
          </p:nvSpPr>
          <p:spPr>
            <a:xfrm>
              <a:off x="2160" y="68076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60" y="67572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60" y="66348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160" y="663480"/>
              <a:ext cx="713880" cy="71424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920" y="685440"/>
              <a:ext cx="636480" cy="63864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400" y="700200"/>
              <a:ext cx="603720" cy="6040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9880" y="7786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040" y="7858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46920" y="7909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1160" y="7981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35400" y="80316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9280" y="81036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2440" y="815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6320" y="82260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0560" y="8276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3720" y="8348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7600" y="842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90760" y="847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4640" y="8542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7800" y="86184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1680" y="86652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64840" y="874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7640" y="88128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51880" y="8884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44680" y="8935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7840" y="9007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0640" y="9082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3800" y="9154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7680" y="92304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0840" y="92772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3640" y="9352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800" y="9424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89600" y="9500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2760" y="9572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74480" y="964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7280" y="9720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0080" y="9792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3240" y="98676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44960" y="99396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37760" y="100116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0920" y="1008720"/>
              <a:ext cx="39600" cy="460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2640" y="1018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4360" y="1025640"/>
              <a:ext cx="41040" cy="4392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7520" y="10332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99240" y="1040400"/>
              <a:ext cx="41040" cy="460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2040" y="10476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3760" y="105516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75840" y="106488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640" y="107208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0360" y="107964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2080" y="108936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4160" y="1096560"/>
              <a:ext cx="41040" cy="4860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880" y="11041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7600" y="111384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9320" y="11210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1040" y="113112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1680" y="11383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93400" y="11480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5120" y="11552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6840" y="116532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67480" y="1172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9560" y="11822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9840" y="118980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0480" y="1199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2560" y="120924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22840" y="121896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3480" y="122616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04120" y="123624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94760" y="124596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5400" y="12556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6040" y="126540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66680" y="12754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57320" y="128520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38920" y="680760"/>
              <a:ext cx="113760" cy="13212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5320" y="670680"/>
              <a:ext cx="122040" cy="13464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6760" y="66348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37840" y="663480"/>
              <a:ext cx="112680" cy="12204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8920" y="663480"/>
              <a:ext cx="109080" cy="114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3676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892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41440" y="7200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3600" y="72216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" y="7272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49360" y="7272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2960" y="73188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4400" y="7344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764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016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844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060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9960" y="76392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81400" y="76644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4640" y="768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716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0760" y="7761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92920" y="77868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5440" y="780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7600" y="783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1200" y="7884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03720" y="79092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83840" y="729720"/>
              <a:ext cx="116280" cy="13464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9160" y="71748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80240" y="712440"/>
              <a:ext cx="120960" cy="13212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82760" y="709920"/>
              <a:ext cx="114840" cy="12708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3840" y="709920"/>
              <a:ext cx="111600" cy="11952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80240" y="763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2760" y="766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600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8852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92120" y="77616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93200" y="778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6800" y="7833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8960" y="7858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02560" y="7884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4720" y="7909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1300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552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4880" y="81504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59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9560" y="820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32080" y="8226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53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7840" y="8298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400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252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6120" y="839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8280" y="8420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26240" y="780840"/>
              <a:ext cx="118440" cy="1393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1560" y="768600"/>
              <a:ext cx="127800" cy="1443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3720" y="761400"/>
              <a:ext cx="122040" cy="1393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5160" y="76140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6240" y="758880"/>
              <a:ext cx="113760" cy="12456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2640" y="815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251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2840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3092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345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36680" y="829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392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4136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44960" y="842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7480" y="844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5400" y="854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57920" y="856800"/>
              <a:ext cx="7920" cy="316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728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980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3040" y="874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556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7720" y="881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0240" y="883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384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600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9600" y="8935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212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66120" y="832320"/>
              <a:ext cx="122040" cy="1443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62880" y="820080"/>
              <a:ext cx="130320" cy="14904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63960" y="812880"/>
              <a:ext cx="125640" cy="1418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6120" y="810360"/>
              <a:ext cx="119520" cy="13680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7560" y="810360"/>
              <a:ext cx="115920" cy="12960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396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66120" y="871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69720" y="8740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7224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74400" y="8812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6920" y="88380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0520" y="888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2680" y="891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628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8440" y="898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96720" y="908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9240" y="9108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0860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076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436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688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480" y="935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1560" y="9374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5160" y="942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7320" y="945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0920" y="950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3080" y="952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05280" y="886320"/>
              <a:ext cx="124200" cy="14652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01680" y="87408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02760" y="86436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5280" y="864360"/>
              <a:ext cx="123120" cy="1393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07440" y="861840"/>
              <a:ext cx="118440" cy="13428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0276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0528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08880" y="9302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11040" y="9327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464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1680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19320" y="9424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21840" y="9450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5080" y="950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7600" y="952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36960" y="964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120" y="9669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7400" y="9792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9920" y="98172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53520" y="9867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55680" y="988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9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61440" y="996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65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6756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1160" y="1006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332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1920" y="942480"/>
              <a:ext cx="126720" cy="15156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8320" y="927720"/>
              <a:ext cx="136080" cy="15876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0480" y="91800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41920" y="918000"/>
              <a:ext cx="126720" cy="1443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4080" y="918000"/>
              <a:ext cx="122040" cy="13680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39400" y="9792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1920" y="9817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45160" y="986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47680" y="988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51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53440" y="996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57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9560" y="10036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280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5320" y="1010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3600" y="10231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5760" y="10256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85120" y="10378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7640" y="10378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91240" y="10429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93400" y="1045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97000" y="1050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99160" y="10526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02760" y="10576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05280" y="10598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7440" y="1064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11040" y="10674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7120" y="998640"/>
              <a:ext cx="128880" cy="15624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72440" y="984240"/>
              <a:ext cx="139680" cy="1663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4960" y="97416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7120" y="976680"/>
              <a:ext cx="128880" cy="14652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640" y="97416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73520" y="1037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7120" y="10378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9640" y="1045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83240" y="10476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85400" y="1052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87920" y="10551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160" y="1059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3680" y="1062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7280" y="10674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9440" y="1069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8800" y="1081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1320" y="10843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20680" y="1096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2284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26440" y="1104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2896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32560" y="11113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34720" y="11138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8320" y="11185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40480" y="1121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44080" y="112608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46600" y="112860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09080" y="1057680"/>
              <a:ext cx="132480" cy="1612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5480" y="1042920"/>
              <a:ext cx="141840" cy="17100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8000" y="1033200"/>
              <a:ext cx="137160" cy="1638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9080" y="103320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1600" y="103068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6560" y="1096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908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12680" y="11041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484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8440" y="1113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0960" y="1116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24200" y="11210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26720" y="1123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0320" y="11286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32480" y="11311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41840" y="11433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44360" y="11455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5372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5588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5948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62000" y="1170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65600" y="11750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7760" y="1177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1360" y="1182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3520" y="11847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7120" y="11898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9640" y="11919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520" y="1118520"/>
              <a:ext cx="136080" cy="16884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920" y="1104120"/>
              <a:ext cx="145440" cy="17604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7440" y="1094400"/>
              <a:ext cx="140760" cy="16848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9600" y="109440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120" y="109188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636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852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212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4640" y="1170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7880" y="117504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400" y="1177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4000" y="11847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7240" y="11872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60" y="11919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360" y="11944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640" y="1209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880" y="1211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4240" y="1224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6760" y="12261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0360" y="123120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2520" y="12337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6120" y="12409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8640" y="1243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01880" y="1248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04400" y="1251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8000" y="125568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10160" y="12582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1172160" y="289080"/>
            <a:ext cx="1067040" cy="890280"/>
            <a:chOff x="1172160" y="289080"/>
            <a:chExt cx="1067040" cy="890280"/>
          </a:xfrm>
        </p:grpSpPr>
        <p:sp>
          <p:nvSpPr>
            <p:cNvPr id="1345" name=""/>
            <p:cNvSpPr/>
            <p:nvPr/>
          </p:nvSpPr>
          <p:spPr>
            <a:xfrm>
              <a:off x="1613880" y="289080"/>
              <a:ext cx="625320" cy="53208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22520" y="294840"/>
              <a:ext cx="601920" cy="5122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81560" y="343440"/>
              <a:ext cx="495000" cy="42336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673280" y="330840"/>
              <a:ext cx="496080" cy="4219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675440" y="330840"/>
              <a:ext cx="491400" cy="41832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677960" y="330840"/>
              <a:ext cx="486360" cy="414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84080" y="333000"/>
              <a:ext cx="473760" cy="40356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240920" y="995400"/>
              <a:ext cx="15840" cy="9972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927800" y="1042920"/>
              <a:ext cx="12240" cy="11016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888560" y="104040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48960" y="103716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09720" y="1036080"/>
              <a:ext cx="12240" cy="10620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770480" y="1032480"/>
              <a:ext cx="1116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30880" y="103032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690200" y="102636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650960" y="102312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610280" y="1020600"/>
              <a:ext cx="12240" cy="10548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571040" y="10173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529280" y="10137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88240" y="1012680"/>
              <a:ext cx="1368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46480" y="1009080"/>
              <a:ext cx="1476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06160" y="100584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64040" y="1003320"/>
              <a:ext cx="1692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323360" y="100008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81600" y="996480"/>
              <a:ext cx="1728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005560" y="97200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10600" y="100224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216440" y="1019520"/>
              <a:ext cx="15840" cy="993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256760" y="102060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298880" y="102456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39560" y="1027800"/>
              <a:ext cx="14400" cy="1018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81320" y="1030320"/>
              <a:ext cx="1368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422000" y="1033560"/>
              <a:ext cx="1476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463760" y="103716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504440" y="103932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544040" y="1042920"/>
              <a:ext cx="14400" cy="10440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584360" y="104616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626480" y="1047600"/>
              <a:ext cx="972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665720" y="105084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06400" y="105444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45640" y="1056600"/>
              <a:ext cx="972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85240" y="106020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824480" y="106164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64080" y="106488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900800" y="1067400"/>
              <a:ext cx="1368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995840" y="9885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983600" y="100584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971000" y="1024560"/>
              <a:ext cx="13320" cy="1112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56240" y="10461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940040" y="1070640"/>
              <a:ext cx="13680" cy="10872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998360" y="101736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987200" y="10360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72080" y="105444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58760" y="1075320"/>
              <a:ext cx="6120" cy="774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44000" y="11008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220040" y="1046160"/>
              <a:ext cx="8640" cy="694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04760" y="10972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865160" y="1093680"/>
              <a:ext cx="468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825560" y="1091520"/>
              <a:ext cx="468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787760" y="1087920"/>
              <a:ext cx="360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748160" y="108468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708560" y="1082160"/>
              <a:ext cx="3600" cy="763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69320" y="1078920"/>
              <a:ext cx="2160" cy="763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28640" y="107532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589400" y="10742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547640" y="1070640"/>
              <a:ext cx="6120" cy="730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506960" y="1067400"/>
              <a:ext cx="6120" cy="7272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467360" y="10634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425600" y="1061640"/>
              <a:ext cx="6120" cy="716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84920" y="105768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343160" y="105444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02480" y="1053360"/>
              <a:ext cx="6120" cy="6912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60360" y="1049760"/>
              <a:ext cx="8640" cy="6912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190520" y="745920"/>
              <a:ext cx="915840" cy="35244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72160" y="722880"/>
              <a:ext cx="952920" cy="3661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72160" y="703080"/>
              <a:ext cx="952920" cy="36756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190520" y="706320"/>
              <a:ext cx="915840" cy="35136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298880" y="735480"/>
              <a:ext cx="748440" cy="28476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296360" y="728640"/>
              <a:ext cx="744840" cy="28368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299960" y="729720"/>
              <a:ext cx="738720" cy="2793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06080" y="729720"/>
              <a:ext cx="729000" cy="27612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18680" y="729720"/>
              <a:ext cx="707760" cy="2700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 txBox="1"/>
            <p:nvPr/>
          </p:nvSpPr>
          <p:spPr>
            <a:xfrm>
              <a:off x="1797480" y="495360"/>
              <a:ext cx="222480" cy="86760"/>
            </a:xfrm>
            <a:prstGeom prst="rect">
              <a:avLst/>
            </a:prstGeom>
          </p:spPr>
          <p:txBody>
            <a:bodyPr wrap="none" lIns="90000" rIns="90000" tIns="40320" bIns="40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 rot="271200">
              <a:off x="1559880" y="825480"/>
              <a:ext cx="246240" cy="69480"/>
            </a:xfrm>
            <a:prstGeom prst="rect">
              <a:avLst/>
            </a:prstGeom>
          </p:spPr>
          <p:txBody>
            <a:bodyPr wrap="none" lIns="90000" rIns="90000" tIns="23040" bIns="2304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14400" y="13320"/>
            <a:ext cx="1476000" cy="923040"/>
            <a:chOff x="14400" y="13320"/>
            <a:chExt cx="1476000" cy="923040"/>
          </a:xfrm>
        </p:grpSpPr>
        <p:sp>
          <p:nvSpPr>
            <p:cNvPr id="1430" name=""/>
            <p:cNvSpPr/>
            <p:nvPr/>
          </p:nvSpPr>
          <p:spPr>
            <a:xfrm>
              <a:off x="927720" y="665280"/>
              <a:ext cx="562680" cy="24408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927720" y="665280"/>
              <a:ext cx="562680" cy="2304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37520" y="766800"/>
              <a:ext cx="87480" cy="540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037520" y="719280"/>
              <a:ext cx="189720" cy="9504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37520" y="76680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037520" y="766800"/>
              <a:ext cx="94680" cy="403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37520" y="766800"/>
              <a:ext cx="87480" cy="40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25360" y="726120"/>
              <a:ext cx="109440" cy="946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045080" y="719280"/>
              <a:ext cx="160560" cy="5436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88640" y="73296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081440" y="732960"/>
              <a:ext cx="80280" cy="676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45080" y="72612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37520" y="794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045080" y="801000"/>
              <a:ext cx="14400" cy="13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037520" y="801000"/>
              <a:ext cx="7200" cy="13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986400" y="801000"/>
              <a:ext cx="58320" cy="810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93600" y="814320"/>
              <a:ext cx="51120" cy="40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088640" y="739800"/>
              <a:ext cx="5112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088640" y="746280"/>
              <a:ext cx="51120" cy="20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62320" y="40680"/>
              <a:ext cx="497160" cy="65808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059480" y="115200"/>
              <a:ext cx="204120" cy="5835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2320" y="4068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320" y="40680"/>
              <a:ext cx="701280" cy="14904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176480" y="108360"/>
              <a:ext cx="87480" cy="676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117800" y="10152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059480" y="149040"/>
              <a:ext cx="109080" cy="406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256760" y="108360"/>
              <a:ext cx="6840" cy="1332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62320" y="1332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6240" y="149040"/>
              <a:ext cx="43560" cy="19656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1000" y="149040"/>
              <a:ext cx="29160" cy="1900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081440" y="162720"/>
              <a:ext cx="168120" cy="48852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081440" y="169560"/>
              <a:ext cx="153360" cy="46836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081440" y="33228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081440" y="27144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17800" y="284760"/>
              <a:ext cx="124200" cy="95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081440" y="278280"/>
              <a:ext cx="43560" cy="540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081440" y="22392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117800" y="237240"/>
              <a:ext cx="124200" cy="94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081440" y="230400"/>
              <a:ext cx="43560" cy="47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081440" y="176400"/>
              <a:ext cx="160560" cy="6084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117800" y="19008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088640" y="359640"/>
              <a:ext cx="102240" cy="74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096200" y="359640"/>
              <a:ext cx="94680" cy="74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161720" y="3801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125360" y="38664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125360" y="393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103400" y="386640"/>
              <a:ext cx="124200" cy="20340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125360" y="414000"/>
              <a:ext cx="94680" cy="14904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99040" y="40680"/>
              <a:ext cx="635760" cy="1083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1960" y="47160"/>
              <a:ext cx="599040" cy="15624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1960" y="47160"/>
              <a:ext cx="591840" cy="15624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3080" y="461520"/>
              <a:ext cx="496800" cy="19656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080" y="461520"/>
              <a:ext cx="496800" cy="176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0280" y="461520"/>
              <a:ext cx="460080" cy="10152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9160" y="74520"/>
              <a:ext cx="591840" cy="46152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160" y="74520"/>
              <a:ext cx="584640" cy="44784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4200" y="122040"/>
              <a:ext cx="430920" cy="332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3360" y="454680"/>
              <a:ext cx="452880" cy="6084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45800" y="81000"/>
              <a:ext cx="387360" cy="4068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5520" y="739800"/>
              <a:ext cx="913320" cy="19656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8320" y="814320"/>
              <a:ext cx="226440" cy="1220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520" y="726120"/>
              <a:ext cx="913320" cy="20340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4400" y="624240"/>
              <a:ext cx="950040" cy="2307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4400" y="610560"/>
              <a:ext cx="906120" cy="24444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4080" y="746280"/>
              <a:ext cx="109440" cy="543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4080" y="75348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28560" y="678600"/>
              <a:ext cx="145800" cy="540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32680" y="6717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268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6220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6220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9632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9632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716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7160" y="6786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23600" y="7534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36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9160" y="678600"/>
              <a:ext cx="43560" cy="33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63160" y="631080"/>
              <a:ext cx="175320" cy="403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28560" y="644760"/>
              <a:ext cx="123840" cy="270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28560" y="678600"/>
              <a:ext cx="138600" cy="54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52400" y="671760"/>
              <a:ext cx="197280" cy="1152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59960" y="685440"/>
              <a:ext cx="160560" cy="1015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8560" y="685440"/>
              <a:ext cx="116640" cy="47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53240" y="637920"/>
              <a:ext cx="175320" cy="4068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3080" y="644760"/>
              <a:ext cx="175320" cy="612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8320" y="692280"/>
              <a:ext cx="606240" cy="14904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82520" y="719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82520" y="719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336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336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166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1664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7480" y="726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7480" y="726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8320" y="73296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8320" y="726120"/>
              <a:ext cx="2160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708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77080" y="719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7708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77080" y="692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40720" y="7192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4792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47920" y="69912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47920" y="6991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1120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11200" y="72612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120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1120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48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8204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82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82040" y="699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4568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4568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456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45680" y="70596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0932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1616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16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1616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798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798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7980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980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344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064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506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0640" y="712440"/>
              <a:ext cx="2196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42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4280" y="732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4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428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8840" y="67860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8840" y="6786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40240" y="6922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4024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6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604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474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500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622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622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6716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67160" y="7668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77560" y="73980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84760" y="739800"/>
              <a:ext cx="2160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77560" y="71244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476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212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2120" y="685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03880" y="6922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03880" y="692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868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8688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18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18280" y="712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26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3268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080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3080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91360" y="759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91360" y="75996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4840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840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840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4840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3576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2960" y="685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7472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7472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50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016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8192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8912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96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96320" y="7398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0128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1280" y="7736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116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1924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1924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924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82520" y="746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82520" y="746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580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3360" y="746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1664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6640" y="746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4580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336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38480" y="75348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5680" y="74628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14280" y="759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1428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94560" y="753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94560" y="7534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0360" y="7599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036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50640" y="75348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582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26440" y="7668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3364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89720" y="766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8972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62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6232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876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1876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74840" y="7462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74840" y="74628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3800" y="699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3800" y="699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77080" y="6516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846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5520" y="746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0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38480" y="77364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8480" y="77364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0176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09320" y="6379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6720" y="780480"/>
              <a:ext cx="3672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1428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77560" y="64476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7756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4480" y="651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04480" y="6516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4560" y="77364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4560" y="7736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69760" y="692280"/>
              <a:ext cx="36360" cy="33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906120" y="73980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76600" y="692280"/>
              <a:ext cx="29160" cy="266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06120" y="739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58200" y="6379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8200" y="6379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316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7036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160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1604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60560" y="6580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60560" y="6580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47920" y="64476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4792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0640" y="77364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064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14280" y="64476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214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26440" y="7873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2644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120" y="64476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7968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16640" y="665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24200" y="665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0400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11200" y="644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82520" y="78732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8972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2856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3576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0280" y="671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0280" y="671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67280" y="63792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672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6240" y="72612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13800" y="719280"/>
              <a:ext cx="5076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91840" y="739800"/>
              <a:ext cx="7308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99040" y="732960"/>
              <a:ext cx="65520" cy="133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55600" y="794160"/>
              <a:ext cx="248400" cy="3384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63160" y="787320"/>
              <a:ext cx="233640" cy="270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84640" y="759960"/>
              <a:ext cx="94680" cy="205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080" y="794160"/>
              <a:ext cx="101880" cy="266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03880" y="759960"/>
              <a:ext cx="80280" cy="270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1840" y="753480"/>
              <a:ext cx="87480" cy="201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0280" y="794160"/>
              <a:ext cx="87480" cy="1332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11080" y="759960"/>
              <a:ext cx="73080" cy="1332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2856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308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7480" y="814320"/>
              <a:ext cx="7272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76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28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94680" y="81432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04480" y="807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11680" y="80748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55120" y="7599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62320" y="759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91840" y="78048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9904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60560" y="8074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8120" y="807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1120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18760" y="766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4792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5512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6360" y="685440"/>
              <a:ext cx="3672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3560" y="68544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6728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7484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04000" y="78732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11200" y="780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25840" y="651600"/>
              <a:ext cx="36360" cy="64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400" y="678600"/>
              <a:ext cx="50760" cy="1965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7480" y="773640"/>
              <a:ext cx="862200" cy="14256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76320" y="6222600"/>
            <a:ext cx="655560" cy="635040"/>
            <a:chOff x="76320" y="6222600"/>
            <a:chExt cx="655560" cy="635040"/>
          </a:xfrm>
        </p:grpSpPr>
        <p:sp>
          <p:nvSpPr>
            <p:cNvPr id="1751" name=""/>
            <p:cNvSpPr/>
            <p:nvPr/>
          </p:nvSpPr>
          <p:spPr>
            <a:xfrm>
              <a:off x="76320" y="673020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40920" y="64213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19160" y="622224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3080" y="642888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07640" y="622728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56" name="PlaceHolder 3"/>
          <p:cNvSpPr>
            <a:spLocks noGrp="1"/>
          </p:cNvSpPr>
          <p:nvPr>
            <p:ph type="ftr" idx="2"/>
          </p:nvPr>
        </p:nvSpPr>
        <p:spPr>
          <a:xfrm>
            <a:off x="743040" y="6572160"/>
            <a:ext cx="64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</a:rPr>
              <a:t>Org. e Arq. de Computadores 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04920" y="133200"/>
            <a:ext cx="8667720" cy="641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Penguin"/>
              </a:rPr>
              <a:t>Organização Básica de Computador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952560" y="12574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308520" y="391320"/>
            <a:ext cx="1980000" cy="1347480"/>
            <a:chOff x="308520" y="391320"/>
            <a:chExt cx="1980000" cy="1347480"/>
          </a:xfrm>
        </p:grpSpPr>
        <p:sp>
          <p:nvSpPr>
            <p:cNvPr id="1797" name=""/>
            <p:cNvSpPr/>
            <p:nvPr/>
          </p:nvSpPr>
          <p:spPr>
            <a:xfrm>
              <a:off x="1533600" y="1342440"/>
              <a:ext cx="754920" cy="35640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533600" y="1342440"/>
              <a:ext cx="754920" cy="3366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680480" y="1491120"/>
              <a:ext cx="117720" cy="788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680480" y="1421640"/>
              <a:ext cx="254520" cy="1386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680480" y="14911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680480" y="1491120"/>
              <a:ext cx="127080" cy="590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680480" y="1491120"/>
              <a:ext cx="117720" cy="590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798560" y="1431720"/>
              <a:ext cx="146880" cy="138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690560" y="1421640"/>
              <a:ext cx="215280" cy="792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749240" y="1441440"/>
              <a:ext cx="78480" cy="49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39520" y="1441440"/>
              <a:ext cx="107640" cy="990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90560" y="1431720"/>
              <a:ext cx="5832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680480" y="15310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690560" y="1540800"/>
              <a:ext cx="19440" cy="19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680480" y="1540800"/>
              <a:ext cx="9720" cy="19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612080" y="1540800"/>
              <a:ext cx="78480" cy="1184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621800" y="1560600"/>
              <a:ext cx="68760" cy="59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49240" y="1451520"/>
              <a:ext cx="6876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49240" y="1461240"/>
              <a:ext cx="68760" cy="298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043280" y="430920"/>
              <a:ext cx="666720" cy="96084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10360" y="540000"/>
              <a:ext cx="273960" cy="8517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043280" y="4309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043280" y="430920"/>
              <a:ext cx="940680" cy="21780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866960" y="529920"/>
              <a:ext cx="117360" cy="99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788480" y="52020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0360" y="589320"/>
              <a:ext cx="146520" cy="594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974600" y="529920"/>
              <a:ext cx="9360" cy="1980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043280" y="3913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102320" y="589320"/>
              <a:ext cx="58680" cy="2869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122120" y="589320"/>
              <a:ext cx="39240" cy="27720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739520" y="609120"/>
              <a:ext cx="225360" cy="7131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739520" y="618840"/>
              <a:ext cx="205920" cy="68364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39520" y="856800"/>
              <a:ext cx="5868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39520" y="76752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88480" y="787320"/>
              <a:ext cx="166680" cy="138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39520" y="777600"/>
              <a:ext cx="58680" cy="788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739520" y="69840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788480" y="718200"/>
              <a:ext cx="166680" cy="1382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739520" y="708120"/>
              <a:ext cx="58680" cy="69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739520" y="628920"/>
              <a:ext cx="215280" cy="889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788480" y="64872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749240" y="896400"/>
              <a:ext cx="137160" cy="1087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758960" y="896400"/>
              <a:ext cx="127080" cy="1087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847160" y="92628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798560" y="93600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798560" y="9457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768680" y="936000"/>
              <a:ext cx="166680" cy="29736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798560" y="975960"/>
              <a:ext cx="127080" cy="21780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092600" y="430920"/>
              <a:ext cx="852480" cy="15840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8600" y="440640"/>
              <a:ext cx="803160" cy="22788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18600" y="440640"/>
              <a:ext cx="793800" cy="22788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87000" y="1045080"/>
              <a:ext cx="666360" cy="2869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87000" y="1045080"/>
              <a:ext cx="666360" cy="257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96720" y="1045080"/>
              <a:ext cx="617400" cy="14868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28320" y="480240"/>
              <a:ext cx="793800" cy="67356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28320" y="480240"/>
              <a:ext cx="784080" cy="6537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55760" y="549720"/>
              <a:ext cx="578160" cy="485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95000" y="1035360"/>
              <a:ext cx="607320" cy="8892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84920" y="489960"/>
              <a:ext cx="519480" cy="5940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6920" y="1451520"/>
              <a:ext cx="1225080" cy="28692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67560" y="1560600"/>
              <a:ext cx="303480" cy="1782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76920" y="1431720"/>
              <a:ext cx="1225080" cy="29736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08520" y="1283040"/>
              <a:ext cx="1274040" cy="3369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8520" y="1263240"/>
              <a:ext cx="1215360" cy="35676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20040" y="1461240"/>
              <a:ext cx="146880" cy="792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20040" y="14713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131840" y="1362240"/>
              <a:ext cx="195840" cy="78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06160" y="13521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40616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4454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44540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35720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3572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31796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317960" y="13622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59280" y="14713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25928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28320" y="1362240"/>
              <a:ext cx="58680" cy="49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41880" y="1293120"/>
              <a:ext cx="235080" cy="590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1840" y="1312560"/>
              <a:ext cx="166320" cy="396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31840" y="1362240"/>
              <a:ext cx="185760" cy="788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298160" y="1352160"/>
              <a:ext cx="264600" cy="1684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308240" y="1371960"/>
              <a:ext cx="215280" cy="1486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131840" y="1371960"/>
              <a:ext cx="156600" cy="691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96760" y="1302840"/>
              <a:ext cx="235080" cy="594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87000" y="1312560"/>
              <a:ext cx="235080" cy="892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67560" y="1382400"/>
              <a:ext cx="813240" cy="21780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34240" y="14216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34240" y="14216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9500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950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45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45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06800" y="14317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06800" y="14317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7560" y="14414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67560" y="1431720"/>
              <a:ext cx="2916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06308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063080" y="1421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0630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063080" y="138240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014120" y="14216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0242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024200" y="13921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024200" y="1392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9748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974880" y="14317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9748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97488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92592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9356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9356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935640" y="1392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86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86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866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86680" y="140220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3772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474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474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4744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984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9848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984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848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498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5924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5924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59240" y="1411920"/>
              <a:ext cx="2952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10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10280" y="14414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1028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1028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239840" y="13622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239840" y="1362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416240" y="13824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162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2495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4956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2560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356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4540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44540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31796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317960" y="1491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61680" y="14515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1040" y="1451520"/>
              <a:ext cx="2916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61680" y="14119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104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19052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190520" y="13719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67280" y="138240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367280" y="138240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21032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21032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38636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386360" y="14119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40616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40616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26900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269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484640" y="14810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484640" y="148104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2244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224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224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4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14156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1280" y="13719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32804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3280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1613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16136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33740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3474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35720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357200" y="14515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2976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229760" y="15008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731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828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828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8284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4240" y="14612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4240" y="14612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849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5000" y="1461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4568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45680" y="14612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8492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95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76960" y="14713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86680" y="14612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10280" y="14810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028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18280" y="14713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18280" y="14713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51600" y="14810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5160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59240" y="14713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6932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92560" y="14911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264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43600" y="14911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436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043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04328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98496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98496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25920" y="146124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25920" y="146124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112400" y="13921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112400" y="13921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63080" y="132264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0731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76920" y="14612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8700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76960" y="15008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76960" y="1500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28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37720" y="13028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00560" y="1510920"/>
              <a:ext cx="4896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1028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61680" y="131256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6168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63400" y="1322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63400" y="1322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18280" y="1500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18280" y="15008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455480" y="1382400"/>
              <a:ext cx="48600" cy="49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504440" y="14515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464840" y="1382400"/>
              <a:ext cx="39240" cy="39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504440" y="14515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9320" y="13028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69320" y="1302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4188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51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495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249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04360" y="13323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04360" y="13323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24200" y="131256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02420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59240" y="15008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5924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10280" y="131256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20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92560" y="1520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9256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90520" y="131256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20060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45680" y="13424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55760" y="1342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6516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74880" y="13125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34240" y="15206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4360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13184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141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96720" y="13521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96720" y="13521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16200" y="1302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9162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102320" y="1431720"/>
              <a:ext cx="78480" cy="49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112400" y="1421640"/>
              <a:ext cx="6840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082880" y="1451520"/>
              <a:ext cx="9792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092600" y="1441440"/>
              <a:ext cx="87840" cy="1980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31800" y="1531080"/>
              <a:ext cx="333360" cy="493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41880" y="1520640"/>
              <a:ext cx="313200" cy="396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73160" y="1481040"/>
              <a:ext cx="127080" cy="298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7000" y="1531080"/>
              <a:ext cx="136800" cy="392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367280" y="1481040"/>
              <a:ext cx="107640" cy="396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082880" y="1471320"/>
              <a:ext cx="117720" cy="29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96720" y="1531080"/>
              <a:ext cx="117720" cy="194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377000" y="1481040"/>
              <a:ext cx="97920" cy="198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13184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700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06800" y="1560600"/>
              <a:ext cx="9756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14156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9672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160" y="156060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63400" y="15505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3120" y="15505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033920" y="14810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043280" y="14810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082880" y="15109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092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04360" y="15505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14440" y="1550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97488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984960" y="1491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02420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03392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37680" y="1371960"/>
              <a:ext cx="4896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7760" y="137196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1620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92592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65160" y="152064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74880" y="1510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396440" y="1322640"/>
              <a:ext cx="48600" cy="97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08520" y="1362240"/>
              <a:ext cx="68400" cy="28692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6800" y="1500840"/>
              <a:ext cx="1156320" cy="20808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1454400" y="1933920"/>
            <a:ext cx="1163160" cy="630000"/>
            <a:chOff x="1454400" y="1933920"/>
            <a:chExt cx="1163160" cy="630000"/>
          </a:xfrm>
        </p:grpSpPr>
        <p:sp>
          <p:nvSpPr>
            <p:cNvPr id="2118" name=""/>
            <p:cNvSpPr/>
            <p:nvPr/>
          </p:nvSpPr>
          <p:spPr>
            <a:xfrm>
              <a:off x="1454400" y="1938240"/>
              <a:ext cx="1163160" cy="570240"/>
            </a:xfrm>
            <a:custGeom>
              <a:avLst/>
              <a:gdLst/>
              <a:ahLst/>
              <a:rect l="l" t="t" r="r" b="b"/>
              <a:pathLst>
                <a:path w="202" h="134">
                  <a:moveTo>
                    <a:pt x="12" y="43"/>
                  </a:moveTo>
                  <a:lnTo>
                    <a:pt x="138" y="0"/>
                  </a:lnTo>
                  <a:lnTo>
                    <a:pt x="202" y="14"/>
                  </a:lnTo>
                  <a:lnTo>
                    <a:pt x="89" y="134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2" y="48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5" y="46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3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505880" y="2091600"/>
              <a:ext cx="379800" cy="2041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29" y="0"/>
                  </a:moveTo>
                  <a:lnTo>
                    <a:pt x="0" y="11"/>
                  </a:lnTo>
                  <a:lnTo>
                    <a:pt x="66" y="48"/>
                  </a:lnTo>
                  <a:lnTo>
                    <a:pt x="10" y="1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580760" y="2001960"/>
              <a:ext cx="869400" cy="30204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0" y="32"/>
                  </a:moveTo>
                  <a:lnTo>
                    <a:pt x="69" y="71"/>
                  </a:lnTo>
                  <a:lnTo>
                    <a:pt x="151" y="6"/>
                  </a:lnTo>
                  <a:lnTo>
                    <a:pt x="98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34c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650240" y="2044800"/>
              <a:ext cx="736920" cy="25956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29"/>
                  </a:moveTo>
                  <a:lnTo>
                    <a:pt x="57" y="61"/>
                  </a:lnTo>
                  <a:lnTo>
                    <a:pt x="128" y="5"/>
                  </a:lnTo>
                  <a:lnTo>
                    <a:pt x="8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50240" y="2027520"/>
              <a:ext cx="742680" cy="263520"/>
            </a:xfrm>
            <a:custGeom>
              <a:avLst/>
              <a:gdLst/>
              <a:ahLst/>
              <a:rect l="l" t="t" r="r" b="b"/>
              <a:pathLst>
                <a:path w="129" h="62">
                  <a:moveTo>
                    <a:pt x="0" y="31"/>
                  </a:moveTo>
                  <a:lnTo>
                    <a:pt x="1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18" y="41"/>
                  </a:lnTo>
                  <a:lnTo>
                    <a:pt x="20" y="42"/>
                  </a:lnTo>
                  <a:lnTo>
                    <a:pt x="21" y="43"/>
                  </a:lnTo>
                  <a:lnTo>
                    <a:pt x="23" y="44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29" y="47"/>
                  </a:lnTo>
                  <a:lnTo>
                    <a:pt x="31" y="48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51"/>
                  </a:lnTo>
                  <a:lnTo>
                    <a:pt x="39" y="52"/>
                  </a:lnTo>
                  <a:lnTo>
                    <a:pt x="41" y="54"/>
                  </a:lnTo>
                  <a:lnTo>
                    <a:pt x="43" y="55"/>
                  </a:lnTo>
                  <a:lnTo>
                    <a:pt x="45" y="56"/>
                  </a:lnTo>
                  <a:lnTo>
                    <a:pt x="47" y="57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1"/>
                  </a:lnTo>
                  <a:lnTo>
                    <a:pt x="57" y="62"/>
                  </a:lnTo>
                  <a:lnTo>
                    <a:pt x="61" y="59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3" y="50"/>
                  </a:lnTo>
                  <a:lnTo>
                    <a:pt x="76" y="48"/>
                  </a:lnTo>
                  <a:lnTo>
                    <a:pt x="79" y="45"/>
                  </a:lnTo>
                  <a:lnTo>
                    <a:pt x="83" y="43"/>
                  </a:lnTo>
                  <a:lnTo>
                    <a:pt x="86" y="40"/>
                  </a:lnTo>
                  <a:lnTo>
                    <a:pt x="89" y="38"/>
                  </a:lnTo>
                  <a:lnTo>
                    <a:pt x="92" y="36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05" y="26"/>
                  </a:lnTo>
                  <a:lnTo>
                    <a:pt x="107" y="25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1"/>
                  </a:lnTo>
                  <a:lnTo>
                    <a:pt x="114" y="20"/>
                  </a:lnTo>
                  <a:lnTo>
                    <a:pt x="115" y="19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10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8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7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6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5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2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7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4" y="22"/>
                  </a:lnTo>
                  <a:lnTo>
                    <a:pt x="20" y="24"/>
                  </a:lnTo>
                  <a:lnTo>
                    <a:pt x="16" y="25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4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650240" y="2027520"/>
              <a:ext cx="742680" cy="259560"/>
            </a:xfrm>
            <a:custGeom>
              <a:avLst/>
              <a:gdLst/>
              <a:ahLst/>
              <a:rect l="l" t="t" r="r" b="b"/>
              <a:pathLst>
                <a:path w="129" h="61">
                  <a:moveTo>
                    <a:pt x="0" y="30"/>
                  </a:moveTo>
                  <a:lnTo>
                    <a:pt x="1" y="31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20" y="41"/>
                  </a:lnTo>
                  <a:lnTo>
                    <a:pt x="21" y="42"/>
                  </a:lnTo>
                  <a:lnTo>
                    <a:pt x="23" y="43"/>
                  </a:lnTo>
                  <a:lnTo>
                    <a:pt x="25" y="44"/>
                  </a:lnTo>
                  <a:lnTo>
                    <a:pt x="27" y="45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3" y="48"/>
                  </a:lnTo>
                  <a:lnTo>
                    <a:pt x="35" y="49"/>
                  </a:lnTo>
                  <a:lnTo>
                    <a:pt x="37" y="50"/>
                  </a:lnTo>
                  <a:lnTo>
                    <a:pt x="39" y="51"/>
                  </a:lnTo>
                  <a:lnTo>
                    <a:pt x="41" y="52"/>
                  </a:lnTo>
                  <a:lnTo>
                    <a:pt x="43" y="53"/>
                  </a:lnTo>
                  <a:lnTo>
                    <a:pt x="45" y="55"/>
                  </a:lnTo>
                  <a:lnTo>
                    <a:pt x="47" y="56"/>
                  </a:lnTo>
                  <a:lnTo>
                    <a:pt x="50" y="57"/>
                  </a:lnTo>
                  <a:lnTo>
                    <a:pt x="52" y="58"/>
                  </a:lnTo>
                  <a:lnTo>
                    <a:pt x="54" y="59"/>
                  </a:lnTo>
                  <a:lnTo>
                    <a:pt x="57" y="61"/>
                  </a:lnTo>
                  <a:lnTo>
                    <a:pt x="61" y="58"/>
                  </a:lnTo>
                  <a:lnTo>
                    <a:pt x="65" y="55"/>
                  </a:lnTo>
                  <a:lnTo>
                    <a:pt x="69" y="52"/>
                  </a:lnTo>
                  <a:lnTo>
                    <a:pt x="73" y="49"/>
                  </a:lnTo>
                  <a:lnTo>
                    <a:pt x="76" y="47"/>
                  </a:lnTo>
                  <a:lnTo>
                    <a:pt x="79" y="44"/>
                  </a:lnTo>
                  <a:lnTo>
                    <a:pt x="83" y="42"/>
                  </a:lnTo>
                  <a:lnTo>
                    <a:pt x="86" y="39"/>
                  </a:lnTo>
                  <a:lnTo>
                    <a:pt x="89" y="37"/>
                  </a:lnTo>
                  <a:lnTo>
                    <a:pt x="92" y="35"/>
                  </a:lnTo>
                  <a:lnTo>
                    <a:pt x="95" y="33"/>
                  </a:lnTo>
                  <a:lnTo>
                    <a:pt x="97" y="31"/>
                  </a:lnTo>
                  <a:lnTo>
                    <a:pt x="100" y="29"/>
                  </a:lnTo>
                  <a:lnTo>
                    <a:pt x="102" y="27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0"/>
                  </a:lnTo>
                  <a:lnTo>
                    <a:pt x="114" y="19"/>
                  </a:lnTo>
                  <a:lnTo>
                    <a:pt x="115" y="18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9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7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6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4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8"/>
                  </a:lnTo>
                  <a:lnTo>
                    <a:pt x="31" y="19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8" y="27"/>
                  </a:lnTo>
                  <a:lnTo>
                    <a:pt x="4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0d4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770840" y="2125440"/>
              <a:ext cx="230400" cy="5940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9" y="0"/>
                  </a:move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8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018520" y="2078640"/>
              <a:ext cx="120960" cy="468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a5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765080" y="2070000"/>
              <a:ext cx="495000" cy="1954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31" y="24"/>
                  </a:moveTo>
                  <a:lnTo>
                    <a:pt x="31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7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51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3"/>
                  </a:lnTo>
                  <a:lnTo>
                    <a:pt x="86" y="4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5" y="6"/>
                  </a:lnTo>
                  <a:lnTo>
                    <a:pt x="85" y="7"/>
                  </a:lnTo>
                  <a:lnTo>
                    <a:pt x="84" y="7"/>
                  </a:lnTo>
                  <a:lnTo>
                    <a:pt x="83" y="8"/>
                  </a:lnTo>
                  <a:lnTo>
                    <a:pt x="82" y="9"/>
                  </a:lnTo>
                  <a:lnTo>
                    <a:pt x="81" y="10"/>
                  </a:lnTo>
                  <a:lnTo>
                    <a:pt x="80" y="11"/>
                  </a:lnTo>
                  <a:lnTo>
                    <a:pt x="79" y="12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7" y="14"/>
                  </a:lnTo>
                  <a:lnTo>
                    <a:pt x="76" y="14"/>
                  </a:lnTo>
                  <a:lnTo>
                    <a:pt x="75" y="15"/>
                  </a:lnTo>
                  <a:lnTo>
                    <a:pt x="74" y="15"/>
                  </a:lnTo>
                  <a:lnTo>
                    <a:pt x="73" y="16"/>
                  </a:lnTo>
                  <a:lnTo>
                    <a:pt x="72" y="17"/>
                  </a:lnTo>
                  <a:lnTo>
                    <a:pt x="70" y="18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20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4" y="23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0" y="2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7" y="28"/>
                  </a:lnTo>
                  <a:lnTo>
                    <a:pt x="56" y="29"/>
                  </a:lnTo>
                  <a:lnTo>
                    <a:pt x="54" y="31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9" y="35"/>
                  </a:lnTo>
                  <a:lnTo>
                    <a:pt x="48" y="35"/>
                  </a:lnTo>
                  <a:lnTo>
                    <a:pt x="47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4" y="44"/>
                  </a:lnTo>
                  <a:lnTo>
                    <a:pt x="32" y="45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9" y="37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2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7" y="28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af8e6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937880" y="2180880"/>
              <a:ext cx="149400" cy="806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6" y="2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d55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018520" y="2138400"/>
              <a:ext cx="34560" cy="19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1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25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058840" y="2163600"/>
              <a:ext cx="28800" cy="19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87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053080" y="2142360"/>
              <a:ext cx="103320" cy="3384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920600" y="2180880"/>
              <a:ext cx="86400" cy="63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"/>
                  </a:move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926360" y="2180880"/>
              <a:ext cx="68760" cy="55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007000" y="213840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018520" y="2138400"/>
              <a:ext cx="39960" cy="190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035800" y="2146680"/>
              <a:ext cx="576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920600" y="2176560"/>
              <a:ext cx="172800" cy="72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2" y="2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081880" y="2146680"/>
              <a:ext cx="6300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756c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070360" y="2134080"/>
              <a:ext cx="114840" cy="38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" y="9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4a48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081880" y="2155320"/>
              <a:ext cx="23040" cy="19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145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087640" y="2159640"/>
              <a:ext cx="1692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030040" y="21423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093400" y="2163600"/>
              <a:ext cx="540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110680" y="212544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3" y="4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133720" y="2125440"/>
              <a:ext cx="17280" cy="19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156760" y="21297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116440" y="2129760"/>
              <a:ext cx="45720" cy="190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6" y="3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ee0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133720" y="2134080"/>
              <a:ext cx="1728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179800" y="2087280"/>
              <a:ext cx="80280" cy="511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93400" y="2108160"/>
              <a:ext cx="68760" cy="19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1" y="1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5450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151000" y="2095560"/>
              <a:ext cx="86040" cy="255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78c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145240" y="210816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65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053080" y="2112840"/>
              <a:ext cx="109080" cy="295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139480" y="2108160"/>
              <a:ext cx="51480" cy="298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76120" y="2146680"/>
              <a:ext cx="9180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3" y="8"/>
                  </a:moveTo>
                  <a:lnTo>
                    <a:pt x="3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4e4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087640" y="2155320"/>
              <a:ext cx="34200" cy="19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863000" y="2129760"/>
              <a:ext cx="132120" cy="338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1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a77f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868760" y="2108160"/>
              <a:ext cx="270720" cy="7668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2" y="7"/>
                  </a:moveTo>
                  <a:lnTo>
                    <a:pt x="42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891800" y="2146680"/>
              <a:ext cx="91800" cy="190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099160" y="2087280"/>
              <a:ext cx="51840" cy="190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816920" y="2176560"/>
              <a:ext cx="114840" cy="190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05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788480" y="2167920"/>
              <a:ext cx="166680" cy="20880"/>
            </a:xfrm>
            <a:custGeom>
              <a:avLst/>
              <a:gdLst/>
              <a:ahLst/>
              <a:rect l="l" t="t" r="r" b="b"/>
              <a:pathLst>
                <a:path w="29" h="5">
                  <a:moveTo>
                    <a:pt x="0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868760" y="2151000"/>
              <a:ext cx="120960" cy="2088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1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60920" y="2061360"/>
              <a:ext cx="627480" cy="5022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09" y="0"/>
                  </a:moveTo>
                  <a:lnTo>
                    <a:pt x="0" y="95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7"/>
                  </a:lnTo>
                  <a:lnTo>
                    <a:pt x="6" y="117"/>
                  </a:lnTo>
                  <a:lnTo>
                    <a:pt x="109" y="1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471320" y="2232000"/>
              <a:ext cx="489240" cy="33192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0" y="0"/>
                  </a:moveTo>
                  <a:lnTo>
                    <a:pt x="85" y="55"/>
                  </a:lnTo>
                  <a:lnTo>
                    <a:pt x="85" y="78"/>
                  </a:lnTo>
                  <a:lnTo>
                    <a:pt x="84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81" y="78"/>
                  </a:lnTo>
                  <a:lnTo>
                    <a:pt x="80" y="78"/>
                  </a:lnTo>
                  <a:lnTo>
                    <a:pt x="79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972440" y="1998000"/>
              <a:ext cx="644760" cy="518760"/>
            </a:xfrm>
            <a:custGeom>
              <a:avLst/>
              <a:gdLst/>
              <a:ahLst/>
              <a:rect l="l" t="t" r="r" b="b"/>
              <a:pathLst>
                <a:path w="112" h="122">
                  <a:moveTo>
                    <a:pt x="112" y="0"/>
                  </a:moveTo>
                  <a:lnTo>
                    <a:pt x="0" y="96"/>
                  </a:lnTo>
                  <a:lnTo>
                    <a:pt x="0" y="122"/>
                  </a:lnTo>
                  <a:lnTo>
                    <a:pt x="112" y="1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454400" y="2167920"/>
              <a:ext cx="518040" cy="34884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0" y="0"/>
                  </a:moveTo>
                  <a:lnTo>
                    <a:pt x="90" y="56"/>
                  </a:lnTo>
                  <a:lnTo>
                    <a:pt x="90" y="82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40800" y="1989360"/>
              <a:ext cx="471960" cy="110520"/>
            </a:xfrm>
            <a:custGeom>
              <a:avLst/>
              <a:gdLst/>
              <a:ahLst/>
              <a:rect l="l" t="t" r="r" b="b"/>
              <a:pathLst>
                <a:path w="82" h="26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9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1" y="12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2" y="16"/>
                  </a:lnTo>
                  <a:lnTo>
                    <a:pt x="81" y="18"/>
                  </a:lnTo>
                  <a:lnTo>
                    <a:pt x="80" y="19"/>
                  </a:lnTo>
                  <a:lnTo>
                    <a:pt x="78" y="20"/>
                  </a:lnTo>
                  <a:lnTo>
                    <a:pt x="77" y="21"/>
                  </a:lnTo>
                  <a:lnTo>
                    <a:pt x="75" y="22"/>
                  </a:lnTo>
                  <a:lnTo>
                    <a:pt x="72" y="23"/>
                  </a:lnTo>
                  <a:lnTo>
                    <a:pt x="70" y="24"/>
                  </a:lnTo>
                  <a:lnTo>
                    <a:pt x="67" y="25"/>
                  </a:lnTo>
                  <a:lnTo>
                    <a:pt x="64" y="25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49" y="26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2" y="26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494360" y="1933920"/>
              <a:ext cx="1122840" cy="195480"/>
            </a:xfrm>
            <a:custGeom>
              <a:avLst/>
              <a:gdLst/>
              <a:ahLst/>
              <a:rect l="l" t="t" r="r" b="b"/>
              <a:pathLst>
                <a:path w="195" h="46">
                  <a:moveTo>
                    <a:pt x="3" y="15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3"/>
                  </a:lnTo>
                  <a:lnTo>
                    <a:pt x="194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6"/>
                  </a:lnTo>
                  <a:lnTo>
                    <a:pt x="195" y="16"/>
                  </a:lnTo>
                  <a:lnTo>
                    <a:pt x="194" y="16"/>
                  </a:lnTo>
                  <a:lnTo>
                    <a:pt x="194" y="17"/>
                  </a:lnTo>
                  <a:lnTo>
                    <a:pt x="193" y="17"/>
                  </a:lnTo>
                  <a:lnTo>
                    <a:pt x="193" y="17"/>
                  </a:lnTo>
                  <a:lnTo>
                    <a:pt x="192" y="17"/>
                  </a:lnTo>
                  <a:lnTo>
                    <a:pt x="83" y="45"/>
                  </a:lnTo>
                  <a:lnTo>
                    <a:pt x="82" y="46"/>
                  </a:lnTo>
                  <a:lnTo>
                    <a:pt x="80" y="46"/>
                  </a:lnTo>
                  <a:lnTo>
                    <a:pt x="78" y="46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1" y="45"/>
                  </a:lnTo>
                  <a:lnTo>
                    <a:pt x="69" y="45"/>
                  </a:lnTo>
                  <a:lnTo>
                    <a:pt x="60" y="41"/>
                  </a:lnTo>
                  <a:lnTo>
                    <a:pt x="62" y="41"/>
                  </a:lnTo>
                  <a:lnTo>
                    <a:pt x="64" y="40"/>
                  </a:lnTo>
                  <a:lnTo>
                    <a:pt x="65" y="39"/>
                  </a:lnTo>
                  <a:lnTo>
                    <a:pt x="66" y="38"/>
                  </a:lnTo>
                  <a:lnTo>
                    <a:pt x="66" y="37"/>
                  </a:lnTo>
                  <a:lnTo>
                    <a:pt x="67" y="36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5" y="32"/>
                  </a:lnTo>
                  <a:lnTo>
                    <a:pt x="64" y="32"/>
                  </a:lnTo>
                  <a:lnTo>
                    <a:pt x="63" y="31"/>
                  </a:lnTo>
                  <a:lnTo>
                    <a:pt x="62" y="30"/>
                  </a:lnTo>
                  <a:lnTo>
                    <a:pt x="60" y="29"/>
                  </a:lnTo>
                  <a:lnTo>
                    <a:pt x="58" y="28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1"/>
                  </a:lnTo>
                  <a:lnTo>
                    <a:pt x="26" y="21"/>
                  </a:lnTo>
                  <a:lnTo>
                    <a:pt x="23" y="21"/>
                  </a:lnTo>
                  <a:lnTo>
                    <a:pt x="20" y="21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0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540800" y="1989360"/>
              <a:ext cx="471960" cy="1018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8"/>
                  </a:lnTo>
                  <a:lnTo>
                    <a:pt x="78" y="9"/>
                  </a:lnTo>
                  <a:lnTo>
                    <a:pt x="80" y="10"/>
                  </a:lnTo>
                  <a:lnTo>
                    <a:pt x="81" y="11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1" y="16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2" y="21"/>
                  </a:lnTo>
                  <a:lnTo>
                    <a:pt x="70" y="22"/>
                  </a:lnTo>
                  <a:lnTo>
                    <a:pt x="67" y="23"/>
                  </a:lnTo>
                  <a:lnTo>
                    <a:pt x="64" y="23"/>
                  </a:lnTo>
                  <a:lnTo>
                    <a:pt x="60" y="24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9" y="24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37" y="24"/>
                  </a:lnTo>
                  <a:lnTo>
                    <a:pt x="32" y="24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21" y="22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87f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540800" y="1998000"/>
              <a:ext cx="368280" cy="106200"/>
            </a:xfrm>
            <a:custGeom>
              <a:avLst/>
              <a:gdLst/>
              <a:ahLst/>
              <a:rect l="l" t="t" r="r" b="b"/>
              <a:pathLst>
                <a:path w="64" h="25">
                  <a:moveTo>
                    <a:pt x="55" y="25"/>
                  </a:moveTo>
                  <a:lnTo>
                    <a:pt x="52" y="24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7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9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64" y="16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5" y="25"/>
                  </a:lnTo>
                  <a:close/>
                </a:path>
              </a:pathLst>
            </a:custGeom>
            <a:solidFill>
              <a:srgbClr val="4e575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39960" y="2091600"/>
              <a:ext cx="45720" cy="20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40800" y="1998000"/>
              <a:ext cx="368280" cy="9756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55" y="23"/>
                  </a:moveTo>
                  <a:lnTo>
                    <a:pt x="52" y="22"/>
                  </a:lnTo>
                  <a:lnTo>
                    <a:pt x="54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7" y="14"/>
                  </a:lnTo>
                  <a:lnTo>
                    <a:pt x="56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5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61" y="21"/>
                  </a:lnTo>
                  <a:lnTo>
                    <a:pt x="59" y="22"/>
                  </a:lnTo>
                  <a:lnTo>
                    <a:pt x="58" y="22"/>
                  </a:lnTo>
                  <a:lnTo>
                    <a:pt x="56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494360" y="1933920"/>
              <a:ext cx="1122840" cy="174240"/>
            </a:xfrm>
            <a:custGeom>
              <a:avLst/>
              <a:gdLst/>
              <a:ahLst/>
              <a:rect l="l" t="t" r="r" b="b"/>
              <a:pathLst>
                <a:path w="195" h="41">
                  <a:moveTo>
                    <a:pt x="3" y="13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2"/>
                  </a:lnTo>
                  <a:lnTo>
                    <a:pt x="194" y="12"/>
                  </a:lnTo>
                  <a:lnTo>
                    <a:pt x="195" y="13"/>
                  </a:lnTo>
                  <a:lnTo>
                    <a:pt x="195" y="13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4" y="15"/>
                  </a:lnTo>
                  <a:lnTo>
                    <a:pt x="194" y="15"/>
                  </a:lnTo>
                  <a:lnTo>
                    <a:pt x="193" y="15"/>
                  </a:lnTo>
                  <a:lnTo>
                    <a:pt x="193" y="16"/>
                  </a:lnTo>
                  <a:lnTo>
                    <a:pt x="192" y="16"/>
                  </a:lnTo>
                  <a:lnTo>
                    <a:pt x="83" y="41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8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2" y="41"/>
                  </a:lnTo>
                  <a:lnTo>
                    <a:pt x="71" y="40"/>
                  </a:lnTo>
                  <a:lnTo>
                    <a:pt x="69" y="40"/>
                  </a:lnTo>
                  <a:lnTo>
                    <a:pt x="60" y="37"/>
                  </a:lnTo>
                  <a:lnTo>
                    <a:pt x="62" y="36"/>
                  </a:lnTo>
                  <a:lnTo>
                    <a:pt x="64" y="36"/>
                  </a:lnTo>
                  <a:lnTo>
                    <a:pt x="65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7" y="33"/>
                  </a:lnTo>
                  <a:lnTo>
                    <a:pt x="67" y="32"/>
                  </a:lnTo>
                  <a:lnTo>
                    <a:pt x="66" y="31"/>
                  </a:lnTo>
                  <a:lnTo>
                    <a:pt x="66" y="30"/>
                  </a:lnTo>
                  <a:lnTo>
                    <a:pt x="65" y="29"/>
                  </a:lnTo>
                  <a:lnTo>
                    <a:pt x="64" y="28"/>
                  </a:lnTo>
                  <a:lnTo>
                    <a:pt x="63" y="28"/>
                  </a:lnTo>
                  <a:lnTo>
                    <a:pt x="62" y="27"/>
                  </a:lnTo>
                  <a:lnTo>
                    <a:pt x="60" y="26"/>
                  </a:lnTo>
                  <a:lnTo>
                    <a:pt x="58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0" y="22"/>
                  </a:lnTo>
                  <a:lnTo>
                    <a:pt x="47" y="21"/>
                  </a:lnTo>
                  <a:lnTo>
                    <a:pt x="44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6" y="19"/>
                  </a:lnTo>
                  <a:lnTo>
                    <a:pt x="23" y="19"/>
                  </a:lnTo>
                  <a:lnTo>
                    <a:pt x="20" y="19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9b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69240" y="1946520"/>
              <a:ext cx="857880" cy="14868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13" y="1"/>
                  </a:moveTo>
                  <a:lnTo>
                    <a:pt x="113" y="1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8" y="1"/>
                  </a:lnTo>
                  <a:lnTo>
                    <a:pt x="106" y="1"/>
                  </a:lnTo>
                  <a:lnTo>
                    <a:pt x="103" y="1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78" y="4"/>
                  </a:lnTo>
                  <a:lnTo>
                    <a:pt x="73" y="4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2" y="6"/>
                  </a:lnTo>
                  <a:lnTo>
                    <a:pt x="47" y="6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7" y="24"/>
                  </a:lnTo>
                  <a:lnTo>
                    <a:pt x="57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1"/>
                  </a:lnTo>
                  <a:lnTo>
                    <a:pt x="56" y="32"/>
                  </a:lnTo>
                  <a:lnTo>
                    <a:pt x="57" y="33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1" y="35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7" y="35"/>
                  </a:lnTo>
                  <a:lnTo>
                    <a:pt x="69" y="35"/>
                  </a:lnTo>
                  <a:lnTo>
                    <a:pt x="71" y="35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9" y="33"/>
                  </a:lnTo>
                  <a:lnTo>
                    <a:pt x="80" y="33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86" y="31"/>
                  </a:lnTo>
                  <a:lnTo>
                    <a:pt x="88" y="30"/>
                  </a:lnTo>
                  <a:lnTo>
                    <a:pt x="91" y="29"/>
                  </a:lnTo>
                  <a:lnTo>
                    <a:pt x="93" y="28"/>
                  </a:lnTo>
                  <a:lnTo>
                    <a:pt x="96" y="27"/>
                  </a:lnTo>
                  <a:lnTo>
                    <a:pt x="99" y="26"/>
                  </a:lnTo>
                  <a:lnTo>
                    <a:pt x="102" y="25"/>
                  </a:lnTo>
                  <a:lnTo>
                    <a:pt x="106" y="24"/>
                  </a:lnTo>
                  <a:lnTo>
                    <a:pt x="109" y="23"/>
                  </a:lnTo>
                  <a:lnTo>
                    <a:pt x="112" y="22"/>
                  </a:lnTo>
                  <a:lnTo>
                    <a:pt x="115" y="21"/>
                  </a:lnTo>
                  <a:lnTo>
                    <a:pt x="119" y="20"/>
                  </a:lnTo>
                  <a:lnTo>
                    <a:pt x="122" y="19"/>
                  </a:lnTo>
                  <a:lnTo>
                    <a:pt x="125" y="18"/>
                  </a:lnTo>
                  <a:lnTo>
                    <a:pt x="128" y="17"/>
                  </a:lnTo>
                  <a:lnTo>
                    <a:pt x="131" y="16"/>
                  </a:lnTo>
                  <a:lnTo>
                    <a:pt x="134" y="15"/>
                  </a:lnTo>
                  <a:lnTo>
                    <a:pt x="136" y="14"/>
                  </a:lnTo>
                  <a:lnTo>
                    <a:pt x="139" y="13"/>
                  </a:lnTo>
                  <a:lnTo>
                    <a:pt x="141" y="12"/>
                  </a:lnTo>
                  <a:lnTo>
                    <a:pt x="143" y="11"/>
                  </a:lnTo>
                  <a:lnTo>
                    <a:pt x="144" y="10"/>
                  </a:lnTo>
                  <a:lnTo>
                    <a:pt x="146" y="10"/>
                  </a:lnTo>
                  <a:lnTo>
                    <a:pt x="147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9" y="8"/>
                  </a:lnTo>
                  <a:lnTo>
                    <a:pt x="149" y="7"/>
                  </a:lnTo>
                  <a:lnTo>
                    <a:pt x="148" y="6"/>
                  </a:lnTo>
                  <a:lnTo>
                    <a:pt x="147" y="6"/>
                  </a:lnTo>
                  <a:lnTo>
                    <a:pt x="145" y="5"/>
                  </a:lnTo>
                  <a:lnTo>
                    <a:pt x="143" y="4"/>
                  </a:lnTo>
                  <a:lnTo>
                    <a:pt x="140" y="4"/>
                  </a:lnTo>
                  <a:lnTo>
                    <a:pt x="137" y="3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27" y="1"/>
                  </a:lnTo>
                  <a:lnTo>
                    <a:pt x="124" y="1"/>
                  </a:lnTo>
                  <a:lnTo>
                    <a:pt x="121" y="1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759320" y="1955160"/>
              <a:ext cx="523800" cy="892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35" y="20"/>
                  </a:lnTo>
                  <a:lnTo>
                    <a:pt x="42" y="19"/>
                  </a:lnTo>
                  <a:lnTo>
                    <a:pt x="49" y="18"/>
                  </a:lnTo>
                  <a:lnTo>
                    <a:pt x="55" y="17"/>
                  </a:lnTo>
                  <a:lnTo>
                    <a:pt x="60" y="15"/>
                  </a:lnTo>
                  <a:lnTo>
                    <a:pt x="66" y="14"/>
                  </a:lnTo>
                  <a:lnTo>
                    <a:pt x="70" y="12"/>
                  </a:lnTo>
                  <a:lnTo>
                    <a:pt x="75" y="11"/>
                  </a:lnTo>
                  <a:lnTo>
                    <a:pt x="78" y="9"/>
                  </a:lnTo>
                  <a:lnTo>
                    <a:pt x="82" y="8"/>
                  </a:lnTo>
                  <a:lnTo>
                    <a:pt x="85" y="6"/>
                  </a:lnTo>
                  <a:lnTo>
                    <a:pt x="87" y="5"/>
                  </a:lnTo>
                  <a:lnTo>
                    <a:pt x="89" y="4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91800" y="1946520"/>
              <a:ext cx="535320" cy="14868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32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40" y="27"/>
                  </a:lnTo>
                  <a:lnTo>
                    <a:pt x="43" y="26"/>
                  </a:lnTo>
                  <a:lnTo>
                    <a:pt x="46" y="25"/>
                  </a:lnTo>
                  <a:lnTo>
                    <a:pt x="50" y="24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72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80" y="14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1"/>
                  </a:lnTo>
                  <a:lnTo>
                    <a:pt x="88" y="10"/>
                  </a:lnTo>
                  <a:lnTo>
                    <a:pt x="90" y="10"/>
                  </a:lnTo>
                  <a:lnTo>
                    <a:pt x="91" y="9"/>
                  </a:lnTo>
                  <a:lnTo>
                    <a:pt x="92" y="9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8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4" y="4"/>
                  </a:lnTo>
                  <a:lnTo>
                    <a:pt x="74" y="5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3"/>
                  </a:lnTo>
                  <a:lnTo>
                    <a:pt x="54" y="15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40" y="21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7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37b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064600" y="1951200"/>
              <a:ext cx="506520" cy="13572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45" y="0"/>
                  </a:moveTo>
                  <a:lnTo>
                    <a:pt x="45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9" y="7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7" y="9"/>
                  </a:lnTo>
                  <a:lnTo>
                    <a:pt x="86" y="10"/>
                  </a:lnTo>
                  <a:lnTo>
                    <a:pt x="84" y="10"/>
                  </a:lnTo>
                  <a:lnTo>
                    <a:pt x="82" y="11"/>
                  </a:lnTo>
                  <a:lnTo>
                    <a:pt x="80" y="11"/>
                  </a:lnTo>
                  <a:lnTo>
                    <a:pt x="77" y="12"/>
                  </a:lnTo>
                  <a:lnTo>
                    <a:pt x="74" y="13"/>
                  </a:lnTo>
                  <a:lnTo>
                    <a:pt x="71" y="14"/>
                  </a:lnTo>
                  <a:lnTo>
                    <a:pt x="68" y="15"/>
                  </a:lnTo>
                  <a:lnTo>
                    <a:pt x="64" y="16"/>
                  </a:lnTo>
                  <a:lnTo>
                    <a:pt x="60" y="17"/>
                  </a:lnTo>
                  <a:lnTo>
                    <a:pt x="56" y="18"/>
                  </a:lnTo>
                  <a:lnTo>
                    <a:pt x="52" y="19"/>
                  </a:lnTo>
                  <a:lnTo>
                    <a:pt x="48" y="20"/>
                  </a:lnTo>
                  <a:lnTo>
                    <a:pt x="44" y="21"/>
                  </a:lnTo>
                  <a:lnTo>
                    <a:pt x="40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8" y="25"/>
                  </a:lnTo>
                  <a:lnTo>
                    <a:pt x="24" y="26"/>
                  </a:lnTo>
                  <a:lnTo>
                    <a:pt x="21" y="27"/>
                  </a:lnTo>
                  <a:lnTo>
                    <a:pt x="17" y="28"/>
                  </a:lnTo>
                  <a:lnTo>
                    <a:pt x="14" y="29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5" y="27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8" y="23"/>
                  </a:lnTo>
                  <a:lnTo>
                    <a:pt x="31" y="22"/>
                  </a:lnTo>
                  <a:lnTo>
                    <a:pt x="34" y="21"/>
                  </a:lnTo>
                  <a:lnTo>
                    <a:pt x="38" y="19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3" y="13"/>
                  </a:lnTo>
                  <a:lnTo>
                    <a:pt x="56" y="12"/>
                  </a:lnTo>
                  <a:lnTo>
                    <a:pt x="59" y="11"/>
                  </a:lnTo>
                  <a:lnTo>
                    <a:pt x="61" y="10"/>
                  </a:lnTo>
                  <a:lnTo>
                    <a:pt x="63" y="9"/>
                  </a:lnTo>
                  <a:lnTo>
                    <a:pt x="64" y="8"/>
                  </a:lnTo>
                  <a:lnTo>
                    <a:pt x="65" y="7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65920" y="2023200"/>
              <a:ext cx="1099800" cy="331920"/>
            </a:xfrm>
            <a:custGeom>
              <a:avLst/>
              <a:gdLst/>
              <a:ahLst/>
              <a:rect l="l" t="t" r="r" b="b"/>
              <a:pathLst>
                <a:path w="191" h="78">
                  <a:moveTo>
                    <a:pt x="191" y="0"/>
                  </a:moveTo>
                  <a:lnTo>
                    <a:pt x="191" y="0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8" y="3"/>
                  </a:lnTo>
                  <a:lnTo>
                    <a:pt x="186" y="4"/>
                  </a:lnTo>
                  <a:lnTo>
                    <a:pt x="184" y="6"/>
                  </a:lnTo>
                  <a:lnTo>
                    <a:pt x="181" y="8"/>
                  </a:lnTo>
                  <a:lnTo>
                    <a:pt x="179" y="11"/>
                  </a:lnTo>
                  <a:lnTo>
                    <a:pt x="176" y="13"/>
                  </a:lnTo>
                  <a:lnTo>
                    <a:pt x="173" y="16"/>
                  </a:lnTo>
                  <a:lnTo>
                    <a:pt x="169" y="19"/>
                  </a:lnTo>
                  <a:lnTo>
                    <a:pt x="166" y="22"/>
                  </a:lnTo>
                  <a:lnTo>
                    <a:pt x="162" y="25"/>
                  </a:lnTo>
                  <a:lnTo>
                    <a:pt x="158" y="29"/>
                  </a:lnTo>
                  <a:lnTo>
                    <a:pt x="155" y="32"/>
                  </a:lnTo>
                  <a:lnTo>
                    <a:pt x="151" y="35"/>
                  </a:lnTo>
                  <a:lnTo>
                    <a:pt x="147" y="39"/>
                  </a:lnTo>
                  <a:lnTo>
                    <a:pt x="142" y="42"/>
                  </a:lnTo>
                  <a:lnTo>
                    <a:pt x="138" y="46"/>
                  </a:lnTo>
                  <a:lnTo>
                    <a:pt x="134" y="49"/>
                  </a:lnTo>
                  <a:lnTo>
                    <a:pt x="130" y="53"/>
                  </a:lnTo>
                  <a:lnTo>
                    <a:pt x="126" y="56"/>
                  </a:lnTo>
                  <a:lnTo>
                    <a:pt x="122" y="59"/>
                  </a:lnTo>
                  <a:lnTo>
                    <a:pt x="119" y="62"/>
                  </a:lnTo>
                  <a:lnTo>
                    <a:pt x="115" y="65"/>
                  </a:lnTo>
                  <a:lnTo>
                    <a:pt x="111" y="67"/>
                  </a:lnTo>
                  <a:lnTo>
                    <a:pt x="108" y="70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7" y="77"/>
                  </a:lnTo>
                  <a:lnTo>
                    <a:pt x="95" y="78"/>
                  </a:lnTo>
                  <a:lnTo>
                    <a:pt x="93" y="78"/>
                  </a:lnTo>
                  <a:lnTo>
                    <a:pt x="91" y="78"/>
                  </a:lnTo>
                  <a:lnTo>
                    <a:pt x="88" y="78"/>
                  </a:lnTo>
                  <a:lnTo>
                    <a:pt x="85" y="78"/>
                  </a:lnTo>
                  <a:lnTo>
                    <a:pt x="82" y="78"/>
                  </a:lnTo>
                  <a:lnTo>
                    <a:pt x="79" y="77"/>
                  </a:lnTo>
                  <a:lnTo>
                    <a:pt x="75" y="76"/>
                  </a:lnTo>
                  <a:lnTo>
                    <a:pt x="72" y="74"/>
                  </a:lnTo>
                  <a:lnTo>
                    <a:pt x="68" y="73"/>
                  </a:lnTo>
                  <a:lnTo>
                    <a:pt x="64" y="71"/>
                  </a:lnTo>
                  <a:lnTo>
                    <a:pt x="60" y="69"/>
                  </a:lnTo>
                  <a:lnTo>
                    <a:pt x="56" y="67"/>
                  </a:lnTo>
                  <a:lnTo>
                    <a:pt x="52" y="65"/>
                  </a:lnTo>
                  <a:lnTo>
                    <a:pt x="48" y="63"/>
                  </a:lnTo>
                  <a:lnTo>
                    <a:pt x="44" y="61"/>
                  </a:lnTo>
                  <a:lnTo>
                    <a:pt x="40" y="59"/>
                  </a:lnTo>
                  <a:lnTo>
                    <a:pt x="36" y="56"/>
                  </a:lnTo>
                  <a:lnTo>
                    <a:pt x="32" y="54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7"/>
                  </a:lnTo>
                  <a:lnTo>
                    <a:pt x="18" y="45"/>
                  </a:lnTo>
                  <a:lnTo>
                    <a:pt x="15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7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65" y="63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7" y="64"/>
                  </a:lnTo>
                  <a:lnTo>
                    <a:pt x="69" y="64"/>
                  </a:lnTo>
                  <a:lnTo>
                    <a:pt x="71" y="65"/>
                  </a:lnTo>
                  <a:lnTo>
                    <a:pt x="73" y="66"/>
                  </a:lnTo>
                  <a:lnTo>
                    <a:pt x="75" y="67"/>
                  </a:lnTo>
                  <a:lnTo>
                    <a:pt x="78" y="67"/>
                  </a:lnTo>
                  <a:lnTo>
                    <a:pt x="80" y="68"/>
                  </a:lnTo>
                  <a:lnTo>
                    <a:pt x="83" y="68"/>
                  </a:lnTo>
                  <a:lnTo>
                    <a:pt x="86" y="68"/>
                  </a:lnTo>
                  <a:lnTo>
                    <a:pt x="89" y="68"/>
                  </a:lnTo>
                  <a:lnTo>
                    <a:pt x="92" y="67"/>
                  </a:lnTo>
                  <a:lnTo>
                    <a:pt x="96" y="66"/>
                  </a:lnTo>
                  <a:lnTo>
                    <a:pt x="99" y="65"/>
                  </a:lnTo>
                  <a:lnTo>
                    <a:pt x="102" y="63"/>
                  </a:lnTo>
                  <a:lnTo>
                    <a:pt x="105" y="60"/>
                  </a:lnTo>
                  <a:lnTo>
                    <a:pt x="109" y="57"/>
                  </a:lnTo>
                  <a:lnTo>
                    <a:pt x="113" y="55"/>
                  </a:lnTo>
                  <a:lnTo>
                    <a:pt x="116" y="52"/>
                  </a:lnTo>
                  <a:lnTo>
                    <a:pt x="120" y="49"/>
                  </a:lnTo>
                  <a:lnTo>
                    <a:pt x="124" y="46"/>
                  </a:lnTo>
                  <a:lnTo>
                    <a:pt x="128" y="43"/>
                  </a:lnTo>
                  <a:lnTo>
                    <a:pt x="132" y="40"/>
                  </a:lnTo>
                  <a:lnTo>
                    <a:pt x="135" y="38"/>
                  </a:lnTo>
                  <a:lnTo>
                    <a:pt x="139" y="35"/>
                  </a:lnTo>
                  <a:lnTo>
                    <a:pt x="142" y="33"/>
                  </a:lnTo>
                  <a:lnTo>
                    <a:pt x="144" y="31"/>
                  </a:lnTo>
                  <a:lnTo>
                    <a:pt x="146" y="29"/>
                  </a:lnTo>
                  <a:lnTo>
                    <a:pt x="148" y="28"/>
                  </a:lnTo>
                  <a:lnTo>
                    <a:pt x="149" y="28"/>
                  </a:lnTo>
                  <a:lnTo>
                    <a:pt x="149" y="27"/>
                  </a:lnTo>
                  <a:lnTo>
                    <a:pt x="135" y="4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d6d8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16920" y="2372400"/>
              <a:ext cx="316440" cy="123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27" y="29"/>
                  </a:moveTo>
                  <a:lnTo>
                    <a:pt x="29" y="29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0" y="5"/>
                  </a:lnTo>
                  <a:lnTo>
                    <a:pt x="52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6" y="21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29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816920" y="2453040"/>
              <a:ext cx="293400" cy="889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7" y="21"/>
                  </a:moveTo>
                  <a:lnTo>
                    <a:pt x="28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6" y="16"/>
                  </a:lnTo>
                  <a:lnTo>
                    <a:pt x="37" y="14"/>
                  </a:lnTo>
                  <a:lnTo>
                    <a:pt x="40" y="12"/>
                  </a:lnTo>
                  <a:lnTo>
                    <a:pt x="41" y="9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20" y="19"/>
                  </a:lnTo>
                  <a:lnTo>
                    <a:pt x="22" y="20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42040" y="2151000"/>
              <a:ext cx="322200" cy="144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43" y="34"/>
                  </a:moveTo>
                  <a:lnTo>
                    <a:pt x="56" y="2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43" y="34"/>
                  </a:lnTo>
                  <a:close/>
                </a:path>
              </a:pathLst>
            </a:custGeom>
            <a:solidFill>
              <a:srgbClr val="d3e4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70840" y="2163600"/>
              <a:ext cx="74520" cy="212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9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e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080" y="2163600"/>
              <a:ext cx="253080" cy="10188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20" y="5"/>
                  </a:move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5"/>
                  </a:lnTo>
                  <a:close/>
                  <a:moveTo>
                    <a:pt x="44" y="17"/>
                  </a:moveTo>
                  <a:lnTo>
                    <a:pt x="43" y="17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39" y="20"/>
                  </a:lnTo>
                  <a:lnTo>
                    <a:pt x="38" y="20"/>
                  </a:lnTo>
                  <a:lnTo>
                    <a:pt x="37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2" y="10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d9c1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937880" y="2219040"/>
              <a:ext cx="74520" cy="42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09c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920600" y="2206440"/>
              <a:ext cx="3996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1"/>
                  </a:move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926360" y="2206440"/>
              <a:ext cx="23040" cy="295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399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920600" y="2210400"/>
              <a:ext cx="4608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0"/>
                  </a:lnTo>
                  <a:close/>
                  <a:moveTo>
                    <a:pt x="6" y="4"/>
                  </a:move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close/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  <a:moveTo>
                    <a:pt x="6" y="3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aba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816920" y="218088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a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88480" y="2176560"/>
              <a:ext cx="86400" cy="190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484560" y="1947600"/>
            <a:ext cx="772200" cy="661680"/>
            <a:chOff x="484560" y="1947600"/>
            <a:chExt cx="772200" cy="661680"/>
          </a:xfrm>
        </p:grpSpPr>
        <p:sp>
          <p:nvSpPr>
            <p:cNvPr id="2195" name=""/>
            <p:cNvSpPr/>
            <p:nvPr/>
          </p:nvSpPr>
          <p:spPr>
            <a:xfrm>
              <a:off x="484560" y="2387520"/>
              <a:ext cx="704160" cy="221760"/>
            </a:xfrm>
            <a:custGeom>
              <a:avLst/>
              <a:gdLst/>
              <a:ahLst/>
              <a:rect l="l" t="t" r="r" b="b"/>
              <a:pathLst>
                <a:path w="166" h="56">
                  <a:moveTo>
                    <a:pt x="162" y="16"/>
                  </a:moveTo>
                  <a:lnTo>
                    <a:pt x="82" y="56"/>
                  </a:lnTo>
                  <a:lnTo>
                    <a:pt x="81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40" y="28"/>
                  </a:lnTo>
                  <a:lnTo>
                    <a:pt x="44" y="27"/>
                  </a:lnTo>
                  <a:lnTo>
                    <a:pt x="64" y="40"/>
                  </a:lnTo>
                  <a:lnTo>
                    <a:pt x="66" y="41"/>
                  </a:lnTo>
                  <a:lnTo>
                    <a:pt x="68" y="42"/>
                  </a:lnTo>
                  <a:lnTo>
                    <a:pt x="70" y="43"/>
                  </a:lnTo>
                  <a:lnTo>
                    <a:pt x="72" y="43"/>
                  </a:lnTo>
                  <a:lnTo>
                    <a:pt x="74" y="44"/>
                  </a:lnTo>
                  <a:lnTo>
                    <a:pt x="76" y="44"/>
                  </a:lnTo>
                  <a:lnTo>
                    <a:pt x="77" y="44"/>
                  </a:lnTo>
                  <a:lnTo>
                    <a:pt x="78" y="45"/>
                  </a:lnTo>
                  <a:lnTo>
                    <a:pt x="79" y="45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4" y="43"/>
                  </a:lnTo>
                  <a:lnTo>
                    <a:pt x="85" y="43"/>
                  </a:lnTo>
                  <a:lnTo>
                    <a:pt x="85" y="42"/>
                  </a:lnTo>
                  <a:lnTo>
                    <a:pt x="89" y="46"/>
                  </a:lnTo>
                  <a:lnTo>
                    <a:pt x="111" y="36"/>
                  </a:lnTo>
                  <a:lnTo>
                    <a:pt x="113" y="30"/>
                  </a:lnTo>
                  <a:lnTo>
                    <a:pt x="130" y="22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4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2404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86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4" y="99"/>
                  </a:lnTo>
                  <a:lnTo>
                    <a:pt x="94" y="98"/>
                  </a:lnTo>
                  <a:lnTo>
                    <a:pt x="95" y="98"/>
                  </a:lnTo>
                  <a:lnTo>
                    <a:pt x="96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3f47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087200" y="2296440"/>
              <a:ext cx="67680" cy="673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5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84560" y="2351880"/>
              <a:ext cx="704160" cy="249480"/>
            </a:xfrm>
            <a:custGeom>
              <a:avLst/>
              <a:gdLst/>
              <a:ahLst/>
              <a:rect l="l" t="t" r="r" b="b"/>
              <a:pathLst>
                <a:path w="166" h="63">
                  <a:moveTo>
                    <a:pt x="162" y="24"/>
                  </a:moveTo>
                  <a:lnTo>
                    <a:pt x="82" y="62"/>
                  </a:lnTo>
                  <a:lnTo>
                    <a:pt x="81" y="62"/>
                  </a:lnTo>
                  <a:lnTo>
                    <a:pt x="80" y="62"/>
                  </a:lnTo>
                  <a:lnTo>
                    <a:pt x="78" y="63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5" y="3"/>
                  </a:lnTo>
                  <a:lnTo>
                    <a:pt x="112" y="3"/>
                  </a:lnTo>
                  <a:lnTo>
                    <a:pt x="119" y="3"/>
                  </a:lnTo>
                  <a:lnTo>
                    <a:pt x="126" y="3"/>
                  </a:lnTo>
                  <a:lnTo>
                    <a:pt x="133" y="4"/>
                  </a:lnTo>
                  <a:lnTo>
                    <a:pt x="139" y="4"/>
                  </a:lnTo>
                  <a:lnTo>
                    <a:pt x="144" y="4"/>
                  </a:lnTo>
                  <a:lnTo>
                    <a:pt x="149" y="5"/>
                  </a:lnTo>
                  <a:lnTo>
                    <a:pt x="154" y="5"/>
                  </a:lnTo>
                  <a:lnTo>
                    <a:pt x="157" y="5"/>
                  </a:lnTo>
                  <a:lnTo>
                    <a:pt x="160" y="5"/>
                  </a:lnTo>
                  <a:lnTo>
                    <a:pt x="163" y="6"/>
                  </a:lnTo>
                  <a:lnTo>
                    <a:pt x="164" y="6"/>
                  </a:lnTo>
                  <a:lnTo>
                    <a:pt x="165" y="6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21"/>
                  </a:lnTo>
                  <a:lnTo>
                    <a:pt x="165" y="22"/>
                  </a:lnTo>
                  <a:lnTo>
                    <a:pt x="165" y="22"/>
                  </a:lnTo>
                  <a:lnTo>
                    <a:pt x="164" y="23"/>
                  </a:lnTo>
                  <a:lnTo>
                    <a:pt x="163" y="23"/>
                  </a:lnTo>
                  <a:lnTo>
                    <a:pt x="163" y="24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49600" y="2498760"/>
              <a:ext cx="110160" cy="633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1"/>
                  </a:moveTo>
                  <a:lnTo>
                    <a:pt x="24" y="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24" y="7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5e68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49600" y="2502720"/>
              <a:ext cx="97200" cy="550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1" y="5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53920" y="2518200"/>
              <a:ext cx="97560" cy="475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21" y="0"/>
                  </a:lnTo>
                  <a:lnTo>
                    <a:pt x="0" y="9"/>
                  </a:lnTo>
                  <a:lnTo>
                    <a:pt x="2" y="12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7179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4560" y="2383560"/>
              <a:ext cx="704160" cy="217800"/>
            </a:xfrm>
            <a:custGeom>
              <a:avLst/>
              <a:gdLst/>
              <a:ahLst/>
              <a:rect l="l" t="t" r="r" b="b"/>
              <a:pathLst>
                <a:path w="166" h="55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40" y="28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0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3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0" y="36"/>
                  </a:lnTo>
                  <a:lnTo>
                    <a:pt x="112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84560" y="2387520"/>
              <a:ext cx="704160" cy="213840"/>
            </a:xfrm>
            <a:custGeom>
              <a:avLst/>
              <a:gdLst/>
              <a:ahLst/>
              <a:rect l="l" t="t" r="r" b="b"/>
              <a:pathLst>
                <a:path w="166" h="54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3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2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3" y="42"/>
                  </a:lnTo>
                  <a:lnTo>
                    <a:pt x="84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1" y="35"/>
                  </a:lnTo>
                  <a:lnTo>
                    <a:pt x="113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5" y="13"/>
                  </a:lnTo>
                  <a:lnTo>
                    <a:pt x="165" y="14"/>
                  </a:lnTo>
                  <a:lnTo>
                    <a:pt x="164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2" y="15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9520" y="2451240"/>
              <a:ext cx="93240" cy="594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1"/>
                  </a:moveTo>
                  <a:lnTo>
                    <a:pt x="22" y="15"/>
                  </a:lnTo>
                  <a:lnTo>
                    <a:pt x="20" y="15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065960" y="2300400"/>
              <a:ext cx="67680" cy="712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58240" y="2248920"/>
              <a:ext cx="54720" cy="554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0316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99"/>
                  </a:lnTo>
                  <a:lnTo>
                    <a:pt x="94" y="98"/>
                  </a:lnTo>
                  <a:lnTo>
                    <a:pt x="95" y="97"/>
                  </a:lnTo>
                  <a:lnTo>
                    <a:pt x="95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66520" y="2014920"/>
              <a:ext cx="352080" cy="32076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83" y="0"/>
                  </a:moveTo>
                  <a:lnTo>
                    <a:pt x="83" y="3"/>
                  </a:lnTo>
                  <a:lnTo>
                    <a:pt x="82" y="12"/>
                  </a:lnTo>
                  <a:lnTo>
                    <a:pt x="81" y="24"/>
                  </a:lnTo>
                  <a:lnTo>
                    <a:pt x="81" y="38"/>
                  </a:lnTo>
                  <a:lnTo>
                    <a:pt x="80" y="52"/>
                  </a:lnTo>
                  <a:lnTo>
                    <a:pt x="79" y="65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77" y="80"/>
                  </a:lnTo>
                  <a:lnTo>
                    <a:pt x="77" y="81"/>
                  </a:lnTo>
                  <a:lnTo>
                    <a:pt x="76" y="81"/>
                  </a:lnTo>
                  <a:lnTo>
                    <a:pt x="76" y="81"/>
                  </a:lnTo>
                  <a:lnTo>
                    <a:pt x="75" y="81"/>
                  </a:lnTo>
                  <a:lnTo>
                    <a:pt x="74" y="81"/>
                  </a:lnTo>
                  <a:lnTo>
                    <a:pt x="72" y="80"/>
                  </a:lnTo>
                  <a:lnTo>
                    <a:pt x="71" y="80"/>
                  </a:lnTo>
                  <a:lnTo>
                    <a:pt x="70" y="80"/>
                  </a:lnTo>
                  <a:lnTo>
                    <a:pt x="69" y="80"/>
                  </a:lnTo>
                  <a:lnTo>
                    <a:pt x="68" y="80"/>
                  </a:lnTo>
                  <a:lnTo>
                    <a:pt x="66" y="79"/>
                  </a:lnTo>
                  <a:lnTo>
                    <a:pt x="65" y="79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8" y="77"/>
                  </a:lnTo>
                  <a:lnTo>
                    <a:pt x="55" y="77"/>
                  </a:lnTo>
                  <a:lnTo>
                    <a:pt x="52" y="76"/>
                  </a:lnTo>
                  <a:lnTo>
                    <a:pt x="49" y="75"/>
                  </a:lnTo>
                  <a:lnTo>
                    <a:pt x="46" y="75"/>
                  </a:lnTo>
                  <a:lnTo>
                    <a:pt x="43" y="74"/>
                  </a:lnTo>
                  <a:lnTo>
                    <a:pt x="40" y="73"/>
                  </a:lnTo>
                  <a:lnTo>
                    <a:pt x="37" y="72"/>
                  </a:lnTo>
                  <a:lnTo>
                    <a:pt x="33" y="72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4" y="69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7"/>
                  </a:lnTo>
                  <a:lnTo>
                    <a:pt x="13" y="67"/>
                  </a:lnTo>
                  <a:lnTo>
                    <a:pt x="10" y="66"/>
                  </a:lnTo>
                  <a:lnTo>
                    <a:pt x="8" y="66"/>
                  </a:lnTo>
                  <a:lnTo>
                    <a:pt x="6" y="65"/>
                  </a:lnTo>
                  <a:lnTo>
                    <a:pt x="4" y="65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64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5"/>
                  </a:lnTo>
                  <a:lnTo>
                    <a:pt x="11" y="66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23" y="68"/>
                  </a:lnTo>
                  <a:lnTo>
                    <a:pt x="26" y="69"/>
                  </a:lnTo>
                  <a:lnTo>
                    <a:pt x="29" y="69"/>
                  </a:lnTo>
                  <a:lnTo>
                    <a:pt x="33" y="70"/>
                  </a:lnTo>
                  <a:lnTo>
                    <a:pt x="36" y="70"/>
                  </a:lnTo>
                  <a:lnTo>
                    <a:pt x="39" y="71"/>
                  </a:lnTo>
                  <a:lnTo>
                    <a:pt x="43" y="72"/>
                  </a:lnTo>
                  <a:lnTo>
                    <a:pt x="46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8" y="74"/>
                  </a:lnTo>
                  <a:lnTo>
                    <a:pt x="61" y="74"/>
                  </a:lnTo>
                  <a:lnTo>
                    <a:pt x="63" y="74"/>
                  </a:lnTo>
                  <a:lnTo>
                    <a:pt x="66" y="74"/>
                  </a:lnTo>
                  <a:lnTo>
                    <a:pt x="68" y="74"/>
                  </a:lnTo>
                  <a:lnTo>
                    <a:pt x="69" y="74"/>
                  </a:lnTo>
                  <a:lnTo>
                    <a:pt x="71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3"/>
                  </a:lnTo>
                  <a:lnTo>
                    <a:pt x="73" y="69"/>
                  </a:lnTo>
                  <a:lnTo>
                    <a:pt x="74" y="60"/>
                  </a:lnTo>
                  <a:lnTo>
                    <a:pt x="76" y="48"/>
                  </a:lnTo>
                  <a:lnTo>
                    <a:pt x="78" y="35"/>
                  </a:lnTo>
                  <a:lnTo>
                    <a:pt x="80" y="22"/>
                  </a:lnTo>
                  <a:lnTo>
                    <a:pt x="81" y="11"/>
                  </a:lnTo>
                  <a:lnTo>
                    <a:pt x="82" y="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979d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45280" y="2252880"/>
              <a:ext cx="55080" cy="550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32680" y="1963440"/>
              <a:ext cx="352080" cy="348840"/>
            </a:xfrm>
            <a:custGeom>
              <a:avLst/>
              <a:gdLst/>
              <a:ahLst/>
              <a:rect l="l" t="t" r="r" b="b"/>
              <a:pathLst>
                <a:path w="83" h="88">
                  <a:moveTo>
                    <a:pt x="83" y="3"/>
                  </a:moveTo>
                  <a:lnTo>
                    <a:pt x="75" y="88"/>
                  </a:lnTo>
                  <a:lnTo>
                    <a:pt x="0" y="72"/>
                  </a:lnTo>
                  <a:lnTo>
                    <a:pt x="6" y="0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845280" y="1971360"/>
              <a:ext cx="339480" cy="3366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80" y="3"/>
                  </a:moveTo>
                  <a:lnTo>
                    <a:pt x="73" y="85"/>
                  </a:lnTo>
                  <a:lnTo>
                    <a:pt x="0" y="70"/>
                  </a:lnTo>
                  <a:lnTo>
                    <a:pt x="6" y="0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66515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84560" y="2276640"/>
              <a:ext cx="700200" cy="245520"/>
            </a:xfrm>
            <a:custGeom>
              <a:avLst/>
              <a:gdLst/>
              <a:ahLst/>
              <a:rect l="l" t="t" r="r" b="b"/>
              <a:pathLst>
                <a:path w="165" h="62">
                  <a:moveTo>
                    <a:pt x="161" y="28"/>
                  </a:moveTo>
                  <a:lnTo>
                    <a:pt x="79" y="62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5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7" y="61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5"/>
                  </a:lnTo>
                  <a:lnTo>
                    <a:pt x="164" y="26"/>
                  </a:lnTo>
                  <a:lnTo>
                    <a:pt x="163" y="26"/>
                  </a:lnTo>
                  <a:lnTo>
                    <a:pt x="162" y="27"/>
                  </a:lnTo>
                  <a:lnTo>
                    <a:pt x="161" y="27"/>
                  </a:lnTo>
                  <a:lnTo>
                    <a:pt x="161" y="28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22720" y="2304360"/>
              <a:ext cx="538920" cy="1861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3" y="23"/>
                  </a:moveTo>
                  <a:lnTo>
                    <a:pt x="63" y="47"/>
                  </a:lnTo>
                  <a:lnTo>
                    <a:pt x="62" y="47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8" y="47"/>
                  </a:lnTo>
                  <a:lnTo>
                    <a:pt x="57" y="47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3" y="4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126" y="20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5" y="22"/>
                  </a:lnTo>
                  <a:lnTo>
                    <a:pt x="125" y="22"/>
                  </a:lnTo>
                  <a:lnTo>
                    <a:pt x="124" y="23"/>
                  </a:lnTo>
                  <a:lnTo>
                    <a:pt x="123" y="23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22720" y="2308320"/>
              <a:ext cx="525960" cy="182160"/>
            </a:xfrm>
            <a:custGeom>
              <a:avLst/>
              <a:gdLst/>
              <a:ahLst/>
              <a:rect l="l" t="t" r="r" b="b"/>
              <a:pathLst>
                <a:path w="124" h="46">
                  <a:moveTo>
                    <a:pt x="62" y="46"/>
                  </a:moveTo>
                  <a:lnTo>
                    <a:pt x="62" y="46"/>
                  </a:lnTo>
                  <a:lnTo>
                    <a:pt x="60" y="46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6" y="46"/>
                  </a:lnTo>
                  <a:lnTo>
                    <a:pt x="55" y="46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123" y="20"/>
                  </a:lnTo>
                  <a:lnTo>
                    <a:pt x="124" y="20"/>
                  </a:lnTo>
                  <a:lnTo>
                    <a:pt x="124" y="21"/>
                  </a:lnTo>
                  <a:lnTo>
                    <a:pt x="123" y="21"/>
                  </a:lnTo>
                  <a:lnTo>
                    <a:pt x="123" y="21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1" y="23"/>
                  </a:lnTo>
                  <a:lnTo>
                    <a:pt x="120" y="23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79680" y="2308320"/>
              <a:ext cx="360720" cy="114840"/>
            </a:xfrm>
            <a:custGeom>
              <a:avLst/>
              <a:gdLst/>
              <a:ahLst/>
              <a:rect l="l" t="t" r="r" b="b"/>
              <a:pathLst>
                <a:path w="85" h="29">
                  <a:moveTo>
                    <a:pt x="85" y="21"/>
                  </a:moveTo>
                  <a:lnTo>
                    <a:pt x="65" y="29"/>
                  </a:lnTo>
                  <a:lnTo>
                    <a:pt x="0" y="6"/>
                  </a:lnTo>
                  <a:lnTo>
                    <a:pt x="21" y="0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3b3f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8920" y="2363760"/>
              <a:ext cx="207720" cy="74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25" y="19"/>
                  </a:move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28920" y="2367720"/>
              <a:ext cx="203400" cy="75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24" y="19"/>
                  </a:moveTo>
                  <a:lnTo>
                    <a:pt x="24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45840" y="2372040"/>
              <a:ext cx="169560" cy="633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20" y="16"/>
                  </a:moveTo>
                  <a:lnTo>
                    <a:pt x="20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73280" y="2355840"/>
              <a:ext cx="105840" cy="356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202040" y="1971360"/>
              <a:ext cx="20880" cy="23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28360" y="1963440"/>
              <a:ext cx="1692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206000" y="1975680"/>
              <a:ext cx="12600" cy="11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28360" y="1963440"/>
              <a:ext cx="12600" cy="11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8400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96960" y="232416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13880" y="23202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264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43400" y="231228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56360" y="230832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9696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138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264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4340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56360" y="23162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68960" y="23122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1388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264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4340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56360" y="23241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7328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858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2648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4340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56360" y="233208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732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858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03160" y="2320200"/>
              <a:ext cx="1656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4340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6360" y="2343960"/>
              <a:ext cx="1656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73280" y="23400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85880" y="2336040"/>
              <a:ext cx="20880" cy="39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03160" y="2332080"/>
              <a:ext cx="1656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1576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56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7328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9020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03160" y="23400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1972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326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90200" y="23518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03160" y="23479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1972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32680" y="23400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49600" y="23360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071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19720" y="23518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3700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49600" y="23439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6652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2404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41320" y="23598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539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70840" y="235188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8344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132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58240" y="23637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870840" y="23598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88776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00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5824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87516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887760" y="2363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04680" y="23598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17640" y="23558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75160" y="237960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9208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90900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921600" y="23677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93852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7948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9640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913320" y="2379600"/>
              <a:ext cx="16920" cy="11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92592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94284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95580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900360" y="239544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913320" y="23914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930240" y="23875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9471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96012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977040" y="237204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921600" y="24033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93456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951480" y="23954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96408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9813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99396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38520" y="24112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955800" y="240336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97272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985320" y="239544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00224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15200" y="238356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88880" y="2372040"/>
              <a:ext cx="691560" cy="174240"/>
            </a:xfrm>
            <a:custGeom>
              <a:avLst/>
              <a:gdLst/>
              <a:ahLst/>
              <a:rect l="l" t="t" r="r" b="b"/>
              <a:pathLst>
                <a:path w="163" h="44">
                  <a:moveTo>
                    <a:pt x="163" y="3"/>
                  </a:moveTo>
                  <a:lnTo>
                    <a:pt x="163" y="7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0" y="31"/>
                  </a:lnTo>
                  <a:lnTo>
                    <a:pt x="108" y="32"/>
                  </a:lnTo>
                  <a:lnTo>
                    <a:pt x="107" y="33"/>
                  </a:lnTo>
                  <a:lnTo>
                    <a:pt x="105" y="33"/>
                  </a:lnTo>
                  <a:lnTo>
                    <a:pt x="103" y="34"/>
                  </a:lnTo>
                  <a:lnTo>
                    <a:pt x="101" y="35"/>
                  </a:lnTo>
                  <a:lnTo>
                    <a:pt x="98" y="37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91" y="40"/>
                  </a:lnTo>
                  <a:lnTo>
                    <a:pt x="89" y="40"/>
                  </a:lnTo>
                  <a:lnTo>
                    <a:pt x="88" y="41"/>
                  </a:lnTo>
                  <a:lnTo>
                    <a:pt x="86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2" y="43"/>
                  </a:lnTo>
                  <a:lnTo>
                    <a:pt x="80" y="43"/>
                  </a:lnTo>
                  <a:lnTo>
                    <a:pt x="79" y="43"/>
                  </a:lnTo>
                  <a:lnTo>
                    <a:pt x="78" y="43"/>
                  </a:lnTo>
                  <a:lnTo>
                    <a:pt x="76" y="44"/>
                  </a:lnTo>
                  <a:lnTo>
                    <a:pt x="75" y="44"/>
                  </a:lnTo>
                  <a:lnTo>
                    <a:pt x="73" y="43"/>
                  </a:lnTo>
                  <a:lnTo>
                    <a:pt x="71" y="43"/>
                  </a:lnTo>
                  <a:lnTo>
                    <a:pt x="69" y="43"/>
                  </a:lnTo>
                  <a:lnTo>
                    <a:pt x="68" y="42"/>
                  </a:lnTo>
                  <a:lnTo>
                    <a:pt x="66" y="41"/>
                  </a:lnTo>
                  <a:lnTo>
                    <a:pt x="63" y="40"/>
                  </a:lnTo>
                  <a:lnTo>
                    <a:pt x="61" y="39"/>
                  </a:lnTo>
                  <a:lnTo>
                    <a:pt x="58" y="37"/>
                  </a:lnTo>
                  <a:lnTo>
                    <a:pt x="54" y="35"/>
                  </a:lnTo>
                  <a:lnTo>
                    <a:pt x="49" y="32"/>
                  </a:lnTo>
                  <a:lnTo>
                    <a:pt x="44" y="29"/>
                  </a:lnTo>
                  <a:lnTo>
                    <a:pt x="39" y="26"/>
                  </a:lnTo>
                  <a:lnTo>
                    <a:pt x="33" y="23"/>
                  </a:lnTo>
                  <a:lnTo>
                    <a:pt x="28" y="20"/>
                  </a:lnTo>
                  <a:lnTo>
                    <a:pt x="22" y="17"/>
                  </a:lnTo>
                  <a:lnTo>
                    <a:pt x="17" y="14"/>
                  </a:lnTo>
                  <a:lnTo>
                    <a:pt x="13" y="11"/>
                  </a:lnTo>
                  <a:lnTo>
                    <a:pt x="8" y="8"/>
                  </a:lnTo>
                  <a:lnTo>
                    <a:pt x="5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5" y="37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7" y="38"/>
                  </a:lnTo>
                  <a:lnTo>
                    <a:pt x="68" y="39"/>
                  </a:lnTo>
                  <a:lnTo>
                    <a:pt x="69" y="39"/>
                  </a:lnTo>
                  <a:lnTo>
                    <a:pt x="71" y="39"/>
                  </a:lnTo>
                  <a:lnTo>
                    <a:pt x="72" y="39"/>
                  </a:lnTo>
                  <a:lnTo>
                    <a:pt x="74" y="40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7" y="37"/>
                  </a:lnTo>
                  <a:lnTo>
                    <a:pt x="90" y="36"/>
                  </a:lnTo>
                  <a:lnTo>
                    <a:pt x="92" y="35"/>
                  </a:lnTo>
                  <a:lnTo>
                    <a:pt x="94" y="34"/>
                  </a:lnTo>
                  <a:lnTo>
                    <a:pt x="97" y="33"/>
                  </a:lnTo>
                  <a:lnTo>
                    <a:pt x="100" y="31"/>
                  </a:lnTo>
                  <a:lnTo>
                    <a:pt x="103" y="30"/>
                  </a:lnTo>
                  <a:lnTo>
                    <a:pt x="106" y="29"/>
                  </a:lnTo>
                  <a:lnTo>
                    <a:pt x="110" y="27"/>
                  </a:lnTo>
                  <a:lnTo>
                    <a:pt x="113" y="26"/>
                  </a:lnTo>
                  <a:lnTo>
                    <a:pt x="117" y="24"/>
                  </a:lnTo>
                  <a:lnTo>
                    <a:pt x="120" y="23"/>
                  </a:lnTo>
                  <a:lnTo>
                    <a:pt x="124" y="21"/>
                  </a:lnTo>
                  <a:lnTo>
                    <a:pt x="127" y="20"/>
                  </a:lnTo>
                  <a:lnTo>
                    <a:pt x="131" y="18"/>
                  </a:lnTo>
                  <a:lnTo>
                    <a:pt x="134" y="16"/>
                  </a:lnTo>
                  <a:lnTo>
                    <a:pt x="137" y="15"/>
                  </a:lnTo>
                  <a:lnTo>
                    <a:pt x="141" y="13"/>
                  </a:lnTo>
                  <a:lnTo>
                    <a:pt x="144" y="12"/>
                  </a:lnTo>
                  <a:lnTo>
                    <a:pt x="147" y="11"/>
                  </a:lnTo>
                  <a:lnTo>
                    <a:pt x="149" y="10"/>
                  </a:lnTo>
                  <a:lnTo>
                    <a:pt x="152" y="8"/>
                  </a:lnTo>
                  <a:lnTo>
                    <a:pt x="154" y="7"/>
                  </a:lnTo>
                  <a:lnTo>
                    <a:pt x="157" y="6"/>
                  </a:lnTo>
                  <a:lnTo>
                    <a:pt x="158" y="5"/>
                  </a:lnTo>
                  <a:lnTo>
                    <a:pt x="160" y="5"/>
                  </a:lnTo>
                  <a:lnTo>
                    <a:pt x="161" y="4"/>
                  </a:lnTo>
                  <a:lnTo>
                    <a:pt x="162" y="4"/>
                  </a:lnTo>
                  <a:lnTo>
                    <a:pt x="163" y="3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14440" y="2427120"/>
              <a:ext cx="263160" cy="16632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58" y="32"/>
                  </a:moveTo>
                  <a:lnTo>
                    <a:pt x="37" y="17"/>
                  </a:lnTo>
                  <a:lnTo>
                    <a:pt x="43" y="24"/>
                  </a:lnTo>
                  <a:lnTo>
                    <a:pt x="33" y="21"/>
                  </a:lnTo>
                  <a:lnTo>
                    <a:pt x="0" y="0"/>
                  </a:lnTo>
                  <a:lnTo>
                    <a:pt x="62" y="42"/>
                  </a:lnTo>
                  <a:lnTo>
                    <a:pt x="61" y="35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69520" y="2451240"/>
              <a:ext cx="84960" cy="59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2"/>
                  </a:moveTo>
                  <a:lnTo>
                    <a:pt x="20" y="15"/>
                  </a:lnTo>
                  <a:lnTo>
                    <a:pt x="1" y="2"/>
                  </a:lnTo>
                  <a:lnTo>
                    <a:pt x="0" y="0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7668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125360" y="2423160"/>
              <a:ext cx="42480" cy="39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0"/>
                  </a:moveTo>
                  <a:lnTo>
                    <a:pt x="10" y="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9"/>
                  </a:lnTo>
                  <a:lnTo>
                    <a:pt x="8" y="5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129680" y="2431080"/>
              <a:ext cx="29520" cy="237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c77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0280" y="2383560"/>
              <a:ext cx="538920" cy="126720"/>
            </a:xfrm>
            <a:custGeom>
              <a:avLst/>
              <a:gdLst/>
              <a:ahLst/>
              <a:rect l="l" t="t" r="r" b="b"/>
              <a:pathLst>
                <a:path w="127" h="32">
                  <a:moveTo>
                    <a:pt x="127" y="0"/>
                  </a:moveTo>
                  <a:lnTo>
                    <a:pt x="127" y="0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18" y="4"/>
                  </a:lnTo>
                  <a:lnTo>
                    <a:pt x="115" y="5"/>
                  </a:lnTo>
                  <a:lnTo>
                    <a:pt x="113" y="6"/>
                  </a:lnTo>
                  <a:lnTo>
                    <a:pt x="110" y="7"/>
                  </a:lnTo>
                  <a:lnTo>
                    <a:pt x="106" y="8"/>
                  </a:lnTo>
                  <a:lnTo>
                    <a:pt x="103" y="10"/>
                  </a:lnTo>
                  <a:lnTo>
                    <a:pt x="100" y="11"/>
                  </a:lnTo>
                  <a:lnTo>
                    <a:pt x="96" y="12"/>
                  </a:lnTo>
                  <a:lnTo>
                    <a:pt x="93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5" y="21"/>
                  </a:lnTo>
                  <a:lnTo>
                    <a:pt x="72" y="22"/>
                  </a:lnTo>
                  <a:lnTo>
                    <a:pt x="68" y="24"/>
                  </a:lnTo>
                  <a:lnTo>
                    <a:pt x="65" y="25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8"/>
                  </a:lnTo>
                  <a:lnTo>
                    <a:pt x="55" y="29"/>
                  </a:lnTo>
                  <a:lnTo>
                    <a:pt x="53" y="30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7" y="32"/>
                  </a:lnTo>
                  <a:lnTo>
                    <a:pt x="46" y="32"/>
                  </a:lnTo>
                  <a:lnTo>
                    <a:pt x="45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0" y="28"/>
                  </a:lnTo>
                  <a:lnTo>
                    <a:pt x="28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3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6" y="29"/>
                  </a:lnTo>
                  <a:lnTo>
                    <a:pt x="72" y="16"/>
                  </a:lnTo>
                  <a:lnTo>
                    <a:pt x="64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09560" y="2391480"/>
              <a:ext cx="55080" cy="194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09560" y="2387520"/>
              <a:ext cx="42480" cy="118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3280" y="239976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09560" y="2375640"/>
              <a:ext cx="21240" cy="36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84000" y="2387520"/>
              <a:ext cx="8280" cy="11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58800" y="2395440"/>
              <a:ext cx="72000" cy="356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9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26480" y="2415600"/>
              <a:ext cx="38160" cy="15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71400" y="2399760"/>
              <a:ext cx="84960" cy="234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35680" y="2375640"/>
              <a:ext cx="402840" cy="11088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95" y="14"/>
                  </a:moveTo>
                  <a:lnTo>
                    <a:pt x="61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8" y="8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5" y="21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69" y="21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72" y="22"/>
                  </a:lnTo>
                  <a:lnTo>
                    <a:pt x="95" y="14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31360" y="2363760"/>
              <a:ext cx="135720" cy="590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1" y="15"/>
                  </a:moveTo>
                  <a:lnTo>
                    <a:pt x="32" y="15"/>
                  </a:lnTo>
                  <a:lnTo>
                    <a:pt x="3" y="0"/>
                  </a:lnTo>
                  <a:lnTo>
                    <a:pt x="0" y="2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7090920" y="5245920"/>
            <a:ext cx="1163880" cy="559440"/>
            <a:chOff x="7090920" y="5245920"/>
            <a:chExt cx="1163880" cy="559440"/>
          </a:xfrm>
        </p:grpSpPr>
        <p:grpSp>
          <p:nvGrpSpPr>
            <p:cNvPr id="2339" name=""/>
            <p:cNvGrpSpPr/>
            <p:nvPr/>
          </p:nvGrpSpPr>
          <p:grpSpPr>
            <a:xfrm>
              <a:off x="7090920" y="5245920"/>
              <a:ext cx="1163880" cy="559440"/>
              <a:chOff x="7090920" y="5245920"/>
              <a:chExt cx="1163880" cy="559440"/>
            </a:xfrm>
          </p:grpSpPr>
          <p:sp>
            <p:nvSpPr>
              <p:cNvPr id="2340" name=""/>
              <p:cNvSpPr/>
              <p:nvPr/>
            </p:nvSpPr>
            <p:spPr>
              <a:xfrm>
                <a:off x="7090920" y="5245920"/>
                <a:ext cx="1163880" cy="55944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093080" y="5279760"/>
                <a:ext cx="1157400" cy="5256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248320" y="540324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220960" y="54075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196480" y="542772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169480" y="544968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142480" y="546984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115480" y="54918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088120" y="55134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061120" y="55350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031960" y="55569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8011800" y="5580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89120" y="559764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66800" y="561528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44120" y="56343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921800" y="5652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899120" y="566964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874280" y="5688720"/>
                <a:ext cx="27000" cy="3924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851960" y="570636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827120" y="5725440"/>
                <a:ext cx="26640" cy="406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804440" y="57441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8600" y="5763240"/>
                <a:ext cx="18000" cy="3384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779600" y="577692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766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752600" y="5783760"/>
                <a:ext cx="13320" cy="21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739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696440" y="577152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655760" y="57607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615440" y="57499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74760" y="57391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34440" y="57279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493760" y="57171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453440" y="570492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412760" y="569556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372080" y="56844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333920" y="56736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295760" y="566280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257240" y="565344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219080" y="564228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178400" y="5632920"/>
                <a:ext cx="45000" cy="30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42400" y="56221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104240" y="56113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095240" y="56084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090920" y="560304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090920" y="5257800"/>
                <a:ext cx="1163880" cy="52704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171640" y="538416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036280" y="5387040"/>
                <a:ext cx="139320" cy="13284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027640" y="551196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016120" y="5497200"/>
                <a:ext cx="13320" cy="3924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002800" y="5498280"/>
                <a:ext cx="17640" cy="4752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989120" y="5497200"/>
                <a:ext cx="20160" cy="486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64280" y="5491800"/>
                <a:ext cx="31320" cy="529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919280" y="5452200"/>
                <a:ext cx="49320" cy="8532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948800" y="5411520"/>
                <a:ext cx="4320" cy="583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941960" y="5400720"/>
                <a:ext cx="11160" cy="5976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932960" y="5391000"/>
                <a:ext cx="15480" cy="5832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917120" y="5381640"/>
                <a:ext cx="20160" cy="5832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899120" y="5373360"/>
                <a:ext cx="24480" cy="568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876440" y="5366520"/>
                <a:ext cx="26640" cy="5544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856280" y="5362560"/>
                <a:ext cx="24480" cy="529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838280" y="5358600"/>
                <a:ext cx="22320" cy="52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29280" y="5354280"/>
                <a:ext cx="11160" cy="529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824600" y="5348880"/>
                <a:ext cx="6480" cy="540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822440" y="5343480"/>
                <a:ext cx="4320" cy="5436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689600" y="5289120"/>
                <a:ext cx="126000" cy="51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683120" y="5287680"/>
                <a:ext cx="6480" cy="244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680600" y="5285160"/>
                <a:ext cx="2160" cy="2556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680600" y="5282280"/>
                <a:ext cx="360" cy="2556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649280" y="5312160"/>
                <a:ext cx="148320" cy="406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653600" y="5315040"/>
                <a:ext cx="144000" cy="363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653600" y="5330160"/>
                <a:ext cx="204840" cy="5832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649280" y="5330160"/>
                <a:ext cx="204840" cy="6084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236800" y="538560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8027640" y="551340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775280" y="575100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761960" y="575676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748280" y="5759280"/>
                <a:ext cx="15480" cy="2160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734600" y="575784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156080" y="5376240"/>
                <a:ext cx="299160" cy="21024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099920" y="55868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095240" y="5581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486920" y="5267520"/>
                <a:ext cx="139320" cy="111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486920" y="53722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475760" y="537624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462440" y="537768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453440" y="53762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165080" y="558000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169400" y="557316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153920" y="55854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153920" y="5589360"/>
                <a:ext cx="4320" cy="230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714440" y="5739120"/>
                <a:ext cx="2160" cy="21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111080" y="5590800"/>
                <a:ext cx="625680" cy="1872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020800" y="5509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020800" y="550404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180640" y="53924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784280" y="5391000"/>
                <a:ext cx="459360" cy="38160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671600" y="5259240"/>
                <a:ext cx="517680" cy="13968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842960" y="5311080"/>
                <a:ext cx="4320" cy="255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840440" y="5313600"/>
                <a:ext cx="4320" cy="2412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836120" y="531504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82928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822440" y="5319000"/>
                <a:ext cx="6480" cy="2304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81344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8171640" y="538308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8173800" y="53884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667280" y="5259240"/>
                <a:ext cx="4320" cy="2988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660440" y="5263560"/>
                <a:ext cx="9000" cy="2844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64928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635600" y="526896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62660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495920" y="536652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095240" y="5245920"/>
                <a:ext cx="1150560" cy="51336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680600" y="5274360"/>
                <a:ext cx="166320" cy="44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827120" y="5311080"/>
                <a:ext cx="353520" cy="18864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892280" y="531108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81120" y="5311080"/>
                <a:ext cx="1116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869960" y="5311080"/>
                <a:ext cx="133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863120" y="531360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829280" y="531648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827120" y="53395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827120" y="534348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827120" y="53463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831440" y="53488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840440" y="5351760"/>
                <a:ext cx="24480" cy="108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860960" y="535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881120" y="5361120"/>
                <a:ext cx="26640" cy="118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03440" y="5367960"/>
                <a:ext cx="24480" cy="133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23960" y="5376240"/>
                <a:ext cx="20160" cy="147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37280" y="5387040"/>
                <a:ext cx="18000" cy="133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48800" y="5397840"/>
                <a:ext cx="1332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53120" y="541008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48800" y="542232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37280" y="5433120"/>
                <a:ext cx="1800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26120" y="544392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26120" y="5452200"/>
                <a:ext cx="49320" cy="3924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68960" y="548604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995960" y="5491800"/>
                <a:ext cx="13320" cy="7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009280" y="5492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018640" y="549180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8027640" y="54874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8034120" y="5383080"/>
                <a:ext cx="141840" cy="10980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169480" y="53802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8171640" y="537768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8166960" y="53733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8160480" y="537084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901280" y="5312160"/>
                <a:ext cx="261000" cy="6084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833960" y="5315040"/>
                <a:ext cx="337680" cy="177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923960" y="537876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876440" y="5399280"/>
                <a:ext cx="51480" cy="33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827120" y="5402160"/>
                <a:ext cx="54000" cy="30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802280" y="5384160"/>
                <a:ext cx="26640" cy="4176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804440" y="5354280"/>
                <a:ext cx="135000" cy="5400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910280" y="5360040"/>
                <a:ext cx="29160" cy="187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865280" y="535428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820280" y="5354280"/>
                <a:ext cx="45000" cy="118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804440" y="536400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804440" y="5381640"/>
                <a:ext cx="29160" cy="20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829280" y="5396400"/>
                <a:ext cx="51480" cy="118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881120" y="5393880"/>
                <a:ext cx="47160" cy="1476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921800" y="5378760"/>
                <a:ext cx="18000" cy="201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813440" y="5358600"/>
                <a:ext cx="117000" cy="4320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813440" y="5358600"/>
                <a:ext cx="117000" cy="4608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829280" y="5364000"/>
                <a:ext cx="85320" cy="338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849440" y="537228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851960" y="5373360"/>
                <a:ext cx="40320" cy="147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854120" y="5374800"/>
                <a:ext cx="36000" cy="133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858440" y="5376240"/>
                <a:ext cx="27000" cy="108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867440" y="53258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872120" y="5328720"/>
                <a:ext cx="42480" cy="162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874280" y="532872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876440" y="5328720"/>
                <a:ext cx="35640" cy="147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878960" y="53301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885800" y="533124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8088120" y="53762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92800" y="5377680"/>
                <a:ext cx="42480" cy="17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094960" y="537876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094960" y="53787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097120" y="5378760"/>
                <a:ext cx="33480" cy="118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101800" y="537876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106480" y="5378760"/>
                <a:ext cx="15480" cy="14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108640" y="53787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71120" y="5461920"/>
                <a:ext cx="54000" cy="230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75800" y="546444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7960" y="5465880"/>
                <a:ext cx="40320" cy="162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80120" y="546588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84800" y="546732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91280" y="546840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80120" y="5471280"/>
                <a:ext cx="38160" cy="540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980120" y="547128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189640" y="5376240"/>
                <a:ext cx="45000" cy="176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193960" y="537768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196480" y="537768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198640" y="53787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8200800" y="537876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8207640" y="538020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8198640" y="538308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198640" y="5383080"/>
                <a:ext cx="31320" cy="252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8036280" y="549576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540" name=""/>
            <p:cNvSpPr/>
            <p:nvPr/>
          </p:nvSpPr>
          <p:spPr>
            <a:xfrm>
              <a:off x="8038800" y="5497200"/>
              <a:ext cx="40320" cy="16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040960" y="5497200"/>
              <a:ext cx="3600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043480" y="5498640"/>
              <a:ext cx="33480" cy="133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047800" y="5498640"/>
              <a:ext cx="26640" cy="12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052480" y="5500080"/>
              <a:ext cx="22320" cy="93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043480" y="5502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043480" y="5504040"/>
              <a:ext cx="33480" cy="252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17600" y="5248800"/>
              <a:ext cx="42480" cy="16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22280" y="5249880"/>
              <a:ext cx="35640" cy="13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624440" y="524988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626960" y="5251320"/>
              <a:ext cx="29160" cy="10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629120" y="525132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633440" y="525276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446600" y="5356080"/>
              <a:ext cx="45000" cy="176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448760" y="5357160"/>
              <a:ext cx="38160" cy="147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451280" y="5358600"/>
              <a:ext cx="3348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453440" y="535860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455600" y="535860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462440" y="536004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451280" y="536292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453440" y="536400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108920" y="5566320"/>
              <a:ext cx="47160" cy="20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111080" y="5567760"/>
              <a:ext cx="4032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113600" y="5569200"/>
              <a:ext cx="3564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115760" y="5569200"/>
              <a:ext cx="33480" cy="147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117920" y="557064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124760" y="557208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115760" y="5574600"/>
              <a:ext cx="33480" cy="540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115760" y="5574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730280" y="5730840"/>
              <a:ext cx="49320" cy="230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734960" y="5732280"/>
              <a:ext cx="42480" cy="187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737120" y="5733720"/>
              <a:ext cx="38160" cy="176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739280" y="5733720"/>
              <a:ext cx="33480" cy="16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741440" y="5734800"/>
              <a:ext cx="31320" cy="1476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748280" y="5736240"/>
              <a:ext cx="24480" cy="108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737120" y="5740200"/>
              <a:ext cx="38160" cy="39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737120" y="5740200"/>
              <a:ext cx="35640" cy="3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273440" y="54104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3440" y="54050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273440" y="539928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273440" y="539532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3440" y="53899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273440" y="53845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273440" y="53805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273440" y="53751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543440" y="5452560"/>
              <a:ext cx="51480" cy="118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543440" y="5442840"/>
              <a:ext cx="5148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575120" y="5380560"/>
              <a:ext cx="290160" cy="7740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575120" y="5375160"/>
              <a:ext cx="288000" cy="7848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593120" y="543492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597440" y="5437440"/>
              <a:ext cx="20160" cy="64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602120" y="5438880"/>
              <a:ext cx="1116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475760" y="5453640"/>
              <a:ext cx="281160" cy="11808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496280" y="5463360"/>
              <a:ext cx="240840" cy="10044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25960" y="54932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723800" y="5497200"/>
              <a:ext cx="4320" cy="284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721280" y="55026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716960" y="550656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712280" y="551088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705440" y="551484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69896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692120" y="552312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683120" y="5525640"/>
              <a:ext cx="864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67412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665120" y="5532480"/>
              <a:ext cx="9000" cy="241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65396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644960" y="55353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633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622280" y="553788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611120" y="553932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599960" y="55378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590960" y="5537880"/>
              <a:ext cx="9000" cy="2304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579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56828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559280" y="55324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755028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541280" y="5527080"/>
              <a:ext cx="864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532280" y="552312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52544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521120" y="5516280"/>
              <a:ext cx="6480" cy="2556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516440" y="551232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512120" y="55080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509600" y="5502600"/>
              <a:ext cx="2160" cy="284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507440" y="54986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505280" y="549468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505280" y="5445720"/>
              <a:ext cx="222840" cy="936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617600" y="5452560"/>
              <a:ext cx="51480" cy="3924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563600" y="5491800"/>
              <a:ext cx="54000" cy="406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617600" y="5449680"/>
              <a:ext cx="3600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581600" y="5491800"/>
              <a:ext cx="3564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617600" y="5449680"/>
              <a:ext cx="18000" cy="4176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597440" y="5491800"/>
              <a:ext cx="20160" cy="43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604280" y="5449680"/>
              <a:ext cx="15480" cy="417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613280" y="5491800"/>
              <a:ext cx="15480" cy="4320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588440" y="5449680"/>
              <a:ext cx="29160" cy="417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617600" y="5491800"/>
              <a:ext cx="29160" cy="4320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570440" y="5451120"/>
              <a:ext cx="47160" cy="406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617600" y="5491800"/>
              <a:ext cx="45000" cy="406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554600" y="545364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617600" y="549180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536600" y="5459040"/>
              <a:ext cx="81000" cy="324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617600" y="5491800"/>
              <a:ext cx="78480" cy="3384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523280" y="546588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617600" y="549180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514280" y="5476680"/>
              <a:ext cx="103320" cy="1476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617600" y="5491800"/>
              <a:ext cx="101160" cy="162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514280" y="5488920"/>
              <a:ext cx="103320" cy="133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617600" y="5481000"/>
              <a:ext cx="101160" cy="133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518600" y="5491800"/>
              <a:ext cx="99000" cy="230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17600" y="5470200"/>
              <a:ext cx="99000" cy="21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530120" y="5491800"/>
              <a:ext cx="8748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617600" y="5460480"/>
              <a:ext cx="85320" cy="309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545960" y="5491800"/>
              <a:ext cx="71640" cy="36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617600" y="5455080"/>
              <a:ext cx="69480" cy="36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536600" y="5455080"/>
              <a:ext cx="159480" cy="662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545960" y="5459040"/>
              <a:ext cx="141480" cy="5832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568280" y="5467320"/>
              <a:ext cx="96840" cy="417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575120" y="5470200"/>
              <a:ext cx="83160" cy="352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581600" y="5476680"/>
              <a:ext cx="69480" cy="295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707960" y="5315400"/>
              <a:ext cx="90000" cy="23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7890120" y="5492880"/>
            <a:ext cx="911160" cy="759240"/>
            <a:chOff x="7890120" y="5492880"/>
            <a:chExt cx="911160" cy="759240"/>
          </a:xfrm>
        </p:grpSpPr>
        <p:sp>
          <p:nvSpPr>
            <p:cNvPr id="2663" name=""/>
            <p:cNvSpPr/>
            <p:nvPr/>
          </p:nvSpPr>
          <p:spPr>
            <a:xfrm>
              <a:off x="7895520" y="5509440"/>
              <a:ext cx="440280" cy="37188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890120" y="5509440"/>
              <a:ext cx="440280" cy="3736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897320" y="5514480"/>
              <a:ext cx="428040" cy="36684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929000" y="5547960"/>
              <a:ext cx="252000" cy="20268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964280" y="5549760"/>
              <a:ext cx="214920" cy="179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960680" y="5544720"/>
              <a:ext cx="216720" cy="18252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006760" y="5650200"/>
              <a:ext cx="285120" cy="21276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010000" y="56538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024040" y="56754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038440" y="569916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8052480" y="5720760"/>
              <a:ext cx="232560" cy="13896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983720" y="5620320"/>
              <a:ext cx="28080" cy="9720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989120" y="5616720"/>
              <a:ext cx="31680" cy="1087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997760" y="5611680"/>
              <a:ext cx="31680" cy="11556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8015400" y="560160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006760" y="5607000"/>
              <a:ext cx="31680" cy="120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033040" y="5591520"/>
              <a:ext cx="3348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043480" y="558684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048880" y="5583240"/>
              <a:ext cx="3312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962480" y="5544720"/>
              <a:ext cx="160200" cy="9216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890120" y="5509440"/>
              <a:ext cx="514440" cy="48744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895520" y="5514480"/>
              <a:ext cx="505440" cy="47736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913160" y="5541480"/>
              <a:ext cx="482760" cy="44388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9837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9783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983720" y="5502960"/>
              <a:ext cx="410400" cy="3182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019000" y="5523120"/>
              <a:ext cx="253440" cy="16560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061120" y="5524560"/>
              <a:ext cx="209520" cy="15048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057520" y="5518080"/>
              <a:ext cx="209520" cy="1558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064720" y="5646960"/>
              <a:ext cx="290520" cy="16416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070120" y="56502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8076960" y="56754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8085960" y="57006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8092800" y="5724000"/>
              <a:ext cx="255240" cy="8532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8076960" y="5563080"/>
              <a:ext cx="17640" cy="968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8082360" y="5559840"/>
              <a:ext cx="19080" cy="11052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8089560" y="5558040"/>
              <a:ext cx="20880" cy="11700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108640" y="5551560"/>
              <a:ext cx="20880" cy="122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098200" y="5554800"/>
              <a:ext cx="22680" cy="11880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129880" y="554652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8138880" y="5543280"/>
              <a:ext cx="22680" cy="120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8147520" y="554148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8059320" y="5519520"/>
              <a:ext cx="177840" cy="5184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972920" y="5508000"/>
              <a:ext cx="470160" cy="44244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978320" y="5513040"/>
              <a:ext cx="463320" cy="4323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990560" y="5539680"/>
              <a:ext cx="445680" cy="40032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8087760" y="5514480"/>
              <a:ext cx="378720" cy="25632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8084160" y="5514480"/>
              <a:ext cx="375120" cy="25812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089560" y="5518080"/>
              <a:ext cx="366480" cy="25272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123040" y="5523120"/>
              <a:ext cx="243000" cy="122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172360" y="5526360"/>
              <a:ext cx="190080" cy="11556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8168760" y="5519520"/>
              <a:ext cx="191880" cy="120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8135280" y="5663880"/>
              <a:ext cx="280080" cy="10548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140320" y="56671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8142120" y="56923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8143920" y="571896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8145720" y="5744160"/>
              <a:ext cx="262440" cy="248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8172360" y="5529600"/>
              <a:ext cx="33120" cy="9216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173800" y="5529600"/>
              <a:ext cx="38520" cy="10548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8173800" y="5528160"/>
              <a:ext cx="47520" cy="1119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191800" y="55281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182800" y="55281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2126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82234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8232120" y="55263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168760" y="5519520"/>
              <a:ext cx="186480" cy="972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8075160" y="5533200"/>
              <a:ext cx="401760" cy="3751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078760" y="5536440"/>
              <a:ext cx="396360" cy="36504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8085960" y="5564880"/>
              <a:ext cx="384120" cy="33156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8157960" y="5501160"/>
              <a:ext cx="403560" cy="299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8154720" y="5496120"/>
              <a:ext cx="401760" cy="30312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8159760" y="5501160"/>
              <a:ext cx="390960" cy="29808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8221680" y="5511240"/>
              <a:ext cx="250200" cy="14724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69200" y="551628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267400" y="551304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196840" y="5650200"/>
              <a:ext cx="288720" cy="14076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8216280" y="56538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10880" y="56790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8207640" y="5703840"/>
              <a:ext cx="262440" cy="7020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04040" y="5729040"/>
              <a:ext cx="260640" cy="6192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8269200" y="5519520"/>
              <a:ext cx="54360" cy="8532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8267400" y="5521320"/>
              <a:ext cx="61560" cy="9720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8267400" y="5523120"/>
              <a:ext cx="70200" cy="10188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281440" y="5528160"/>
              <a:ext cx="77400" cy="1004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8271000" y="552456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8302680" y="55314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8313120" y="55332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320320" y="553464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286840" y="5513040"/>
              <a:ext cx="183240" cy="367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123040" y="5513040"/>
              <a:ext cx="445680" cy="41868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126280" y="5518080"/>
              <a:ext cx="436680" cy="40860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129880" y="5544720"/>
              <a:ext cx="424440" cy="37692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224920" y="5501160"/>
              <a:ext cx="428040" cy="35676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221680" y="5492880"/>
              <a:ext cx="428040" cy="361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224920" y="5497920"/>
              <a:ext cx="417600" cy="35496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316720" y="5516280"/>
              <a:ext cx="255240" cy="18576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360640" y="5528160"/>
              <a:ext cx="213120" cy="17244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8360640" y="5524560"/>
              <a:ext cx="213120" cy="174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8260200" y="5643720"/>
              <a:ext cx="288720" cy="19440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8295480" y="56469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8285040" y="56703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8272800" y="56937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8265600" y="5717520"/>
              <a:ext cx="244800" cy="11700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8364240" y="5538240"/>
              <a:ext cx="73800" cy="73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8358840" y="5541480"/>
              <a:ext cx="84240" cy="820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8358840" y="5544720"/>
              <a:ext cx="93240" cy="853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371440" y="55533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362440" y="55479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390880" y="556164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399520" y="556488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406720" y="556812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404920" y="5526360"/>
              <a:ext cx="168840" cy="752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159760" y="5502960"/>
              <a:ext cx="500400" cy="47232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165160" y="5508000"/>
              <a:ext cx="489600" cy="46260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168760" y="5534640"/>
              <a:ext cx="470160" cy="43056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295480" y="5523120"/>
              <a:ext cx="426240" cy="3985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8292240" y="5516280"/>
              <a:ext cx="429840" cy="40212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8295480" y="5521320"/>
              <a:ext cx="419400" cy="39384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8410320" y="5546520"/>
              <a:ext cx="248400" cy="2160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8448840" y="5568120"/>
              <a:ext cx="211320" cy="1926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8448840" y="5564880"/>
              <a:ext cx="213120" cy="1926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8325720" y="5657040"/>
              <a:ext cx="272880" cy="23436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375040" y="5658840"/>
              <a:ext cx="22032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8358840" y="5679000"/>
              <a:ext cx="218520" cy="17568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341560" y="5699160"/>
              <a:ext cx="21996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330760" y="5718960"/>
              <a:ext cx="213120" cy="16740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454240" y="5581800"/>
              <a:ext cx="89640" cy="56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8448840" y="5585040"/>
              <a:ext cx="100440" cy="6336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447040" y="5590080"/>
              <a:ext cx="109080" cy="669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8456040" y="5603400"/>
              <a:ext cx="11808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8448840" y="559692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8471880" y="5616720"/>
              <a:ext cx="11772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480520" y="5623560"/>
              <a:ext cx="118080" cy="6516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8487720" y="562680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515800" y="5564880"/>
              <a:ext cx="146160" cy="11196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204040" y="5521320"/>
              <a:ext cx="526680" cy="50076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8209080" y="5528160"/>
              <a:ext cx="516240" cy="49104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216280" y="5551560"/>
              <a:ext cx="488160" cy="4590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078760" y="5868360"/>
              <a:ext cx="422640" cy="18252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087760" y="5873400"/>
              <a:ext cx="405000" cy="17244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212680" y="5841360"/>
              <a:ext cx="154800" cy="1472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07876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84600" y="5868360"/>
              <a:ext cx="211320" cy="468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39268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212680" y="5833080"/>
              <a:ext cx="154800" cy="14904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212680" y="5834880"/>
              <a:ext cx="153000" cy="14580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216280" y="5836320"/>
              <a:ext cx="147960" cy="1422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218080" y="5839920"/>
              <a:ext cx="144360" cy="1357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24920" y="5844960"/>
              <a:ext cx="130320" cy="1256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228520" y="5850000"/>
              <a:ext cx="123120" cy="60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265600" y="5884920"/>
              <a:ext cx="47520" cy="450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267400" y="5886720"/>
              <a:ext cx="43920" cy="417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271000" y="5888520"/>
              <a:ext cx="38520" cy="381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8276040" y="5895000"/>
              <a:ext cx="28080" cy="266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389080" y="5828040"/>
              <a:ext cx="96840" cy="34020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450640" y="5828040"/>
              <a:ext cx="350640" cy="38376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720280" y="6191640"/>
              <a:ext cx="81000" cy="60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389080" y="5869800"/>
              <a:ext cx="352440" cy="38196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89080" y="6168240"/>
              <a:ext cx="20880" cy="28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720280" y="6231960"/>
              <a:ext cx="20880" cy="19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397720" y="5891760"/>
              <a:ext cx="334800" cy="35352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410320" y="6190200"/>
              <a:ext cx="309960" cy="6192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389080" y="5869800"/>
              <a:ext cx="87840" cy="720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653320" y="5932080"/>
              <a:ext cx="87840" cy="399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477280" y="5933520"/>
              <a:ext cx="176040" cy="381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737920" y="5891760"/>
              <a:ext cx="63360" cy="3402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829" name=""/>
          <p:cNvGrpSpPr/>
          <p:nvPr/>
        </p:nvGrpSpPr>
        <p:grpSpPr>
          <a:xfrm>
            <a:off x="7242480" y="5993280"/>
            <a:ext cx="1359000" cy="401040"/>
            <a:chOff x="7242480" y="5993280"/>
            <a:chExt cx="1359000" cy="401040"/>
          </a:xfrm>
        </p:grpSpPr>
        <p:sp>
          <p:nvSpPr>
            <p:cNvPr id="2830" name=""/>
            <p:cNvSpPr/>
            <p:nvPr/>
          </p:nvSpPr>
          <p:spPr>
            <a:xfrm>
              <a:off x="7734240" y="612756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228520" y="628164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847280" y="620388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612576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847280" y="612576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739280" y="618192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8228520" y="613656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8322840" y="617832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330760" y="618192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228520" y="613116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847280" y="619812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734240" y="618552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847280" y="621108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849800" y="620388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852320" y="619992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884000" y="620388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999560" y="622368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847280" y="621828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847280" y="619812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852320" y="622728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8215200" y="628164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8215200" y="612936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8467560" y="612576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8467560" y="612756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8467560" y="612756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8470080" y="612576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8470080" y="612576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8478000" y="613656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8475480" y="613836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8472960" y="614016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8470080" y="614196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8412480" y="617292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422920" y="617472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681680" y="599868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188920" y="621468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94720" y="615636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020800" y="599328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791840" y="599868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684200" y="599688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181000" y="605124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283600" y="609120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288640" y="609480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181000" y="604764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789320" y="599508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776360" y="599328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678800" y="615276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794720" y="617292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794720" y="616572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797240" y="615852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802640" y="61527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810200" y="61473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794720" y="618012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789320" y="614196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802640" y="618912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8168040" y="622008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8168040" y="604584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083800" y="599868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091720" y="600048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157240" y="60112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154720" y="60094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157240" y="601128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165160" y="602208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173080" y="60238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183520" y="60256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194320" y="60274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204760" y="60292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352000" y="605484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362440" y="605664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8372880" y="605844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8383320" y="606204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889400" y="604404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894440" y="604404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986600" y="604404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989120" y="604584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073360" y="606924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112600" y="607680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152200" y="608220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186400" y="608760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8220600" y="609300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249400" y="609840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002080" y="604944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025840" y="606564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962840" y="607500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8010000" y="60948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997040" y="61020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981200" y="610920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967880" y="611640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242480" y="607500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760520" y="632160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360920" y="627804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634160" y="606384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360920" y="607104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247880" y="606924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760520" y="611280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860240" y="615456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865640" y="616032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757640" y="610740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358040" y="606564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345080" y="606384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242480" y="627804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60920" y="6300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60920" y="6291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63440" y="6283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71360" y="6274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381800" y="626724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358040" y="631080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358040" y="626184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365960" y="631980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744680" y="633456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744680" y="610560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697160" y="607104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705080" y="607104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773480" y="60822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770960" y="60804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773480" y="608040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778880" y="608940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789320" y="60912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799760" y="60930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813080" y="609480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823520" y="609480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973280" y="611856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983720" y="612216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994520" y="612576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004960" y="612936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71080" y="613116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476480" y="613296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584480" y="613296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587000" y="613476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673760" y="615276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713000" y="615636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752600" y="616212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789320" y="616752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823520" y="617112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855200" y="617472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602840" y="613836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626240" y="615276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557840" y="617292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602840" y="619272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587000" y="62020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571160" y="621108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555320" y="62218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73" name=""/>
          <p:cNvGrpSpPr/>
          <p:nvPr/>
        </p:nvGrpSpPr>
        <p:grpSpPr>
          <a:xfrm>
            <a:off x="8052480" y="5942880"/>
            <a:ext cx="1085400" cy="909720"/>
            <a:chOff x="8052480" y="5942880"/>
            <a:chExt cx="1085400" cy="909720"/>
          </a:xfrm>
        </p:grpSpPr>
        <p:sp>
          <p:nvSpPr>
            <p:cNvPr id="2974" name=""/>
            <p:cNvSpPr/>
            <p:nvPr/>
          </p:nvSpPr>
          <p:spPr>
            <a:xfrm>
              <a:off x="8443080" y="6608160"/>
              <a:ext cx="694800" cy="24444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449200" y="6608160"/>
              <a:ext cx="673560" cy="24444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457480" y="6608160"/>
              <a:ext cx="646560" cy="24444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466120" y="6608160"/>
              <a:ext cx="621360" cy="24444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474400" y="6608160"/>
              <a:ext cx="591840" cy="24444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484840" y="6608160"/>
              <a:ext cx="558360" cy="24444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495640" y="6608160"/>
              <a:ext cx="522360" cy="24444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507880" y="6608160"/>
              <a:ext cx="482760" cy="24444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520480" y="6608160"/>
              <a:ext cx="440640" cy="24444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537400" y="6608160"/>
              <a:ext cx="388080" cy="24444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554320" y="6608160"/>
              <a:ext cx="331560" cy="24444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577360" y="6608160"/>
              <a:ext cx="258120" cy="24444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604720" y="6608160"/>
              <a:ext cx="169920" cy="24444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640360" y="6608160"/>
              <a:ext cx="50040" cy="23616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443080" y="6400800"/>
              <a:ext cx="694800" cy="41220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459640" y="6413400"/>
              <a:ext cx="660960" cy="38952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470440" y="6419520"/>
              <a:ext cx="640080" cy="37692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478720" y="6423480"/>
              <a:ext cx="623160" cy="36648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484840" y="6427800"/>
              <a:ext cx="610560" cy="35820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676000" y="6137640"/>
              <a:ext cx="228600" cy="11592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484840" y="6601680"/>
              <a:ext cx="610560" cy="18216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489160" y="66016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484840" y="65872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489160" y="65872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484840" y="65728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489160" y="65728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484840" y="6560280"/>
              <a:ext cx="610560" cy="17820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489160" y="6560280"/>
              <a:ext cx="602280" cy="17172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484840" y="6545880"/>
              <a:ext cx="610560" cy="17784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489160" y="6545880"/>
              <a:ext cx="602280" cy="16992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484840" y="65332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489160" y="65332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484840" y="65188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489160" y="65188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484840" y="650664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489160" y="6506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484840" y="649188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489160" y="649188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484840" y="6479640"/>
              <a:ext cx="610560" cy="17172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489160" y="6479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484840" y="6467040"/>
              <a:ext cx="610560" cy="16956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489160" y="64670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484840" y="6452640"/>
              <a:ext cx="610560" cy="16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489160" y="64526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484840" y="6440400"/>
              <a:ext cx="610560" cy="16776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489160" y="6440400"/>
              <a:ext cx="602280" cy="16128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484840" y="6427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489160" y="6427800"/>
              <a:ext cx="602280" cy="1594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484840" y="641520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489160" y="64152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484840" y="6400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489160" y="64008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484840" y="638856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489160" y="638856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484840" y="6375960"/>
              <a:ext cx="610560" cy="16164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489160" y="6375960"/>
              <a:ext cx="602280" cy="15516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484840" y="63637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489160" y="63637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484840" y="63511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489160" y="63511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484840" y="63385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489160" y="63385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484840" y="63241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489160" y="63241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484840" y="631368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489160" y="6313680"/>
              <a:ext cx="602280" cy="14904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484840" y="630144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489160" y="63014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484840" y="6288840"/>
              <a:ext cx="610560" cy="15300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489160" y="62888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484840" y="62766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489160" y="62766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484840" y="62640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489160" y="62640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484840" y="62517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489160" y="62517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484840" y="62391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489160" y="62391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484840" y="62265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489160" y="62265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484840" y="621432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489160" y="621432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484840" y="620208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489160" y="620208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484840" y="606096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484840" y="605484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686440" y="6145920"/>
              <a:ext cx="207720" cy="932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489160" y="6057000"/>
              <a:ext cx="602280" cy="27144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720280" y="6239160"/>
              <a:ext cx="47880" cy="867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812440" y="6058800"/>
              <a:ext cx="47880" cy="849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848080" y="6233040"/>
              <a:ext cx="109080" cy="745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623440" y="6075360"/>
              <a:ext cx="109080" cy="763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850240" y="62308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602560" y="60796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858520" y="622872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581680" y="608580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867160" y="6222600"/>
              <a:ext cx="155160" cy="684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558280" y="6094080"/>
              <a:ext cx="155160" cy="66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875440" y="621864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535240" y="610668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881560" y="6212160"/>
              <a:ext cx="184680" cy="51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514360" y="6118920"/>
              <a:ext cx="182520" cy="536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890200" y="6203880"/>
              <a:ext cx="190800" cy="4320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499600" y="6137640"/>
              <a:ext cx="190800" cy="4140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896320" y="6195600"/>
              <a:ext cx="192960" cy="3096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491320" y="6158520"/>
              <a:ext cx="192960" cy="2880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898480" y="6179040"/>
              <a:ext cx="192960" cy="2448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489160" y="6181200"/>
              <a:ext cx="192960" cy="2268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898480" y="6168600"/>
              <a:ext cx="190800" cy="1836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491320" y="6195600"/>
              <a:ext cx="190800" cy="205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850240" y="6079680"/>
              <a:ext cx="121680" cy="72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8608680" y="6230880"/>
              <a:ext cx="121680" cy="7452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8844120" y="607320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8623440" y="623304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8837640" y="606924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8644320" y="623520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8831520" y="6065280"/>
              <a:ext cx="87840" cy="828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8661240" y="6237000"/>
              <a:ext cx="87840" cy="806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8825040" y="606312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8678160" y="623700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8820720" y="6060960"/>
              <a:ext cx="66960" cy="846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8692920" y="6239160"/>
              <a:ext cx="66960" cy="8280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8816760" y="6060960"/>
              <a:ext cx="56520" cy="8460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8707320" y="6239160"/>
              <a:ext cx="56520" cy="849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8503920" y="6063120"/>
              <a:ext cx="572760" cy="25884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8688600" y="6145920"/>
              <a:ext cx="205560" cy="932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8732520" y="6166800"/>
              <a:ext cx="115200" cy="5184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8718120" y="6253560"/>
              <a:ext cx="3780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822880" y="606708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722080" y="625356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820720" y="606708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8726400" y="6253560"/>
              <a:ext cx="35640" cy="64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818560" y="6065280"/>
              <a:ext cx="35640" cy="66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730720" y="625356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816760" y="606528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8862840" y="62452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8640360" y="6081840"/>
              <a:ext cx="77400" cy="558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86500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863172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867160" y="624348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8625600" y="608364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8871120" y="624348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8617320" y="608796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8875440" y="62413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8608680" y="60901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8879760" y="623916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8600400" y="609192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8883720" y="6237000"/>
              <a:ext cx="104760" cy="5148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8592120" y="6096240"/>
              <a:ext cx="104760" cy="4968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885880" y="6237000"/>
              <a:ext cx="110880" cy="4968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8583480" y="6098400"/>
              <a:ext cx="109080" cy="496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8892360" y="6235200"/>
              <a:ext cx="113040" cy="475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575200" y="6102360"/>
              <a:ext cx="115200" cy="4752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8896320" y="6230880"/>
              <a:ext cx="117360" cy="4752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8566920" y="6106680"/>
              <a:ext cx="119520" cy="453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8898480" y="6228720"/>
              <a:ext cx="123840" cy="4320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8558280" y="6112800"/>
              <a:ext cx="121680" cy="4320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8902800" y="62265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8550000" y="61167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907120" y="622260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541720" y="612108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911080" y="622044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535240" y="612936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915400" y="6216480"/>
              <a:ext cx="138600" cy="33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526960" y="6135480"/>
              <a:ext cx="138240" cy="3096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919360" y="621432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520480" y="614196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921520" y="6210360"/>
              <a:ext cx="142560" cy="2448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516520" y="6149880"/>
              <a:ext cx="142560" cy="2484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923680" y="6206040"/>
              <a:ext cx="146880" cy="2052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8512200" y="6156360"/>
              <a:ext cx="144720" cy="2268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925840" y="6202080"/>
              <a:ext cx="146880" cy="1656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507880" y="6164640"/>
              <a:ext cx="144720" cy="1836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928000" y="619776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50608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930160" y="619164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503920" y="6183360"/>
              <a:ext cx="146880" cy="828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930160" y="618336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503920" y="6191640"/>
              <a:ext cx="146880" cy="792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92800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8506080" y="6195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928000" y="6168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507880" y="6199920"/>
              <a:ext cx="144720" cy="1656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871120" y="608796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619480" y="624348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867160" y="6085800"/>
              <a:ext cx="90000" cy="5580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8623440" y="6243480"/>
              <a:ext cx="87840" cy="558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86500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863172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8860680" y="6081840"/>
              <a:ext cx="81720" cy="5580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8638200" y="6245280"/>
              <a:ext cx="81720" cy="579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8856720" y="60796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8646480" y="6247440"/>
              <a:ext cx="75240" cy="5796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8854560" y="6077520"/>
              <a:ext cx="73440" cy="601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652960" y="6247440"/>
              <a:ext cx="73440" cy="597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8850240" y="6075360"/>
              <a:ext cx="71280" cy="597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8659080" y="6247440"/>
              <a:ext cx="71280" cy="619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848080" y="6075360"/>
              <a:ext cx="66960" cy="59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665560" y="6249600"/>
              <a:ext cx="66960" cy="60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8844120" y="6073200"/>
              <a:ext cx="64800" cy="619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671680" y="6249600"/>
              <a:ext cx="62640" cy="619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841960" y="60714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678160" y="62496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839800" y="607140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684280" y="625176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8837640" y="6071400"/>
              <a:ext cx="52200" cy="619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8690760" y="6251760"/>
              <a:ext cx="54360" cy="619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833320" y="6069240"/>
              <a:ext cx="50040" cy="640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694720" y="6251760"/>
              <a:ext cx="52200" cy="640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8831520" y="6069240"/>
              <a:ext cx="48240" cy="619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701200" y="6251760"/>
              <a:ext cx="47880" cy="6408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882936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707320" y="6253560"/>
              <a:ext cx="43920" cy="619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82504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711640" y="625356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056800" y="6214320"/>
              <a:ext cx="537120" cy="600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052480" y="6216480"/>
              <a:ext cx="534960" cy="60300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228880" y="6413400"/>
              <a:ext cx="182520" cy="2070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8054640" y="6220440"/>
              <a:ext cx="528840" cy="5947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398800" y="6568560"/>
              <a:ext cx="146880" cy="10980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092440" y="6357240"/>
              <a:ext cx="148680" cy="10764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403120" y="656244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084160" y="637596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405280" y="6560280"/>
              <a:ext cx="153000" cy="78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082000" y="6394680"/>
              <a:ext cx="153000" cy="806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411400" y="6413400"/>
              <a:ext cx="16164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067240" y="6554160"/>
              <a:ext cx="16128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409240" y="6390360"/>
              <a:ext cx="161280" cy="8892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069400" y="6556320"/>
              <a:ext cx="161280" cy="867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405280" y="6371640"/>
              <a:ext cx="159480" cy="99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075520" y="6562440"/>
              <a:ext cx="159480" cy="101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400960" y="6351120"/>
              <a:ext cx="155160" cy="1137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8084160" y="6570720"/>
              <a:ext cx="155160" cy="1116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396640" y="6332400"/>
              <a:ext cx="149040" cy="1242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094600" y="6576840"/>
              <a:ext cx="149040" cy="1263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392680" y="63136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107200" y="65854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386200" y="6294960"/>
              <a:ext cx="132120" cy="1468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119800" y="6591600"/>
              <a:ext cx="134280" cy="1468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380080" y="627876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136360" y="659772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373600" y="6264000"/>
              <a:ext cx="113040" cy="16776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153280" y="6603840"/>
              <a:ext cx="113040" cy="1656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8367480" y="62517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8172360" y="66081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359200" y="624132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191080" y="661428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350560" y="6230880"/>
              <a:ext cx="75600" cy="1864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214120" y="6618600"/>
              <a:ext cx="75600" cy="18432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342280" y="622476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235360" y="662040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333640" y="6220440"/>
              <a:ext cx="4824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258400" y="6622560"/>
              <a:ext cx="4788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327520" y="6220440"/>
              <a:ext cx="29160" cy="18828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283600" y="6624720"/>
              <a:ext cx="29160" cy="19044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145000" y="629316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380080" y="659340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130240" y="6303240"/>
              <a:ext cx="125640" cy="14292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384040" y="6589440"/>
              <a:ext cx="125640" cy="14076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8115480" y="6320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388360" y="6581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102880" y="6338520"/>
              <a:ext cx="142560" cy="1198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394840" y="6575040"/>
              <a:ext cx="140400" cy="12204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069400" y="6235200"/>
              <a:ext cx="501480" cy="56340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28880" y="6415200"/>
              <a:ext cx="180360" cy="20304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8268840" y="6460920"/>
              <a:ext cx="100440" cy="1116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8422200" y="6587280"/>
              <a:ext cx="109080" cy="784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8109360" y="6367680"/>
              <a:ext cx="109080" cy="8064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424000" y="6583320"/>
              <a:ext cx="11088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105040" y="6373800"/>
              <a:ext cx="11124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426160" y="657900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100720" y="638208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426160" y="6576840"/>
              <a:ext cx="115200" cy="680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8098560" y="6388560"/>
              <a:ext cx="115200" cy="702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8428320" y="6572880"/>
              <a:ext cx="117360" cy="66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094600" y="6396840"/>
              <a:ext cx="117360" cy="64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8430480" y="6570720"/>
              <a:ext cx="115200" cy="60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8092440" y="6402960"/>
              <a:ext cx="117360" cy="601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8436600" y="6421680"/>
              <a:ext cx="123840" cy="4968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8079840" y="6564600"/>
              <a:ext cx="123840" cy="4752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436600" y="6413400"/>
              <a:ext cx="123840" cy="576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079840" y="6564600"/>
              <a:ext cx="123840" cy="558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8434440" y="6405120"/>
              <a:ext cx="121680" cy="6192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8082000" y="6566760"/>
              <a:ext cx="123840" cy="6192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434440" y="6398640"/>
              <a:ext cx="119520" cy="6408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8085960" y="6570720"/>
              <a:ext cx="119520" cy="66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432640" y="639036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088120" y="657504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430480" y="6382080"/>
              <a:ext cx="117360" cy="7236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090280" y="6579000"/>
              <a:ext cx="119520" cy="7236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428320" y="6375960"/>
              <a:ext cx="117360" cy="7452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094600" y="6583320"/>
              <a:ext cx="117360" cy="7632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426160" y="6367680"/>
              <a:ext cx="115200" cy="8064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098560" y="6587280"/>
              <a:ext cx="115200" cy="78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424000" y="6361560"/>
              <a:ext cx="113040" cy="828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100720" y="6589440"/>
              <a:ext cx="115200" cy="8460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422200" y="6353280"/>
              <a:ext cx="110880" cy="867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105040" y="6593400"/>
              <a:ext cx="113040" cy="867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420040" y="6346800"/>
              <a:ext cx="109080" cy="8892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8109360" y="6597720"/>
              <a:ext cx="111240" cy="9108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417880" y="6338520"/>
              <a:ext cx="106920" cy="95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15480" y="6601680"/>
              <a:ext cx="106920" cy="932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415720" y="6332400"/>
              <a:ext cx="104760" cy="9720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19800" y="6603840"/>
              <a:ext cx="104760" cy="99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8413560" y="632412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124120" y="660816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409240" y="6318000"/>
              <a:ext cx="100440" cy="1054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130240" y="6609960"/>
              <a:ext cx="98280" cy="10548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407440" y="6311880"/>
              <a:ext cx="96480" cy="1076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8134560" y="6614280"/>
              <a:ext cx="98280" cy="1076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8405280" y="63054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8140680" y="66186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400960" y="6299280"/>
              <a:ext cx="92160" cy="1137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147160" y="6620400"/>
              <a:ext cx="90000" cy="1137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398800" y="6293160"/>
              <a:ext cx="87840" cy="11808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153280" y="6624720"/>
              <a:ext cx="87840" cy="115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8394840" y="6287040"/>
              <a:ext cx="8568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8159400" y="6626880"/>
              <a:ext cx="8604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392680" y="6282720"/>
              <a:ext cx="81720" cy="12204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165880" y="6628680"/>
              <a:ext cx="81720" cy="1242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388360" y="6276600"/>
              <a:ext cx="77400" cy="1263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8172360" y="6633000"/>
              <a:ext cx="79560" cy="1242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384040" y="6272280"/>
              <a:ext cx="75600" cy="1263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180640" y="6635160"/>
              <a:ext cx="75240" cy="1281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380080" y="62661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186760" y="66369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377920" y="626184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195400" y="663912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373600" y="62578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203680" y="66412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369640" y="6253560"/>
              <a:ext cx="58680" cy="13680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209800" y="6643440"/>
              <a:ext cx="60840" cy="13680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365320" y="6251760"/>
              <a:ext cx="54360" cy="13644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8218440" y="6645240"/>
              <a:ext cx="56520" cy="1386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361000" y="624744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8228880" y="664740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357040" y="6245280"/>
              <a:ext cx="46080" cy="1407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235360" y="6649560"/>
              <a:ext cx="47880" cy="14076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352720" y="6243480"/>
              <a:ext cx="41760" cy="14076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245800" y="6649560"/>
              <a:ext cx="41760" cy="14292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348400" y="623916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254080" y="665172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344440" y="6239160"/>
              <a:ext cx="33480" cy="14292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262360" y="6651720"/>
              <a:ext cx="33480" cy="14472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8340120" y="623700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271000" y="665352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335800" y="6235200"/>
              <a:ext cx="23040" cy="14472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279280" y="6653520"/>
              <a:ext cx="25200" cy="144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8331840" y="623520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289720" y="665352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327520" y="6235200"/>
              <a:ext cx="14400" cy="14472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298360" y="6655680"/>
              <a:ext cx="12240" cy="14292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159400" y="6305400"/>
              <a:ext cx="83880" cy="1098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396640" y="6618600"/>
              <a:ext cx="83880" cy="11160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153280" y="6309720"/>
              <a:ext cx="87840" cy="10764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398800" y="6616440"/>
              <a:ext cx="87840" cy="1098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147160" y="6315840"/>
              <a:ext cx="90000" cy="10548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400960" y="6612120"/>
              <a:ext cx="92160" cy="10764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140680" y="6321960"/>
              <a:ext cx="94320" cy="10152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405280" y="6609960"/>
              <a:ext cx="94320" cy="10332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36360" y="6328440"/>
              <a:ext cx="96480" cy="99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407440" y="6606000"/>
              <a:ext cx="96480" cy="10152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130240" y="6334560"/>
              <a:ext cx="100440" cy="9720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409240" y="6603840"/>
              <a:ext cx="98280" cy="972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125920" y="63406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411400" y="65998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121960" y="6346800"/>
              <a:ext cx="102600" cy="9108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415720" y="6597720"/>
              <a:ext cx="102600" cy="88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17640" y="635328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417880" y="659340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113320" y="6361560"/>
              <a:ext cx="106920" cy="8280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420040" y="6589440"/>
              <a:ext cx="106920" cy="8460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741160" y="617904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741160" y="5959440"/>
              <a:ext cx="98640" cy="25668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749440" y="5959440"/>
              <a:ext cx="86040" cy="25272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757720" y="5959440"/>
              <a:ext cx="75240" cy="25272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766360" y="5959440"/>
              <a:ext cx="62640" cy="25272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776800" y="5959440"/>
              <a:ext cx="46080" cy="25272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789400" y="5959440"/>
              <a:ext cx="29160" cy="25272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804160" y="5959440"/>
              <a:ext cx="8280" cy="25056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759880" y="5957280"/>
              <a:ext cx="3960" cy="25056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778960" y="5957280"/>
              <a:ext cx="1800" cy="2545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825040" y="5957280"/>
              <a:ext cx="1800" cy="24840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741160" y="594288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745120" y="5942880"/>
              <a:ext cx="90000" cy="309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751600" y="5945040"/>
              <a:ext cx="79560" cy="266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757720" y="5946840"/>
              <a:ext cx="64800" cy="226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772480" y="5953320"/>
              <a:ext cx="35640" cy="1008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62" name=""/>
          <p:cNvGrpSpPr/>
          <p:nvPr/>
        </p:nvGrpSpPr>
        <p:grpSpPr>
          <a:xfrm>
            <a:off x="6347160" y="5759640"/>
            <a:ext cx="1583640" cy="790200"/>
            <a:chOff x="6347160" y="5759640"/>
            <a:chExt cx="1583640" cy="790200"/>
          </a:xfrm>
        </p:grpSpPr>
        <p:sp>
          <p:nvSpPr>
            <p:cNvPr id="3363" name=""/>
            <p:cNvSpPr/>
            <p:nvPr/>
          </p:nvSpPr>
          <p:spPr>
            <a:xfrm>
              <a:off x="6347160" y="577800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347160" y="577296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347160" y="575964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347160" y="5759640"/>
              <a:ext cx="1583640" cy="76932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420240" y="5783400"/>
              <a:ext cx="1411560" cy="68760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454080" y="5799240"/>
              <a:ext cx="1338840" cy="6508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805880" y="588348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790040" y="58914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777080" y="58968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764120" y="590472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751160" y="590976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738200" y="591804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722360" y="59230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709400" y="59310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696440" y="59364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680960" y="594432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667640" y="59518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652160" y="59572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639200" y="59652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623360" y="5973120"/>
              <a:ext cx="8820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610400" y="5978520"/>
              <a:ext cx="8568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594920" y="598644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579080" y="5994360"/>
              <a:ext cx="8856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566120" y="60022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550640" y="600732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34800" y="601524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519320" y="602316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503840" y="60310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490520" y="6039000"/>
              <a:ext cx="8604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475040" y="6044400"/>
              <a:ext cx="85680" cy="471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459560" y="605232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443720" y="60602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28240" y="60681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412400" y="607608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394040" y="60836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378560" y="609192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363080" y="609948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347240" y="61077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329240" y="611532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313400" y="61232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297920" y="6131160"/>
              <a:ext cx="88200" cy="49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279560" y="614160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261560" y="6149880"/>
              <a:ext cx="91080" cy="4716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245720" y="61574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227720" y="6165720"/>
              <a:ext cx="91080" cy="496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211880" y="617328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193520" y="6181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175520" y="619200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159680" y="619992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141680" y="620784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123320" y="621828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105320" y="6226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086960" y="623412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068600" y="624456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050600" y="625248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032240" y="626292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011360" y="62708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993000" y="62816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975000" y="628920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956640" y="630000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935760" y="63079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917760" y="6318360"/>
              <a:ext cx="8820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896880" y="632628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6876000" y="63367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857640" y="63471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6836760" y="63579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815880" y="6365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795000" y="637632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774480" y="63867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753600" y="63975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732720" y="640800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711840" y="641844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690960" y="6428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537680" y="5778000"/>
              <a:ext cx="252360" cy="14220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529760" y="5767560"/>
              <a:ext cx="270720" cy="1447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532280" y="5759640"/>
              <a:ext cx="260280" cy="1393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534800" y="5759640"/>
              <a:ext cx="249840" cy="1317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537680" y="5759640"/>
              <a:ext cx="241920" cy="123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5322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5376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542720" y="5820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548120" y="582300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555680" y="5828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561080" y="582840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568640" y="58334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571520" y="58359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5790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75844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6024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6078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628760" y="58676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631280" y="587052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639200" y="5873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64424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652160" y="588096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657200" y="588348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662600" y="5886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667640" y="5888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675560" y="5893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680960" y="589680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414920" y="5830920"/>
              <a:ext cx="257760" cy="1447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404480" y="581760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407360" y="5812560"/>
              <a:ext cx="268200" cy="14220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412400" y="5809680"/>
              <a:ext cx="255240" cy="13680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414920" y="5809680"/>
              <a:ext cx="247320" cy="12888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407360" y="58676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412400" y="58705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42032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42536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433280" y="588096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435800" y="5883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443720" y="5888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449120" y="5891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456680" y="5893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462080" y="58968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4800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4854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506360" y="592308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50888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516800" y="59284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521840" y="59310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52976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534800" y="5938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54020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54524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553160" y="5949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558200" y="5951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7287480" y="5886360"/>
              <a:ext cx="262800" cy="1501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277040" y="5873040"/>
              <a:ext cx="283680" cy="1551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82440" y="5865120"/>
              <a:ext cx="270720" cy="1501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284960" y="5865120"/>
              <a:ext cx="260280" cy="13968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287480" y="5862600"/>
              <a:ext cx="252360" cy="13428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279560" y="59230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28496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29288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29792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30584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310880" y="59389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31628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32132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329240" y="5951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334280" y="5954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352640" y="5965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357680" y="5967720"/>
              <a:ext cx="18000" cy="3420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3785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3839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391520" y="5986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39692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401960" y="5994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407360" y="5996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4149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4203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428240" y="6007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43328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154640" y="5941440"/>
              <a:ext cx="270720" cy="1551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146720" y="5928480"/>
              <a:ext cx="289080" cy="16056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149240" y="5920560"/>
              <a:ext cx="278640" cy="1526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154640" y="5918040"/>
              <a:ext cx="265680" cy="14724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157160" y="5918040"/>
              <a:ext cx="257760" cy="13932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14924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154640" y="5983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162560" y="59864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16760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173000" y="5994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178040" y="5996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185960" y="6002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191000" y="60048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19892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03960" y="60127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222320" y="6023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227720" y="6025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4824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25364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26156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6660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274520" y="6052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277040" y="605484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84960" y="6060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290000" y="60627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297920" y="6068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302960" y="6070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019280" y="5999400"/>
              <a:ext cx="276120" cy="15804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011360" y="5986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013880" y="597600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019280" y="5976000"/>
              <a:ext cx="273240" cy="1501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024320" y="5973120"/>
              <a:ext cx="262800" cy="14472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01388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01928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026840" y="60469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032240" y="6049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04016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04520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050600" y="6060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055640" y="6062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063560" y="6068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068600" y="6070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089480" y="6083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094880" y="6086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112880" y="60994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118280" y="610236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125840" y="6107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131240" y="6110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13916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144200" y="6118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15212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1571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165080" y="6128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1701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878520" y="6060240"/>
              <a:ext cx="281160" cy="16344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870600" y="6044400"/>
              <a:ext cx="302040" cy="17100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6876000" y="603396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878520" y="6033960"/>
              <a:ext cx="281160" cy="1551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883920" y="6033960"/>
              <a:ext cx="270720" cy="14724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873480" y="6099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878520" y="6102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886440" y="6107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891480" y="61102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89940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904440" y="61182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9123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917760" y="61261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69253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930720" y="6134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948720" y="61470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954120" y="6149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975000" y="61628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980040" y="6162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987960" y="61682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993000" y="61707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000920" y="6176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7006320" y="6178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013880" y="61840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019280" y="61866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7024320" y="6192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32240" y="61945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735240" y="6120720"/>
              <a:ext cx="286200" cy="16848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724800" y="6104880"/>
              <a:ext cx="309600" cy="1789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730200" y="6094440"/>
              <a:ext cx="29916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735240" y="6096960"/>
              <a:ext cx="286200" cy="15804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740280" y="609444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727320" y="61628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735240" y="61628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740280" y="6170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748200" y="6173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753600" y="61786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758640" y="61812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766560" y="61866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771600" y="618912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779520" y="61945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84920" y="61970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805440" y="62103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810840" y="62128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831720" y="62262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83676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844680" y="623412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85008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857640" y="624204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863040" y="62445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6870600" y="624996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876000" y="62524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883920" y="625788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888960" y="626040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584040" y="6184080"/>
              <a:ext cx="294120" cy="1738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76480" y="6168240"/>
              <a:ext cx="315000" cy="18432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581520" y="6157440"/>
              <a:ext cx="304560" cy="1764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584040" y="6157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589440" y="615492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579000" y="62262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58404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591960" y="62341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59736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604920" y="62445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610320" y="62470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618240" y="6252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623280" y="6255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631200" y="62604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636240" y="62629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657120" y="62762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62520" y="6278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68304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68844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69636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701400" y="63050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709320" y="63104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714360" y="63129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722280" y="63183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727320" y="6320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735240" y="63262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740280" y="63288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427800" y="6249960"/>
              <a:ext cx="302040" cy="18180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420240" y="6234120"/>
              <a:ext cx="322920" cy="18972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425280" y="6223680"/>
              <a:ext cx="312480" cy="18144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430680" y="6223680"/>
              <a:ext cx="29952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435720" y="622080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42276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42780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43572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441120" y="63050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448680" y="631044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454080" y="63129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461640" y="63208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469560" y="6323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474960" y="6328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482520" y="63316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500880" y="63471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508800" y="63500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529320" y="63630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534720" y="6365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542640" y="637092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547680" y="6373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55600" y="63817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560640" y="6384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568560" y="63896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573600" y="63921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581520" y="639756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6586920" y="64000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79" name=""/>
          <p:cNvGrpSpPr/>
          <p:nvPr/>
        </p:nvGrpSpPr>
        <p:grpSpPr>
          <a:xfrm>
            <a:off x="7293600" y="4413960"/>
            <a:ext cx="1256760" cy="1078920"/>
            <a:chOff x="7293600" y="4413960"/>
            <a:chExt cx="1256760" cy="1078920"/>
          </a:xfrm>
        </p:grpSpPr>
        <p:sp>
          <p:nvSpPr>
            <p:cNvPr id="3680" name=""/>
            <p:cNvSpPr/>
            <p:nvPr/>
          </p:nvSpPr>
          <p:spPr>
            <a:xfrm>
              <a:off x="7814160" y="4413960"/>
              <a:ext cx="736200" cy="64476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824240" y="4420800"/>
              <a:ext cx="708480" cy="62100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893720" y="4479840"/>
              <a:ext cx="582480" cy="51300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883640" y="4464720"/>
              <a:ext cx="583920" cy="51120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886520" y="4464720"/>
              <a:ext cx="578520" cy="50688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889400" y="4464720"/>
              <a:ext cx="572400" cy="5029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7896600" y="4467240"/>
              <a:ext cx="558000" cy="48888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7374960" y="5269680"/>
              <a:ext cx="18720" cy="1209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8183520" y="5327280"/>
              <a:ext cx="14400" cy="13320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8137080" y="532440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8091000" y="532044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8044560" y="5319000"/>
              <a:ext cx="14400" cy="12888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998120" y="5314680"/>
              <a:ext cx="129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951680" y="531216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903800" y="530748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857360" y="5303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7809840" y="530064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7763400" y="529632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714080" y="5292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666200" y="529092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7616880" y="528660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569360" y="528228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520040" y="5279760"/>
              <a:ext cx="1980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471800" y="52754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422480" y="5271480"/>
              <a:ext cx="2016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8274960" y="524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8280720" y="52783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346160" y="5299200"/>
              <a:ext cx="18720" cy="12060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7393680" y="53006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7443000" y="530496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490880" y="5309280"/>
              <a:ext cx="16920" cy="1234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539840" y="531216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588080" y="531612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637400" y="532044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684920" y="5323320"/>
              <a:ext cx="1476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731720" y="5327280"/>
              <a:ext cx="16920" cy="12636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779240" y="5331600"/>
              <a:ext cx="1440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828560" y="5333040"/>
              <a:ext cx="1116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7875000" y="5337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922880" y="534132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969320" y="5344200"/>
              <a:ext cx="111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8015760" y="5348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8061840" y="534996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8108280" y="535428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8151840" y="5357160"/>
              <a:ext cx="1584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8263440" y="52614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8249040" y="528228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8234640" y="5304960"/>
              <a:ext cx="15480" cy="1346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8217000" y="533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8197920" y="5361120"/>
              <a:ext cx="15840" cy="13176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8266320" y="5296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8253360" y="531900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8235720" y="5341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219880" y="5366880"/>
              <a:ext cx="7200" cy="939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8202600" y="539784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7350120" y="5331600"/>
              <a:ext cx="10080" cy="8424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8156160" y="53935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8109720" y="5389200"/>
              <a:ext cx="57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8063280" y="5386320"/>
              <a:ext cx="57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8018640" y="5382360"/>
              <a:ext cx="39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7972200" y="537804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7925400" y="5375160"/>
              <a:ext cx="4320" cy="925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7879320" y="5371200"/>
              <a:ext cx="2880" cy="925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7831440" y="536688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785000" y="536544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735680" y="5361120"/>
              <a:ext cx="7200" cy="8856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7687800" y="5357160"/>
              <a:ext cx="7200" cy="8820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641360" y="535248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7592040" y="5349960"/>
              <a:ext cx="7200" cy="8676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7544520" y="534564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495200" y="534132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447320" y="5340240"/>
              <a:ext cx="7200" cy="8388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398000" y="5335920"/>
              <a:ext cx="10080" cy="838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315560" y="4967640"/>
              <a:ext cx="1078200" cy="42732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93600" y="4939560"/>
              <a:ext cx="1121760" cy="44388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293600" y="4915440"/>
              <a:ext cx="1121760" cy="4453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315560" y="4919760"/>
              <a:ext cx="1078200" cy="42552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443000" y="4955040"/>
              <a:ext cx="881280" cy="34524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440120" y="4946400"/>
              <a:ext cx="876960" cy="34416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7444440" y="4947840"/>
              <a:ext cx="869760" cy="3387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451640" y="4947840"/>
              <a:ext cx="858240" cy="33444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466400" y="4947840"/>
              <a:ext cx="833040" cy="3276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2" name=""/>
            <p:cNvSpPr txBox="1"/>
            <p:nvPr/>
          </p:nvSpPr>
          <p:spPr>
            <a:xfrm>
              <a:off x="8030160" y="4664160"/>
              <a:ext cx="262080" cy="10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3763" name=""/>
            <p:cNvSpPr txBox="1"/>
            <p:nvPr/>
          </p:nvSpPr>
          <p:spPr>
            <a:xfrm rot="271200">
              <a:off x="7750080" y="5064480"/>
              <a:ext cx="28980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8488440" y="-360"/>
            <a:ext cx="655560" cy="635040"/>
            <a:chOff x="8488440" y="-360"/>
            <a:chExt cx="655560" cy="635040"/>
          </a:xfrm>
        </p:grpSpPr>
        <p:sp>
          <p:nvSpPr>
            <p:cNvPr id="3765" name=""/>
            <p:cNvSpPr/>
            <p:nvPr/>
          </p:nvSpPr>
          <p:spPr>
            <a:xfrm>
              <a:off x="8488440" y="50724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8753040" y="19836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H="1" flipV="1">
              <a:off x="8531640" y="-36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8755200" y="2059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 flipV="1">
              <a:off x="8520120" y="432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indent="341280" algn="ctr">
              <a:lnSpc>
                <a:spcPct val="140000"/>
              </a:lnSpc>
              <a:spcBef>
                <a:spcPts val="649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3" marL="1371600" indent="426960" algn="ctr">
              <a:lnSpc>
                <a:spcPct val="140000"/>
              </a:lnSpc>
              <a:spcBef>
                <a:spcPts val="550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eb"/>
              </a:solidFill>
              <a:latin typeface="Arial"/>
            </a:endParaRPr>
          </a:p>
          <a:p>
            <a:pPr lvl="4" marL="1828800" indent="588960" algn="ctr">
              <a:spcBef>
                <a:spcPts val="499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5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6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ubTitle"/>
          </p:nvPr>
        </p:nvSpPr>
        <p:spPr>
          <a:xfrm>
            <a:off x="1089000" y="5045040"/>
            <a:ext cx="6507360" cy="944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pt-BR" sz="1900" spc="-1" strike="noStrike">
                <a:solidFill>
                  <a:srgbClr val="ffff66"/>
                </a:solidFill>
                <a:latin typeface="Arial"/>
              </a:rPr>
              <a:t>Prof.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66"/>
                </a:solidFill>
                <a:latin typeface="Tahoma"/>
              </a:rPr>
              <a:t>Joseana Macêdo Fechine</a:t>
            </a:r>
            <a:endParaRPr b="1" lang="en-US" sz="19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>
                <a:solidFill>
                  <a:srgbClr val="ffffe7"/>
                </a:solidFill>
                <a:latin typeface="Tahoma"/>
              </a:rPr>
              <a:t>joseana@dsc.ufcg.edu.br</a:t>
            </a: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401760" y="2225520"/>
            <a:ext cx="8224560" cy="213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Penguin"/>
              </a:rPr>
              <a:t>Organização e Arquitetura de Computadores I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Penguin"/>
              </a:rPr>
              <a:t> </a:t>
            </a:r>
            <a:r>
              <a:rPr b="1" lang="en-US" sz="3600" spc="-1" strike="noStrike">
                <a:solidFill>
                  <a:srgbClr val="eaeaea"/>
                </a:solidFill>
                <a:latin typeface="Penguin"/>
              </a:rPr>
              <a:t>Organização básica de computadores (Seminários)</a:t>
            </a:r>
            <a:r>
              <a:rPr b="1" lang="en-US" sz="4000" spc="-1" strike="noStrike">
                <a:solidFill>
                  <a:srgbClr val="ffff99"/>
                </a:solidFill>
                <a:latin typeface="Pengui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2925720" y="622764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66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1104840" y="399960"/>
            <a:ext cx="718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/>
          </p:nvPr>
        </p:nvSpPr>
        <p:spPr>
          <a:xfrm>
            <a:off x="-360" y="1161720"/>
            <a:ext cx="8915400" cy="5181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Seminários: </a:t>
            </a: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Descrever o funcionamento dos seguintes dispositivos de E/S/Armazenamento (apresentação oral e escrita em equipe)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522720" indent="-347040" algn="just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Teclado, Mouse e Modem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 – (Equipe: Rodrigo, Thiago Santana, Danilo e Alan)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22720" indent="-347040" algn="just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Impressora 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- (Equipe: Tássio, Vinícius, Paulo e Diego)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22720" indent="-347040" algn="just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Scanner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 - (Equipe: André, Cícero, Gabriel e Anderson)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22720" indent="-347040" algn="just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Monitor, Tela Sensível ao Toque e Datashow -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 (Equipe: Fabrício, Klevson e Alexandre)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22720" indent="-347040" algn="just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Dispositivos de armazenamento magnético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 (Disco rígido e disquete) – (Equipe: Edigley, Clerton, Elismael e Thiago Lucas)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22720" indent="-347040" algn="just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Dispositivos de armazenamento óptico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 (CD e DVD) – (Equipe: carlos, Tomás, Tiago e Erick)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22720" indent="-347040" algn="just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Câmera Digital e </a:t>
            </a:r>
            <a:r>
              <a:rPr b="1" i="1" lang="pt-BR" sz="2200" spc="-1" strike="noStrike">
                <a:solidFill>
                  <a:srgbClr val="ffffc5"/>
                </a:solidFill>
                <a:latin typeface="Arial"/>
              </a:rPr>
              <a:t>Webcam 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- (Equipe: Neto, Théo, Hugo e João)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522720" indent="-347040" algn="just">
              <a:lnSpc>
                <a:spcPct val="8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S</a:t>
            </a:r>
            <a:r>
              <a:rPr b="1" i="1" lang="pt-BR" sz="2200" spc="-1" strike="noStrike">
                <a:solidFill>
                  <a:srgbClr val="ffffc5"/>
                </a:solidFill>
                <a:latin typeface="Arial"/>
              </a:rPr>
              <a:t>mart card</a:t>
            </a:r>
            <a:r>
              <a:rPr b="1" lang="pt-BR" sz="2200" spc="-1" strike="noStrike">
                <a:solidFill>
                  <a:srgbClr val="ffffc5"/>
                </a:solidFill>
                <a:latin typeface="Arial"/>
              </a:rPr>
              <a:t> e similares</a:t>
            </a:r>
            <a:r>
              <a:rPr b="1" lang="pt-BR" sz="2200" spc="-1" strike="noStrike">
                <a:solidFill>
                  <a:srgbClr val="ffffdf"/>
                </a:solidFill>
                <a:latin typeface="Arial"/>
              </a:rPr>
              <a:t> – (Equipe: José Gildo, Giovanni, Francisco e Álvaro)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A3A3-9C37-455C-9D0B-97454C6CA2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/>
          </p:nvPr>
        </p:nvSpPr>
        <p:spPr>
          <a:xfrm>
            <a:off x="247320" y="1276200"/>
            <a:ext cx="8667720" cy="51818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Arial"/>
              </a:rPr>
              <a:t>Descrição Geral dos Seminários</a:t>
            </a: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71680" indent="-57168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quipe</a:t>
            </a: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: 4 alunos (máximo)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716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66"/>
              </a:solidFill>
              <a:latin typeface="Arial"/>
            </a:endParaRPr>
          </a:p>
          <a:p>
            <a:pPr marL="571680" indent="-57168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Duração</a:t>
            </a: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: 20 minutos (incluindo 5 minutos para argüição)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716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66"/>
              </a:solidFill>
              <a:latin typeface="Arial"/>
            </a:endParaRPr>
          </a:p>
          <a:p>
            <a:pPr marL="571680" indent="-57168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Documentos que deverão ser entregues (na forma eletrônica)</a:t>
            </a: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1162080" indent="-533520" algn="just">
              <a:spcBef>
                <a:spcPts val="55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f"/>
                </a:solidFill>
                <a:latin typeface="Arial"/>
              </a:rPr>
              <a:t>Material da apresentação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1162080" indent="-533520" algn="just">
              <a:spcBef>
                <a:spcPts val="55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f"/>
                </a:solidFill>
                <a:latin typeface="Arial"/>
              </a:rPr>
              <a:t>Relatório (incluindo capa, seções de Introdução, Desenvolvimento dos Tópicos, Considerações Finais e Referências Bibliográficas)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5716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66"/>
              </a:solidFill>
              <a:latin typeface="Arial"/>
            </a:endParaRPr>
          </a:p>
          <a:p>
            <a:pPr marL="571680" indent="-57168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Nota máxima para a atividade (individual)</a:t>
            </a: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: 2 ponto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FD1F-0BFF-4908-BFE1-F7ED6BA03E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joseana</cp:lastModifiedBy>
  <dcterms:modified xsi:type="dcterms:W3CDTF">2006-09-10T17:19:51Z</dcterms:modified>
  <cp:revision>1077</cp:revision>
  <dc:subject/>
  <dc:title>Org. e Arq. de Computadores I</dc:title>
</cp:coreProperties>
</file>