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CA74-E109-4F85-A512-7645626AD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727D8-AF3F-4AF0-8B65-6C06AF096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7920-649A-409E-93D3-175BED719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D792-1DFC-496A-82D9-84CCA5542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C3772-10A4-4758-AB60-E3E4B38B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505B4D-2A89-4AA6-88DE-12B0C53D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E9463-E5F5-493C-82B2-4980A429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2CA8E5-9874-42A9-92BD-20A7B36E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1154BD-9EFB-4AFD-BFD8-6844813E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E34BA-A32E-4406-944A-E584BE3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B3B914-A96E-4EA7-8E7A-34A291AD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5DFA-BC38-45E8-8BD3-D5CF865D4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30594-605A-4F98-95B6-B4157C58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98D14-7E11-47F1-96DA-EEB5975B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55CED3-C09C-4194-9F6F-1333D9EF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3B1AAE-7FDA-47AB-A797-4671E6D1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6B3AB-CF22-4677-BF8A-7CB48C20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6F0F-FE19-475C-B55D-95D61E791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8D64-C5B8-475F-A967-A10B17F7D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EE911-91A7-4F5B-AFB7-4DC491B03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D5D4D-7EE5-4222-BF1C-7DD371A41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E5C4-ACE1-412A-947A-A8D875BE7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72ED-5BA0-456B-B0CA-6685E38F2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9E9D-3ED3-4745-B9CB-086D11DD8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51425" t="20795" r="18500" b="50994"/>
          <a:stretch/>
        </p:blipFill>
        <p:spPr>
          <a:xfrm>
            <a:off x="-42840" y="0"/>
            <a:ext cx="11588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B120-A677-425B-B664-130DA38148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51425" t="20795" r="18500" b="50994"/>
          <a:stretch/>
        </p:blipFill>
        <p:spPr>
          <a:xfrm>
            <a:off x="-42840" y="0"/>
            <a:ext cx="1735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CD3C-424E-4F21-89B1-3239B2820D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home.comcast.net/~fbui/intel.html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Nível ISA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Verdana"/>
              </a:rPr>
              <a:t>(Parte II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31640" y="90756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Codificação da palavra de contro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1187280" y="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7097760" cy="4143240"/>
          </a:xfrm>
          <a:prstGeom prst="rect">
            <a:avLst/>
          </a:prstGeom>
          <a:ln w="0">
            <a:noFill/>
          </a:ln>
        </p:spPr>
      </p:pic>
      <p:grpSp>
        <p:nvGrpSpPr>
          <p:cNvPr id="264" name=""/>
          <p:cNvGrpSpPr/>
          <p:nvPr/>
        </p:nvGrpSpPr>
        <p:grpSpPr>
          <a:xfrm>
            <a:off x="2700360" y="5843520"/>
            <a:ext cx="4824000" cy="1042200"/>
            <a:chOff x="2700360" y="5843520"/>
            <a:chExt cx="4824000" cy="1042200"/>
          </a:xfrm>
        </p:grpSpPr>
        <p:sp>
          <p:nvSpPr>
            <p:cNvPr id="265" name=""/>
            <p:cNvSpPr/>
            <p:nvPr/>
          </p:nvSpPr>
          <p:spPr>
            <a:xfrm>
              <a:off x="4518720" y="671724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00360" y="608148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64680" y="6248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88880" y="62481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99160" y="6248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82160" y="62481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13240" y="6183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312520" y="637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6720" y="62481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0324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784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1280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120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9600" y="60717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79680" y="60717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26120" y="61830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25400" y="63748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304760" y="6183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285320" y="63748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122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894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8140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7084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5776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30280" y="5843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1548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5344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0724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622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006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393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7560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143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5276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7440" y="584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3D20-C78C-42F2-8D5B-A844EC7508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331640" y="692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Simból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774200" cy="28544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1187280" y="44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700360" y="5300640"/>
            <a:ext cx="4824000" cy="1042200"/>
            <a:chOff x="2700360" y="5300640"/>
            <a:chExt cx="4824000" cy="1042200"/>
          </a:xfrm>
        </p:grpSpPr>
        <p:sp>
          <p:nvSpPr>
            <p:cNvPr id="304" name=""/>
            <p:cNvSpPr/>
            <p:nvPr/>
          </p:nvSpPr>
          <p:spPr>
            <a:xfrm>
              <a:off x="4518720" y="617436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700360" y="553860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64680" y="5705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88880" y="57052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99160" y="57052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82160" y="570528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13240" y="56401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312520" y="583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56720" y="570528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0324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0784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21280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5120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9600" y="552888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79680" y="552888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26120" y="564012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025400" y="58320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04760" y="56401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85320" y="583200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122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894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8140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7084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5776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130280" y="5300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1548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5344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724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3622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006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0393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7560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143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5276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27440" y="53006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922D4-882A-496D-80FD-3C22AD40AB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1403280" y="69228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Path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 Exemplos de Microoperaçõ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Representação em Bin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7667640" cy="30099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2627280" y="5373720"/>
            <a:ext cx="4824000" cy="1042200"/>
            <a:chOff x="2627280" y="5373720"/>
            <a:chExt cx="4824000" cy="1042200"/>
          </a:xfrm>
        </p:grpSpPr>
        <p:sp>
          <p:nvSpPr>
            <p:cNvPr id="342" name=""/>
            <p:cNvSpPr/>
            <p:nvPr/>
          </p:nvSpPr>
          <p:spPr>
            <a:xfrm>
              <a:off x="4445640" y="6247440"/>
              <a:ext cx="21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27280" y="5611680"/>
              <a:ext cx="4824000" cy="526680"/>
            </a:xfrm>
            <a:custGeom>
              <a:avLst/>
              <a:gdLst/>
              <a:ahLst/>
              <a:rect l="l" t="t" r="r" b="b"/>
              <a:pathLst>
                <a:path w="1966" h="228">
                  <a:moveTo>
                    <a:pt x="0" y="0"/>
                  </a:moveTo>
                  <a:lnTo>
                    <a:pt x="1966" y="0"/>
                  </a:lnTo>
                  <a:lnTo>
                    <a:pt x="1966" y="228"/>
                  </a:lnTo>
                  <a:lnTo>
                    <a:pt x="0" y="2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991600" y="5778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15800" y="577836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26080" y="5778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09080" y="5778360"/>
              <a:ext cx="29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40160" y="571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39440" y="590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83640" y="5778360"/>
              <a:ext cx="25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016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3476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972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7812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6520" y="5601960"/>
              <a:ext cx="252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06600" y="5601960"/>
              <a:ext cx="2160" cy="54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3040" y="5713200"/>
              <a:ext cx="169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52320" y="590508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31680" y="571320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12240" y="59050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91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163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832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9776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8468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57200" y="537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4240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8036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993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891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275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9662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0252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412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97968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54360" y="53737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187280" y="44280"/>
            <a:ext cx="777240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É importante lembrar que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9625-7BAD-4A13-9CED-CC63617A1F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258920" y="1712880"/>
            <a:ext cx="7705800" cy="49910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948360" y="549360"/>
            <a:ext cx="1944720" cy="5806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uponha R4=70 e R5=80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028000" y="1268280"/>
            <a:ext cx="144360" cy="216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8CDAD-088C-476E-943A-CC1003CE5AA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2050920" y="2880"/>
            <a:ext cx="6828120" cy="6647400"/>
            <a:chOff x="2050920" y="2880"/>
            <a:chExt cx="6828120" cy="6647400"/>
          </a:xfrm>
        </p:grpSpPr>
        <p:grpSp>
          <p:nvGrpSpPr>
            <p:cNvPr id="383" name=""/>
            <p:cNvGrpSpPr/>
            <p:nvPr/>
          </p:nvGrpSpPr>
          <p:grpSpPr>
            <a:xfrm>
              <a:off x="2050920" y="2880"/>
              <a:ext cx="6828120" cy="6647400"/>
              <a:chOff x="2050920" y="2880"/>
              <a:chExt cx="6828120" cy="6647400"/>
            </a:xfrm>
          </p:grpSpPr>
          <p:sp>
            <p:nvSpPr>
              <p:cNvPr id="384" name=""/>
              <p:cNvSpPr/>
              <p:nvPr/>
            </p:nvSpPr>
            <p:spPr>
              <a:xfrm>
                <a:off x="2050920" y="5760"/>
                <a:ext cx="2814120" cy="4401360"/>
              </a:xfrm>
              <a:prstGeom prst="rect">
                <a:avLst/>
              </a:prstGeom>
              <a:solidFill>
                <a:srgbClr val="e2f4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65040" y="2880"/>
                <a:ext cx="2601000" cy="6645240"/>
              </a:xfrm>
              <a:custGeom>
                <a:avLst/>
                <a:gdLst/>
                <a:ahLst/>
                <a:rect l="l" t="t" r="r" b="b"/>
                <a:pathLst>
                  <a:path w="1644" h="4200">
                    <a:moveTo>
                      <a:pt x="0" y="2"/>
                    </a:moveTo>
                    <a:lnTo>
                      <a:pt x="1644" y="0"/>
                    </a:lnTo>
                    <a:lnTo>
                      <a:pt x="1644" y="4200"/>
                    </a:lnTo>
                    <a:lnTo>
                      <a:pt x="0" y="4200"/>
                    </a:lnTo>
                    <a:lnTo>
                      <a:pt x="0" y="27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7e7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619680" y="2176560"/>
                <a:ext cx="0" cy="529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90880" y="2681280"/>
                <a:ext cx="60120" cy="9828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240160" y="2378880"/>
                <a:ext cx="1198800" cy="327240"/>
              </a:xfrm>
              <a:custGeom>
                <a:avLst/>
                <a:gdLst/>
                <a:ahLst/>
                <a:rect l="l" t="t" r="r" b="b"/>
                <a:pathLst>
                  <a:path w="758" h="207">
                    <a:moveTo>
                      <a:pt x="0" y="0"/>
                    </a:moveTo>
                    <a:lnTo>
                      <a:pt x="758" y="0"/>
                    </a:lnTo>
                    <a:lnTo>
                      <a:pt x="758" y="20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407640" y="2681280"/>
                <a:ext cx="63000" cy="982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8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25840" y="2176560"/>
                <a:ext cx="0" cy="176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194160" y="391212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426640" y="1331640"/>
                <a:ext cx="1303560" cy="5119920"/>
              </a:xfrm>
              <a:custGeom>
                <a:avLst/>
                <a:gdLst/>
                <a:ahLst/>
                <a:rect l="l" t="t" r="r" b="b"/>
                <a:pathLst>
                  <a:path w="824" h="3236">
                    <a:moveTo>
                      <a:pt x="824" y="3169"/>
                    </a:moveTo>
                    <a:lnTo>
                      <a:pt x="824" y="3236"/>
                    </a:lnTo>
                    <a:lnTo>
                      <a:pt x="2" y="3236"/>
                    </a:lnTo>
                    <a:lnTo>
                      <a:pt x="0" y="0"/>
                    </a:lnTo>
                    <a:lnTo>
                      <a:pt x="640" y="0"/>
                    </a:lnTo>
                    <a:lnTo>
                      <a:pt x="640" y="9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407640" y="1459800"/>
                <a:ext cx="63000" cy="98280"/>
              </a:xfrm>
              <a:custGeom>
                <a:avLst/>
                <a:gdLst/>
                <a:ahLst/>
                <a:rect l="l" t="t" r="r" b="b"/>
                <a:pathLst>
                  <a:path w="20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8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537600" y="3091320"/>
                <a:ext cx="1391760" cy="849600"/>
              </a:xfrm>
              <a:custGeom>
                <a:avLst/>
                <a:gdLst/>
                <a:ahLst/>
                <a:rect l="l" t="t" r="r" b="b"/>
                <a:pathLst>
                  <a:path w="880" h="537">
                    <a:moveTo>
                      <a:pt x="0" y="0"/>
                    </a:moveTo>
                    <a:lnTo>
                      <a:pt x="0" y="387"/>
                    </a:lnTo>
                    <a:lnTo>
                      <a:pt x="880" y="387"/>
                    </a:lnTo>
                    <a:lnTo>
                      <a:pt x="880" y="537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898040" y="391212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404880" y="119520"/>
                <a:ext cx="5159160" cy="3821040"/>
              </a:xfrm>
              <a:custGeom>
                <a:avLst/>
                <a:gdLst/>
                <a:ahLst/>
                <a:rect l="l" t="t" r="r" b="b"/>
                <a:pathLst>
                  <a:path w="3261" h="2415">
                    <a:moveTo>
                      <a:pt x="3261" y="2415"/>
                    </a:moveTo>
                    <a:lnTo>
                      <a:pt x="3261" y="2074"/>
                    </a:lnTo>
                    <a:lnTo>
                      <a:pt x="1783" y="2074"/>
                    </a:lnTo>
                    <a:lnTo>
                      <a:pt x="1238" y="2074"/>
                    </a:lnTo>
                    <a:lnTo>
                      <a:pt x="1238" y="0"/>
                    </a:lnTo>
                    <a:lnTo>
                      <a:pt x="0" y="0"/>
                    </a:lnTo>
                    <a:lnTo>
                      <a:pt x="0" y="21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32360" y="391212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373200" y="43164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51680" y="3703320"/>
                <a:ext cx="0" cy="237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019640" y="391212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635520" y="5241240"/>
                <a:ext cx="0" cy="68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603840" y="589968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809400" y="5029560"/>
                <a:ext cx="1475640" cy="894960"/>
              </a:xfrm>
              <a:custGeom>
                <a:avLst/>
                <a:gdLst/>
                <a:ahLst/>
                <a:rect l="l" t="t" r="r" b="b"/>
                <a:pathLst>
                  <a:path w="933" h="566">
                    <a:moveTo>
                      <a:pt x="933" y="0"/>
                    </a:moveTo>
                    <a:lnTo>
                      <a:pt x="933" y="387"/>
                    </a:lnTo>
                    <a:lnTo>
                      <a:pt x="0" y="387"/>
                    </a:lnTo>
                    <a:lnTo>
                      <a:pt x="0" y="56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778080" y="589968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7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244720" y="3801600"/>
                <a:ext cx="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219160" y="3921840"/>
                <a:ext cx="53640" cy="9144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0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22640" y="3417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3440" y="341712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635520" y="3417120"/>
                <a:ext cx="40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469280" y="3211560"/>
                <a:ext cx="863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408440" y="352296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142480" y="3633840"/>
                <a:ext cx="28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56040" y="5445360"/>
                <a:ext cx="511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330240" y="2779560"/>
                <a:ext cx="592920" cy="355680"/>
              </a:xfrm>
              <a:custGeom>
                <a:avLst/>
                <a:gdLst/>
                <a:ahLst/>
                <a:rect l="l" t="t" r="r" b="b"/>
                <a:pathLst>
                  <a:path w="375" h="225">
                    <a:moveTo>
                      <a:pt x="0" y="0"/>
                    </a:moveTo>
                    <a:lnTo>
                      <a:pt x="375" y="0"/>
                    </a:lnTo>
                    <a:lnTo>
                      <a:pt x="375" y="225"/>
                    </a:lnTo>
                    <a:lnTo>
                      <a:pt x="0" y="22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391800" y="2962800"/>
                <a:ext cx="47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UX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446160" y="27810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27960" y="27795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461640" y="6000840"/>
                <a:ext cx="624960" cy="351000"/>
              </a:xfrm>
              <a:custGeom>
                <a:avLst/>
                <a:gdLst/>
                <a:ahLst/>
                <a:rect l="l" t="t" r="r" b="b"/>
                <a:pathLst>
                  <a:path w="395" h="222">
                    <a:moveTo>
                      <a:pt x="0" y="0"/>
                    </a:moveTo>
                    <a:lnTo>
                      <a:pt x="395" y="0"/>
                    </a:lnTo>
                    <a:lnTo>
                      <a:pt x="395" y="222"/>
                    </a:lnTo>
                    <a:lnTo>
                      <a:pt x="0" y="22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529320" y="6176520"/>
                <a:ext cx="49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UX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635880" y="60087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810120" y="600876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45680" y="1659240"/>
                <a:ext cx="13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959800" y="1633680"/>
                <a:ext cx="918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8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9" y="6"/>
                      <a:pt x="24" y="7"/>
                      <a:pt x="29" y="8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17600" y="1827000"/>
                <a:ext cx="16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953320" y="1795320"/>
                <a:ext cx="98280" cy="6300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5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8"/>
                      <a:pt x="26" y="9"/>
                      <a:pt x="31" y="10"/>
                    </a:cubicBezTo>
                    <a:cubicBezTo>
                      <a:pt x="26" y="11"/>
                      <a:pt x="21" y="12"/>
                      <a:pt x="15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686200" y="4195440"/>
                <a:ext cx="273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31720" y="416700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7" y="8"/>
                      <a:pt x="32" y="9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752440" y="440748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686200" y="437904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1"/>
                      <a:pt x="29" y="1"/>
                      <a:pt x="29" y="1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H="1">
                <a:off x="5752440" y="461952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86200" y="459108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H="1">
                <a:off x="5752440" y="483336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686200" y="4804560"/>
                <a:ext cx="918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3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8"/>
                      <a:pt x="28" y="18"/>
                      <a:pt x="28" y="18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8"/>
                      <a:pt x="9" y="7"/>
                      <a:pt x="14" y="6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5752440" y="5045400"/>
                <a:ext cx="28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86200" y="5016600"/>
                <a:ext cx="918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3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8" y="17"/>
                      <a:pt x="28" y="17"/>
                      <a:pt x="28" y="17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9" y="11"/>
                      <a:pt x="5" y="10"/>
                      <a:pt x="0" y="9"/>
                    </a:cubicBezTo>
                    <a:cubicBezTo>
                      <a:pt x="5" y="7"/>
                      <a:pt x="9" y="6"/>
                      <a:pt x="14" y="5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17600" y="2056320"/>
                <a:ext cx="161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953320" y="202788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1" y="9"/>
                    </a:cubicBezTo>
                    <a:cubicBezTo>
                      <a:pt x="26" y="10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51040" y="6190560"/>
                <a:ext cx="1375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58680" y="6158880"/>
                <a:ext cx="1029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21" y="8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4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593760" y="6467400"/>
                <a:ext cx="29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913080" y="64674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042320" y="64674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117920" y="64674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234560" y="6467400"/>
                <a:ext cx="19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66680" y="15642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671800" y="156420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66680" y="173484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85840" y="17348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71000" y="1962720"/>
                <a:ext cx="19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37520" y="2399760"/>
                <a:ext cx="646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onst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00080" y="2568960"/>
                <a:ext cx="135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113960" y="196776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215840" y="19677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6901200" y="2056320"/>
                <a:ext cx="140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828480" y="202788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6" y="9"/>
                    </a:moveTo>
                    <a:cubicBezTo>
                      <a:pt x="32" y="19"/>
                      <a:pt x="32" y="19"/>
                      <a:pt x="32" y="19"/>
                    </a:cubicBezTo>
                    <a:cubicBezTo>
                      <a:pt x="31" y="19"/>
                      <a:pt x="31" y="19"/>
                      <a:pt x="31" y="19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1" y="12"/>
                      <a:pt x="5" y="10"/>
                      <a:pt x="0" y="9"/>
                    </a:cubicBezTo>
                    <a:cubicBezTo>
                      <a:pt x="5" y="8"/>
                      <a:pt x="11" y="7"/>
                      <a:pt x="16" y="6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0"/>
                      <a:pt x="32" y="0"/>
                      <a:pt x="32" y="0"/>
                    </a:cubicBezTo>
                    <a:lnTo>
                      <a:pt x="2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179840" y="2880720"/>
                <a:ext cx="238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7000920" y="2966040"/>
                <a:ext cx="113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923160" y="2934360"/>
                <a:ext cx="1029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6" y="10"/>
                    </a:moveTo>
                    <a:cubicBezTo>
                      <a:pt x="32" y="19"/>
                      <a:pt x="32" y="19"/>
                      <a:pt x="32" y="19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1" y="12"/>
                      <a:pt x="6" y="11"/>
                      <a:pt x="0" y="10"/>
                    </a:cubicBezTo>
                    <a:cubicBezTo>
                      <a:pt x="6" y="9"/>
                      <a:pt x="11" y="8"/>
                      <a:pt x="16" y="6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43280" y="4100400"/>
                <a:ext cx="1638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76400" y="431388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85400" y="452592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568840" y="4737960"/>
                <a:ext cx="11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591520" y="494712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032880" y="4013280"/>
                <a:ext cx="1230840" cy="1221480"/>
              </a:xfrm>
              <a:custGeom>
                <a:avLst/>
                <a:gdLst/>
                <a:ahLst/>
                <a:rect l="l" t="t" r="r" b="b"/>
                <a:pathLst>
                  <a:path w="778" h="772">
                    <a:moveTo>
                      <a:pt x="0" y="0"/>
                    </a:moveTo>
                    <a:lnTo>
                      <a:pt x="778" y="0"/>
                    </a:lnTo>
                    <a:lnTo>
                      <a:pt x="778" y="772"/>
                    </a:lnTo>
                    <a:lnTo>
                      <a:pt x="0" y="77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3d4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454080" y="4461120"/>
                <a:ext cx="623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530400" y="4635000"/>
                <a:ext cx="284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uni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188400" y="402948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027920" y="402948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627600" y="506412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967360" y="6116400"/>
                <a:ext cx="250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498280" y="6260040"/>
                <a:ext cx="418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us 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68000" y="2388600"/>
                <a:ext cx="453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R(2: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51960" y="1558080"/>
                <a:ext cx="773280" cy="618480"/>
              </a:xfrm>
              <a:custGeom>
                <a:avLst/>
                <a:gdLst/>
                <a:ahLst/>
                <a:rect l="l" t="t" r="r" b="b"/>
                <a:pathLst>
                  <a:path w="489" h="391">
                    <a:moveTo>
                      <a:pt x="0" y="0"/>
                    </a:moveTo>
                    <a:lnTo>
                      <a:pt x="489" y="0"/>
                    </a:lnTo>
                    <a:lnTo>
                      <a:pt x="489" y="391"/>
                    </a:lnTo>
                    <a:lnTo>
                      <a:pt x="0" y="39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651080" y="4013280"/>
                <a:ext cx="1221120" cy="1015920"/>
              </a:xfrm>
              <a:custGeom>
                <a:avLst/>
                <a:gdLst/>
                <a:ahLst/>
                <a:rect l="l" t="t" r="r" b="b"/>
                <a:pathLst>
                  <a:path w="772" h="642">
                    <a:moveTo>
                      <a:pt x="0" y="0"/>
                    </a:moveTo>
                    <a:lnTo>
                      <a:pt x="772" y="0"/>
                    </a:lnTo>
                    <a:lnTo>
                      <a:pt x="772" y="642"/>
                    </a:lnTo>
                    <a:lnTo>
                      <a:pt x="0" y="6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722000" y="4029480"/>
                <a:ext cx="511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297640" y="4029480"/>
                <a:ext cx="58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179200" y="4359960"/>
                <a:ext cx="337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992720" y="4530600"/>
                <a:ext cx="60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004960" y="4850280"/>
                <a:ext cx="619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ata o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406920" y="157068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79760" y="1741320"/>
                <a:ext cx="590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egis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65520" y="1912320"/>
                <a:ext cx="21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i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03160" y="199296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620400" y="19915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55000" y="744840"/>
                <a:ext cx="0" cy="324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523680" y="104076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51760" y="1954800"/>
                <a:ext cx="0" cy="55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523680" y="2485080"/>
                <a:ext cx="60120" cy="9792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551760" y="2378880"/>
                <a:ext cx="985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509000" y="2347560"/>
                <a:ext cx="101160" cy="6300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8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43828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09840" y="370980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66940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37720" y="370980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89692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868480" y="3709800"/>
                <a:ext cx="615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36060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28920" y="3709800"/>
                <a:ext cx="5976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58992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561480" y="3719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2104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92600" y="371916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4892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20480" y="3719160"/>
                <a:ext cx="5832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155040" y="1141920"/>
                <a:ext cx="801720" cy="812880"/>
              </a:xfrm>
              <a:custGeom>
                <a:avLst/>
                <a:gdLst/>
                <a:ahLst/>
                <a:rect l="l" t="t" r="r" b="b"/>
                <a:pathLst>
                  <a:path w="507" h="514">
                    <a:moveTo>
                      <a:pt x="0" y="0"/>
                    </a:moveTo>
                    <a:lnTo>
                      <a:pt x="507" y="0"/>
                    </a:lnTo>
                    <a:lnTo>
                      <a:pt x="507" y="514"/>
                    </a:lnTo>
                    <a:lnTo>
                      <a:pt x="0" y="5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d3d4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181320" y="1395000"/>
                <a:ext cx="786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287880" y="1567440"/>
                <a:ext cx="605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287520" y="1145160"/>
                <a:ext cx="5814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ddr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210840" y="1763640"/>
                <a:ext cx="786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610160" y="2261880"/>
                <a:ext cx="630000" cy="235440"/>
              </a:xfrm>
              <a:custGeom>
                <a:avLst/>
                <a:gdLst/>
                <a:ahLst/>
                <a:rect l="l" t="t" r="r" b="b"/>
                <a:pathLst>
                  <a:path w="398" h="149">
                    <a:moveTo>
                      <a:pt x="0" y="0"/>
                    </a:moveTo>
                    <a:lnTo>
                      <a:pt x="398" y="0"/>
                    </a:lnTo>
                    <a:lnTo>
                      <a:pt x="398" y="149"/>
                    </a:lnTo>
                    <a:lnTo>
                      <a:pt x="0" y="14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64520" y="2285640"/>
                <a:ext cx="538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ero fi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06600" y="382680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09480" y="39740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47440" y="382680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640240" y="397404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869920" y="38268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869920" y="3972600"/>
                <a:ext cx="98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3352320" y="382680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359160" y="3974040"/>
                <a:ext cx="84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54420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557520" y="3974040"/>
                <a:ext cx="111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800160" y="382680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3780000" y="397404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0428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10400" y="3974040"/>
                <a:ext cx="14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3555000" y="330120"/>
                <a:ext cx="720000" cy="2048400"/>
              </a:xfrm>
              <a:custGeom>
                <a:avLst/>
                <a:gdLst/>
                <a:ahLst/>
                <a:rect l="l" t="t" r="r" b="b"/>
                <a:pathLst>
                  <a:path w="455" h="1295">
                    <a:moveTo>
                      <a:pt x="455" y="1295"/>
                    </a:moveTo>
                    <a:lnTo>
                      <a:pt x="455" y="0"/>
                    </a:lnTo>
                    <a:lnTo>
                      <a:pt x="0" y="0"/>
                    </a:lnTo>
                    <a:lnTo>
                      <a:pt x="0" y="8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523680" y="434520"/>
                <a:ext cx="60120" cy="10116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923920" y="630720"/>
                <a:ext cx="138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37680" y="602280"/>
                <a:ext cx="10116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2" y="9"/>
                    </a:cubicBezTo>
                    <a:cubicBezTo>
                      <a:pt x="26" y="10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900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483800" y="371916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0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129480" y="2956680"/>
                <a:ext cx="0" cy="78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01400" y="3719160"/>
                <a:ext cx="5652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082680" y="3826800"/>
                <a:ext cx="139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108240" y="397404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325960" y="2583000"/>
                <a:ext cx="2491560" cy="373320"/>
              </a:xfrm>
              <a:custGeom>
                <a:avLst/>
                <a:gdLst/>
                <a:ahLst/>
                <a:rect l="l" t="t" r="r" b="b"/>
                <a:pathLst>
                  <a:path w="1575" h="236">
                    <a:moveTo>
                      <a:pt x="147" y="0"/>
                    </a:moveTo>
                    <a:lnTo>
                      <a:pt x="1575" y="0"/>
                    </a:lnTo>
                    <a:lnTo>
                      <a:pt x="1575" y="236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952360" y="2675160"/>
                <a:ext cx="1415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nstruction deco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527360" y="382680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89200" y="397404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631320" y="214920"/>
                <a:ext cx="577080" cy="204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696840" y="230400"/>
                <a:ext cx="496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Ext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4281120" y="2956680"/>
                <a:ext cx="2880" cy="78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253040" y="371916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264200" y="397404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270680" y="382680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41560" y="2956680"/>
                <a:ext cx="0" cy="78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09880" y="3709800"/>
                <a:ext cx="6336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719960" y="382680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640" y="397404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374920" y="304920"/>
                <a:ext cx="583560" cy="659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443320" y="466200"/>
                <a:ext cx="509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ranc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18480" y="63720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ontr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215080" y="39672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281320" y="36792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15080" y="72252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281320" y="694080"/>
                <a:ext cx="9360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9" y="6"/>
                      <a:pt x="24" y="7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7"/>
                      <a:pt x="0" y="17"/>
                      <a:pt x="0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215080" y="55476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281320" y="52632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215080" y="87264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281320" y="844560"/>
                <a:ext cx="9360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5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9" y="7"/>
                      <a:pt x="24" y="8"/>
                      <a:pt x="29" y="9"/>
                    </a:cubicBezTo>
                    <a:cubicBezTo>
                      <a:pt x="24" y="10"/>
                      <a:pt x="19" y="11"/>
                      <a:pt x="14" y="12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103840" y="30024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106360" y="46152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089080" y="629280"/>
                <a:ext cx="116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104560" y="779400"/>
                <a:ext cx="8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2466720" y="1030680"/>
                <a:ext cx="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438280" y="964800"/>
                <a:ext cx="56880" cy="9180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2618640" y="1030680"/>
                <a:ext cx="0" cy="14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589840" y="964800"/>
                <a:ext cx="53640" cy="918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5" y="15"/>
                      <a:pt x="5" y="15"/>
                      <a:pt x="5" y="15"/>
                    </a:cubicBezTo>
                    <a:cubicBezTo>
                      <a:pt x="6" y="10"/>
                      <a:pt x="7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7" y="29"/>
                      <a:pt x="17" y="29"/>
                      <a:pt x="17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2767320" y="1037160"/>
                <a:ext cx="0" cy="135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35640" y="964800"/>
                <a:ext cx="63000" cy="10116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26"/>
                    </a:moveTo>
                    <a:cubicBezTo>
                      <a:pt x="1" y="32"/>
                      <a:pt x="1" y="32"/>
                      <a:pt x="1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7" y="16"/>
                      <a:pt x="7" y="16"/>
                      <a:pt x="7" y="16"/>
                    </a:cubicBezTo>
                    <a:cubicBezTo>
                      <a:pt x="8" y="11"/>
                      <a:pt x="9" y="5"/>
                      <a:pt x="10" y="0"/>
                    </a:cubicBezTo>
                    <a:cubicBezTo>
                      <a:pt x="11" y="5"/>
                      <a:pt x="13" y="11"/>
                      <a:pt x="14" y="16"/>
                    </a:cubicBezTo>
                    <a:cubicBezTo>
                      <a:pt x="20" y="31"/>
                      <a:pt x="20" y="31"/>
                      <a:pt x="20" y="31"/>
                    </a:cubicBezTo>
                    <a:cubicBezTo>
                      <a:pt x="20" y="32"/>
                      <a:pt x="20" y="32"/>
                      <a:pt x="20" y="32"/>
                    </a:cubicBezTo>
                    <a:lnTo>
                      <a:pt x="1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40240" y="1190880"/>
                <a:ext cx="41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J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96320" y="133488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449440" y="1334880"/>
                <a:ext cx="79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455920" y="1192320"/>
                <a:ext cx="93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7160" y="1192320"/>
                <a:ext cx="9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751840" y="1334880"/>
                <a:ext cx="96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236480" y="138600"/>
                <a:ext cx="1152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IR(8:6) || IR(2: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38840" y="532800"/>
                <a:ext cx="830880" cy="212040"/>
              </a:xfrm>
              <a:prstGeom prst="rect">
                <a:avLst/>
              </a:prstGeom>
              <a:solidFill>
                <a:srgbClr val="c7eafb"/>
              </a:solidFill>
              <a:ln w="19080">
                <a:solidFill>
                  <a:srgbClr val="00ade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508560" y="542160"/>
                <a:ext cx="18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Ten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081680" y="421452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CO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537080" y="4214520"/>
                <a:ext cx="9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49040" y="4214520"/>
                <a:ext cx="198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adef"/>
                    </a:solidFill>
                    <a:latin typeface="TimesTen"/>
                  </a:rPr>
                  <a:t>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197040" y="3372840"/>
                <a:ext cx="56880" cy="56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"/>
            <p:cNvSpPr/>
            <p:nvPr/>
          </p:nvSpPr>
          <p:spPr>
            <a:xfrm>
              <a:off x="5454720" y="490320"/>
              <a:ext cx="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J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80640" y="490320"/>
              <a:ext cx="33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u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10760" y="490320"/>
              <a:ext cx="58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Ten"/>
                </a:rPr>
                <a:t>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1332000" y="5013360"/>
            <a:ext cx="31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agrama em blocos de um computador com um Único Ciclo (S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BD756-22EF-483F-9AE3-C8DDD60468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rcRect l="0" t="4719" r="0" b="0"/>
          <a:stretch/>
        </p:blipFill>
        <p:spPr>
          <a:xfrm>
            <a:off x="1187280" y="2205000"/>
            <a:ext cx="7851960" cy="43578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332000" y="1700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abela-verdade do decodificador de i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91F7C-3C72-4420-A776-0E9ED652103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1332000" y="191628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s de 6 Instruções do 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187280" y="2550960"/>
            <a:ext cx="7956720" cy="34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5A7F-FE28-4005-B3D6-98725C6A61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1258920" y="1916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DI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701880" y="1700280"/>
            <a:ext cx="4973400" cy="4910760"/>
            <a:chOff x="3701880" y="1700280"/>
            <a:chExt cx="4973400" cy="4910760"/>
          </a:xfrm>
        </p:grpSpPr>
        <p:grpSp>
          <p:nvGrpSpPr>
            <p:cNvPr id="597" name=""/>
            <p:cNvGrpSpPr/>
            <p:nvPr/>
          </p:nvGrpSpPr>
          <p:grpSpPr>
            <a:xfrm>
              <a:off x="3701880" y="1700280"/>
              <a:ext cx="4973400" cy="4910760"/>
              <a:chOff x="3701880" y="1700280"/>
              <a:chExt cx="4973400" cy="4910760"/>
            </a:xfrm>
          </p:grpSpPr>
          <p:sp>
            <p:nvSpPr>
              <p:cNvPr id="598" name=""/>
              <p:cNvSpPr/>
              <p:nvPr/>
            </p:nvSpPr>
            <p:spPr>
              <a:xfrm>
                <a:off x="5882760" y="188100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587640" y="188100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290720" y="188100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262120" y="242568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4657320" y="242568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001400" y="242568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2998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9287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55732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04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58584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93540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28280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6305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981560" y="563544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328960" y="563544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54160" y="242568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988880" y="242568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246280" y="242568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533560" y="242568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731920" y="242568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365160" y="310680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48040" y="351144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7457400" y="523404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6454080" y="523404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08200" y="377640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71440" y="390528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760800" y="364176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19160" y="407664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979680" y="407664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33240" y="242568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668720" y="489240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367040" y="462276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496760" y="242568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316280" y="489240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549560" y="390528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549560" y="390528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16200" y="489240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7805160" y="523368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068600" y="427356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08080" y="427356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779960" y="535932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525800" y="388116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083000" y="375120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736680" y="361476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41400" y="308268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646240" y="388116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341480" y="459900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421040" y="407664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508160" y="427356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4120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97188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3668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901680" y="60894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455720" y="56624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587840" y="56624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650840" y="56624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511160" y="608796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08896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2196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28444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54120" y="608940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638320" y="56642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596920" y="608940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1484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2118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2784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68960" y="608940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7262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644880" y="608940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08012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01640" y="608940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42320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30320" y="608940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76268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714080" y="608940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1836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075880" y="608940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040" y="5664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411760" y="608940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676120" y="170028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984120" y="188100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742640" y="200160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130440" y="20066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844320" y="200664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558560" y="200664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05360" y="639756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701880" y="563544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6844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41756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6668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91760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16528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416200" y="224604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699160" y="22478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13404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19920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26256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83748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90228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967440" y="22431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54056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0572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70880" y="22446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096440" y="179244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  0  0   0   0  1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68480" y="5811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97824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34160" y="5811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1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06720" y="5802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5432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330680" y="5792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006760" y="578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49840" y="578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9403-7454-4B78-8103-FF6A72091D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"/>
          <p:cNvGrpSpPr/>
          <p:nvPr/>
        </p:nvGrpSpPr>
        <p:grpSpPr>
          <a:xfrm>
            <a:off x="1187280" y="196920"/>
            <a:ext cx="6889320" cy="6661800"/>
            <a:chOff x="1187280" y="196920"/>
            <a:chExt cx="6889320" cy="6661800"/>
          </a:xfrm>
        </p:grpSpPr>
        <p:sp>
          <p:nvSpPr>
            <p:cNvPr id="712" name=""/>
            <p:cNvSpPr/>
            <p:nvPr/>
          </p:nvSpPr>
          <p:spPr>
            <a:xfrm>
              <a:off x="1187280" y="200160"/>
              <a:ext cx="2816280" cy="4403520"/>
            </a:xfrm>
            <a:prstGeom prst="rect">
              <a:avLst/>
            </a:prstGeom>
            <a:solidFill>
              <a:srgbClr val="e5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003560" y="196920"/>
              <a:ext cx="2606400" cy="6648480"/>
            </a:xfrm>
            <a:custGeom>
              <a:avLst/>
              <a:gdLst/>
              <a:ahLst/>
              <a:rect l="l" t="t" r="r" b="b"/>
              <a:pathLst>
                <a:path w="1642" h="4188">
                  <a:moveTo>
                    <a:pt x="0" y="2"/>
                  </a:moveTo>
                  <a:lnTo>
                    <a:pt x="1642" y="0"/>
                  </a:lnTo>
                  <a:lnTo>
                    <a:pt x="1642" y="4188"/>
                  </a:lnTo>
                  <a:lnTo>
                    <a:pt x="0" y="4188"/>
                  </a:lnTo>
                  <a:lnTo>
                    <a:pt x="0" y="27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59280" y="2371680"/>
              <a:ext cx="1440" cy="53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730480" y="2876400"/>
              <a:ext cx="6048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77960" y="2575080"/>
              <a:ext cx="1200240" cy="326880"/>
            </a:xfrm>
            <a:custGeom>
              <a:avLst/>
              <a:gdLst/>
              <a:ahLst/>
              <a:rect l="l" t="t" r="r" b="b"/>
              <a:pathLst>
                <a:path w="756" h="206">
                  <a:moveTo>
                    <a:pt x="0" y="0"/>
                  </a:moveTo>
                  <a:lnTo>
                    <a:pt x="756" y="0"/>
                  </a:lnTo>
                  <a:lnTo>
                    <a:pt x="756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549760" y="2876400"/>
              <a:ext cx="6012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65440" y="2371680"/>
              <a:ext cx="1800" cy="17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337000" y="410832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566960" y="1530360"/>
              <a:ext cx="1306440" cy="5124600"/>
            </a:xfrm>
            <a:custGeom>
              <a:avLst/>
              <a:gdLst/>
              <a:ahLst/>
              <a:rect l="l" t="t" r="r" b="b"/>
              <a:pathLst>
                <a:path w="823" h="3228">
                  <a:moveTo>
                    <a:pt x="823" y="3158"/>
                  </a:moveTo>
                  <a:lnTo>
                    <a:pt x="823" y="3224"/>
                  </a:lnTo>
                  <a:lnTo>
                    <a:pt x="0" y="3228"/>
                  </a:lnTo>
                  <a:lnTo>
                    <a:pt x="0" y="0"/>
                  </a:lnTo>
                  <a:lnTo>
                    <a:pt x="637" y="0"/>
                  </a:lnTo>
                  <a:lnTo>
                    <a:pt x="637" y="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549760" y="16509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0" y="27"/>
                    <a:pt x="9" y="32"/>
                  </a:cubicBezTo>
                  <a:cubicBezTo>
                    <a:pt x="8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676840" y="3286080"/>
              <a:ext cx="1393560" cy="851040"/>
            </a:xfrm>
            <a:custGeom>
              <a:avLst/>
              <a:gdLst/>
              <a:ahLst/>
              <a:rect l="l" t="t" r="r" b="b"/>
              <a:pathLst>
                <a:path w="878" h="536">
                  <a:moveTo>
                    <a:pt x="0" y="0"/>
                  </a:moveTo>
                  <a:lnTo>
                    <a:pt x="0" y="386"/>
                  </a:lnTo>
                  <a:lnTo>
                    <a:pt x="878" y="386"/>
                  </a:lnTo>
                  <a:lnTo>
                    <a:pt x="878" y="5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38720" y="410832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43040" y="311040"/>
              <a:ext cx="5162400" cy="3826080"/>
            </a:xfrm>
            <a:custGeom>
              <a:avLst/>
              <a:gdLst/>
              <a:ahLst/>
              <a:rect l="l" t="t" r="r" b="b"/>
              <a:pathLst>
                <a:path w="3252" h="2410">
                  <a:moveTo>
                    <a:pt x="3252" y="2410"/>
                  </a:moveTo>
                  <a:lnTo>
                    <a:pt x="3252" y="2070"/>
                  </a:lnTo>
                  <a:lnTo>
                    <a:pt x="1778" y="2070"/>
                  </a:lnTo>
                  <a:lnTo>
                    <a:pt x="1234" y="2070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2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677000" y="410832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11360" y="62532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190920" y="3898800"/>
              <a:ext cx="180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62480" y="410832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775120" y="5435640"/>
              <a:ext cx="144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46680" y="6095880"/>
              <a:ext cx="6012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2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49720" y="5226120"/>
              <a:ext cx="1476360" cy="895320"/>
            </a:xfrm>
            <a:custGeom>
              <a:avLst/>
              <a:gdLst/>
              <a:ahLst/>
              <a:rect l="l" t="t" r="r" b="b"/>
              <a:pathLst>
                <a:path w="930" h="564">
                  <a:moveTo>
                    <a:pt x="930" y="0"/>
                  </a:moveTo>
                  <a:lnTo>
                    <a:pt x="930" y="386"/>
                  </a:lnTo>
                  <a:lnTo>
                    <a:pt x="0" y="386"/>
                  </a:lnTo>
                  <a:lnTo>
                    <a:pt x="0" y="5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918040" y="6095880"/>
              <a:ext cx="63360" cy="10188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5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2" y="21"/>
                    <a:pt x="11" y="26"/>
                    <a:pt x="10" y="32"/>
                  </a:cubicBezTo>
                  <a:cubicBezTo>
                    <a:pt x="9" y="26"/>
                    <a:pt x="8" y="21"/>
                    <a:pt x="7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87920" y="399744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59480" y="41180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947840" y="360828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724000" y="360828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03480" y="3400560"/>
              <a:ext cx="9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36160" y="371160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38520" y="382284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52440" y="563724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73440" y="2975040"/>
              <a:ext cx="593640" cy="355680"/>
            </a:xfrm>
            <a:custGeom>
              <a:avLst/>
              <a:gdLst/>
              <a:ahLst/>
              <a:rect l="l" t="t" r="r" b="b"/>
              <a:pathLst>
                <a:path w="374" h="224">
                  <a:moveTo>
                    <a:pt x="0" y="0"/>
                  </a:moveTo>
                  <a:lnTo>
                    <a:pt x="374" y="0"/>
                  </a:lnTo>
                  <a:lnTo>
                    <a:pt x="374" y="224"/>
                  </a:lnTo>
                  <a:lnTo>
                    <a:pt x="0" y="2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99720" y="315108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547240" y="29718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29760" y="29703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600520" y="6197760"/>
              <a:ext cx="62856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0"/>
                  </a:moveTo>
                  <a:lnTo>
                    <a:pt x="396" y="0"/>
                  </a:lnTo>
                  <a:lnTo>
                    <a:pt x="396" y="222"/>
                  </a:lnTo>
                  <a:lnTo>
                    <a:pt x="0" y="222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639400" y="636588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44160" y="6199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918760" y="61992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984560" y="185436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98680" y="182880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5" y="7"/>
                    <a:pt x="29" y="8"/>
                  </a:cubicBezTo>
                  <a:cubicBezTo>
                    <a:pt x="25" y="9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56120" y="2022480"/>
              <a:ext cx="16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092560" y="19908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825800" y="4390920"/>
              <a:ext cx="2728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73480" y="4362480"/>
              <a:ext cx="98280" cy="6012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1" y="7"/>
                    <a:pt x="26" y="8"/>
                    <a:pt x="31" y="9"/>
                  </a:cubicBezTo>
                  <a:cubicBezTo>
                    <a:pt x="26" y="11"/>
                    <a:pt x="21" y="12"/>
                    <a:pt x="15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892400" y="460368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825800" y="457524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9" y="1"/>
                    <a:pt x="29" y="1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4892400" y="481644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25800" y="4788000"/>
              <a:ext cx="92160" cy="568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892400" y="5029200"/>
              <a:ext cx="279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25800" y="500076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9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4892400" y="523872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25800" y="5213520"/>
              <a:ext cx="92160" cy="5364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8"/>
                  </a:cubicBezTo>
                  <a:cubicBezTo>
                    <a:pt x="5" y="7"/>
                    <a:pt x="10" y="6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56120" y="2251080"/>
              <a:ext cx="161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92560" y="22194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391000" y="6388200"/>
              <a:ext cx="13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499000" y="635652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2" y="8"/>
                    <a:pt x="27" y="9"/>
                    <a:pt x="32" y="10"/>
                  </a:cubicBezTo>
                  <a:cubicBezTo>
                    <a:pt x="27" y="11"/>
                    <a:pt x="22" y="12"/>
                    <a:pt x="16" y="14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632560" y="664524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58760" y="175428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74960" y="19224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62360" y="215280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604400" y="258768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605480" y="275904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19720" y="215568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6041880" y="2251080"/>
              <a:ext cx="139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968800" y="22194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6" y="1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1" y="13"/>
                    <a:pt x="5" y="11"/>
                    <a:pt x="0" y="10"/>
                  </a:cubicBezTo>
                  <a:cubicBezTo>
                    <a:pt x="5" y="9"/>
                    <a:pt x="11" y="8"/>
                    <a:pt x="16" y="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294240" y="306864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6140160" y="3162240"/>
              <a:ext cx="114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67080" y="3130560"/>
              <a:ext cx="98640" cy="6336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6" y="10"/>
                  </a:moveTo>
                  <a:cubicBezTo>
                    <a:pt x="31" y="19"/>
                    <a:pt x="31" y="19"/>
                    <a:pt x="31" y="19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5" y="11"/>
                    <a:pt x="0" y="10"/>
                  </a:cubicBezTo>
                  <a:cubicBezTo>
                    <a:pt x="5" y="9"/>
                    <a:pt x="10" y="8"/>
                    <a:pt x="16" y="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623480" y="429264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678200" y="4503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86120" y="47149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679640" y="4927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87560" y="51386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71760" y="4210200"/>
              <a:ext cx="1231920" cy="1222200"/>
            </a:xfrm>
            <a:custGeom>
              <a:avLst/>
              <a:gdLst/>
              <a:ahLst/>
              <a:rect l="l" t="t" r="r" b="b"/>
              <a:pathLst>
                <a:path w="776" h="770">
                  <a:moveTo>
                    <a:pt x="0" y="0"/>
                  </a:moveTo>
                  <a:lnTo>
                    <a:pt x="776" y="0"/>
                  </a:lnTo>
                  <a:lnTo>
                    <a:pt x="776" y="770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488200" y="465300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54160" y="482436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294160" y="4218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33680" y="4218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728680" y="52531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81760" y="630720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606560" y="645012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66200" y="257652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94080" y="1752480"/>
              <a:ext cx="771480" cy="619200"/>
            </a:xfrm>
            <a:custGeom>
              <a:avLst/>
              <a:gdLst/>
              <a:ahLst/>
              <a:rect l="l" t="t" r="r" b="b"/>
              <a:pathLst>
                <a:path w="486" h="390">
                  <a:moveTo>
                    <a:pt x="0" y="0"/>
                  </a:moveTo>
                  <a:lnTo>
                    <a:pt x="486" y="0"/>
                  </a:lnTo>
                  <a:lnTo>
                    <a:pt x="486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94280" y="4210200"/>
              <a:ext cx="1219320" cy="1015920"/>
            </a:xfrm>
            <a:custGeom>
              <a:avLst/>
              <a:gdLst/>
              <a:ahLst/>
              <a:rect l="l" t="t" r="r" b="b"/>
              <a:pathLst>
                <a:path w="768" h="640">
                  <a:moveTo>
                    <a:pt x="0" y="0"/>
                  </a:moveTo>
                  <a:lnTo>
                    <a:pt x="768" y="0"/>
                  </a:lnTo>
                  <a:lnTo>
                    <a:pt x="768" y="640"/>
                  </a:lnTo>
                  <a:lnTo>
                    <a:pt x="0" y="6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44680" y="421812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450920" y="42181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37440" y="454824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126200" y="471960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163280" y="504036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300640" y="189396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74880" y="206532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22760" y="1766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308560" y="21812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19320" y="21812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92080" y="939960"/>
              <a:ext cx="1800" cy="32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660400" y="12351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92080" y="2149560"/>
              <a:ext cx="1800" cy="55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60400" y="267660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1" y="27"/>
                    <a:pt x="10" y="32"/>
                  </a:cubicBezTo>
                  <a:cubicBezTo>
                    <a:pt x="9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92080" y="2575080"/>
              <a:ext cx="984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647880" y="2543040"/>
              <a:ext cx="101520" cy="604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7" y="9"/>
                    <a:pt x="32" y="10"/>
                  </a:cubicBezTo>
                  <a:cubicBezTo>
                    <a:pt x="27" y="11"/>
                    <a:pt x="21" y="12"/>
                    <a:pt x="16" y="13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7788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4584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80648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774440" y="3905280"/>
              <a:ext cx="6372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7960" y="315288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0628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98400" y="315288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466720" y="390528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2700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01800" y="39146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9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5884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930400" y="391464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18744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62240" y="3914640"/>
              <a:ext cx="5364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92120" y="1336680"/>
              <a:ext cx="803160" cy="8128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0"/>
                  </a:moveTo>
                  <a:lnTo>
                    <a:pt x="506" y="0"/>
                  </a:lnTo>
                  <a:lnTo>
                    <a:pt x="506" y="512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27040" y="15829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17760" y="175428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04080" y="133344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322360" y="195408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749400" y="2457360"/>
              <a:ext cx="628560" cy="23508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0" y="0"/>
                  </a:moveTo>
                  <a:lnTo>
                    <a:pt x="396" y="0"/>
                  </a:lnTo>
                  <a:lnTo>
                    <a:pt x="396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763080" y="247500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ero f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1272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51272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752120" y="4016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74276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7316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97316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50520" y="4016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55200" y="41623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65572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665080" y="4164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00160" y="4016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82160" y="4162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760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12560" y="416232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692080" y="520560"/>
              <a:ext cx="720720" cy="2054520"/>
            </a:xfrm>
            <a:custGeom>
              <a:avLst/>
              <a:gdLst/>
              <a:ahLst/>
              <a:rect l="l" t="t" r="r" b="b"/>
              <a:pathLst>
                <a:path w="454" h="1294">
                  <a:moveTo>
                    <a:pt x="454" y="1294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660400" y="628560"/>
              <a:ext cx="6048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0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10" y="31"/>
                  </a:cubicBezTo>
                  <a:cubicBezTo>
                    <a:pt x="9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60280" y="825480"/>
              <a:ext cx="1396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74760" y="797040"/>
              <a:ext cx="10152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6" y="8"/>
                    <a:pt x="32" y="9"/>
                  </a:cubicBezTo>
                  <a:cubicBezTo>
                    <a:pt x="26" y="10"/>
                    <a:pt x="21" y="12"/>
                    <a:pt x="16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1120" y="315288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22320" y="391464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66560" y="315288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38120" y="39146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95280" y="401652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12560" y="416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63400" y="2778120"/>
              <a:ext cx="2492280" cy="374760"/>
            </a:xfrm>
            <a:custGeom>
              <a:avLst/>
              <a:gdLst/>
              <a:ahLst/>
              <a:rect l="l" t="t" r="r" b="b"/>
              <a:pathLst>
                <a:path w="1570" h="236">
                  <a:moveTo>
                    <a:pt x="146" y="0"/>
                  </a:moveTo>
                  <a:lnTo>
                    <a:pt x="1570" y="0"/>
                  </a:lnTo>
                  <a:lnTo>
                    <a:pt x="1570" y="236"/>
                  </a:lnTo>
                  <a:lnTo>
                    <a:pt x="0" y="236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056680" y="2865600"/>
              <a:ext cx="150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 de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15480" y="401652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595320" y="416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771640" y="409680"/>
              <a:ext cx="574560" cy="20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814120" y="41760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418920" y="3152880"/>
              <a:ext cx="324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390840" y="391464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368520" y="4162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372840" y="401652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79720" y="315288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48040" y="390528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25720" y="4016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25720" y="4162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510920" y="498600"/>
              <a:ext cx="584280" cy="660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530360" y="66024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512000" y="831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55400" y="59040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419120" y="56196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355400" y="91764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419120" y="888840"/>
              <a:ext cx="9180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4" y="7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355400" y="74916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19120" y="72072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55400" y="106668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419120" y="1038240"/>
              <a:ext cx="9180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96640" y="490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204560" y="649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98440" y="8161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06360" y="9669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1603080" y="1225080"/>
              <a:ext cx="180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574640" y="11588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4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9"/>
                    <a:pt x="18" y="29"/>
                    <a:pt x="18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1755720" y="122508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726920" y="115884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5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7" y="29"/>
                    <a:pt x="17" y="29"/>
                    <a:pt x="17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1904760" y="1231560"/>
              <a:ext cx="144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876320" y="115884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26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7" y="11"/>
                    <a:pt x="8" y="5"/>
                    <a:pt x="9" y="0"/>
                  </a:cubicBezTo>
                  <a:cubicBezTo>
                    <a:pt x="11" y="5"/>
                    <a:pt x="12" y="11"/>
                    <a:pt x="13" y="16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19720" y="138096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9920" y="1522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552320" y="15224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556640" y="138096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850760" y="1379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50760" y="1522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369600" y="32544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8:6) || 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276280" y="727200"/>
              <a:ext cx="831960" cy="212760"/>
            </a:xfrm>
            <a:prstGeom prst="rect">
              <a:avLst/>
            </a:pr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90560" y="73188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065400" y="440388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0c6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337000" y="3568680"/>
              <a:ext cx="57240" cy="5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2" name=""/>
          <p:cNvSpPr/>
          <p:nvPr/>
        </p:nvSpPr>
        <p:spPr>
          <a:xfrm>
            <a:off x="5380200" y="476280"/>
            <a:ext cx="376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ntradas de Controle e cam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055600" y="427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75400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rot="16200000">
            <a:off x="2029320" y="45165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 0 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509560" y="4265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21444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004920" y="42688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439800" y="4272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681360" y="4259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264560" y="404640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 0 1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49760" y="29923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95560" y="62085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481280" y="1474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161120" y="3557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373040" y="161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22440" y="161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699920" y="1617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35360" y="419256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21080" y="2166840"/>
            <a:ext cx="3652560" cy="2273400"/>
          </a:xfrm>
          <a:custGeom>
            <a:avLst/>
            <a:gdLst/>
            <a:ahLst/>
            <a:rect l="l" t="t" r="r" b="b"/>
            <a:pathLst>
              <a:path w="2301" h="1432">
                <a:moveTo>
                  <a:pt x="60" y="0"/>
                </a:moveTo>
                <a:cubicBezTo>
                  <a:pt x="54" y="82"/>
                  <a:pt x="47" y="164"/>
                  <a:pt x="60" y="208"/>
                </a:cubicBezTo>
                <a:cubicBezTo>
                  <a:pt x="73" y="252"/>
                  <a:pt x="0" y="255"/>
                  <a:pt x="140" y="264"/>
                </a:cubicBezTo>
                <a:cubicBezTo>
                  <a:pt x="280" y="273"/>
                  <a:pt x="624" y="264"/>
                  <a:pt x="900" y="264"/>
                </a:cubicBezTo>
                <a:cubicBezTo>
                  <a:pt x="1176" y="264"/>
                  <a:pt x="1632" y="252"/>
                  <a:pt x="1796" y="264"/>
                </a:cubicBezTo>
                <a:cubicBezTo>
                  <a:pt x="1960" y="276"/>
                  <a:pt x="1869" y="295"/>
                  <a:pt x="1884" y="336"/>
                </a:cubicBezTo>
                <a:cubicBezTo>
                  <a:pt x="1899" y="377"/>
                  <a:pt x="1873" y="447"/>
                  <a:pt x="1884" y="512"/>
                </a:cubicBezTo>
                <a:cubicBezTo>
                  <a:pt x="1895" y="577"/>
                  <a:pt x="1937" y="645"/>
                  <a:pt x="1948" y="728"/>
                </a:cubicBezTo>
                <a:cubicBezTo>
                  <a:pt x="1959" y="811"/>
                  <a:pt x="1936" y="948"/>
                  <a:pt x="1948" y="1008"/>
                </a:cubicBezTo>
                <a:cubicBezTo>
                  <a:pt x="1960" y="1068"/>
                  <a:pt x="1977" y="1075"/>
                  <a:pt x="2020" y="1088"/>
                </a:cubicBezTo>
                <a:cubicBezTo>
                  <a:pt x="2063" y="1101"/>
                  <a:pt x="2163" y="1077"/>
                  <a:pt x="2204" y="1088"/>
                </a:cubicBezTo>
                <a:cubicBezTo>
                  <a:pt x="2245" y="1099"/>
                  <a:pt x="2256" y="1120"/>
                  <a:pt x="2268" y="1152"/>
                </a:cubicBezTo>
                <a:cubicBezTo>
                  <a:pt x="2280" y="1184"/>
                  <a:pt x="2301" y="1233"/>
                  <a:pt x="2276" y="1280"/>
                </a:cubicBezTo>
                <a:cubicBezTo>
                  <a:pt x="2251" y="1327"/>
                  <a:pt x="2183" y="1379"/>
                  <a:pt x="2116" y="1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270400" y="2382840"/>
            <a:ext cx="317520" cy="2082960"/>
          </a:xfrm>
          <a:custGeom>
            <a:avLst/>
            <a:gdLst/>
            <a:ahLst/>
            <a:rect l="l" t="t" r="r" b="b"/>
            <a:pathLst>
              <a:path w="200" h="1312">
                <a:moveTo>
                  <a:pt x="8" y="0"/>
                </a:moveTo>
                <a:cubicBezTo>
                  <a:pt x="8" y="109"/>
                  <a:pt x="7" y="465"/>
                  <a:pt x="8" y="656"/>
                </a:cubicBezTo>
                <a:cubicBezTo>
                  <a:pt x="9" y="847"/>
                  <a:pt x="0" y="1043"/>
                  <a:pt x="16" y="1144"/>
                </a:cubicBezTo>
                <a:cubicBezTo>
                  <a:pt x="31" y="1247"/>
                  <a:pt x="73" y="1236"/>
                  <a:pt x="104" y="1264"/>
                </a:cubicBezTo>
                <a:cubicBezTo>
                  <a:pt x="135" y="1292"/>
                  <a:pt x="180" y="1302"/>
                  <a:pt x="200" y="13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64000" y="1455840"/>
            <a:ext cx="1392120" cy="5251320"/>
          </a:xfrm>
          <a:custGeom>
            <a:avLst/>
            <a:gdLst/>
            <a:ahLst/>
            <a:rect l="l" t="t" r="r" b="b"/>
            <a:pathLst>
              <a:path w="877" h="3308">
                <a:moveTo>
                  <a:pt x="796" y="2080"/>
                </a:moveTo>
                <a:cubicBezTo>
                  <a:pt x="783" y="2438"/>
                  <a:pt x="771" y="2796"/>
                  <a:pt x="780" y="2984"/>
                </a:cubicBezTo>
                <a:cubicBezTo>
                  <a:pt x="789" y="3172"/>
                  <a:pt x="856" y="3161"/>
                  <a:pt x="852" y="3208"/>
                </a:cubicBezTo>
                <a:cubicBezTo>
                  <a:pt x="848" y="3255"/>
                  <a:pt x="877" y="3252"/>
                  <a:pt x="756" y="3264"/>
                </a:cubicBezTo>
                <a:cubicBezTo>
                  <a:pt x="635" y="3276"/>
                  <a:pt x="248" y="3308"/>
                  <a:pt x="124" y="3280"/>
                </a:cubicBezTo>
                <a:cubicBezTo>
                  <a:pt x="0" y="3252"/>
                  <a:pt x="4" y="3256"/>
                  <a:pt x="12" y="3096"/>
                </a:cubicBezTo>
                <a:cubicBezTo>
                  <a:pt x="20" y="2936"/>
                  <a:pt x="28" y="304"/>
                  <a:pt x="20" y="152"/>
                </a:cubicBezTo>
                <a:cubicBezTo>
                  <a:pt x="12" y="0"/>
                  <a:pt x="90" y="65"/>
                  <a:pt x="172" y="48"/>
                </a:cubicBezTo>
                <a:cubicBezTo>
                  <a:pt x="254" y="31"/>
                  <a:pt x="435" y="43"/>
                  <a:pt x="516" y="48"/>
                </a:cubicBezTo>
                <a:cubicBezTo>
                  <a:pt x="597" y="53"/>
                  <a:pt x="636" y="28"/>
                  <a:pt x="660" y="80"/>
                </a:cubicBezTo>
                <a:cubicBezTo>
                  <a:pt x="684" y="132"/>
                  <a:pt x="672" y="246"/>
                  <a:pt x="660" y="3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846200" y="355140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No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7391520" y="3728880"/>
            <a:ext cx="495360" cy="12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369440" y="2077920"/>
            <a:ext cx="1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crement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504800" y="1925640"/>
            <a:ext cx="5040" cy="219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9A7E-3BD1-4BFE-A49A-F08FDBE104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"/>
          <p:cNvGrpSpPr/>
          <p:nvPr/>
        </p:nvGrpSpPr>
        <p:grpSpPr>
          <a:xfrm>
            <a:off x="3492360" y="1773360"/>
            <a:ext cx="4973400" cy="4910760"/>
            <a:chOff x="3492360" y="1773360"/>
            <a:chExt cx="4973400" cy="4910760"/>
          </a:xfrm>
        </p:grpSpPr>
        <p:grpSp>
          <p:nvGrpSpPr>
            <p:cNvPr id="928" name=""/>
            <p:cNvGrpSpPr/>
            <p:nvPr/>
          </p:nvGrpSpPr>
          <p:grpSpPr>
            <a:xfrm>
              <a:off x="3492360" y="1773360"/>
              <a:ext cx="4973400" cy="4910760"/>
              <a:chOff x="3492360" y="1773360"/>
              <a:chExt cx="4973400" cy="4910760"/>
            </a:xfrm>
          </p:grpSpPr>
          <p:sp>
            <p:nvSpPr>
              <p:cNvPr id="929" name=""/>
              <p:cNvSpPr/>
              <p:nvPr/>
            </p:nvSpPr>
            <p:spPr>
              <a:xfrm>
                <a:off x="567324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37812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081200" y="195408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52600" y="249876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447800" y="249876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791880" y="249876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0903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7192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34780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6509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37632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2588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07328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4210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77204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81194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544640" y="249876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4779360" y="249876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036760" y="249876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324040" y="249876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522400" y="249876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55640" y="317988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338520" y="358452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24788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624456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898680" y="384948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461920" y="397836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551280" y="371484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209640" y="414972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677016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023720" y="249876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59200" y="496548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57520" y="469584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87240" y="249876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0676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340040" y="397836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340040" y="397836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0668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7595640" y="530676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6859080" y="434664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629856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70440" y="543240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16280" y="395424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873480" y="382428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6527160" y="368784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6131880" y="315576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436720" y="395424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131960" y="467208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1152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29864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3168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7623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2716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692160" y="616248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24620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378320" y="57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44132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301640" y="61610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87944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0101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07492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94460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2880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387400" y="616248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389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0022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688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959440" y="616248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65167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6435360" y="616248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68706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792120" y="61624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2136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120800" y="616248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531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04560" y="61624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9088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866360" y="616248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82645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820224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6600" y="177336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774600" y="195408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533120" y="207468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920920" y="207972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634800" y="207972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49040" y="20797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595840" y="647064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492360" y="570852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95892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20804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4571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7080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557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2066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489640" y="2320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92452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98968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0530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62796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69276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75792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3310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39620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613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3" name=""/>
            <p:cNvSpPr/>
            <p:nvPr/>
          </p:nvSpPr>
          <p:spPr>
            <a:xfrm>
              <a:off x="3886920" y="1865520"/>
              <a:ext cx="179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 0  1   0   0  0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58960" y="588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76872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624640" y="5884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397200" y="587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4480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12116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79724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14032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1258920" y="191628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L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DF69E-FAE1-497A-953A-F0BC2CEACDB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ível I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 de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D7DBF-8AEE-407F-8256-CF67C345A0C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"/>
          <p:cNvGrpSpPr/>
          <p:nvPr/>
        </p:nvGrpSpPr>
        <p:grpSpPr>
          <a:xfrm>
            <a:off x="1187280" y="115920"/>
            <a:ext cx="7820640" cy="6661800"/>
            <a:chOff x="1187280" y="115920"/>
            <a:chExt cx="7820640" cy="6661800"/>
          </a:xfrm>
        </p:grpSpPr>
        <p:grpSp>
          <p:nvGrpSpPr>
            <p:cNvPr id="1045" name=""/>
            <p:cNvGrpSpPr/>
            <p:nvPr/>
          </p:nvGrpSpPr>
          <p:grpSpPr>
            <a:xfrm>
              <a:off x="1187280" y="115920"/>
              <a:ext cx="6889320" cy="6661800"/>
              <a:chOff x="1187280" y="115920"/>
              <a:chExt cx="6889320" cy="6661800"/>
            </a:xfrm>
          </p:grpSpPr>
          <p:sp>
            <p:nvSpPr>
              <p:cNvPr id="1046" name=""/>
              <p:cNvSpPr/>
              <p:nvPr/>
            </p:nvSpPr>
            <p:spPr>
              <a:xfrm>
                <a:off x="1187280" y="119160"/>
                <a:ext cx="2816280" cy="4403520"/>
              </a:xfrm>
              <a:prstGeom prst="rect">
                <a:avLst/>
              </a:prstGeom>
              <a:solidFill>
                <a:srgbClr val="e5f5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003560" y="115920"/>
                <a:ext cx="2606400" cy="6648480"/>
              </a:xfrm>
              <a:custGeom>
                <a:avLst/>
                <a:gdLst/>
                <a:ahLst/>
                <a:rect l="l" t="t" r="r" b="b"/>
                <a:pathLst>
                  <a:path w="1642" h="4188">
                    <a:moveTo>
                      <a:pt x="0" y="2"/>
                    </a:moveTo>
                    <a:lnTo>
                      <a:pt x="1642" y="0"/>
                    </a:lnTo>
                    <a:lnTo>
                      <a:pt x="1642" y="4188"/>
                    </a:lnTo>
                    <a:lnTo>
                      <a:pt x="0" y="4188"/>
                    </a:lnTo>
                    <a:lnTo>
                      <a:pt x="0" y="27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759280" y="2290680"/>
                <a:ext cx="1440" cy="53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730480" y="2795400"/>
                <a:ext cx="6048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377960" y="2494080"/>
                <a:ext cx="1200240" cy="326880"/>
              </a:xfrm>
              <a:custGeom>
                <a:avLst/>
                <a:gdLst/>
                <a:ahLst/>
                <a:rect l="l" t="t" r="r" b="b"/>
                <a:pathLst>
                  <a:path w="756" h="206">
                    <a:moveTo>
                      <a:pt x="0" y="0"/>
                    </a:moveTo>
                    <a:lnTo>
                      <a:pt x="756" y="0"/>
                    </a:lnTo>
                    <a:lnTo>
                      <a:pt x="756" y="20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549760" y="2795400"/>
                <a:ext cx="6012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1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65440" y="2290680"/>
                <a:ext cx="1800" cy="176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37000" y="402732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566960" y="1449360"/>
                <a:ext cx="1306440" cy="5124600"/>
              </a:xfrm>
              <a:custGeom>
                <a:avLst/>
                <a:gdLst/>
                <a:ahLst/>
                <a:rect l="l" t="t" r="r" b="b"/>
                <a:pathLst>
                  <a:path w="823" h="3228">
                    <a:moveTo>
                      <a:pt x="823" y="3158"/>
                    </a:moveTo>
                    <a:lnTo>
                      <a:pt x="823" y="3224"/>
                    </a:lnTo>
                    <a:lnTo>
                      <a:pt x="0" y="3228"/>
                    </a:lnTo>
                    <a:lnTo>
                      <a:pt x="0" y="0"/>
                    </a:lnTo>
                    <a:lnTo>
                      <a:pt x="637" y="0"/>
                    </a:lnTo>
                    <a:lnTo>
                      <a:pt x="637" y="9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49760" y="156996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2"/>
                      <a:pt x="10" y="27"/>
                      <a:pt x="9" y="32"/>
                    </a:cubicBezTo>
                    <a:cubicBezTo>
                      <a:pt x="8" y="27"/>
                      <a:pt x="7" y="22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676840" y="3205080"/>
                <a:ext cx="1393560" cy="851040"/>
              </a:xfrm>
              <a:custGeom>
                <a:avLst/>
                <a:gdLst/>
                <a:ahLst/>
                <a:rect l="l" t="t" r="r" b="b"/>
                <a:pathLst>
                  <a:path w="878" h="536">
                    <a:moveTo>
                      <a:pt x="0" y="0"/>
                    </a:moveTo>
                    <a:lnTo>
                      <a:pt x="0" y="386"/>
                    </a:lnTo>
                    <a:lnTo>
                      <a:pt x="878" y="386"/>
                    </a:lnTo>
                    <a:lnTo>
                      <a:pt x="878" y="5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038720" y="402732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543040" y="230040"/>
                <a:ext cx="5162400" cy="3826080"/>
              </a:xfrm>
              <a:custGeom>
                <a:avLst/>
                <a:gdLst/>
                <a:ahLst/>
                <a:rect l="l" t="t" r="r" b="b"/>
                <a:pathLst>
                  <a:path w="3252" h="2410">
                    <a:moveTo>
                      <a:pt x="3252" y="2410"/>
                    </a:moveTo>
                    <a:lnTo>
                      <a:pt x="3252" y="2070"/>
                    </a:lnTo>
                    <a:lnTo>
                      <a:pt x="1778" y="2070"/>
                    </a:lnTo>
                    <a:lnTo>
                      <a:pt x="1234" y="2070"/>
                    </a:lnTo>
                    <a:lnTo>
                      <a:pt x="1234" y="0"/>
                    </a:lnTo>
                    <a:lnTo>
                      <a:pt x="0" y="0"/>
                    </a:lnTo>
                    <a:lnTo>
                      <a:pt x="0" y="21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677000" y="402732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511360" y="54432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190920" y="3817800"/>
                <a:ext cx="1800" cy="23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162480" y="4027320"/>
                <a:ext cx="6048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9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775120" y="5354640"/>
                <a:ext cx="1440" cy="68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746680" y="6014880"/>
                <a:ext cx="60120" cy="10188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0" y="26"/>
                      <a:pt x="9" y="32"/>
                    </a:cubicBezTo>
                    <a:cubicBezTo>
                      <a:pt x="8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949720" y="5145120"/>
                <a:ext cx="1476360" cy="895320"/>
              </a:xfrm>
              <a:custGeom>
                <a:avLst/>
                <a:gdLst/>
                <a:ahLst/>
                <a:rect l="l" t="t" r="r" b="b"/>
                <a:pathLst>
                  <a:path w="930" h="564">
                    <a:moveTo>
                      <a:pt x="930" y="0"/>
                    </a:moveTo>
                    <a:lnTo>
                      <a:pt x="930" y="386"/>
                    </a:lnTo>
                    <a:lnTo>
                      <a:pt x="0" y="386"/>
                    </a:lnTo>
                    <a:lnTo>
                      <a:pt x="0" y="56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918040" y="6014880"/>
                <a:ext cx="63360" cy="10188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5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5"/>
                      <a:pt x="14" y="15"/>
                      <a:pt x="14" y="15"/>
                    </a:cubicBezTo>
                    <a:cubicBezTo>
                      <a:pt x="12" y="21"/>
                      <a:pt x="11" y="26"/>
                      <a:pt x="10" y="32"/>
                    </a:cubicBezTo>
                    <a:cubicBezTo>
                      <a:pt x="9" y="26"/>
                      <a:pt x="8" y="21"/>
                      <a:pt x="7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387920" y="3916440"/>
                <a:ext cx="18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359480" y="40370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947840" y="3527280"/>
                <a:ext cx="460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24000" y="3527280"/>
                <a:ext cx="451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603480" y="3319560"/>
                <a:ext cx="918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536160" y="3630600"/>
                <a:ext cx="66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238520" y="374184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652440" y="555624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73440" y="2894040"/>
                <a:ext cx="593640" cy="355680"/>
              </a:xfrm>
              <a:custGeom>
                <a:avLst/>
                <a:gdLst/>
                <a:ahLst/>
                <a:rect l="l" t="t" r="r" b="b"/>
                <a:pathLst>
                  <a:path w="374" h="224">
                    <a:moveTo>
                      <a:pt x="0" y="0"/>
                    </a:moveTo>
                    <a:lnTo>
                      <a:pt x="374" y="0"/>
                    </a:lnTo>
                    <a:lnTo>
                      <a:pt x="374" y="224"/>
                    </a:lnTo>
                    <a:lnTo>
                      <a:pt x="0" y="22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99720" y="3070080"/>
                <a:ext cx="587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X 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47240" y="28908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729760" y="28893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600520" y="6116760"/>
                <a:ext cx="628560" cy="352440"/>
              </a:xfrm>
              <a:custGeom>
                <a:avLst/>
                <a:gdLst/>
                <a:ahLst/>
                <a:rect l="l" t="t" r="r" b="b"/>
                <a:pathLst>
                  <a:path w="396" h="222">
                    <a:moveTo>
                      <a:pt x="0" y="0"/>
                    </a:moveTo>
                    <a:lnTo>
                      <a:pt x="396" y="0"/>
                    </a:lnTo>
                    <a:lnTo>
                      <a:pt x="396" y="222"/>
                    </a:lnTo>
                    <a:lnTo>
                      <a:pt x="0" y="222"/>
                    </a:lnTo>
                    <a:lnTo>
                      <a:pt x="0" y="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639400" y="628488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UX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744160" y="6118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918760" y="611820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4984560" y="1773360"/>
                <a:ext cx="1396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098680" y="1747800"/>
                <a:ext cx="9216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6" y="8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20" y="6"/>
                      <a:pt x="25" y="7"/>
                      <a:pt x="29" y="8"/>
                    </a:cubicBezTo>
                    <a:cubicBezTo>
                      <a:pt x="25" y="9"/>
                      <a:pt x="20" y="11"/>
                      <a:pt x="15" y="12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6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956120" y="1941480"/>
                <a:ext cx="161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092560" y="19098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8"/>
                      <a:pt x="26" y="9"/>
                      <a:pt x="32" y="10"/>
                    </a:cubicBezTo>
                    <a:cubicBezTo>
                      <a:pt x="26" y="11"/>
                      <a:pt x="21" y="12"/>
                      <a:pt x="16" y="13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4825800" y="4309920"/>
                <a:ext cx="2728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73480" y="4281480"/>
                <a:ext cx="98280" cy="6012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5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1" y="7"/>
                      <a:pt x="26" y="8"/>
                      <a:pt x="31" y="9"/>
                    </a:cubicBezTo>
                    <a:cubicBezTo>
                      <a:pt x="26" y="11"/>
                      <a:pt x="21" y="12"/>
                      <a:pt x="15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H="1">
                <a:off x="4892400" y="452268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825800" y="4494240"/>
                <a:ext cx="9216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4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6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1"/>
                      <a:pt x="29" y="1"/>
                      <a:pt x="29" y="1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4892400" y="473544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4825800" y="4707000"/>
                <a:ext cx="92160" cy="5688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24" y="9"/>
                    </a:moveTo>
                    <a:cubicBezTo>
                      <a:pt x="29" y="18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29" y="18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6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4892400" y="4948200"/>
                <a:ext cx="279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825800" y="4919760"/>
                <a:ext cx="9216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4" y="9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9"/>
                    </a:cubicBezTo>
                    <a:cubicBezTo>
                      <a:pt x="5" y="8"/>
                      <a:pt x="10" y="7"/>
                      <a:pt x="15" y="5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4892400" y="5157720"/>
                <a:ext cx="27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4825800" y="5132520"/>
                <a:ext cx="92160" cy="5364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4" y="8"/>
                    </a:moveTo>
                    <a:cubicBezTo>
                      <a:pt x="29" y="17"/>
                      <a:pt x="29" y="17"/>
                      <a:pt x="29" y="17"/>
                    </a:cubicBezTo>
                    <a:cubicBezTo>
                      <a:pt x="29" y="17"/>
                      <a:pt x="29" y="17"/>
                      <a:pt x="29" y="17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0" y="11"/>
                      <a:pt x="5" y="10"/>
                      <a:pt x="0" y="8"/>
                    </a:cubicBezTo>
                    <a:cubicBezTo>
                      <a:pt x="5" y="7"/>
                      <a:pt x="10" y="6"/>
                      <a:pt x="15" y="5"/>
                    </a:cubicBezTo>
                    <a:cubicBezTo>
                      <a:pt x="29" y="0"/>
                      <a:pt x="29" y="0"/>
                      <a:pt x="29" y="0"/>
                    </a:cubicBezTo>
                    <a:cubicBezTo>
                      <a:pt x="29" y="0"/>
                      <a:pt x="29" y="0"/>
                      <a:pt x="29" y="0"/>
                    </a:cubicBez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4956120" y="2170080"/>
                <a:ext cx="161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092560" y="21384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21" y="8"/>
                      <a:pt x="26" y="9"/>
                      <a:pt x="32" y="10"/>
                    </a:cubicBezTo>
                    <a:cubicBezTo>
                      <a:pt x="26" y="11"/>
                      <a:pt x="21" y="12"/>
                      <a:pt x="16" y="14"/>
                    </a:cubicBezTo>
                    <a:cubicBezTo>
                      <a:pt x="0" y="20"/>
                      <a:pt x="0" y="20"/>
                      <a:pt x="0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391000" y="6307200"/>
                <a:ext cx="136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499000" y="627552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6" y="10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2" y="8"/>
                      <a:pt x="27" y="9"/>
                      <a:pt x="32" y="10"/>
                    </a:cubicBezTo>
                    <a:cubicBezTo>
                      <a:pt x="27" y="11"/>
                      <a:pt x="22" y="12"/>
                      <a:pt x="16" y="14"/>
                    </a:cubicBezTo>
                    <a:cubicBezTo>
                      <a:pt x="1" y="20"/>
                      <a:pt x="1" y="20"/>
                      <a:pt x="1" y="20"/>
                    </a:cubicBezTo>
                    <a:cubicBezTo>
                      <a:pt x="0" y="20"/>
                      <a:pt x="0" y="20"/>
                      <a:pt x="0" y="20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32560" y="6564240"/>
                <a:ext cx="9975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PAT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4658760" y="16732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4674960" y="18414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4662360" y="207180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604400" y="2506680"/>
                <a:ext cx="695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sta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4605480" y="2678040"/>
                <a:ext cx="15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9720" y="20746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H="1">
                <a:off x="6041880" y="217008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968800" y="2138400"/>
                <a:ext cx="101520" cy="6336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6" y="10"/>
                    </a:moveTo>
                    <a:cubicBezTo>
                      <a:pt x="32" y="20"/>
                      <a:pt x="32" y="20"/>
                      <a:pt x="32" y="20"/>
                    </a:cubicBezTo>
                    <a:cubicBezTo>
                      <a:pt x="32" y="20"/>
                      <a:pt x="32" y="20"/>
                      <a:pt x="32" y="20"/>
                    </a:cubicBezTo>
                    <a:cubicBezTo>
                      <a:pt x="16" y="14"/>
                      <a:pt x="16" y="14"/>
                      <a:pt x="16" y="14"/>
                    </a:cubicBezTo>
                    <a:cubicBezTo>
                      <a:pt x="11" y="13"/>
                      <a:pt x="5" y="11"/>
                      <a:pt x="0" y="10"/>
                    </a:cubicBezTo>
                    <a:cubicBezTo>
                      <a:pt x="5" y="9"/>
                      <a:pt x="11" y="8"/>
                      <a:pt x="16" y="7"/>
                    </a:cubicBezTo>
                    <a:cubicBezTo>
                      <a:pt x="32" y="0"/>
                      <a:pt x="32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294240" y="298764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6140160" y="3081240"/>
                <a:ext cx="114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067080" y="3049560"/>
                <a:ext cx="98640" cy="63360"/>
              </a:xfrm>
              <a:custGeom>
                <a:avLst/>
                <a:gdLst/>
                <a:ahLst/>
                <a:rect l="l" t="t" r="r" b="b"/>
                <a:pathLst>
                  <a:path w="31" h="20">
                    <a:moveTo>
                      <a:pt x="26" y="10"/>
                    </a:moveTo>
                    <a:cubicBezTo>
                      <a:pt x="31" y="19"/>
                      <a:pt x="31" y="19"/>
                      <a:pt x="31" y="19"/>
                    </a:cubicBezTo>
                    <a:cubicBezTo>
                      <a:pt x="31" y="20"/>
                      <a:pt x="31" y="20"/>
                      <a:pt x="31" y="20"/>
                    </a:cubicBezTo>
                    <a:cubicBezTo>
                      <a:pt x="16" y="13"/>
                      <a:pt x="16" y="13"/>
                      <a:pt x="16" y="13"/>
                    </a:cubicBezTo>
                    <a:cubicBezTo>
                      <a:pt x="10" y="12"/>
                      <a:pt x="5" y="11"/>
                      <a:pt x="0" y="10"/>
                    </a:cubicBezTo>
                    <a:cubicBezTo>
                      <a:pt x="5" y="9"/>
                      <a:pt x="10" y="8"/>
                      <a:pt x="16" y="6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4623480" y="421164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4678200" y="4422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4686120" y="4633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4679640" y="4846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687560" y="50576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171760" y="4129200"/>
                <a:ext cx="1231920" cy="1222200"/>
              </a:xfrm>
              <a:custGeom>
                <a:avLst/>
                <a:gdLst/>
                <a:ahLst/>
                <a:rect l="l" t="t" r="r" b="b"/>
                <a:pathLst>
                  <a:path w="776" h="770">
                    <a:moveTo>
                      <a:pt x="0" y="0"/>
                    </a:moveTo>
                    <a:lnTo>
                      <a:pt x="776" y="0"/>
                    </a:lnTo>
                    <a:lnTo>
                      <a:pt x="776" y="770"/>
                    </a:lnTo>
                    <a:lnTo>
                      <a:pt x="0" y="77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488200" y="4572000"/>
                <a:ext cx="685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un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654160" y="4743360"/>
                <a:ext cx="30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uni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294160" y="4137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33680" y="4137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728680" y="51721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081760" y="622620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606560" y="6369120"/>
                <a:ext cx="460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us 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166200" y="2495520"/>
                <a:ext cx="556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R(2:0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194080" y="1671480"/>
                <a:ext cx="771480" cy="619200"/>
              </a:xfrm>
              <a:custGeom>
                <a:avLst/>
                <a:gdLst/>
                <a:ahLst/>
                <a:rect l="l" t="t" r="r" b="b"/>
                <a:pathLst>
                  <a:path w="486" h="390">
                    <a:moveTo>
                      <a:pt x="0" y="0"/>
                    </a:moveTo>
                    <a:lnTo>
                      <a:pt x="486" y="0"/>
                    </a:lnTo>
                    <a:lnTo>
                      <a:pt x="486" y="390"/>
                    </a:lnTo>
                    <a:lnTo>
                      <a:pt x="0" y="39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794280" y="4129200"/>
                <a:ext cx="1219320" cy="1015920"/>
              </a:xfrm>
              <a:custGeom>
                <a:avLst/>
                <a:gdLst/>
                <a:ahLst/>
                <a:rect l="l" t="t" r="r" b="b"/>
                <a:pathLst>
                  <a:path w="768" h="640">
                    <a:moveTo>
                      <a:pt x="0" y="0"/>
                    </a:moveTo>
                    <a:lnTo>
                      <a:pt x="768" y="0"/>
                    </a:lnTo>
                    <a:lnTo>
                      <a:pt x="768" y="640"/>
                    </a:lnTo>
                    <a:lnTo>
                      <a:pt x="0" y="6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844680" y="4137120"/>
                <a:ext cx="561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i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50920" y="4137120"/>
                <a:ext cx="62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237440" y="4467240"/>
                <a:ext cx="367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126200" y="463860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163280" y="4959360"/>
                <a:ext cx="660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ta o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300640" y="1812960"/>
                <a:ext cx="636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gi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474880" y="1984320"/>
                <a:ext cx="240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522760" y="16858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308560" y="21002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19320" y="21002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692080" y="858960"/>
                <a:ext cx="1800" cy="3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660400" y="115416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692080" y="2068560"/>
                <a:ext cx="1800" cy="555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660400" y="259560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2"/>
                      <a:pt x="11" y="27"/>
                      <a:pt x="10" y="32"/>
                    </a:cubicBezTo>
                    <a:cubicBezTo>
                      <a:pt x="9" y="27"/>
                      <a:pt x="7" y="22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692080" y="2494080"/>
                <a:ext cx="984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3647880" y="2462040"/>
                <a:ext cx="101520" cy="6048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1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7" y="9"/>
                      <a:pt x="32" y="10"/>
                    </a:cubicBezTo>
                    <a:cubicBezTo>
                      <a:pt x="27" y="11"/>
                      <a:pt x="21" y="12"/>
                      <a:pt x="16" y="13"/>
                    </a:cubicBezTo>
                    <a:cubicBezTo>
                      <a:pt x="1" y="19"/>
                      <a:pt x="1" y="19"/>
                      <a:pt x="1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57788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4584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8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80648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774440" y="3824280"/>
                <a:ext cx="6372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3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037960" y="3071880"/>
                <a:ext cx="180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00628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498400" y="3071880"/>
                <a:ext cx="180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466720" y="3824280"/>
                <a:ext cx="6048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10" y="6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13" y="16"/>
                      <a:pt x="13" y="16"/>
                      <a:pt x="13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7" y="21"/>
                      <a:pt x="6" y="16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272700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2701800" y="38336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9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295884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2930400" y="38336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744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162240" y="3833640"/>
                <a:ext cx="5364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8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8" y="29"/>
                    </a:cubicBezTo>
                    <a:cubicBezTo>
                      <a:pt x="7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8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2292120" y="1255680"/>
                <a:ext cx="803160" cy="812880"/>
              </a:xfrm>
              <a:custGeom>
                <a:avLst/>
                <a:gdLst/>
                <a:ahLst/>
                <a:rect l="l" t="t" r="r" b="b"/>
                <a:pathLst>
                  <a:path w="506" h="512">
                    <a:moveTo>
                      <a:pt x="0" y="0"/>
                    </a:moveTo>
                    <a:lnTo>
                      <a:pt x="506" y="0"/>
                    </a:lnTo>
                    <a:lnTo>
                      <a:pt x="506" y="512"/>
                    </a:lnTo>
                    <a:lnTo>
                      <a:pt x="0" y="5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cc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2327040" y="150192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417760" y="1673280"/>
                <a:ext cx="634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404080" y="1252440"/>
                <a:ext cx="62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2322360" y="187308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749400" y="2376360"/>
                <a:ext cx="628560" cy="235080"/>
              </a:xfrm>
              <a:custGeom>
                <a:avLst/>
                <a:gdLst/>
                <a:ahLst/>
                <a:rect l="l" t="t" r="r" b="b"/>
                <a:pathLst>
                  <a:path w="396" h="148">
                    <a:moveTo>
                      <a:pt x="0" y="0"/>
                    </a:moveTo>
                    <a:lnTo>
                      <a:pt x="396" y="0"/>
                    </a:lnTo>
                    <a:lnTo>
                      <a:pt x="396" y="148"/>
                    </a:lnTo>
                    <a:lnTo>
                      <a:pt x="0" y="1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763080" y="2394000"/>
                <a:ext cx="622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ero fil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51272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51272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752120" y="3935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74276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97316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97316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450520" y="3935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2455200" y="40813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265572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665080" y="4083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900160" y="39355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882160" y="408132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11760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112560" y="4081320"/>
                <a:ext cx="1789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692080" y="439560"/>
                <a:ext cx="720720" cy="2054520"/>
              </a:xfrm>
              <a:custGeom>
                <a:avLst/>
                <a:gdLst/>
                <a:ahLst/>
                <a:rect l="l" t="t" r="r" b="b"/>
                <a:pathLst>
                  <a:path w="454" h="1294">
                    <a:moveTo>
                      <a:pt x="454" y="1294"/>
                    </a:moveTo>
                    <a:lnTo>
                      <a:pt x="454" y="0"/>
                    </a:lnTo>
                    <a:lnTo>
                      <a:pt x="0" y="0"/>
                    </a:lnTo>
                    <a:lnTo>
                      <a:pt x="0" y="8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660400" y="547560"/>
                <a:ext cx="60480" cy="98640"/>
              </a:xfrm>
              <a:custGeom>
                <a:avLst/>
                <a:gdLst/>
                <a:ahLst/>
                <a:rect l="l" t="t" r="r" b="b"/>
                <a:pathLst>
                  <a:path w="19" h="31">
                    <a:moveTo>
                      <a:pt x="10" y="5"/>
                    </a:move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3" y="15"/>
                      <a:pt x="13" y="15"/>
                      <a:pt x="13" y="15"/>
                    </a:cubicBezTo>
                    <a:cubicBezTo>
                      <a:pt x="12" y="21"/>
                      <a:pt x="11" y="26"/>
                      <a:pt x="10" y="31"/>
                    </a:cubicBezTo>
                    <a:cubicBezTo>
                      <a:pt x="9" y="26"/>
                      <a:pt x="7" y="21"/>
                      <a:pt x="6" y="15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060280" y="744480"/>
                <a:ext cx="139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174760" y="716040"/>
                <a:ext cx="101520" cy="6012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6" y="6"/>
                      <a:pt x="16" y="6"/>
                      <a:pt x="16" y="6"/>
                    </a:cubicBezTo>
                    <a:cubicBezTo>
                      <a:pt x="21" y="7"/>
                      <a:pt x="26" y="8"/>
                      <a:pt x="32" y="9"/>
                    </a:cubicBezTo>
                    <a:cubicBezTo>
                      <a:pt x="26" y="10"/>
                      <a:pt x="21" y="12"/>
                      <a:pt x="16" y="13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0" y="19"/>
                      <a:pt x="0" y="19"/>
                      <a:pt x="0" y="19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51120" y="3071880"/>
                <a:ext cx="144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622320" y="3833640"/>
                <a:ext cx="54000" cy="921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9" y="5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6" y="19"/>
                      <a:pt x="5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266560" y="3071880"/>
                <a:ext cx="1800" cy="78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238120" y="38336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95280" y="3935520"/>
                <a:ext cx="168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212560" y="4083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63400" y="2697120"/>
                <a:ext cx="2492280" cy="374760"/>
              </a:xfrm>
              <a:custGeom>
                <a:avLst/>
                <a:gdLst/>
                <a:ahLst/>
                <a:rect l="l" t="t" r="r" b="b"/>
                <a:pathLst>
                  <a:path w="1570" h="236">
                    <a:moveTo>
                      <a:pt x="146" y="0"/>
                    </a:moveTo>
                    <a:lnTo>
                      <a:pt x="1570" y="0"/>
                    </a:lnTo>
                    <a:lnTo>
                      <a:pt x="1570" y="236"/>
                    </a:lnTo>
                    <a:lnTo>
                      <a:pt x="0" y="236"/>
                    </a:lnTo>
                    <a:lnTo>
                      <a:pt x="0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056680" y="2784600"/>
                <a:ext cx="15048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 decod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615480" y="39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595320" y="40831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771640" y="328680"/>
                <a:ext cx="574560" cy="203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814120" y="33660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Exten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3418920" y="3071880"/>
                <a:ext cx="3240" cy="78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390840" y="3833640"/>
                <a:ext cx="5688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5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2" y="14"/>
                      <a:pt x="12" y="14"/>
                      <a:pt x="12" y="14"/>
                    </a:cubicBezTo>
                    <a:cubicBezTo>
                      <a:pt x="11" y="19"/>
                      <a:pt x="10" y="24"/>
                      <a:pt x="9" y="29"/>
                    </a:cubicBezTo>
                    <a:cubicBezTo>
                      <a:pt x="8" y="24"/>
                      <a:pt x="7" y="19"/>
                      <a:pt x="6" y="14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368520" y="40813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3372840" y="393552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879720" y="3071880"/>
                <a:ext cx="1440" cy="780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848040" y="3824280"/>
                <a:ext cx="63360" cy="101520"/>
              </a:xfrm>
              <a:custGeom>
                <a:avLst/>
                <a:gdLst/>
                <a:ahLst/>
                <a:rect l="l" t="t" r="r" b="b"/>
                <a:pathLst>
                  <a:path w="20" h="32">
                    <a:moveTo>
                      <a:pt x="10" y="6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14" y="16"/>
                      <a:pt x="14" y="16"/>
                      <a:pt x="14" y="16"/>
                    </a:cubicBezTo>
                    <a:cubicBezTo>
                      <a:pt x="12" y="21"/>
                      <a:pt x="11" y="27"/>
                      <a:pt x="10" y="32"/>
                    </a:cubicBezTo>
                    <a:cubicBezTo>
                      <a:pt x="9" y="27"/>
                      <a:pt x="8" y="21"/>
                      <a:pt x="7" y="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lnTo>
                      <a:pt x="1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825720" y="3935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25720" y="40813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510920" y="417600"/>
                <a:ext cx="584280" cy="660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530360" y="579240"/>
                <a:ext cx="56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ranc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512000" y="750960"/>
                <a:ext cx="596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355400" y="50940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419120" y="48096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355400" y="836640"/>
                <a:ext cx="88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419120" y="807840"/>
                <a:ext cx="91800" cy="5400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20" y="6"/>
                      <a:pt x="24" y="7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7"/>
                      <a:pt x="0" y="17"/>
                      <a:pt x="0" y="17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355400" y="66816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419120" y="63972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355400" y="985680"/>
                <a:ext cx="889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419120" y="957240"/>
                <a:ext cx="91800" cy="57240"/>
              </a:xfrm>
              <a:custGeom>
                <a:avLst/>
                <a:gdLst/>
                <a:ahLst/>
                <a:rect l="l" t="t" r="r" b="b"/>
                <a:pathLst>
                  <a:path w="29" h="18">
                    <a:moveTo>
                      <a:pt x="6" y="9"/>
                    </a:moveTo>
                    <a:cubicBezTo>
                      <a:pt x="0" y="1"/>
                      <a:pt x="0" y="1"/>
                      <a:pt x="0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5" y="6"/>
                      <a:pt x="15" y="6"/>
                      <a:pt x="15" y="6"/>
                    </a:cubicBezTo>
                    <a:cubicBezTo>
                      <a:pt x="20" y="7"/>
                      <a:pt x="24" y="8"/>
                      <a:pt x="29" y="9"/>
                    </a:cubicBezTo>
                    <a:cubicBezTo>
                      <a:pt x="24" y="10"/>
                      <a:pt x="20" y="11"/>
                      <a:pt x="15" y="12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18"/>
                      <a:pt x="0" y="18"/>
                      <a:pt x="0" y="18"/>
                    </a:cubicBezTo>
                    <a:lnTo>
                      <a:pt x="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196640" y="40968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204560" y="568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198440" y="7351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206360" y="88596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1603080" y="1144080"/>
                <a:ext cx="180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574640" y="1077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1" y="29"/>
                      <a:pt x="1" y="29"/>
                      <a:pt x="1" y="29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4"/>
                    </a:cubicBezTo>
                    <a:cubicBezTo>
                      <a:pt x="18" y="28"/>
                      <a:pt x="18" y="28"/>
                      <a:pt x="18" y="28"/>
                    </a:cubicBezTo>
                    <a:cubicBezTo>
                      <a:pt x="18" y="29"/>
                      <a:pt x="18" y="29"/>
                      <a:pt x="18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1755720" y="1144080"/>
                <a:ext cx="144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726920" y="1077840"/>
                <a:ext cx="57240" cy="9216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9" y="24"/>
                    </a:moveTo>
                    <a:cubicBezTo>
                      <a:pt x="0" y="29"/>
                      <a:pt x="0" y="29"/>
                      <a:pt x="0" y="29"/>
                    </a:cubicBezTo>
                    <a:cubicBezTo>
                      <a:pt x="0" y="29"/>
                      <a:pt x="0" y="29"/>
                      <a:pt x="0" y="29"/>
                    </a:cubicBezTo>
                    <a:cubicBezTo>
                      <a:pt x="6" y="15"/>
                      <a:pt x="6" y="15"/>
                      <a:pt x="6" y="15"/>
                    </a:cubicBezTo>
                    <a:cubicBezTo>
                      <a:pt x="7" y="10"/>
                      <a:pt x="8" y="5"/>
                      <a:pt x="9" y="0"/>
                    </a:cubicBezTo>
                    <a:cubicBezTo>
                      <a:pt x="10" y="5"/>
                      <a:pt x="11" y="10"/>
                      <a:pt x="12" y="15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17" y="29"/>
                      <a:pt x="17" y="29"/>
                      <a:pt x="17" y="29"/>
                    </a:cubicBez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1904760" y="1150560"/>
                <a:ext cx="1440" cy="136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76320" y="1077840"/>
                <a:ext cx="60120" cy="101520"/>
              </a:xfrm>
              <a:custGeom>
                <a:avLst/>
                <a:gdLst/>
                <a:ahLst/>
                <a:rect l="l" t="t" r="r" b="b"/>
                <a:pathLst>
                  <a:path w="19" h="32">
                    <a:moveTo>
                      <a:pt x="9" y="26"/>
                    </a:moveTo>
                    <a:cubicBezTo>
                      <a:pt x="0" y="32"/>
                      <a:pt x="0" y="32"/>
                      <a:pt x="0" y="32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6" y="16"/>
                      <a:pt x="6" y="16"/>
                      <a:pt x="6" y="16"/>
                    </a:cubicBezTo>
                    <a:cubicBezTo>
                      <a:pt x="7" y="11"/>
                      <a:pt x="8" y="5"/>
                      <a:pt x="9" y="0"/>
                    </a:cubicBezTo>
                    <a:cubicBezTo>
                      <a:pt x="11" y="5"/>
                      <a:pt x="12" y="11"/>
                      <a:pt x="13" y="16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9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719720" y="129996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699920" y="14414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552320" y="144144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1556640" y="1299960"/>
                <a:ext cx="109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850760" y="1298520"/>
                <a:ext cx="11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850760" y="14414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369600" y="244440"/>
                <a:ext cx="1280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R(8:6) || IR(2:0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276280" y="646200"/>
                <a:ext cx="831960" cy="212760"/>
              </a:xfrm>
              <a:prstGeom prst="rect">
                <a:avLst/>
              </a:prstGeom>
              <a:solidFill>
                <a:srgbClr val="ccecf4"/>
              </a:solidFill>
              <a:ln w="1908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590560" y="650880"/>
                <a:ext cx="236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65400" y="4322880"/>
                <a:ext cx="900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a0c6"/>
                    </a:solidFill>
                    <a:latin typeface="Times New Roman"/>
                  </a:rPr>
                  <a:t>CONTR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337000" y="3487680"/>
                <a:ext cx="57240" cy="572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6" name=""/>
            <p:cNvSpPr/>
            <p:nvPr/>
          </p:nvSpPr>
          <p:spPr>
            <a:xfrm>
              <a:off x="5084640" y="5904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126880" y="4194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2528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rot="16200000">
              <a:off x="2100600" y="4435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80840" y="418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28572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76200" y="41878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11080" y="4191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3752640" y="417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35840" y="39654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21040" y="291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866840" y="6127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52560" y="1393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232400" y="34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1444320" y="153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1593720" y="153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71200" y="153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917480" y="347040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7462800" y="3647880"/>
              <a:ext cx="495360" cy="12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441080" y="199692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ncrement</a:t>
              </a:r>
              <a:br>
                <a:rPr sz="1800"/>
              </a:b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P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576080" y="1844640"/>
              <a:ext cx="5040" cy="21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356080" y="2085840"/>
              <a:ext cx="2487600" cy="2311560"/>
            </a:xfrm>
            <a:custGeom>
              <a:avLst/>
              <a:gdLst/>
              <a:ahLst/>
              <a:rect l="l" t="t" r="r" b="b"/>
              <a:pathLst>
                <a:path w="1567" h="1456">
                  <a:moveTo>
                    <a:pt x="15" y="0"/>
                  </a:moveTo>
                  <a:cubicBezTo>
                    <a:pt x="7" y="321"/>
                    <a:pt x="0" y="643"/>
                    <a:pt x="15" y="792"/>
                  </a:cubicBezTo>
                  <a:cubicBezTo>
                    <a:pt x="30" y="941"/>
                    <a:pt x="15" y="896"/>
                    <a:pt x="103" y="896"/>
                  </a:cubicBezTo>
                  <a:cubicBezTo>
                    <a:pt x="191" y="896"/>
                    <a:pt x="1103" y="912"/>
                    <a:pt x="1335" y="896"/>
                  </a:cubicBezTo>
                  <a:cubicBezTo>
                    <a:pt x="1567" y="880"/>
                    <a:pt x="1458" y="931"/>
                    <a:pt x="1479" y="1024"/>
                  </a:cubicBezTo>
                  <a:cubicBezTo>
                    <a:pt x="1500" y="1117"/>
                    <a:pt x="1481" y="1286"/>
                    <a:pt x="1463" y="145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566960" y="1374840"/>
              <a:ext cx="2884680" cy="5232240"/>
            </a:xfrm>
            <a:custGeom>
              <a:avLst/>
              <a:gdLst/>
              <a:ahLst/>
              <a:rect l="l" t="t" r="r" b="b"/>
              <a:pathLst>
                <a:path w="1817" h="3296">
                  <a:moveTo>
                    <a:pt x="1792" y="2240"/>
                  </a:moveTo>
                  <a:cubicBezTo>
                    <a:pt x="1801" y="2416"/>
                    <a:pt x="1811" y="2593"/>
                    <a:pt x="1792" y="2680"/>
                  </a:cubicBezTo>
                  <a:cubicBezTo>
                    <a:pt x="1773" y="2767"/>
                    <a:pt x="1817" y="2748"/>
                    <a:pt x="1680" y="2760"/>
                  </a:cubicBezTo>
                  <a:cubicBezTo>
                    <a:pt x="1543" y="2772"/>
                    <a:pt x="1101" y="2736"/>
                    <a:pt x="968" y="2752"/>
                  </a:cubicBezTo>
                  <a:cubicBezTo>
                    <a:pt x="835" y="2768"/>
                    <a:pt x="903" y="2783"/>
                    <a:pt x="880" y="2856"/>
                  </a:cubicBezTo>
                  <a:cubicBezTo>
                    <a:pt x="857" y="2929"/>
                    <a:pt x="855" y="3121"/>
                    <a:pt x="832" y="3192"/>
                  </a:cubicBezTo>
                  <a:cubicBezTo>
                    <a:pt x="809" y="3263"/>
                    <a:pt x="863" y="3267"/>
                    <a:pt x="744" y="3280"/>
                  </a:cubicBezTo>
                  <a:cubicBezTo>
                    <a:pt x="625" y="3293"/>
                    <a:pt x="208" y="3296"/>
                    <a:pt x="120" y="3272"/>
                  </a:cubicBezTo>
                  <a:cubicBezTo>
                    <a:pt x="32" y="3248"/>
                    <a:pt x="8" y="3288"/>
                    <a:pt x="8" y="3088"/>
                  </a:cubicBezTo>
                  <a:cubicBezTo>
                    <a:pt x="8" y="2888"/>
                    <a:pt x="0" y="336"/>
                    <a:pt x="8" y="168"/>
                  </a:cubicBezTo>
                  <a:cubicBezTo>
                    <a:pt x="16" y="0"/>
                    <a:pt x="79" y="75"/>
                    <a:pt x="168" y="56"/>
                  </a:cubicBezTo>
                  <a:cubicBezTo>
                    <a:pt x="257" y="37"/>
                    <a:pt x="465" y="45"/>
                    <a:pt x="544" y="56"/>
                  </a:cubicBezTo>
                  <a:cubicBezTo>
                    <a:pt x="623" y="67"/>
                    <a:pt x="624" y="80"/>
                    <a:pt x="640" y="120"/>
                  </a:cubicBezTo>
                  <a:cubicBezTo>
                    <a:pt x="656" y="160"/>
                    <a:pt x="648" y="228"/>
                    <a:pt x="640" y="29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9" name=""/>
          <p:cNvSpPr/>
          <p:nvPr/>
        </p:nvSpPr>
        <p:spPr>
          <a:xfrm>
            <a:off x="5630760" y="476280"/>
            <a:ext cx="351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54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Entradas de Controle e camin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82E0-B4FE-4DA9-9791-74313224668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0" name=""/>
          <p:cNvGrpSpPr/>
          <p:nvPr/>
        </p:nvGrpSpPr>
        <p:grpSpPr>
          <a:xfrm>
            <a:off x="3851280" y="1773360"/>
            <a:ext cx="4973400" cy="4910760"/>
            <a:chOff x="3851280" y="1773360"/>
            <a:chExt cx="4973400" cy="4910760"/>
          </a:xfrm>
        </p:grpSpPr>
        <p:grpSp>
          <p:nvGrpSpPr>
            <p:cNvPr id="1261" name=""/>
            <p:cNvGrpSpPr/>
            <p:nvPr/>
          </p:nvGrpSpPr>
          <p:grpSpPr>
            <a:xfrm>
              <a:off x="3851280" y="1773360"/>
              <a:ext cx="4973400" cy="4910760"/>
              <a:chOff x="3851280" y="1773360"/>
              <a:chExt cx="4973400" cy="4910760"/>
            </a:xfrm>
          </p:grpSpPr>
          <p:sp>
            <p:nvSpPr>
              <p:cNvPr id="1262" name=""/>
              <p:cNvSpPr/>
              <p:nvPr/>
            </p:nvSpPr>
            <p:spPr>
              <a:xfrm>
                <a:off x="603216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37040" y="1954080"/>
                <a:ext cx="108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440120" y="1954080"/>
                <a:ext cx="1440" cy="54432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411520" y="2498760"/>
                <a:ext cx="2377800" cy="3209400"/>
              </a:xfrm>
              <a:custGeom>
                <a:avLst/>
                <a:gdLst/>
                <a:ahLst/>
                <a:rect l="l" t="t" r="r" b="b"/>
                <a:pathLst>
                  <a:path w="1483" h="1969">
                    <a:moveTo>
                      <a:pt x="1483" y="0"/>
                    </a:moveTo>
                    <a:lnTo>
                      <a:pt x="1483" y="366"/>
                    </a:lnTo>
                    <a:lnTo>
                      <a:pt x="0" y="366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806720" y="2498760"/>
                <a:ext cx="2277720" cy="3209400"/>
              </a:xfrm>
              <a:custGeom>
                <a:avLst/>
                <a:gdLst/>
                <a:ahLst/>
                <a:rect l="l" t="t" r="r" b="b"/>
                <a:pathLst>
                  <a:path w="1420" h="1969">
                    <a:moveTo>
                      <a:pt x="1420" y="0"/>
                    </a:moveTo>
                    <a:lnTo>
                      <a:pt x="1420" y="274"/>
                    </a:lnTo>
                    <a:lnTo>
                      <a:pt x="0" y="2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50800" y="2498760"/>
                <a:ext cx="2230200" cy="3209400"/>
              </a:xfrm>
              <a:custGeom>
                <a:avLst/>
                <a:gdLst/>
                <a:ahLst/>
                <a:rect l="l" t="t" r="r" b="b"/>
                <a:pathLst>
                  <a:path w="1391" h="1969">
                    <a:moveTo>
                      <a:pt x="1391" y="0"/>
                    </a:moveTo>
                    <a:lnTo>
                      <a:pt x="1391" y="172"/>
                    </a:lnTo>
                    <a:lnTo>
                      <a:pt x="0" y="172"/>
                    </a:lnTo>
                    <a:lnTo>
                      <a:pt x="0" y="1969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4492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781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0672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0098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73524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08480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3220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7799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8130960" y="5708520"/>
                <a:ext cx="108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8478360" y="5708520"/>
                <a:ext cx="1440" cy="730080"/>
              </a:xfrm>
              <a:prstGeom prst="line">
                <a:avLst/>
              </a:prstGeom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4903560" y="2498760"/>
                <a:ext cx="3398400" cy="3209400"/>
              </a:xfrm>
              <a:custGeom>
                <a:avLst/>
                <a:gdLst/>
                <a:ahLst/>
                <a:rect l="l" t="t" r="r" b="b"/>
                <a:pathLst>
                  <a:path w="2119" h="1969">
                    <a:moveTo>
                      <a:pt x="0" y="0"/>
                    </a:moveTo>
                    <a:lnTo>
                      <a:pt x="0" y="746"/>
                    </a:lnTo>
                    <a:lnTo>
                      <a:pt x="2119" y="746"/>
                    </a:lnTo>
                    <a:lnTo>
                      <a:pt x="2119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138280" y="2498760"/>
                <a:ext cx="1004760" cy="3209400"/>
              </a:xfrm>
              <a:custGeom>
                <a:avLst/>
                <a:gdLst/>
                <a:ahLst/>
                <a:rect l="l" t="t" r="r" b="b"/>
                <a:pathLst>
                  <a:path w="626" h="1969">
                    <a:moveTo>
                      <a:pt x="0" y="0"/>
                    </a:moveTo>
                    <a:lnTo>
                      <a:pt x="0" y="653"/>
                    </a:lnTo>
                    <a:lnTo>
                      <a:pt x="626" y="653"/>
                    </a:lnTo>
                    <a:lnTo>
                      <a:pt x="626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395680" y="2498760"/>
                <a:ext cx="883800" cy="3209400"/>
              </a:xfrm>
              <a:custGeom>
                <a:avLst/>
                <a:gdLst/>
                <a:ahLst/>
                <a:rect l="l" t="t" r="r" b="b"/>
                <a:pathLst>
                  <a:path w="551" h="1969">
                    <a:moveTo>
                      <a:pt x="0" y="0"/>
                    </a:moveTo>
                    <a:lnTo>
                      <a:pt x="0" y="91"/>
                    </a:lnTo>
                    <a:lnTo>
                      <a:pt x="71" y="91"/>
                    </a:lnTo>
                    <a:lnTo>
                      <a:pt x="71" y="566"/>
                    </a:lnTo>
                    <a:lnTo>
                      <a:pt x="551" y="566"/>
                    </a:lnTo>
                    <a:lnTo>
                      <a:pt x="551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682960" y="2498760"/>
                <a:ext cx="723600" cy="3209400"/>
              </a:xfrm>
              <a:custGeom>
                <a:avLst/>
                <a:gdLst/>
                <a:ahLst/>
                <a:rect l="l" t="t" r="r" b="b"/>
                <a:pathLst>
                  <a:path w="452" h="1969">
                    <a:moveTo>
                      <a:pt x="0" y="0"/>
                    </a:moveTo>
                    <a:lnTo>
                      <a:pt x="0" y="493"/>
                    </a:lnTo>
                    <a:lnTo>
                      <a:pt x="452" y="493"/>
                    </a:lnTo>
                    <a:lnTo>
                      <a:pt x="452" y="1969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81320" y="2498760"/>
                <a:ext cx="2771280" cy="3203280"/>
              </a:xfrm>
              <a:custGeom>
                <a:avLst/>
                <a:gdLst/>
                <a:ahLst/>
                <a:rect l="l" t="t" r="r" b="b"/>
                <a:pathLst>
                  <a:path w="1728" h="1966">
                    <a:moveTo>
                      <a:pt x="0" y="0"/>
                    </a:moveTo>
                    <a:lnTo>
                      <a:pt x="0" y="418"/>
                    </a:lnTo>
                    <a:lnTo>
                      <a:pt x="1728" y="418"/>
                    </a:lnTo>
                    <a:lnTo>
                      <a:pt x="1728" y="19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514560" y="3179880"/>
                <a:ext cx="1440" cy="178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697440" y="3584520"/>
                <a:ext cx="1782360" cy="2123640"/>
              </a:xfrm>
              <a:custGeom>
                <a:avLst/>
                <a:gdLst/>
                <a:ahLst/>
                <a:rect l="l" t="t" r="r" b="b"/>
                <a:pathLst>
                  <a:path w="1111" h="1303">
                    <a:moveTo>
                      <a:pt x="0" y="848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149"/>
                    </a:lnTo>
                    <a:lnTo>
                      <a:pt x="784" y="1149"/>
                    </a:lnTo>
                    <a:lnTo>
                      <a:pt x="784" y="130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60680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V="1">
                <a:off x="6603480" y="5307120"/>
                <a:ext cx="1440" cy="401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257600" y="3849480"/>
                <a:ext cx="1440" cy="185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20840" y="3978360"/>
                <a:ext cx="1440" cy="172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910200" y="3714840"/>
                <a:ext cx="1080" cy="199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568560" y="4149720"/>
                <a:ext cx="25236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712908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382640" y="2498760"/>
                <a:ext cx="3665160" cy="2466360"/>
              </a:xfrm>
              <a:custGeom>
                <a:avLst/>
                <a:gdLst/>
                <a:ahLst/>
                <a:rect l="l" t="t" r="r" b="b"/>
                <a:pathLst>
                  <a:path w="2285" h="1514">
                    <a:moveTo>
                      <a:pt x="0" y="0"/>
                    </a:moveTo>
                    <a:lnTo>
                      <a:pt x="0" y="908"/>
                    </a:lnTo>
                    <a:lnTo>
                      <a:pt x="2285" y="908"/>
                    </a:lnTo>
                    <a:lnTo>
                      <a:pt x="2285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818120" y="4965480"/>
                <a:ext cx="275760" cy="341280"/>
              </a:xfrm>
              <a:custGeom>
                <a:avLst/>
                <a:gdLst/>
                <a:ahLst/>
                <a:rect l="l" t="t" r="r" b="b"/>
                <a:pathLst>
                  <a:path w="113" h="136">
                    <a:moveTo>
                      <a:pt x="113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7" y="136"/>
                      <a:pt x="113" y="111"/>
                      <a:pt x="113" y="80"/>
                    </a:cubicBezTo>
                    <a:cubicBezTo>
                      <a:pt x="113" y="0"/>
                      <a:pt x="113" y="0"/>
                      <a:pt x="113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16440" y="4695840"/>
                <a:ext cx="348840" cy="269280"/>
              </a:xfrm>
              <a:custGeom>
                <a:avLst/>
                <a:gdLst/>
                <a:ahLst/>
                <a:rect l="l" t="t" r="r" b="b"/>
                <a:pathLst>
                  <a:path w="218" h="166">
                    <a:moveTo>
                      <a:pt x="0" y="0"/>
                    </a:moveTo>
                    <a:lnTo>
                      <a:pt x="218" y="0"/>
                    </a:lnTo>
                    <a:lnTo>
                      <a:pt x="218" y="166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646160" y="2498760"/>
                <a:ext cx="2869920" cy="2466360"/>
              </a:xfrm>
              <a:custGeom>
                <a:avLst/>
                <a:gdLst/>
                <a:ahLst/>
                <a:rect l="l" t="t" r="r" b="b"/>
                <a:pathLst>
                  <a:path w="1789" h="1514">
                    <a:moveTo>
                      <a:pt x="0" y="0"/>
                    </a:moveTo>
                    <a:lnTo>
                      <a:pt x="0" y="829"/>
                    </a:lnTo>
                    <a:lnTo>
                      <a:pt x="1789" y="829"/>
                    </a:lnTo>
                    <a:lnTo>
                      <a:pt x="1789" y="151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46568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79"/>
                      <a:pt x="1" y="79"/>
                      <a:pt x="1" y="79"/>
                    </a:cubicBezTo>
                    <a:cubicBezTo>
                      <a:pt x="1" y="110"/>
                      <a:pt x="26" y="136"/>
                      <a:pt x="57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698960" y="3978360"/>
                <a:ext cx="1440" cy="986760"/>
              </a:xfrm>
              <a:custGeom>
                <a:avLst/>
                <a:gdLst/>
                <a:ahLst/>
                <a:rect l="l" t="t" r="r" b="b"/>
                <a:pathLst>
                  <a:path w="0" h="606">
                    <a:moveTo>
                      <a:pt x="0" y="0"/>
                    </a:moveTo>
                    <a:lnTo>
                      <a:pt x="0" y="60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98960" y="3978360"/>
                <a:ext cx="1440" cy="986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465600" y="4965480"/>
                <a:ext cx="282240" cy="341280"/>
              </a:xfrm>
              <a:custGeom>
                <a:avLst/>
                <a:gdLst/>
                <a:ahLst/>
                <a:rect l="l" t="t" r="r" b="b"/>
                <a:pathLst>
                  <a:path w="114" h="136">
                    <a:moveTo>
                      <a:pt x="114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79"/>
                      <a:pt x="0" y="79"/>
                      <a:pt x="0" y="79"/>
                    </a:cubicBezTo>
                    <a:cubicBezTo>
                      <a:pt x="0" y="110"/>
                      <a:pt x="25" y="136"/>
                      <a:pt x="56" y="136"/>
                    </a:cubicBezTo>
                    <a:cubicBezTo>
                      <a:pt x="88" y="136"/>
                      <a:pt x="113" y="111"/>
                      <a:pt x="114" y="80"/>
                    </a:cubicBezTo>
                    <a:cubicBezTo>
                      <a:pt x="114" y="0"/>
                      <a:pt x="114" y="0"/>
                      <a:pt x="11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7954560" y="5306760"/>
                <a:ext cx="1440" cy="148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218000" y="4346640"/>
                <a:ext cx="806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5748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929360" y="5432400"/>
                <a:ext cx="5040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675200" y="3954240"/>
                <a:ext cx="471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7232400" y="3824280"/>
                <a:ext cx="48600" cy="48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86080" y="3687840"/>
                <a:ext cx="47520" cy="50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90800" y="3155760"/>
                <a:ext cx="48960" cy="475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795640" y="3954240"/>
                <a:ext cx="48960" cy="50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490880" y="4672080"/>
                <a:ext cx="50760" cy="47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570440" y="4149720"/>
                <a:ext cx="252000" cy="199440"/>
              </a:xfrm>
              <a:custGeom>
                <a:avLst/>
                <a:gdLst/>
                <a:ahLst/>
                <a:rect l="l" t="t" r="r" b="b"/>
                <a:pathLst>
                  <a:path w="157" h="123">
                    <a:moveTo>
                      <a:pt x="157" y="0"/>
                    </a:moveTo>
                    <a:lnTo>
                      <a:pt x="0" y="0"/>
                    </a:lnTo>
                    <a:lnTo>
                      <a:pt x="80" y="123"/>
                    </a:lnTo>
                    <a:lnTo>
                      <a:pt x="157" y="0"/>
                    </a:lnTo>
                    <a:lnTo>
                      <a:pt x="1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657560" y="4346640"/>
                <a:ext cx="82440" cy="83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399060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1212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18608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051080" y="616248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60512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737240" y="57355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800240" y="57355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660560" y="616104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A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23836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3690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43384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30352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787720" y="57373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746320" y="6162480"/>
                <a:ext cx="287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2978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3612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4278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318360" y="6162480"/>
                <a:ext cx="20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F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8756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94280" y="6162480"/>
                <a:ext cx="296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722952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151040" y="6162480"/>
                <a:ext cx="30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R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757260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479720" y="6162480"/>
                <a:ext cx="34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91208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863480" y="616248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826776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225280" y="6162480"/>
                <a:ext cx="209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J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623440" y="57373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8561160" y="6162480"/>
                <a:ext cx="247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25520" y="1773360"/>
                <a:ext cx="855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133520" y="1954080"/>
                <a:ext cx="4009680" cy="544320"/>
              </a:xfrm>
              <a:custGeom>
                <a:avLst/>
                <a:gdLst/>
                <a:ahLst/>
                <a:rect l="l" t="t" r="r" b="b"/>
                <a:pathLst>
                  <a:path w="2500" h="334">
                    <a:moveTo>
                      <a:pt x="1172" y="334"/>
                    </a:moveTo>
                    <a:lnTo>
                      <a:pt x="0" y="334"/>
                    </a:lnTo>
                    <a:lnTo>
                      <a:pt x="0" y="0"/>
                    </a:lnTo>
                    <a:lnTo>
                      <a:pt x="1172" y="0"/>
                    </a:lnTo>
                    <a:lnTo>
                      <a:pt x="2500" y="0"/>
                    </a:lnTo>
                    <a:lnTo>
                      <a:pt x="2500" y="334"/>
                    </a:lnTo>
                    <a:lnTo>
                      <a:pt x="1172" y="334"/>
                    </a:lnTo>
                    <a:close/>
                  </a:path>
                </a:pathLst>
              </a:cu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4892040" y="2074680"/>
                <a:ext cx="58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279840" y="2079720"/>
                <a:ext cx="25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993720" y="2079720"/>
                <a:ext cx="227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707960" y="2079720"/>
                <a:ext cx="2185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954760" y="6470640"/>
                <a:ext cx="1037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ntrol wor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3851280" y="5708520"/>
                <a:ext cx="4973400" cy="730080"/>
              </a:xfrm>
              <a:prstGeom prst="rect">
                <a:avLst/>
              </a:prstGeom>
              <a:noFill/>
              <a:ln w="15840">
                <a:solidFill>
                  <a:srgbClr val="00a0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31784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56696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160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06700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31468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565600" y="2319120"/>
                <a:ext cx="18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48560" y="232092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28344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34860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4119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98688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05168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116840" y="231624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68996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75512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820280" y="2317680"/>
                <a:ext cx="90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6" name=""/>
            <p:cNvSpPr/>
            <p:nvPr/>
          </p:nvSpPr>
          <p:spPr>
            <a:xfrm>
              <a:off x="4246200" y="186552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 1  0   0   0  0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717880" y="5884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12764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983560" y="5884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756120" y="587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80372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80080" y="586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5616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8499240" y="585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"/>
          <p:cNvSpPr/>
          <p:nvPr/>
        </p:nvSpPr>
        <p:spPr>
          <a:xfrm>
            <a:off x="1258920" y="1916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BRZ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Decodi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2ED3-EEF9-4353-BA69-9BD18B3873A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"/>
          <p:cNvGrpSpPr/>
          <p:nvPr/>
        </p:nvGrpSpPr>
        <p:grpSpPr>
          <a:xfrm>
            <a:off x="1322280" y="0"/>
            <a:ext cx="7820640" cy="6661800"/>
            <a:chOff x="1322280" y="0"/>
            <a:chExt cx="7820640" cy="6661800"/>
          </a:xfrm>
        </p:grpSpPr>
        <p:sp>
          <p:nvSpPr>
            <p:cNvPr id="1378" name=""/>
            <p:cNvSpPr/>
            <p:nvPr/>
          </p:nvSpPr>
          <p:spPr>
            <a:xfrm>
              <a:off x="1322280" y="3240"/>
              <a:ext cx="2816280" cy="4403520"/>
            </a:xfrm>
            <a:prstGeom prst="rect">
              <a:avLst/>
            </a:prstGeom>
            <a:solidFill>
              <a:srgbClr val="e5f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138560" y="0"/>
              <a:ext cx="2606760" cy="6648480"/>
            </a:xfrm>
            <a:custGeom>
              <a:avLst/>
              <a:gdLst/>
              <a:ahLst/>
              <a:rect l="l" t="t" r="r" b="b"/>
              <a:pathLst>
                <a:path w="1642" h="4188">
                  <a:moveTo>
                    <a:pt x="0" y="2"/>
                  </a:moveTo>
                  <a:lnTo>
                    <a:pt x="1642" y="0"/>
                  </a:lnTo>
                  <a:lnTo>
                    <a:pt x="1642" y="4188"/>
                  </a:lnTo>
                  <a:lnTo>
                    <a:pt x="0" y="4188"/>
                  </a:lnTo>
                  <a:lnTo>
                    <a:pt x="0" y="27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894280" y="2174760"/>
              <a:ext cx="1800" cy="530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865840" y="2679840"/>
              <a:ext cx="60120" cy="982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513320" y="2378160"/>
              <a:ext cx="1200240" cy="326880"/>
            </a:xfrm>
            <a:custGeom>
              <a:avLst/>
              <a:gdLst/>
              <a:ahLst/>
              <a:rect l="l" t="t" r="r" b="b"/>
              <a:pathLst>
                <a:path w="756" h="206">
                  <a:moveTo>
                    <a:pt x="0" y="0"/>
                  </a:moveTo>
                  <a:lnTo>
                    <a:pt x="756" y="0"/>
                  </a:lnTo>
                  <a:lnTo>
                    <a:pt x="756" y="2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684760" y="2679840"/>
              <a:ext cx="60480" cy="9828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1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00800" y="2174760"/>
              <a:ext cx="1440" cy="176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7200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702320" y="1333440"/>
              <a:ext cx="1306440" cy="5124600"/>
            </a:xfrm>
            <a:custGeom>
              <a:avLst/>
              <a:gdLst/>
              <a:ahLst/>
              <a:rect l="l" t="t" r="r" b="b"/>
              <a:pathLst>
                <a:path w="823" h="3228">
                  <a:moveTo>
                    <a:pt x="823" y="3158"/>
                  </a:moveTo>
                  <a:lnTo>
                    <a:pt x="823" y="3224"/>
                  </a:lnTo>
                  <a:lnTo>
                    <a:pt x="0" y="3228"/>
                  </a:lnTo>
                  <a:lnTo>
                    <a:pt x="0" y="0"/>
                  </a:lnTo>
                  <a:lnTo>
                    <a:pt x="637" y="0"/>
                  </a:lnTo>
                  <a:lnTo>
                    <a:pt x="637" y="9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684760" y="145404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0" y="27"/>
                    <a:pt x="9" y="32"/>
                  </a:cubicBezTo>
                  <a:cubicBezTo>
                    <a:pt x="8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11840" y="3089160"/>
              <a:ext cx="1393920" cy="851040"/>
            </a:xfrm>
            <a:custGeom>
              <a:avLst/>
              <a:gdLst/>
              <a:ahLst/>
              <a:rect l="l" t="t" r="r" b="b"/>
              <a:pathLst>
                <a:path w="878" h="536">
                  <a:moveTo>
                    <a:pt x="0" y="0"/>
                  </a:moveTo>
                  <a:lnTo>
                    <a:pt x="0" y="386"/>
                  </a:lnTo>
                  <a:lnTo>
                    <a:pt x="878" y="386"/>
                  </a:lnTo>
                  <a:lnTo>
                    <a:pt x="878" y="5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74080" y="39117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678040" y="114480"/>
              <a:ext cx="5162760" cy="3825720"/>
            </a:xfrm>
            <a:custGeom>
              <a:avLst/>
              <a:gdLst/>
              <a:ahLst/>
              <a:rect l="l" t="t" r="r" b="b"/>
              <a:pathLst>
                <a:path w="3252" h="2410">
                  <a:moveTo>
                    <a:pt x="3252" y="2410"/>
                  </a:moveTo>
                  <a:lnTo>
                    <a:pt x="3252" y="2070"/>
                  </a:lnTo>
                  <a:lnTo>
                    <a:pt x="1778" y="2070"/>
                  </a:lnTo>
                  <a:lnTo>
                    <a:pt x="1234" y="2070"/>
                  </a:lnTo>
                  <a:lnTo>
                    <a:pt x="1234" y="0"/>
                  </a:lnTo>
                  <a:lnTo>
                    <a:pt x="0" y="0"/>
                  </a:lnTo>
                  <a:lnTo>
                    <a:pt x="0" y="21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81200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46360" y="4287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26280" y="3701880"/>
              <a:ext cx="1440" cy="238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297480" y="391176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9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910120" y="5238720"/>
              <a:ext cx="18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881680" y="5899320"/>
              <a:ext cx="6048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0" y="26"/>
                    <a:pt x="9" y="32"/>
                  </a:cubicBezTo>
                  <a:cubicBezTo>
                    <a:pt x="8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084720" y="5029200"/>
              <a:ext cx="1476720" cy="895320"/>
            </a:xfrm>
            <a:custGeom>
              <a:avLst/>
              <a:gdLst/>
              <a:ahLst/>
              <a:rect l="l" t="t" r="r" b="b"/>
              <a:pathLst>
                <a:path w="930" h="564">
                  <a:moveTo>
                    <a:pt x="930" y="0"/>
                  </a:moveTo>
                  <a:lnTo>
                    <a:pt x="930" y="386"/>
                  </a:lnTo>
                  <a:lnTo>
                    <a:pt x="0" y="386"/>
                  </a:lnTo>
                  <a:lnTo>
                    <a:pt x="0" y="5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053040" y="5899320"/>
              <a:ext cx="6372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5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2" y="21"/>
                    <a:pt x="11" y="26"/>
                    <a:pt x="10" y="32"/>
                  </a:cubicBezTo>
                  <a:cubicBezTo>
                    <a:pt x="9" y="26"/>
                    <a:pt x="8" y="21"/>
                    <a:pt x="7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23280" y="3800520"/>
              <a:ext cx="144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7494480" y="3921120"/>
              <a:ext cx="54000" cy="9216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083200" y="341136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59000" y="3411360"/>
              <a:ext cx="45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38840" y="3203640"/>
              <a:ext cx="9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671520" y="351468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73520" y="3625920"/>
              <a:ext cx="34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787440" y="544032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608800" y="2778120"/>
              <a:ext cx="593640" cy="355680"/>
            </a:xfrm>
            <a:custGeom>
              <a:avLst/>
              <a:gdLst/>
              <a:ahLst/>
              <a:rect l="l" t="t" r="r" b="b"/>
              <a:pathLst>
                <a:path w="374" h="224">
                  <a:moveTo>
                    <a:pt x="0" y="0"/>
                  </a:moveTo>
                  <a:lnTo>
                    <a:pt x="374" y="0"/>
                  </a:lnTo>
                  <a:lnTo>
                    <a:pt x="374" y="224"/>
                  </a:lnTo>
                  <a:lnTo>
                    <a:pt x="0" y="22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634720" y="2954160"/>
              <a:ext cx="58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82600" y="27748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65120" y="277344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735520" y="6000840"/>
              <a:ext cx="628920" cy="352440"/>
            </a:xfrm>
            <a:custGeom>
              <a:avLst/>
              <a:gdLst/>
              <a:ahLst/>
              <a:rect l="l" t="t" r="r" b="b"/>
              <a:pathLst>
                <a:path w="396" h="222">
                  <a:moveTo>
                    <a:pt x="0" y="0"/>
                  </a:moveTo>
                  <a:lnTo>
                    <a:pt x="396" y="0"/>
                  </a:lnTo>
                  <a:lnTo>
                    <a:pt x="396" y="222"/>
                  </a:lnTo>
                  <a:lnTo>
                    <a:pt x="0" y="222"/>
                  </a:lnTo>
                  <a:lnTo>
                    <a:pt x="0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774760" y="616896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UX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79520" y="6002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054120" y="60022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19560" y="1657440"/>
              <a:ext cx="139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234040" y="163188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5" y="7"/>
                    <a:pt x="29" y="8"/>
                  </a:cubicBezTo>
                  <a:cubicBezTo>
                    <a:pt x="25" y="9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91120" y="1825560"/>
              <a:ext cx="16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227560" y="179388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960800" y="4194000"/>
              <a:ext cx="273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208480" y="4165560"/>
              <a:ext cx="98640" cy="604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5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1" y="7"/>
                    <a:pt x="26" y="8"/>
                    <a:pt x="31" y="9"/>
                  </a:cubicBezTo>
                  <a:cubicBezTo>
                    <a:pt x="26" y="11"/>
                    <a:pt x="21" y="12"/>
                    <a:pt x="15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027760" y="440676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960800" y="437832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9" y="1"/>
                    <a:pt x="29" y="1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5027760" y="461952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960800" y="459108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4" y="9"/>
                  </a:moveTo>
                  <a:cubicBezTo>
                    <a:pt x="29" y="18"/>
                    <a:pt x="29" y="18"/>
                    <a:pt x="29" y="18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6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027760" y="483228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4960800" y="480384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9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9"/>
                  </a:cubicBezTo>
                  <a:cubicBezTo>
                    <a:pt x="5" y="8"/>
                    <a:pt x="10" y="7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5027760" y="5041800"/>
              <a:ext cx="279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960800" y="501660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24" y="8"/>
                  </a:moveTo>
                  <a:cubicBezTo>
                    <a:pt x="29" y="17"/>
                    <a:pt x="29" y="17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0" y="11"/>
                    <a:pt x="5" y="10"/>
                    <a:pt x="0" y="8"/>
                  </a:cubicBezTo>
                  <a:cubicBezTo>
                    <a:pt x="5" y="7"/>
                    <a:pt x="10" y="6"/>
                    <a:pt x="15" y="5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lnTo>
                    <a:pt x="2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091120" y="2054160"/>
              <a:ext cx="1620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227560" y="202248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21" y="8"/>
                    <a:pt x="26" y="9"/>
                    <a:pt x="32" y="10"/>
                  </a:cubicBezTo>
                  <a:cubicBezTo>
                    <a:pt x="26" y="11"/>
                    <a:pt x="21" y="12"/>
                    <a:pt x="16" y="14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526000" y="6191280"/>
              <a:ext cx="13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634000" y="6159600"/>
              <a:ext cx="10152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6" y="1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2" y="8"/>
                    <a:pt x="27" y="9"/>
                    <a:pt x="32" y="10"/>
                  </a:cubicBezTo>
                  <a:cubicBezTo>
                    <a:pt x="27" y="11"/>
                    <a:pt x="22" y="12"/>
                    <a:pt x="16" y="14"/>
                  </a:cubicBezTo>
                  <a:cubicBezTo>
                    <a:pt x="1" y="20"/>
                    <a:pt x="1" y="20"/>
                    <a:pt x="1" y="20"/>
                  </a:cubicBezTo>
                  <a:cubicBezTo>
                    <a:pt x="0" y="20"/>
                    <a:pt x="0" y="20"/>
                    <a:pt x="0" y="20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767920" y="6448320"/>
              <a:ext cx="997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793760" y="1557360"/>
              <a:ext cx="30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10320" y="172548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97720" y="1955880"/>
              <a:ext cx="256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39400" y="2390760"/>
              <a:ext cx="695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40840" y="2562120"/>
              <a:ext cx="15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54720" y="1959120"/>
              <a:ext cx="247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6176880" y="2054160"/>
              <a:ext cx="139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103800" y="2022480"/>
              <a:ext cx="101880" cy="633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26" y="10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1" y="13"/>
                    <a:pt x="5" y="11"/>
                    <a:pt x="0" y="10"/>
                  </a:cubicBezTo>
                  <a:cubicBezTo>
                    <a:pt x="5" y="9"/>
                    <a:pt x="11" y="8"/>
                    <a:pt x="16" y="7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429240" y="287172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6275160" y="2965320"/>
              <a:ext cx="114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02440" y="2933640"/>
              <a:ext cx="98280" cy="63720"/>
            </a:xfrm>
            <a:custGeom>
              <a:avLst/>
              <a:gdLst/>
              <a:ahLst/>
              <a:rect l="l" t="t" r="r" b="b"/>
              <a:pathLst>
                <a:path w="31" h="20">
                  <a:moveTo>
                    <a:pt x="26" y="10"/>
                  </a:moveTo>
                  <a:cubicBezTo>
                    <a:pt x="31" y="19"/>
                    <a:pt x="31" y="19"/>
                    <a:pt x="31" y="19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16" y="13"/>
                    <a:pt x="16" y="13"/>
                    <a:pt x="16" y="13"/>
                  </a:cubicBezTo>
                  <a:cubicBezTo>
                    <a:pt x="10" y="12"/>
                    <a:pt x="5" y="11"/>
                    <a:pt x="0" y="10"/>
                  </a:cubicBezTo>
                  <a:cubicBezTo>
                    <a:pt x="5" y="9"/>
                    <a:pt x="10" y="8"/>
                    <a:pt x="16" y="6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  <a:lnTo>
                    <a:pt x="2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58480" y="409572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813200" y="4307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21120" y="4518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15000" y="4730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822560" y="49417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07120" y="4013280"/>
              <a:ext cx="1231920" cy="1222200"/>
            </a:xfrm>
            <a:custGeom>
              <a:avLst/>
              <a:gdLst/>
              <a:ahLst/>
              <a:rect l="l" t="t" r="r" b="b"/>
              <a:pathLst>
                <a:path w="776" h="770">
                  <a:moveTo>
                    <a:pt x="0" y="0"/>
                  </a:moveTo>
                  <a:lnTo>
                    <a:pt x="776" y="0"/>
                  </a:lnTo>
                  <a:lnTo>
                    <a:pt x="776" y="770"/>
                  </a:lnTo>
                  <a:lnTo>
                    <a:pt x="0" y="7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23200" y="4456080"/>
              <a:ext cx="685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un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789520" y="4627440"/>
              <a:ext cx="308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429160" y="4021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269040" y="4021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63680" y="50562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216760" y="6110280"/>
              <a:ext cx="29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741920" y="6253200"/>
              <a:ext cx="460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us 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301560" y="2379600"/>
              <a:ext cx="556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329080" y="1555920"/>
              <a:ext cx="771840" cy="618840"/>
            </a:xfrm>
            <a:custGeom>
              <a:avLst/>
              <a:gdLst/>
              <a:ahLst/>
              <a:rect l="l" t="t" r="r" b="b"/>
              <a:pathLst>
                <a:path w="486" h="390">
                  <a:moveTo>
                    <a:pt x="0" y="0"/>
                  </a:moveTo>
                  <a:lnTo>
                    <a:pt x="486" y="0"/>
                  </a:lnTo>
                  <a:lnTo>
                    <a:pt x="486" y="390"/>
                  </a:lnTo>
                  <a:lnTo>
                    <a:pt x="0" y="39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929280" y="4013280"/>
              <a:ext cx="1219320" cy="1015920"/>
            </a:xfrm>
            <a:custGeom>
              <a:avLst/>
              <a:gdLst/>
              <a:ahLst/>
              <a:rect l="l" t="t" r="r" b="b"/>
              <a:pathLst>
                <a:path w="768" h="640">
                  <a:moveTo>
                    <a:pt x="0" y="0"/>
                  </a:moveTo>
                  <a:lnTo>
                    <a:pt x="768" y="0"/>
                  </a:lnTo>
                  <a:lnTo>
                    <a:pt x="768" y="640"/>
                  </a:lnTo>
                  <a:lnTo>
                    <a:pt x="0" y="6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79680" y="4021200"/>
              <a:ext cx="561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585920" y="402120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372440" y="4351320"/>
              <a:ext cx="367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61560" y="452268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298640" y="4843440"/>
              <a:ext cx="66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ata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5436000" y="1697040"/>
              <a:ext cx="63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609880" y="1868400"/>
              <a:ext cx="24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657760" y="15699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443560" y="1984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54680" y="19843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827440" y="743040"/>
              <a:ext cx="1440" cy="323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95760" y="103824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27440" y="1952640"/>
              <a:ext cx="1440" cy="55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95760" y="247968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2"/>
                    <a:pt x="11" y="27"/>
                    <a:pt x="10" y="32"/>
                  </a:cubicBezTo>
                  <a:cubicBezTo>
                    <a:pt x="9" y="27"/>
                    <a:pt x="7" y="22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27440" y="2378160"/>
              <a:ext cx="984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3782880" y="2346480"/>
              <a:ext cx="10188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1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7" y="9"/>
                    <a:pt x="32" y="10"/>
                  </a:cubicBezTo>
                  <a:cubicBezTo>
                    <a:pt x="27" y="11"/>
                    <a:pt x="21" y="12"/>
                    <a:pt x="16" y="13"/>
                  </a:cubicBezTo>
                  <a:cubicBezTo>
                    <a:pt x="1" y="19"/>
                    <a:pt x="1" y="19"/>
                    <a:pt x="1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71288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8120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8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94148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909800" y="37083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173320" y="295596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14164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633760" y="2955960"/>
              <a:ext cx="144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02080" y="3708360"/>
              <a:ext cx="60120" cy="10152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0" y="6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7" y="21"/>
                    <a:pt x="6" y="16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6236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83680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9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309420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065400" y="3718080"/>
              <a:ext cx="5724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32280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9724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8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8" y="29"/>
                  </a:cubicBezTo>
                  <a:cubicBezTo>
                    <a:pt x="7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427120" y="1139760"/>
              <a:ext cx="803520" cy="812880"/>
            </a:xfrm>
            <a:custGeom>
              <a:avLst/>
              <a:gdLst/>
              <a:ahLst/>
              <a:rect l="l" t="t" r="r" b="b"/>
              <a:pathLst>
                <a:path w="506" h="512">
                  <a:moveTo>
                    <a:pt x="0" y="0"/>
                  </a:moveTo>
                  <a:lnTo>
                    <a:pt x="506" y="0"/>
                  </a:lnTo>
                  <a:lnTo>
                    <a:pt x="506" y="512"/>
                  </a:lnTo>
                  <a:lnTo>
                    <a:pt x="0" y="5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462400" y="138600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552760" y="1557360"/>
              <a:ext cx="63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539440" y="1136520"/>
              <a:ext cx="62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457360" y="1757520"/>
              <a:ext cx="855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84760" y="2260440"/>
              <a:ext cx="628560" cy="235080"/>
            </a:xfrm>
            <a:custGeom>
              <a:avLst/>
              <a:gdLst/>
              <a:ahLst/>
              <a:rect l="l" t="t" r="r" b="b"/>
              <a:pathLst>
                <a:path w="396" h="148">
                  <a:moveTo>
                    <a:pt x="0" y="0"/>
                  </a:moveTo>
                  <a:lnTo>
                    <a:pt x="396" y="0"/>
                  </a:lnTo>
                  <a:lnTo>
                    <a:pt x="396" y="148"/>
                  </a:lnTo>
                  <a:lnTo>
                    <a:pt x="0" y="14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898080" y="2278080"/>
              <a:ext cx="622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ero fi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64772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6477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887480" y="3819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8781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10816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0816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585520" y="3819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590200" y="3965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79072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800440" y="3967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35160" y="38196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017520" y="39654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25296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247560" y="3965400"/>
              <a:ext cx="178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827440" y="324000"/>
              <a:ext cx="720720" cy="2054160"/>
            </a:xfrm>
            <a:custGeom>
              <a:avLst/>
              <a:gdLst/>
              <a:ahLst/>
              <a:rect l="l" t="t" r="r" b="b"/>
              <a:pathLst>
                <a:path w="454" h="1294">
                  <a:moveTo>
                    <a:pt x="454" y="1294"/>
                  </a:moveTo>
                  <a:lnTo>
                    <a:pt x="454" y="0"/>
                  </a:lnTo>
                  <a:lnTo>
                    <a:pt x="0" y="0"/>
                  </a:lnTo>
                  <a:lnTo>
                    <a:pt x="0" y="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795760" y="431640"/>
              <a:ext cx="60120" cy="9864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0" y="5"/>
                  </a:move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2" y="21"/>
                    <a:pt x="11" y="26"/>
                    <a:pt x="10" y="31"/>
                  </a:cubicBezTo>
                  <a:cubicBezTo>
                    <a:pt x="9" y="26"/>
                    <a:pt x="7" y="21"/>
                    <a:pt x="6" y="15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195640" y="628560"/>
              <a:ext cx="139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309760" y="600120"/>
              <a:ext cx="101520" cy="601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21" y="7"/>
                    <a:pt x="26" y="8"/>
                    <a:pt x="32" y="9"/>
                  </a:cubicBezTo>
                  <a:cubicBezTo>
                    <a:pt x="26" y="10"/>
                    <a:pt x="21" y="12"/>
                    <a:pt x="16" y="13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86120" y="2955960"/>
              <a:ext cx="180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57680" y="3718080"/>
              <a:ext cx="54000" cy="918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9" y="5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6" y="19"/>
                    <a:pt x="5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401920" y="2955960"/>
              <a:ext cx="1440" cy="78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3718080"/>
              <a:ext cx="5688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330280" y="3819600"/>
              <a:ext cx="16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347920" y="396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598760" y="2581200"/>
              <a:ext cx="2492280" cy="374760"/>
            </a:xfrm>
            <a:custGeom>
              <a:avLst/>
              <a:gdLst/>
              <a:ahLst/>
              <a:rect l="l" t="t" r="r" b="b"/>
              <a:pathLst>
                <a:path w="1570" h="236">
                  <a:moveTo>
                    <a:pt x="146" y="0"/>
                  </a:moveTo>
                  <a:lnTo>
                    <a:pt x="1570" y="0"/>
                  </a:lnTo>
                  <a:lnTo>
                    <a:pt x="1570" y="236"/>
                  </a:lnTo>
                  <a:lnTo>
                    <a:pt x="0" y="236"/>
                  </a:lnTo>
                  <a:lnTo>
                    <a:pt x="0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91680" y="2668680"/>
              <a:ext cx="1504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nstruction deco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750480" y="38196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730680" y="39672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906640" y="212760"/>
              <a:ext cx="574920" cy="2030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49480" y="220680"/>
              <a:ext cx="54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xt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553920" y="2955960"/>
              <a:ext cx="324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25840" y="3718080"/>
              <a:ext cx="57240" cy="9180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5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1" y="19"/>
                    <a:pt x="10" y="24"/>
                    <a:pt x="9" y="29"/>
                  </a:cubicBezTo>
                  <a:cubicBezTo>
                    <a:pt x="8" y="24"/>
                    <a:pt x="7" y="19"/>
                    <a:pt x="6" y="14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503520" y="39654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507840" y="38196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014720" y="2955960"/>
              <a:ext cx="1800" cy="78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83040" y="3708360"/>
              <a:ext cx="63360" cy="101520"/>
            </a:xfrm>
            <a:custGeom>
              <a:avLst/>
              <a:gdLst/>
              <a:ahLst/>
              <a:rect l="l" t="t" r="r" b="b"/>
              <a:pathLst>
                <a:path w="20" h="32">
                  <a:moveTo>
                    <a:pt x="10" y="6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2" y="21"/>
                    <a:pt x="11" y="27"/>
                    <a:pt x="10" y="32"/>
                  </a:cubicBezTo>
                  <a:cubicBezTo>
                    <a:pt x="9" y="27"/>
                    <a:pt x="8" y="21"/>
                    <a:pt x="7" y="16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960720" y="3819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960720" y="39654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646280" y="301680"/>
              <a:ext cx="584280" cy="660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665720" y="463680"/>
              <a:ext cx="56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647360" y="635040"/>
              <a:ext cx="59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490760" y="39384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54120" y="36504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490760" y="72072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554120" y="692280"/>
              <a:ext cx="92160" cy="54000"/>
            </a:xfrm>
            <a:custGeom>
              <a:avLst/>
              <a:gdLst/>
              <a:ahLst/>
              <a:rect l="l" t="t" r="r" b="b"/>
              <a:pathLst>
                <a:path w="29" h="17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20" y="6"/>
                    <a:pt x="24" y="7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0" y="17"/>
                    <a:pt x="0" y="17"/>
                    <a:pt x="0" y="17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490760" y="55260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554120" y="52380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490760" y="870120"/>
              <a:ext cx="8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54120" y="841320"/>
              <a:ext cx="92160" cy="5724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6" y="9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20" y="7"/>
                    <a:pt x="24" y="8"/>
                    <a:pt x="29" y="9"/>
                  </a:cubicBezTo>
                  <a:cubicBezTo>
                    <a:pt x="24" y="10"/>
                    <a:pt x="20" y="11"/>
                    <a:pt x="15" y="12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18"/>
                    <a:pt x="0" y="18"/>
                    <a:pt x="0" y="18"/>
                  </a:cubicBezTo>
                  <a:lnTo>
                    <a:pt x="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332000" y="293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339920" y="452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333440" y="6192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341360" y="770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1738440" y="10288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709640" y="961920"/>
              <a:ext cx="5724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1" y="29"/>
                    <a:pt x="1" y="29"/>
                    <a:pt x="1" y="29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6" y="14"/>
                    <a:pt x="6" y="14"/>
                    <a:pt x="6" y="14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4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9"/>
                    <a:pt x="18" y="29"/>
                    <a:pt x="18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1890720" y="1028880"/>
              <a:ext cx="1440" cy="14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862280" y="961920"/>
              <a:ext cx="56880" cy="921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9" y="24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0"/>
                    <a:pt x="8" y="5"/>
                    <a:pt x="9" y="0"/>
                  </a:cubicBezTo>
                  <a:cubicBezTo>
                    <a:pt x="10" y="5"/>
                    <a:pt x="11" y="10"/>
                    <a:pt x="12" y="15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7" y="29"/>
                    <a:pt x="17" y="29"/>
                    <a:pt x="17" y="29"/>
                  </a:cubicBezTo>
                  <a:lnTo>
                    <a:pt x="9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V="1">
              <a:off x="2039760" y="1034640"/>
              <a:ext cx="1800" cy="136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2011320" y="961920"/>
              <a:ext cx="60480" cy="101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26"/>
                  </a:moveTo>
                  <a:cubicBezTo>
                    <a:pt x="0" y="32"/>
                    <a:pt x="0" y="32"/>
                    <a:pt x="0" y="32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7" y="11"/>
                    <a:pt x="8" y="5"/>
                    <a:pt x="9" y="0"/>
                  </a:cubicBezTo>
                  <a:cubicBezTo>
                    <a:pt x="11" y="5"/>
                    <a:pt x="12" y="11"/>
                    <a:pt x="13" y="16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855080" y="118440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834920" y="1325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687320" y="13255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692000" y="118440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985760" y="11826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86120" y="1325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504600" y="128520"/>
              <a:ext cx="1280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R(8:6) || IR(2: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411280" y="530280"/>
              <a:ext cx="831960" cy="212760"/>
            </a:xfrm>
            <a:prstGeom prst="rect">
              <a:avLst/>
            </a:prstGeom>
            <a:solidFill>
              <a:srgbClr val="ccecf4"/>
            </a:solidFill>
            <a:ln w="19080">
              <a:solidFill>
                <a:srgbClr val="00a0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725560" y="534960"/>
              <a:ext cx="23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200400" y="4206960"/>
              <a:ext cx="90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0c6"/>
                  </a:solidFill>
                  <a:latin typeface="Times New Roman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472000" y="3371760"/>
              <a:ext cx="57240" cy="5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30720" y="4874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261880" y="4078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60640" y="407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2235600" y="43196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716200" y="4068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3421080" y="40719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209760" y="4071960"/>
              <a:ext cx="42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646440" y="4075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887640" y="40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470840" y="3849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 0 0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656400" y="2795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f5f5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002200" y="6012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687920" y="1278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367400" y="3360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579320" y="1417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728720" y="142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906560" y="142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477040" y="2185920"/>
              <a:ext cx="317160" cy="2082960"/>
            </a:xfrm>
            <a:custGeom>
              <a:avLst/>
              <a:gdLst/>
              <a:ahLst/>
              <a:rect l="l" t="t" r="r" b="b"/>
              <a:pathLst>
                <a:path w="200" h="1312">
                  <a:moveTo>
                    <a:pt x="8" y="0"/>
                  </a:moveTo>
                  <a:cubicBezTo>
                    <a:pt x="8" y="109"/>
                    <a:pt x="7" y="465"/>
                    <a:pt x="8" y="656"/>
                  </a:cubicBezTo>
                  <a:cubicBezTo>
                    <a:pt x="9" y="847"/>
                    <a:pt x="0" y="1043"/>
                    <a:pt x="16" y="1144"/>
                  </a:cubicBezTo>
                  <a:cubicBezTo>
                    <a:pt x="31" y="1247"/>
                    <a:pt x="73" y="1236"/>
                    <a:pt x="104" y="1264"/>
                  </a:cubicBezTo>
                  <a:cubicBezTo>
                    <a:pt x="135" y="1292"/>
                    <a:pt x="180" y="1302"/>
                    <a:pt x="200" y="1312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052480" y="335448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7597800" y="3531960"/>
              <a:ext cx="495360" cy="12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576080" y="1881360"/>
              <a:ext cx="120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Branch 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1711440" y="1728720"/>
              <a:ext cx="4680" cy="219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398200" y="865080"/>
              <a:ext cx="109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No Wri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917960" y="1042560"/>
              <a:ext cx="520920" cy="368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805120" y="225360"/>
              <a:ext cx="760320" cy="2171880"/>
            </a:xfrm>
            <a:custGeom>
              <a:avLst/>
              <a:gdLst/>
              <a:ahLst/>
              <a:rect l="l" t="t" r="r" b="b"/>
              <a:pathLst>
                <a:path w="479" h="1368">
                  <a:moveTo>
                    <a:pt x="19" y="1051"/>
                  </a:moveTo>
                  <a:cubicBezTo>
                    <a:pt x="9" y="1154"/>
                    <a:pt x="0" y="1258"/>
                    <a:pt x="11" y="1307"/>
                  </a:cubicBezTo>
                  <a:cubicBezTo>
                    <a:pt x="22" y="1356"/>
                    <a:pt x="22" y="1339"/>
                    <a:pt x="83" y="1347"/>
                  </a:cubicBezTo>
                  <a:cubicBezTo>
                    <a:pt x="144" y="1355"/>
                    <a:pt x="316" y="1368"/>
                    <a:pt x="379" y="1355"/>
                  </a:cubicBezTo>
                  <a:cubicBezTo>
                    <a:pt x="442" y="1342"/>
                    <a:pt x="454" y="1364"/>
                    <a:pt x="459" y="1267"/>
                  </a:cubicBezTo>
                  <a:cubicBezTo>
                    <a:pt x="464" y="1170"/>
                    <a:pt x="479" y="406"/>
                    <a:pt x="467" y="203"/>
                  </a:cubicBezTo>
                  <a:cubicBezTo>
                    <a:pt x="455" y="0"/>
                    <a:pt x="454" y="75"/>
                    <a:pt x="387" y="51"/>
                  </a:cubicBezTo>
                  <a:cubicBezTo>
                    <a:pt x="320" y="27"/>
                    <a:pt x="130" y="50"/>
                    <a:pt x="67" y="59"/>
                  </a:cubicBezTo>
                  <a:cubicBezTo>
                    <a:pt x="4" y="68"/>
                    <a:pt x="20" y="71"/>
                    <a:pt x="11" y="107"/>
                  </a:cubicBezTo>
                  <a:cubicBezTo>
                    <a:pt x="2" y="143"/>
                    <a:pt x="11" y="248"/>
                    <a:pt x="11" y="275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739880" y="601560"/>
              <a:ext cx="809640" cy="260280"/>
            </a:xfrm>
            <a:custGeom>
              <a:avLst/>
              <a:gdLst/>
              <a:ahLst/>
              <a:rect l="l" t="t" r="r" b="b"/>
              <a:pathLst>
                <a:path w="510" h="164">
                  <a:moveTo>
                    <a:pt x="0" y="164"/>
                  </a:moveTo>
                  <a:cubicBezTo>
                    <a:pt x="45" y="141"/>
                    <a:pt x="185" y="46"/>
                    <a:pt x="270" y="23"/>
                  </a:cubicBezTo>
                  <a:cubicBezTo>
                    <a:pt x="355" y="0"/>
                    <a:pt x="460" y="26"/>
                    <a:pt x="510" y="26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4" name=""/>
          <p:cNvSpPr/>
          <p:nvPr/>
        </p:nvSpPr>
        <p:spPr>
          <a:xfrm>
            <a:off x="1109520" y="820800"/>
            <a:ext cx="4811760" cy="4900680"/>
          </a:xfrm>
          <a:custGeom>
            <a:avLst/>
            <a:gdLst/>
            <a:ahLst/>
            <a:rect l="l" t="t" r="r" b="b"/>
            <a:pathLst>
              <a:path w="3031" h="3087">
                <a:moveTo>
                  <a:pt x="2943" y="2180"/>
                </a:moveTo>
                <a:cubicBezTo>
                  <a:pt x="3031" y="2252"/>
                  <a:pt x="3024" y="2372"/>
                  <a:pt x="3007" y="2452"/>
                </a:cubicBezTo>
                <a:cubicBezTo>
                  <a:pt x="2990" y="2532"/>
                  <a:pt x="2898" y="2627"/>
                  <a:pt x="2839" y="2660"/>
                </a:cubicBezTo>
                <a:cubicBezTo>
                  <a:pt x="2780" y="2693"/>
                  <a:pt x="2726" y="2652"/>
                  <a:pt x="2655" y="2652"/>
                </a:cubicBezTo>
                <a:cubicBezTo>
                  <a:pt x="2584" y="2652"/>
                  <a:pt x="2792" y="2657"/>
                  <a:pt x="2415" y="2660"/>
                </a:cubicBezTo>
                <a:cubicBezTo>
                  <a:pt x="2038" y="2663"/>
                  <a:pt x="782" y="3087"/>
                  <a:pt x="391" y="2668"/>
                </a:cubicBezTo>
                <a:cubicBezTo>
                  <a:pt x="0" y="2249"/>
                  <a:pt x="71" y="260"/>
                  <a:pt x="71" y="148"/>
                </a:cubicBezTo>
                <a:cubicBezTo>
                  <a:pt x="71" y="36"/>
                  <a:pt x="82" y="40"/>
                  <a:pt x="135" y="20"/>
                </a:cubicBezTo>
                <a:cubicBezTo>
                  <a:pt x="188" y="0"/>
                  <a:pt x="289" y="14"/>
                  <a:pt x="391" y="2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FC02D-CBF4-438F-9229-78AE71B5077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835280" y="2781360"/>
            <a:ext cx="26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asos no SC (Pior ca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5003640" y="44280"/>
            <a:ext cx="2598840" cy="678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D86A-B949-42C8-BE63-4FE40C66B7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s de Endere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9" name="" descr=""/>
          <p:cNvPicPr/>
          <p:nvPr/>
        </p:nvPicPr>
        <p:blipFill>
          <a:blip r:embed="rId1"/>
          <a:srcRect l="23090" t="35280" r="22305" b="23204"/>
          <a:stretch/>
        </p:blipFill>
        <p:spPr>
          <a:xfrm>
            <a:off x="1332000" y="2565360"/>
            <a:ext cx="7489800" cy="355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2EAC-063F-4665-A0D4-AD893B7848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ível ISA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1186920" y="1844640"/>
            <a:ext cx="295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os de Endereç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2" name="" descr=""/>
          <p:cNvPicPr/>
          <p:nvPr/>
        </p:nvPicPr>
        <p:blipFill>
          <a:blip r:embed="rId1"/>
          <a:srcRect l="28045" t="22267" r="26173" b="11783"/>
          <a:stretch/>
        </p:blipFill>
        <p:spPr>
          <a:xfrm>
            <a:off x="4211640" y="1700280"/>
            <a:ext cx="4599000" cy="49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245D2-3DDA-43B4-ABD8-80DCC5AC15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969696"/>
                </a:solidFill>
                <a:uFillTx/>
                <a:latin typeface="Arial"/>
                <a:hlinkClick r:id="rId1"/>
              </a:rPr>
              <a:t>http://home.comcast.net/~fbui/intel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ções (Intel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 da instrução é igual ao do x86-32, com tamanho máximo de 15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ível ISA - Intel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5" name="" descr=""/>
          <p:cNvPicPr/>
          <p:nvPr/>
        </p:nvPicPr>
        <p:blipFill>
          <a:blip r:embed="rId2"/>
          <a:srcRect l="33067" t="47059" r="18102" b="24392"/>
          <a:stretch/>
        </p:blipFill>
        <p:spPr>
          <a:xfrm>
            <a:off x="1619280" y="4149720"/>
            <a:ext cx="6697800" cy="244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B4B6-AED1-4D57-B797-8BE43DDA0C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2880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ções são armazenadas em memória RAM ou RO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ereço da próxima instrução: armazenado no P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ção da instrução: controlada pela U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413240" y="2190600"/>
            <a:ext cx="2066760" cy="2065320"/>
          </a:xfrm>
          <a:custGeom>
            <a:avLst/>
            <a:gdLst/>
            <a:ahLst/>
            <a:rect l="l" t="t" r="r" b="b"/>
            <a:pathLst>
              <a:path w="1302" h="1301">
                <a:moveTo>
                  <a:pt x="0" y="0"/>
                </a:moveTo>
                <a:lnTo>
                  <a:pt x="1302" y="0"/>
                </a:lnTo>
                <a:lnTo>
                  <a:pt x="1302" y="1301"/>
                </a:lnTo>
                <a:lnTo>
                  <a:pt x="0" y="130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3240" y="4532400"/>
            <a:ext cx="2066760" cy="2065320"/>
          </a:xfrm>
          <a:custGeom>
            <a:avLst/>
            <a:gdLst/>
            <a:ahLst/>
            <a:rect l="l" t="t" r="r" b="b"/>
            <a:pathLst>
              <a:path w="1302" h="1301">
                <a:moveTo>
                  <a:pt x="0" y="0"/>
                </a:moveTo>
                <a:lnTo>
                  <a:pt x="1302" y="0"/>
                </a:lnTo>
                <a:lnTo>
                  <a:pt x="1302" y="1301"/>
                </a:lnTo>
                <a:lnTo>
                  <a:pt x="0" y="130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54680" y="3165480"/>
            <a:ext cx="2065320" cy="2066760"/>
          </a:xfrm>
          <a:custGeom>
            <a:avLst/>
            <a:gdLst/>
            <a:ahLst/>
            <a:rect l="l" t="t" r="r" b="b"/>
            <a:pathLst>
              <a:path w="1301" h="1302">
                <a:moveTo>
                  <a:pt x="0" y="0"/>
                </a:moveTo>
                <a:lnTo>
                  <a:pt x="1301" y="0"/>
                </a:lnTo>
                <a:lnTo>
                  <a:pt x="1301" y="1302"/>
                </a:lnTo>
                <a:lnTo>
                  <a:pt x="0" y="130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54680" y="2212920"/>
            <a:ext cx="2065320" cy="677880"/>
          </a:xfrm>
          <a:custGeom>
            <a:avLst/>
            <a:gdLst/>
            <a:ahLst/>
            <a:rect l="l" t="t" r="r" b="b"/>
            <a:pathLst>
              <a:path w="1301" h="427">
                <a:moveTo>
                  <a:pt x="0" y="0"/>
                </a:moveTo>
                <a:lnTo>
                  <a:pt x="1301" y="0"/>
                </a:lnTo>
                <a:lnTo>
                  <a:pt x="1301" y="427"/>
                </a:lnTo>
                <a:lnTo>
                  <a:pt x="0" y="42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noFill/>
          <a:ln w="23760">
            <a:solidFill>
              <a:srgbClr val="00a0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06880" y="2846520"/>
            <a:ext cx="100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3068640"/>
            <a:ext cx="115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çõ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21360" y="3322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25400" y="3297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25920" y="3297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42200" y="332280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51577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14880" y="54072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21360" y="5664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25400" y="5638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88120" y="5637240"/>
            <a:ext cx="20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42200" y="56642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6600" y="3951360"/>
            <a:ext cx="153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27960" y="4195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13720" y="4094280"/>
            <a:ext cx="1152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18480" y="4195800"/>
            <a:ext cx="317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920" y="2421000"/>
            <a:ext cx="334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27640" y="170028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quitetura 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var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F175-06FD-4113-B528-B8AFD43B4D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instrução consiste de um vetor de bi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campos de uma instrução são subvetores que representam funções específicas e têm código binário específ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ormato de uma instrução define os subvetores e suas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D242A-8A62-41FC-B6A3-4C5F7D9C1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5516280"/>
            <a:ext cx="7956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rês formatos</a:t>
            </a: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: Registrador, Imediato, “Jump and Branch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9280" y="1844640"/>
            <a:ext cx="6819120" cy="3390120"/>
            <a:chOff x="1619280" y="1844640"/>
            <a:chExt cx="6819120" cy="3390120"/>
          </a:xfrm>
        </p:grpSpPr>
        <p:sp>
          <p:nvSpPr>
            <p:cNvPr id="130" name=""/>
            <p:cNvSpPr/>
            <p:nvPr/>
          </p:nvSpPr>
          <p:spPr>
            <a:xfrm>
              <a:off x="4356000" y="5021280"/>
              <a:ext cx="177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Jump and 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619280" y="1844640"/>
              <a:ext cx="6819120" cy="3038040"/>
              <a:chOff x="1619280" y="1844640"/>
              <a:chExt cx="6819120" cy="3038040"/>
            </a:xfrm>
          </p:grpSpPr>
          <p:sp>
            <p:nvSpPr>
              <p:cNvPr id="132" name=""/>
              <p:cNvSpPr/>
              <p:nvPr/>
            </p:nvSpPr>
            <p:spPr>
              <a:xfrm>
                <a:off x="4618080" y="2652840"/>
                <a:ext cx="982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egist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19280" y="2051640"/>
                <a:ext cx="6792840" cy="512640"/>
              </a:xfrm>
              <a:custGeom>
                <a:avLst/>
                <a:gdLst/>
                <a:ahLst/>
                <a:rect l="l" t="t" r="r" b="b"/>
                <a:pathLst>
                  <a:path w="4131" h="342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2"/>
                    </a:lnTo>
                    <a:lnTo>
                      <a:pt x="0" y="3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597200" y="2051640"/>
                <a:ext cx="144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3320" y="2051640"/>
                <a:ext cx="180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129800" y="2051640"/>
                <a:ext cx="1440" cy="51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917800" y="224784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34080" y="2138400"/>
                <a:ext cx="96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770360" y="2303280"/>
                <a:ext cx="1081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 (D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46640" y="21384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115320" y="230328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06640" y="21384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392960" y="230328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B (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20800" y="1844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0748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5444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6937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205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5952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8776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227080" y="1844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533840" y="3807360"/>
                <a:ext cx="11606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 Immedia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619280" y="3209400"/>
                <a:ext cx="6792840" cy="511200"/>
              </a:xfrm>
              <a:custGeom>
                <a:avLst/>
                <a:gdLst/>
                <a:ahLst/>
                <a:rect l="l" t="t" r="r" b="b"/>
                <a:pathLst>
                  <a:path w="4131" h="341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1"/>
                    </a:lnTo>
                    <a:lnTo>
                      <a:pt x="0" y="34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597200" y="3209400"/>
                <a:ext cx="144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3320" y="3209400"/>
                <a:ext cx="180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129800" y="3209400"/>
                <a:ext cx="1440" cy="511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917800" y="340596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834080" y="3297600"/>
                <a:ext cx="969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est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70360" y="3459600"/>
                <a:ext cx="1081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 (DR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46640" y="329760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15320" y="345960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20800" y="30038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0748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65444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6937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9205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95952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8776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27080" y="30038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279560" y="3405960"/>
                <a:ext cx="1158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erand (OP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619280" y="4372920"/>
                <a:ext cx="6792840" cy="509760"/>
              </a:xfrm>
              <a:custGeom>
                <a:avLst/>
                <a:gdLst/>
                <a:ahLst/>
                <a:rect l="l" t="t" r="r" b="b"/>
                <a:pathLst>
                  <a:path w="4131" h="340">
                    <a:moveTo>
                      <a:pt x="0" y="0"/>
                    </a:moveTo>
                    <a:lnTo>
                      <a:pt x="4131" y="0"/>
                    </a:lnTo>
                    <a:lnTo>
                      <a:pt x="4131" y="340"/>
                    </a:lnTo>
                    <a:lnTo>
                      <a:pt x="0" y="34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97200" y="43729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3320" y="4372920"/>
                <a:ext cx="180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29800" y="4372920"/>
                <a:ext cx="1440" cy="50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16720" y="4564800"/>
                <a:ext cx="662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pc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44480" y="4460040"/>
                <a:ext cx="9914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ource reg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13520" y="4620240"/>
                <a:ext cx="973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ster A (SA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720800" y="415836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0748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5372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69448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92056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95952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18776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226000" y="4158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67320" y="4449600"/>
                <a:ext cx="1137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dress (A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00600" y="4610160"/>
                <a:ext cx="5738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Righ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8240" y="4446360"/>
                <a:ext cx="11376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ddress (AD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005800" y="4608360"/>
                <a:ext cx="445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Left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4B4E-7E82-4629-B7DB-4B47014589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7280" y="2972880"/>
            <a:ext cx="795672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formato suporta instruçõ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R2 +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sl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es (3 bi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 – registrador destino (R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 – registrador fonte A (R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B – registrador fonte B (R3, ex.1 e R2, ex.2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r que R2 no segundo exemp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rresponde a SB e não a SA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476360" y="1700280"/>
            <a:ext cx="6798960" cy="1262880"/>
            <a:chOff x="1476360" y="1700280"/>
            <a:chExt cx="6798960" cy="1262880"/>
          </a:xfrm>
        </p:grpSpPr>
        <p:sp>
          <p:nvSpPr>
            <p:cNvPr id="193" name=""/>
            <p:cNvSpPr/>
            <p:nvPr/>
          </p:nvSpPr>
          <p:spPr>
            <a:xfrm>
              <a:off x="4458600" y="2749680"/>
              <a:ext cx="982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a)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6360" y="1967760"/>
              <a:ext cx="6798960" cy="666000"/>
            </a:xfrm>
            <a:custGeom>
              <a:avLst/>
              <a:gdLst/>
              <a:ahLst/>
              <a:rect l="l" t="t" r="r" b="b"/>
              <a:pathLst>
                <a:path w="3342" h="276">
                  <a:moveTo>
                    <a:pt x="0" y="0"/>
                  </a:moveTo>
                  <a:lnTo>
                    <a:pt x="3342" y="0"/>
                  </a:lnTo>
                  <a:lnTo>
                    <a:pt x="3342" y="276"/>
                  </a:lnTo>
                  <a:lnTo>
                    <a:pt x="0" y="2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56800" y="1967760"/>
              <a:ext cx="180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24000" y="1967760"/>
              <a:ext cx="216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91920" y="1967760"/>
              <a:ext cx="1800" cy="666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64800" y="222120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40400" y="2078640"/>
              <a:ext cx="96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5240" y="2293200"/>
              <a:ext cx="10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er (D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6440" y="20786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54760" y="229320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48600" y="207864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32400" y="229320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B (S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72840" y="17002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420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122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5228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812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2056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736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87040" y="1700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AC65-D0B0-4A7C-813C-EC3A2957ED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619280" y="1681200"/>
            <a:ext cx="6768720" cy="1240200"/>
            <a:chOff x="1619280" y="1681200"/>
            <a:chExt cx="6768720" cy="1240200"/>
          </a:xfrm>
        </p:grpSpPr>
        <p:sp>
          <p:nvSpPr>
            <p:cNvPr id="215" name=""/>
            <p:cNvSpPr/>
            <p:nvPr/>
          </p:nvSpPr>
          <p:spPr>
            <a:xfrm>
              <a:off x="4501440" y="2707920"/>
              <a:ext cx="11606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b) Immedi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19280" y="1943280"/>
              <a:ext cx="6768720" cy="653760"/>
            </a:xfrm>
            <a:custGeom>
              <a:avLst/>
              <a:gdLst/>
              <a:ahLst/>
              <a:rect l="l" t="t" r="r" b="b"/>
              <a:pathLst>
                <a:path w="3342" h="277">
                  <a:moveTo>
                    <a:pt x="0" y="0"/>
                  </a:moveTo>
                  <a:lnTo>
                    <a:pt x="3342" y="0"/>
                  </a:lnTo>
                  <a:lnTo>
                    <a:pt x="3342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86400" y="1943280"/>
              <a:ext cx="180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8200" y="1943280"/>
              <a:ext cx="216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10360" y="1943280"/>
              <a:ext cx="1800" cy="6537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01600" y="218880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0000" y="2056320"/>
              <a:ext cx="969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t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05200" y="2261880"/>
              <a:ext cx="1081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gister (DR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09200" y="205632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077520" y="226188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1681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945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429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75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9047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93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52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201160" y="1681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53560" y="2188800"/>
              <a:ext cx="1158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nd (O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2972880"/>
            <a:ext cx="777240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e formato suporta instru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1 ← R2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dor Fonte B: substituído por operando OP: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per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bits (const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s de 0 a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enche com “0” à esquerda: constante de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0A02-F402-4F44-A32B-C5A7CD892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junto de Instruções – Computador Simples (SC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42560" y="3100320"/>
            <a:ext cx="8101080" cy="37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orta modificações na seqüência de execução de uma instrução adicionand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lor do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mpo de endereço de 6-bits (AD): substitui DR e 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Supondo que um “jump” é especificado pelo Opcode e PC = 45 (0…0101101) e o endereço contém – 12 (110100). O novo valor do PC será dado po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…0101101 + (1…110100) = 0…0100001 (45 + (– 12) = 33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campo SA permite “jumps and branches” em função de N ou Z, de acordo com o conteúdo do reg. fonte 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332000" y="1628640"/>
            <a:ext cx="7041600" cy="1380600"/>
            <a:chOff x="1332000" y="1628640"/>
            <a:chExt cx="7041600" cy="1380600"/>
          </a:xfrm>
        </p:grpSpPr>
        <p:sp>
          <p:nvSpPr>
            <p:cNvPr id="238" name=""/>
            <p:cNvSpPr/>
            <p:nvPr/>
          </p:nvSpPr>
          <p:spPr>
            <a:xfrm>
              <a:off x="4101480" y="2795760"/>
              <a:ext cx="1771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c) Jump and Branc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32000" y="1932120"/>
              <a:ext cx="7041600" cy="726120"/>
            </a:xfrm>
            <a:custGeom>
              <a:avLst/>
              <a:gdLst/>
              <a:ahLst/>
              <a:rect l="l" t="t" r="r" b="b"/>
              <a:pathLst>
                <a:path w="3342" h="275">
                  <a:moveTo>
                    <a:pt x="0" y="0"/>
                  </a:moveTo>
                  <a:lnTo>
                    <a:pt x="3342" y="0"/>
                  </a:lnTo>
                  <a:lnTo>
                    <a:pt x="3342" y="275"/>
                  </a:lnTo>
                  <a:lnTo>
                    <a:pt x="0" y="2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18640" y="1932120"/>
              <a:ext cx="180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31200" y="1932120"/>
              <a:ext cx="216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44480" y="1932120"/>
              <a:ext cx="1800" cy="7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66520" y="2209320"/>
              <a:ext cx="66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c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02640" y="2055960"/>
              <a:ext cx="99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urce reg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70600" y="2288520"/>
              <a:ext cx="97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ster A (S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432440" y="162864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202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7804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540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096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6664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0388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179560" y="16286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62200" y="204300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 (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14560" y="2273040"/>
              <a:ext cx="573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Righ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94600" y="2037600"/>
              <a:ext cx="1137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dress (A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99520" y="2267640"/>
              <a:ext cx="445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Lef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AE99-955B-4C25-9360-D25F3B421E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78120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71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C – Especificação das Instruçõ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rcRect l="2205" t="0" r="4857" b="0"/>
          <a:stretch/>
        </p:blipFill>
        <p:spPr>
          <a:xfrm>
            <a:off x="1258920" y="272880"/>
            <a:ext cx="7707240" cy="63835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258920" y="6165720"/>
            <a:ext cx="5977080" cy="692280"/>
          </a:xfrm>
          <a:prstGeom prst="ellipse">
            <a:avLst/>
          </a:prstGeom>
          <a:noFill/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61DF6-1D77-49EC-A330-D671AE642D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9-02-11T09:39:01Z</dcterms:modified>
  <cp:revision>267</cp:revision>
  <dc:subject/>
  <dc:title>Organização e Arquitetura de Computadores I</dc:title>
</cp:coreProperties>
</file>