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72453-72BB-4395-AD57-EE8176F25F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5F010-1A74-4399-B315-B49F9E73DD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AC9C7-A8A1-41C3-8D06-A752865826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5408B-697F-406E-990A-7F163011F1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8E736-5A4D-48AE-A63A-A27B3D1C9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41300-DD7B-4E75-BFD8-EA96446E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344B9-B3AF-4746-A57F-E4E4857D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A63A5-6F17-4C44-B2C2-A3A21F7F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75F9F-7323-4473-909C-16D5E256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D221B-34B0-46EE-AC9B-A0B4DD92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C899C-08C9-4182-B2D0-0DCF0FE5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24DF2-813E-4BCF-BEE5-33857785A3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D10B7-7FB3-4F2B-91DC-31F8B411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323A0-AE62-4961-9578-F47B94C8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51D0D-2B43-48AD-8A98-53F4FFA7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C3FE0-0A6A-402E-931F-7BB07F27C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860B9-552B-42BE-A184-6007BCFC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98797-ED5B-4CD9-B43E-E4930C6266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63334-B493-4016-806B-E6CEF08832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B227B-CD3E-4549-9ADE-6CFDADE60B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5F36C-B1FC-4311-AA7B-031CE70EFD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11206-DD15-4111-A3C9-8EBAE63A59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FF737-1915-4C8F-A25D-9AB85770E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7007A-87AD-4318-B86A-1DEF453DA1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43000" y="155736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45A6-4474-44B4-87E2-5655A647665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50920" y="6237000"/>
            <a:ext cx="647640" cy="576360"/>
            <a:chOff x="250920" y="6237000"/>
            <a:chExt cx="647640" cy="576360"/>
          </a:xfrm>
        </p:grpSpPr>
        <p:sp>
          <p:nvSpPr>
            <p:cNvPr id="6" name=""/>
            <p:cNvSpPr/>
            <p:nvPr/>
          </p:nvSpPr>
          <p:spPr>
            <a:xfrm>
              <a:off x="250920" y="669888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3000" y="6419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281520" y="623664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15160" y="642816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82600" y="624528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92080" y="314172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144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257B-5BB0-4661-93CF-0603698C3AE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6165360"/>
            <a:ext cx="647640" cy="576360"/>
            <a:chOff x="539640" y="6165360"/>
            <a:chExt cx="647640" cy="576360"/>
          </a:xfrm>
        </p:grpSpPr>
        <p:sp>
          <p:nvSpPr>
            <p:cNvPr id="54" name=""/>
            <p:cNvSpPr/>
            <p:nvPr/>
          </p:nvSpPr>
          <p:spPr>
            <a:xfrm>
              <a:off x="53964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172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57024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388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7132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63640" y="115920"/>
            <a:ext cx="7129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692360" y="3357360"/>
            <a:ext cx="7488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Verdana"/>
              </a:rPr>
              <a:t>Nível ISA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Verdana"/>
              </a:rPr>
              <a:t>(Parte I)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f</a:t>
            </a:r>
            <a:r>
              <a:rPr b="1" lang="pt-BR" sz="1800" spc="-1" strike="noStrike" u="sng" baseline="30000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Joseana Macêdo Fech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arga Horária: 60 ho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9080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Organização e Arquitetura </a:t>
            </a:r>
            <a:br>
              <a:rPr sz="3200"/>
            </a:b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de Computadores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258920" y="1700280"/>
            <a:ext cx="768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os de memó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acesso a memórias alinhadas são mais eficie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0240" indent="-208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leitura de um endereço arbitrário requer um hardware mais sofisticado e é mais car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smo quando alinhadas, os acessos à memória podem ser não alinh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0240" indent="-208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nutenção de compatibilidade com arquiteturas antigas (máquinas de 8 ou 16 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27A72-C06F-42A6-A0D0-F4AC43556D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332000" y="1844640"/>
            <a:ext cx="741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gistrad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odos os processadores têm um conjunto de registradores visíveis no nível I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istem para controlar a execução do programa, para guardar resultados temporários e para outros propósi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geral, os registradores visíveis no nível de microarquitetura, não são visíveis para o nível ISA. Há exceções (ex.: PC e SP visíveis em ambos os nívei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registradores visíveis no nível ISA são sempre visíveis no nível da microarquitetura, uma vez que é lá que são implemen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25602-B4E0-4B4C-9F5A-37CD7CD81A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331640" y="184464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conjunto de instruções controla tudo o que a máquina pode faz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os de instruções típic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, STORE - realizam o movimento de dados e instruções entre memória e registrad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- realizam cópia de valores entre registr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, SUB, MULT,... - realizam operações aritméticas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, OR, XOR, ... - realizam operações lógic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, NEQ, LEQ,... - realizam operações de compar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TO - operação de desv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54918-63DC-43EE-B1C1-30346F21D3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56000" y="2565360"/>
            <a:ext cx="5040360" cy="3992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333440" y="184464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s de Instru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535CB-D22F-4F68-8EF2-429C62EF1C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843280" y="2492280"/>
            <a:ext cx="4968720" cy="4135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333440" y="177336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s de Instru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2C042-6D86-4775-A0E5-3DBC4D08DE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6551640" cy="4008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333440" y="170028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s de Instru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FCDE9-12D9-41A3-9F9B-310C156168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24000" y="2276640"/>
            <a:ext cx="5904000" cy="4370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333440" y="170028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s de Instru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415B3-B4F5-4011-86A7-DF0F1EDD21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195640" y="2565360"/>
            <a:ext cx="5616360" cy="3718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333440" y="184464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s de Instru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3F4C6-5373-4E57-B1BC-C223B4455A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6553080" cy="3814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333440" y="184464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s de Instru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78536-0A58-4B33-A2DA-6006AD6E24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2627" t="0" r="0" b="0"/>
          <a:stretch/>
        </p:blipFill>
        <p:spPr>
          <a:xfrm>
            <a:off x="1547640" y="2637000"/>
            <a:ext cx="7094880" cy="3024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333440" y="184464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s de Instru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5C722-B8EC-4F6A-A8F6-C3E7F14D29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óp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03280" y="191628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ível 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ível da Arquitetura do Conjunto de Instru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17DBD-6A19-47EB-99BE-172B1018E4B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2841" t="0" r="2293" b="0"/>
          <a:stretch/>
        </p:blipFill>
        <p:spPr>
          <a:xfrm>
            <a:off x="1187280" y="2421000"/>
            <a:ext cx="7848720" cy="2989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333440" y="184464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s de Instru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5BB80-9D23-4AFC-BEAE-27EB28B817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331640" y="1916280"/>
            <a:ext cx="7334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os de Dados - Numér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ir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umente de 8, 16, 32 e 64 bits, com sinal e sem si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itas vezes representados em complemento de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mplo: Para o caso de 32 bits sem sina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ores intei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mplo: Para caso de 32 bits com sina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ores inteiros mais o sinal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41AD6-ACE6-46CA-AEEC-A08EE912C3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332000" y="1844640"/>
            <a:ext cx="74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os de Dados - Numér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nto Flutuan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umente de  32, 64 e 128 bits, com sinal e sem si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a-se o sinal, a parte inteira e a parte decim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em existir registradores específicos para esses tipos de da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0AB87-8178-43CA-9E18-36E170ACD8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258560" y="1916280"/>
            <a:ext cx="7489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os de Dados – Não Numér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xt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fanuméric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picamente usados em processadores de texto, planilhas e banco de da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ódigos mais usados atualmente: ASCII (8 bits) e UNICODE (16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F8FAE-F8F9-4184-8C48-902CB0280F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331640" y="1956960"/>
            <a:ext cx="7561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mato de Instr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instrução é formada po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código de operação (obrigatóri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formações a respeito da fonte e do destino de seus operandos (facultativ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, dois ou três endereç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9869E-522F-402A-9AD6-5F34A82985D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331640" y="1628280"/>
            <a:ext cx="7561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o de Instr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476360" y="2276640"/>
            <a:ext cx="7489800" cy="2004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258920" y="4365720"/>
            <a:ext cx="76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tro formatos de instruções muito comuns: (a) Instrução sem endereço. (b) Instrução com um endereço. (c) Instrução com dois endereços. (d) instrução com três endereç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47640" y="6308640"/>
            <a:ext cx="6840720" cy="337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s.: OPCODE – Código de operação, ADDRESS, ADDR  - Endereç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CC64E-D87D-45C6-8703-D979D4CA6AA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403280" y="1916280"/>
            <a:ext cx="7331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código de operação informa ao hardware o que deve ser feito quando de sua execu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instru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em ter tamanhos diversos (complica o projeto mas tem-se economia de memória)  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em ser todas de tamanhos iguais (simplifica o projeto, mas desperdiça espaço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r que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05B40-DBDC-4CCB-8AAF-BE5A1E44B14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331640" y="1916280"/>
            <a:ext cx="7272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mportante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tamanho ideal  de uma instrução deve considerar, além do preço da memória, o tempo de decodificação e de execução de uma instru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os processadores modernos são capazes de executar várias instruções no mesmo ciclo de clock, torna-se imperativo um mecanismo de busca de várias instruções em cada ciclo de clock (memórias cach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do uma instrução tem endereços, o tamanho do endereço deve ser compatível com o tamanho máximo da memória do computador. Mas, memórias maiores requerem endereços mais longos resultando em instruções mai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41B66-38C6-4C9C-8D8E-DE344C66FB3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402920" y="1844640"/>
            <a:ext cx="7272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ível 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a interface entre o software e o hardw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entificação atual: “a arquitetura” da má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todologia empregada pelos Arquitetos de Siste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eita-se programas em diversas linguagens de Alto Nív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aduz-se a linguagem para uma linguagem intermediária - o nível I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strói-se um hardware, com ou sem microprogramação, que executa instruções do nível ISA. Nesse nível está definida a interface entre os compiladores e o hardw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54BDE-3460-48E4-88A5-700DB74164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476360" y="1916280"/>
            <a:ext cx="7331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Nível ISA depende de uma negociação entre os projetistas de compiladores e os engenheiros de Hardwa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novas máquinas devem ser compatíveis co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gos Sistemas Operacion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licações já desenvolvi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desafio é construir máquinas melhores e compatíveis com as anteri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991DD-0498-4D46-B3C9-4D5E4EF0CD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332000" y="1844280"/>
            <a:ext cx="7416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ão Geral do Ní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dades do Nível I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nível ISA define o aspecto da máquina para um programador de linguagem de máqu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gerar código para o nível ISA o projetista do compilador deve conhec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modelo de memória da máqu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is os registradores que estão implement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tipos de dados e de instruções disponíve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74843-1A71-4301-AF31-54A32A0855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403280" y="1700280"/>
            <a:ext cx="741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isão Geral do Ní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riedades do Nível I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mbém afetam o desempenho e devem ser visíveis ao projetista do compilador: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a máquina é microprogramada ou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hardwi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é projetada ou não em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ipelin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perescalar ou n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algumas arquiteturas não existe uma documentação formal de especific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abricante não quer clones de sua máquin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ex: Pentium-Inte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E2716-091B-4466-8E12-423D45B8B3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332000" y="1773360"/>
            <a:ext cx="76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isão Geral do Ní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riedades do Nível I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istência de, no mínimo, dois modos de execuç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odo kerne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ou supervisor) – usado para executar o sistema operacional e, portanto, permite que qualquer instrução da máquina seja executada no mes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odo usuári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usado para executar programas de aplicação e não permite que certas instruções mais sensíveis executem no mes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BCA4E-E6C2-4B9F-A3B2-4D59E96EDE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402920" y="1916280"/>
            <a:ext cx="720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os de memó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os os computadores dividem suas memórias em um conjunto de células que têm endereços consecutivos. O tamanho mais comum das células é de 8 bits (by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bytes são em geral agrupados em palavras de 4 bytes (32 bits) ou de 8 bytes (64 bit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lavras de 4 ou 8 bytes podem estar alinhadas ou não alinhadas com as fronteiras naturais da memó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03CB6-2742-47FB-96C5-782CE30B6A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42920" y="5157720"/>
            <a:ext cx="7812000" cy="10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Uma palavra de 8 bytes em uma memória little-endian.  (a) Alinhada      (b) Não Alinhada. Algumas máquinas exigem que as palavras da memória sejam alinhada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32000" y="2276640"/>
            <a:ext cx="7812000" cy="2447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905280" y="3995640"/>
            <a:ext cx="466740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24120" y="4014720"/>
            <a:ext cx="261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lavra de 8 bytes, alinhada, armazenada no endereço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34040" y="3995640"/>
            <a:ext cx="264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lavra de 8 bytes, não-alinhada, armazenada no endereço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2300400"/>
            <a:ext cx="5257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38520" y="2319480"/>
            <a:ext cx="523872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2338560"/>
            <a:ext cx="5334120" cy="26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38520" y="23572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ereç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810560" y="2395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ereç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1FCEE-0C10-48C7-AC69-83183C21B4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acêdo Fechine/DSC/UFCG</dc:creator>
  <dc:description/>
  <dc:language>en-US</dc:language>
  <cp:lastModifiedBy>USE</cp:lastModifiedBy>
  <dcterms:modified xsi:type="dcterms:W3CDTF">2008-08-24T09:58:19Z</dcterms:modified>
  <cp:revision>253</cp:revision>
  <dc:subject/>
  <dc:title>Organização e Arquitetura de Computadores I</dc:title>
</cp:coreProperties>
</file>